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8.png" ContentType="image/png"/>
  <Override PartName="/ppt/media/image5.gif" ContentType="image/gif"/>
  <Override PartName="/ppt/media/image25.gif" ContentType="image/gif"/>
  <Override PartName="/ppt/media/image18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9.png" ContentType="image/png"/>
  <Override PartName="/ppt/media/image8.png" ContentType="image/png"/>
  <Override PartName="/ppt/media/image11.gif" ContentType="image/gif"/>
  <Override PartName="/ppt/media/image7.gif" ContentType="image/gif"/>
  <Override PartName="/ppt/media/image16.png" ContentType="image/png"/>
  <Override PartName="/ppt/media/image13.gif" ContentType="image/gif"/>
  <Override PartName="/ppt/media/image30.png" ContentType="image/png"/>
  <Override PartName="/ppt/media/image31.png" ContentType="image/png"/>
  <Override PartName="/ppt/media/image6.wmf" ContentType="image/x-wmf"/>
  <Override PartName="/ppt/media/image12.png" ContentType="image/png"/>
  <Override PartName="/ppt/media/image34.jpeg" ContentType="image/jpeg"/>
  <Override PartName="/ppt/media/image20.png" ContentType="image/png"/>
  <Override PartName="/ppt/media/image3.png" ContentType="image/png"/>
  <Override PartName="/ppt/media/image26.png" ContentType="image/png"/>
  <Override PartName="/ppt/media/image10.png" ContentType="image/png"/>
  <Override PartName="/ppt/media/image1.jpeg" ContentType="image/jpeg"/>
  <Override PartName="/ppt/media/image32.png" ContentType="image/png"/>
  <Override PartName="/ppt/media/image2.png" ContentType="image/png"/>
  <Override PartName="/ppt/media/image15.png" ContentType="image/png"/>
  <Override PartName="/ppt/media/image17.png" ContentType="image/png"/>
  <Override PartName="/ppt/media/image19.png" ContentType="image/png"/>
  <Override PartName="/ppt/media/image14.png" ContentType="image/png"/>
  <Override PartName="/ppt/media/image21.gif" ContentType="image/gif"/>
  <Override PartName="/ppt/media/image24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3165-C8B4-4367-8531-0B5C5C9F2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1097-77BF-49FD-AEE2-8FA208579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2C85-092A-427C-A4F5-D2FE7B7D5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879D-9248-44AC-8022-E0633A651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767C-C825-4148-9206-FEB876F71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13BA-40AA-43BA-BE18-685438712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5CAA-54E7-4660-8F81-82956C080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7BE7-9FCA-42D0-B92D-D4A851E7B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768B-C404-43E2-8D91-F5730B280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2A06-2F2D-426F-A7BA-A4D240FF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0DAB-47FB-43FD-98BA-7E3594FD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A526-EF4D-431A-91EB-991A1092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73677-2127-4817-BFAE-01385B10FE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7.png"/><Relationship Id="rId8" Type="http://schemas.openxmlformats.org/officeDocument/2006/relationships/image" Target="../media/image29.png"/><Relationship Id="rId9" Type="http://schemas.openxmlformats.org/officeDocument/2006/relationships/image" Target="../media/image27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12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71600" y="380880"/>
            <a:ext cx="914400" cy="914400"/>
          </a:xfrm>
          <a:prstGeom prst="ellipse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00"/>
                </a:solidFill>
                <a:latin typeface="Arial"/>
              </a:rPr>
              <a:t>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90920" y="685800"/>
            <a:ext cx="914400" cy="914400"/>
          </a:xfrm>
          <a:prstGeom prst="ellipse">
            <a:avLst/>
          </a:prstGeom>
          <a:gradFill rotWithShape="0">
            <a:gsLst>
              <a:gs pos="0">
                <a:srgbClr val="4dc14d"/>
              </a:gs>
              <a:gs pos="50000">
                <a:srgbClr val="66ff66"/>
              </a:gs>
              <a:gs pos="100000">
                <a:srgbClr val="4dc14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57600" y="838080"/>
            <a:ext cx="914400" cy="914400"/>
          </a:xfrm>
          <a:prstGeom prst="ellipse">
            <a:avLst/>
          </a:prstGeom>
          <a:gradFill rotWithShape="0">
            <a:gsLst>
              <a:gs pos="0">
                <a:srgbClr val="00008e"/>
              </a:gs>
              <a:gs pos="50000">
                <a:srgbClr val="0000ff"/>
              </a:gs>
              <a:gs pos="100000">
                <a:srgbClr val="00008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00600" y="762120"/>
            <a:ext cx="914400" cy="914400"/>
          </a:xfrm>
          <a:prstGeom prst="ellipse">
            <a:avLst/>
          </a:prstGeom>
          <a:gradFill rotWithShape="0">
            <a:gsLst>
              <a:gs pos="0">
                <a:srgbClr val="73654b"/>
              </a:gs>
              <a:gs pos="50000">
                <a:srgbClr val="fadda4"/>
              </a:gs>
              <a:gs pos="100000">
                <a:srgbClr val="73654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867280" y="685800"/>
            <a:ext cx="914400" cy="914400"/>
          </a:xfrm>
          <a:prstGeom prst="ellipse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ff"/>
                </a:solidFill>
                <a:latin typeface="Arial"/>
              </a:rPr>
              <a:t>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934320" y="533520"/>
            <a:ext cx="914400" cy="914400"/>
          </a:xfrm>
          <a:prstGeom prst="ellipse">
            <a:avLst/>
          </a:prstGeom>
          <a:gradFill rotWithShape="0">
            <a:gsLst>
              <a:gs pos="0">
                <a:srgbClr val="004646"/>
              </a:gs>
              <a:gs pos="50000">
                <a:srgbClr val="009999"/>
              </a:gs>
              <a:gs pos="100000">
                <a:srgbClr val="0046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077320" y="15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653908"/>
              </a:gs>
              <a:gs pos="50000">
                <a:srgbClr val="dc7c12"/>
              </a:gs>
              <a:gs pos="100000">
                <a:srgbClr val="6539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15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cc"/>
                </a:solidFill>
                <a:latin typeface="Arial"/>
              </a:rPr>
              <a:t>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00800" y="1676520"/>
            <a:ext cx="914400" cy="914400"/>
          </a:xfrm>
          <a:prstGeom prst="ellipse">
            <a:avLst/>
          </a:prstGeom>
          <a:gradFill rotWithShape="0">
            <a:gsLst>
              <a:gs pos="0">
                <a:srgbClr val="2f7517"/>
              </a:gs>
              <a:gs pos="50000">
                <a:srgbClr val="66ff33"/>
              </a:gs>
              <a:gs pos="100000">
                <a:srgbClr val="2f751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7800" y="2057400"/>
            <a:ext cx="914400" cy="914400"/>
          </a:xfrm>
          <a:prstGeom prst="ellipse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52480" y="1523880"/>
            <a:ext cx="914400" cy="914400"/>
          </a:xfrm>
          <a:prstGeom prst="ellipse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5480" y="2057400"/>
            <a:ext cx="914400" cy="914400"/>
          </a:xfrm>
          <a:prstGeom prst="ellipse">
            <a:avLst/>
          </a:prstGeom>
          <a:gradFill rotWithShape="0">
            <a:gsLst>
              <a:gs pos="0">
                <a:srgbClr val="692a5c"/>
              </a:gs>
              <a:gs pos="50000">
                <a:srgbClr val="e55dc8"/>
              </a:gs>
              <a:gs pos="100000">
                <a:srgbClr val="692a5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ff"/>
                </a:solidFill>
                <a:latin typeface="Arial"/>
              </a:rPr>
              <a:t>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14800" y="2209680"/>
            <a:ext cx="914400" cy="914400"/>
          </a:xfrm>
          <a:prstGeom prst="ellipse">
            <a:avLst/>
          </a:prstGeom>
          <a:gradFill rotWithShape="0">
            <a:gsLst>
              <a:gs pos="0">
                <a:srgbClr val="653908"/>
              </a:gs>
              <a:gs pos="50000">
                <a:srgbClr val="dc7c12"/>
              </a:gs>
              <a:gs pos="100000">
                <a:srgbClr val="6539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autoRev="1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55dc8"/>
                                      </p:to>
                                    </p:animClr>
                                    <p:animClr clrSpc="rgb">
                                      <p:cBhvr>
                                        <p:cTn id="7" dur="500" autoRev="1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55dc8"/>
                                      </p:to>
                                    </p:animClr>
                                    <p:set>
                                      <p:cBhvr>
                                        <p:cTn id="8" dur="500" autoRev="1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11" dur="50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12" dur="50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50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55dc8"/>
                                      </p:to>
                                    </p:animClr>
                                    <p:animClr clrSpc="rgb">
                                      <p:cBhvr>
                                        <p:cTn id="15" dur="50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55dc8"/>
                                      </p:to>
                                    </p:animClr>
                                    <p:set>
                                      <p:cBhvr>
                                        <p:cTn id="16" dur="50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50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33"/>
                                      </p:to>
                                    </p:animClr>
                                    <p:animClr clrSpc="rgb">
                                      <p:cBhvr>
                                        <p:cTn id="19" dur="50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33"/>
                                      </p:to>
                                    </p:animClr>
                                    <p:set>
                                      <p:cBhvr>
                                        <p:cTn id="20" dur="50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500" autoRev="1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680c2"/>
                                      </p:to>
                                    </p:animClr>
                                    <p:animClr clrSpc="rgb">
                                      <p:cBhvr>
                                        <p:cTn id="23" dur="500" autoRev="1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80c2"/>
                                      </p:to>
                                    </p:animClr>
                                    <p:set>
                                      <p:cBhvr>
                                        <p:cTn id="24" dur="500" autoRev="1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50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dda4"/>
                                      </p:to>
                                    </p:animClr>
                                    <p:animClr clrSpc="rgb">
                                      <p:cBhvr>
                                        <p:cTn id="27" dur="50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dda4"/>
                                      </p:to>
                                    </p:animClr>
                                    <p:set>
                                      <p:cBhvr>
                                        <p:cTn id="28" dur="50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autoRev="1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cc"/>
                                      </p:to>
                                    </p:animClr>
                                    <p:animClr clrSpc="rgb">
                                      <p:cBhvr>
                                        <p:cTn id="31" dur="500" autoRev="1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cc"/>
                                      </p:to>
                                    </p:animClr>
                                    <p:set>
                                      <p:cBhvr>
                                        <p:cTn id="32" dur="500" autoRev="1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500" autoRev="1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animClr clrSpc="rgb">
                                      <p:cBhvr>
                                        <p:cTn id="35" dur="500" autoRev="1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36" dur="500" autoRev="1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autoRev="1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39" dur="500" autoRev="1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40" dur="500" autoRev="1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500" autoRev="1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99ff"/>
                                      </p:to>
                                    </p:animClr>
                                    <p:animClr clrSpc="rgb">
                                      <p:cBhvr>
                                        <p:cTn id="43" dur="500" autoRev="1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99ff"/>
                                      </p:to>
                                    </p:animClr>
                                    <p:set>
                                      <p:cBhvr>
                                        <p:cTn id="44" dur="500" autoRev="1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500" autoRev="1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33"/>
                                      </p:to>
                                    </p:animClr>
                                    <p:animClr clrSpc="rgb">
                                      <p:cBhvr>
                                        <p:cTn id="47" dur="500" autoRev="1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33"/>
                                      </p:to>
                                    </p:animClr>
                                    <p:set>
                                      <p:cBhvr>
                                        <p:cTn id="48" dur="500" autoRev="1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50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animClr clrSpc="rgb">
                                      <p:cBhvr>
                                        <p:cTn id="51" dur="50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52" dur="50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25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c7c12"/>
                                      </p:to>
                                    </p:animClr>
                                    <p:animClr clrSpc="rgb">
                                      <p:cBhvr>
                                        <p:cTn id="55" dur="25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c7c12"/>
                                      </p:to>
                                    </p:animClr>
                                    <p:set>
                                      <p:cBhvr>
                                        <p:cTn id="56" dur="25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6705720" y="5335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010280" y="228600"/>
            <a:ext cx="0" cy="2133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705720" y="21337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686800" y="228600"/>
            <a:ext cx="0" cy="2133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rcRect l="0" t="0" r="0" b="4317"/>
          <a:stretch/>
        </p:blipFill>
        <p:spPr>
          <a:xfrm>
            <a:off x="5334120" y="3276720"/>
            <a:ext cx="3657600" cy="337644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5486400" y="2895480"/>
            <a:ext cx="2514600" cy="932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rcRect l="0" t="0" r="0" b="5477"/>
          <a:stretch/>
        </p:blipFill>
        <p:spPr>
          <a:xfrm>
            <a:off x="990720" y="2913120"/>
            <a:ext cx="3475080" cy="394488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3886200" y="3581280"/>
            <a:ext cx="533520" cy="53352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962520" y="4343400"/>
            <a:ext cx="533160" cy="533520"/>
          </a:xfrm>
          <a:prstGeom prst="ellipse">
            <a:avLst/>
          </a:prstGeom>
          <a:solidFill>
            <a:srgbClr val="99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657600" y="2819520"/>
            <a:ext cx="533520" cy="533160"/>
          </a:xfrm>
          <a:prstGeom prst="ellipse">
            <a:avLst/>
          </a:prstGeom>
          <a:solidFill>
            <a:srgbClr val="00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048120" y="2209680"/>
            <a:ext cx="533160" cy="533520"/>
          </a:xfrm>
          <a:prstGeom prst="ellipse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209680" y="2209680"/>
            <a:ext cx="533520" cy="533520"/>
          </a:xfrm>
          <a:prstGeom prst="ellipse">
            <a:avLst/>
          </a:prstGeom>
          <a:solidFill>
            <a:srgbClr val="99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447920" y="2666880"/>
            <a:ext cx="533160" cy="533520"/>
          </a:xfrm>
          <a:prstGeom prst="ellipse">
            <a:avLst/>
          </a:prstGeom>
          <a:solidFill>
            <a:srgbClr val="fc082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990720" y="3276720"/>
            <a:ext cx="533160" cy="5331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914400" y="4191120"/>
            <a:ext cx="533520" cy="533160"/>
          </a:xfrm>
          <a:prstGeom prst="ellipse">
            <a:avLst/>
          </a:prstGeom>
          <a:solidFill>
            <a:srgbClr val="00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52280" y="380880"/>
            <a:ext cx="6400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У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восьмёрки</a:t>
            </a: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 два кольца                       Без начала и конц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 rot="996600">
            <a:off x="8070840" y="555120"/>
            <a:ext cx="608040" cy="71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132" y="21470"/>
                </a:moveTo>
                <a:arcTo wR="10800" hR="10800" stAng="5933113" swAng="19653905"/>
                <a:lnTo>
                  <a:pt x="10800" y="10800"/>
                </a:lnTo>
                <a:close/>
              </a:path>
              <a:path fill="none" w="21600" h="21600">
                <a:moveTo>
                  <a:pt x="9132" y="21470"/>
                </a:moveTo>
                <a:arcTo wR="10800" hR="10800" stAng="5933113" swAng="19653905"/>
              </a:path>
            </a:pathLst>
          </a:cu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153280" y="1219320"/>
            <a:ext cx="228600" cy="7596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 rot="12157800">
            <a:off x="7791480" y="1224360"/>
            <a:ext cx="668160" cy="89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54" y="21190"/>
                </a:moveTo>
                <a:arcTo wR="10800" hR="10800" stAng="6349931" swAng="21485988"/>
                <a:lnTo>
                  <a:pt x="10800" y="10800"/>
                </a:lnTo>
                <a:close/>
              </a:path>
              <a:path fill="none" w="21600" h="21600">
                <a:moveTo>
                  <a:pt x="7854" y="21190"/>
                </a:moveTo>
                <a:arcTo wR="10800" hR="10800" stAng="6349931" swAng="21485988"/>
              </a:path>
            </a:pathLst>
          </a:cu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0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7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8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9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2000"/>
                            </p:stCondLst>
                            <p:childTnLst>
                              <p:par>
                                <p:cTn id="7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2000"/>
                            </p:stCondLst>
                            <p:childTnLst>
                              <p:par>
                                <p:cTn id="7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2500"/>
                            </p:stCondLst>
                            <p:childTnLst>
                              <p:par>
                                <p:cTn id="7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3000"/>
                            </p:stCondLst>
                            <p:childTnLst>
                              <p:par>
                                <p:cTn id="7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3500"/>
                            </p:stCondLst>
                            <p:childTnLst>
                              <p:par>
                                <p:cTn id="7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4000"/>
                            </p:stCondLst>
                            <p:childTnLst>
                              <p:par>
                                <p:cTn id="7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4500"/>
                            </p:stCondLst>
                            <p:childTnLst>
                              <p:par>
                                <p:cTn id="7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5000"/>
                            </p:stCondLst>
                            <p:childTnLst>
                              <p:par>
                                <p:cTn id="7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705720" y="5335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010280" y="228600"/>
            <a:ext cx="0" cy="2133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705720" y="21337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686800" y="228600"/>
            <a:ext cx="0" cy="2133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rot="1636200">
            <a:off x="8016840" y="571320"/>
            <a:ext cx="637560" cy="89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02" y="12255"/>
                </a:moveTo>
                <a:arcTo wR="10800" hR="10800" stAng="464400" swAng="21135600"/>
                <a:lnTo>
                  <a:pt x="10800" y="10800"/>
                </a:lnTo>
                <a:close/>
              </a:path>
              <a:path fill="none" w="21600" h="21600">
                <a:moveTo>
                  <a:pt x="21502" y="12255"/>
                </a:moveTo>
                <a:arcTo wR="10800" hR="10800" stAng="464400" swAng="21135600"/>
              </a:path>
            </a:pathLst>
          </a:custGeom>
          <a:noFill/>
          <a:ln w="7632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rot="1277400">
            <a:off x="7919640" y="-65880"/>
            <a:ext cx="725040" cy="2200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21" y="8842"/>
                </a:moveTo>
                <a:arcTo wR="10800" hR="10800" stAng="-626581" swAng="8340535"/>
                <a:lnTo>
                  <a:pt x="10800" y="10800"/>
                </a:lnTo>
                <a:close/>
              </a:path>
              <a:path fill="none" w="21600" h="21600">
                <a:moveTo>
                  <a:pt x="21421" y="8842"/>
                </a:moveTo>
                <a:arcTo wR="10800" hR="10800" stAng="-626581" swAng="8340535"/>
              </a:path>
            </a:pathLst>
          </a:custGeom>
          <a:noFill/>
          <a:ln w="7632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52280" y="152280"/>
            <a:ext cx="655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Девять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, как и шесть, Вглядись.                   Только хвост не вверх, А вни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781680" y="4267080"/>
            <a:ext cx="1828800" cy="2438640"/>
          </a:xfrm>
          <a:prstGeom prst="rect">
            <a:avLst/>
          </a:prstGeom>
          <a:solidFill>
            <a:srgbClr val="99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ff3399"/>
                </a:solidFill>
                <a:latin typeface="Arial"/>
              </a:rPr>
              <a:t>9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6781680" y="2900520"/>
            <a:ext cx="1447920" cy="138564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2"/>
          <a:srcRect l="0" t="0" r="0" b="-158"/>
          <a:stretch/>
        </p:blipFill>
        <p:spPr>
          <a:xfrm>
            <a:off x="228600" y="2590920"/>
            <a:ext cx="4343400" cy="396216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 rot="20616600">
            <a:off x="4190760" y="5676480"/>
            <a:ext cx="942840" cy="118116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4"/>
          <a:stretch/>
        </p:blipFill>
        <p:spPr>
          <a:xfrm rot="2383800">
            <a:off x="151920" y="5524200"/>
            <a:ext cx="1065240" cy="13334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5"/>
          <a:stretch/>
        </p:blipFill>
        <p:spPr>
          <a:xfrm>
            <a:off x="3886200" y="3429000"/>
            <a:ext cx="1004760" cy="125748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6"/>
          <a:stretch/>
        </p:blipFill>
        <p:spPr>
          <a:xfrm rot="2316600">
            <a:off x="4343040" y="4876920"/>
            <a:ext cx="1295280" cy="103500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7"/>
          <a:stretch/>
        </p:blipFill>
        <p:spPr>
          <a:xfrm>
            <a:off x="1066680" y="5791320"/>
            <a:ext cx="760680" cy="95256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8"/>
          <a:stretch/>
        </p:blipFill>
        <p:spPr>
          <a:xfrm>
            <a:off x="5029200" y="5883120"/>
            <a:ext cx="1219320" cy="97488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9"/>
          <a:stretch/>
        </p:blipFill>
        <p:spPr>
          <a:xfrm>
            <a:off x="4800600" y="3733920"/>
            <a:ext cx="115740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0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4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5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6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2080"/>
                            </p:stCondLst>
                            <p:childTnLst>
                              <p:par>
                                <p:cTn id="738" nodeType="after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739" dur="2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6080"/>
                            </p:stCondLst>
                            <p:childTnLst>
                              <p:par>
                                <p:cTn id="741" nodeType="after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742" dur="2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0080"/>
                            </p:stCondLst>
                            <p:childTnLst>
                              <p:par>
                                <p:cTn id="7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8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1080"/>
                            </p:stCondLst>
                            <p:childTnLst>
                              <p:par>
                                <p:cTn id="7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12080"/>
                            </p:stCondLst>
                            <p:childTnLst>
                              <p:par>
                                <p:cTn id="7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13080"/>
                            </p:stCondLst>
                            <p:childTnLst>
                              <p:par>
                                <p:cTn id="7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14080"/>
                            </p:stCondLst>
                            <p:childTnLst>
                              <p:par>
                                <p:cTn id="7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15080"/>
                            </p:stCondLst>
                            <p:childTnLst>
                              <p:par>
                                <p:cTn id="7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8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6079"/>
                            </p:stCondLst>
                            <p:childTnLst>
                              <p:par>
                                <p:cTn id="7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6705720" y="5335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705720" y="21337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8610480" y="228600"/>
            <a:ext cx="0" cy="2133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952880" y="533520"/>
            <a:ext cx="2210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257800" y="228600"/>
            <a:ext cx="0" cy="2133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952880" y="2133720"/>
            <a:ext cx="2210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934320" y="228600"/>
            <a:ext cx="0" cy="2133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6248520" y="533160"/>
            <a:ext cx="685800" cy="609480"/>
          </a:xfrm>
          <a:prstGeom prst="line">
            <a:avLst/>
          </a:prstGeom>
          <a:ln w="7632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6324480" y="609480"/>
            <a:ext cx="533520" cy="1524240"/>
          </a:xfrm>
          <a:prstGeom prst="line">
            <a:avLst/>
          </a:prstGeom>
          <a:ln w="7632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rot="1105800">
            <a:off x="7021440" y="534600"/>
            <a:ext cx="914400" cy="1600200"/>
          </a:xfrm>
          <a:prstGeom prst="ellipse">
            <a:avLst/>
          </a:prstGeom>
          <a:noFill/>
          <a:ln w="7632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411480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За девятью идёт </a:t>
            </a: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десятка</a:t>
            </a: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.             Ты это знаешь?  Молодец!     Сочти все пальцы по порядку –  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И счёту нашему конец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2433600" cy="23414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19894200">
            <a:off x="1828440" y="1141200"/>
            <a:ext cx="2514600" cy="156960"/>
          </a:xfrm>
          <a:prstGeom prst="leftArrow">
            <a:avLst>
              <a:gd name="adj1" fmla="val 50000"/>
              <a:gd name="adj2" fmla="val 400516"/>
            </a:avLst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3657240" y="533520"/>
            <a:ext cx="15228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3809880" y="457200"/>
            <a:ext cx="1526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3962160" y="38088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114440" y="304920"/>
            <a:ext cx="15228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295280" y="12952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191120" y="6858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038480" y="7621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886200" y="8380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733920" y="9144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5495760" y="2438280"/>
            <a:ext cx="3648240" cy="275616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>
            <a:lum bright="-6000"/>
          </a:blip>
          <a:srcRect l="0" t="0" r="5480" b="5457"/>
          <a:stretch/>
        </p:blipFill>
        <p:spPr>
          <a:xfrm>
            <a:off x="3886200" y="236232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>
            <a:lum bright="-6000"/>
          </a:blip>
          <a:srcRect l="5480" t="0" r="0" b="5457"/>
          <a:stretch/>
        </p:blipFill>
        <p:spPr>
          <a:xfrm>
            <a:off x="2590920" y="2362320"/>
            <a:ext cx="14475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0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1" dur="8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2" dur="8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3" dur="8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9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5334120" y="152280"/>
            <a:ext cx="914400" cy="91440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029200" y="990720"/>
            <a:ext cx="914400" cy="914400"/>
          </a:xfrm>
          <a:prstGeom prst="rect">
            <a:avLst/>
          </a:prstGeom>
          <a:solidFill>
            <a:srgbClr val="6440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267080" y="1523880"/>
            <a:ext cx="914400" cy="91440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029200" y="228600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267080" y="2819520"/>
            <a:ext cx="914400" cy="914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962520" y="3581280"/>
            <a:ext cx="914400" cy="9144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124080" y="4038480"/>
            <a:ext cx="914400" cy="9144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362320" y="4419720"/>
            <a:ext cx="914400" cy="9144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4876920"/>
            <a:ext cx="914400" cy="914400"/>
          </a:xfrm>
          <a:prstGeom prst="rect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38080" y="5257800"/>
            <a:ext cx="914400" cy="9144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28600" y="579132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57200" y="59436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82680" y="575928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0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16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1" dur="16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6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6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16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9" dur="16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6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6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2000"/>
                            </p:stCondLst>
                            <p:childTnLst>
                              <p:par>
                                <p:cTn id="82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16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8" dur="16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6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6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4000"/>
                            </p:stCondLst>
                            <p:childTnLst>
                              <p:par>
                                <p:cTn id="83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16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7" dur="16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6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6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6000"/>
                            </p:stCondLst>
                            <p:childTnLst>
                              <p:par>
                                <p:cTn id="84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16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6" dur="16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6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6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8000"/>
                            </p:stCondLst>
                            <p:childTnLst>
                              <p:par>
                                <p:cTn id="85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16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5" dur="16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6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6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10000"/>
                            </p:stCondLst>
                            <p:childTnLst>
                              <p:par>
                                <p:cTn id="86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16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4" dur="16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6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6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16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16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6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6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14000"/>
                            </p:stCondLst>
                            <p:childTnLst>
                              <p:par>
                                <p:cTn id="87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16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2" dur="16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6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6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16000"/>
                            </p:stCondLst>
                            <p:childTnLst>
                              <p:par>
                                <p:cTn id="88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16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1" dur="16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6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6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18000"/>
                            </p:stCondLst>
                            <p:childTnLst>
                              <p:par>
                                <p:cTn id="89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16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0" dur="16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6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6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20000"/>
                            </p:stCondLst>
                            <p:childTnLst>
                              <p:par>
                                <p:cTn id="90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16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9" dur="16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6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6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915" nodeType="afterEffect" fill="hold" presetClass="exit" presetID="2" presetSubtype="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6" dur="10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10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24000"/>
                            </p:stCondLst>
                            <p:childTnLst>
                              <p:par>
                                <p:cTn id="920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1" dur="10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10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25000"/>
                            </p:stCondLst>
                            <p:childTnLst>
                              <p:par>
                                <p:cTn id="925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6" dur="10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10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26000"/>
                            </p:stCondLst>
                            <p:childTnLst>
                              <p:par>
                                <p:cTn id="93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31" dur="10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10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27000"/>
                            </p:stCondLst>
                            <p:childTnLst>
                              <p:par>
                                <p:cTn id="935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36" dur="10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10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28000"/>
                            </p:stCondLst>
                            <p:childTnLst>
                              <p:par>
                                <p:cTn id="940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41" dur="10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10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29000"/>
                            </p:stCondLst>
                            <p:childTnLst>
                              <p:par>
                                <p:cTn id="945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46" dur="10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10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30000"/>
                            </p:stCondLst>
                            <p:childTnLst>
                              <p:par>
                                <p:cTn id="950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51" dur="1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1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31000"/>
                            </p:stCondLst>
                            <p:childTnLst>
                              <p:par>
                                <p:cTn id="955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56" dur="1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1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32000"/>
                            </p:stCondLst>
                            <p:childTnLst>
                              <p:par>
                                <p:cTn id="960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1" dur="10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10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33000"/>
                            </p:stCondLst>
                            <p:childTnLst>
                              <p:par>
                                <p:cTn id="965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6" dur="10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10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0" dur="10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10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447920" y="228600"/>
            <a:ext cx="6705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00cc"/>
                </a:solidFill>
                <a:latin typeface="Arial"/>
              </a:rPr>
              <a:t>коне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895480" y="1219320"/>
            <a:ext cx="3382920" cy="34290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533520" y="48769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28600" y="228600"/>
            <a:ext cx="8458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Цифра вроде буквы О -             Это 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нуль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иль ничего.           Круглый нуль такой хорошенький,                              Но не значит ничегошеньк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705720" y="5335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010280" y="228600"/>
            <a:ext cx="0" cy="2133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705720" y="21337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686800" y="228600"/>
            <a:ext cx="0" cy="2133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033800">
            <a:off x="7695720" y="533520"/>
            <a:ext cx="914400" cy="1600200"/>
          </a:xfrm>
          <a:prstGeom prst="ellipse">
            <a:avLst/>
          </a:prstGeom>
          <a:noFill/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3505320"/>
            <a:ext cx="762120" cy="121896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472428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1680" y="4952880"/>
            <a:ext cx="304560" cy="1067040"/>
          </a:xfrm>
          <a:custGeom>
            <a:avLst/>
            <a:gdLst/>
            <a:ahLst/>
            <a:rect l="l" t="t" r="r" b="b"/>
            <a:pathLst>
              <a:path w="192" h="672">
                <a:moveTo>
                  <a:pt x="24" y="0"/>
                </a:moveTo>
                <a:cubicBezTo>
                  <a:pt x="12" y="72"/>
                  <a:pt x="0" y="144"/>
                  <a:pt x="24" y="240"/>
                </a:cubicBezTo>
                <a:cubicBezTo>
                  <a:pt x="48" y="336"/>
                  <a:pt x="144" y="504"/>
                  <a:pt x="168" y="576"/>
                </a:cubicBezTo>
                <a:cubicBezTo>
                  <a:pt x="192" y="648"/>
                  <a:pt x="168" y="656"/>
                  <a:pt x="168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148400">
            <a:off x="1104840" y="4107960"/>
            <a:ext cx="762120" cy="9907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120800">
            <a:off x="1143000" y="502920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rot="1145400">
            <a:off x="1009440" y="4978080"/>
            <a:ext cx="74520" cy="1030320"/>
          </a:xfrm>
          <a:custGeom>
            <a:avLst/>
            <a:gdLst/>
            <a:ahLst/>
            <a:rect l="l" t="t" r="r" b="b"/>
            <a:pathLst>
              <a:path w="192" h="672">
                <a:moveTo>
                  <a:pt x="24" y="0"/>
                </a:moveTo>
                <a:cubicBezTo>
                  <a:pt x="12" y="72"/>
                  <a:pt x="0" y="144"/>
                  <a:pt x="24" y="240"/>
                </a:cubicBezTo>
                <a:cubicBezTo>
                  <a:pt x="48" y="336"/>
                  <a:pt x="144" y="504"/>
                  <a:pt x="168" y="576"/>
                </a:cubicBezTo>
                <a:cubicBezTo>
                  <a:pt x="192" y="648"/>
                  <a:pt x="168" y="656"/>
                  <a:pt x="168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334120" y="3498840"/>
            <a:ext cx="3662280" cy="3359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743200" y="3657600"/>
            <a:ext cx="22860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44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644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8440"/>
                            </p:stCondLst>
                            <p:childTnLst>
                              <p:par>
                                <p:cTn id="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057400" y="2502000"/>
            <a:ext cx="1522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2502000"/>
            <a:ext cx="1522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219320" y="227340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3000" y="5321160"/>
            <a:ext cx="913680" cy="76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 rot="17215800">
            <a:off x="1505880" y="4853160"/>
            <a:ext cx="913680" cy="76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 rot="16768800">
            <a:off x="2362680" y="3948480"/>
            <a:ext cx="7452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 rot="19465800">
            <a:off x="512640" y="3726000"/>
            <a:ext cx="100080" cy="31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5701200">
            <a:off x="249840" y="2778840"/>
            <a:ext cx="91368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10386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103864"/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0022600">
            <a:off x="4121280" y="3568320"/>
            <a:ext cx="1904760" cy="1104840"/>
          </a:xfrm>
          <a:custGeom>
            <a:avLst/>
            <a:gdLst/>
            <a:ahLst/>
            <a:rect l="l" t="t" r="r" b="b"/>
            <a:pathLst>
              <a:path w="872" h="360">
                <a:moveTo>
                  <a:pt x="8" y="144"/>
                </a:moveTo>
                <a:cubicBezTo>
                  <a:pt x="4" y="200"/>
                  <a:pt x="0" y="256"/>
                  <a:pt x="56" y="288"/>
                </a:cubicBezTo>
                <a:cubicBezTo>
                  <a:pt x="112" y="320"/>
                  <a:pt x="280" y="360"/>
                  <a:pt x="344" y="336"/>
                </a:cubicBezTo>
                <a:cubicBezTo>
                  <a:pt x="408" y="312"/>
                  <a:pt x="352" y="200"/>
                  <a:pt x="440" y="144"/>
                </a:cubicBezTo>
                <a:cubicBezTo>
                  <a:pt x="528" y="88"/>
                  <a:pt x="800" y="24"/>
                  <a:pt x="872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705720" y="5335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10280" y="228600"/>
            <a:ext cx="0" cy="2133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05720" y="21337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686800" y="228600"/>
            <a:ext cx="0" cy="2133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228600"/>
            <a:ext cx="6477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228600"/>
            <a:ext cx="655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Вот один, иль 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единица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, Очень тонкая, как спиц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924680" y="533160"/>
            <a:ext cx="762120" cy="609480"/>
          </a:xfrm>
          <a:prstGeom prst="line">
            <a:avLst/>
          </a:prstGeom>
          <a:ln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8000640" y="533520"/>
            <a:ext cx="685800" cy="1600200"/>
          </a:xfrm>
          <a:prstGeom prst="line">
            <a:avLst/>
          </a:prstGeom>
          <a:ln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 rot="1062600">
            <a:off x="2895120" y="3048120"/>
            <a:ext cx="1649520" cy="3033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952880" y="2286000"/>
            <a:ext cx="1057320" cy="14860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62120" y="3048120"/>
            <a:ext cx="1295280" cy="2412720"/>
          </a:xfrm>
          <a:custGeom>
            <a:avLst/>
            <a:gdLst/>
            <a:ahLst/>
            <a:rect l="l" t="t" r="r" b="b"/>
            <a:pathLst>
              <a:path w="816" h="1520">
                <a:moveTo>
                  <a:pt x="0" y="328"/>
                </a:moveTo>
                <a:cubicBezTo>
                  <a:pt x="0" y="304"/>
                  <a:pt x="312" y="80"/>
                  <a:pt x="384" y="40"/>
                </a:cubicBezTo>
                <a:cubicBezTo>
                  <a:pt x="456" y="0"/>
                  <a:pt x="416" y="72"/>
                  <a:pt x="432" y="88"/>
                </a:cubicBezTo>
                <a:cubicBezTo>
                  <a:pt x="448" y="104"/>
                  <a:pt x="440" y="128"/>
                  <a:pt x="480" y="136"/>
                </a:cubicBezTo>
                <a:cubicBezTo>
                  <a:pt x="520" y="144"/>
                  <a:pt x="616" y="152"/>
                  <a:pt x="672" y="136"/>
                </a:cubicBezTo>
                <a:cubicBezTo>
                  <a:pt x="728" y="120"/>
                  <a:pt x="816" y="8"/>
                  <a:pt x="816" y="40"/>
                </a:cubicBezTo>
                <a:cubicBezTo>
                  <a:pt x="816" y="72"/>
                  <a:pt x="704" y="128"/>
                  <a:pt x="672" y="328"/>
                </a:cubicBezTo>
                <a:cubicBezTo>
                  <a:pt x="640" y="528"/>
                  <a:pt x="616" y="1048"/>
                  <a:pt x="624" y="1240"/>
                </a:cubicBezTo>
                <a:cubicBezTo>
                  <a:pt x="632" y="1432"/>
                  <a:pt x="808" y="1440"/>
                  <a:pt x="720" y="1480"/>
                </a:cubicBezTo>
                <a:cubicBezTo>
                  <a:pt x="632" y="1520"/>
                  <a:pt x="184" y="1496"/>
                  <a:pt x="96" y="1480"/>
                </a:cubicBezTo>
                <a:cubicBezTo>
                  <a:pt x="8" y="1464"/>
                  <a:pt x="152" y="1440"/>
                  <a:pt x="192" y="1384"/>
                </a:cubicBezTo>
                <a:cubicBezTo>
                  <a:pt x="232" y="1328"/>
                  <a:pt x="304" y="1344"/>
                  <a:pt x="336" y="1144"/>
                </a:cubicBezTo>
                <a:cubicBezTo>
                  <a:pt x="368" y="944"/>
                  <a:pt x="376" y="336"/>
                  <a:pt x="384" y="184"/>
                </a:cubicBezTo>
                <a:cubicBezTo>
                  <a:pt x="392" y="32"/>
                  <a:pt x="384" y="232"/>
                  <a:pt x="384" y="232"/>
                </a:cubicBezTo>
                <a:cubicBezTo>
                  <a:pt x="384" y="232"/>
                  <a:pt x="448" y="168"/>
                  <a:pt x="384" y="184"/>
                </a:cubicBezTo>
                <a:cubicBezTo>
                  <a:pt x="320" y="200"/>
                  <a:pt x="0" y="352"/>
                  <a:pt x="0" y="328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7656200">
            <a:off x="1843560" y="2563200"/>
            <a:ext cx="377640" cy="560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826959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8269592"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1523160" y="2653560"/>
            <a:ext cx="38052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12" y="4965"/>
                </a:moveTo>
                <a:arcTo wR="10800" hR="10800" stAng="-8837704" swAng="8837704"/>
                <a:lnTo>
                  <a:pt x="10800" y="10800"/>
                </a:lnTo>
                <a:close/>
              </a:path>
              <a:path fill="none" w="21600" h="21600">
                <a:moveTo>
                  <a:pt x="1712" y="4965"/>
                </a:moveTo>
                <a:arcTo wR="10800" hR="10800" stAng="-8837704" swAng="883770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1447560" y="28828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2120760"/>
            <a:ext cx="7617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2120760"/>
            <a:ext cx="7617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62680" y="2273400"/>
            <a:ext cx="7628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092" y="1080"/>
                </a:moveTo>
                <a:arcTo wR="10800" hR="10800" stAng="-6950559" swAng="3745022"/>
                <a:lnTo>
                  <a:pt x="10800" y="10800"/>
                </a:lnTo>
                <a:close/>
              </a:path>
              <a:path fill="none" w="21600" h="21600">
                <a:moveTo>
                  <a:pt x="6092" y="1080"/>
                </a:moveTo>
                <a:arcTo wR="10800" hR="10800" stAng="-6950559" swAng="3745022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676160" y="2120760"/>
            <a:ext cx="1522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00200" y="2044800"/>
            <a:ext cx="7632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2734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00200" y="24256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76520" y="2502000"/>
            <a:ext cx="7596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24256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2502000"/>
            <a:ext cx="7596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2320" y="3568680"/>
            <a:ext cx="91296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60290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602907"/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09680" y="4025880"/>
            <a:ext cx="22860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5388800">
            <a:off x="460080" y="3792240"/>
            <a:ext cx="230400" cy="389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5626080"/>
            <a:ext cx="533520" cy="22860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9806000">
            <a:off x="1447560" y="5702040"/>
            <a:ext cx="533160" cy="22860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00800" y="3505320"/>
            <a:ext cx="2158920" cy="2844720"/>
          </a:xfrm>
          <a:custGeom>
            <a:avLst/>
            <a:gdLst/>
            <a:ahLst/>
            <a:rect l="l" t="t" r="r" b="b"/>
            <a:pathLst>
              <a:path w="1504" h="1936">
                <a:moveTo>
                  <a:pt x="1504" y="0"/>
                </a:moveTo>
                <a:cubicBezTo>
                  <a:pt x="1400" y="68"/>
                  <a:pt x="1296" y="136"/>
                  <a:pt x="1216" y="288"/>
                </a:cubicBezTo>
                <a:cubicBezTo>
                  <a:pt x="1136" y="440"/>
                  <a:pt x="1200" y="664"/>
                  <a:pt x="1024" y="912"/>
                </a:cubicBezTo>
                <a:cubicBezTo>
                  <a:pt x="848" y="1160"/>
                  <a:pt x="320" y="1616"/>
                  <a:pt x="160" y="1776"/>
                </a:cubicBezTo>
                <a:cubicBezTo>
                  <a:pt x="0" y="1936"/>
                  <a:pt x="32" y="1904"/>
                  <a:pt x="64" y="1872"/>
                </a:cubicBezTo>
              </a:path>
            </a:pathLst>
          </a:custGeom>
          <a:noFill/>
          <a:ln w="7632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6934320" y="5791320"/>
            <a:ext cx="757080" cy="69840"/>
          </a:xfrm>
          <a:prstGeom prst="line">
            <a:avLst/>
          </a:prstGeom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924680" y="3200400"/>
            <a:ext cx="138240" cy="987480"/>
          </a:xfrm>
          <a:prstGeom prst="line">
            <a:avLst/>
          </a:prstGeom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 rot="21025800">
            <a:off x="6019560" y="3962520"/>
            <a:ext cx="175248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500"/>
                            </p:stCondLst>
                            <p:childTnLst>
                              <p:par>
                                <p:cTn id="1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6500"/>
                            </p:stCondLst>
                            <p:childTnLst>
                              <p:par>
                                <p:cTn id="20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 flipH="1">
            <a:off x="3351960" y="4388040"/>
            <a:ext cx="1523880" cy="341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72" y="201"/>
                </a:moveTo>
                <a:arcTo wR="10800" hR="10800" stAng="-4736209" swAng="4736209"/>
                <a:lnTo>
                  <a:pt x="10800" y="10800"/>
                </a:lnTo>
                <a:close/>
              </a:path>
              <a:path fill="none" w="21600" h="21600">
                <a:moveTo>
                  <a:pt x="12872" y="201"/>
                </a:moveTo>
                <a:arcTo wR="10800" hR="10800" stAng="-4736209" swAng="4736209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3199680" y="3933720"/>
            <a:ext cx="1218600" cy="310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72" y="201"/>
                </a:moveTo>
                <a:arcTo wR="10800" hR="10800" stAng="-4736209" swAng="4736209"/>
                <a:lnTo>
                  <a:pt x="10800" y="10800"/>
                </a:lnTo>
                <a:close/>
              </a:path>
              <a:path fill="none" w="21600" h="21600">
                <a:moveTo>
                  <a:pt x="12872" y="201"/>
                </a:moveTo>
                <a:arcTo wR="10800" hR="10800" stAng="-4736209" swAng="4736209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2000" y="5421240"/>
            <a:ext cx="4657680" cy="1162080"/>
          </a:xfrm>
          <a:custGeom>
            <a:avLst/>
            <a:gdLst/>
            <a:ahLst/>
            <a:rect l="l" t="t" r="r" b="b"/>
            <a:pathLst>
              <a:path w="2934" h="732">
                <a:moveTo>
                  <a:pt x="535" y="14"/>
                </a:moveTo>
                <a:cubicBezTo>
                  <a:pt x="425" y="30"/>
                  <a:pt x="314" y="41"/>
                  <a:pt x="203" y="48"/>
                </a:cubicBezTo>
                <a:cubicBezTo>
                  <a:pt x="174" y="58"/>
                  <a:pt x="140" y="64"/>
                  <a:pt x="115" y="82"/>
                </a:cubicBezTo>
                <a:cubicBezTo>
                  <a:pt x="70" y="115"/>
                  <a:pt x="51" y="173"/>
                  <a:pt x="20" y="217"/>
                </a:cubicBezTo>
                <a:cubicBezTo>
                  <a:pt x="14" y="240"/>
                  <a:pt x="7" y="262"/>
                  <a:pt x="0" y="285"/>
                </a:cubicBezTo>
                <a:cubicBezTo>
                  <a:pt x="2" y="396"/>
                  <a:pt x="0" y="506"/>
                  <a:pt x="6" y="617"/>
                </a:cubicBezTo>
                <a:cubicBezTo>
                  <a:pt x="8" y="645"/>
                  <a:pt x="146" y="684"/>
                  <a:pt x="176" y="685"/>
                </a:cubicBezTo>
                <a:cubicBezTo>
                  <a:pt x="397" y="691"/>
                  <a:pt x="619" y="694"/>
                  <a:pt x="840" y="698"/>
                </a:cubicBezTo>
                <a:cubicBezTo>
                  <a:pt x="1206" y="714"/>
                  <a:pt x="1543" y="728"/>
                  <a:pt x="1917" y="732"/>
                </a:cubicBezTo>
                <a:cubicBezTo>
                  <a:pt x="2125" y="725"/>
                  <a:pt x="2266" y="715"/>
                  <a:pt x="2453" y="692"/>
                </a:cubicBezTo>
                <a:cubicBezTo>
                  <a:pt x="2513" y="661"/>
                  <a:pt x="2488" y="670"/>
                  <a:pt x="2527" y="658"/>
                </a:cubicBezTo>
                <a:cubicBezTo>
                  <a:pt x="2570" y="630"/>
                  <a:pt x="2604" y="604"/>
                  <a:pt x="2636" y="563"/>
                </a:cubicBezTo>
                <a:cubicBezTo>
                  <a:pt x="2638" y="518"/>
                  <a:pt x="2634" y="472"/>
                  <a:pt x="2642" y="427"/>
                </a:cubicBezTo>
                <a:cubicBezTo>
                  <a:pt x="2643" y="419"/>
                  <a:pt x="2656" y="418"/>
                  <a:pt x="2663" y="414"/>
                </a:cubicBezTo>
                <a:cubicBezTo>
                  <a:pt x="2724" y="380"/>
                  <a:pt x="2774" y="382"/>
                  <a:pt x="2846" y="373"/>
                </a:cubicBezTo>
                <a:cubicBezTo>
                  <a:pt x="2864" y="368"/>
                  <a:pt x="2882" y="364"/>
                  <a:pt x="2900" y="359"/>
                </a:cubicBezTo>
                <a:cubicBezTo>
                  <a:pt x="2934" y="350"/>
                  <a:pt x="2897" y="208"/>
                  <a:pt x="2859" y="183"/>
                </a:cubicBezTo>
                <a:cubicBezTo>
                  <a:pt x="2841" y="155"/>
                  <a:pt x="2813" y="150"/>
                  <a:pt x="2778" y="149"/>
                </a:cubicBezTo>
                <a:cubicBezTo>
                  <a:pt x="2656" y="145"/>
                  <a:pt x="2534" y="145"/>
                  <a:pt x="2412" y="143"/>
                </a:cubicBezTo>
                <a:cubicBezTo>
                  <a:pt x="2405" y="141"/>
                  <a:pt x="2398" y="139"/>
                  <a:pt x="2392" y="136"/>
                </a:cubicBezTo>
                <a:cubicBezTo>
                  <a:pt x="2380" y="130"/>
                  <a:pt x="2370" y="121"/>
                  <a:pt x="2358" y="116"/>
                </a:cubicBezTo>
                <a:cubicBezTo>
                  <a:pt x="2339" y="109"/>
                  <a:pt x="2283" y="100"/>
                  <a:pt x="2263" y="88"/>
                </a:cubicBezTo>
                <a:cubicBezTo>
                  <a:pt x="2254" y="83"/>
                  <a:pt x="2215" y="59"/>
                  <a:pt x="2202" y="55"/>
                </a:cubicBezTo>
                <a:cubicBezTo>
                  <a:pt x="2163" y="44"/>
                  <a:pt x="2034" y="41"/>
                  <a:pt x="2026" y="41"/>
                </a:cubicBezTo>
                <a:cubicBezTo>
                  <a:pt x="1867" y="8"/>
                  <a:pt x="1963" y="27"/>
                  <a:pt x="1626" y="21"/>
                </a:cubicBezTo>
                <a:cubicBezTo>
                  <a:pt x="1504" y="0"/>
                  <a:pt x="1642" y="21"/>
                  <a:pt x="1362" y="21"/>
                </a:cubicBezTo>
                <a:cubicBezTo>
                  <a:pt x="1071" y="21"/>
                  <a:pt x="779" y="14"/>
                  <a:pt x="488" y="14"/>
                </a:cubicBezTo>
                <a:lnTo>
                  <a:pt x="570" y="41"/>
                </a:lnTo>
              </a:path>
            </a:pathLst>
          </a:custGeom>
          <a:solidFill>
            <a:srgbClr val="0066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3429000"/>
            <a:ext cx="2743200" cy="2793960"/>
          </a:xfrm>
          <a:custGeom>
            <a:avLst/>
            <a:gdLst/>
            <a:ahLst/>
            <a:rect l="l" t="t" r="r" b="b"/>
            <a:pathLst>
              <a:path w="1904" h="1952">
                <a:moveTo>
                  <a:pt x="680" y="352"/>
                </a:moveTo>
                <a:cubicBezTo>
                  <a:pt x="752" y="296"/>
                  <a:pt x="824" y="240"/>
                  <a:pt x="920" y="208"/>
                </a:cubicBezTo>
                <a:cubicBezTo>
                  <a:pt x="1016" y="176"/>
                  <a:pt x="1168" y="136"/>
                  <a:pt x="1256" y="160"/>
                </a:cubicBezTo>
                <a:cubicBezTo>
                  <a:pt x="1344" y="184"/>
                  <a:pt x="1416" y="240"/>
                  <a:pt x="1448" y="352"/>
                </a:cubicBezTo>
                <a:cubicBezTo>
                  <a:pt x="1480" y="464"/>
                  <a:pt x="1496" y="696"/>
                  <a:pt x="1448" y="832"/>
                </a:cubicBezTo>
                <a:cubicBezTo>
                  <a:pt x="1400" y="968"/>
                  <a:pt x="1328" y="1056"/>
                  <a:pt x="1160" y="1168"/>
                </a:cubicBezTo>
                <a:cubicBezTo>
                  <a:pt x="992" y="1280"/>
                  <a:pt x="600" y="1384"/>
                  <a:pt x="440" y="1504"/>
                </a:cubicBezTo>
                <a:cubicBezTo>
                  <a:pt x="280" y="1624"/>
                  <a:pt x="0" y="1824"/>
                  <a:pt x="200" y="1888"/>
                </a:cubicBezTo>
                <a:cubicBezTo>
                  <a:pt x="400" y="1952"/>
                  <a:pt x="1376" y="1888"/>
                  <a:pt x="1640" y="1888"/>
                </a:cubicBezTo>
                <a:cubicBezTo>
                  <a:pt x="1904" y="1888"/>
                  <a:pt x="1768" y="1896"/>
                  <a:pt x="1784" y="1888"/>
                </a:cubicBezTo>
                <a:cubicBezTo>
                  <a:pt x="1800" y="1880"/>
                  <a:pt x="1752" y="1872"/>
                  <a:pt x="1736" y="1840"/>
                </a:cubicBezTo>
                <a:cubicBezTo>
                  <a:pt x="1720" y="1808"/>
                  <a:pt x="1680" y="1752"/>
                  <a:pt x="1688" y="1696"/>
                </a:cubicBezTo>
                <a:cubicBezTo>
                  <a:pt x="1696" y="1640"/>
                  <a:pt x="1784" y="1520"/>
                  <a:pt x="1784" y="1504"/>
                </a:cubicBezTo>
                <a:cubicBezTo>
                  <a:pt x="1784" y="1488"/>
                  <a:pt x="1720" y="1560"/>
                  <a:pt x="1688" y="1600"/>
                </a:cubicBezTo>
                <a:cubicBezTo>
                  <a:pt x="1656" y="1640"/>
                  <a:pt x="1624" y="1736"/>
                  <a:pt x="1592" y="1744"/>
                </a:cubicBezTo>
                <a:cubicBezTo>
                  <a:pt x="1560" y="1752"/>
                  <a:pt x="1576" y="1672"/>
                  <a:pt x="1496" y="1648"/>
                </a:cubicBezTo>
                <a:cubicBezTo>
                  <a:pt x="1416" y="1624"/>
                  <a:pt x="1280" y="1592"/>
                  <a:pt x="1112" y="1600"/>
                </a:cubicBezTo>
                <a:cubicBezTo>
                  <a:pt x="944" y="1608"/>
                  <a:pt x="576" y="1696"/>
                  <a:pt x="488" y="1696"/>
                </a:cubicBezTo>
                <a:cubicBezTo>
                  <a:pt x="400" y="1696"/>
                  <a:pt x="456" y="1664"/>
                  <a:pt x="584" y="1600"/>
                </a:cubicBezTo>
                <a:cubicBezTo>
                  <a:pt x="712" y="1536"/>
                  <a:pt x="1088" y="1424"/>
                  <a:pt x="1256" y="1312"/>
                </a:cubicBezTo>
                <a:cubicBezTo>
                  <a:pt x="1424" y="1200"/>
                  <a:pt x="1528" y="1080"/>
                  <a:pt x="1592" y="928"/>
                </a:cubicBezTo>
                <a:cubicBezTo>
                  <a:pt x="1656" y="776"/>
                  <a:pt x="1664" y="544"/>
                  <a:pt x="1640" y="400"/>
                </a:cubicBezTo>
                <a:cubicBezTo>
                  <a:pt x="1616" y="256"/>
                  <a:pt x="1528" y="128"/>
                  <a:pt x="1448" y="64"/>
                </a:cubicBezTo>
                <a:cubicBezTo>
                  <a:pt x="1368" y="0"/>
                  <a:pt x="1272" y="8"/>
                  <a:pt x="1160" y="16"/>
                </a:cubicBezTo>
                <a:cubicBezTo>
                  <a:pt x="1048" y="24"/>
                  <a:pt x="872" y="64"/>
                  <a:pt x="776" y="112"/>
                </a:cubicBezTo>
                <a:cubicBezTo>
                  <a:pt x="680" y="160"/>
                  <a:pt x="600" y="256"/>
                  <a:pt x="584" y="304"/>
                </a:cubicBezTo>
                <a:cubicBezTo>
                  <a:pt x="568" y="352"/>
                  <a:pt x="656" y="400"/>
                  <a:pt x="680" y="400"/>
                </a:cubicBezTo>
                <a:cubicBezTo>
                  <a:pt x="704" y="400"/>
                  <a:pt x="720" y="320"/>
                  <a:pt x="728" y="304"/>
                </a:cubicBezTo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705720" y="5335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010280" y="228600"/>
            <a:ext cx="0" cy="2133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21337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686800" y="228600"/>
            <a:ext cx="0" cy="2133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890120" y="609480"/>
            <a:ext cx="796320" cy="683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" y="8682"/>
                </a:moveTo>
                <a:arcTo wR="10800" hR="10800" stAng="-10121371" swAng="12164970"/>
                <a:lnTo>
                  <a:pt x="10800" y="10800"/>
                </a:lnTo>
                <a:close/>
              </a:path>
              <a:path fill="none" w="21600" h="21600">
                <a:moveTo>
                  <a:pt x="210" y="8682"/>
                </a:moveTo>
                <a:arcTo wR="10800" hR="10800" stAng="-10121371" swAng="12164970"/>
              </a:path>
            </a:pathLst>
          </a:custGeom>
          <a:noFill/>
          <a:ln w="7632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7772400" y="1143000"/>
            <a:ext cx="838080" cy="990720"/>
          </a:xfrm>
          <a:prstGeom prst="line">
            <a:avLst/>
          </a:prstGeom>
          <a:ln w="7632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848720" y="19684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0" y="56"/>
                </a:moveTo>
                <a:cubicBezTo>
                  <a:pt x="72" y="28"/>
                  <a:pt x="144" y="0"/>
                  <a:pt x="192" y="8"/>
                </a:cubicBezTo>
                <a:cubicBezTo>
                  <a:pt x="240" y="16"/>
                  <a:pt x="232" y="104"/>
                  <a:pt x="288" y="104"/>
                </a:cubicBezTo>
                <a:cubicBezTo>
                  <a:pt x="344" y="104"/>
                  <a:pt x="488" y="24"/>
                  <a:pt x="528" y="8"/>
                </a:cubicBezTo>
              </a:path>
            </a:pathLst>
          </a:custGeom>
          <a:noFill/>
          <a:ln w="7632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304920"/>
            <a:ext cx="6705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Arial"/>
              </a:rPr>
              <a:t>А вот это - цифр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99ff"/>
                </a:solidFill>
                <a:latin typeface="Arial"/>
              </a:rPr>
              <a:t>два.  </a:t>
            </a:r>
            <a:r>
              <a:rPr b="1" lang="en-US" sz="4000" spc="-1" strike="noStrike">
                <a:solidFill>
                  <a:srgbClr val="33cc33"/>
                </a:solidFill>
                <a:latin typeface="Arial"/>
              </a:rPr>
              <a:t>Полюбуйся, какова:   Выгибает двойка шею, Волочится хвост за не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3429000"/>
            <a:ext cx="914400" cy="10666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14400" y="4038480"/>
            <a:ext cx="685800" cy="457200"/>
          </a:xfrm>
          <a:custGeom>
            <a:avLst/>
            <a:gdLst/>
            <a:ahLst/>
            <a:rect l="l" t="t" r="r" b="b"/>
            <a:pathLst>
              <a:path w="528" h="368">
                <a:moveTo>
                  <a:pt x="288" y="32"/>
                </a:moveTo>
                <a:cubicBezTo>
                  <a:pt x="248" y="64"/>
                  <a:pt x="192" y="184"/>
                  <a:pt x="144" y="224"/>
                </a:cubicBezTo>
                <a:cubicBezTo>
                  <a:pt x="96" y="264"/>
                  <a:pt x="0" y="248"/>
                  <a:pt x="0" y="272"/>
                </a:cubicBezTo>
                <a:cubicBezTo>
                  <a:pt x="0" y="296"/>
                  <a:pt x="72" y="368"/>
                  <a:pt x="144" y="368"/>
                </a:cubicBezTo>
                <a:cubicBezTo>
                  <a:pt x="216" y="368"/>
                  <a:pt x="368" y="304"/>
                  <a:pt x="432" y="272"/>
                </a:cubicBezTo>
                <a:cubicBezTo>
                  <a:pt x="496" y="240"/>
                  <a:pt x="528" y="192"/>
                  <a:pt x="528" y="176"/>
                </a:cubicBezTo>
                <a:cubicBezTo>
                  <a:pt x="528" y="160"/>
                  <a:pt x="456" y="200"/>
                  <a:pt x="432" y="176"/>
                </a:cubicBezTo>
                <a:cubicBezTo>
                  <a:pt x="408" y="152"/>
                  <a:pt x="408" y="56"/>
                  <a:pt x="384" y="32"/>
                </a:cubicBezTo>
                <a:cubicBezTo>
                  <a:pt x="360" y="8"/>
                  <a:pt x="328" y="0"/>
                  <a:pt x="288" y="32"/>
                </a:cubicBezTo>
                <a:close/>
              </a:path>
            </a:pathLst>
          </a:custGeom>
          <a:solidFill>
            <a:srgbClr val="ff99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47920" y="3733920"/>
            <a:ext cx="228600" cy="304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3657600"/>
            <a:ext cx="228600" cy="3049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19320" y="3733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30400" y="4241880"/>
            <a:ext cx="469800" cy="380880"/>
          </a:xfrm>
          <a:custGeom>
            <a:avLst/>
            <a:gdLst/>
            <a:ahLst/>
            <a:rect l="l" t="t" r="r" b="b"/>
            <a:pathLst>
              <a:path w="296" h="240">
                <a:moveTo>
                  <a:pt x="296" y="16"/>
                </a:moveTo>
                <a:cubicBezTo>
                  <a:pt x="296" y="32"/>
                  <a:pt x="200" y="176"/>
                  <a:pt x="152" y="208"/>
                </a:cubicBezTo>
                <a:cubicBezTo>
                  <a:pt x="104" y="240"/>
                  <a:pt x="16" y="224"/>
                  <a:pt x="8" y="208"/>
                </a:cubicBezTo>
                <a:cubicBezTo>
                  <a:pt x="0" y="192"/>
                  <a:pt x="80" y="128"/>
                  <a:pt x="104" y="112"/>
                </a:cubicBezTo>
                <a:cubicBezTo>
                  <a:pt x="128" y="96"/>
                  <a:pt x="120" y="128"/>
                  <a:pt x="152" y="112"/>
                </a:cubicBezTo>
                <a:cubicBezTo>
                  <a:pt x="184" y="96"/>
                  <a:pt x="296" y="0"/>
                  <a:pt x="296" y="16"/>
                </a:cubicBezTo>
                <a:close/>
              </a:path>
            </a:pathLst>
          </a:custGeom>
          <a:solidFill>
            <a:srgbClr val="ff99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95480" y="4800600"/>
            <a:ext cx="1168560" cy="733320"/>
          </a:xfrm>
          <a:custGeom>
            <a:avLst/>
            <a:gdLst/>
            <a:ahLst/>
            <a:rect l="l" t="t" r="r" b="b"/>
            <a:pathLst>
              <a:path w="736" h="462">
                <a:moveTo>
                  <a:pt x="108" y="427"/>
                </a:moveTo>
                <a:cubicBezTo>
                  <a:pt x="106" y="373"/>
                  <a:pt x="105" y="318"/>
                  <a:pt x="101" y="264"/>
                </a:cubicBezTo>
                <a:cubicBezTo>
                  <a:pt x="95" y="190"/>
                  <a:pt x="37" y="134"/>
                  <a:pt x="0" y="74"/>
                </a:cubicBezTo>
                <a:cubicBezTo>
                  <a:pt x="27" y="57"/>
                  <a:pt x="32" y="66"/>
                  <a:pt x="61" y="74"/>
                </a:cubicBezTo>
                <a:cubicBezTo>
                  <a:pt x="97" y="101"/>
                  <a:pt x="126" y="118"/>
                  <a:pt x="162" y="142"/>
                </a:cubicBezTo>
                <a:cubicBezTo>
                  <a:pt x="169" y="171"/>
                  <a:pt x="163" y="203"/>
                  <a:pt x="176" y="230"/>
                </a:cubicBezTo>
                <a:cubicBezTo>
                  <a:pt x="179" y="237"/>
                  <a:pt x="184" y="216"/>
                  <a:pt x="189" y="210"/>
                </a:cubicBezTo>
                <a:cubicBezTo>
                  <a:pt x="226" y="159"/>
                  <a:pt x="196" y="205"/>
                  <a:pt x="223" y="162"/>
                </a:cubicBezTo>
                <a:cubicBezTo>
                  <a:pt x="237" y="108"/>
                  <a:pt x="239" y="56"/>
                  <a:pt x="243" y="0"/>
                </a:cubicBezTo>
                <a:cubicBezTo>
                  <a:pt x="255" y="35"/>
                  <a:pt x="252" y="73"/>
                  <a:pt x="264" y="108"/>
                </a:cubicBezTo>
                <a:cubicBezTo>
                  <a:pt x="269" y="167"/>
                  <a:pt x="262" y="227"/>
                  <a:pt x="277" y="284"/>
                </a:cubicBezTo>
                <a:cubicBezTo>
                  <a:pt x="279" y="292"/>
                  <a:pt x="287" y="271"/>
                  <a:pt x="291" y="264"/>
                </a:cubicBezTo>
                <a:cubicBezTo>
                  <a:pt x="311" y="230"/>
                  <a:pt x="305" y="221"/>
                  <a:pt x="338" y="196"/>
                </a:cubicBezTo>
                <a:cubicBezTo>
                  <a:pt x="356" y="161"/>
                  <a:pt x="382" y="132"/>
                  <a:pt x="413" y="108"/>
                </a:cubicBezTo>
                <a:cubicBezTo>
                  <a:pt x="411" y="124"/>
                  <a:pt x="412" y="141"/>
                  <a:pt x="406" y="156"/>
                </a:cubicBezTo>
                <a:cubicBezTo>
                  <a:pt x="400" y="171"/>
                  <a:pt x="379" y="196"/>
                  <a:pt x="379" y="196"/>
                </a:cubicBezTo>
                <a:cubicBezTo>
                  <a:pt x="363" y="244"/>
                  <a:pt x="369" y="223"/>
                  <a:pt x="359" y="257"/>
                </a:cubicBezTo>
                <a:cubicBezTo>
                  <a:pt x="379" y="331"/>
                  <a:pt x="363" y="303"/>
                  <a:pt x="420" y="284"/>
                </a:cubicBezTo>
                <a:cubicBezTo>
                  <a:pt x="467" y="252"/>
                  <a:pt x="515" y="233"/>
                  <a:pt x="569" y="217"/>
                </a:cubicBezTo>
                <a:cubicBezTo>
                  <a:pt x="599" y="219"/>
                  <a:pt x="736" y="203"/>
                  <a:pt x="677" y="291"/>
                </a:cubicBezTo>
                <a:cubicBezTo>
                  <a:pt x="666" y="307"/>
                  <a:pt x="596" y="311"/>
                  <a:pt x="589" y="312"/>
                </a:cubicBezTo>
                <a:cubicBezTo>
                  <a:pt x="564" y="316"/>
                  <a:pt x="515" y="325"/>
                  <a:pt x="515" y="325"/>
                </a:cubicBezTo>
                <a:cubicBezTo>
                  <a:pt x="486" y="337"/>
                  <a:pt x="459" y="348"/>
                  <a:pt x="433" y="366"/>
                </a:cubicBezTo>
                <a:cubicBezTo>
                  <a:pt x="431" y="373"/>
                  <a:pt x="422" y="380"/>
                  <a:pt x="426" y="386"/>
                </a:cubicBezTo>
                <a:cubicBezTo>
                  <a:pt x="449" y="421"/>
                  <a:pt x="550" y="431"/>
                  <a:pt x="582" y="434"/>
                </a:cubicBezTo>
                <a:cubicBezTo>
                  <a:pt x="598" y="444"/>
                  <a:pt x="626" y="454"/>
                  <a:pt x="576" y="454"/>
                </a:cubicBezTo>
                <a:cubicBezTo>
                  <a:pt x="492" y="454"/>
                  <a:pt x="409" y="449"/>
                  <a:pt x="325" y="447"/>
                </a:cubicBezTo>
                <a:cubicBezTo>
                  <a:pt x="329" y="438"/>
                  <a:pt x="347" y="424"/>
                  <a:pt x="338" y="420"/>
                </a:cubicBezTo>
                <a:cubicBezTo>
                  <a:pt x="284" y="398"/>
                  <a:pt x="291" y="431"/>
                  <a:pt x="257" y="434"/>
                </a:cubicBezTo>
                <a:cubicBezTo>
                  <a:pt x="219" y="438"/>
                  <a:pt x="180" y="438"/>
                  <a:pt x="142" y="440"/>
                </a:cubicBezTo>
                <a:cubicBezTo>
                  <a:pt x="113" y="460"/>
                  <a:pt x="125" y="462"/>
                  <a:pt x="108" y="427"/>
                </a:cubicBezTo>
                <a:close/>
              </a:path>
            </a:pathLst>
          </a:custGeom>
          <a:solidFill>
            <a:srgbClr val="33cc3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555600">
            <a:off x="3661920" y="3430080"/>
            <a:ext cx="457200" cy="685800"/>
          </a:xfrm>
          <a:custGeom>
            <a:avLst/>
            <a:gdLst/>
            <a:ahLst/>
            <a:rect l="l" t="t" r="r" b="b"/>
            <a:pathLst>
              <a:path w="504" h="584">
                <a:moveTo>
                  <a:pt x="224" y="144"/>
                </a:moveTo>
                <a:cubicBezTo>
                  <a:pt x="168" y="208"/>
                  <a:pt x="64" y="328"/>
                  <a:pt x="32" y="384"/>
                </a:cubicBezTo>
                <a:cubicBezTo>
                  <a:pt x="0" y="440"/>
                  <a:pt x="16" y="456"/>
                  <a:pt x="32" y="480"/>
                </a:cubicBezTo>
                <a:cubicBezTo>
                  <a:pt x="48" y="504"/>
                  <a:pt x="56" y="584"/>
                  <a:pt x="128" y="528"/>
                </a:cubicBezTo>
                <a:cubicBezTo>
                  <a:pt x="200" y="472"/>
                  <a:pt x="424" y="232"/>
                  <a:pt x="464" y="144"/>
                </a:cubicBezTo>
                <a:cubicBezTo>
                  <a:pt x="504" y="56"/>
                  <a:pt x="408" y="0"/>
                  <a:pt x="368" y="0"/>
                </a:cubicBezTo>
                <a:cubicBezTo>
                  <a:pt x="328" y="0"/>
                  <a:pt x="280" y="80"/>
                  <a:pt x="224" y="144"/>
                </a:cubicBezTo>
                <a:close/>
              </a:path>
            </a:pathLst>
          </a:custGeom>
          <a:solidFill>
            <a:srgbClr val="a5002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114800" y="3276360"/>
            <a:ext cx="228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95480" y="4038480"/>
            <a:ext cx="393840" cy="978120"/>
          </a:xfrm>
          <a:custGeom>
            <a:avLst/>
            <a:gdLst/>
            <a:ahLst/>
            <a:rect l="l" t="t" r="r" b="b"/>
            <a:pathLst>
              <a:path w="248" h="616">
                <a:moveTo>
                  <a:pt x="248" y="432"/>
                </a:moveTo>
                <a:cubicBezTo>
                  <a:pt x="244" y="264"/>
                  <a:pt x="240" y="96"/>
                  <a:pt x="200" y="48"/>
                </a:cubicBezTo>
                <a:cubicBezTo>
                  <a:pt x="160" y="0"/>
                  <a:pt x="16" y="128"/>
                  <a:pt x="8" y="144"/>
                </a:cubicBezTo>
                <a:cubicBezTo>
                  <a:pt x="0" y="160"/>
                  <a:pt x="120" y="72"/>
                  <a:pt x="152" y="144"/>
                </a:cubicBezTo>
                <a:cubicBezTo>
                  <a:pt x="184" y="216"/>
                  <a:pt x="184" y="536"/>
                  <a:pt x="200" y="576"/>
                </a:cubicBezTo>
                <a:cubicBezTo>
                  <a:pt x="216" y="616"/>
                  <a:pt x="240" y="416"/>
                  <a:pt x="248" y="384"/>
                </a:cubicBezTo>
              </a:path>
            </a:pathLst>
          </a:custGeom>
          <a:solidFill>
            <a:srgbClr val="33cc3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555600">
            <a:off x="3962160" y="3885840"/>
            <a:ext cx="457200" cy="685800"/>
          </a:xfrm>
          <a:custGeom>
            <a:avLst/>
            <a:gdLst/>
            <a:ahLst/>
            <a:rect l="l" t="t" r="r" b="b"/>
            <a:pathLst>
              <a:path w="504" h="584">
                <a:moveTo>
                  <a:pt x="224" y="144"/>
                </a:moveTo>
                <a:cubicBezTo>
                  <a:pt x="168" y="208"/>
                  <a:pt x="64" y="328"/>
                  <a:pt x="32" y="384"/>
                </a:cubicBezTo>
                <a:cubicBezTo>
                  <a:pt x="0" y="440"/>
                  <a:pt x="16" y="456"/>
                  <a:pt x="32" y="480"/>
                </a:cubicBezTo>
                <a:cubicBezTo>
                  <a:pt x="48" y="504"/>
                  <a:pt x="56" y="584"/>
                  <a:pt x="128" y="528"/>
                </a:cubicBezTo>
                <a:cubicBezTo>
                  <a:pt x="200" y="472"/>
                  <a:pt x="424" y="232"/>
                  <a:pt x="464" y="144"/>
                </a:cubicBezTo>
                <a:cubicBezTo>
                  <a:pt x="504" y="56"/>
                  <a:pt x="408" y="0"/>
                  <a:pt x="368" y="0"/>
                </a:cubicBezTo>
                <a:cubicBezTo>
                  <a:pt x="328" y="0"/>
                  <a:pt x="280" y="80"/>
                  <a:pt x="224" y="144"/>
                </a:cubicBezTo>
                <a:close/>
              </a:path>
            </a:pathLst>
          </a:custGeom>
          <a:solidFill>
            <a:srgbClr val="a5002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419720" y="3733560"/>
            <a:ext cx="228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 rot="3312600">
            <a:off x="3695400" y="4533840"/>
            <a:ext cx="444600" cy="977400"/>
          </a:xfrm>
          <a:custGeom>
            <a:avLst/>
            <a:gdLst/>
            <a:ahLst/>
            <a:rect l="l" t="t" r="r" b="b"/>
            <a:pathLst>
              <a:path w="248" h="616">
                <a:moveTo>
                  <a:pt x="248" y="432"/>
                </a:moveTo>
                <a:cubicBezTo>
                  <a:pt x="244" y="264"/>
                  <a:pt x="240" y="96"/>
                  <a:pt x="200" y="48"/>
                </a:cubicBezTo>
                <a:cubicBezTo>
                  <a:pt x="160" y="0"/>
                  <a:pt x="16" y="128"/>
                  <a:pt x="8" y="144"/>
                </a:cubicBezTo>
                <a:cubicBezTo>
                  <a:pt x="0" y="160"/>
                  <a:pt x="120" y="72"/>
                  <a:pt x="152" y="144"/>
                </a:cubicBezTo>
                <a:cubicBezTo>
                  <a:pt x="184" y="216"/>
                  <a:pt x="184" y="536"/>
                  <a:pt x="200" y="576"/>
                </a:cubicBezTo>
                <a:cubicBezTo>
                  <a:pt x="216" y="616"/>
                  <a:pt x="240" y="416"/>
                  <a:pt x="248" y="384"/>
                </a:cubicBezTo>
              </a:path>
            </a:pathLst>
          </a:custGeom>
          <a:solidFill>
            <a:srgbClr val="33cc3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8135400">
            <a:off x="5969160" y="3341520"/>
            <a:ext cx="1371600" cy="137160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867280" y="4114800"/>
            <a:ext cx="1600200" cy="1523880"/>
          </a:xfrm>
          <a:prstGeom prst="rect">
            <a:avLst/>
          </a:prstGeom>
          <a:gradFill rotWithShape="0">
            <a:gsLst>
              <a:gs pos="0">
                <a:srgbClr val="ffff5b"/>
              </a:gs>
              <a:gs pos="100000">
                <a:srgbClr val="66ff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19920" y="4267080"/>
            <a:ext cx="121896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0" y="441972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4343400"/>
            <a:ext cx="0" cy="76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5257800"/>
            <a:ext cx="0" cy="76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72200" y="4800600"/>
            <a:ext cx="0" cy="76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86600" y="4800600"/>
            <a:ext cx="0" cy="76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4419720"/>
            <a:ext cx="0" cy="759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10280" y="5029200"/>
            <a:ext cx="0" cy="76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0" y="5181480"/>
            <a:ext cx="0" cy="76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248520" y="4572000"/>
            <a:ext cx="0" cy="76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400800" y="5181480"/>
            <a:ext cx="0" cy="76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086600" y="4800600"/>
            <a:ext cx="0" cy="76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5029200"/>
            <a:ext cx="0" cy="76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400800" y="4419720"/>
            <a:ext cx="0" cy="759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629400" y="4800600"/>
            <a:ext cx="0" cy="76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629400" y="43434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6629400" y="4647960"/>
            <a:ext cx="30492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629400" y="56386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77120" y="5943600"/>
            <a:ext cx="304560" cy="304920"/>
          </a:xfrm>
          <a:prstGeom prst="ellipse">
            <a:avLst/>
          </a:prstGeom>
          <a:solidFill>
            <a:srgbClr val="33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56386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6386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214200">
            <a:off x="6171840" y="5866920"/>
            <a:ext cx="241200" cy="457200"/>
          </a:xfrm>
          <a:custGeom>
            <a:avLst/>
            <a:gdLst/>
            <a:ahLst/>
            <a:rect l="l" t="t" r="r" b="b"/>
            <a:pathLst>
              <a:path w="152" h="288">
                <a:moveTo>
                  <a:pt x="96" y="0"/>
                </a:moveTo>
                <a:cubicBezTo>
                  <a:pt x="48" y="0"/>
                  <a:pt x="0" y="0"/>
                  <a:pt x="0" y="48"/>
                </a:cubicBezTo>
                <a:cubicBezTo>
                  <a:pt x="0" y="96"/>
                  <a:pt x="72" y="288"/>
                  <a:pt x="96" y="288"/>
                </a:cubicBezTo>
                <a:cubicBezTo>
                  <a:pt x="120" y="288"/>
                  <a:pt x="152" y="96"/>
                  <a:pt x="144" y="48"/>
                </a:cubicBezTo>
                <a:cubicBezTo>
                  <a:pt x="136" y="0"/>
                  <a:pt x="64" y="8"/>
                  <a:pt x="48" y="0"/>
                </a:cubicBezTo>
              </a:path>
            </a:pathLst>
          </a:custGeom>
          <a:solidFill>
            <a:srgbClr val="9f6f3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14200">
            <a:off x="6857640" y="6248160"/>
            <a:ext cx="241200" cy="457200"/>
          </a:xfrm>
          <a:custGeom>
            <a:avLst/>
            <a:gdLst/>
            <a:ahLst/>
            <a:rect l="l" t="t" r="r" b="b"/>
            <a:pathLst>
              <a:path w="152" h="288">
                <a:moveTo>
                  <a:pt x="96" y="0"/>
                </a:moveTo>
                <a:cubicBezTo>
                  <a:pt x="48" y="0"/>
                  <a:pt x="0" y="0"/>
                  <a:pt x="0" y="48"/>
                </a:cubicBezTo>
                <a:cubicBezTo>
                  <a:pt x="0" y="96"/>
                  <a:pt x="72" y="288"/>
                  <a:pt x="96" y="288"/>
                </a:cubicBezTo>
                <a:cubicBezTo>
                  <a:pt x="120" y="288"/>
                  <a:pt x="152" y="96"/>
                  <a:pt x="144" y="48"/>
                </a:cubicBezTo>
                <a:cubicBezTo>
                  <a:pt x="136" y="0"/>
                  <a:pt x="64" y="8"/>
                  <a:pt x="48" y="0"/>
                </a:cubicBezTo>
              </a:path>
            </a:pathLst>
          </a:custGeom>
          <a:solidFill>
            <a:srgbClr val="9f6f3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920"/>
                            </p:stCondLst>
                            <p:childTnLst>
                              <p:par>
                                <p:cTn id="233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420"/>
                            </p:stCondLst>
                            <p:childTnLst>
                              <p:par>
                                <p:cTn id="2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838080" y="5029200"/>
            <a:ext cx="1600200" cy="1282680"/>
          </a:xfrm>
          <a:custGeom>
            <a:avLst/>
            <a:gdLst/>
            <a:ahLst/>
            <a:rect l="l" t="t" r="r" b="b"/>
            <a:pathLst>
              <a:path w="976" h="808">
                <a:moveTo>
                  <a:pt x="152" y="24"/>
                </a:moveTo>
                <a:cubicBezTo>
                  <a:pt x="56" y="40"/>
                  <a:pt x="200" y="88"/>
                  <a:pt x="200" y="120"/>
                </a:cubicBezTo>
                <a:cubicBezTo>
                  <a:pt x="200" y="152"/>
                  <a:pt x="184" y="160"/>
                  <a:pt x="152" y="216"/>
                </a:cubicBezTo>
                <a:cubicBezTo>
                  <a:pt x="120" y="272"/>
                  <a:pt x="16" y="376"/>
                  <a:pt x="8" y="456"/>
                </a:cubicBezTo>
                <a:cubicBezTo>
                  <a:pt x="0" y="536"/>
                  <a:pt x="64" y="640"/>
                  <a:pt x="104" y="696"/>
                </a:cubicBezTo>
                <a:cubicBezTo>
                  <a:pt x="144" y="752"/>
                  <a:pt x="144" y="776"/>
                  <a:pt x="248" y="792"/>
                </a:cubicBezTo>
                <a:cubicBezTo>
                  <a:pt x="352" y="808"/>
                  <a:pt x="624" y="808"/>
                  <a:pt x="728" y="792"/>
                </a:cubicBezTo>
                <a:cubicBezTo>
                  <a:pt x="832" y="776"/>
                  <a:pt x="832" y="744"/>
                  <a:pt x="872" y="696"/>
                </a:cubicBezTo>
                <a:cubicBezTo>
                  <a:pt x="912" y="648"/>
                  <a:pt x="960" y="560"/>
                  <a:pt x="968" y="504"/>
                </a:cubicBezTo>
                <a:cubicBezTo>
                  <a:pt x="976" y="448"/>
                  <a:pt x="960" y="416"/>
                  <a:pt x="920" y="360"/>
                </a:cubicBezTo>
                <a:cubicBezTo>
                  <a:pt x="880" y="304"/>
                  <a:pt x="752" y="224"/>
                  <a:pt x="728" y="168"/>
                </a:cubicBezTo>
                <a:cubicBezTo>
                  <a:pt x="704" y="112"/>
                  <a:pt x="872" y="48"/>
                  <a:pt x="776" y="24"/>
                </a:cubicBezTo>
                <a:cubicBezTo>
                  <a:pt x="680" y="0"/>
                  <a:pt x="248" y="8"/>
                  <a:pt x="152" y="24"/>
                </a:cubicBezTo>
                <a:close/>
              </a:path>
            </a:pathLst>
          </a:custGeom>
          <a:solidFill>
            <a:srgbClr val="ff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705720" y="5335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010280" y="228600"/>
            <a:ext cx="0" cy="2133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705720" y="21337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686800" y="228600"/>
            <a:ext cx="0" cy="2133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414000">
            <a:off x="7987320" y="606960"/>
            <a:ext cx="694440" cy="688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90" y="7923"/>
                </a:moveTo>
                <a:arcTo wR="10800" hR="10800" stAng="-9873069" swAng="15826632"/>
                <a:lnTo>
                  <a:pt x="10800" y="10800"/>
                </a:lnTo>
                <a:close/>
              </a:path>
              <a:path fill="none" w="21600" h="21600">
                <a:moveTo>
                  <a:pt x="390" y="7923"/>
                </a:moveTo>
                <a:arcTo wR="10800" hR="10800" stAng="-9873069" swAng="15826632"/>
              </a:path>
            </a:pathLst>
          </a:custGeom>
          <a:noFill/>
          <a:ln w="76320">
            <a:solidFill>
              <a:srgbClr val="ffff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700040" y="1297080"/>
            <a:ext cx="91188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513554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5135547"/>
              </a:path>
            </a:pathLst>
          </a:custGeom>
          <a:noFill/>
          <a:ln w="76320">
            <a:solidFill>
              <a:srgbClr val="ffff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280" y="152280"/>
            <a:ext cx="746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А вот это – посмотри, Выступает цифр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5b"/>
                </a:solidFill>
                <a:latin typeface="Arial"/>
              </a:rPr>
              <a:t>тр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  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Тройка – третий из значков – Состоит из двух крючк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696080" y="3124080"/>
            <a:ext cx="998640" cy="21337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990720" y="4952880"/>
            <a:ext cx="1218960" cy="22860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66680" y="5029200"/>
            <a:ext cx="9907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81080" y="5562720"/>
            <a:ext cx="304920" cy="304560"/>
          </a:xfrm>
          <a:prstGeom prst="ellipse">
            <a:avLst/>
          </a:prstGeom>
          <a:solidFill>
            <a:srgbClr val="f6d6ef"/>
          </a:solidFill>
          <a:ln w="9360">
            <a:solidFill>
              <a:srgbClr val="f6d6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47920" y="3124080"/>
            <a:ext cx="1562040" cy="2006640"/>
          </a:xfrm>
          <a:custGeom>
            <a:avLst/>
            <a:gdLst/>
            <a:ahLst/>
            <a:rect l="l" t="t" r="r" b="b"/>
            <a:pathLst>
              <a:path w="1480" h="2280">
                <a:moveTo>
                  <a:pt x="120" y="392"/>
                </a:moveTo>
                <a:cubicBezTo>
                  <a:pt x="224" y="348"/>
                  <a:pt x="328" y="304"/>
                  <a:pt x="360" y="296"/>
                </a:cubicBezTo>
                <a:cubicBezTo>
                  <a:pt x="392" y="288"/>
                  <a:pt x="336" y="320"/>
                  <a:pt x="312" y="344"/>
                </a:cubicBezTo>
                <a:cubicBezTo>
                  <a:pt x="288" y="368"/>
                  <a:pt x="240" y="416"/>
                  <a:pt x="216" y="440"/>
                </a:cubicBezTo>
                <a:cubicBezTo>
                  <a:pt x="192" y="464"/>
                  <a:pt x="160" y="472"/>
                  <a:pt x="168" y="488"/>
                </a:cubicBezTo>
                <a:cubicBezTo>
                  <a:pt x="176" y="504"/>
                  <a:pt x="224" y="536"/>
                  <a:pt x="264" y="536"/>
                </a:cubicBezTo>
                <a:cubicBezTo>
                  <a:pt x="304" y="536"/>
                  <a:pt x="368" y="528"/>
                  <a:pt x="408" y="488"/>
                </a:cubicBezTo>
                <a:cubicBezTo>
                  <a:pt x="448" y="448"/>
                  <a:pt x="480" y="336"/>
                  <a:pt x="504" y="296"/>
                </a:cubicBezTo>
                <a:cubicBezTo>
                  <a:pt x="528" y="256"/>
                  <a:pt x="512" y="264"/>
                  <a:pt x="552" y="248"/>
                </a:cubicBezTo>
                <a:cubicBezTo>
                  <a:pt x="592" y="232"/>
                  <a:pt x="672" y="192"/>
                  <a:pt x="744" y="200"/>
                </a:cubicBezTo>
                <a:cubicBezTo>
                  <a:pt x="816" y="208"/>
                  <a:pt x="936" y="240"/>
                  <a:pt x="984" y="296"/>
                </a:cubicBezTo>
                <a:cubicBezTo>
                  <a:pt x="1032" y="352"/>
                  <a:pt x="1032" y="472"/>
                  <a:pt x="1032" y="536"/>
                </a:cubicBezTo>
                <a:cubicBezTo>
                  <a:pt x="1032" y="600"/>
                  <a:pt x="1024" y="632"/>
                  <a:pt x="984" y="680"/>
                </a:cubicBezTo>
                <a:cubicBezTo>
                  <a:pt x="944" y="728"/>
                  <a:pt x="856" y="792"/>
                  <a:pt x="792" y="824"/>
                </a:cubicBezTo>
                <a:cubicBezTo>
                  <a:pt x="728" y="856"/>
                  <a:pt x="600" y="856"/>
                  <a:pt x="600" y="872"/>
                </a:cubicBezTo>
                <a:cubicBezTo>
                  <a:pt x="600" y="888"/>
                  <a:pt x="704" y="888"/>
                  <a:pt x="792" y="920"/>
                </a:cubicBezTo>
                <a:cubicBezTo>
                  <a:pt x="880" y="952"/>
                  <a:pt x="1056" y="1008"/>
                  <a:pt x="1128" y="1064"/>
                </a:cubicBezTo>
                <a:cubicBezTo>
                  <a:pt x="1200" y="1120"/>
                  <a:pt x="1208" y="1176"/>
                  <a:pt x="1224" y="1256"/>
                </a:cubicBezTo>
                <a:cubicBezTo>
                  <a:pt x="1240" y="1336"/>
                  <a:pt x="1256" y="1456"/>
                  <a:pt x="1224" y="1544"/>
                </a:cubicBezTo>
                <a:cubicBezTo>
                  <a:pt x="1192" y="1632"/>
                  <a:pt x="1104" y="1728"/>
                  <a:pt x="1032" y="1784"/>
                </a:cubicBezTo>
                <a:cubicBezTo>
                  <a:pt x="960" y="1840"/>
                  <a:pt x="896" y="1864"/>
                  <a:pt x="792" y="1880"/>
                </a:cubicBezTo>
                <a:cubicBezTo>
                  <a:pt x="688" y="1896"/>
                  <a:pt x="512" y="1864"/>
                  <a:pt x="408" y="1880"/>
                </a:cubicBezTo>
                <a:cubicBezTo>
                  <a:pt x="304" y="1896"/>
                  <a:pt x="232" y="1912"/>
                  <a:pt x="168" y="1976"/>
                </a:cubicBezTo>
                <a:cubicBezTo>
                  <a:pt x="104" y="2040"/>
                  <a:pt x="16" y="2248"/>
                  <a:pt x="24" y="2264"/>
                </a:cubicBezTo>
                <a:cubicBezTo>
                  <a:pt x="32" y="2280"/>
                  <a:pt x="112" y="2112"/>
                  <a:pt x="216" y="2072"/>
                </a:cubicBezTo>
                <a:cubicBezTo>
                  <a:pt x="320" y="2032"/>
                  <a:pt x="496" y="2032"/>
                  <a:pt x="648" y="2024"/>
                </a:cubicBezTo>
                <a:cubicBezTo>
                  <a:pt x="800" y="2016"/>
                  <a:pt x="1000" y="2072"/>
                  <a:pt x="1128" y="2024"/>
                </a:cubicBezTo>
                <a:cubicBezTo>
                  <a:pt x="1256" y="1976"/>
                  <a:pt x="1360" y="1880"/>
                  <a:pt x="1416" y="1736"/>
                </a:cubicBezTo>
                <a:cubicBezTo>
                  <a:pt x="1472" y="1592"/>
                  <a:pt x="1480" y="1296"/>
                  <a:pt x="1464" y="1160"/>
                </a:cubicBezTo>
                <a:cubicBezTo>
                  <a:pt x="1448" y="1024"/>
                  <a:pt x="1384" y="976"/>
                  <a:pt x="1320" y="920"/>
                </a:cubicBezTo>
                <a:cubicBezTo>
                  <a:pt x="1256" y="864"/>
                  <a:pt x="1088" y="880"/>
                  <a:pt x="1080" y="824"/>
                </a:cubicBezTo>
                <a:cubicBezTo>
                  <a:pt x="1072" y="768"/>
                  <a:pt x="1248" y="696"/>
                  <a:pt x="1272" y="584"/>
                </a:cubicBezTo>
                <a:cubicBezTo>
                  <a:pt x="1296" y="472"/>
                  <a:pt x="1296" y="248"/>
                  <a:pt x="1224" y="152"/>
                </a:cubicBezTo>
                <a:cubicBezTo>
                  <a:pt x="1152" y="56"/>
                  <a:pt x="960" y="16"/>
                  <a:pt x="840" y="8"/>
                </a:cubicBezTo>
                <a:cubicBezTo>
                  <a:pt x="720" y="0"/>
                  <a:pt x="584" y="96"/>
                  <a:pt x="504" y="104"/>
                </a:cubicBezTo>
                <a:cubicBezTo>
                  <a:pt x="424" y="112"/>
                  <a:pt x="416" y="64"/>
                  <a:pt x="360" y="56"/>
                </a:cubicBezTo>
                <a:cubicBezTo>
                  <a:pt x="304" y="48"/>
                  <a:pt x="224" y="32"/>
                  <a:pt x="168" y="56"/>
                </a:cubicBezTo>
                <a:cubicBezTo>
                  <a:pt x="112" y="80"/>
                  <a:pt x="48" y="136"/>
                  <a:pt x="24" y="200"/>
                </a:cubicBezTo>
                <a:cubicBezTo>
                  <a:pt x="0" y="264"/>
                  <a:pt x="0" y="416"/>
                  <a:pt x="24" y="440"/>
                </a:cubicBezTo>
                <a:cubicBezTo>
                  <a:pt x="48" y="464"/>
                  <a:pt x="144" y="360"/>
                  <a:pt x="168" y="344"/>
                </a:cubicBezTo>
              </a:path>
            </a:pathLst>
          </a:custGeom>
          <a:solidFill>
            <a:srgbClr val="c0c0c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600200" y="3352680"/>
            <a:ext cx="228600" cy="22860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0" y="192"/>
                </a:moveTo>
                <a:cubicBezTo>
                  <a:pt x="32" y="136"/>
                  <a:pt x="64" y="80"/>
                  <a:pt x="96" y="48"/>
                </a:cubicBezTo>
                <a:cubicBezTo>
                  <a:pt x="128" y="16"/>
                  <a:pt x="160" y="8"/>
                  <a:pt x="192" y="0"/>
                </a:cubicBezTo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19320" y="3429000"/>
            <a:ext cx="533160" cy="304920"/>
          </a:xfrm>
          <a:custGeom>
            <a:avLst/>
            <a:gdLst/>
            <a:ahLst/>
            <a:rect l="l" t="t" r="r" b="b"/>
            <a:pathLst>
              <a:path w="336" h="336">
                <a:moveTo>
                  <a:pt x="336" y="0"/>
                </a:moveTo>
                <a:cubicBezTo>
                  <a:pt x="300" y="8"/>
                  <a:pt x="264" y="16"/>
                  <a:pt x="240" y="48"/>
                </a:cubicBezTo>
                <a:cubicBezTo>
                  <a:pt x="216" y="80"/>
                  <a:pt x="224" y="160"/>
                  <a:pt x="192" y="192"/>
                </a:cubicBezTo>
                <a:cubicBezTo>
                  <a:pt x="160" y="224"/>
                  <a:pt x="80" y="216"/>
                  <a:pt x="48" y="240"/>
                </a:cubicBezTo>
                <a:cubicBezTo>
                  <a:pt x="16" y="264"/>
                  <a:pt x="8" y="320"/>
                  <a:pt x="0" y="336"/>
                </a:cubicBezTo>
              </a:path>
            </a:pathLst>
          </a:custGeom>
          <a:noFill/>
          <a:ln w="284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95280" y="365760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48"/>
                </a:moveTo>
                <a:cubicBezTo>
                  <a:pt x="28" y="28"/>
                  <a:pt x="8" y="8"/>
                  <a:pt x="0" y="0"/>
                </a:cubicBezTo>
              </a:path>
            </a:pathLst>
          </a:custGeom>
          <a:noFill/>
          <a:ln w="284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600200" y="3200400"/>
            <a:ext cx="76320" cy="76320"/>
          </a:xfrm>
          <a:prstGeom prst="ellipse">
            <a:avLst/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3124080"/>
            <a:ext cx="76320" cy="152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600200" y="3124080"/>
            <a:ext cx="76320" cy="7632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666880" y="327672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17984400">
            <a:off x="2170080" y="3158640"/>
            <a:ext cx="152280" cy="763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6125400">
            <a:off x="2442240" y="3165840"/>
            <a:ext cx="152280" cy="74880"/>
          </a:xfrm>
          <a:prstGeom prst="triangle">
            <a:avLst>
              <a:gd name="adj" fmla="val 2497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90920" y="358128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14600" y="472428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819520" y="396252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819520" y="4419720"/>
            <a:ext cx="152280" cy="152280"/>
          </a:xfrm>
          <a:prstGeom prst="triangle">
            <a:avLst>
              <a:gd name="adj" fmla="val 791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rcRect l="0" t="0" r="0" b="4166"/>
          <a:stretch/>
        </p:blipFill>
        <p:spPr>
          <a:xfrm>
            <a:off x="3124080" y="3886200"/>
            <a:ext cx="1970280" cy="19810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rcRect l="0" t="0" r="0" b="4166"/>
          <a:stretch/>
        </p:blipFill>
        <p:spPr>
          <a:xfrm>
            <a:off x="5486400" y="3200400"/>
            <a:ext cx="1704960" cy="19051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4648320" y="4572000"/>
            <a:ext cx="155880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200"/>
                            </p:stCondLst>
                            <p:childTnLst>
                              <p:par>
                                <p:cTn id="423" nodeType="after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705720" y="5335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010280" y="228600"/>
            <a:ext cx="0" cy="2133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05720" y="21337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686800" y="228600"/>
            <a:ext cx="0" cy="2133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7848720" y="533520"/>
            <a:ext cx="380880" cy="91440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48720" y="1447920"/>
            <a:ext cx="60948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8153280" y="838080"/>
            <a:ext cx="533520" cy="129564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28600" y="152280"/>
            <a:ext cx="6324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5b"/>
                </a:solidFill>
                <a:latin typeface="Arial"/>
              </a:rPr>
              <a:t>Цифра новая – 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четыре</a:t>
            </a:r>
            <a:r>
              <a:rPr b="1" lang="en-US" sz="4000" spc="-1" strike="noStrike">
                <a:solidFill>
                  <a:srgbClr val="ffff5b"/>
                </a:solidFill>
                <a:latin typeface="Arial"/>
              </a:rPr>
              <a:t>.  Стол стоит  у нас в квартире,             Сколько ножек у него – У стола у твоег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3962520"/>
            <a:ext cx="41148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62120" y="4191120"/>
            <a:ext cx="228600" cy="19047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809880" y="4191120"/>
            <a:ext cx="228600" cy="19047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90720" y="5105520"/>
            <a:ext cx="2819160" cy="1522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03040" y="3962520"/>
            <a:ext cx="4673880" cy="546120"/>
          </a:xfrm>
          <a:custGeom>
            <a:avLst/>
            <a:gdLst/>
            <a:ahLst/>
            <a:rect l="l" t="t" r="r" b="b"/>
            <a:pathLst>
              <a:path w="2912" h="344">
                <a:moveTo>
                  <a:pt x="112" y="0"/>
                </a:moveTo>
                <a:cubicBezTo>
                  <a:pt x="72" y="96"/>
                  <a:pt x="32" y="192"/>
                  <a:pt x="16" y="240"/>
                </a:cubicBezTo>
                <a:cubicBezTo>
                  <a:pt x="0" y="288"/>
                  <a:pt x="0" y="296"/>
                  <a:pt x="16" y="288"/>
                </a:cubicBezTo>
                <a:cubicBezTo>
                  <a:pt x="32" y="280"/>
                  <a:pt x="80" y="192"/>
                  <a:pt x="112" y="192"/>
                </a:cubicBezTo>
                <a:cubicBezTo>
                  <a:pt x="144" y="192"/>
                  <a:pt x="168" y="288"/>
                  <a:pt x="208" y="288"/>
                </a:cubicBezTo>
                <a:cubicBezTo>
                  <a:pt x="248" y="288"/>
                  <a:pt x="304" y="200"/>
                  <a:pt x="352" y="192"/>
                </a:cubicBezTo>
                <a:cubicBezTo>
                  <a:pt x="400" y="184"/>
                  <a:pt x="440" y="240"/>
                  <a:pt x="496" y="240"/>
                </a:cubicBezTo>
                <a:cubicBezTo>
                  <a:pt x="552" y="240"/>
                  <a:pt x="632" y="184"/>
                  <a:pt x="688" y="192"/>
                </a:cubicBezTo>
                <a:cubicBezTo>
                  <a:pt x="744" y="200"/>
                  <a:pt x="784" y="288"/>
                  <a:pt x="832" y="288"/>
                </a:cubicBezTo>
                <a:cubicBezTo>
                  <a:pt x="880" y="288"/>
                  <a:pt x="928" y="192"/>
                  <a:pt x="976" y="192"/>
                </a:cubicBezTo>
                <a:cubicBezTo>
                  <a:pt x="1024" y="192"/>
                  <a:pt x="1072" y="288"/>
                  <a:pt x="1120" y="288"/>
                </a:cubicBezTo>
                <a:cubicBezTo>
                  <a:pt x="1168" y="288"/>
                  <a:pt x="1216" y="192"/>
                  <a:pt x="1264" y="192"/>
                </a:cubicBezTo>
                <a:cubicBezTo>
                  <a:pt x="1312" y="192"/>
                  <a:pt x="1352" y="288"/>
                  <a:pt x="1408" y="288"/>
                </a:cubicBezTo>
                <a:cubicBezTo>
                  <a:pt x="1464" y="288"/>
                  <a:pt x="1536" y="192"/>
                  <a:pt x="1600" y="192"/>
                </a:cubicBezTo>
                <a:cubicBezTo>
                  <a:pt x="1664" y="192"/>
                  <a:pt x="1736" y="288"/>
                  <a:pt x="1792" y="288"/>
                </a:cubicBezTo>
                <a:cubicBezTo>
                  <a:pt x="1848" y="288"/>
                  <a:pt x="1888" y="192"/>
                  <a:pt x="1936" y="192"/>
                </a:cubicBezTo>
                <a:cubicBezTo>
                  <a:pt x="1984" y="192"/>
                  <a:pt x="2032" y="296"/>
                  <a:pt x="2080" y="288"/>
                </a:cubicBezTo>
                <a:cubicBezTo>
                  <a:pt x="2128" y="280"/>
                  <a:pt x="2160" y="136"/>
                  <a:pt x="2224" y="144"/>
                </a:cubicBezTo>
                <a:cubicBezTo>
                  <a:pt x="2288" y="152"/>
                  <a:pt x="2400" y="328"/>
                  <a:pt x="2464" y="336"/>
                </a:cubicBezTo>
                <a:cubicBezTo>
                  <a:pt x="2528" y="344"/>
                  <a:pt x="2560" y="200"/>
                  <a:pt x="2608" y="192"/>
                </a:cubicBezTo>
                <a:cubicBezTo>
                  <a:pt x="2656" y="184"/>
                  <a:pt x="2704" y="272"/>
                  <a:pt x="2752" y="288"/>
                </a:cubicBezTo>
                <a:cubicBezTo>
                  <a:pt x="2800" y="304"/>
                  <a:pt x="2912" y="336"/>
                  <a:pt x="2896" y="288"/>
                </a:cubicBezTo>
                <a:cubicBezTo>
                  <a:pt x="2880" y="240"/>
                  <a:pt x="2696" y="48"/>
                  <a:pt x="2656" y="0"/>
                </a:cubicBezTo>
              </a:path>
            </a:pathLst>
          </a:custGeom>
          <a:solidFill>
            <a:srgbClr val="333399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715000" y="4343400"/>
            <a:ext cx="2057400" cy="1981080"/>
          </a:xfrm>
          <a:prstGeom prst="ellipse">
            <a:avLst/>
          </a:prstGeom>
          <a:solidFill>
            <a:srgbClr val="21cd25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781680" y="5410080"/>
            <a:ext cx="304920" cy="30492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24480" y="5410080"/>
            <a:ext cx="304920" cy="30492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324480" y="4952880"/>
            <a:ext cx="304920" cy="30492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781680" y="4952880"/>
            <a:ext cx="304920" cy="30492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 rot="18088800">
            <a:off x="7293600" y="2840400"/>
            <a:ext cx="1461960" cy="14191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 rot="3100200">
            <a:off x="5464800" y="2459520"/>
            <a:ext cx="146232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9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0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1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2960"/>
                            </p:stCondLst>
                            <p:childTnLst>
                              <p:par>
                                <p:cTn id="52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5960"/>
                            </p:stCondLst>
                            <p:childTnLst>
                              <p:par>
                                <p:cTn id="5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6705720" y="5335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010280" y="228600"/>
            <a:ext cx="0" cy="2133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705720" y="21337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686800" y="228600"/>
            <a:ext cx="0" cy="2133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8076960" y="533520"/>
            <a:ext cx="152280" cy="609480"/>
          </a:xfrm>
          <a:prstGeom prst="line">
            <a:avLst/>
          </a:prstGeom>
          <a:ln w="763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771600">
            <a:off x="7821360" y="1055880"/>
            <a:ext cx="788040" cy="1066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267" y="2200"/>
                </a:moveTo>
                <a:arcTo wR="10800" hR="10800" stAng="-7633479" swAng="16131244"/>
                <a:lnTo>
                  <a:pt x="10800" y="10800"/>
                </a:lnTo>
                <a:close/>
              </a:path>
              <a:path fill="none" w="21600" h="21600">
                <a:moveTo>
                  <a:pt x="4267" y="2200"/>
                </a:moveTo>
                <a:arcTo wR="10800" hR="10800" stAng="-7633479" swAng="16131244"/>
              </a:path>
            </a:pathLst>
          </a:custGeom>
          <a:noFill/>
          <a:ln w="763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5400000">
            <a:off x="8267760" y="340920"/>
            <a:ext cx="304200" cy="384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346" y="111"/>
                </a:moveTo>
                <a:arcTo wR="10800" hR="10800" stAng="-4906208" swAng="9773543"/>
                <a:lnTo>
                  <a:pt x="10800" y="10800"/>
                </a:lnTo>
                <a:close/>
              </a:path>
              <a:path fill="none" w="21600" h="21600">
                <a:moveTo>
                  <a:pt x="12346" y="111"/>
                </a:moveTo>
                <a:arcTo wR="10800" hR="10800" stAng="-4906208" swAng="9773543"/>
              </a:path>
            </a:pathLst>
          </a:custGeom>
          <a:noFill/>
          <a:ln w="763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152280"/>
            <a:ext cx="6934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А вот это – цифра </a:t>
            </a:r>
            <a:r>
              <a:rPr b="1" lang="en-US" sz="4000" spc="-1" strike="noStrike">
                <a:solidFill>
                  <a:srgbClr val="21cd25"/>
                </a:solidFill>
                <a:latin typeface="Arial"/>
              </a:rPr>
              <a:t>пять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! До пяти легко считать. Каждый пальчик подержи, Цифру пальчиком скаж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858000" y="2743200"/>
            <a:ext cx="1752480" cy="1676520"/>
          </a:xfrm>
          <a:prstGeom prst="star5">
            <a:avLst/>
          </a:prstGeom>
          <a:solidFill>
            <a:srgbClr val="fc082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>
            <a:lum bright="-6000"/>
          </a:blip>
          <a:srcRect l="0" t="0" r="5480" b="5457"/>
          <a:stretch/>
        </p:blipFill>
        <p:spPr>
          <a:xfrm>
            <a:off x="1066680" y="3809880"/>
            <a:ext cx="2133720" cy="26672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3809880" y="4114800"/>
            <a:ext cx="3733920" cy="22701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04920" y="289548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5b"/>
                </a:solidFill>
                <a:latin typeface="Arial"/>
              </a:rPr>
              <a:t>1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fc082b"/>
                </a:solidFill>
                <a:latin typeface="Arial"/>
              </a:rPr>
              <a:t>3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9900ff"/>
                </a:solidFill>
                <a:latin typeface="Arial"/>
              </a:rPr>
              <a:t>4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21cd25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0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1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3160"/>
                            </p:stCondLst>
                            <p:childTnLst>
                              <p:par>
                                <p:cTn id="5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160"/>
                            </p:stCondLst>
                            <p:childTnLst>
                              <p:par>
                                <p:cTn id="570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2" dur="2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3" dur="2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4" dur="2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2160"/>
                            </p:stCondLst>
                            <p:childTnLst>
                              <p:par>
                                <p:cTn id="57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 rot="17556600">
            <a:off x="4568760" y="2822400"/>
            <a:ext cx="1060560" cy="1358640"/>
          </a:xfrm>
          <a:custGeom>
            <a:avLst/>
            <a:gdLst/>
            <a:ahLst/>
            <a:rect l="l" t="t" r="r" b="b"/>
            <a:pathLst>
              <a:path w="912" h="1712">
                <a:moveTo>
                  <a:pt x="912" y="40"/>
                </a:moveTo>
                <a:cubicBezTo>
                  <a:pt x="912" y="0"/>
                  <a:pt x="584" y="440"/>
                  <a:pt x="432" y="712"/>
                </a:cubicBezTo>
                <a:cubicBezTo>
                  <a:pt x="280" y="984"/>
                  <a:pt x="0" y="1632"/>
                  <a:pt x="0" y="1672"/>
                </a:cubicBezTo>
                <a:cubicBezTo>
                  <a:pt x="0" y="1712"/>
                  <a:pt x="280" y="1224"/>
                  <a:pt x="432" y="952"/>
                </a:cubicBezTo>
                <a:cubicBezTo>
                  <a:pt x="584" y="680"/>
                  <a:pt x="912" y="80"/>
                  <a:pt x="912" y="40"/>
                </a:cubicBezTo>
                <a:close/>
              </a:path>
            </a:pathLst>
          </a:custGeom>
          <a:solidFill>
            <a:srgbClr val="008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257800" y="2895480"/>
            <a:ext cx="762120" cy="1359000"/>
          </a:xfrm>
          <a:custGeom>
            <a:avLst/>
            <a:gdLst/>
            <a:ahLst/>
            <a:rect l="l" t="t" r="r" b="b"/>
            <a:pathLst>
              <a:path w="912" h="1712">
                <a:moveTo>
                  <a:pt x="912" y="40"/>
                </a:moveTo>
                <a:cubicBezTo>
                  <a:pt x="912" y="0"/>
                  <a:pt x="584" y="440"/>
                  <a:pt x="432" y="712"/>
                </a:cubicBezTo>
                <a:cubicBezTo>
                  <a:pt x="280" y="984"/>
                  <a:pt x="0" y="1632"/>
                  <a:pt x="0" y="1672"/>
                </a:cubicBezTo>
                <a:cubicBezTo>
                  <a:pt x="0" y="1712"/>
                  <a:pt x="280" y="1224"/>
                  <a:pt x="432" y="952"/>
                </a:cubicBezTo>
                <a:cubicBezTo>
                  <a:pt x="584" y="680"/>
                  <a:pt x="912" y="80"/>
                  <a:pt x="912" y="40"/>
                </a:cubicBezTo>
                <a:close/>
              </a:path>
            </a:pathLst>
          </a:custGeom>
          <a:solidFill>
            <a:srgbClr val="008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696080" y="2743200"/>
            <a:ext cx="762120" cy="1359000"/>
          </a:xfrm>
          <a:custGeom>
            <a:avLst/>
            <a:gdLst/>
            <a:ahLst/>
            <a:rect l="l" t="t" r="r" b="b"/>
            <a:pathLst>
              <a:path w="912" h="1712">
                <a:moveTo>
                  <a:pt x="912" y="40"/>
                </a:moveTo>
                <a:cubicBezTo>
                  <a:pt x="912" y="0"/>
                  <a:pt x="584" y="440"/>
                  <a:pt x="432" y="712"/>
                </a:cubicBezTo>
                <a:cubicBezTo>
                  <a:pt x="280" y="984"/>
                  <a:pt x="0" y="1632"/>
                  <a:pt x="0" y="1672"/>
                </a:cubicBezTo>
                <a:cubicBezTo>
                  <a:pt x="0" y="1712"/>
                  <a:pt x="280" y="1224"/>
                  <a:pt x="432" y="952"/>
                </a:cubicBezTo>
                <a:cubicBezTo>
                  <a:pt x="584" y="680"/>
                  <a:pt x="912" y="80"/>
                  <a:pt x="912" y="40"/>
                </a:cubicBezTo>
                <a:close/>
              </a:path>
            </a:pathLst>
          </a:custGeom>
          <a:solidFill>
            <a:srgbClr val="008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705720" y="5335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010280" y="228600"/>
            <a:ext cx="0" cy="2133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705720" y="21337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686800" y="228600"/>
            <a:ext cx="0" cy="2133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 rot="430800">
            <a:off x="7814880" y="536400"/>
            <a:ext cx="923400" cy="2422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822" y="1805"/>
                </a:moveTo>
                <a:arcTo wR="10800" hR="10800" stAng="-7416398" swAng="6846076"/>
                <a:lnTo>
                  <a:pt x="10800" y="10800"/>
                </a:lnTo>
                <a:close/>
              </a:path>
              <a:path fill="none" w="21600" h="21600">
                <a:moveTo>
                  <a:pt x="4822" y="1805"/>
                </a:moveTo>
                <a:arcTo wR="10800" hR="10800" stAng="-7416398" swAng="6846076"/>
              </a:path>
            </a:pathLst>
          </a:cu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732000">
            <a:off x="7830720" y="1139400"/>
            <a:ext cx="760320" cy="1003320"/>
          </a:xfrm>
          <a:prstGeom prst="ellipse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0880" y="152280"/>
            <a:ext cx="6629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4cf17"/>
                </a:solidFill>
                <a:latin typeface="Arial"/>
              </a:rPr>
              <a:t>Цифра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шесть</a:t>
            </a:r>
            <a:r>
              <a:rPr b="1" lang="en-US" sz="4000" spc="-1" strike="noStrike">
                <a:solidFill>
                  <a:srgbClr val="24cf17"/>
                </a:solidFill>
                <a:latin typeface="Arial"/>
              </a:rPr>
              <a:t> –     дверной замочек:                   Сверху крюк,            внизу кружоче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743200" y="3505320"/>
            <a:ext cx="304920" cy="297180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876920" y="3505320"/>
            <a:ext cx="304560" cy="297180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48120" y="3657600"/>
            <a:ext cx="1828800" cy="28195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429000" y="3657600"/>
            <a:ext cx="7632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809880" y="3657600"/>
            <a:ext cx="15264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4190760" y="3657600"/>
            <a:ext cx="7596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0" y="3657600"/>
            <a:ext cx="7632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800600" y="3886200"/>
            <a:ext cx="1522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800600" y="5715000"/>
            <a:ext cx="1522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800600" y="5791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962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48320" y="3962520"/>
            <a:ext cx="152280" cy="75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48320" y="5791320"/>
            <a:ext cx="152280" cy="75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rcRect l="0" t="0" r="44188" b="0"/>
          <a:stretch/>
        </p:blipFill>
        <p:spPr>
          <a:xfrm>
            <a:off x="5105520" y="3200400"/>
            <a:ext cx="3124080" cy="32511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rcRect l="9528" t="0" r="44188" b="0"/>
          <a:stretch/>
        </p:blipFill>
        <p:spPr>
          <a:xfrm>
            <a:off x="152280" y="3200400"/>
            <a:ext cx="2590920" cy="32511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2895480" y="4800600"/>
            <a:ext cx="609840" cy="609480"/>
          </a:xfrm>
          <a:prstGeom prst="ellipse">
            <a:avLst/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971800" y="4876920"/>
            <a:ext cx="457200" cy="4572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124080" y="49528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124080" y="502920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895480" y="4343400"/>
            <a:ext cx="381240" cy="15228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71800" y="4343400"/>
            <a:ext cx="685800" cy="533520"/>
          </a:xfrm>
          <a:custGeom>
            <a:avLst/>
            <a:gdLst/>
            <a:ahLst/>
            <a:rect l="l" t="t" r="r" b="b"/>
            <a:pathLst>
              <a:path w="432" h="336">
                <a:moveTo>
                  <a:pt x="0" y="336"/>
                </a:moveTo>
                <a:cubicBezTo>
                  <a:pt x="40" y="216"/>
                  <a:pt x="80" y="96"/>
                  <a:pt x="144" y="48"/>
                </a:cubicBezTo>
                <a:cubicBezTo>
                  <a:pt x="208" y="0"/>
                  <a:pt x="336" y="24"/>
                  <a:pt x="384" y="48"/>
                </a:cubicBezTo>
                <a:cubicBezTo>
                  <a:pt x="432" y="72"/>
                  <a:pt x="432" y="160"/>
                  <a:pt x="432" y="192"/>
                </a:cubicBezTo>
                <a:cubicBezTo>
                  <a:pt x="432" y="224"/>
                  <a:pt x="400" y="248"/>
                  <a:pt x="384" y="240"/>
                </a:cubicBezTo>
                <a:cubicBezTo>
                  <a:pt x="368" y="232"/>
                  <a:pt x="352" y="168"/>
                  <a:pt x="336" y="144"/>
                </a:cubicBezTo>
                <a:cubicBezTo>
                  <a:pt x="320" y="120"/>
                  <a:pt x="312" y="104"/>
                  <a:pt x="288" y="96"/>
                </a:cubicBezTo>
                <a:cubicBezTo>
                  <a:pt x="264" y="88"/>
                  <a:pt x="224" y="64"/>
                  <a:pt x="192" y="96"/>
                </a:cubicBezTo>
                <a:cubicBezTo>
                  <a:pt x="160" y="128"/>
                  <a:pt x="112" y="256"/>
                  <a:pt x="96" y="288"/>
                </a:cubicBezTo>
              </a:path>
            </a:pathLst>
          </a:custGeom>
          <a:solidFill>
            <a:srgbClr val="80808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276720" y="4191120"/>
            <a:ext cx="152280" cy="45720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4952880" y="5562720"/>
            <a:ext cx="976320" cy="1128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4"/>
          <a:stretch/>
        </p:blipFill>
        <p:spPr>
          <a:xfrm>
            <a:off x="349200" y="5410080"/>
            <a:ext cx="1108080" cy="128124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5"/>
          <a:stretch/>
        </p:blipFill>
        <p:spPr>
          <a:xfrm>
            <a:off x="5943600" y="4800600"/>
            <a:ext cx="1501920" cy="17384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6"/>
          <a:stretch/>
        </p:blipFill>
        <p:spPr>
          <a:xfrm>
            <a:off x="3581280" y="5105520"/>
            <a:ext cx="1305000" cy="15094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7"/>
          <a:stretch/>
        </p:blipFill>
        <p:spPr>
          <a:xfrm>
            <a:off x="1371600" y="5181480"/>
            <a:ext cx="1362240" cy="150984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8"/>
          <a:stretch/>
        </p:blipFill>
        <p:spPr>
          <a:xfrm>
            <a:off x="7391520" y="5410080"/>
            <a:ext cx="1295280" cy="135756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9"/>
          <a:stretch/>
        </p:blipFill>
        <p:spPr>
          <a:xfrm>
            <a:off x="4952880" y="2666880"/>
            <a:ext cx="914400" cy="7938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10"/>
          <a:stretch/>
        </p:blipFill>
        <p:spPr>
          <a:xfrm>
            <a:off x="5715000" y="2057400"/>
            <a:ext cx="914400" cy="7938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11"/>
          <a:stretch/>
        </p:blipFill>
        <p:spPr>
          <a:xfrm>
            <a:off x="5791320" y="3276720"/>
            <a:ext cx="914400" cy="7938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12"/>
          <a:stretch/>
        </p:blipFill>
        <p:spPr>
          <a:xfrm>
            <a:off x="6477120" y="2590920"/>
            <a:ext cx="914400" cy="7938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13"/>
          <a:stretch/>
        </p:blipFill>
        <p:spPr>
          <a:xfrm>
            <a:off x="7238880" y="2971800"/>
            <a:ext cx="914400" cy="7938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14"/>
          <a:stretch/>
        </p:blipFill>
        <p:spPr>
          <a:xfrm>
            <a:off x="8001000" y="3352680"/>
            <a:ext cx="914400" cy="7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0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6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7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080"/>
                            </p:stCondLst>
                            <p:childTnLst>
                              <p:par>
                                <p:cTn id="590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5580"/>
                            </p:stCondLst>
                            <p:childTnLst>
                              <p:par>
                                <p:cTn id="5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6580"/>
                            </p:stCondLst>
                            <p:childTnLst>
                              <p:par>
                                <p:cTn id="5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7580"/>
                            </p:stCondLst>
                            <p:childTnLst>
                              <p:par>
                                <p:cTn id="6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8580"/>
                            </p:stCondLst>
                            <p:childTnLst>
                              <p:par>
                                <p:cTn id="6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9580"/>
                            </p:stCondLst>
                            <p:childTnLst>
                              <p:par>
                                <p:cTn id="6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0580"/>
                            </p:stCondLst>
                            <p:childTnLst>
                              <p:par>
                                <p:cTn id="614" nodeType="after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15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6" nodeType="with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17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8" nodeType="with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19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0" nodeType="with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1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2" nodeType="with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3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4" nodeType="with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5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6705720" y="5335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010280" y="228600"/>
            <a:ext cx="0" cy="2133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705720" y="21337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686800" y="228600"/>
            <a:ext cx="0" cy="2133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772400" y="520560"/>
            <a:ext cx="977760" cy="1613160"/>
          </a:xfrm>
          <a:custGeom>
            <a:avLst/>
            <a:gdLst/>
            <a:ahLst/>
            <a:rect l="l" t="t" r="r" b="b"/>
            <a:pathLst>
              <a:path w="616" h="1016">
                <a:moveTo>
                  <a:pt x="0" y="104"/>
                </a:moveTo>
                <a:cubicBezTo>
                  <a:pt x="24" y="56"/>
                  <a:pt x="48" y="8"/>
                  <a:pt x="96" y="8"/>
                </a:cubicBezTo>
                <a:cubicBezTo>
                  <a:pt x="144" y="8"/>
                  <a:pt x="208" y="104"/>
                  <a:pt x="288" y="104"/>
                </a:cubicBezTo>
                <a:cubicBezTo>
                  <a:pt x="368" y="104"/>
                  <a:pt x="536" y="16"/>
                  <a:pt x="576" y="8"/>
                </a:cubicBezTo>
                <a:cubicBezTo>
                  <a:pt x="616" y="0"/>
                  <a:pt x="560" y="0"/>
                  <a:pt x="528" y="56"/>
                </a:cubicBezTo>
                <a:cubicBezTo>
                  <a:pt x="496" y="112"/>
                  <a:pt x="464" y="184"/>
                  <a:pt x="384" y="344"/>
                </a:cubicBezTo>
                <a:cubicBezTo>
                  <a:pt x="304" y="504"/>
                  <a:pt x="104" y="904"/>
                  <a:pt x="48" y="1016"/>
                </a:cubicBezTo>
              </a:path>
            </a:pathLst>
          </a:custGeom>
          <a:noFill/>
          <a:ln w="76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848720" y="1447920"/>
            <a:ext cx="60948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52280" y="152280"/>
            <a:ext cx="617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от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семёрк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– кочерга. У неё одна ног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52280" y="1523880"/>
            <a:ext cx="6934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Сем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– точно острая коса.                         Коси, коса, пока остр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rcRect l="0" t="0" r="0" b="6025"/>
          <a:stretch/>
        </p:blipFill>
        <p:spPr>
          <a:xfrm>
            <a:off x="-152280" y="4481640"/>
            <a:ext cx="9524880" cy="23763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121200" y="3352680"/>
            <a:ext cx="1908000" cy="29149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6477120" y="4343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 rot="443400">
            <a:off x="3048120" y="2590920"/>
            <a:ext cx="2790720" cy="36576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6705720" y="2590920"/>
            <a:ext cx="1066680" cy="99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2666880"/>
            <a:ext cx="990720" cy="1143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324480" y="3733920"/>
            <a:ext cx="533520" cy="533160"/>
          </a:xfrm>
          <a:custGeom>
            <a:avLst/>
            <a:gdLst>
              <a:gd name="textAreaLeft" fmla="*/ 219960 w 533520"/>
              <a:gd name="textAreaRight" fmla="*/ 313560 w 53352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019920" y="2743200"/>
            <a:ext cx="533160" cy="533520"/>
          </a:xfrm>
          <a:custGeom>
            <a:avLst/>
            <a:gdLst>
              <a:gd name="textAreaLeft" fmla="*/ 219600 w 533160"/>
              <a:gd name="textAreaRight" fmla="*/ 313560 w 533160"/>
              <a:gd name="textAreaTop" fmla="*/ 219960 h 533520"/>
              <a:gd name="textAreaBottom" fmla="*/ 313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c082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772400" y="4038480"/>
            <a:ext cx="533520" cy="533520"/>
          </a:xfrm>
          <a:custGeom>
            <a:avLst/>
            <a:gdLst>
              <a:gd name="textAreaLeft" fmla="*/ 219960 w 533520"/>
              <a:gd name="textAreaRight" fmla="*/ 313560 w 533520"/>
              <a:gd name="textAreaTop" fmla="*/ 219960 h 533520"/>
              <a:gd name="textAreaBottom" fmla="*/ 313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305920" y="3276720"/>
            <a:ext cx="533160" cy="533160"/>
          </a:xfrm>
          <a:custGeom>
            <a:avLst/>
            <a:gdLst>
              <a:gd name="textAreaLeft" fmla="*/ 219600 w 533160"/>
              <a:gd name="textAreaRight" fmla="*/ 313560 w 53316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162920" y="3657600"/>
            <a:ext cx="533160" cy="533520"/>
          </a:xfrm>
          <a:custGeom>
            <a:avLst/>
            <a:gdLst>
              <a:gd name="textAreaLeft" fmla="*/ 219600 w 533160"/>
              <a:gd name="textAreaRight" fmla="*/ 313560 w 533160"/>
              <a:gd name="textAreaTop" fmla="*/ 219960 h 533520"/>
              <a:gd name="textAreaBottom" fmla="*/ 313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153280" y="2514600"/>
            <a:ext cx="533520" cy="533520"/>
          </a:xfrm>
          <a:custGeom>
            <a:avLst/>
            <a:gdLst>
              <a:gd name="textAreaLeft" fmla="*/ 219960 w 533520"/>
              <a:gd name="textAreaRight" fmla="*/ 313560 w 533520"/>
              <a:gd name="textAreaTop" fmla="*/ 219960 h 533520"/>
              <a:gd name="textAreaBottom" fmla="*/ 313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543800" y="2819520"/>
            <a:ext cx="533520" cy="533160"/>
          </a:xfrm>
          <a:custGeom>
            <a:avLst/>
            <a:gdLst>
              <a:gd name="textAreaLeft" fmla="*/ 219960 w 533520"/>
              <a:gd name="textAreaRight" fmla="*/ 313560 w 53352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4"/>
          <a:stretch/>
        </p:blipFill>
        <p:spPr>
          <a:xfrm>
            <a:off x="1066680" y="4572000"/>
            <a:ext cx="1216080" cy="140004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4572000" y="35053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0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2" dur="8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3" dur="8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4" dur="8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320"/>
                            </p:stCondLst>
                            <p:childTnLst>
                              <p:par>
                                <p:cTn id="636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8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9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0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4500"/>
                            </p:stCondLst>
                            <p:childTnLst>
                              <p:par>
                                <p:cTn id="642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4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7500"/>
                            </p:stCondLst>
                            <p:childTnLst>
                              <p:par>
                                <p:cTn id="6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9500"/>
                            </p:stCondLst>
                            <p:childTnLst>
                              <p:par>
                                <p:cTn id="6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1500"/>
                            </p:stCondLst>
                            <p:childTnLst>
                              <p:par>
                                <p:cTn id="6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13500"/>
                            </p:stCondLst>
                            <p:childTnLst>
                              <p:par>
                                <p:cTn id="6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15500"/>
                            </p:stCondLst>
                            <p:childTnLst>
                              <p:par>
                                <p:cTn id="6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17500"/>
                            </p:stCondLst>
                            <p:childTnLst>
                              <p:par>
                                <p:cTn id="6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19500"/>
                            </p:stCondLst>
                            <p:childTnLst>
                              <p:par>
                                <p:cTn id="6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21500"/>
                            </p:stCondLst>
                            <p:childTnLst>
                              <p:par>
                                <p:cTn id="6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2T10:27:09Z</dcterms:created>
  <dc:creator>Андрей</dc:creator>
  <dc:description/>
  <dc:language>en-US</dc:language>
  <cp:lastModifiedBy>Андрей</cp:lastModifiedBy>
  <dcterms:modified xsi:type="dcterms:W3CDTF">2008-10-12T10:27:09Z</dcterms:modified>
  <cp:revision>1</cp:revision>
  <dc:subject/>
  <dc:title>Слайд 1</dc:title>
</cp:coreProperties>
</file>