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5.gif" ContentType="image/gif"/>
  <Override PartName="/ppt/media/image25.gif" ContentType="image/gif"/>
  <Override PartName="/ppt/media/image18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9.png" ContentType="image/png"/>
  <Override PartName="/ppt/media/image8.png" ContentType="image/png"/>
  <Override PartName="/ppt/media/image11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31.png" ContentType="image/png"/>
  <Override PartName="/ppt/media/image6.wmf" ContentType="image/x-wmf"/>
  <Override PartName="/ppt/media/image12.png" ContentType="image/png"/>
  <Override PartName="/ppt/media/image34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5.png" ContentType="image/png"/>
  <Override PartName="/ppt/media/image17.png" ContentType="image/pn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345-FEB0-4852-B44F-DDA00894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F31-1573-478C-AA1A-1FE0E848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109-EDE7-4972-B25B-3742A4F1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F91-A15D-4DB1-95E3-2191050C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BAF-A792-4E1A-BCD2-A2B6D9A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BC3-C4A0-48EC-AC21-9A068D1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CC9-7A3C-493E-B841-F6FE6164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9C0-EAA6-45E1-83BB-049EFF7D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3B2-F4BB-4336-91B3-4824EE9D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A25-B64E-46B5-890B-37C2FC1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19D-567F-48D2-8AF4-C17CFE3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BD1-A4A1-4A36-8771-3388B62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D88-B076-4738-9DF9-7EF78C736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9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380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4dc14d"/>
              </a:gs>
              <a:gs pos="50000">
                <a:srgbClr val="66ff66"/>
              </a:gs>
              <a:gs pos="100000">
                <a:srgbClr val="4dc1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838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8e"/>
              </a:gs>
              <a:gs pos="50000">
                <a:srgbClr val="0000ff"/>
              </a:gs>
              <a:gs pos="100000">
                <a:srgbClr val="00008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762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73654b"/>
              </a:gs>
              <a:gs pos="50000">
                <a:srgbClr val="fadda4"/>
              </a:gs>
              <a:gs pos="100000">
                <a:srgbClr val="736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85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533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53908"/>
              </a:gs>
              <a:gs pos="50000">
                <a:srgbClr val="dc7c12"/>
              </a:gs>
              <a:gs pos="100000">
                <a:srgbClr val="65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1676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523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0574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92a5c"/>
              </a:gs>
              <a:gs pos="50000">
                <a:srgbClr val="e55dc8"/>
              </a:gs>
              <a:gs pos="100000">
                <a:srgbClr val="692a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209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53908"/>
              </a:gs>
              <a:gs pos="50000">
                <a:srgbClr val="dc7c12"/>
              </a:gs>
              <a:gs pos="100000">
                <a:srgbClr val="6539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2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55dc8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animClr clrSpc="rgb">
                                      <p:cBhvr>
                                        <p:cTn id="23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80c2"/>
                                      </p:to>
                                    </p:animClr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animClr clrSpc="rgb">
                                      <p:cBhvr>
                                        <p:cTn id="27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dda4"/>
                                      </p:to>
                                    </p:animClr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animClr clrSpc="rgb">
                                      <p:cBhvr>
                                        <p:cTn id="3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cc"/>
                                      </p:to>
                                    </p:animClr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5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6" dur="5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9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43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47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7c12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0" r="0" b="4317"/>
          <a:stretch/>
        </p:blipFill>
        <p:spPr>
          <a:xfrm>
            <a:off x="5334120" y="3276720"/>
            <a:ext cx="3657600" cy="33764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86400" y="2895480"/>
            <a:ext cx="2514600" cy="93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rcRect l="0" t="0" r="0" b="5477"/>
          <a:stretch/>
        </p:blipFill>
        <p:spPr>
          <a:xfrm>
            <a:off x="990720" y="2913120"/>
            <a:ext cx="3475080" cy="3944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886200" y="3581280"/>
            <a:ext cx="533520" cy="5335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343400"/>
            <a:ext cx="533160" cy="533520"/>
          </a:xfrm>
          <a:prstGeom prst="ellipse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57600" y="2819520"/>
            <a:ext cx="533520" cy="53316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209680"/>
            <a:ext cx="533160" cy="53352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solidFill>
            <a:srgbClr val="99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47920" y="2666880"/>
            <a:ext cx="533160" cy="533520"/>
          </a:xfrm>
          <a:prstGeom prst="ellipse">
            <a:avLst/>
          </a:prstGeom>
          <a:solidFill>
            <a:srgbClr val="fc082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3276720"/>
            <a:ext cx="533160" cy="5331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14400" y="4191120"/>
            <a:ext cx="533520" cy="533160"/>
          </a:xfrm>
          <a:prstGeom prst="ellipse">
            <a:avLst/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38088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У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осьмёрки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два кольца                       Без начала и кон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996600">
            <a:off x="8070840" y="555120"/>
            <a:ext cx="608040" cy="71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32" y="21470"/>
                </a:moveTo>
                <a:arcTo wR="10800" hR="10800" stAng="5933113" swAng="19653905"/>
                <a:lnTo>
                  <a:pt x="10800" y="10800"/>
                </a:lnTo>
                <a:close/>
              </a:path>
              <a:path fill="none" w="21600" h="21600">
                <a:moveTo>
                  <a:pt x="9132" y="21470"/>
                </a:moveTo>
                <a:arcTo wR="10800" hR="10800" stAng="5933113" swAng="19653905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53280" y="1219320"/>
            <a:ext cx="228600" cy="759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rot="12157800">
            <a:off x="7791480" y="1224360"/>
            <a:ext cx="668160" cy="89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54" y="21190"/>
                </a:moveTo>
                <a:arcTo wR="10800" hR="10800" stAng="6349931" swAng="21485988"/>
                <a:lnTo>
                  <a:pt x="10800" y="10800"/>
                </a:lnTo>
                <a:close/>
              </a:path>
              <a:path fill="none" w="21600" h="21600">
                <a:moveTo>
                  <a:pt x="7854" y="21190"/>
                </a:moveTo>
                <a:arcTo wR="10800" hR="10800" stAng="6349931" swAng="21485988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636200">
            <a:off x="8016840" y="571320"/>
            <a:ext cx="637560" cy="89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2" y="12255"/>
                </a:moveTo>
                <a:arcTo wR="10800" hR="10800" stAng="464400" swAng="21135600"/>
                <a:lnTo>
                  <a:pt x="10800" y="10800"/>
                </a:lnTo>
                <a:close/>
              </a:path>
              <a:path fill="none" w="21600" h="21600">
                <a:moveTo>
                  <a:pt x="21502" y="12255"/>
                </a:moveTo>
                <a:arcTo wR="10800" hR="10800" stAng="464400" swAng="21135600"/>
              </a:path>
            </a:pathLst>
          </a:cu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277400">
            <a:off x="7919640" y="-65880"/>
            <a:ext cx="725040" cy="220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1" y="8842"/>
                </a:moveTo>
                <a:arcTo wR="10800" hR="10800" stAng="-626581" swAng="8340535"/>
                <a:lnTo>
                  <a:pt x="10800" y="10800"/>
                </a:lnTo>
                <a:close/>
              </a:path>
              <a:path fill="none" w="21600" h="21600">
                <a:moveTo>
                  <a:pt x="21421" y="8842"/>
                </a:moveTo>
                <a:arcTo wR="10800" hR="10800" stAng="-626581" swAng="8340535"/>
              </a:path>
            </a:pathLst>
          </a:custGeom>
          <a:noFill/>
          <a:ln w="763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5228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Девят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как и шесть, Вглядись.                   Только хвост не вверх, А вни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4267080"/>
            <a:ext cx="1828800" cy="24386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ff3399"/>
                </a:solidFill>
                <a:latin typeface="Arial"/>
              </a:rPr>
              <a:t>9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781680" y="2900520"/>
            <a:ext cx="1447920" cy="1385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rcRect l="0" t="0" r="0" b="-158"/>
          <a:stretch/>
        </p:blipFill>
        <p:spPr>
          <a:xfrm>
            <a:off x="228600" y="2590920"/>
            <a:ext cx="4343400" cy="3962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 rot="20616600">
            <a:off x="4190760" y="5676480"/>
            <a:ext cx="942840" cy="1181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rot="2383800">
            <a:off x="151920" y="5524200"/>
            <a:ext cx="1065240" cy="13334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3886200" y="3429000"/>
            <a:ext cx="1004760" cy="1257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 rot="2316600">
            <a:off x="4343040" y="4876920"/>
            <a:ext cx="129528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1066680" y="5791320"/>
            <a:ext cx="760680" cy="9525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5029200" y="5883120"/>
            <a:ext cx="1219320" cy="974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4800600" y="3733920"/>
            <a:ext cx="115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8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739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6080"/>
                            </p:stCondLst>
                            <p:childTnLst>
                              <p:par>
                                <p:cTn id="741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10800000">
                                      <p:cBhvr>
                                        <p:cTn id="74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8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08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208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308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6079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114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 девятью идёт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десятка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.             Ты это знаешь?  Молодец!     Сочти все пальцы по порядку –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 счёту нашему коне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19894200">
            <a:off x="1828440" y="114120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1295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495760" y="2438280"/>
            <a:ext cx="3648240" cy="27561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>
            <a:lum bright="-6000"/>
          </a:blip>
          <a:srcRect l="0" t="0" r="5480" b="5457"/>
          <a:stretch/>
        </p:blipFill>
        <p:spPr>
          <a:xfrm>
            <a:off x="3886200" y="23623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>
            <a:lum bright="-6000"/>
          </a:blip>
          <a:srcRect l="5480" t="0" r="0" b="5457"/>
          <a:stretch/>
        </p:blipFill>
        <p:spPr>
          <a:xfrm>
            <a:off x="2590920" y="2362320"/>
            <a:ext cx="1447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5334120" y="152280"/>
            <a:ext cx="914400" cy="9144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990720"/>
            <a:ext cx="914400" cy="914400"/>
          </a:xfrm>
          <a:prstGeom prst="rect">
            <a:avLst/>
          </a:prstGeom>
          <a:solidFill>
            <a:srgbClr val="6440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1523880"/>
            <a:ext cx="914400" cy="914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28600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67080" y="2819520"/>
            <a:ext cx="914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3581280"/>
            <a:ext cx="9144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038480"/>
            <a:ext cx="914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419720"/>
            <a:ext cx="9144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4876920"/>
            <a:ext cx="914400" cy="91440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5257800"/>
            <a:ext cx="914400" cy="9144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579132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5943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2680" y="57592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6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6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6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00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6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6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6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6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6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6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6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6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5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2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1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6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94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1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94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6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0"/>
                            </p:stCondLst>
                            <p:childTnLst>
                              <p:par>
                                <p:cTn id="95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95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2000"/>
                            </p:stCondLst>
                            <p:childTnLst>
                              <p:par>
                                <p:cTn id="96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3000"/>
                            </p:stCondLst>
                            <p:childTnLst>
                              <p:par>
                                <p:cTn id="9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47920" y="2286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82920" cy="3429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33520" y="48769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2286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Цифра вроде буквы О -             Это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ул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иль ничего.           Круглый нуль такой хорошенький,                              Но не значит ничегошень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33800">
            <a:off x="7695720" y="533520"/>
            <a:ext cx="914400" cy="16002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05320"/>
            <a:ext cx="762120" cy="1218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72428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680" y="49528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24" y="0"/>
                </a:moveTo>
                <a:cubicBezTo>
                  <a:pt x="12" y="72"/>
                  <a:pt x="0" y="144"/>
                  <a:pt x="24" y="240"/>
                </a:cubicBezTo>
                <a:cubicBezTo>
                  <a:pt x="48" y="336"/>
                  <a:pt x="144" y="504"/>
                  <a:pt x="168" y="576"/>
                </a:cubicBezTo>
                <a:cubicBezTo>
                  <a:pt x="192" y="648"/>
                  <a:pt x="168" y="656"/>
                  <a:pt x="168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48400">
            <a:off x="1104840" y="4107960"/>
            <a:ext cx="76212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120800">
            <a:off x="1143000" y="5029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rot="1145400">
            <a:off x="1009440" y="4978080"/>
            <a:ext cx="74520" cy="103032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24" y="0"/>
                </a:moveTo>
                <a:cubicBezTo>
                  <a:pt x="12" y="72"/>
                  <a:pt x="0" y="144"/>
                  <a:pt x="24" y="240"/>
                </a:cubicBezTo>
                <a:cubicBezTo>
                  <a:pt x="48" y="336"/>
                  <a:pt x="144" y="504"/>
                  <a:pt x="168" y="576"/>
                </a:cubicBezTo>
                <a:cubicBezTo>
                  <a:pt x="192" y="648"/>
                  <a:pt x="168" y="656"/>
                  <a:pt x="168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4120" y="3498840"/>
            <a:ext cx="3662280" cy="335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44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44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4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250200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502000"/>
            <a:ext cx="1522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27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3000" y="532116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rot="17215800">
            <a:off x="1505880" y="4853160"/>
            <a:ext cx="913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6768800">
            <a:off x="2362680" y="3948480"/>
            <a:ext cx="7452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rot="19465800">
            <a:off x="512640" y="3726000"/>
            <a:ext cx="100080" cy="31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701200">
            <a:off x="249840" y="2778840"/>
            <a:ext cx="913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038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03864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022600">
            <a:off x="4121280" y="3568320"/>
            <a:ext cx="1904760" cy="1104840"/>
          </a:xfrm>
          <a:custGeom>
            <a:avLst/>
            <a:gdLst/>
            <a:ahLst/>
            <a:rect l="l" t="t" r="r" b="b"/>
            <a:pathLst>
              <a:path w="872" h="360">
                <a:moveTo>
                  <a:pt x="8" y="144"/>
                </a:moveTo>
                <a:cubicBezTo>
                  <a:pt x="4" y="200"/>
                  <a:pt x="0" y="256"/>
                  <a:pt x="56" y="288"/>
                </a:cubicBezTo>
                <a:cubicBezTo>
                  <a:pt x="112" y="320"/>
                  <a:pt x="280" y="360"/>
                  <a:pt x="344" y="336"/>
                </a:cubicBezTo>
                <a:cubicBezTo>
                  <a:pt x="408" y="312"/>
                  <a:pt x="352" y="200"/>
                  <a:pt x="440" y="144"/>
                </a:cubicBezTo>
                <a:cubicBezTo>
                  <a:pt x="528" y="88"/>
                  <a:pt x="800" y="24"/>
                  <a:pt x="8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28600"/>
            <a:ext cx="6477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Вот один, иль </a:t>
            </a: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единица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, Очень тонкая, как спи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24680" y="533160"/>
            <a:ext cx="762120" cy="6094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000640" y="533520"/>
            <a:ext cx="685800" cy="16002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062600">
            <a:off x="2895120" y="3048120"/>
            <a:ext cx="1649520" cy="30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1057320" cy="1486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3048120"/>
            <a:ext cx="1295280" cy="2412720"/>
          </a:xfrm>
          <a:custGeom>
            <a:avLst/>
            <a:gdLst/>
            <a:ahLst/>
            <a:rect l="l" t="t" r="r" b="b"/>
            <a:pathLst>
              <a:path w="816" h="1520">
                <a:moveTo>
                  <a:pt x="0" y="328"/>
                </a:moveTo>
                <a:cubicBezTo>
                  <a:pt x="0" y="304"/>
                  <a:pt x="312" y="80"/>
                  <a:pt x="384" y="40"/>
                </a:cubicBezTo>
                <a:cubicBezTo>
                  <a:pt x="456" y="0"/>
                  <a:pt x="416" y="72"/>
                  <a:pt x="432" y="88"/>
                </a:cubicBezTo>
                <a:cubicBezTo>
                  <a:pt x="448" y="104"/>
                  <a:pt x="440" y="128"/>
                  <a:pt x="480" y="136"/>
                </a:cubicBezTo>
                <a:cubicBezTo>
                  <a:pt x="520" y="144"/>
                  <a:pt x="616" y="152"/>
                  <a:pt x="672" y="136"/>
                </a:cubicBezTo>
                <a:cubicBezTo>
                  <a:pt x="728" y="120"/>
                  <a:pt x="816" y="8"/>
                  <a:pt x="816" y="40"/>
                </a:cubicBezTo>
                <a:cubicBezTo>
                  <a:pt x="816" y="72"/>
                  <a:pt x="704" y="128"/>
                  <a:pt x="672" y="328"/>
                </a:cubicBezTo>
                <a:cubicBezTo>
                  <a:pt x="640" y="528"/>
                  <a:pt x="616" y="1048"/>
                  <a:pt x="624" y="1240"/>
                </a:cubicBezTo>
                <a:cubicBezTo>
                  <a:pt x="632" y="1432"/>
                  <a:pt x="808" y="1440"/>
                  <a:pt x="720" y="1480"/>
                </a:cubicBezTo>
                <a:cubicBezTo>
                  <a:pt x="632" y="1520"/>
                  <a:pt x="184" y="1496"/>
                  <a:pt x="96" y="1480"/>
                </a:cubicBezTo>
                <a:cubicBezTo>
                  <a:pt x="8" y="1464"/>
                  <a:pt x="152" y="1440"/>
                  <a:pt x="192" y="1384"/>
                </a:cubicBezTo>
                <a:cubicBezTo>
                  <a:pt x="232" y="1328"/>
                  <a:pt x="304" y="1344"/>
                  <a:pt x="336" y="1144"/>
                </a:cubicBezTo>
                <a:cubicBezTo>
                  <a:pt x="368" y="944"/>
                  <a:pt x="376" y="336"/>
                  <a:pt x="384" y="184"/>
                </a:cubicBezTo>
                <a:cubicBezTo>
                  <a:pt x="392" y="32"/>
                  <a:pt x="384" y="232"/>
                  <a:pt x="384" y="232"/>
                </a:cubicBezTo>
                <a:cubicBezTo>
                  <a:pt x="384" y="232"/>
                  <a:pt x="448" y="168"/>
                  <a:pt x="384" y="184"/>
                </a:cubicBezTo>
                <a:cubicBezTo>
                  <a:pt x="320" y="200"/>
                  <a:pt x="0" y="352"/>
                  <a:pt x="0" y="328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7656200">
            <a:off x="1843560" y="2563200"/>
            <a:ext cx="377640" cy="56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82695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8269592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23160" y="2653560"/>
            <a:ext cx="3805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2" y="4965"/>
                </a:moveTo>
                <a:arcTo wR="10800" hR="10800" stAng="-8837704" swAng="8837704"/>
                <a:lnTo>
                  <a:pt x="10800" y="10800"/>
                </a:lnTo>
                <a:close/>
              </a:path>
              <a:path fill="none" w="21600" h="21600">
                <a:moveTo>
                  <a:pt x="1712" y="4965"/>
                </a:moveTo>
                <a:arcTo wR="10800" hR="10800" stAng="-8837704" swAng="883770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447560" y="2882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12076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12076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62680" y="2273400"/>
            <a:ext cx="762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92" y="1080"/>
                </a:moveTo>
                <a:arcTo wR="10800" hR="10800" stAng="-6950559" swAng="3745022"/>
                <a:lnTo>
                  <a:pt x="10800" y="10800"/>
                </a:lnTo>
                <a:close/>
              </a:path>
              <a:path fill="none" w="21600" h="21600">
                <a:moveTo>
                  <a:pt x="6092" y="1080"/>
                </a:moveTo>
                <a:arcTo wR="10800" hR="10800" stAng="-6950559" swAng="374502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76160" y="212076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204480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273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4256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2502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42568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502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3568680"/>
            <a:ext cx="9129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029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02907"/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40258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5388800">
            <a:off x="460080" y="3792240"/>
            <a:ext cx="230400" cy="38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626080"/>
            <a:ext cx="53352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9806000">
            <a:off x="1447560" y="5702040"/>
            <a:ext cx="53316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505320"/>
            <a:ext cx="2158920" cy="2844720"/>
          </a:xfrm>
          <a:custGeom>
            <a:avLst/>
            <a:gdLst/>
            <a:ahLst/>
            <a:rect l="l" t="t" r="r" b="b"/>
            <a:pathLst>
              <a:path w="1504" h="1936">
                <a:moveTo>
                  <a:pt x="1504" y="0"/>
                </a:moveTo>
                <a:cubicBezTo>
                  <a:pt x="1400" y="68"/>
                  <a:pt x="1296" y="136"/>
                  <a:pt x="1216" y="288"/>
                </a:cubicBezTo>
                <a:cubicBezTo>
                  <a:pt x="1136" y="440"/>
                  <a:pt x="1200" y="664"/>
                  <a:pt x="1024" y="912"/>
                </a:cubicBezTo>
                <a:cubicBezTo>
                  <a:pt x="848" y="1160"/>
                  <a:pt x="320" y="1616"/>
                  <a:pt x="160" y="1776"/>
                </a:cubicBezTo>
                <a:cubicBezTo>
                  <a:pt x="0" y="1936"/>
                  <a:pt x="32" y="1904"/>
                  <a:pt x="64" y="1872"/>
                </a:cubicBezTo>
              </a:path>
            </a:pathLst>
          </a:custGeom>
          <a:noFill/>
          <a:ln w="7632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34320" y="5791320"/>
            <a:ext cx="757080" cy="6984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200400"/>
            <a:ext cx="138240" cy="98748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21025800">
            <a:off x="6019560" y="39625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H="1">
            <a:off x="3351960" y="4388040"/>
            <a:ext cx="1523880" cy="341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2" y="201"/>
                </a:moveTo>
                <a:arcTo wR="10800" hR="10800" stAng="-4736209" swAng="4736209"/>
                <a:lnTo>
                  <a:pt x="10800" y="10800"/>
                </a:lnTo>
                <a:close/>
              </a:path>
              <a:path fill="none" w="21600" h="21600">
                <a:moveTo>
                  <a:pt x="12872" y="201"/>
                </a:moveTo>
                <a:arcTo wR="10800" hR="10800" stAng="-4736209" swAng="473620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99680" y="3933720"/>
            <a:ext cx="1218600" cy="31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2" y="201"/>
                </a:moveTo>
                <a:arcTo wR="10800" hR="10800" stAng="-4736209" swAng="4736209"/>
                <a:lnTo>
                  <a:pt x="10800" y="10800"/>
                </a:lnTo>
                <a:close/>
              </a:path>
              <a:path fill="none" w="21600" h="21600">
                <a:moveTo>
                  <a:pt x="12872" y="201"/>
                </a:moveTo>
                <a:arcTo wR="10800" hR="10800" stAng="-4736209" swAng="4736209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2000" y="5421240"/>
            <a:ext cx="4657680" cy="1162080"/>
          </a:xfrm>
          <a:custGeom>
            <a:avLst/>
            <a:gdLst/>
            <a:ahLst/>
            <a:rect l="l" t="t" r="r" b="b"/>
            <a:pathLst>
              <a:path w="2934" h="732">
                <a:moveTo>
                  <a:pt x="535" y="14"/>
                </a:moveTo>
                <a:cubicBezTo>
                  <a:pt x="425" y="30"/>
                  <a:pt x="314" y="41"/>
                  <a:pt x="203" y="48"/>
                </a:cubicBezTo>
                <a:cubicBezTo>
                  <a:pt x="174" y="58"/>
                  <a:pt x="140" y="64"/>
                  <a:pt x="115" y="82"/>
                </a:cubicBezTo>
                <a:cubicBezTo>
                  <a:pt x="70" y="115"/>
                  <a:pt x="51" y="173"/>
                  <a:pt x="20" y="217"/>
                </a:cubicBezTo>
                <a:cubicBezTo>
                  <a:pt x="14" y="240"/>
                  <a:pt x="7" y="262"/>
                  <a:pt x="0" y="285"/>
                </a:cubicBezTo>
                <a:cubicBezTo>
                  <a:pt x="2" y="396"/>
                  <a:pt x="0" y="506"/>
                  <a:pt x="6" y="617"/>
                </a:cubicBezTo>
                <a:cubicBezTo>
                  <a:pt x="8" y="645"/>
                  <a:pt x="146" y="684"/>
                  <a:pt x="176" y="685"/>
                </a:cubicBezTo>
                <a:cubicBezTo>
                  <a:pt x="397" y="691"/>
                  <a:pt x="619" y="694"/>
                  <a:pt x="840" y="698"/>
                </a:cubicBezTo>
                <a:cubicBezTo>
                  <a:pt x="1206" y="714"/>
                  <a:pt x="1543" y="728"/>
                  <a:pt x="1917" y="732"/>
                </a:cubicBezTo>
                <a:cubicBezTo>
                  <a:pt x="2125" y="725"/>
                  <a:pt x="2266" y="715"/>
                  <a:pt x="2453" y="692"/>
                </a:cubicBezTo>
                <a:cubicBezTo>
                  <a:pt x="2513" y="661"/>
                  <a:pt x="2488" y="670"/>
                  <a:pt x="2527" y="658"/>
                </a:cubicBezTo>
                <a:cubicBezTo>
                  <a:pt x="2570" y="630"/>
                  <a:pt x="2604" y="604"/>
                  <a:pt x="2636" y="563"/>
                </a:cubicBezTo>
                <a:cubicBezTo>
                  <a:pt x="2638" y="518"/>
                  <a:pt x="2634" y="472"/>
                  <a:pt x="2642" y="427"/>
                </a:cubicBezTo>
                <a:cubicBezTo>
                  <a:pt x="2643" y="419"/>
                  <a:pt x="2656" y="418"/>
                  <a:pt x="2663" y="414"/>
                </a:cubicBezTo>
                <a:cubicBezTo>
                  <a:pt x="2724" y="380"/>
                  <a:pt x="2774" y="382"/>
                  <a:pt x="2846" y="373"/>
                </a:cubicBezTo>
                <a:cubicBezTo>
                  <a:pt x="2864" y="368"/>
                  <a:pt x="2882" y="364"/>
                  <a:pt x="2900" y="359"/>
                </a:cubicBezTo>
                <a:cubicBezTo>
                  <a:pt x="2934" y="350"/>
                  <a:pt x="2897" y="208"/>
                  <a:pt x="2859" y="183"/>
                </a:cubicBezTo>
                <a:cubicBezTo>
                  <a:pt x="2841" y="155"/>
                  <a:pt x="2813" y="150"/>
                  <a:pt x="2778" y="149"/>
                </a:cubicBezTo>
                <a:cubicBezTo>
                  <a:pt x="2656" y="145"/>
                  <a:pt x="2534" y="145"/>
                  <a:pt x="2412" y="143"/>
                </a:cubicBezTo>
                <a:cubicBezTo>
                  <a:pt x="2405" y="141"/>
                  <a:pt x="2398" y="139"/>
                  <a:pt x="2392" y="136"/>
                </a:cubicBezTo>
                <a:cubicBezTo>
                  <a:pt x="2380" y="130"/>
                  <a:pt x="2370" y="121"/>
                  <a:pt x="2358" y="116"/>
                </a:cubicBezTo>
                <a:cubicBezTo>
                  <a:pt x="2339" y="109"/>
                  <a:pt x="2283" y="100"/>
                  <a:pt x="2263" y="88"/>
                </a:cubicBezTo>
                <a:cubicBezTo>
                  <a:pt x="2254" y="83"/>
                  <a:pt x="2215" y="59"/>
                  <a:pt x="2202" y="55"/>
                </a:cubicBezTo>
                <a:cubicBezTo>
                  <a:pt x="2163" y="44"/>
                  <a:pt x="2034" y="41"/>
                  <a:pt x="2026" y="41"/>
                </a:cubicBezTo>
                <a:cubicBezTo>
                  <a:pt x="1867" y="8"/>
                  <a:pt x="1963" y="27"/>
                  <a:pt x="1626" y="21"/>
                </a:cubicBezTo>
                <a:cubicBezTo>
                  <a:pt x="1504" y="0"/>
                  <a:pt x="1642" y="21"/>
                  <a:pt x="1362" y="21"/>
                </a:cubicBezTo>
                <a:cubicBezTo>
                  <a:pt x="1071" y="21"/>
                  <a:pt x="779" y="14"/>
                  <a:pt x="488" y="14"/>
                </a:cubicBezTo>
                <a:lnTo>
                  <a:pt x="570" y="41"/>
                </a:lnTo>
              </a:path>
            </a:pathLst>
          </a:custGeom>
          <a:solidFill>
            <a:srgbClr val="0066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429000"/>
            <a:ext cx="2743200" cy="2793960"/>
          </a:xfrm>
          <a:custGeom>
            <a:avLst/>
            <a:gdLst/>
            <a:ahLst/>
            <a:rect l="l" t="t" r="r" b="b"/>
            <a:pathLst>
              <a:path w="1904" h="1952">
                <a:moveTo>
                  <a:pt x="680" y="352"/>
                </a:moveTo>
                <a:cubicBezTo>
                  <a:pt x="752" y="296"/>
                  <a:pt x="824" y="240"/>
                  <a:pt x="920" y="208"/>
                </a:cubicBezTo>
                <a:cubicBezTo>
                  <a:pt x="1016" y="176"/>
                  <a:pt x="1168" y="136"/>
                  <a:pt x="1256" y="160"/>
                </a:cubicBezTo>
                <a:cubicBezTo>
                  <a:pt x="1344" y="184"/>
                  <a:pt x="1416" y="240"/>
                  <a:pt x="1448" y="352"/>
                </a:cubicBezTo>
                <a:cubicBezTo>
                  <a:pt x="1480" y="464"/>
                  <a:pt x="1496" y="696"/>
                  <a:pt x="1448" y="832"/>
                </a:cubicBezTo>
                <a:cubicBezTo>
                  <a:pt x="1400" y="968"/>
                  <a:pt x="1328" y="1056"/>
                  <a:pt x="1160" y="1168"/>
                </a:cubicBezTo>
                <a:cubicBezTo>
                  <a:pt x="992" y="1280"/>
                  <a:pt x="600" y="1384"/>
                  <a:pt x="440" y="1504"/>
                </a:cubicBezTo>
                <a:cubicBezTo>
                  <a:pt x="280" y="1624"/>
                  <a:pt x="0" y="1824"/>
                  <a:pt x="200" y="1888"/>
                </a:cubicBezTo>
                <a:cubicBezTo>
                  <a:pt x="400" y="1952"/>
                  <a:pt x="1376" y="1888"/>
                  <a:pt x="1640" y="1888"/>
                </a:cubicBezTo>
                <a:cubicBezTo>
                  <a:pt x="1904" y="1888"/>
                  <a:pt x="1768" y="1896"/>
                  <a:pt x="1784" y="1888"/>
                </a:cubicBezTo>
                <a:cubicBezTo>
                  <a:pt x="1800" y="1880"/>
                  <a:pt x="1752" y="1872"/>
                  <a:pt x="1736" y="1840"/>
                </a:cubicBezTo>
                <a:cubicBezTo>
                  <a:pt x="1720" y="1808"/>
                  <a:pt x="1680" y="1752"/>
                  <a:pt x="1688" y="1696"/>
                </a:cubicBezTo>
                <a:cubicBezTo>
                  <a:pt x="1696" y="1640"/>
                  <a:pt x="1784" y="1520"/>
                  <a:pt x="1784" y="1504"/>
                </a:cubicBezTo>
                <a:cubicBezTo>
                  <a:pt x="1784" y="1488"/>
                  <a:pt x="1720" y="1560"/>
                  <a:pt x="1688" y="1600"/>
                </a:cubicBezTo>
                <a:cubicBezTo>
                  <a:pt x="1656" y="1640"/>
                  <a:pt x="1624" y="1736"/>
                  <a:pt x="1592" y="1744"/>
                </a:cubicBezTo>
                <a:cubicBezTo>
                  <a:pt x="1560" y="1752"/>
                  <a:pt x="1576" y="1672"/>
                  <a:pt x="1496" y="1648"/>
                </a:cubicBezTo>
                <a:cubicBezTo>
                  <a:pt x="1416" y="1624"/>
                  <a:pt x="1280" y="1592"/>
                  <a:pt x="1112" y="1600"/>
                </a:cubicBezTo>
                <a:cubicBezTo>
                  <a:pt x="944" y="1608"/>
                  <a:pt x="576" y="1696"/>
                  <a:pt x="488" y="1696"/>
                </a:cubicBezTo>
                <a:cubicBezTo>
                  <a:pt x="400" y="1696"/>
                  <a:pt x="456" y="1664"/>
                  <a:pt x="584" y="1600"/>
                </a:cubicBezTo>
                <a:cubicBezTo>
                  <a:pt x="712" y="1536"/>
                  <a:pt x="1088" y="1424"/>
                  <a:pt x="1256" y="1312"/>
                </a:cubicBezTo>
                <a:cubicBezTo>
                  <a:pt x="1424" y="1200"/>
                  <a:pt x="1528" y="1080"/>
                  <a:pt x="1592" y="928"/>
                </a:cubicBezTo>
                <a:cubicBezTo>
                  <a:pt x="1656" y="776"/>
                  <a:pt x="1664" y="544"/>
                  <a:pt x="1640" y="400"/>
                </a:cubicBezTo>
                <a:cubicBezTo>
                  <a:pt x="1616" y="256"/>
                  <a:pt x="1528" y="128"/>
                  <a:pt x="1448" y="64"/>
                </a:cubicBezTo>
                <a:cubicBezTo>
                  <a:pt x="1368" y="0"/>
                  <a:pt x="1272" y="8"/>
                  <a:pt x="1160" y="16"/>
                </a:cubicBezTo>
                <a:cubicBezTo>
                  <a:pt x="1048" y="24"/>
                  <a:pt x="872" y="64"/>
                  <a:pt x="776" y="112"/>
                </a:cubicBezTo>
                <a:cubicBezTo>
                  <a:pt x="680" y="160"/>
                  <a:pt x="600" y="256"/>
                  <a:pt x="584" y="304"/>
                </a:cubicBezTo>
                <a:cubicBezTo>
                  <a:pt x="568" y="352"/>
                  <a:pt x="656" y="400"/>
                  <a:pt x="680" y="400"/>
                </a:cubicBezTo>
                <a:cubicBezTo>
                  <a:pt x="704" y="400"/>
                  <a:pt x="720" y="320"/>
                  <a:pt x="728" y="304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90120" y="609480"/>
            <a:ext cx="796320" cy="68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" y="8682"/>
                </a:moveTo>
                <a:arcTo wR="10800" hR="10800" stAng="-10121371" swAng="12164970"/>
                <a:lnTo>
                  <a:pt x="10800" y="10800"/>
                </a:lnTo>
                <a:close/>
              </a:path>
              <a:path fill="none" w="21600" h="21600">
                <a:moveTo>
                  <a:pt x="210" y="8682"/>
                </a:moveTo>
                <a:arcTo wR="10800" hR="10800" stAng="-10121371" swAng="12164970"/>
              </a:path>
            </a:pathLst>
          </a:cu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1143000"/>
            <a:ext cx="838080" cy="99072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1968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0" y="56"/>
                </a:moveTo>
                <a:cubicBezTo>
                  <a:pt x="72" y="28"/>
                  <a:pt x="144" y="0"/>
                  <a:pt x="192" y="8"/>
                </a:cubicBezTo>
                <a:cubicBezTo>
                  <a:pt x="240" y="16"/>
                  <a:pt x="232" y="104"/>
                  <a:pt x="288" y="104"/>
                </a:cubicBezTo>
                <a:cubicBezTo>
                  <a:pt x="344" y="104"/>
                  <a:pt x="488" y="24"/>
                  <a:pt x="528" y="8"/>
                </a:cubicBezTo>
              </a:path>
            </a:pathLst>
          </a:custGeom>
          <a:noFill/>
          <a:ln w="763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04920"/>
            <a:ext cx="6705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А вот это - цифр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два.  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Полюбуйся, какова:   Выгибает двойка шею, Волочится хвост за не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3429000"/>
            <a:ext cx="91440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038480"/>
            <a:ext cx="685800" cy="457200"/>
          </a:xfrm>
          <a:custGeom>
            <a:avLst/>
            <a:gdLst/>
            <a:ahLst/>
            <a:rect l="l" t="t" r="r" b="b"/>
            <a:pathLst>
              <a:path w="528" h="368">
                <a:moveTo>
                  <a:pt x="288" y="32"/>
                </a:moveTo>
                <a:cubicBezTo>
                  <a:pt x="248" y="64"/>
                  <a:pt x="192" y="184"/>
                  <a:pt x="144" y="224"/>
                </a:cubicBezTo>
                <a:cubicBezTo>
                  <a:pt x="96" y="264"/>
                  <a:pt x="0" y="248"/>
                  <a:pt x="0" y="272"/>
                </a:cubicBezTo>
                <a:cubicBezTo>
                  <a:pt x="0" y="296"/>
                  <a:pt x="72" y="368"/>
                  <a:pt x="144" y="368"/>
                </a:cubicBezTo>
                <a:cubicBezTo>
                  <a:pt x="216" y="368"/>
                  <a:pt x="368" y="304"/>
                  <a:pt x="432" y="272"/>
                </a:cubicBezTo>
                <a:cubicBezTo>
                  <a:pt x="496" y="240"/>
                  <a:pt x="528" y="192"/>
                  <a:pt x="528" y="176"/>
                </a:cubicBezTo>
                <a:cubicBezTo>
                  <a:pt x="528" y="160"/>
                  <a:pt x="456" y="200"/>
                  <a:pt x="432" y="176"/>
                </a:cubicBezTo>
                <a:cubicBezTo>
                  <a:pt x="408" y="152"/>
                  <a:pt x="408" y="56"/>
                  <a:pt x="384" y="32"/>
                </a:cubicBezTo>
                <a:cubicBezTo>
                  <a:pt x="360" y="8"/>
                  <a:pt x="328" y="0"/>
                  <a:pt x="288" y="32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733920"/>
            <a:ext cx="228600" cy="304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657600"/>
            <a:ext cx="228600" cy="304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30400" y="4241880"/>
            <a:ext cx="469800" cy="380880"/>
          </a:xfrm>
          <a:custGeom>
            <a:avLst/>
            <a:gdLst/>
            <a:ahLst/>
            <a:rect l="l" t="t" r="r" b="b"/>
            <a:pathLst>
              <a:path w="296" h="240">
                <a:moveTo>
                  <a:pt x="296" y="16"/>
                </a:moveTo>
                <a:cubicBezTo>
                  <a:pt x="296" y="32"/>
                  <a:pt x="200" y="176"/>
                  <a:pt x="152" y="208"/>
                </a:cubicBezTo>
                <a:cubicBezTo>
                  <a:pt x="104" y="240"/>
                  <a:pt x="16" y="224"/>
                  <a:pt x="8" y="208"/>
                </a:cubicBezTo>
                <a:cubicBezTo>
                  <a:pt x="0" y="192"/>
                  <a:pt x="80" y="128"/>
                  <a:pt x="104" y="112"/>
                </a:cubicBezTo>
                <a:cubicBezTo>
                  <a:pt x="128" y="96"/>
                  <a:pt x="120" y="128"/>
                  <a:pt x="152" y="112"/>
                </a:cubicBezTo>
                <a:cubicBezTo>
                  <a:pt x="184" y="96"/>
                  <a:pt x="296" y="0"/>
                  <a:pt x="296" y="16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800600"/>
            <a:ext cx="1168560" cy="733320"/>
          </a:xfrm>
          <a:custGeom>
            <a:avLst/>
            <a:gdLst/>
            <a:ahLst/>
            <a:rect l="l" t="t" r="r" b="b"/>
            <a:pathLst>
              <a:path w="736" h="462">
                <a:moveTo>
                  <a:pt x="108" y="427"/>
                </a:moveTo>
                <a:cubicBezTo>
                  <a:pt x="106" y="373"/>
                  <a:pt x="105" y="318"/>
                  <a:pt x="101" y="264"/>
                </a:cubicBezTo>
                <a:cubicBezTo>
                  <a:pt x="95" y="190"/>
                  <a:pt x="37" y="134"/>
                  <a:pt x="0" y="74"/>
                </a:cubicBezTo>
                <a:cubicBezTo>
                  <a:pt x="27" y="57"/>
                  <a:pt x="32" y="66"/>
                  <a:pt x="61" y="74"/>
                </a:cubicBezTo>
                <a:cubicBezTo>
                  <a:pt x="97" y="101"/>
                  <a:pt x="126" y="118"/>
                  <a:pt x="162" y="142"/>
                </a:cubicBezTo>
                <a:cubicBezTo>
                  <a:pt x="169" y="171"/>
                  <a:pt x="163" y="203"/>
                  <a:pt x="176" y="230"/>
                </a:cubicBezTo>
                <a:cubicBezTo>
                  <a:pt x="179" y="237"/>
                  <a:pt x="184" y="216"/>
                  <a:pt x="189" y="210"/>
                </a:cubicBezTo>
                <a:cubicBezTo>
                  <a:pt x="226" y="159"/>
                  <a:pt x="196" y="205"/>
                  <a:pt x="223" y="162"/>
                </a:cubicBezTo>
                <a:cubicBezTo>
                  <a:pt x="237" y="108"/>
                  <a:pt x="239" y="56"/>
                  <a:pt x="243" y="0"/>
                </a:cubicBezTo>
                <a:cubicBezTo>
                  <a:pt x="255" y="35"/>
                  <a:pt x="252" y="73"/>
                  <a:pt x="264" y="108"/>
                </a:cubicBezTo>
                <a:cubicBezTo>
                  <a:pt x="269" y="167"/>
                  <a:pt x="262" y="227"/>
                  <a:pt x="277" y="284"/>
                </a:cubicBezTo>
                <a:cubicBezTo>
                  <a:pt x="279" y="292"/>
                  <a:pt x="287" y="271"/>
                  <a:pt x="291" y="264"/>
                </a:cubicBezTo>
                <a:cubicBezTo>
                  <a:pt x="311" y="230"/>
                  <a:pt x="305" y="221"/>
                  <a:pt x="338" y="196"/>
                </a:cubicBezTo>
                <a:cubicBezTo>
                  <a:pt x="356" y="161"/>
                  <a:pt x="382" y="132"/>
                  <a:pt x="413" y="108"/>
                </a:cubicBezTo>
                <a:cubicBezTo>
                  <a:pt x="411" y="124"/>
                  <a:pt x="412" y="141"/>
                  <a:pt x="406" y="156"/>
                </a:cubicBezTo>
                <a:cubicBezTo>
                  <a:pt x="400" y="171"/>
                  <a:pt x="379" y="196"/>
                  <a:pt x="379" y="196"/>
                </a:cubicBezTo>
                <a:cubicBezTo>
                  <a:pt x="363" y="244"/>
                  <a:pt x="369" y="223"/>
                  <a:pt x="359" y="257"/>
                </a:cubicBezTo>
                <a:cubicBezTo>
                  <a:pt x="379" y="331"/>
                  <a:pt x="363" y="303"/>
                  <a:pt x="420" y="284"/>
                </a:cubicBezTo>
                <a:cubicBezTo>
                  <a:pt x="467" y="252"/>
                  <a:pt x="515" y="233"/>
                  <a:pt x="569" y="217"/>
                </a:cubicBezTo>
                <a:cubicBezTo>
                  <a:pt x="599" y="219"/>
                  <a:pt x="736" y="203"/>
                  <a:pt x="677" y="291"/>
                </a:cubicBezTo>
                <a:cubicBezTo>
                  <a:pt x="666" y="307"/>
                  <a:pt x="596" y="311"/>
                  <a:pt x="589" y="312"/>
                </a:cubicBezTo>
                <a:cubicBezTo>
                  <a:pt x="564" y="316"/>
                  <a:pt x="515" y="325"/>
                  <a:pt x="515" y="325"/>
                </a:cubicBezTo>
                <a:cubicBezTo>
                  <a:pt x="486" y="337"/>
                  <a:pt x="459" y="348"/>
                  <a:pt x="433" y="366"/>
                </a:cubicBezTo>
                <a:cubicBezTo>
                  <a:pt x="431" y="373"/>
                  <a:pt x="422" y="380"/>
                  <a:pt x="426" y="386"/>
                </a:cubicBezTo>
                <a:cubicBezTo>
                  <a:pt x="449" y="421"/>
                  <a:pt x="550" y="431"/>
                  <a:pt x="582" y="434"/>
                </a:cubicBezTo>
                <a:cubicBezTo>
                  <a:pt x="598" y="444"/>
                  <a:pt x="626" y="454"/>
                  <a:pt x="576" y="454"/>
                </a:cubicBezTo>
                <a:cubicBezTo>
                  <a:pt x="492" y="454"/>
                  <a:pt x="409" y="449"/>
                  <a:pt x="325" y="447"/>
                </a:cubicBezTo>
                <a:cubicBezTo>
                  <a:pt x="329" y="438"/>
                  <a:pt x="347" y="424"/>
                  <a:pt x="338" y="420"/>
                </a:cubicBezTo>
                <a:cubicBezTo>
                  <a:pt x="284" y="398"/>
                  <a:pt x="291" y="431"/>
                  <a:pt x="257" y="434"/>
                </a:cubicBezTo>
                <a:cubicBezTo>
                  <a:pt x="219" y="438"/>
                  <a:pt x="180" y="438"/>
                  <a:pt x="142" y="440"/>
                </a:cubicBezTo>
                <a:cubicBezTo>
                  <a:pt x="113" y="460"/>
                  <a:pt x="125" y="462"/>
                  <a:pt x="108" y="427"/>
                </a:cubicBezTo>
                <a:close/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55600">
            <a:off x="3661920" y="3430080"/>
            <a:ext cx="457200" cy="685800"/>
          </a:xfrm>
          <a:custGeom>
            <a:avLst/>
            <a:gdLst/>
            <a:ahLst/>
            <a:rect l="l" t="t" r="r" b="b"/>
            <a:pathLst>
              <a:path w="504" h="584">
                <a:moveTo>
                  <a:pt x="224" y="144"/>
                </a:moveTo>
                <a:cubicBezTo>
                  <a:pt x="168" y="208"/>
                  <a:pt x="64" y="328"/>
                  <a:pt x="32" y="384"/>
                </a:cubicBezTo>
                <a:cubicBezTo>
                  <a:pt x="0" y="440"/>
                  <a:pt x="16" y="456"/>
                  <a:pt x="32" y="480"/>
                </a:cubicBezTo>
                <a:cubicBezTo>
                  <a:pt x="48" y="504"/>
                  <a:pt x="56" y="584"/>
                  <a:pt x="128" y="528"/>
                </a:cubicBezTo>
                <a:cubicBezTo>
                  <a:pt x="200" y="472"/>
                  <a:pt x="424" y="232"/>
                  <a:pt x="464" y="144"/>
                </a:cubicBezTo>
                <a:cubicBezTo>
                  <a:pt x="504" y="56"/>
                  <a:pt x="408" y="0"/>
                  <a:pt x="368" y="0"/>
                </a:cubicBezTo>
                <a:cubicBezTo>
                  <a:pt x="328" y="0"/>
                  <a:pt x="280" y="80"/>
                  <a:pt x="224" y="144"/>
                </a:cubicBez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114800" y="3276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038480"/>
            <a:ext cx="393840" cy="978120"/>
          </a:xfrm>
          <a:custGeom>
            <a:avLst/>
            <a:gdLst/>
            <a:ahLst/>
            <a:rect l="l" t="t" r="r" b="b"/>
            <a:pathLst>
              <a:path w="248" h="616">
                <a:moveTo>
                  <a:pt x="248" y="432"/>
                </a:moveTo>
                <a:cubicBezTo>
                  <a:pt x="244" y="264"/>
                  <a:pt x="240" y="96"/>
                  <a:pt x="200" y="48"/>
                </a:cubicBezTo>
                <a:cubicBezTo>
                  <a:pt x="160" y="0"/>
                  <a:pt x="16" y="128"/>
                  <a:pt x="8" y="144"/>
                </a:cubicBezTo>
                <a:cubicBezTo>
                  <a:pt x="0" y="160"/>
                  <a:pt x="120" y="72"/>
                  <a:pt x="152" y="144"/>
                </a:cubicBezTo>
                <a:cubicBezTo>
                  <a:pt x="184" y="216"/>
                  <a:pt x="184" y="536"/>
                  <a:pt x="200" y="576"/>
                </a:cubicBezTo>
                <a:cubicBezTo>
                  <a:pt x="216" y="616"/>
                  <a:pt x="240" y="416"/>
                  <a:pt x="248" y="384"/>
                </a:cubicBezTo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55600">
            <a:off x="3962160" y="3885840"/>
            <a:ext cx="457200" cy="685800"/>
          </a:xfrm>
          <a:custGeom>
            <a:avLst/>
            <a:gdLst/>
            <a:ahLst/>
            <a:rect l="l" t="t" r="r" b="b"/>
            <a:pathLst>
              <a:path w="504" h="584">
                <a:moveTo>
                  <a:pt x="224" y="144"/>
                </a:moveTo>
                <a:cubicBezTo>
                  <a:pt x="168" y="208"/>
                  <a:pt x="64" y="328"/>
                  <a:pt x="32" y="384"/>
                </a:cubicBezTo>
                <a:cubicBezTo>
                  <a:pt x="0" y="440"/>
                  <a:pt x="16" y="456"/>
                  <a:pt x="32" y="480"/>
                </a:cubicBezTo>
                <a:cubicBezTo>
                  <a:pt x="48" y="504"/>
                  <a:pt x="56" y="584"/>
                  <a:pt x="128" y="528"/>
                </a:cubicBezTo>
                <a:cubicBezTo>
                  <a:pt x="200" y="472"/>
                  <a:pt x="424" y="232"/>
                  <a:pt x="464" y="144"/>
                </a:cubicBezTo>
                <a:cubicBezTo>
                  <a:pt x="504" y="56"/>
                  <a:pt x="408" y="0"/>
                  <a:pt x="368" y="0"/>
                </a:cubicBezTo>
                <a:cubicBezTo>
                  <a:pt x="328" y="0"/>
                  <a:pt x="280" y="80"/>
                  <a:pt x="224" y="144"/>
                </a:cubicBez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19720" y="3733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rot="3312600">
            <a:off x="3695400" y="4533840"/>
            <a:ext cx="444600" cy="977400"/>
          </a:xfrm>
          <a:custGeom>
            <a:avLst/>
            <a:gdLst/>
            <a:ahLst/>
            <a:rect l="l" t="t" r="r" b="b"/>
            <a:pathLst>
              <a:path w="248" h="616">
                <a:moveTo>
                  <a:pt x="248" y="432"/>
                </a:moveTo>
                <a:cubicBezTo>
                  <a:pt x="244" y="264"/>
                  <a:pt x="240" y="96"/>
                  <a:pt x="200" y="48"/>
                </a:cubicBezTo>
                <a:cubicBezTo>
                  <a:pt x="160" y="0"/>
                  <a:pt x="16" y="128"/>
                  <a:pt x="8" y="144"/>
                </a:cubicBezTo>
                <a:cubicBezTo>
                  <a:pt x="0" y="160"/>
                  <a:pt x="120" y="72"/>
                  <a:pt x="152" y="144"/>
                </a:cubicBezTo>
                <a:cubicBezTo>
                  <a:pt x="184" y="216"/>
                  <a:pt x="184" y="536"/>
                  <a:pt x="200" y="576"/>
                </a:cubicBezTo>
                <a:cubicBezTo>
                  <a:pt x="216" y="616"/>
                  <a:pt x="240" y="416"/>
                  <a:pt x="248" y="384"/>
                </a:cubicBezTo>
              </a:path>
            </a:pathLst>
          </a:custGeom>
          <a:solidFill>
            <a:srgbClr val="33cc3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8135400">
            <a:off x="5969160" y="3341520"/>
            <a:ext cx="1371600" cy="13716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114800"/>
            <a:ext cx="1600200" cy="1523880"/>
          </a:xfrm>
          <a:prstGeom prst="rect">
            <a:avLst/>
          </a:prstGeom>
          <a:gradFill rotWithShape="0">
            <a:gsLst>
              <a:gs pos="0">
                <a:srgbClr val="ffff5b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267080"/>
            <a:ext cx="12189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3434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2578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419720"/>
            <a:ext cx="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0292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518148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5720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518148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0292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419720"/>
            <a:ext cx="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629400" y="43434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629400" y="464796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943600"/>
            <a:ext cx="304560" cy="304920"/>
          </a:xfrm>
          <a:prstGeom prst="ellipse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563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638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4200">
            <a:off x="6171840" y="5866920"/>
            <a:ext cx="24120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96" y="0"/>
                </a:moveTo>
                <a:cubicBezTo>
                  <a:pt x="48" y="0"/>
                  <a:pt x="0" y="0"/>
                  <a:pt x="0" y="48"/>
                </a:cubicBezTo>
                <a:cubicBezTo>
                  <a:pt x="0" y="96"/>
                  <a:pt x="72" y="288"/>
                  <a:pt x="96" y="288"/>
                </a:cubicBezTo>
                <a:cubicBezTo>
                  <a:pt x="120" y="288"/>
                  <a:pt x="152" y="96"/>
                  <a:pt x="144" y="48"/>
                </a:cubicBezTo>
                <a:cubicBezTo>
                  <a:pt x="136" y="0"/>
                  <a:pt x="64" y="8"/>
                  <a:pt x="48" y="0"/>
                </a:cubicBezTo>
              </a:path>
            </a:pathLst>
          </a:custGeom>
          <a:solidFill>
            <a:srgbClr val="9f6f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4200">
            <a:off x="6857640" y="6248160"/>
            <a:ext cx="24120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96" y="0"/>
                </a:moveTo>
                <a:cubicBezTo>
                  <a:pt x="48" y="0"/>
                  <a:pt x="0" y="0"/>
                  <a:pt x="0" y="48"/>
                </a:cubicBezTo>
                <a:cubicBezTo>
                  <a:pt x="0" y="96"/>
                  <a:pt x="72" y="288"/>
                  <a:pt x="96" y="288"/>
                </a:cubicBezTo>
                <a:cubicBezTo>
                  <a:pt x="120" y="288"/>
                  <a:pt x="152" y="96"/>
                  <a:pt x="144" y="48"/>
                </a:cubicBezTo>
                <a:cubicBezTo>
                  <a:pt x="136" y="0"/>
                  <a:pt x="64" y="8"/>
                  <a:pt x="48" y="0"/>
                </a:cubicBezTo>
              </a:path>
            </a:pathLst>
          </a:custGeom>
          <a:solidFill>
            <a:srgbClr val="9f6f3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92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420"/>
                            </p:stCondLst>
                            <p:childTnLst>
                              <p:par>
                                <p:cTn id="2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5029200"/>
            <a:ext cx="1600200" cy="1282680"/>
          </a:xfrm>
          <a:custGeom>
            <a:avLst/>
            <a:gdLst/>
            <a:ahLst/>
            <a:rect l="l" t="t" r="r" b="b"/>
            <a:pathLst>
              <a:path w="976" h="808">
                <a:moveTo>
                  <a:pt x="152" y="24"/>
                </a:moveTo>
                <a:cubicBezTo>
                  <a:pt x="56" y="40"/>
                  <a:pt x="200" y="88"/>
                  <a:pt x="200" y="120"/>
                </a:cubicBezTo>
                <a:cubicBezTo>
                  <a:pt x="200" y="152"/>
                  <a:pt x="184" y="160"/>
                  <a:pt x="152" y="216"/>
                </a:cubicBezTo>
                <a:cubicBezTo>
                  <a:pt x="120" y="272"/>
                  <a:pt x="16" y="376"/>
                  <a:pt x="8" y="456"/>
                </a:cubicBezTo>
                <a:cubicBezTo>
                  <a:pt x="0" y="536"/>
                  <a:pt x="64" y="640"/>
                  <a:pt x="104" y="696"/>
                </a:cubicBezTo>
                <a:cubicBezTo>
                  <a:pt x="144" y="752"/>
                  <a:pt x="144" y="776"/>
                  <a:pt x="248" y="792"/>
                </a:cubicBezTo>
                <a:cubicBezTo>
                  <a:pt x="352" y="808"/>
                  <a:pt x="624" y="808"/>
                  <a:pt x="728" y="792"/>
                </a:cubicBezTo>
                <a:cubicBezTo>
                  <a:pt x="832" y="776"/>
                  <a:pt x="832" y="744"/>
                  <a:pt x="872" y="696"/>
                </a:cubicBezTo>
                <a:cubicBezTo>
                  <a:pt x="912" y="648"/>
                  <a:pt x="960" y="560"/>
                  <a:pt x="968" y="504"/>
                </a:cubicBezTo>
                <a:cubicBezTo>
                  <a:pt x="976" y="448"/>
                  <a:pt x="960" y="416"/>
                  <a:pt x="920" y="360"/>
                </a:cubicBezTo>
                <a:cubicBezTo>
                  <a:pt x="880" y="304"/>
                  <a:pt x="752" y="224"/>
                  <a:pt x="728" y="168"/>
                </a:cubicBezTo>
                <a:cubicBezTo>
                  <a:pt x="704" y="112"/>
                  <a:pt x="872" y="48"/>
                  <a:pt x="776" y="24"/>
                </a:cubicBezTo>
                <a:cubicBezTo>
                  <a:pt x="680" y="0"/>
                  <a:pt x="248" y="8"/>
                  <a:pt x="152" y="24"/>
                </a:cubicBez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414000">
            <a:off x="7987320" y="606960"/>
            <a:ext cx="69444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0" y="7923"/>
                </a:moveTo>
                <a:arcTo wR="10800" hR="10800" stAng="-9873069" swAng="15826632"/>
                <a:lnTo>
                  <a:pt x="10800" y="10800"/>
                </a:lnTo>
                <a:close/>
              </a:path>
              <a:path fill="none" w="21600" h="21600">
                <a:moveTo>
                  <a:pt x="390" y="7923"/>
                </a:moveTo>
                <a:arcTo wR="10800" hR="10800" stAng="-9873069" swAng="15826632"/>
              </a:path>
            </a:pathLst>
          </a:custGeom>
          <a:noFill/>
          <a:ln w="7632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040" y="1297080"/>
            <a:ext cx="9118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5135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5135547"/>
              </a:path>
            </a:pathLst>
          </a:custGeom>
          <a:noFill/>
          <a:ln w="76320">
            <a:solidFill>
              <a:srgbClr val="fff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5228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 вот это – посмотри, Выступает циф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5b"/>
                </a:solidFill>
                <a:latin typeface="Arial"/>
              </a:rPr>
              <a:t>тр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ройка – третий из значков – Состоит из двух крюч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96080" y="3124080"/>
            <a:ext cx="998640" cy="213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90720" y="4952880"/>
            <a:ext cx="121896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5029200"/>
            <a:ext cx="9907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f6d6ef"/>
          </a:solidFill>
          <a:ln w="9360">
            <a:solidFill>
              <a:srgbClr val="f6d6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124080"/>
            <a:ext cx="1562040" cy="2006640"/>
          </a:xfrm>
          <a:custGeom>
            <a:avLst/>
            <a:gdLst/>
            <a:ahLst/>
            <a:rect l="l" t="t" r="r" b="b"/>
            <a:pathLst>
              <a:path w="1480" h="2280">
                <a:moveTo>
                  <a:pt x="120" y="392"/>
                </a:moveTo>
                <a:cubicBezTo>
                  <a:pt x="224" y="348"/>
                  <a:pt x="328" y="304"/>
                  <a:pt x="360" y="296"/>
                </a:cubicBezTo>
                <a:cubicBezTo>
                  <a:pt x="392" y="288"/>
                  <a:pt x="336" y="320"/>
                  <a:pt x="312" y="344"/>
                </a:cubicBezTo>
                <a:cubicBezTo>
                  <a:pt x="288" y="368"/>
                  <a:pt x="240" y="416"/>
                  <a:pt x="216" y="440"/>
                </a:cubicBezTo>
                <a:cubicBezTo>
                  <a:pt x="192" y="464"/>
                  <a:pt x="160" y="472"/>
                  <a:pt x="168" y="488"/>
                </a:cubicBezTo>
                <a:cubicBezTo>
                  <a:pt x="176" y="504"/>
                  <a:pt x="224" y="536"/>
                  <a:pt x="264" y="536"/>
                </a:cubicBezTo>
                <a:cubicBezTo>
                  <a:pt x="304" y="536"/>
                  <a:pt x="368" y="528"/>
                  <a:pt x="408" y="488"/>
                </a:cubicBezTo>
                <a:cubicBezTo>
                  <a:pt x="448" y="448"/>
                  <a:pt x="480" y="336"/>
                  <a:pt x="504" y="296"/>
                </a:cubicBezTo>
                <a:cubicBezTo>
                  <a:pt x="528" y="256"/>
                  <a:pt x="512" y="264"/>
                  <a:pt x="552" y="248"/>
                </a:cubicBezTo>
                <a:cubicBezTo>
                  <a:pt x="592" y="232"/>
                  <a:pt x="672" y="192"/>
                  <a:pt x="744" y="200"/>
                </a:cubicBezTo>
                <a:cubicBezTo>
                  <a:pt x="816" y="208"/>
                  <a:pt x="936" y="240"/>
                  <a:pt x="984" y="296"/>
                </a:cubicBezTo>
                <a:cubicBezTo>
                  <a:pt x="1032" y="352"/>
                  <a:pt x="1032" y="472"/>
                  <a:pt x="1032" y="536"/>
                </a:cubicBezTo>
                <a:cubicBezTo>
                  <a:pt x="1032" y="600"/>
                  <a:pt x="1024" y="632"/>
                  <a:pt x="984" y="680"/>
                </a:cubicBezTo>
                <a:cubicBezTo>
                  <a:pt x="944" y="728"/>
                  <a:pt x="856" y="792"/>
                  <a:pt x="792" y="824"/>
                </a:cubicBezTo>
                <a:cubicBezTo>
                  <a:pt x="728" y="856"/>
                  <a:pt x="600" y="856"/>
                  <a:pt x="600" y="872"/>
                </a:cubicBezTo>
                <a:cubicBezTo>
                  <a:pt x="600" y="888"/>
                  <a:pt x="704" y="888"/>
                  <a:pt x="792" y="920"/>
                </a:cubicBezTo>
                <a:cubicBezTo>
                  <a:pt x="880" y="952"/>
                  <a:pt x="1056" y="1008"/>
                  <a:pt x="1128" y="1064"/>
                </a:cubicBezTo>
                <a:cubicBezTo>
                  <a:pt x="1200" y="1120"/>
                  <a:pt x="1208" y="1176"/>
                  <a:pt x="1224" y="1256"/>
                </a:cubicBezTo>
                <a:cubicBezTo>
                  <a:pt x="1240" y="1336"/>
                  <a:pt x="1256" y="1456"/>
                  <a:pt x="1224" y="1544"/>
                </a:cubicBezTo>
                <a:cubicBezTo>
                  <a:pt x="1192" y="1632"/>
                  <a:pt x="1104" y="1728"/>
                  <a:pt x="1032" y="1784"/>
                </a:cubicBezTo>
                <a:cubicBezTo>
                  <a:pt x="960" y="1840"/>
                  <a:pt x="896" y="1864"/>
                  <a:pt x="792" y="1880"/>
                </a:cubicBezTo>
                <a:cubicBezTo>
                  <a:pt x="688" y="1896"/>
                  <a:pt x="512" y="1864"/>
                  <a:pt x="408" y="1880"/>
                </a:cubicBezTo>
                <a:cubicBezTo>
                  <a:pt x="304" y="1896"/>
                  <a:pt x="232" y="1912"/>
                  <a:pt x="168" y="1976"/>
                </a:cubicBezTo>
                <a:cubicBezTo>
                  <a:pt x="104" y="2040"/>
                  <a:pt x="16" y="2248"/>
                  <a:pt x="24" y="2264"/>
                </a:cubicBezTo>
                <a:cubicBezTo>
                  <a:pt x="32" y="2280"/>
                  <a:pt x="112" y="2112"/>
                  <a:pt x="216" y="2072"/>
                </a:cubicBezTo>
                <a:cubicBezTo>
                  <a:pt x="320" y="2032"/>
                  <a:pt x="496" y="2032"/>
                  <a:pt x="648" y="2024"/>
                </a:cubicBezTo>
                <a:cubicBezTo>
                  <a:pt x="800" y="2016"/>
                  <a:pt x="1000" y="2072"/>
                  <a:pt x="1128" y="2024"/>
                </a:cubicBezTo>
                <a:cubicBezTo>
                  <a:pt x="1256" y="1976"/>
                  <a:pt x="1360" y="1880"/>
                  <a:pt x="1416" y="1736"/>
                </a:cubicBezTo>
                <a:cubicBezTo>
                  <a:pt x="1472" y="1592"/>
                  <a:pt x="1480" y="1296"/>
                  <a:pt x="1464" y="1160"/>
                </a:cubicBezTo>
                <a:cubicBezTo>
                  <a:pt x="1448" y="1024"/>
                  <a:pt x="1384" y="976"/>
                  <a:pt x="1320" y="920"/>
                </a:cubicBezTo>
                <a:cubicBezTo>
                  <a:pt x="1256" y="864"/>
                  <a:pt x="1088" y="880"/>
                  <a:pt x="1080" y="824"/>
                </a:cubicBezTo>
                <a:cubicBezTo>
                  <a:pt x="1072" y="768"/>
                  <a:pt x="1248" y="696"/>
                  <a:pt x="1272" y="584"/>
                </a:cubicBezTo>
                <a:cubicBezTo>
                  <a:pt x="1296" y="472"/>
                  <a:pt x="1296" y="248"/>
                  <a:pt x="1224" y="152"/>
                </a:cubicBezTo>
                <a:cubicBezTo>
                  <a:pt x="1152" y="56"/>
                  <a:pt x="960" y="16"/>
                  <a:pt x="840" y="8"/>
                </a:cubicBezTo>
                <a:cubicBezTo>
                  <a:pt x="720" y="0"/>
                  <a:pt x="584" y="96"/>
                  <a:pt x="504" y="104"/>
                </a:cubicBezTo>
                <a:cubicBezTo>
                  <a:pt x="424" y="112"/>
                  <a:pt x="416" y="64"/>
                  <a:pt x="360" y="56"/>
                </a:cubicBezTo>
                <a:cubicBezTo>
                  <a:pt x="304" y="48"/>
                  <a:pt x="224" y="32"/>
                  <a:pt x="168" y="56"/>
                </a:cubicBezTo>
                <a:cubicBezTo>
                  <a:pt x="112" y="80"/>
                  <a:pt x="48" y="136"/>
                  <a:pt x="24" y="200"/>
                </a:cubicBezTo>
                <a:cubicBezTo>
                  <a:pt x="0" y="264"/>
                  <a:pt x="0" y="416"/>
                  <a:pt x="24" y="440"/>
                </a:cubicBezTo>
                <a:cubicBezTo>
                  <a:pt x="48" y="464"/>
                  <a:pt x="144" y="360"/>
                  <a:pt x="168" y="344"/>
                </a:cubicBezTo>
              </a:path>
            </a:pathLst>
          </a:custGeom>
          <a:solidFill>
            <a:srgbClr val="c0c0c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352680"/>
            <a:ext cx="228600" cy="22860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cubicBezTo>
                  <a:pt x="32" y="136"/>
                  <a:pt x="64" y="80"/>
                  <a:pt x="96" y="48"/>
                </a:cubicBezTo>
                <a:cubicBezTo>
                  <a:pt x="128" y="16"/>
                  <a:pt x="160" y="8"/>
                  <a:pt x="192" y="0"/>
                </a:cubicBez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429000"/>
            <a:ext cx="533160" cy="30492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0"/>
                </a:moveTo>
                <a:cubicBezTo>
                  <a:pt x="300" y="8"/>
                  <a:pt x="264" y="16"/>
                  <a:pt x="240" y="48"/>
                </a:cubicBezTo>
                <a:cubicBezTo>
                  <a:pt x="216" y="80"/>
                  <a:pt x="224" y="160"/>
                  <a:pt x="192" y="192"/>
                </a:cubicBezTo>
                <a:cubicBezTo>
                  <a:pt x="160" y="224"/>
                  <a:pt x="80" y="216"/>
                  <a:pt x="48" y="240"/>
                </a:cubicBezTo>
                <a:cubicBezTo>
                  <a:pt x="16" y="264"/>
                  <a:pt x="8" y="320"/>
                  <a:pt x="0" y="3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65760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8"/>
                </a:moveTo>
                <a:cubicBezTo>
                  <a:pt x="28" y="28"/>
                  <a:pt x="8" y="8"/>
                  <a:pt x="0" y="0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200400"/>
            <a:ext cx="76320" cy="763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24080"/>
            <a:ext cx="7632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600200" y="3124080"/>
            <a:ext cx="76320" cy="763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2767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7984400">
            <a:off x="2170080" y="3158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6125400">
            <a:off x="2442240" y="3165840"/>
            <a:ext cx="152280" cy="74880"/>
          </a:xfrm>
          <a:prstGeom prst="triangle">
            <a:avLst>
              <a:gd name="adj" fmla="val 249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581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962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4419720"/>
            <a:ext cx="152280" cy="152280"/>
          </a:xfrm>
          <a:prstGeom prst="triangle">
            <a:avLst>
              <a:gd name="adj" fmla="val 791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0" t="0" r="0" b="4166"/>
          <a:stretch/>
        </p:blipFill>
        <p:spPr>
          <a:xfrm>
            <a:off x="3124080" y="3886200"/>
            <a:ext cx="197028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0" t="0" r="0" b="4166"/>
          <a:stretch/>
        </p:blipFill>
        <p:spPr>
          <a:xfrm>
            <a:off x="5486400" y="3200400"/>
            <a:ext cx="170496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15588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200"/>
                            </p:stCondLst>
                            <p:childTnLst>
                              <p:par>
                                <p:cTn id="42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848720" y="533520"/>
            <a:ext cx="380880" cy="9144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153280" y="838080"/>
            <a:ext cx="533520" cy="129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2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5b"/>
                </a:solidFill>
                <a:latin typeface="Arial"/>
              </a:rPr>
              <a:t>Цифра новая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четыре</a:t>
            </a:r>
            <a:r>
              <a:rPr b="1" lang="en-US" sz="4000" spc="-1" strike="noStrike">
                <a:solidFill>
                  <a:srgbClr val="ffff5b"/>
                </a:solidFill>
                <a:latin typeface="Arial"/>
              </a:rPr>
              <a:t>.  Стол стоит  у нас в квартире,             Сколько ножек у него – У стола у тво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396252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191120"/>
            <a:ext cx="228600" cy="1904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4191120"/>
            <a:ext cx="228600" cy="1904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105520"/>
            <a:ext cx="2819160" cy="152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3040" y="3962520"/>
            <a:ext cx="4673880" cy="546120"/>
          </a:xfrm>
          <a:custGeom>
            <a:avLst/>
            <a:gdLst/>
            <a:ahLst/>
            <a:rect l="l" t="t" r="r" b="b"/>
            <a:pathLst>
              <a:path w="2912" h="344">
                <a:moveTo>
                  <a:pt x="112" y="0"/>
                </a:moveTo>
                <a:cubicBezTo>
                  <a:pt x="72" y="96"/>
                  <a:pt x="32" y="192"/>
                  <a:pt x="16" y="240"/>
                </a:cubicBezTo>
                <a:cubicBezTo>
                  <a:pt x="0" y="288"/>
                  <a:pt x="0" y="296"/>
                  <a:pt x="16" y="288"/>
                </a:cubicBezTo>
                <a:cubicBezTo>
                  <a:pt x="32" y="280"/>
                  <a:pt x="80" y="192"/>
                  <a:pt x="112" y="192"/>
                </a:cubicBezTo>
                <a:cubicBezTo>
                  <a:pt x="144" y="192"/>
                  <a:pt x="168" y="288"/>
                  <a:pt x="208" y="288"/>
                </a:cubicBezTo>
                <a:cubicBezTo>
                  <a:pt x="248" y="288"/>
                  <a:pt x="304" y="200"/>
                  <a:pt x="352" y="192"/>
                </a:cubicBezTo>
                <a:cubicBezTo>
                  <a:pt x="400" y="184"/>
                  <a:pt x="440" y="240"/>
                  <a:pt x="496" y="240"/>
                </a:cubicBezTo>
                <a:cubicBezTo>
                  <a:pt x="552" y="240"/>
                  <a:pt x="632" y="184"/>
                  <a:pt x="688" y="192"/>
                </a:cubicBezTo>
                <a:cubicBezTo>
                  <a:pt x="744" y="200"/>
                  <a:pt x="784" y="288"/>
                  <a:pt x="832" y="288"/>
                </a:cubicBezTo>
                <a:cubicBezTo>
                  <a:pt x="880" y="288"/>
                  <a:pt x="928" y="192"/>
                  <a:pt x="976" y="192"/>
                </a:cubicBezTo>
                <a:cubicBezTo>
                  <a:pt x="1024" y="192"/>
                  <a:pt x="1072" y="288"/>
                  <a:pt x="1120" y="288"/>
                </a:cubicBezTo>
                <a:cubicBezTo>
                  <a:pt x="1168" y="288"/>
                  <a:pt x="1216" y="192"/>
                  <a:pt x="1264" y="192"/>
                </a:cubicBezTo>
                <a:cubicBezTo>
                  <a:pt x="1312" y="192"/>
                  <a:pt x="1352" y="288"/>
                  <a:pt x="1408" y="288"/>
                </a:cubicBezTo>
                <a:cubicBezTo>
                  <a:pt x="1464" y="288"/>
                  <a:pt x="1536" y="192"/>
                  <a:pt x="1600" y="192"/>
                </a:cubicBezTo>
                <a:cubicBezTo>
                  <a:pt x="1664" y="192"/>
                  <a:pt x="1736" y="288"/>
                  <a:pt x="1792" y="288"/>
                </a:cubicBezTo>
                <a:cubicBezTo>
                  <a:pt x="1848" y="288"/>
                  <a:pt x="1888" y="192"/>
                  <a:pt x="1936" y="192"/>
                </a:cubicBezTo>
                <a:cubicBezTo>
                  <a:pt x="1984" y="192"/>
                  <a:pt x="2032" y="296"/>
                  <a:pt x="2080" y="288"/>
                </a:cubicBezTo>
                <a:cubicBezTo>
                  <a:pt x="2128" y="280"/>
                  <a:pt x="2160" y="136"/>
                  <a:pt x="2224" y="144"/>
                </a:cubicBezTo>
                <a:cubicBezTo>
                  <a:pt x="2288" y="152"/>
                  <a:pt x="2400" y="328"/>
                  <a:pt x="2464" y="336"/>
                </a:cubicBezTo>
                <a:cubicBezTo>
                  <a:pt x="2528" y="344"/>
                  <a:pt x="2560" y="200"/>
                  <a:pt x="2608" y="192"/>
                </a:cubicBezTo>
                <a:cubicBezTo>
                  <a:pt x="2656" y="184"/>
                  <a:pt x="2704" y="272"/>
                  <a:pt x="2752" y="288"/>
                </a:cubicBezTo>
                <a:cubicBezTo>
                  <a:pt x="2800" y="304"/>
                  <a:pt x="2912" y="336"/>
                  <a:pt x="2896" y="288"/>
                </a:cubicBezTo>
                <a:cubicBezTo>
                  <a:pt x="2880" y="240"/>
                  <a:pt x="2696" y="48"/>
                  <a:pt x="2656" y="0"/>
                </a:cubicBezTo>
              </a:path>
            </a:pathLst>
          </a:custGeom>
          <a:solidFill>
            <a:srgbClr val="3333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343400"/>
            <a:ext cx="2057400" cy="1981080"/>
          </a:xfrm>
          <a:prstGeom prst="ellipse">
            <a:avLst/>
          </a:prstGeom>
          <a:solidFill>
            <a:srgbClr val="21cd2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54100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54100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9528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4952880"/>
            <a:ext cx="304920" cy="304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18088800">
            <a:off x="7293600" y="2840400"/>
            <a:ext cx="1461960" cy="1419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 rot="3100200">
            <a:off x="5464800" y="2459520"/>
            <a:ext cx="14623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96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96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076960" y="533520"/>
            <a:ext cx="152280" cy="60948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771600">
            <a:off x="7821360" y="1055880"/>
            <a:ext cx="788040" cy="106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67" y="2200"/>
                </a:moveTo>
                <a:arcTo wR="10800" hR="10800" stAng="-7633479" swAng="16131244"/>
                <a:lnTo>
                  <a:pt x="10800" y="10800"/>
                </a:lnTo>
                <a:close/>
              </a:path>
              <a:path fill="none" w="21600" h="21600">
                <a:moveTo>
                  <a:pt x="4267" y="2200"/>
                </a:moveTo>
                <a:arcTo wR="10800" hR="10800" stAng="-7633479" swAng="16131244"/>
              </a:path>
            </a:pathLst>
          </a:cu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8267760" y="340920"/>
            <a:ext cx="304200" cy="38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46" y="111"/>
                </a:moveTo>
                <a:arcTo wR="10800" hR="10800" stAng="-4906208" swAng="9773543"/>
                <a:lnTo>
                  <a:pt x="10800" y="10800"/>
                </a:lnTo>
                <a:close/>
              </a:path>
              <a:path fill="none" w="21600" h="21600">
                <a:moveTo>
                  <a:pt x="12346" y="111"/>
                </a:moveTo>
                <a:arcTo wR="10800" hR="10800" stAng="-4906208" swAng="9773543"/>
              </a:path>
            </a:pathLst>
          </a:cu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5228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А вот это – цифра </a:t>
            </a:r>
            <a:r>
              <a:rPr b="1" lang="en-US" sz="4000" spc="-1" strike="noStrike">
                <a:solidFill>
                  <a:srgbClr val="21cd25"/>
                </a:solidFill>
                <a:latin typeface="Arial"/>
              </a:rPr>
              <a:t>пят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! До пяти легко считать. Каждый пальчик подержи, Цифру пальчиком скаж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2743200"/>
            <a:ext cx="1752480" cy="1676520"/>
          </a:xfrm>
          <a:prstGeom prst="star5">
            <a:avLst/>
          </a:prstGeom>
          <a:solidFill>
            <a:srgbClr val="fc082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>
            <a:lum bright="-6000"/>
          </a:blip>
          <a:srcRect l="0" t="0" r="5480" b="5457"/>
          <a:stretch/>
        </p:blipFill>
        <p:spPr>
          <a:xfrm>
            <a:off x="1066680" y="3809880"/>
            <a:ext cx="2133720" cy="26672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09880" y="4114800"/>
            <a:ext cx="3733920" cy="2270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5b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c082b"/>
                </a:solidFill>
                <a:latin typeface="Arial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9900ff"/>
                </a:solidFill>
                <a:latin typeface="Arial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21cd25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160"/>
                            </p:stCondLst>
                            <p:childTnLst>
                              <p:par>
                                <p:cTn id="5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160"/>
                            </p:stCondLst>
                            <p:childTnLst>
                              <p:par>
                                <p:cTn id="5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216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56600">
            <a:off x="4568760" y="2822400"/>
            <a:ext cx="1060560" cy="135864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895480"/>
            <a:ext cx="762120" cy="135900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2743200"/>
            <a:ext cx="762120" cy="1359000"/>
          </a:xfrm>
          <a:custGeom>
            <a:avLst/>
            <a:gdLst/>
            <a:ahLst/>
            <a:rect l="l" t="t" r="r" b="b"/>
            <a:pathLst>
              <a:path w="912" h="1712">
                <a:moveTo>
                  <a:pt x="912" y="40"/>
                </a:moveTo>
                <a:cubicBezTo>
                  <a:pt x="912" y="0"/>
                  <a:pt x="584" y="440"/>
                  <a:pt x="432" y="712"/>
                </a:cubicBezTo>
                <a:cubicBezTo>
                  <a:pt x="280" y="984"/>
                  <a:pt x="0" y="1632"/>
                  <a:pt x="0" y="1672"/>
                </a:cubicBezTo>
                <a:cubicBezTo>
                  <a:pt x="0" y="1712"/>
                  <a:pt x="280" y="1224"/>
                  <a:pt x="432" y="952"/>
                </a:cubicBezTo>
                <a:cubicBezTo>
                  <a:pt x="584" y="680"/>
                  <a:pt x="912" y="80"/>
                  <a:pt x="912" y="40"/>
                </a:cubicBezTo>
                <a:close/>
              </a:path>
            </a:pathLst>
          </a:custGeom>
          <a:solidFill>
            <a:srgbClr val="008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430800">
            <a:off x="7814880" y="536400"/>
            <a:ext cx="923400" cy="242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22" y="1805"/>
                </a:moveTo>
                <a:arcTo wR="10800" hR="10800" stAng="-7416398" swAng="6846076"/>
                <a:lnTo>
                  <a:pt x="10800" y="10800"/>
                </a:lnTo>
                <a:close/>
              </a:path>
              <a:path fill="none" w="21600" h="21600">
                <a:moveTo>
                  <a:pt x="4822" y="1805"/>
                </a:moveTo>
                <a:arcTo wR="10800" hR="10800" stAng="-7416398" swAng="6846076"/>
              </a:path>
            </a:pathLst>
          </a:cu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732000">
            <a:off x="7830720" y="1139400"/>
            <a:ext cx="760320" cy="1003320"/>
          </a:xfrm>
          <a:prstGeom prst="ellipse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5228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4cf17"/>
                </a:solidFill>
                <a:latin typeface="Arial"/>
              </a:rPr>
              <a:t>Цифр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шесть</a:t>
            </a:r>
            <a:r>
              <a:rPr b="1" lang="en-US" sz="4000" spc="-1" strike="noStrike">
                <a:solidFill>
                  <a:srgbClr val="24cf17"/>
                </a:solidFill>
                <a:latin typeface="Arial"/>
              </a:rPr>
              <a:t> –     дверной замочек:                   Сверху крюк,            внизу кружоче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3505320"/>
            <a:ext cx="304920" cy="297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505320"/>
            <a:ext cx="304560" cy="29718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657600"/>
            <a:ext cx="1828800" cy="2819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657600"/>
            <a:ext cx="7632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809880" y="3657600"/>
            <a:ext cx="1526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90760" y="3657600"/>
            <a:ext cx="759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3657600"/>
            <a:ext cx="7632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3886200"/>
            <a:ext cx="152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152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3962520"/>
            <a:ext cx="1522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791320"/>
            <a:ext cx="1522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0" r="44188" b="0"/>
          <a:stretch/>
        </p:blipFill>
        <p:spPr>
          <a:xfrm>
            <a:off x="5105520" y="3200400"/>
            <a:ext cx="3124080" cy="325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9528" t="0" r="44188" b="0"/>
          <a:stretch/>
        </p:blipFill>
        <p:spPr>
          <a:xfrm>
            <a:off x="152280" y="3200400"/>
            <a:ext cx="2590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895480" y="4800600"/>
            <a:ext cx="609840" cy="609480"/>
          </a:xfrm>
          <a:prstGeom prst="ellipse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876920"/>
            <a:ext cx="4572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5029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343400"/>
            <a:ext cx="381240" cy="152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4343400"/>
            <a:ext cx="685800" cy="533520"/>
          </a:xfrm>
          <a:custGeom>
            <a:avLst/>
            <a:gdLst/>
            <a:ahLst/>
            <a:rect l="l" t="t" r="r" b="b"/>
            <a:pathLst>
              <a:path w="432" h="336">
                <a:moveTo>
                  <a:pt x="0" y="336"/>
                </a:moveTo>
                <a:cubicBezTo>
                  <a:pt x="40" y="216"/>
                  <a:pt x="80" y="96"/>
                  <a:pt x="144" y="48"/>
                </a:cubicBezTo>
                <a:cubicBezTo>
                  <a:pt x="208" y="0"/>
                  <a:pt x="336" y="24"/>
                  <a:pt x="384" y="48"/>
                </a:cubicBezTo>
                <a:cubicBezTo>
                  <a:pt x="432" y="72"/>
                  <a:pt x="432" y="160"/>
                  <a:pt x="432" y="192"/>
                </a:cubicBezTo>
                <a:cubicBezTo>
                  <a:pt x="432" y="224"/>
                  <a:pt x="400" y="248"/>
                  <a:pt x="384" y="240"/>
                </a:cubicBezTo>
                <a:cubicBezTo>
                  <a:pt x="368" y="232"/>
                  <a:pt x="352" y="168"/>
                  <a:pt x="336" y="144"/>
                </a:cubicBezTo>
                <a:cubicBezTo>
                  <a:pt x="320" y="120"/>
                  <a:pt x="312" y="104"/>
                  <a:pt x="288" y="96"/>
                </a:cubicBezTo>
                <a:cubicBezTo>
                  <a:pt x="264" y="88"/>
                  <a:pt x="224" y="64"/>
                  <a:pt x="192" y="96"/>
                </a:cubicBezTo>
                <a:cubicBezTo>
                  <a:pt x="160" y="128"/>
                  <a:pt x="112" y="256"/>
                  <a:pt x="96" y="288"/>
                </a:cubicBezTo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191120"/>
            <a:ext cx="15228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952880" y="5562720"/>
            <a:ext cx="976320" cy="1128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49200" y="5410080"/>
            <a:ext cx="1108080" cy="1281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5943600" y="4800600"/>
            <a:ext cx="1501920" cy="1738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305000" cy="150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1371600" y="5181480"/>
            <a:ext cx="1362240" cy="1509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7391520" y="5410080"/>
            <a:ext cx="1295280" cy="13575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9"/>
          <a:stretch/>
        </p:blipFill>
        <p:spPr>
          <a:xfrm>
            <a:off x="4952880" y="266688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0"/>
          <a:stretch/>
        </p:blipFill>
        <p:spPr>
          <a:xfrm>
            <a:off x="5715000" y="205740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1"/>
          <a:stretch/>
        </p:blipFill>
        <p:spPr>
          <a:xfrm>
            <a:off x="5791320" y="327672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>
            <a:off x="6477120" y="259092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7238880" y="2971800"/>
            <a:ext cx="914400" cy="793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8001000" y="3352680"/>
            <a:ext cx="9144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8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8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58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58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58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8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61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102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86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520560"/>
            <a:ext cx="977760" cy="1613160"/>
          </a:xfrm>
          <a:custGeom>
            <a:avLst/>
            <a:gdLst/>
            <a:ahLst/>
            <a:rect l="l" t="t" r="r" b="b"/>
            <a:pathLst>
              <a:path w="616" h="1016">
                <a:moveTo>
                  <a:pt x="0" y="104"/>
                </a:moveTo>
                <a:cubicBezTo>
                  <a:pt x="24" y="56"/>
                  <a:pt x="48" y="8"/>
                  <a:pt x="96" y="8"/>
                </a:cubicBezTo>
                <a:cubicBezTo>
                  <a:pt x="144" y="8"/>
                  <a:pt x="208" y="104"/>
                  <a:pt x="288" y="104"/>
                </a:cubicBezTo>
                <a:cubicBezTo>
                  <a:pt x="368" y="104"/>
                  <a:pt x="536" y="16"/>
                  <a:pt x="576" y="8"/>
                </a:cubicBezTo>
                <a:cubicBezTo>
                  <a:pt x="616" y="0"/>
                  <a:pt x="560" y="0"/>
                  <a:pt x="528" y="56"/>
                </a:cubicBezTo>
                <a:cubicBezTo>
                  <a:pt x="496" y="112"/>
                  <a:pt x="464" y="184"/>
                  <a:pt x="384" y="344"/>
                </a:cubicBezTo>
                <a:cubicBezTo>
                  <a:pt x="304" y="504"/>
                  <a:pt x="104" y="904"/>
                  <a:pt x="48" y="101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14479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т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емёр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кочерга. У неё одна но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38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ем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точно острая коса.                         Коси, коса, пока ос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0" t="0" r="0" b="6025"/>
          <a:stretch/>
        </p:blipFill>
        <p:spPr>
          <a:xfrm>
            <a:off x="-152280" y="4481640"/>
            <a:ext cx="9524880" cy="237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1200" y="3352680"/>
            <a:ext cx="1908000" cy="2914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47712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 rot="443400">
            <a:off x="3048120" y="2590920"/>
            <a:ext cx="2790720" cy="3657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05720" y="2590920"/>
            <a:ext cx="106668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2666880"/>
            <a:ext cx="9907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37339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27432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8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403848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05920" y="3276720"/>
            <a:ext cx="533160" cy="53316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365760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53280" y="2514600"/>
            <a:ext cx="533520" cy="53352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2819520"/>
            <a:ext cx="533520" cy="533160"/>
          </a:xfrm>
          <a:custGeom>
            <a:avLst/>
            <a:gdLst>
              <a:gd name="textAreaLeft" fmla="*/ 219960 w 533520"/>
              <a:gd name="textAreaRight" fmla="*/ 313560 w 53352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66680" y="4572000"/>
            <a:ext cx="1216080" cy="1400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2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32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0:27:09Z</dcterms:created>
  <dc:creator>Андрей</dc:creator>
  <dc:description/>
  <dc:language>en-US</dc:language>
  <cp:lastModifiedBy>Андрей</cp:lastModifiedBy>
  <dcterms:modified xsi:type="dcterms:W3CDTF">2008-10-12T10:27:09Z</dcterms:modified>
  <cp:revision>1</cp:revision>
  <dc:subject/>
  <dc:title>Слайд 1</dc:title>
</cp:coreProperties>
</file>