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0720-AB20-4897-9AAD-7C47F62C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E721-F904-41A7-B0F5-6D167FDF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7E6-B30B-496B-BBB0-8B8EB002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5228-F6F5-4699-B1E8-A2665FC4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5E6-01E3-47C6-9C84-21E4FD78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696-44B8-4E4A-95A9-9576F520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6DF-CB84-43D0-9635-BA287E38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629-C0CE-4D81-8366-5507DDDF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DAE1-6740-4C83-805C-0758EB51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4957-5BD2-4ED0-873A-3F007BC1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B69-C3F0-43A2-B28C-3EB37D71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7F49-AEB0-4C13-84B3-5C66BFD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B0B93-4EDA-4259-B90C-5B4D8A0A67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nachalo4ka.ru/wp-content/uploads/2014/05/veselyie-rebyata-shablon-prevyu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843280" y="155736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«Весёлый язычок»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771640" y="5084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дготовила: Кузнецова О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-11160" y="-150840"/>
            <a:ext cx="9182160" cy="7008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826920" y="2349360"/>
            <a:ext cx="750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24000" y="549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дна из сложных высших психических функций человека, которая обеспечивается деятельностью головного мозг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ша речь - процесс общения, поэтому готовность или неготовность к обучению в школе во многом определяется уровнем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68360" y="549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68360" y="3213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395280" y="5493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истоту речи ребенка влияют такие факторы, к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39640" y="119700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й слу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внима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дыха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ой и речевой аппарат. Улучшить чистоту речи помогает артикуляционная гимнас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826920" y="765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икуляционная гимнаст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вокупность специальных упражнений, направленных на укрепление мышц речевого аппарата, развитие силы, подвижности и дифференцированных движений органов, принимающих участие в речевом проце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полноценных движений органов речи, необходимых для правильного произношения звуков, подготовка речевого аппарата к речевым нагруз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468360" y="69228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 плохой артикуляцией не умеет определять число звуков в слове; отстает во владении словарем и грамматическим строем речи; не умеет различать и выделять звуки на слух; затрудняется во владении навыками письма и как следствие не успевает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эта проблема не возникла у ребёнка в дальнейшем, стоит начать заниматься артикуляционной гимнастикой как можно ран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68360" y="47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достижения этой цели были поставлены такие задачи к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68360" y="13413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учить ребенка удерживать определенную артикуляционную по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вивать моторику речедвигательного аппарата, слухового восприятия, речевого слуха и речевого дых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креплять правильное произношение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Формировать умение определять место звука в слове (начало, середина, коне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рабатывать дик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оспитывать у детей интерес к артикуляционной гимнастике, сформировать желание заним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-49320" y="-55440"/>
            <a:ext cx="9193320" cy="69134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468360" y="40464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возрастном периоде у детей имеются свои недостатки в звуковой культуре речи. Соответственно и в каждом возрасте требуется определенный вид работы над выработкой правильного звукопроизношения. В связи с этими особенностями был намечен план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лан включены все виды деятельности, направленные на формирование правильного звукопроизношения (артикуляционная гимнастика, чистоговорки, скороговорки, дыхательная гимнастика, пальчиковые игр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средней  группе направлена на формирование и закрепление правильного произношения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24000" y="26028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одя артикуляционную гимнастику необходимо выполнять следующие рекоменд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24000" y="112536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артикуляционную гимнастику нужно ежедневно, чтобы вырабатываемые у детей навыки закреплялись. Выполнять по 5-7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и отборе упражнений для артикуляционной гимнастики надо соблюдать определенную последовательность, идти от простых упражнений к более слож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ую гимнастику выполняют сид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Ребенок должен хорошо видеть лицо взрослого, чтобы самостоятельно контролировать правильность выполнения упраж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24000" y="4005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468360" y="33336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улярное выполнение артикуляционной гимнастики помож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611280" y="148428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ть кровоснабжение и подвижность артикуляционных орган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крепить мышечную систему языка, губ, щё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учить ребёнка удерживать определённую артикуляционную по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величить амплитуду дв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ньшить напряжённость артикуляционных орган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готовить артикуляционный аппарат ребёнка к правильному произношению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06:30:25Z</dcterms:created>
  <dc:creator>мы Романовы</dc:creator>
  <dc:description/>
  <dc:language>en-US</dc:language>
  <cp:lastModifiedBy>Роман</cp:lastModifiedBy>
  <dcterms:modified xsi:type="dcterms:W3CDTF">2018-07-03T15:54:33Z</dcterms:modified>
  <cp:revision>50</cp:revision>
  <dc:subject/>
  <dc:title>Презентация PowerPoint</dc:title>
</cp:coreProperties>
</file>