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7C15-1FBB-442A-80F8-682C8A619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7C9-21BD-4406-A76B-71D6CCA8D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B214-F649-495F-AA2B-67C85B702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26E-0581-4EE1-9454-F387BD446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F523-989A-4821-A4C4-F6C08679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6694-0BF4-4882-B6C4-D4098CCFD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95D3-F232-4B8D-86F9-8C33BD9C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49BA-4072-43D3-851E-31A61980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505A-0D09-4C29-8A32-4C2E9E5DF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7B21-B251-405A-8E9E-697700749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D133-6191-40C8-82C2-04E3106D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4E86-808A-420A-AAE2-61B253DE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31421-B728-43EF-A5D9-C71A1BFA66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4" descr="http://nachalo4ka.ru/wp-content/uploads/2014/05/veselyie-rebyata-shablon-prevyu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3"/>
          <p:cNvSpPr/>
          <p:nvPr/>
        </p:nvSpPr>
        <p:spPr>
          <a:xfrm>
            <a:off x="2843280" y="1557360"/>
            <a:ext cx="576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00"/>
                </a:solidFill>
                <a:latin typeface="Calibri"/>
              </a:rPr>
              <a:t>«Весёлый язычок».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4"/>
          <p:cNvSpPr/>
          <p:nvPr/>
        </p:nvSpPr>
        <p:spPr>
          <a:xfrm>
            <a:off x="2771640" y="508464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дготовила: Кузнецова О.С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-11160" y="-150840"/>
            <a:ext cx="9182160" cy="70088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3"/>
          <p:cNvSpPr/>
          <p:nvPr/>
        </p:nvSpPr>
        <p:spPr>
          <a:xfrm>
            <a:off x="826920" y="2349360"/>
            <a:ext cx="7502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4"/>
          <p:cNvSpPr/>
          <p:nvPr/>
        </p:nvSpPr>
        <p:spPr>
          <a:xfrm>
            <a:off x="324000" y="549360"/>
            <a:ext cx="8569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одна из сложных высших психических функций человека, которая обеспечивается деятельностью головного мозга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Наша речь - процесс общения, поэтому готовность или неготовность к обучению в школе во многом определяется уровнем речевого развития. Ведь именно, при помощи речи устной и письменной ребенку предстоит усвоить всю систему знаний. Чем лучше у него будет развита речь до поступления в школу, тем быстрее ученик овладеет чтением и письмо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4"/>
          <p:cNvSpPr/>
          <p:nvPr/>
        </p:nvSpPr>
        <p:spPr>
          <a:xfrm>
            <a:off x="468360" y="54936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5"/>
          <p:cNvSpPr/>
          <p:nvPr/>
        </p:nvSpPr>
        <p:spPr>
          <a:xfrm>
            <a:off x="468360" y="3213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6"/>
          <p:cNvSpPr/>
          <p:nvPr/>
        </p:nvSpPr>
        <p:spPr>
          <a:xfrm>
            <a:off x="395280" y="549360"/>
            <a:ext cx="79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 чистоту речи ребенка влияют такие факторы, ка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7"/>
          <p:cNvSpPr/>
          <p:nvPr/>
        </p:nvSpPr>
        <p:spPr>
          <a:xfrm>
            <a:off x="539640" y="119700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й слух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вниман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дыхание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совой и речевой аппарат. Улучшить чистоту речи помогает артикуляционная гимнасти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7"/>
          <p:cNvSpPr/>
          <p:nvPr/>
        </p:nvSpPr>
        <p:spPr>
          <a:xfrm>
            <a:off x="826920" y="765000"/>
            <a:ext cx="7705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ртикуляционная гимнастика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вокупность специальных упражнений, направленных на укрепление мышц речевого аппарата, развитие силы, подвижности и дифференцированных движений органов, принимающих участие в речевом процес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: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ботка полноценных движений органов речи, необходимых для правильного произношения звуков, подготовка речевого аппарата к речевым нагрузк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6"/>
          <p:cNvSpPr/>
          <p:nvPr/>
        </p:nvSpPr>
        <p:spPr>
          <a:xfrm>
            <a:off x="468360" y="692280"/>
            <a:ext cx="7991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с плохой артикуляцией не умеет определять число звуков в слове; отстает во владении словарем и грамматическим строем речи; не умеет различать и выделять звуки на слух; затрудняется во владении навыками письма и как следствие не успевает в школ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эта проблема не возникла у ребёнка в дальнейшем, стоит начать заниматься артикуляционной гимнастикой как можно раньш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4"/>
          <p:cNvSpPr/>
          <p:nvPr/>
        </p:nvSpPr>
        <p:spPr>
          <a:xfrm>
            <a:off x="468360" y="476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достижения этой цели были поставлены такие задачи как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5"/>
          <p:cNvSpPr/>
          <p:nvPr/>
        </p:nvSpPr>
        <p:spPr>
          <a:xfrm>
            <a:off x="468360" y="1341360"/>
            <a:ext cx="8209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Научить ребенка удерживать определенную артикуляционную по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Развивать моторику речедвигательного аппарата, слухового восприятия, речевого слуха и речевого дых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Закреплять правильное произношение зву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Формировать умение определять место звука в слове (начало, середина, конец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Отрабатывать дик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Воспитывать у детей интерес к артикуляционной гимнастике, сформировать желание заниматьс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-49320" y="-55440"/>
            <a:ext cx="9193320" cy="69134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3"/>
          <p:cNvSpPr/>
          <p:nvPr/>
        </p:nvSpPr>
        <p:spPr>
          <a:xfrm>
            <a:off x="468360" y="404640"/>
            <a:ext cx="8207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ом возрастном периоде у детей имеются свои недостатки в звуковой культуре речи. Соответственно и в каждом возрасте требуется определенный вид работы над выработкой правильного звукопроизношения. В связи с этими особенностями был намечен план работ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т план включены все виды деятельности, направленные на формирование правильного звукопроизношения (артикуляционная гимнастика, чистоговорки, скороговорки, дыхательная гимнастика, пальчиковые игры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бота в средней  группе направлена на формирование и закрепление правильного произношения зву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3374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324000" y="260280"/>
            <a:ext cx="77040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водя артикуляционную гимнастику необходимо выполнять следующие рекомендации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4"/>
          <p:cNvSpPr/>
          <p:nvPr/>
        </p:nvSpPr>
        <p:spPr>
          <a:xfrm>
            <a:off x="324000" y="1125360"/>
            <a:ext cx="8353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дить артикуляционную гимнастику нужно ежедневно, чтобы вырабатываемые у детей навыки закреплялись. Выполнять по 5-7 мину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При отборе упражнений для артикуляционной гимнастики надо соблюдать определенную последовательность, идти от простых упражнений к более сложны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тикуляционную гимнастику выполняют сид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  Ребенок должен хорошо видеть лицо взрослого, чтобы самостоятельно контролировать правильность выполнения упражн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оугольник 5"/>
          <p:cNvSpPr/>
          <p:nvPr/>
        </p:nvSpPr>
        <p:spPr>
          <a:xfrm>
            <a:off x="324000" y="4005360"/>
            <a:ext cx="813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volna.org/wp-content/uploads/2016/09/07-1.jpg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Прямоугольник 6"/>
          <p:cNvSpPr/>
          <p:nvPr/>
        </p:nvSpPr>
        <p:spPr>
          <a:xfrm>
            <a:off x="468360" y="33336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зульта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гулярное выполнение артикуляционной гимнастики поможе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7"/>
          <p:cNvSpPr/>
          <p:nvPr/>
        </p:nvSpPr>
        <p:spPr>
          <a:xfrm>
            <a:off x="611280" y="1484280"/>
            <a:ext cx="792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ить кровоснабжение и подвижность артикуляционных орган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крепить мышечную систему языка, губ, щёк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научить ребёнка удерживать определённую артикуляционную поз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величить амплитуду движ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меньшить напряжённость артикуляционных органо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одготовить артикуляционный аппарат ребёнка к правильному произношению зву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12T06:30:25Z</dcterms:created>
  <dc:creator>мы Романовы</dc:creator>
  <dc:description/>
  <dc:language>en-US</dc:language>
  <cp:lastModifiedBy>Роман</cp:lastModifiedBy>
  <dcterms:modified xsi:type="dcterms:W3CDTF">2018-07-03T15:54:33Z</dcterms:modified>
  <cp:revision>50</cp:revision>
  <dc:subject/>
  <dc:title>Презентация PowerPoint</dc:title>
</cp:coreProperties>
</file>