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8B7-4C35-4112-A788-564C0908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515-A32F-4AC5-874A-09184DB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C4B-D5CD-4CAC-BA5D-8E4D2E84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FA9-AF96-48A1-8243-D97A7EDF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269-1771-4171-966A-6B4362E4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0D5-4D72-420E-93C7-9B6A6295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8E0-7C99-44D3-B44D-02CA57A2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4EB-FCD9-493F-B7E2-576CFA44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141-2CEE-47FB-A1DA-6450A404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A6B-9AF1-4764-8ABB-D8A1FB0C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EF0-9EBB-47B6-ADF3-178548E3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3A0-D5CB-4ECA-B8EF-A7336A1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416B-D856-4783-A92F-A1E058E5B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78469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Arial"/>
              </a:rPr>
              <a:t>АЛГОРИТМ РЕШЕНИЯ РАЦИОНАЛЬНОГО УРАВН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8e"/>
                </a:solidFill>
                <a:latin typeface="Arial"/>
              </a:rPr>
              <a:t>Алгоритм решения рациональ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0" y="70488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0260a"/>
                </a:solidFill>
                <a:latin typeface="Times New Roman"/>
              </a:rPr>
              <a:t>Рациональное выражение с одной переменной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– это алгебраическое выражение, составленное из чисел и пе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с помощью операций  сложения, вычитания, умножения, деления и  возведения в целую степ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1"/>
          <p:cNvSpPr/>
          <p:nvPr/>
        </p:nvSpPr>
        <p:spPr>
          <a:xfrm>
            <a:off x="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)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—  рациональное выражение, то уравнение</a:t>
            </a:r>
            <a:br>
              <a:rPr sz="2800"/>
            </a:b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х) = 0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называют </a:t>
            </a:r>
            <a:r>
              <a:rPr b="0" i="1" lang="ru-RU" sz="2800" spc="-1" strike="noStrike">
                <a:solidFill>
                  <a:srgbClr val="d0260a"/>
                </a:solidFill>
                <a:latin typeface="Times New Roman"/>
              </a:rPr>
              <a:t>рациональным уравнением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2"/>
          <p:cNvSpPr/>
          <p:nvPr/>
        </p:nvSpPr>
        <p:spPr>
          <a:xfrm>
            <a:off x="0" y="465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0260a"/>
                </a:solidFill>
                <a:latin typeface="Times New Roman"/>
              </a:rPr>
              <a:t>Рациональное уравнение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- это уравнение вид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h(x) = q(x)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, 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h(x)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(x)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— рациональные выраж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1"/>
          <p:cNvSpPr/>
          <p:nvPr/>
        </p:nvSpPr>
        <p:spPr>
          <a:xfrm>
            <a:off x="2771640" y="2359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(х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7"/>
          <p:cNvGraphicFramePr/>
          <p:nvPr/>
        </p:nvGraphicFramePr>
        <p:xfrm>
          <a:off x="4932360" y="0"/>
          <a:ext cx="240984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0"/>
                    <a:ext cx="24098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Box 18"/>
          <p:cNvSpPr/>
          <p:nvPr/>
        </p:nvSpPr>
        <p:spPr>
          <a:xfrm>
            <a:off x="0" y="21600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1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Решить урав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0"/>
          <p:cNvGraphicFramePr/>
          <p:nvPr/>
        </p:nvGraphicFramePr>
        <p:xfrm>
          <a:off x="468360" y="1135080"/>
          <a:ext cx="293832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135080"/>
                    <a:ext cx="2938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1"/>
          <p:cNvSpPr/>
          <p:nvPr/>
        </p:nvSpPr>
        <p:spPr>
          <a:xfrm>
            <a:off x="4067280" y="1422360"/>
            <a:ext cx="44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=В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  А-В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2"/>
          <p:cNvGraphicFramePr/>
          <p:nvPr/>
        </p:nvGraphicFramePr>
        <p:xfrm>
          <a:off x="250920" y="2575080"/>
          <a:ext cx="3186000" cy="10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575080"/>
                    <a:ext cx="31860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33"/>
          <p:cNvSpPr/>
          <p:nvPr/>
        </p:nvSpPr>
        <p:spPr>
          <a:xfrm>
            <a:off x="971640" y="25034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4"/>
          <p:cNvSpPr/>
          <p:nvPr/>
        </p:nvSpPr>
        <p:spPr>
          <a:xfrm>
            <a:off x="971640" y="27194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971640" y="2394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6"/>
          <p:cNvSpPr/>
          <p:nvPr/>
        </p:nvSpPr>
        <p:spPr>
          <a:xfrm>
            <a:off x="2124000" y="25034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7"/>
          <p:cNvSpPr/>
          <p:nvPr/>
        </p:nvSpPr>
        <p:spPr>
          <a:xfrm>
            <a:off x="2124000" y="2719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2050920" y="2394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(х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9"/>
          <p:cNvSpPr/>
          <p:nvPr/>
        </p:nvSpPr>
        <p:spPr>
          <a:xfrm>
            <a:off x="2843280" y="24685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0"/>
          <p:cNvSpPr/>
          <p:nvPr/>
        </p:nvSpPr>
        <p:spPr>
          <a:xfrm>
            <a:off x="2843280" y="26845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2"/>
          <p:cNvGraphicFramePr/>
          <p:nvPr/>
        </p:nvGraphicFramePr>
        <p:xfrm>
          <a:off x="3492360" y="2575080"/>
          <a:ext cx="5472360" cy="108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4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2575080"/>
                    <a:ext cx="54723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3"/>
          <p:cNvGraphicFramePr/>
          <p:nvPr/>
        </p:nvGraphicFramePr>
        <p:xfrm>
          <a:off x="324000" y="3654360"/>
          <a:ext cx="4752720" cy="114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Object 4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3654360"/>
                    <a:ext cx="47527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44"/>
          <p:cNvGraphicFramePr/>
          <p:nvPr/>
        </p:nvGraphicFramePr>
        <p:xfrm>
          <a:off x="5124600" y="3654360"/>
          <a:ext cx="2832120" cy="114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24600" y="3654360"/>
                    <a:ext cx="28321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45"/>
          <p:cNvGraphicFramePr/>
          <p:nvPr/>
        </p:nvGraphicFramePr>
        <p:xfrm>
          <a:off x="324000" y="4735440"/>
          <a:ext cx="2993760" cy="114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" name="Object 4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4000" y="4735440"/>
                    <a:ext cx="29937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6"/>
          <p:cNvGraphicFramePr/>
          <p:nvPr/>
        </p:nvGraphicFramePr>
        <p:xfrm>
          <a:off x="2987640" y="5527800"/>
          <a:ext cx="3254400" cy="11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87640" y="5527800"/>
                    <a:ext cx="32544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560160" y="776160"/>
            <a:ext cx="16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2"/>
          <p:cNvGraphicFramePr/>
          <p:nvPr/>
        </p:nvGraphicFramePr>
        <p:xfrm>
          <a:off x="258840" y="907920"/>
          <a:ext cx="110628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907920"/>
                    <a:ext cx="11062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23"/>
          <p:cNvGraphicFramePr/>
          <p:nvPr/>
        </p:nvGraphicFramePr>
        <p:xfrm>
          <a:off x="2916360" y="-28440"/>
          <a:ext cx="3254400" cy="114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-28440"/>
                    <a:ext cx="32544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4"/>
          <p:cNvGraphicFramePr/>
          <p:nvPr/>
        </p:nvGraphicFramePr>
        <p:xfrm>
          <a:off x="1476360" y="907920"/>
          <a:ext cx="100800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907920"/>
                    <a:ext cx="10080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25"/>
          <p:cNvGraphicFramePr/>
          <p:nvPr/>
        </p:nvGraphicFramePr>
        <p:xfrm>
          <a:off x="250920" y="1987560"/>
          <a:ext cx="322092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1987560"/>
                    <a:ext cx="3220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6"/>
          <p:cNvGraphicFramePr/>
          <p:nvPr/>
        </p:nvGraphicFramePr>
        <p:xfrm>
          <a:off x="222120" y="2492280"/>
          <a:ext cx="2765520" cy="58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Object 2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2120" y="2492280"/>
                    <a:ext cx="27655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27"/>
          <p:cNvGraphicFramePr/>
          <p:nvPr/>
        </p:nvGraphicFramePr>
        <p:xfrm>
          <a:off x="324000" y="2997360"/>
          <a:ext cx="3871800" cy="113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4000" y="2997360"/>
                    <a:ext cx="3871800" cy="11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28"/>
          <p:cNvGraphicFramePr/>
          <p:nvPr/>
        </p:nvGraphicFramePr>
        <p:xfrm>
          <a:off x="4121280" y="3013200"/>
          <a:ext cx="3187440" cy="1106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21280" y="3013200"/>
                    <a:ext cx="318744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29"/>
          <p:cNvGraphicFramePr/>
          <p:nvPr/>
        </p:nvGraphicFramePr>
        <p:xfrm>
          <a:off x="7331040" y="3138480"/>
          <a:ext cx="1201680" cy="1009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31040" y="3138480"/>
                    <a:ext cx="12016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30"/>
          <p:cNvGraphicFramePr/>
          <p:nvPr/>
        </p:nvGraphicFramePr>
        <p:xfrm>
          <a:off x="324000" y="4148280"/>
          <a:ext cx="1753920" cy="100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4000" y="4148280"/>
                    <a:ext cx="17539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1"/>
          <p:cNvGraphicFramePr/>
          <p:nvPr/>
        </p:nvGraphicFramePr>
        <p:xfrm>
          <a:off x="2050920" y="4419720"/>
          <a:ext cx="71604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" name="Object 3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4419720"/>
                    <a:ext cx="716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2"/>
          <p:cNvGraphicFramePr/>
          <p:nvPr/>
        </p:nvGraphicFramePr>
        <p:xfrm>
          <a:off x="2987640" y="4148280"/>
          <a:ext cx="1787400" cy="100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87640" y="4148280"/>
                    <a:ext cx="17874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3"/>
          <p:cNvGraphicFramePr/>
          <p:nvPr/>
        </p:nvGraphicFramePr>
        <p:xfrm>
          <a:off x="4716360" y="4148280"/>
          <a:ext cx="649440" cy="1009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16360" y="4148280"/>
                    <a:ext cx="6494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4"/>
          <p:cNvGraphicFramePr/>
          <p:nvPr/>
        </p:nvGraphicFramePr>
        <p:xfrm>
          <a:off x="5292720" y="4437000"/>
          <a:ext cx="1039680" cy="520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5" name="Object 3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92720" y="4437000"/>
                    <a:ext cx="10396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5"/>
          <p:cNvGraphicFramePr/>
          <p:nvPr/>
        </p:nvGraphicFramePr>
        <p:xfrm>
          <a:off x="324000" y="5373720"/>
          <a:ext cx="217944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7" name="Object 3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24000" y="5373720"/>
                    <a:ext cx="2179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6"/>
          <p:cNvGraphicFramePr/>
          <p:nvPr/>
        </p:nvGraphicFramePr>
        <p:xfrm>
          <a:off x="2843280" y="5354640"/>
          <a:ext cx="2114640" cy="522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9" name="Object 3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843280" y="5354640"/>
                    <a:ext cx="21146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7"/>
          <p:cNvGraphicFramePr/>
          <p:nvPr/>
        </p:nvGraphicFramePr>
        <p:xfrm>
          <a:off x="4057560" y="5950080"/>
          <a:ext cx="1268640" cy="522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1" name="Object 3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057560" y="5950080"/>
                    <a:ext cx="1268640" cy="5220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5"/>
          <p:cNvGraphicFramePr/>
          <p:nvPr/>
        </p:nvGraphicFramePr>
        <p:xfrm>
          <a:off x="3564000" y="1557360"/>
          <a:ext cx="9144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557360"/>
                    <a:ext cx="914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8e"/>
                </a:solidFill>
                <a:latin typeface="Arial"/>
              </a:rPr>
              <a:t>Алгоритм решения рациональ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1. Перенести все члены уравнения в одну ча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0" y="342900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4. Для каждого корня уравнен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(х) = 0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сделать проверку: удовлетворяет ли он услови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(x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или нет. Если да, то это корень заданного уравнения; если нет, то это  посторонний корень и в ответ его включать не следу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0" y="126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2. Преобразовать эту часть уравнения к виду алгебраической дроб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0" y="26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3. Решить уравнен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(х) = 0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5280" y="27781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008680" y="173160"/>
          <a:ext cx="323532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8680" y="173160"/>
                    <a:ext cx="3235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Box 18"/>
          <p:cNvSpPr/>
          <p:nvPr/>
        </p:nvSpPr>
        <p:spPr>
          <a:xfrm>
            <a:off x="0" y="38880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Решить урав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9"/>
          <p:cNvGraphicFramePr/>
          <p:nvPr/>
        </p:nvGraphicFramePr>
        <p:xfrm>
          <a:off x="0" y="2994120"/>
          <a:ext cx="4902120" cy="10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94120"/>
                    <a:ext cx="49021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Line 10"/>
          <p:cNvSpPr/>
          <p:nvPr/>
        </p:nvSpPr>
        <p:spPr>
          <a:xfrm>
            <a:off x="1187280" y="28875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1187280" y="31035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187280" y="2778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2268360" y="28875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2268360" y="31035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2195640" y="27781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3706920" y="28875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06920" y="3103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3"/>
          <p:cNvGraphicFramePr/>
          <p:nvPr/>
        </p:nvGraphicFramePr>
        <p:xfrm>
          <a:off x="147600" y="1592280"/>
          <a:ext cx="4259160" cy="10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00" y="1592280"/>
                    <a:ext cx="42591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4"/>
          <p:cNvGraphicFramePr/>
          <p:nvPr/>
        </p:nvGraphicFramePr>
        <p:xfrm>
          <a:off x="4813200" y="2994120"/>
          <a:ext cx="3719520" cy="108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13200" y="2994120"/>
                    <a:ext cx="37195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5"/>
          <p:cNvGraphicFramePr/>
          <p:nvPr/>
        </p:nvGraphicFramePr>
        <p:xfrm>
          <a:off x="468360" y="4002120"/>
          <a:ext cx="3095640" cy="115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4002120"/>
                    <a:ext cx="30956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6"/>
          <p:cNvGraphicFramePr/>
          <p:nvPr/>
        </p:nvGraphicFramePr>
        <p:xfrm>
          <a:off x="3564000" y="4002120"/>
          <a:ext cx="2255760" cy="115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002120"/>
                    <a:ext cx="225576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7"/>
          <p:cNvGraphicFramePr/>
          <p:nvPr/>
        </p:nvGraphicFramePr>
        <p:xfrm>
          <a:off x="3168720" y="5226120"/>
          <a:ext cx="2905200" cy="115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68720" y="5226120"/>
                    <a:ext cx="29052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2"/>
          <p:cNvSpPr/>
          <p:nvPr/>
        </p:nvSpPr>
        <p:spPr>
          <a:xfrm>
            <a:off x="737640" y="995400"/>
            <a:ext cx="16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1"/>
          <p:cNvGraphicFramePr/>
          <p:nvPr/>
        </p:nvGraphicFramePr>
        <p:xfrm>
          <a:off x="501480" y="1596960"/>
          <a:ext cx="30258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596960"/>
                    <a:ext cx="30258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2"/>
          <p:cNvGraphicFramePr/>
          <p:nvPr/>
        </p:nvGraphicFramePr>
        <p:xfrm>
          <a:off x="574560" y="2101680"/>
          <a:ext cx="3527640" cy="11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2101680"/>
                    <a:ext cx="352764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3"/>
          <p:cNvGraphicFramePr/>
          <p:nvPr/>
        </p:nvGraphicFramePr>
        <p:xfrm>
          <a:off x="4040280" y="2101680"/>
          <a:ext cx="1430280" cy="112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0280" y="2101680"/>
                    <a:ext cx="1430280" cy="11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4"/>
          <p:cNvGraphicFramePr/>
          <p:nvPr/>
        </p:nvGraphicFramePr>
        <p:xfrm>
          <a:off x="5470560" y="2227320"/>
          <a:ext cx="9730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0560" y="2227320"/>
                    <a:ext cx="9730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646200" y="3181320"/>
          <a:ext cx="1490400" cy="102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200" y="3181320"/>
                    <a:ext cx="14904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6"/>
          <p:cNvGraphicFramePr/>
          <p:nvPr/>
        </p:nvGraphicFramePr>
        <p:xfrm>
          <a:off x="2066760" y="3429000"/>
          <a:ext cx="66852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66760" y="3429000"/>
                    <a:ext cx="6685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27"/>
          <p:cNvGraphicFramePr/>
          <p:nvPr/>
        </p:nvGraphicFramePr>
        <p:xfrm>
          <a:off x="3157560" y="3181320"/>
          <a:ext cx="1550880" cy="102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3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57560" y="3181320"/>
                    <a:ext cx="15508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28"/>
          <p:cNvGraphicFramePr/>
          <p:nvPr/>
        </p:nvGraphicFramePr>
        <p:xfrm>
          <a:off x="4606920" y="3429000"/>
          <a:ext cx="668520" cy="46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5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06920" y="3429000"/>
                    <a:ext cx="6685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9"/>
          <p:cNvGraphicFramePr/>
          <p:nvPr/>
        </p:nvGraphicFramePr>
        <p:xfrm>
          <a:off x="574560" y="4260960"/>
          <a:ext cx="2824200" cy="52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7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4560" y="4260960"/>
                    <a:ext cx="28242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0"/>
          <p:cNvGraphicFramePr/>
          <p:nvPr/>
        </p:nvGraphicFramePr>
        <p:xfrm>
          <a:off x="4246560" y="4836960"/>
          <a:ext cx="365040" cy="463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9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46560" y="4836960"/>
                    <a:ext cx="365040" cy="4636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5008680" y="173160"/>
          <a:ext cx="3235320" cy="102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08680" y="173160"/>
                    <a:ext cx="3235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21"/>
          <p:cNvSpPr/>
          <p:nvPr/>
        </p:nvSpPr>
        <p:spPr>
          <a:xfrm>
            <a:off x="0" y="38880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Решить урав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7:18:51Z</dcterms:created>
  <dc:creator>Intel</dc:creator>
  <dc:description/>
  <dc:language>en-US</dc:language>
  <cp:lastModifiedBy>Home</cp:lastModifiedBy>
  <dcterms:modified xsi:type="dcterms:W3CDTF">2013-01-28T12:32:34Z</dcterms:modified>
  <cp:revision>873</cp:revision>
  <dc:subject/>
  <dc:title>Отрезок.  Длина отрезка. Треугольник</dc:title>
</cp:coreProperties>
</file>