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1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1.wmf" ContentType="image/x-wmf"/>
  <Override PartName="/ppt/media/image31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F499-DDDF-48F1-B329-47116F1D3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BE13-3A60-4BDF-B7D8-28A87235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5416-94CE-4CAE-B40A-0F79894AE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FA76-7155-4C7C-A725-83E826728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1860-4CFD-4D8E-BB81-AA8CB0624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059D-E1E1-48E6-B19B-CCD53B4AD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1C0C-E5D1-48D3-81A9-05546486B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549E-9554-4D6B-8569-61FF5EED4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6CA3-7D79-4CC8-A84B-30EFAFD8A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40BD-BDE6-42ED-B02C-2E1E420D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B78F-3204-4AB6-862D-28AAA0C7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0DE7-2B04-42EB-939C-7CEE40F6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C2A60-35D0-4FB6-9C18-3CEAF5BC04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8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9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0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1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2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3.wmf"/><Relationship Id="rId3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1.wmf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5.wmf"/><Relationship Id="rId2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1196640"/>
            <a:ext cx="784692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0000"/>
                </a:solidFill>
                <a:latin typeface="Arial"/>
              </a:rPr>
              <a:t>АЛГОРИТМ РЕШЕНИЯ РАЦИОНАЛЬНОГО УРАВНЕНИЯ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6"/>
          <p:cNvSpPr/>
          <p:nvPr/>
        </p:nvSpPr>
        <p:spPr>
          <a:xfrm>
            <a:off x="6261120" y="6496200"/>
            <a:ext cx="2954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b050"/>
                </a:solidFill>
                <a:latin typeface="Adobe Fangsong Std R"/>
                <a:ea typeface="Adobe Fangsong Std R"/>
              </a:rPr>
              <a:t>UROKI</a:t>
            </a:r>
            <a:r>
              <a:rPr b="1" lang="en-US" sz="1700" spc="-1" strike="noStrike">
                <a:solidFill>
                  <a:srgbClr val="ff0000"/>
                </a:solidFill>
                <a:latin typeface="Adobe Fangsong Std R"/>
                <a:ea typeface="Adobe Fangsong Std R"/>
              </a:rPr>
              <a:t>MATEMATIKI</a:t>
            </a:r>
            <a:r>
              <a:rPr b="1" lang="en-US" sz="1700" spc="-1" strike="noStrike">
                <a:solidFill>
                  <a:srgbClr val="00b050"/>
                </a:solidFill>
                <a:latin typeface="Adobe Fangsong Std R"/>
                <a:ea typeface="Adobe Fangsong Std R"/>
              </a:rPr>
              <a:t>.R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6"/>
          <p:cNvSpPr/>
          <p:nvPr/>
        </p:nvSpPr>
        <p:spPr>
          <a:xfrm>
            <a:off x="0" y="648828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ndara"/>
                <a:ea typeface="Adobe Fangsong Std R"/>
              </a:rPr>
              <a:t>Игорь Жаборовский ©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3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8e"/>
                </a:solidFill>
                <a:latin typeface="Arial"/>
              </a:rPr>
              <a:t>Алгоритм решения рационального 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0"/>
          <p:cNvSpPr/>
          <p:nvPr/>
        </p:nvSpPr>
        <p:spPr>
          <a:xfrm>
            <a:off x="0" y="704880"/>
            <a:ext cx="91440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d0260a"/>
                </a:solidFill>
                <a:latin typeface="Times New Roman"/>
              </a:rPr>
              <a:t>Рациональное выражение с одной переменной</a:t>
            </a:r>
            <a:r>
              <a:rPr b="0" i="1" lang="ru-RU" sz="2800" spc="-1" strike="noStrike">
                <a:solidFill>
                  <a:srgbClr val="006c31"/>
                </a:solidFill>
                <a:latin typeface="Times New Roman"/>
              </a:rPr>
              <a:t> – это алгебраическое выражение, составленное из чисел и переменной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i="1" lang="ru-RU" sz="2800" spc="-1" strike="noStrike">
                <a:solidFill>
                  <a:srgbClr val="006c31"/>
                </a:solidFill>
                <a:latin typeface="Times New Roman"/>
              </a:rPr>
              <a:t> с помощью операций  сложения, вычитания, умножения, деления и  возведения в целую степен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1"/>
          <p:cNvSpPr/>
          <p:nvPr/>
        </p:nvSpPr>
        <p:spPr>
          <a:xfrm>
            <a:off x="0" y="30686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c31"/>
                </a:solidFill>
                <a:latin typeface="Times New Roman"/>
              </a:rPr>
              <a:t>Есл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(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х)</a:t>
            </a:r>
            <a:r>
              <a:rPr b="0" i="1" lang="ru-RU" sz="2800" spc="-1" strike="noStrike">
                <a:solidFill>
                  <a:srgbClr val="006c31"/>
                </a:solidFill>
                <a:latin typeface="Times New Roman"/>
              </a:rPr>
              <a:t> —  рациональное выражение, то уравнение</a:t>
            </a:r>
            <a:br>
              <a:rPr sz="2800"/>
            </a:br>
            <a:r>
              <a:rPr b="0" i="1" lang="ru-RU" sz="2800" spc="-1" strike="noStrike">
                <a:solidFill>
                  <a:srgbClr val="006c31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(х) = 0</a:t>
            </a:r>
            <a:r>
              <a:rPr b="0" i="1" lang="ru-RU" sz="2800" spc="-1" strike="noStrike">
                <a:solidFill>
                  <a:srgbClr val="006c31"/>
                </a:solidFill>
                <a:latin typeface="Times New Roman"/>
              </a:rPr>
              <a:t> называют </a:t>
            </a:r>
            <a:r>
              <a:rPr b="0" i="1" lang="ru-RU" sz="2800" spc="-1" strike="noStrike">
                <a:solidFill>
                  <a:srgbClr val="d0260a"/>
                </a:solidFill>
                <a:latin typeface="Times New Roman"/>
              </a:rPr>
              <a:t>рациональным уравнением</a:t>
            </a:r>
            <a:r>
              <a:rPr b="0" i="1" lang="ru-RU" sz="2800" spc="-1" strike="noStrike">
                <a:solidFill>
                  <a:srgbClr val="006c31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2"/>
          <p:cNvSpPr/>
          <p:nvPr/>
        </p:nvSpPr>
        <p:spPr>
          <a:xfrm>
            <a:off x="0" y="4653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d0260a"/>
                </a:solidFill>
                <a:latin typeface="Times New Roman"/>
              </a:rPr>
              <a:t>Рациональное уравнение</a:t>
            </a:r>
            <a:r>
              <a:rPr b="0" i="1" lang="ru-RU" sz="2800" spc="-1" strike="noStrike">
                <a:solidFill>
                  <a:srgbClr val="006c31"/>
                </a:solidFill>
                <a:latin typeface="Times New Roman"/>
              </a:rPr>
              <a:t> - это уравнение вида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h(x) = q(x)</a:t>
            </a:r>
            <a:r>
              <a:rPr b="0" i="1" lang="ru-RU" sz="2800" spc="-1" strike="noStrike">
                <a:solidFill>
                  <a:srgbClr val="006c31"/>
                </a:solidFill>
                <a:latin typeface="Times New Roman"/>
              </a:rPr>
              <a:t>, где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h(x)</a:t>
            </a:r>
            <a:r>
              <a:rPr b="0" i="1" lang="ru-RU" sz="2800" spc="-1" strike="noStrike">
                <a:solidFill>
                  <a:srgbClr val="006c31"/>
                </a:solidFill>
                <a:latin typeface="Times New Roman"/>
              </a:rPr>
              <a:t> и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q(x)</a:t>
            </a:r>
            <a:r>
              <a:rPr b="0" i="1" lang="ru-RU" sz="2800" spc="-1" strike="noStrike">
                <a:solidFill>
                  <a:srgbClr val="006c31"/>
                </a:solidFill>
                <a:latin typeface="Times New Roman"/>
              </a:rPr>
              <a:t> — рациональные выражен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46"/>
          <p:cNvSpPr/>
          <p:nvPr/>
        </p:nvSpPr>
        <p:spPr>
          <a:xfrm>
            <a:off x="6261120" y="6496200"/>
            <a:ext cx="2954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b050"/>
                </a:solidFill>
                <a:latin typeface="Adobe Fangsong Std R"/>
                <a:ea typeface="Adobe Fangsong Std R"/>
              </a:rPr>
              <a:t>UROKI</a:t>
            </a:r>
            <a:r>
              <a:rPr b="1" lang="en-US" sz="1700" spc="-1" strike="noStrike">
                <a:solidFill>
                  <a:srgbClr val="ff0000"/>
                </a:solidFill>
                <a:latin typeface="Adobe Fangsong Std R"/>
                <a:ea typeface="Adobe Fangsong Std R"/>
              </a:rPr>
              <a:t>MATEMATIKI</a:t>
            </a:r>
            <a:r>
              <a:rPr b="1" lang="en-US" sz="1700" spc="-1" strike="noStrike">
                <a:solidFill>
                  <a:srgbClr val="00b050"/>
                </a:solidFill>
                <a:latin typeface="Adobe Fangsong Std R"/>
                <a:ea typeface="Adobe Fangsong Std R"/>
              </a:rPr>
              <a:t>.R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36"/>
          <p:cNvSpPr/>
          <p:nvPr/>
        </p:nvSpPr>
        <p:spPr>
          <a:xfrm>
            <a:off x="0" y="648828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ndara"/>
                <a:ea typeface="Adobe Fangsong Std R"/>
              </a:rPr>
              <a:t>Игорь Жаборовский ©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1"/>
          <p:cNvSpPr/>
          <p:nvPr/>
        </p:nvSpPr>
        <p:spPr>
          <a:xfrm>
            <a:off x="2771640" y="235908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2(х-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Object 7"/>
          <p:cNvGraphicFramePr/>
          <p:nvPr/>
        </p:nvGraphicFramePr>
        <p:xfrm>
          <a:off x="4932360" y="0"/>
          <a:ext cx="2409840" cy="102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0"/>
                    <a:ext cx="2409840" cy="10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TextBox 18"/>
          <p:cNvSpPr/>
          <p:nvPr/>
        </p:nvSpPr>
        <p:spPr>
          <a:xfrm>
            <a:off x="0" y="216000"/>
            <a:ext cx="9144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0000"/>
                </a:solidFill>
                <a:latin typeface="Arial"/>
              </a:rPr>
              <a:t>Пример 1:</a:t>
            </a:r>
            <a:r>
              <a:rPr b="0" i="1" lang="ru-RU" sz="2600" spc="-1" strike="noStrike">
                <a:solidFill>
                  <a:srgbClr val="00008e"/>
                </a:solidFill>
                <a:latin typeface="Arial"/>
              </a:rPr>
              <a:t> Решить уравне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Object 30"/>
          <p:cNvGraphicFramePr/>
          <p:nvPr/>
        </p:nvGraphicFramePr>
        <p:xfrm>
          <a:off x="468360" y="1135080"/>
          <a:ext cx="2938320" cy="102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Object 3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1135080"/>
                    <a:ext cx="2938320" cy="10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Text Box 31"/>
          <p:cNvSpPr/>
          <p:nvPr/>
        </p:nvSpPr>
        <p:spPr>
          <a:xfrm>
            <a:off x="4067280" y="1422360"/>
            <a:ext cx="44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А=В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↔  А-В 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32"/>
          <p:cNvGraphicFramePr/>
          <p:nvPr/>
        </p:nvGraphicFramePr>
        <p:xfrm>
          <a:off x="250920" y="2575080"/>
          <a:ext cx="3186000" cy="1023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" name="Object 3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0920" y="2575080"/>
                    <a:ext cx="3186000" cy="10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Line 33"/>
          <p:cNvSpPr/>
          <p:nvPr/>
        </p:nvSpPr>
        <p:spPr>
          <a:xfrm>
            <a:off x="971640" y="250344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4"/>
          <p:cNvSpPr/>
          <p:nvPr/>
        </p:nvSpPr>
        <p:spPr>
          <a:xfrm>
            <a:off x="971640" y="27194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5"/>
          <p:cNvSpPr/>
          <p:nvPr/>
        </p:nvSpPr>
        <p:spPr>
          <a:xfrm>
            <a:off x="971640" y="239400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2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6"/>
          <p:cNvSpPr/>
          <p:nvPr/>
        </p:nvSpPr>
        <p:spPr>
          <a:xfrm>
            <a:off x="2124000" y="250344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37"/>
          <p:cNvSpPr/>
          <p:nvPr/>
        </p:nvSpPr>
        <p:spPr>
          <a:xfrm>
            <a:off x="2124000" y="27194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8"/>
          <p:cNvSpPr/>
          <p:nvPr/>
        </p:nvSpPr>
        <p:spPr>
          <a:xfrm>
            <a:off x="2050920" y="239400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х(х-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39"/>
          <p:cNvSpPr/>
          <p:nvPr/>
        </p:nvSpPr>
        <p:spPr>
          <a:xfrm>
            <a:off x="2843280" y="246852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40"/>
          <p:cNvSpPr/>
          <p:nvPr/>
        </p:nvSpPr>
        <p:spPr>
          <a:xfrm>
            <a:off x="2843280" y="268452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42"/>
          <p:cNvGraphicFramePr/>
          <p:nvPr/>
        </p:nvGraphicFramePr>
        <p:xfrm>
          <a:off x="3492360" y="2575080"/>
          <a:ext cx="5472360" cy="1089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8" name="Object 4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92360" y="2575080"/>
                    <a:ext cx="5472360" cy="10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Object 43"/>
          <p:cNvGraphicFramePr/>
          <p:nvPr/>
        </p:nvGraphicFramePr>
        <p:xfrm>
          <a:off x="324000" y="3654360"/>
          <a:ext cx="4752720" cy="1141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0" name="Object 4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4000" y="3654360"/>
                    <a:ext cx="4752720" cy="11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Object 44"/>
          <p:cNvGraphicFramePr/>
          <p:nvPr/>
        </p:nvGraphicFramePr>
        <p:xfrm>
          <a:off x="5124600" y="3654360"/>
          <a:ext cx="2832120" cy="1141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2" name="Object 4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124600" y="3654360"/>
                    <a:ext cx="2832120" cy="11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Object 45"/>
          <p:cNvGraphicFramePr/>
          <p:nvPr/>
        </p:nvGraphicFramePr>
        <p:xfrm>
          <a:off x="324000" y="4735440"/>
          <a:ext cx="2993760" cy="1141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4" name="Object 4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24000" y="4735440"/>
                    <a:ext cx="2993760" cy="11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Object 46"/>
          <p:cNvGraphicFramePr/>
          <p:nvPr/>
        </p:nvGraphicFramePr>
        <p:xfrm>
          <a:off x="2987640" y="5527800"/>
          <a:ext cx="3254400" cy="1141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6" name="Object 4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987640" y="5527800"/>
                    <a:ext cx="3254400" cy="11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TextBox 46"/>
          <p:cNvSpPr/>
          <p:nvPr/>
        </p:nvSpPr>
        <p:spPr>
          <a:xfrm>
            <a:off x="6261120" y="6496200"/>
            <a:ext cx="2954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b050"/>
                </a:solidFill>
                <a:latin typeface="Adobe Fangsong Std R"/>
                <a:ea typeface="Adobe Fangsong Std R"/>
              </a:rPr>
              <a:t>UROKI</a:t>
            </a:r>
            <a:r>
              <a:rPr b="1" lang="en-US" sz="1700" spc="-1" strike="noStrike">
                <a:solidFill>
                  <a:srgbClr val="ff0000"/>
                </a:solidFill>
                <a:latin typeface="Adobe Fangsong Std R"/>
                <a:ea typeface="Adobe Fangsong Std R"/>
              </a:rPr>
              <a:t>MATEMATIKI</a:t>
            </a:r>
            <a:r>
              <a:rPr b="1" lang="en-US" sz="1700" spc="-1" strike="noStrike">
                <a:solidFill>
                  <a:srgbClr val="00b050"/>
                </a:solidFill>
                <a:latin typeface="Adobe Fangsong Std R"/>
                <a:ea typeface="Adobe Fangsong Std R"/>
              </a:rPr>
              <a:t>.R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36"/>
          <p:cNvSpPr/>
          <p:nvPr/>
        </p:nvSpPr>
        <p:spPr>
          <a:xfrm>
            <a:off x="0" y="648828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ndara"/>
                <a:ea typeface="Adobe Fangsong Std R"/>
              </a:rPr>
              <a:t>Игорь Жаборовский ©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2"/>
          <p:cNvSpPr/>
          <p:nvPr/>
        </p:nvSpPr>
        <p:spPr>
          <a:xfrm>
            <a:off x="560160" y="776160"/>
            <a:ext cx="16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0000"/>
                </a:solidFill>
                <a:latin typeface="Arial"/>
              </a:rPr>
              <a:t>Решение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22"/>
          <p:cNvGraphicFramePr/>
          <p:nvPr/>
        </p:nvGraphicFramePr>
        <p:xfrm>
          <a:off x="258840" y="907920"/>
          <a:ext cx="1106280" cy="101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8840" y="907920"/>
                    <a:ext cx="110628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Object 23"/>
          <p:cNvGraphicFramePr/>
          <p:nvPr/>
        </p:nvGraphicFramePr>
        <p:xfrm>
          <a:off x="2916360" y="-28440"/>
          <a:ext cx="3254400" cy="1141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Object 2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16360" y="-28440"/>
                    <a:ext cx="3254400" cy="11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Object 24"/>
          <p:cNvGraphicFramePr/>
          <p:nvPr/>
        </p:nvGraphicFramePr>
        <p:xfrm>
          <a:off x="1476360" y="907920"/>
          <a:ext cx="1008000" cy="104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5" name="Object 2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76360" y="907920"/>
                    <a:ext cx="1008000" cy="10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Object 25"/>
          <p:cNvGraphicFramePr/>
          <p:nvPr/>
        </p:nvGraphicFramePr>
        <p:xfrm>
          <a:off x="250920" y="1987560"/>
          <a:ext cx="3220920" cy="585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7" name="Object 2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0920" y="1987560"/>
                    <a:ext cx="322092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Object 26"/>
          <p:cNvGraphicFramePr/>
          <p:nvPr/>
        </p:nvGraphicFramePr>
        <p:xfrm>
          <a:off x="222120" y="2492280"/>
          <a:ext cx="2765520" cy="585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9" name="Object 2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2120" y="2492280"/>
                    <a:ext cx="276552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Object 27"/>
          <p:cNvGraphicFramePr/>
          <p:nvPr/>
        </p:nvGraphicFramePr>
        <p:xfrm>
          <a:off x="324000" y="2997360"/>
          <a:ext cx="3871800" cy="1137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1" name="Object 2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4000" y="2997360"/>
                    <a:ext cx="3871800" cy="11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Object 28"/>
          <p:cNvGraphicFramePr/>
          <p:nvPr/>
        </p:nvGraphicFramePr>
        <p:xfrm>
          <a:off x="4121280" y="3013200"/>
          <a:ext cx="3187440" cy="1106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3" name="Object 2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121280" y="3013200"/>
                    <a:ext cx="3187440" cy="11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Object 29"/>
          <p:cNvGraphicFramePr/>
          <p:nvPr/>
        </p:nvGraphicFramePr>
        <p:xfrm>
          <a:off x="7331040" y="3138480"/>
          <a:ext cx="1201680" cy="1009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5" name="Object 2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331040" y="3138480"/>
                    <a:ext cx="120168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Object 30"/>
          <p:cNvGraphicFramePr/>
          <p:nvPr/>
        </p:nvGraphicFramePr>
        <p:xfrm>
          <a:off x="324000" y="4148280"/>
          <a:ext cx="1753920" cy="10094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7" name="Object 3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24000" y="4148280"/>
                    <a:ext cx="1753920" cy="100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Object 31"/>
          <p:cNvGraphicFramePr/>
          <p:nvPr/>
        </p:nvGraphicFramePr>
        <p:xfrm>
          <a:off x="2050920" y="4419720"/>
          <a:ext cx="716040" cy="5205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99" name="Object 3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050920" y="4419720"/>
                    <a:ext cx="7160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Object 32"/>
          <p:cNvGraphicFramePr/>
          <p:nvPr/>
        </p:nvGraphicFramePr>
        <p:xfrm>
          <a:off x="2987640" y="4148280"/>
          <a:ext cx="1787400" cy="10094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01" name="Object 3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987640" y="4148280"/>
                    <a:ext cx="1787400" cy="100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Object 33"/>
          <p:cNvGraphicFramePr/>
          <p:nvPr/>
        </p:nvGraphicFramePr>
        <p:xfrm>
          <a:off x="4716360" y="4148280"/>
          <a:ext cx="649440" cy="10094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03" name="Object 3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716360" y="4148280"/>
                    <a:ext cx="649440" cy="100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Object 34"/>
          <p:cNvGraphicFramePr/>
          <p:nvPr/>
        </p:nvGraphicFramePr>
        <p:xfrm>
          <a:off x="5292720" y="4437000"/>
          <a:ext cx="1039680" cy="5209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05" name="Object 34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292720" y="4437000"/>
                    <a:ext cx="103968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35"/>
          <p:cNvGraphicFramePr/>
          <p:nvPr/>
        </p:nvGraphicFramePr>
        <p:xfrm>
          <a:off x="324000" y="5373720"/>
          <a:ext cx="2179440" cy="5223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07" name="Object 35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324000" y="5373720"/>
                    <a:ext cx="217944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36"/>
          <p:cNvGraphicFramePr/>
          <p:nvPr/>
        </p:nvGraphicFramePr>
        <p:xfrm>
          <a:off x="2843280" y="5354640"/>
          <a:ext cx="2114640" cy="5223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09" name="Object 36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843280" y="5354640"/>
                    <a:ext cx="211464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Object 37"/>
          <p:cNvGraphicFramePr/>
          <p:nvPr/>
        </p:nvGraphicFramePr>
        <p:xfrm>
          <a:off x="4057560" y="5950080"/>
          <a:ext cx="1268640" cy="5220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11" name="Object 37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4057560" y="5950080"/>
                    <a:ext cx="1268640" cy="5220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2" name="TextBox 46"/>
          <p:cNvSpPr/>
          <p:nvPr/>
        </p:nvSpPr>
        <p:spPr>
          <a:xfrm>
            <a:off x="6261120" y="6496200"/>
            <a:ext cx="2954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b050"/>
                </a:solidFill>
                <a:latin typeface="Adobe Fangsong Std R"/>
                <a:ea typeface="Adobe Fangsong Std R"/>
              </a:rPr>
              <a:t>UROKI</a:t>
            </a:r>
            <a:r>
              <a:rPr b="1" lang="en-US" sz="1700" spc="-1" strike="noStrike">
                <a:solidFill>
                  <a:srgbClr val="ff0000"/>
                </a:solidFill>
                <a:latin typeface="Adobe Fangsong Std R"/>
                <a:ea typeface="Adobe Fangsong Std R"/>
              </a:rPr>
              <a:t>MATEMATIKI</a:t>
            </a:r>
            <a:r>
              <a:rPr b="1" lang="en-US" sz="1700" spc="-1" strike="noStrike">
                <a:solidFill>
                  <a:srgbClr val="00b050"/>
                </a:solidFill>
                <a:latin typeface="Adobe Fangsong Std R"/>
                <a:ea typeface="Adobe Fangsong Std R"/>
              </a:rPr>
              <a:t>.R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6"/>
          <p:cNvSpPr/>
          <p:nvPr/>
        </p:nvSpPr>
        <p:spPr>
          <a:xfrm>
            <a:off x="0" y="648828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ndara"/>
                <a:ea typeface="Adobe Fangsong Std R"/>
              </a:rPr>
              <a:t>Игорь Жаборовский ©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Object 5"/>
          <p:cNvGraphicFramePr/>
          <p:nvPr/>
        </p:nvGraphicFramePr>
        <p:xfrm>
          <a:off x="3564000" y="1557360"/>
          <a:ext cx="914400" cy="97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1557360"/>
                    <a:ext cx="914400" cy="9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Text Box 20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8e"/>
                </a:solidFill>
                <a:latin typeface="Arial"/>
              </a:rPr>
              <a:t>Алгоритм решения рационального 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1"/>
          <p:cNvSpPr/>
          <p:nvPr/>
        </p:nvSpPr>
        <p:spPr>
          <a:xfrm>
            <a:off x="0" y="549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c31"/>
                </a:solidFill>
                <a:latin typeface="Times New Roman"/>
              </a:rPr>
              <a:t>1. Перенести все члены уравнения в одну часть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2"/>
          <p:cNvSpPr/>
          <p:nvPr/>
        </p:nvSpPr>
        <p:spPr>
          <a:xfrm>
            <a:off x="0" y="3429000"/>
            <a:ext cx="914400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c31"/>
                </a:solidFill>
                <a:latin typeface="Times New Roman"/>
              </a:rPr>
              <a:t>4. Для каждого корня уравнения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р(х) = 0</a:t>
            </a:r>
            <a:r>
              <a:rPr b="0" i="1" lang="ru-RU" sz="2800" spc="-1" strike="noStrike">
                <a:solidFill>
                  <a:srgbClr val="006c31"/>
                </a:solidFill>
                <a:latin typeface="Times New Roman"/>
              </a:rPr>
              <a:t> сделать проверку: удовлетворяет ли он условию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q(x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i="1" lang="ru-RU" sz="2800" spc="-1" strike="noStrike">
                <a:solidFill>
                  <a:srgbClr val="006c31"/>
                </a:solidFill>
                <a:latin typeface="Times New Roman"/>
              </a:rPr>
              <a:t> или нет. Если да, то это корень заданного уравнения; если нет, то это  посторонний корень и в ответ его включать не следуе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3"/>
          <p:cNvSpPr/>
          <p:nvPr/>
        </p:nvSpPr>
        <p:spPr>
          <a:xfrm>
            <a:off x="0" y="1268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c31"/>
                </a:solidFill>
                <a:latin typeface="Times New Roman"/>
              </a:rPr>
              <a:t>2. Преобразовать эту часть уравнения к виду алгебраической дроб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4"/>
          <p:cNvSpPr/>
          <p:nvPr/>
        </p:nvSpPr>
        <p:spPr>
          <a:xfrm>
            <a:off x="0" y="2637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c31"/>
                </a:solidFill>
                <a:latin typeface="Times New Roman"/>
              </a:rPr>
              <a:t>3. Решить уравнение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р(х) = 0</a:t>
            </a:r>
            <a:r>
              <a:rPr b="0" i="1" lang="ru-RU" sz="2800" spc="-1" strike="noStrike">
                <a:solidFill>
                  <a:srgbClr val="006c31"/>
                </a:solidFill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6"/>
          <p:cNvSpPr/>
          <p:nvPr/>
        </p:nvSpPr>
        <p:spPr>
          <a:xfrm>
            <a:off x="6261120" y="6496200"/>
            <a:ext cx="2954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b050"/>
                </a:solidFill>
                <a:latin typeface="Adobe Fangsong Std R"/>
                <a:ea typeface="Adobe Fangsong Std R"/>
              </a:rPr>
              <a:t>UROKI</a:t>
            </a:r>
            <a:r>
              <a:rPr b="1" lang="en-US" sz="1700" spc="-1" strike="noStrike">
                <a:solidFill>
                  <a:srgbClr val="ff0000"/>
                </a:solidFill>
                <a:latin typeface="Adobe Fangsong Std R"/>
                <a:ea typeface="Adobe Fangsong Std R"/>
              </a:rPr>
              <a:t>MATEMATIKI</a:t>
            </a:r>
            <a:r>
              <a:rPr b="1" lang="en-US" sz="1700" spc="-1" strike="noStrike">
                <a:solidFill>
                  <a:srgbClr val="00b050"/>
                </a:solidFill>
                <a:latin typeface="Adobe Fangsong Std R"/>
                <a:ea typeface="Adobe Fangsong Std R"/>
              </a:rPr>
              <a:t>.R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6"/>
          <p:cNvSpPr/>
          <p:nvPr/>
        </p:nvSpPr>
        <p:spPr>
          <a:xfrm>
            <a:off x="0" y="648828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ndara"/>
                <a:ea typeface="Adobe Fangsong Std R"/>
              </a:rPr>
              <a:t>Игорь Жаборовский ©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3635280" y="277812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Object 5"/>
          <p:cNvGraphicFramePr/>
          <p:nvPr/>
        </p:nvGraphicFramePr>
        <p:xfrm>
          <a:off x="5008680" y="173160"/>
          <a:ext cx="3235320" cy="102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8680" y="173160"/>
                    <a:ext cx="3235320" cy="10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TextBox 18"/>
          <p:cNvSpPr/>
          <p:nvPr/>
        </p:nvSpPr>
        <p:spPr>
          <a:xfrm>
            <a:off x="0" y="388800"/>
            <a:ext cx="9144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0000"/>
                </a:solidFill>
                <a:latin typeface="Arial"/>
              </a:rPr>
              <a:t>Пример </a:t>
            </a:r>
            <a:r>
              <a:rPr b="0" i="1" lang="en-US" sz="2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i="1" lang="ru-RU" sz="26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i="1" lang="ru-RU" sz="2600" spc="-1" strike="noStrike">
                <a:solidFill>
                  <a:srgbClr val="00008e"/>
                </a:solidFill>
                <a:latin typeface="Arial"/>
              </a:rPr>
              <a:t> Решить уравне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Object 9"/>
          <p:cNvGraphicFramePr/>
          <p:nvPr/>
        </p:nvGraphicFramePr>
        <p:xfrm>
          <a:off x="0" y="2994120"/>
          <a:ext cx="4902120" cy="108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994120"/>
                    <a:ext cx="4902120" cy="10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Line 10"/>
          <p:cNvSpPr/>
          <p:nvPr/>
        </p:nvSpPr>
        <p:spPr>
          <a:xfrm>
            <a:off x="1187280" y="2887560"/>
            <a:ext cx="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1"/>
          <p:cNvSpPr/>
          <p:nvPr/>
        </p:nvSpPr>
        <p:spPr>
          <a:xfrm>
            <a:off x="1187280" y="31035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1187280" y="27781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2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3"/>
          <p:cNvSpPr/>
          <p:nvPr/>
        </p:nvSpPr>
        <p:spPr>
          <a:xfrm>
            <a:off x="2268360" y="2887560"/>
            <a:ext cx="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4"/>
          <p:cNvSpPr/>
          <p:nvPr/>
        </p:nvSpPr>
        <p:spPr>
          <a:xfrm>
            <a:off x="2268360" y="31035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2195640" y="277812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х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2-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6"/>
          <p:cNvSpPr/>
          <p:nvPr/>
        </p:nvSpPr>
        <p:spPr>
          <a:xfrm>
            <a:off x="3706920" y="2887560"/>
            <a:ext cx="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3706920" y="31035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Object 23"/>
          <p:cNvGraphicFramePr/>
          <p:nvPr/>
        </p:nvGraphicFramePr>
        <p:xfrm>
          <a:off x="147600" y="1592280"/>
          <a:ext cx="4259160" cy="1090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8" name="Object 2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7600" y="1592280"/>
                    <a:ext cx="425916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24"/>
          <p:cNvGraphicFramePr/>
          <p:nvPr/>
        </p:nvGraphicFramePr>
        <p:xfrm>
          <a:off x="4813200" y="2994120"/>
          <a:ext cx="3719520" cy="1089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0" name="Object 2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13200" y="2994120"/>
                    <a:ext cx="3719520" cy="10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25"/>
          <p:cNvGraphicFramePr/>
          <p:nvPr/>
        </p:nvGraphicFramePr>
        <p:xfrm>
          <a:off x="468360" y="4002120"/>
          <a:ext cx="3095640" cy="1155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2" name="Object 2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8360" y="4002120"/>
                    <a:ext cx="3095640" cy="11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26"/>
          <p:cNvGraphicFramePr/>
          <p:nvPr/>
        </p:nvGraphicFramePr>
        <p:xfrm>
          <a:off x="3564000" y="4002120"/>
          <a:ext cx="2255760" cy="1155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4" name="Object 2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64000" y="4002120"/>
                    <a:ext cx="2255760" cy="11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27"/>
          <p:cNvGraphicFramePr/>
          <p:nvPr/>
        </p:nvGraphicFramePr>
        <p:xfrm>
          <a:off x="3168720" y="5226120"/>
          <a:ext cx="2905200" cy="1155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6" name="Object 2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168720" y="5226120"/>
                    <a:ext cx="2905200" cy="11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TextBox 46"/>
          <p:cNvSpPr/>
          <p:nvPr/>
        </p:nvSpPr>
        <p:spPr>
          <a:xfrm>
            <a:off x="6261120" y="6496200"/>
            <a:ext cx="2954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b050"/>
                </a:solidFill>
                <a:latin typeface="Adobe Fangsong Std R"/>
                <a:ea typeface="Adobe Fangsong Std R"/>
              </a:rPr>
              <a:t>UROKI</a:t>
            </a:r>
            <a:r>
              <a:rPr b="1" lang="en-US" sz="1700" spc="-1" strike="noStrike">
                <a:solidFill>
                  <a:srgbClr val="ff0000"/>
                </a:solidFill>
                <a:latin typeface="Adobe Fangsong Std R"/>
                <a:ea typeface="Adobe Fangsong Std R"/>
              </a:rPr>
              <a:t>MATEMATIKI</a:t>
            </a:r>
            <a:r>
              <a:rPr b="1" lang="en-US" sz="1700" spc="-1" strike="noStrike">
                <a:solidFill>
                  <a:srgbClr val="00b050"/>
                </a:solidFill>
                <a:latin typeface="Adobe Fangsong Std R"/>
                <a:ea typeface="Adobe Fangsong Std R"/>
              </a:rPr>
              <a:t>.R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36"/>
          <p:cNvSpPr/>
          <p:nvPr/>
        </p:nvSpPr>
        <p:spPr>
          <a:xfrm>
            <a:off x="0" y="648828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ndara"/>
                <a:ea typeface="Adobe Fangsong Std R"/>
              </a:rPr>
              <a:t>Игорь Жаборовский ©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22"/>
          <p:cNvSpPr/>
          <p:nvPr/>
        </p:nvSpPr>
        <p:spPr>
          <a:xfrm>
            <a:off x="737640" y="995400"/>
            <a:ext cx="16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0000"/>
                </a:solidFill>
                <a:latin typeface="Arial"/>
              </a:rPr>
              <a:t>Решение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21"/>
          <p:cNvGraphicFramePr/>
          <p:nvPr/>
        </p:nvGraphicFramePr>
        <p:xfrm>
          <a:off x="501480" y="1596960"/>
          <a:ext cx="3025800" cy="5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480" y="1596960"/>
                    <a:ext cx="302580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22"/>
          <p:cNvGraphicFramePr/>
          <p:nvPr/>
        </p:nvGraphicFramePr>
        <p:xfrm>
          <a:off x="574560" y="2101680"/>
          <a:ext cx="3527640" cy="115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4560" y="2101680"/>
                    <a:ext cx="3527640" cy="11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Object 23"/>
          <p:cNvGraphicFramePr/>
          <p:nvPr/>
        </p:nvGraphicFramePr>
        <p:xfrm>
          <a:off x="4040280" y="2101680"/>
          <a:ext cx="1430280" cy="1124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5" name="Object 2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40280" y="2101680"/>
                    <a:ext cx="1430280" cy="11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Object 24"/>
          <p:cNvGraphicFramePr/>
          <p:nvPr/>
        </p:nvGraphicFramePr>
        <p:xfrm>
          <a:off x="5470560" y="2227320"/>
          <a:ext cx="973080" cy="1025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7" name="Object 2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70560" y="2227320"/>
                    <a:ext cx="973080" cy="10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25"/>
          <p:cNvGraphicFramePr/>
          <p:nvPr/>
        </p:nvGraphicFramePr>
        <p:xfrm>
          <a:off x="646200" y="3181320"/>
          <a:ext cx="1490400" cy="1025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9" name="Object 2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200" y="3181320"/>
                    <a:ext cx="1490400" cy="10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26"/>
          <p:cNvGraphicFramePr/>
          <p:nvPr/>
        </p:nvGraphicFramePr>
        <p:xfrm>
          <a:off x="2066760" y="3429000"/>
          <a:ext cx="668520" cy="530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1" name="Object 2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66760" y="3429000"/>
                    <a:ext cx="66852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27"/>
          <p:cNvGraphicFramePr/>
          <p:nvPr/>
        </p:nvGraphicFramePr>
        <p:xfrm>
          <a:off x="3157560" y="3181320"/>
          <a:ext cx="1550880" cy="1025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3" name="Object 2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157560" y="3181320"/>
                    <a:ext cx="1550880" cy="10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28"/>
          <p:cNvGraphicFramePr/>
          <p:nvPr/>
        </p:nvGraphicFramePr>
        <p:xfrm>
          <a:off x="4606920" y="3429000"/>
          <a:ext cx="668520" cy="465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5" name="Object 2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606920" y="3429000"/>
                    <a:ext cx="66852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29"/>
          <p:cNvGraphicFramePr/>
          <p:nvPr/>
        </p:nvGraphicFramePr>
        <p:xfrm>
          <a:off x="574560" y="4260960"/>
          <a:ext cx="2824200" cy="528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67" name="Object 29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74560" y="4260960"/>
                    <a:ext cx="2824200" cy="52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Object 30"/>
          <p:cNvGraphicFramePr/>
          <p:nvPr/>
        </p:nvGraphicFramePr>
        <p:xfrm>
          <a:off x="4246560" y="4836960"/>
          <a:ext cx="365040" cy="4636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69" name="Object 30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246560" y="4836960"/>
                    <a:ext cx="365040" cy="46368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0" name="TextBox 46"/>
          <p:cNvSpPr/>
          <p:nvPr/>
        </p:nvSpPr>
        <p:spPr>
          <a:xfrm>
            <a:off x="6261120" y="6496200"/>
            <a:ext cx="2954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b050"/>
                </a:solidFill>
                <a:latin typeface="Adobe Fangsong Std R"/>
                <a:ea typeface="Adobe Fangsong Std R"/>
              </a:rPr>
              <a:t>UROKI</a:t>
            </a:r>
            <a:r>
              <a:rPr b="1" lang="en-US" sz="1700" spc="-1" strike="noStrike">
                <a:solidFill>
                  <a:srgbClr val="ff0000"/>
                </a:solidFill>
                <a:latin typeface="Adobe Fangsong Std R"/>
                <a:ea typeface="Adobe Fangsong Std R"/>
              </a:rPr>
              <a:t>MATEMATIKI</a:t>
            </a:r>
            <a:r>
              <a:rPr b="1" lang="en-US" sz="1700" spc="-1" strike="noStrike">
                <a:solidFill>
                  <a:srgbClr val="00b050"/>
                </a:solidFill>
                <a:latin typeface="Adobe Fangsong Std R"/>
                <a:ea typeface="Adobe Fangsong Std R"/>
              </a:rPr>
              <a:t>.R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36"/>
          <p:cNvSpPr/>
          <p:nvPr/>
        </p:nvSpPr>
        <p:spPr>
          <a:xfrm>
            <a:off x="0" y="648828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ndara"/>
                <a:ea typeface="Adobe Fangsong Std R"/>
              </a:rPr>
              <a:t>Игорь Жаборовский ©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Object 5"/>
          <p:cNvGraphicFramePr/>
          <p:nvPr/>
        </p:nvGraphicFramePr>
        <p:xfrm>
          <a:off x="5008680" y="173160"/>
          <a:ext cx="3235320" cy="10238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73" name="Object 5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008680" y="173160"/>
                    <a:ext cx="3235320" cy="10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TextBox 21"/>
          <p:cNvSpPr/>
          <p:nvPr/>
        </p:nvSpPr>
        <p:spPr>
          <a:xfrm>
            <a:off x="0" y="388800"/>
            <a:ext cx="9144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0000"/>
                </a:solidFill>
                <a:latin typeface="Arial"/>
              </a:rPr>
              <a:t>Пример </a:t>
            </a:r>
            <a:r>
              <a:rPr b="0" i="1" lang="en-US" sz="2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i="1" lang="ru-RU" sz="26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i="1" lang="ru-RU" sz="2600" spc="-1" strike="noStrike">
                <a:solidFill>
                  <a:srgbClr val="00008e"/>
                </a:solidFill>
                <a:latin typeface="Arial"/>
              </a:rPr>
              <a:t> Решить уравне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0T07:18:51Z</dcterms:created>
  <dc:creator>Intel</dc:creator>
  <dc:description/>
  <dc:language>en-US</dc:language>
  <cp:lastModifiedBy>Home</cp:lastModifiedBy>
  <dcterms:modified xsi:type="dcterms:W3CDTF">2013-01-28T12:32:34Z</dcterms:modified>
  <cp:revision>873</cp:revision>
  <dc:subject/>
  <dc:title>Отрезок.  Длина отрезка. Треугольник</dc:title>
</cp:coreProperties>
</file>