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E9D-13CF-4C40-B3F8-C34F5F82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C89-81F8-4779-87D1-50CCA450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E04-0C31-4FA0-BDE7-DB104F4F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496-A558-43FA-8282-C1C77E5D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6B05-C3A8-4EF1-B82B-6EEBE5AF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9E10-E7EE-49B6-8CB9-5885F9AA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1B62-06F0-450A-BD90-6234CA45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9071-AC12-48FA-B316-054F9FF6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FD29-D991-4637-A167-D14FF3A9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1A4D-EE78-47F5-AF08-51C875D4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E4DF-9270-4663-B831-0F995B49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DFF-52D5-4869-A04B-F5A9A9FC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64A7-B087-4210-922E-CFC24E12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252C-2F06-4DE5-8EC8-1BFFDD4D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5E4B-7254-44F8-85A8-2D65C856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5947-4953-4D07-8B62-A77EFE4B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A054-B5B1-4EE6-927C-DDE1A869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4E6-31D1-4FCD-838A-B2C97B16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017-648A-4E8F-8755-508D2347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256-FD21-41AA-99EF-93E274C5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EF9-11D9-4943-B84C-FF3A401C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9D4-2042-4760-AFE8-BF7A516A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D61-2383-4FA5-8657-075A520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579-0894-4EF4-BF3F-3B521B6D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9CB5-50A1-4248-B474-36930EB7AA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2D95-B12E-41A6-B5D3-8E8904A30D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038120"/>
            <a:ext cx="91440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                        </a:t>
            </a: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Эдвард </a:t>
            </a: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                        Хагеруп Григ</a:t>
            </a: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                         (1843–1907)</a:t>
            </a:r>
            <a:br>
              <a:rPr sz="4800"/>
            </a:br>
            <a:br>
              <a:rPr sz="4800"/>
            </a:b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орвежский композитор,  пианист,     дирижёр,  музыкальный деятель.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grieg"/>
          <p:cNvPicPr/>
          <p:nvPr/>
        </p:nvPicPr>
        <p:blipFill>
          <a:blip r:embed="rId1"/>
          <a:stretch/>
        </p:blipFill>
        <p:spPr>
          <a:xfrm>
            <a:off x="228600" y="838080"/>
            <a:ext cx="4348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0" y="213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1875 году было создан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амое великое произведение Грига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оркестровая сюи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ная партитура «Пера Гюнта» включает в себя 23 номера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реди которых «Утро»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 пещере горного короля»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озвращение Пера Гюнта на родину», «Серенада Пера Гюнта» и т. 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ольвей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значает «Солнечный путь»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2894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воей песне Сольвейг тоскует о жених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ого давно не видела, и надеется на то, что он скоро возврати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rcRect l="0" t="7981" r="3979" b="7981"/>
          <a:stretch/>
        </p:blipFill>
        <p:spPr>
          <a:xfrm>
            <a:off x="380880" y="228600"/>
            <a:ext cx="8363160" cy="3651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409720" y="3047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. Рерих.  Ждуща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-2297160" y="3122640"/>
            <a:ext cx="12561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62840" rIns="1234800" tIns="914040" bIns="2286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гие годы Пер Гюнт провёл в странствиях по све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ключения и деньги не принесли ему счасть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клоне лет, седой и усталый, он возвращается на род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дя по лесу, Пер видит одинокую избуш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вдали от людей его ждёт любяща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львей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 время, ни одиночество не сломили её ве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адежды на встречу с любимым челове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Perpetua Titling MT"/>
              </a:rPr>
              <a:t>В день своего шестидесятилетия Григ получил пятьсот телеграмм и писем  из многих стран ми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4"/>
          <p:cNvPicPr/>
          <p:nvPr/>
        </p:nvPicPr>
        <p:blipFill>
          <a:blip r:embed="rId1"/>
          <a:stretch/>
        </p:blipFill>
        <p:spPr>
          <a:xfrm>
            <a:off x="228600" y="3124080"/>
            <a:ext cx="2817720" cy="30686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3200400" y="3276720"/>
            <a:ext cx="56386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мпозитор мог гордиться: значит, жизнь его не прошла даром, значит, он своим творчеством приносил людям рад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линно народный художник, Григ возвысил норвежскую музыку до вершин мировой классики. И в наши дни произведения Грига являются украшением репертуара многих исполнителей и коллектив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УРОВАЯ  КРАСОТА  НОРВЕГ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rcRect l="1552" t="11782" r="3104" b="2946"/>
          <a:stretch/>
        </p:blipFill>
        <p:spPr>
          <a:xfrm>
            <a:off x="762120" y="838080"/>
            <a:ext cx="7643520" cy="36021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0" y="4572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Я почерпнул богатые сокровища народных напевов моей родины, и из этого клад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являющегося непочатым источником норвежского духа, я пытался создать норвежское искус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. Гри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bergen"/>
          <p:cNvPicPr/>
          <p:nvPr/>
        </p:nvPicPr>
        <p:blipFill>
          <a:blip r:embed="rId1"/>
          <a:stretch/>
        </p:blipFill>
        <p:spPr>
          <a:xfrm>
            <a:off x="3276720" y="2590920"/>
            <a:ext cx="2835000" cy="153324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0" y="47242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Берген - крупный приморский город Норвегии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де  родился Эдвард Григ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http://www.rostravel.ru/_archive/img/norway/bergen/Bergen-harbour-by-night.jpg"/>
          <p:cNvPicPr/>
          <p:nvPr/>
        </p:nvPicPr>
        <p:blipFill>
          <a:blip r:embed="rId2"/>
          <a:stretch/>
        </p:blipFill>
        <p:spPr>
          <a:xfrm>
            <a:off x="6553080" y="1828800"/>
            <a:ext cx="217800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http://www.norge.ru/img/bergern2.jpg"/>
          <p:cNvPicPr/>
          <p:nvPr/>
        </p:nvPicPr>
        <p:blipFill>
          <a:blip r:embed="rId3"/>
          <a:stretch/>
        </p:blipFill>
        <p:spPr>
          <a:xfrm>
            <a:off x="380880" y="1828800"/>
            <a:ext cx="2357640" cy="146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http://www.norge.ru/img/bergern1.jpg"/>
          <p:cNvPicPr/>
          <p:nvPr/>
        </p:nvPicPr>
        <p:blipFill>
          <a:blip r:embed="rId4"/>
          <a:stretch/>
        </p:blipFill>
        <p:spPr>
          <a:xfrm>
            <a:off x="3505320" y="914400"/>
            <a:ext cx="23572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304920" y="4876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ле Булль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ечательный скрипач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орвежский Паганин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ole-bull"/>
          <p:cNvPicPr/>
          <p:nvPr/>
        </p:nvPicPr>
        <p:blipFill>
          <a:blip r:embed="rId1"/>
          <a:stretch/>
        </p:blipFill>
        <p:spPr>
          <a:xfrm>
            <a:off x="3048120" y="533520"/>
            <a:ext cx="28033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0" y="2442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Хотите приобщить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к фольклору Норвегии - слушайте Гри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0" y="3581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пенгаген - центр музыкальной жизни тогдашней Скандинав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http://www.vipgroup.net/upload/pictures/kpg_36.jpg"/>
          <p:cNvPicPr/>
          <p:nvPr/>
        </p:nvPicPr>
        <p:blipFill>
          <a:blip r:embed="rId1"/>
          <a:stretch/>
        </p:blipFill>
        <p:spPr>
          <a:xfrm>
            <a:off x="4952880" y="1219320"/>
            <a:ext cx="3038760" cy="2066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http://www.vipgroup.net/upload/pictures/kpg_24.jpg"/>
          <p:cNvPicPr/>
          <p:nvPr/>
        </p:nvPicPr>
        <p:blipFill>
          <a:blip r:embed="rId2"/>
          <a:stretch/>
        </p:blipFill>
        <p:spPr>
          <a:xfrm>
            <a:off x="990720" y="1219320"/>
            <a:ext cx="30099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154080"/>
            <a:ext cx="8991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Э. Григ дирижировал концертами                                        Филармонического об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По его инициативе была создан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Музыкальная академи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1867)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ое в Норвегии музыка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чебное завед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Он основал Концертное музыкальное общество (187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Э"/>
          <p:cNvPicPr/>
          <p:nvPr/>
        </p:nvPicPr>
        <p:blipFill>
          <a:blip r:embed="rId1"/>
          <a:stretch/>
        </p:blipFill>
        <p:spPr>
          <a:xfrm>
            <a:off x="304920" y="1447920"/>
            <a:ext cx="21412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0" y="1350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В 30 лет он приобре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материальную независимо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благодаря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государственной стипенди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гонорарам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за сочи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и смог полность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вятить себя творчеств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rcRect l="12400" t="3612" r="775" b="6020"/>
          <a:stretch/>
        </p:blipFill>
        <p:spPr>
          <a:xfrm>
            <a:off x="228600" y="345960"/>
            <a:ext cx="4637160" cy="62121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4952880" y="821880"/>
            <a:ext cx="4191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ие произ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и созданы Григом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музыкальной хижине» 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охотном дом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ящемся ряд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его вилл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ущество хижи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яли всего несколь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ов — пианино, скрипка, письменный стол, кресло, нотная бумага и пер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талий</cp:lastModifiedBy>
  <dcterms:modified xsi:type="dcterms:W3CDTF">2018-07-03T12:29:38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