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C43-FF3D-4D47-B8C4-33D37A25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18D-7E48-468E-B188-E7764623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C0B-748B-4456-A2FC-13835E51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88D-87B5-47E9-8212-17EF75DA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B962-4B43-4A4A-8199-8824B3E2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8B1E-F74C-4137-B4F6-8459A344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4706-F805-4EF7-8915-7714A33B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020A-0C54-4859-BD5C-B9D33311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1736-C29A-48B3-9B93-157931F0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462B-DDC9-4B2E-9C74-3162D9C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C910-B907-4A43-B55F-B4D96B02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352-AEAF-46E4-B8C6-D942BB74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8D83-94F2-4427-AF0C-2B55209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6F50-D9D7-4855-987A-83A57E8D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ECAA-4024-479C-8BBD-CD90CDFB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382E-EBCC-4B54-939A-1CA5BFEA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86A1-0CA1-461B-B9CE-4902E9C7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ACB-B89B-418C-86A5-55131760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626-7409-4CF8-8DF6-F7579C92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990-E1AD-49C8-B1CA-0746ED55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509-DDB0-425D-8E3F-55F8CBB9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A43-E854-4BDF-B2D3-1286D7BF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C6A-D352-4EC3-AEB9-000B1999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BD6-6A60-43B2-83EC-9A0F32BE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4513-778E-407C-A0B8-28EFE871C7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D037-D11F-4995-B230-E22DA22402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038120"/>
            <a:ext cx="91440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                        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Эдвард </a:t>
            </a: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                        Хагеруп Григ</a:t>
            </a: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                        (1843–1907)</a:t>
            </a: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орвежский композитор,  пианист,     дирижёр,  музыкальный деятель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grieg"/>
          <p:cNvPicPr/>
          <p:nvPr/>
        </p:nvPicPr>
        <p:blipFill>
          <a:blip r:embed="rId1"/>
          <a:stretch/>
        </p:blipFill>
        <p:spPr>
          <a:xfrm>
            <a:off x="228600" y="838080"/>
            <a:ext cx="4348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1875 году было создан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мое великое произведение Грига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ркестровая сюи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ная партитура «Пера Гюнта» включает в себя 23 номера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реди которых «Утро»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 пещере горного короля»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озвращение Пера Гюнта на родину», «Серенада Пера Гюнта» и т. 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ольвей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значает «Солнечный путь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2894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оей песне Сольвейг тоскует о жених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ого давно не видела, и надеется на то, что он скоро возврати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rcRect l="0" t="7981" r="3979" b="7981"/>
          <a:stretch/>
        </p:blipFill>
        <p:spPr>
          <a:xfrm>
            <a:off x="380880" y="228600"/>
            <a:ext cx="8363160" cy="3651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409720" y="3047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. Рерих.  Ждуща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-2297160" y="3122640"/>
            <a:ext cx="12561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62840" rIns="1234800" tIns="914040" bIns="2286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гие годы Пер Гюнт провёл в странствиях по св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ключения и деньги не принесли ему счаст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клоне лет, седой и усталый, он возвращается на род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дя по лесу, Пер видит одинокую избуш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вдали от людей его ждёт любяща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львей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 время, ни одиночество не сломили её ве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адежды на встречу с любимым челове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Perpetua Titling MT"/>
              </a:rPr>
              <a:t>В день своего шестидесятилетия Григ получил пятьсот телеграмм и писем  из многих стран ми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4"/>
          <p:cNvPicPr/>
          <p:nvPr/>
        </p:nvPicPr>
        <p:blipFill>
          <a:blip r:embed="rId1"/>
          <a:stretch/>
        </p:blipFill>
        <p:spPr>
          <a:xfrm>
            <a:off x="228600" y="3124080"/>
            <a:ext cx="2817720" cy="30686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3200400" y="3276720"/>
            <a:ext cx="56386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мпозитор мог гордиться: значит, жизнь его не прошла даром, значит, он своим творчеством приносил людям рад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линно народный художник, Григ возвысил норвежскую музыку до вершин мировой классики. И в наши дни произведения Грига являются украшением репертуара многих исполнителей и коллектив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УРОВАЯ  КРАСОТА  НОРВЕ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rcRect l="1552" t="11782" r="3104" b="2946"/>
          <a:stretch/>
        </p:blipFill>
        <p:spPr>
          <a:xfrm>
            <a:off x="762120" y="838080"/>
            <a:ext cx="7643520" cy="36021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0" y="4572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Я почерпнул богатые сокровища народных напевов моей родины, и из этого клад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являющегося непочатым источником норвежского духа, я пытался создать норвежское искус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. Гри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bergen"/>
          <p:cNvPicPr/>
          <p:nvPr/>
        </p:nvPicPr>
        <p:blipFill>
          <a:blip r:embed="rId1"/>
          <a:stretch/>
        </p:blipFill>
        <p:spPr>
          <a:xfrm>
            <a:off x="3276720" y="2590920"/>
            <a:ext cx="2835000" cy="15332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0" y="47242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ерген - крупный приморский город Норвегии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де  родился Эдвард Григ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http://www.rostravel.ru/_archive/img/norway/bergen/Bergen-harbour-by-night.jpg"/>
          <p:cNvPicPr/>
          <p:nvPr/>
        </p:nvPicPr>
        <p:blipFill>
          <a:blip r:embed="rId2"/>
          <a:stretch/>
        </p:blipFill>
        <p:spPr>
          <a:xfrm>
            <a:off x="6553080" y="1828800"/>
            <a:ext cx="217800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ttp://www.norge.ru/img/bergern2.jpg"/>
          <p:cNvPicPr/>
          <p:nvPr/>
        </p:nvPicPr>
        <p:blipFill>
          <a:blip r:embed="rId3"/>
          <a:stretch/>
        </p:blipFill>
        <p:spPr>
          <a:xfrm>
            <a:off x="380880" y="1828800"/>
            <a:ext cx="2357640" cy="146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www.norge.ru/img/bergern1.jpg"/>
          <p:cNvPicPr/>
          <p:nvPr/>
        </p:nvPicPr>
        <p:blipFill>
          <a:blip r:embed="rId4"/>
          <a:stretch/>
        </p:blipFill>
        <p:spPr>
          <a:xfrm>
            <a:off x="3505320" y="914400"/>
            <a:ext cx="23572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304920" y="4876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ле Булль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ечательный скрипач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орвежский Паганин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ole-bull"/>
          <p:cNvPicPr/>
          <p:nvPr/>
        </p:nvPicPr>
        <p:blipFill>
          <a:blip r:embed="rId1"/>
          <a:stretch/>
        </p:blipFill>
        <p:spPr>
          <a:xfrm>
            <a:off x="3048120" y="533520"/>
            <a:ext cx="28033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0" y="2442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Хотите приобщить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к фольклору Норвегии - слушайте Гри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0" y="3581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пенгаген - центр музыкальной жизни тогдашней Скандинав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http://www.vipgroup.net/upload/pictures/kpg_36.jpg"/>
          <p:cNvPicPr/>
          <p:nvPr/>
        </p:nvPicPr>
        <p:blipFill>
          <a:blip r:embed="rId1"/>
          <a:stretch/>
        </p:blipFill>
        <p:spPr>
          <a:xfrm>
            <a:off x="4952880" y="1219320"/>
            <a:ext cx="3038760" cy="2066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http://www.vipgroup.net/upload/pictures/kpg_24.jpg"/>
          <p:cNvPicPr/>
          <p:nvPr/>
        </p:nvPicPr>
        <p:blipFill>
          <a:blip r:embed="rId2"/>
          <a:stretch/>
        </p:blipFill>
        <p:spPr>
          <a:xfrm>
            <a:off x="990720" y="1219320"/>
            <a:ext cx="30099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154080"/>
            <a:ext cx="8991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Э. Григ дирижировал концертами                                        Филармонического об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По его инициативе была создан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Музыкальная академи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1867)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ое в Норвегии музыка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чебное завед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Он основал Концертное музыкальное общество (187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Э"/>
          <p:cNvPicPr/>
          <p:nvPr/>
        </p:nvPicPr>
        <p:blipFill>
          <a:blip r:embed="rId1"/>
          <a:stretch/>
        </p:blipFill>
        <p:spPr>
          <a:xfrm>
            <a:off x="304920" y="1447920"/>
            <a:ext cx="21412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0" y="1350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 30 лет он приобре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материальную независим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благодаря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государственной стипенди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гонорарам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за сочи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и смог полность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вятить себя творчеств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rcRect l="12400" t="3612" r="775" b="6020"/>
          <a:stretch/>
        </p:blipFill>
        <p:spPr>
          <a:xfrm>
            <a:off x="228600" y="345960"/>
            <a:ext cx="4637160" cy="62121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4952880" y="821880"/>
            <a:ext cx="419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ие произ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и созданы Григом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музыкальной хижине» 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охотном дом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ящемся ряд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его вилл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ущество хижи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яли всего несколь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— пианино, скрипка, письменный стол, кресло, нотная бумага и пер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талий</cp:lastModifiedBy>
  <dcterms:modified xsi:type="dcterms:W3CDTF">2018-07-03T12:29:3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