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50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55.png" ContentType="image/png"/>
  <Override PartName="/ppt/media/image20.jpeg" ContentType="image/jpeg"/>
  <Override PartName="/ppt/media/image45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54.png" ContentType="image/png"/>
  <Override PartName="/ppt/media/image14.jpeg" ContentType="image/jpeg"/>
  <Override PartName="/ppt/media/image15.jpeg" ContentType="image/jpeg"/>
  <Override PartName="/ppt/media/image49.jpeg" ContentType="image/jpeg"/>
  <Override PartName="/ppt/media/image19.jpeg" ContentType="image/jpeg"/>
  <Override PartName="/ppt/media/image60.png" ContentType="image/png"/>
  <Override PartName="/ppt/media/image21.jpeg" ContentType="image/jpeg"/>
  <Override PartName="/ppt/media/image63.jpeg" ContentType="image/jpeg"/>
  <Override PartName="/ppt/media/image29.png" ContentType="image/png"/>
  <Override PartName="/ppt/media/image71.png" ContentType="image/png"/>
  <Override PartName="/ppt/media/image75.jpeg" ContentType="image/jpeg"/>
  <Override PartName="/ppt/media/image73.jpeg" ContentType="image/jpeg"/>
  <Override PartName="/ppt/media/image68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69.jpeg" ContentType="image/jpeg"/>
  <Override PartName="/ppt/media/image67.png" ContentType="image/png"/>
  <Override PartName="/ppt/media/image41.png" ContentType="image/png"/>
  <Override PartName="/ppt/media/image3.jpeg" ContentType="image/jpeg"/>
  <Override PartName="/ppt/media/image66.jpeg" ContentType="image/jpeg"/>
  <Override PartName="/ppt/media/image64.jpeg" ContentType="image/jpeg"/>
  <Override PartName="/ppt/media/image38.jpeg" ContentType="image/jpeg"/>
  <Override PartName="/ppt/media/image25.jpeg" ContentType="image/jpeg"/>
  <Override PartName="/ppt/media/image72.jpeg" ContentType="image/jpeg"/>
  <Override PartName="/ppt/media/image2.png" ContentType="image/png"/>
  <Override PartName="/ppt/media/image32.png" ContentType="image/png"/>
  <Override PartName="/ppt/media/image62.png" ContentType="image/png"/>
  <Override PartName="/ppt/media/image51.jpeg" ContentType="image/jpeg"/>
  <Override PartName="/ppt/media/image17.jpeg" ContentType="image/jpeg"/>
  <Override PartName="/ppt/media/image61.jpeg" ContentType="image/jpeg"/>
  <Override PartName="/ppt/media/image24.jpeg" ContentType="image/jpeg"/>
  <Override PartName="/ppt/media/image27.png" ContentType="image/png"/>
  <Override PartName="/ppt/media/image33.jpeg" ContentType="image/jpeg"/>
  <Override PartName="/ppt/media/image16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74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7.png" ContentType="image/png"/>
  <Override PartName="/ppt/media/image37.png" ContentType="image/png"/>
  <Override PartName="/ppt/media/image9.jpeg" ContentType="image/jpeg"/>
  <Override PartName="/ppt/media/image36.png" ContentType="image/pn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7431-F27C-418C-86AD-162E9380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F517-5E25-49BC-8B8C-DFC32593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C509-2652-48E4-8861-BBD1280F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BC61-CE00-497B-A3CF-29C81145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7EC4-11B6-4D12-BB4C-0DF8551A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3301-6A80-48D6-81BB-33593799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149C-8C1D-43FD-8A2E-588C3460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6D5A-8B29-44BB-BC0C-9BB8EBD2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D7C5-278C-47BD-A2B0-695A61B1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B52E-D834-4E58-906D-9F26C33A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8DE1-6BBB-4937-AE36-F099FE82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A668-877F-42F4-A25A-4F9C32CA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29C0-DED0-41FE-8A38-E0875FB7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8572-762F-4450-82F6-23CD3031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D6E4-1A7A-4436-B83C-CD5F9145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886D-40B7-44D1-AAF3-F9265291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5ED1-E206-46E4-BA5E-BA304F87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5700-96A6-4589-BF45-0288E002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EAB9-0640-481D-AC64-8BF4456B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B311-9D26-4489-A739-03980E74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2723-D71B-4B8E-BE95-0F305B51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7623-F51D-46CA-96B0-9C218663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F543-3286-4777-8709-32EA4DEA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6B1C-76AE-404C-8677-0CC357EC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17a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3855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0D0E-2CB6-490F-93B4-10331C6BE7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17a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3855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748A-8709-4F51-BEEB-40576A7189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ff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971640" y="1413000"/>
            <a:ext cx="720072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кскурсия по Ясной Поляне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664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2252520"/>
            <a:ext cx="2627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 въезда к дом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.Н.Толстого вед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живописная березов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ллея, которая сохрани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ое названи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Прешпект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26920" y="5516640"/>
            <a:ext cx="716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м Л.Н.Толстого построен его дедом Н.С.Волконским в первой четверти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IX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этом доме Толстой прожил около 50-ти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3860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4500720" cy="5300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5480" y="596880"/>
            <a:ext cx="40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ид дома Л.Н.Толстого со стор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шпек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58920" y="5060880"/>
            <a:ext cx="416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.Н.Толстой с внуками на площад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еред домом. Фото 1908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4005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4572000" cy="5157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76040" y="957240"/>
            <a:ext cx="46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Главный вход в дом-музей Л.Н.Толст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58560" y="4125960"/>
            <a:ext cx="417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.Н. с крестьянами у главного вх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08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635800" y="549360"/>
            <a:ext cx="3508200" cy="5587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5219640" cy="4895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6040" y="1244520"/>
            <a:ext cx="405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.Н.Толстой в кругу родных 1908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02480" y="6156360"/>
            <a:ext cx="334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еранда при входе в дом Толст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626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914200" y="6165720"/>
            <a:ext cx="34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ередняя дома Л.Н.Толст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1944720" cy="1368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771640" y="0"/>
            <a:ext cx="6372360" cy="6149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11280" y="6156360"/>
            <a:ext cx="82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Библиотека в Ясной Поляне состоит из 22тыс. книг и номеров журналов на 35 язык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3800" y="3189240"/>
            <a:ext cx="25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Экслибрис на книг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5157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284720" cy="5877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332360" y="236520"/>
            <a:ext cx="27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абинет Л.Н.Толстого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37120" y="6467400"/>
            <a:ext cx="352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.Н.Толстой за работой 1908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85800" y="6093000"/>
            <a:ext cx="77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а письменном столе все осталось так же, как и при жизни писате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258920" y="5805360"/>
            <a:ext cx="677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пальня писателя. Умывальник, принадлежащий отцу Толстого. Больничное крес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8000" y="836640"/>
            <a:ext cx="103550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Ясная Поляна, родовое имение Толстых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Здесь родился и здесь похоронен гени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мировой литературы. Здесь луга, травы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которые он обходил с косо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Тропы, по которым он броди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размышляя. Поля, по которым шагал писатель теплой, парящей бороздой за плуго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003640" y="476280"/>
            <a:ext cx="386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Комната под сводам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Часто она служила Толстому кабинето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общей сложности он работал в 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коло 20-ти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148360" y="2565360"/>
            <a:ext cx="3246480" cy="2735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362560" y="5589720"/>
            <a:ext cx="302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.Н.Толстой за работой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комнате под сводам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.Е.Репин 1891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641920" y="3886200"/>
            <a:ext cx="3502080" cy="2971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25080" y="309600"/>
            <a:ext cx="6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а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24360" y="2852640"/>
            <a:ext cx="327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.Н.Толстой за обеденным стол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08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53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264400" y="6141960"/>
            <a:ext cx="539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голок гостиной. В доме часто звучала музы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148360" y="0"/>
            <a:ext cx="3995640" cy="6308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3989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156360" y="6213600"/>
            <a:ext cx="265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екретарская комн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1680" y="4506840"/>
            <a:ext cx="486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ейчас в архиве Л.Н.Толстого сохраня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0 тыс. писем, полученных писателе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о всех концов России и земного ша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 тыс. из них из-за рубеж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.Н.Толстой и его секретарь Н.Н.Гусев 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азборкой почты 1909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4019400"/>
            <a:ext cx="3745080" cy="28386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78920" y="309600"/>
            <a:ext cx="429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омната Л.Н.Толстого и С.А.Толст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78560" y="6156360"/>
            <a:ext cx="49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.Н.Толстой и С.А.Толстая в день 80-лет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исателя 1908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419640" y="0"/>
            <a:ext cx="572436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08000" y="3284640"/>
            <a:ext cx="32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.Н.Толстой и С.А.Толст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4535280" cy="6336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148360" y="333360"/>
            <a:ext cx="3887640" cy="3959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508720" y="6021360"/>
            <a:ext cx="323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.А.Толстая с детьми Таней и Сережей 1866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80000" y="4292640"/>
            <a:ext cx="279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олстая с детьми 1892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785440" cy="4681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987640" y="4005360"/>
            <a:ext cx="3095640" cy="140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564360" y="165240"/>
            <a:ext cx="316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омната для приезжающ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09840" y="5492880"/>
            <a:ext cx="562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ужья и охотничьи принадле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хота занимала большое место в жизни писате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4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3816360" cy="5977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788000" y="333360"/>
            <a:ext cx="4105080" cy="34574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61680" y="6307200"/>
            <a:ext cx="38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голок для серьезных разговор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4760" y="3933720"/>
            <a:ext cx="456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.Н.Толстой в кругу семьи в зале 1887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9091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87520" y="258840"/>
            <a:ext cx="65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Юго-западный флигель. Здесь в 1859-1862 гг. была шко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2997360"/>
            <a:ext cx="3751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ев Николаевич Толст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28 – 1910 г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643280" y="189000"/>
            <a:ext cx="4341960" cy="5430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3816360" cy="3817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141440" y="5734080"/>
            <a:ext cx="50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.Н.Толстой с крестьянскими детьми 1909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9280" y="3981600"/>
            <a:ext cx="367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Азбука» и «книги для чтения»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аписанные Л.Н.Толст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3546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55640" y="692280"/>
            <a:ext cx="334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исунок ученика яснополянской шко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2997360"/>
            <a:ext cx="3492360" cy="3860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788000" y="4581360"/>
            <a:ext cx="377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едагогический журнал, издаваемый Л.Н.Толст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Содержимое 4" descr="котенок.jpg"/>
          <p:cNvPicPr/>
          <p:nvPr/>
        </p:nvPicPr>
        <p:blipFill>
          <a:blip r:embed="rId1"/>
          <a:stretch/>
        </p:blipFill>
        <p:spPr>
          <a:xfrm>
            <a:off x="1428840" y="1720800"/>
            <a:ext cx="1428840" cy="20052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5" descr="кот и лиса.jpg"/>
          <p:cNvPicPr/>
          <p:nvPr/>
        </p:nvPicPr>
        <p:blipFill>
          <a:blip r:embed="rId2"/>
          <a:stretch/>
        </p:blipFill>
        <p:spPr>
          <a:xfrm>
            <a:off x="571680" y="3929040"/>
            <a:ext cx="1285560" cy="190512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6" descr="рассказы.jpg"/>
          <p:cNvPicPr/>
          <p:nvPr/>
        </p:nvPicPr>
        <p:blipFill>
          <a:blip r:embed="rId3"/>
          <a:stretch/>
        </p:blipFill>
        <p:spPr>
          <a:xfrm>
            <a:off x="3714840" y="1500120"/>
            <a:ext cx="2000160" cy="27147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7" descr="рассказы2.jpg"/>
          <p:cNvPicPr/>
          <p:nvPr/>
        </p:nvPicPr>
        <p:blipFill>
          <a:blip r:embed="rId4"/>
          <a:stretch/>
        </p:blipFill>
        <p:spPr>
          <a:xfrm>
            <a:off x="6715080" y="1571760"/>
            <a:ext cx="1428840" cy="20714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8" descr="филипок.jpg"/>
          <p:cNvPicPr/>
          <p:nvPr/>
        </p:nvPicPr>
        <p:blipFill>
          <a:blip r:embed="rId5"/>
          <a:stretch/>
        </p:blipFill>
        <p:spPr>
          <a:xfrm>
            <a:off x="7215120" y="3929040"/>
            <a:ext cx="1357560" cy="20908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9" descr="прыжок.jpg"/>
          <p:cNvPicPr/>
          <p:nvPr/>
        </p:nvPicPr>
        <p:blipFill>
          <a:blip r:embed="rId6"/>
          <a:stretch/>
        </p:blipFill>
        <p:spPr>
          <a:xfrm>
            <a:off x="2357280" y="4572000"/>
            <a:ext cx="1409760" cy="19479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0" descr="лев и собачка.jpg"/>
          <p:cNvPicPr/>
          <p:nvPr/>
        </p:nvPicPr>
        <p:blipFill>
          <a:blip r:embed="rId7"/>
          <a:stretch/>
        </p:blipFill>
        <p:spPr>
          <a:xfrm>
            <a:off x="4929120" y="4572000"/>
            <a:ext cx="1500120" cy="1928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406960" y="404640"/>
            <a:ext cx="48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ниги Толстого для де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856720" cy="63658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79280" y="452520"/>
            <a:ext cx="185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Кучерская изб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987640" y="189000"/>
            <a:ext cx="5977080" cy="6480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9280" y="907920"/>
            <a:ext cx="2863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Белая кухн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нутри домик разделяется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ва помещения. В одной полови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была большая русская печь. Здес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екли хлеб, готовили квас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бедала прислуга. Во второй полови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жил слуга И.В.Сидорков, котор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.Н. очень уважа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7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9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1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3290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193480" y="236520"/>
            <a:ext cx="52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юбимая скамейка Л.Н.Толстого в «Елочках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34800" y="6234120"/>
            <a:ext cx="77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Часто эта скамейка служила Толстому кабинетом на свежем воздух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десь всегда было тихо и спокой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390920" y="0"/>
            <a:ext cx="4753080" cy="3024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916360" y="1989000"/>
            <a:ext cx="4752720" cy="29926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0" y="3909960"/>
            <a:ext cx="4824360" cy="29480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37480" y="260280"/>
            <a:ext cx="36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резово-дубовый лес «Чепыж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7640" y="2058840"/>
            <a:ext cx="232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крестности Яс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ляны осен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81800" y="623736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азлив Воронки вес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0"/>
                            </p:stCondLst>
                            <p:childTnLst>
                              <p:par>
                                <p:cTn id="5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5640" cy="3284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356000" y="452520"/>
            <a:ext cx="38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олстой на прогулке за Воронк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08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700360" y="1773360"/>
            <a:ext cx="3995640" cy="3284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5148360" y="3573360"/>
            <a:ext cx="3995640" cy="32846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69440" y="4581360"/>
            <a:ext cx="17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Цветущий лу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720" y="6192720"/>
            <a:ext cx="279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.Н.Толстой на Делир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908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5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313080" cy="20876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268960" y="115920"/>
            <a:ext cx="3695760" cy="6553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179280" y="4149720"/>
            <a:ext cx="3600720" cy="2541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564000" y="2565360"/>
            <a:ext cx="161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.Н.Толстой на зимней прогул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3800" y="3405240"/>
            <a:ext cx="18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Ясеневая алле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77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3" dur="770" fill="hold"/>
                                        <p:tgtEl>
                                          <p:spTgt spid="2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5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7" dur="77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7500"/>
                            </p:stCondLst>
                            <p:childTnLst>
                              <p:par>
                                <p:cTn id="6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8680" cy="64087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24000" y="3944880"/>
            <a:ext cx="3095640" cy="25606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284720" y="5805360"/>
            <a:ext cx="408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Яснополянские крестьянки у большого пруда 1908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9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756720" y="692280"/>
            <a:ext cx="7805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Л.Н.Толстой уважа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тяжелый крестьянски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труд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Часто его можно было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видеть на пашн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или с косой в руках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858160" cy="6553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210560" y="6141960"/>
            <a:ext cx="45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На пашне». Картина И.Е.Репина 1887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50920" y="3965400"/>
            <a:ext cx="38894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500"/>
                            </p:stCondLst>
                            <p:childTnLst>
                              <p:par>
                                <p:cTn id="69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829720" cy="6408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250920" y="3429000"/>
            <a:ext cx="2674800" cy="31827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851280" y="5373720"/>
            <a:ext cx="441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.Н.Толстой на покосе с крестьянином П.Власов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890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134160" y="6237360"/>
            <a:ext cx="573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Единственная цветная фотография писателя 1908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920" y="1700280"/>
            <a:ext cx="307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Без своей Ясной Поля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я трудно могу себ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едставить Росс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 мое отношение к ней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.Н.Толст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419640" y="189000"/>
            <a:ext cx="546084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000"/>
                            </p:stCondLst>
                            <p:childTnLst>
                              <p:par>
                                <p:cTn id="7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77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3" dur="770" fill="hold"/>
                                        <p:tgtEl>
                                          <p:spTgt spid="2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5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7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000"/>
                            </p:stCondLst>
                            <p:childTnLst>
                              <p:par>
                                <p:cTn id="7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7777440" cy="596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46960" y="6284880"/>
            <a:ext cx="611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раурная процессия по дороге в Ясную Поляну 1910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56720" y="404640"/>
            <a:ext cx="118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мер Л.Н.  Толстой 7 ноябр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10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500"/>
                            </p:stCondLst>
                            <p:childTnLst>
                              <p:par>
                                <p:cTn id="7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9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500"/>
                            </p:stCondLst>
                            <p:childTnLst>
                              <p:par>
                                <p:cTn id="7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9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851280" y="115920"/>
            <a:ext cx="5167440" cy="65530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0" y="174600"/>
            <a:ext cx="38512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раннем детстве Л.Н.Толстой услыш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т своего старшего брата Николень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егенду о волшебной зеленой палоч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.Н.Толстой писал в «Воспоминаниях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Главная тайна о том, как сделать, чтобы все люди не знали никаких несчасти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икогда не ссорились и не сердились, а были бы постоянно счастливы, эта тайна, как он нам говорил, написана им на зеленой палочке,  и палочка эта зарыта у дороги, на краю овра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Старого Заказа». Лев Николаевич хотел, чтобы его похоронили там, где зарыта зеленая палоч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77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5" dur="770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7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9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1187280" y="692280"/>
            <a:ext cx="720108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"/>
          <p:cNvSpPr/>
          <p:nvPr/>
        </p:nvSpPr>
        <p:spPr>
          <a:xfrm>
            <a:off x="445680" y="6186600"/>
            <a:ext cx="570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оставила Елисеева Ольга Викторовна. МОУСОШ №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6300720" cy="4941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7200" y="-25560"/>
            <a:ext cx="5423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.Н.Толстая (1790 – 1830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Матери своей я совершенно не помн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не было полтора года, когда о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кончалась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динственное сохранившееся изображ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е – силуэт девятилетней девоч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92000" y="5916600"/>
            <a:ext cx="198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.И.Толст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795 – 1837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ец Толст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659640" y="0"/>
            <a:ext cx="2484360" cy="2262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443640" y="2276640"/>
            <a:ext cx="27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ед Л.Н.Толстого по материнской ли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нязь Н.С.Волконск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1753 – 182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Times New Roman"/>
              </a:rPr>
              <a:t>Граф 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Times New Roman"/>
              </a:rPr>
              <a:t>Лев Николаевич Толстой –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Times New Roman"/>
              </a:rPr>
              <a:t>потомок двух знатных дворянских родов: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Times New Roman"/>
              </a:rPr>
              <a:t>графов Толстых и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Times New Roman"/>
              </a:rPr>
              <a:t>князей Волконских.</a:t>
            </a:r>
            <a:br>
              <a:rPr sz="5400"/>
            </a:br>
            <a:endParaRPr b="1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Герб рода графов Толстых"/>
          <p:cNvPicPr/>
          <p:nvPr/>
        </p:nvPicPr>
        <p:blipFill>
          <a:blip r:embed="rId1"/>
          <a:stretch/>
        </p:blipFill>
        <p:spPr>
          <a:xfrm>
            <a:off x="324000" y="260280"/>
            <a:ext cx="4140000" cy="4969080"/>
          </a:xfrm>
          <a:prstGeom prst="rect">
            <a:avLst/>
          </a:prstGeom>
          <a:ln w="0">
            <a:noFill/>
          </a:ln>
        </p:spPr>
      </p:pic>
      <p:sp>
        <p:nvSpPr>
          <p:cNvPr id="133" name="WordArt 8"/>
          <p:cNvSpPr txBox="1"/>
          <p:nvPr/>
        </p:nvSpPr>
        <p:spPr>
          <a:xfrm>
            <a:off x="395280" y="5589720"/>
            <a:ext cx="3960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dddddd">
                      <a:alpha val="80000"/>
                    </a:srgbClr>
                  </a:outerShdw>
                </a:effectLst>
                <a:latin typeface="Times New Roman"/>
              </a:rPr>
              <a:t>Герб рода графов Толстых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ddddd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4" name="Picture 9" descr="Герб рода князей Волконских"/>
          <p:cNvPicPr/>
          <p:nvPr/>
        </p:nvPicPr>
        <p:blipFill>
          <a:blip r:embed="rId2"/>
          <a:stretch/>
        </p:blipFill>
        <p:spPr>
          <a:xfrm>
            <a:off x="5364000" y="333360"/>
            <a:ext cx="3311640" cy="4896000"/>
          </a:xfrm>
          <a:prstGeom prst="rect">
            <a:avLst/>
          </a:prstGeom>
          <a:ln w="0">
            <a:noFill/>
          </a:ln>
        </p:spPr>
      </p:pic>
      <p:sp>
        <p:nvSpPr>
          <p:cNvPr id="135" name="WordArt 10"/>
          <p:cNvSpPr txBox="1"/>
          <p:nvPr/>
        </p:nvSpPr>
        <p:spPr>
          <a:xfrm>
            <a:off x="4859280" y="5589720"/>
            <a:ext cx="3960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dddddd">
                      <a:alpha val="80000"/>
                    </a:srgbClr>
                  </a:outerShdw>
                </a:effectLst>
                <a:latin typeface="Times New Roman"/>
              </a:rPr>
              <a:t>Герб рода князей Волконских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ddddd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000"/>
                            </p:stCondLst>
                            <p:childTnLst>
                              <p:par>
                                <p:cTn id="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2708280"/>
            <a:ext cx="4356000" cy="4149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467240" y="0"/>
            <a:ext cx="4676760" cy="3789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692280"/>
            <a:ext cx="410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.С.Волконский (дед писателя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желая придать въезду в усадьб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собую внушительность построи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ве башенки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02080" y="3933720"/>
            <a:ext cx="474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ни служили вереями для воро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 убежищем для часов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713800" cy="6121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055680" y="62848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 въезда в усадьбу 1908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9T11:59:32Z</dcterms:created>
  <dc:creator>user</dc:creator>
  <dc:description/>
  <dc:language>en-US</dc:language>
  <cp:lastModifiedBy>Виталий</cp:lastModifiedBy>
  <dcterms:modified xsi:type="dcterms:W3CDTF">2013-02-03T15:32:57Z</dcterms:modified>
  <cp:revision>17</cp:revision>
  <dc:subject/>
  <dc:title>Слайд 1</dc:title>
</cp:coreProperties>
</file>