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54.png" ContentType="image/png"/>
  <Override PartName="/ppt/media/image14.jpeg" ContentType="image/jpeg"/>
  <Override PartName="/ppt/media/image15.jpeg" ContentType="image/jpeg"/>
  <Override PartName="/ppt/media/image49.jpeg" ContentType="image/jpeg"/>
  <Override PartName="/ppt/media/image19.jpeg" ContentType="image/jpeg"/>
  <Override PartName="/ppt/media/image60.png" ContentType="image/png"/>
  <Override PartName="/ppt/media/image21.jpeg" ContentType="image/jpeg"/>
  <Override PartName="/ppt/media/image63.jpeg" ContentType="image/jpeg"/>
  <Override PartName="/ppt/media/image29.png" ContentType="image/png"/>
  <Override PartName="/ppt/media/image71.png" ContentType="image/png"/>
  <Override PartName="/ppt/media/image75.jpeg" ContentType="image/jpeg"/>
  <Override PartName="/ppt/media/image73.jpeg" ContentType="image/jpeg"/>
  <Override PartName="/ppt/media/image68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9.jpeg" ContentType="image/jpeg"/>
  <Override PartName="/ppt/media/image67.png" ContentType="image/png"/>
  <Override PartName="/ppt/media/image41.png" ContentType="image/png"/>
  <Override PartName="/ppt/media/image3.jpeg" ContentType="image/jpeg"/>
  <Override PartName="/ppt/media/image66.jpeg" ContentType="image/jpeg"/>
  <Override PartName="/ppt/media/image64.jpeg" ContentType="image/jpeg"/>
  <Override PartName="/ppt/media/image38.jpeg" ContentType="image/jpeg"/>
  <Override PartName="/ppt/media/image25.jpeg" ContentType="image/jpeg"/>
  <Override PartName="/ppt/media/image72.jpeg" ContentType="image/jpeg"/>
  <Override PartName="/ppt/media/image2.png" ContentType="image/png"/>
  <Override PartName="/ppt/media/image32.png" ContentType="image/png"/>
  <Override PartName="/ppt/media/image62.png" ContentType="image/png"/>
  <Override PartName="/ppt/media/image51.jpeg" ContentType="image/jpeg"/>
  <Override PartName="/ppt/media/image17.jpeg" ContentType="image/jpeg"/>
  <Override PartName="/ppt/media/image61.jpeg" ContentType="image/jpeg"/>
  <Override PartName="/ppt/media/image24.jpeg" ContentType="image/jpe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7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7.png" ContentType="image/png"/>
  <Override PartName="/ppt/media/image37.png" ContentType="image/png"/>
  <Override PartName="/ppt/media/image9.jpeg" ContentType="image/jpeg"/>
  <Override PartName="/ppt/media/image36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6D3-7983-40B3-BE76-ECEA7F3A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656-7F03-4EC6-A221-C79ED037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ADF-6104-43B9-8DD4-7FD130B0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5A0-A244-403D-B9A5-7BF3E2E7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1957-0ECB-49A1-9692-E6EE114D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3FD1-71DF-4B20-90BA-B57ACFC3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54EA-8923-4151-97D0-16E33AC9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A7BA-E205-4656-AF49-622EF7F2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FC7F-59A2-4DA9-A9AB-B77A969C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B3B0-0E09-4F9C-81FC-3585EC10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9E06-6022-4D8E-814D-14A2E04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FFF-7176-4AD9-98F3-2669863F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B9D8-F147-4BD9-B7FA-C78989E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4D99-5410-4E9E-8920-2DACD388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F595-F4A4-4861-BEE7-8AD2073C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6D6C-9C60-424B-B4CC-1E8DF903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DD47-FE61-4A91-8B69-CE99FB1B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807-0F43-4DF7-9F12-805AB20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7E7-DD59-48B7-BA46-E4A3C4C5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EB1-B861-4ED0-AEBC-CBD785AB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A9F-137C-490B-8EA3-4D592CE4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77B-AD19-4572-8D84-736799D4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685-8E98-4EAC-823C-6E12263C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C20-2060-4A51-8918-32A78ED4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722D-8E8B-487A-A5C1-AB86949D1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400D-4972-46E3-A755-821F2B8B3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71640" y="1413000"/>
            <a:ext cx="7200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скурсия по Ясной Поляне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4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252520"/>
            <a:ext cx="262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въезда к дом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.Н.Толстого вед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вописная берез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лея, которая сохран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е назв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Прешпект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26920" y="5516640"/>
            <a:ext cx="716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м Л.Н.Толстого построен его дедом Н.С.Волконским в первой четверт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этом доме Толстой прожил около 50-ти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860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500720" cy="5300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5480" y="596880"/>
            <a:ext cx="40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д дома Л.Н.Толстого со ст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шпек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8920" y="5060880"/>
            <a:ext cx="41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с внуками на площад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д домом. Фото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4005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4572000" cy="5157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6040" y="957240"/>
            <a:ext cx="46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лавный вход в дом-музей Л.Н.Толст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8560" y="4125960"/>
            <a:ext cx="417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 с крестьянами у главного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635800" y="549360"/>
            <a:ext cx="3508200" cy="5587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5219640" cy="4895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6040" y="1244520"/>
            <a:ext cx="40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в кругу родных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02480" y="6156360"/>
            <a:ext cx="33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еранда при входе в дом Толст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4200" y="616572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дняя дома Л.Н.Толст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6372360" cy="6149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11280" y="6156360"/>
            <a:ext cx="82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иблиотека в Ясной Поляне состоит из 22тыс. книг и номеров журналов на 35 язы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3800" y="318924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кслибрис на книг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5157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284720" cy="5877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32360" y="23652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абинет Л.Н.Толстого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37120" y="646740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за работой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6093000"/>
            <a:ext cx="77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 письменном столе все осталось так же, как и при жизни пис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58920" y="5805360"/>
            <a:ext cx="677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альня писателя. Умывальник, принадлежащий отцу Толстого. Больничное кре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8000" y="836640"/>
            <a:ext cx="10355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Ясная Поляна, родовое имение Толстых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Здесь родился и здесь похоронен ген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мировой литературы. Здесь луга, травы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которые он обходил с кос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Тропы, по которым он броди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размышляя. Поля, по которым шагал писатель теплой, парящей бороздой за плуг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003640" y="476280"/>
            <a:ext cx="386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Комната под сводам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асто она служила Толстому кабинет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общей сложности он работал в 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коло 20-ти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3246480" cy="2735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62560" y="5589720"/>
            <a:ext cx="302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за работой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комнате под сводам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.Е.Репин 1891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641920" y="3886200"/>
            <a:ext cx="350208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5080" y="30960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2852640"/>
            <a:ext cx="327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за обеденным стол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3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64400" y="614196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голок гостиной. В доме часто звучала му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6308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3989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56360" y="621360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екретарская комн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1680" y="4506840"/>
            <a:ext cx="48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ейчас в архиве Л.Н.Толстого сохран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 тыс. писем, полученных писател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 всех концов России и земного ша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 тыс. из них из-за рубеж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и его секретарь Н.Н.Гусев 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боркой почты 1909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4019400"/>
            <a:ext cx="3745080" cy="2838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78920" y="309600"/>
            <a:ext cx="429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омната Л.Н.Толстого и С.А.Толс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8560" y="6156360"/>
            <a:ext cx="49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и С.А.Толстая в день 80-ле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исателя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8000" y="3284640"/>
            <a:ext cx="32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и С.А.Толст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535280" cy="6336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88764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508720" y="6021360"/>
            <a:ext cx="323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.А.Толстая с детьми Таней и Сережей 1866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4292640"/>
            <a:ext cx="27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лстая с детьми 1892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4681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987640" y="4005360"/>
            <a:ext cx="3095640" cy="140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64360" y="165240"/>
            <a:ext cx="31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омната для приезжающ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09840" y="5492880"/>
            <a:ext cx="562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ужья и охотничьи принадле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хота занимала большое место в жизни пис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3816360" cy="597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105080" cy="3457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61680" y="6307200"/>
            <a:ext cx="38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голок для серьезных разгово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4760" y="3933720"/>
            <a:ext cx="45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в кругу семьи в зале 1887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909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87520" y="258840"/>
            <a:ext cx="65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Юго-западный флигель. Здесь в 1859-1862 гг. была шко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997360"/>
            <a:ext cx="375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в Николаевич Тол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28 – 1910 г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341960" cy="543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3816360" cy="3817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141440" y="5734080"/>
            <a:ext cx="50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с крестьянскими детьми 1909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3981600"/>
            <a:ext cx="36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Азбука» и «книги для чтения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писанные Л.Н.Тол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3546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5640" y="692280"/>
            <a:ext cx="33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исунок ученика яснополянск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3492360" cy="3860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788000" y="4581360"/>
            <a:ext cx="377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дагогический журнал, издаваемый Л.Н.Толст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4" descr="котенок.jpg"/>
          <p:cNvPicPr/>
          <p:nvPr/>
        </p:nvPicPr>
        <p:blipFill>
          <a:blip r:embed="rId1"/>
          <a:stretch/>
        </p:blipFill>
        <p:spPr>
          <a:xfrm>
            <a:off x="1428840" y="1720800"/>
            <a:ext cx="1428840" cy="20052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кот и лиса.jpg"/>
          <p:cNvPicPr/>
          <p:nvPr/>
        </p:nvPicPr>
        <p:blipFill>
          <a:blip r:embed="rId2"/>
          <a:stretch/>
        </p:blipFill>
        <p:spPr>
          <a:xfrm>
            <a:off x="571680" y="3929040"/>
            <a:ext cx="1285560" cy="19051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рассказы.jpg"/>
          <p:cNvPicPr/>
          <p:nvPr/>
        </p:nvPicPr>
        <p:blipFill>
          <a:blip r:embed="rId3"/>
          <a:stretch/>
        </p:blipFill>
        <p:spPr>
          <a:xfrm>
            <a:off x="3714840" y="1500120"/>
            <a:ext cx="2000160" cy="2714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рассказы2.jpg"/>
          <p:cNvPicPr/>
          <p:nvPr/>
        </p:nvPicPr>
        <p:blipFill>
          <a:blip r:embed="rId4"/>
          <a:stretch/>
        </p:blipFill>
        <p:spPr>
          <a:xfrm>
            <a:off x="6715080" y="1571760"/>
            <a:ext cx="1428840" cy="2071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8" descr="филипок.jpg"/>
          <p:cNvPicPr/>
          <p:nvPr/>
        </p:nvPicPr>
        <p:blipFill>
          <a:blip r:embed="rId5"/>
          <a:stretch/>
        </p:blipFill>
        <p:spPr>
          <a:xfrm>
            <a:off x="7215120" y="3929040"/>
            <a:ext cx="1357560" cy="2090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9" descr="прыжок.jpg"/>
          <p:cNvPicPr/>
          <p:nvPr/>
        </p:nvPicPr>
        <p:blipFill>
          <a:blip r:embed="rId6"/>
          <a:stretch/>
        </p:blipFill>
        <p:spPr>
          <a:xfrm>
            <a:off x="2357280" y="4572000"/>
            <a:ext cx="1409760" cy="1947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0" descr="лев и собачка.jpg"/>
          <p:cNvPicPr/>
          <p:nvPr/>
        </p:nvPicPr>
        <p:blipFill>
          <a:blip r:embed="rId7"/>
          <a:stretch/>
        </p:blipFill>
        <p:spPr>
          <a:xfrm>
            <a:off x="4929120" y="457200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406960" y="404640"/>
            <a:ext cx="48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ниги Толстого для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365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452520"/>
            <a:ext cx="18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Кучерская из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5977080" cy="6480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907920"/>
            <a:ext cx="286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Белая кухн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нутри домик разделяется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помещения. В одной полов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ыла большая русская печь. Зде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кли хлеб, готовили квас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едала прислуга. Во второй полов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ил слуга И.В.Сидорков, котор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 очень уваж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329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193480" y="23652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юбимая скамейка Л.Н.Толстого в «Елочка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34800" y="6234120"/>
            <a:ext cx="77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асто эта скамейка служила Толстому кабинетом на свежем воздух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десь всегда было тихо и спокой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753080" cy="3024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4752720" cy="2992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0" y="3909960"/>
            <a:ext cx="4824360" cy="2948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37480" y="26028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резово-дубовый лес «Чепыж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640" y="2058840"/>
            <a:ext cx="232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крестности Я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ляны осен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1800" y="623736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лив Воронки в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284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356000" y="452520"/>
            <a:ext cx="38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лстой на прогулке за Ворон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3995640" cy="3284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148360" y="3573360"/>
            <a:ext cx="3995640" cy="3284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9440" y="458136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Цветущий 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720" y="6192720"/>
            <a:ext cx="27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.Н.Толстой на Делир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1308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68960" y="115920"/>
            <a:ext cx="3695760" cy="6553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3600720" cy="2541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564000" y="2565360"/>
            <a:ext cx="161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на зимней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3800" y="340524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Ясеневая алл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75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8680" cy="6408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3944880"/>
            <a:ext cx="3095640" cy="2560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84720" y="5805360"/>
            <a:ext cx="40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Яснополянские крестьянки у большого пруда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56720" y="692280"/>
            <a:ext cx="7805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Л.Н.Толстой уважа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тяжелый крестьянск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труд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Часто его можно был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видеть на пашн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или с косой в руках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858160" cy="6553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210560" y="614196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На пашне». Картина И.Е.Репина 1887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50920" y="3965400"/>
            <a:ext cx="38894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29720" cy="6408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2674800" cy="3182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851280" y="5373720"/>
            <a:ext cx="441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на покосе с крестьянином П.Власов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90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134160" y="6237360"/>
            <a:ext cx="57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Единственная цветная фотография писателя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1700280"/>
            <a:ext cx="307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Без своей Ясной Поля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я трудно могу се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едставить Росс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мое отношение к ней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54608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3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5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7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777440" cy="596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46960" y="6284880"/>
            <a:ext cx="61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аурная процессия по дороге в Ясную Поляну 1910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56720" y="404640"/>
            <a:ext cx="118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мер Л.Н.  Толстой 7 ноябр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10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851280" y="115920"/>
            <a:ext cx="516744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174600"/>
            <a:ext cx="3851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раннем детстве Л.Н.Толстой услыш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 своего старшего брата Николень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генду о волшебной зеленой палоч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писал в «Воспоминаниях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Главная тайна о том, как сделать, чтобы все люди не знали никаких несчаст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икогда не ссорились и не сердились, а были бы постоянно счастливы, эта тайна, как он нам говорил, написана им на зеленой палочке,  и палочка эта зарыта у дороги, на краю овра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Старого Заказа». Лев Николаевич хотел, чтобы его похоронили там, где зарыта зеленая палоч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187280" y="692280"/>
            <a:ext cx="7201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/>
          <p:nvPr/>
        </p:nvSpPr>
        <p:spPr>
          <a:xfrm>
            <a:off x="445680" y="6186600"/>
            <a:ext cx="57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ставила Елисеева Ольга Викторовна. МОУСОШ №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6300720" cy="4941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200" y="-25560"/>
            <a:ext cx="5423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.Н.Толстая (1790 – 1830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Матери своей я совершенно не помн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не было полтора года, когда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нчалась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динственное сохранившееся изобр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е – силуэт девятилетней дев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2000" y="5916600"/>
            <a:ext cx="198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.И.Толс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795 – 183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ец Толст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262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43640" y="2276640"/>
            <a:ext cx="27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д Л.Н.Толстого по материнской ли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нязь Н.С.Волкон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753 – 182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Граф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Лев Николаевич Толстой –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потомок двух знатных дворянских родов: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графов Толстых и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князей Волконских.</a:t>
            </a:r>
            <a:br>
              <a:rPr sz="5400"/>
            </a:b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Герб рода графов Толстых"/>
          <p:cNvPicPr/>
          <p:nvPr/>
        </p:nvPicPr>
        <p:blipFill>
          <a:blip r:embed="rId1"/>
          <a:stretch/>
        </p:blipFill>
        <p:spPr>
          <a:xfrm>
            <a:off x="324000" y="260280"/>
            <a:ext cx="414000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WordArt 8"/>
          <p:cNvSpPr txBox="1"/>
          <p:nvPr/>
        </p:nvSpPr>
        <p:spPr>
          <a:xfrm>
            <a:off x="395280" y="5589720"/>
            <a:ext cx="39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Герб рода графов Толстых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4" name="Picture 9" descr="Герб рода князей Волконских"/>
          <p:cNvPicPr/>
          <p:nvPr/>
        </p:nvPicPr>
        <p:blipFill>
          <a:blip r:embed="rId2"/>
          <a:stretch/>
        </p:blipFill>
        <p:spPr>
          <a:xfrm>
            <a:off x="5364000" y="333360"/>
            <a:ext cx="3311640" cy="4896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0"/>
          <p:cNvSpPr txBox="1"/>
          <p:nvPr/>
        </p:nvSpPr>
        <p:spPr>
          <a:xfrm>
            <a:off x="4859280" y="5589720"/>
            <a:ext cx="39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Герб рода князей Волконских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4356000" cy="4149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67240" y="0"/>
            <a:ext cx="4676760" cy="3789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92280"/>
            <a:ext cx="410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.С.Волконский (дед писателя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елая придать въезду в усадьб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собую внушительность постро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е башен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02080" y="3933720"/>
            <a:ext cx="47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и служили вереями для вор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убежищем для часо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121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55680" y="62848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 въезда в усадьбу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1:59:32Z</dcterms:created>
  <dc:creator>user</dc:creator>
  <dc:description/>
  <dc:language>en-US</dc:language>
  <cp:lastModifiedBy>Виталий</cp:lastModifiedBy>
  <dcterms:modified xsi:type="dcterms:W3CDTF">2013-02-03T15:32:57Z</dcterms:modified>
  <cp:revision>17</cp:revision>
  <dc:subject/>
  <dc:title>Слайд 1</dc:title>
</cp:coreProperties>
</file>