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030C-96CC-4BB0-B90F-06398A407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2907-A664-4E0C-99FB-A27829FE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B3E-AF04-41E9-8CB6-C4ED68B9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523E-23E9-454E-80D3-1091BC47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EBF-7E37-4AD3-A487-A87737B8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A5D5-7B4F-4C84-8589-61DE9742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C2C-4AB6-41F2-9C6C-7953EE2F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8EE-CB2B-41E9-9FA9-C1B67C19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B2D4-FA7C-4D2A-997D-03EAD44F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6C60-AAAD-4C12-B377-76C82B839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0EAD-52E0-4495-995A-3DE6D3F2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F89-10E2-4640-8472-CCB2885C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B9B4-0043-452B-8A6E-06B2D93ED9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9360"/>
            <a:ext cx="121921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187280" y="2370240"/>
            <a:ext cx="925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ы для развития внимания детей старшего дошкольного возраста с задержкой психического разви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778040" y="1271520"/>
            <a:ext cx="97282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«Летает – не лета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развитие переключаемости внимания, умения выделять главные, существенные признаки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едагог называет детям слова. Если данный предмет может летать – дети говорят слово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тае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машут руками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ыльям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предмет не летает – говорят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летае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уки при этом опущены вниз. Часто ошибающиеся игроки выбывают из иг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имерный перечень слов – змея, диван, бабочка, стул, баран, корова, самолёт, дерево, вертолёт, лодка, утюг, муха, собака, дом, воробей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1587600" y="430200"/>
            <a:ext cx="9956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«Выложи из палочек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мелкой моторики, зрительного восприятия, произвольного внимания, умения действовать по образ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счётные палочки, карточки – образ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, опираясь на свою карточку-образец, выкладывают на столах нужное изображение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квадрат, треугольник, домик)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Посмотрите, что изображено у вас на рисунке. Возьмите палочки и выложите из них точно такой же узор. При выкладывании будьте внимательны. Приступайте к работ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если ребёнок не справляется с самыми простыми рисунками, то начинать выкладывать узор необходимо прямо на карточке, используя приём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наложения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4849920" y="5261040"/>
            <a:ext cx="52099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ÐÐ°ÑÑÐ¸Ð½ÐºÐ¸ Ð¿Ð¾ Ð·Ð°Ð¿ÑÐ¾ÑÑ Ð·Ð°Ð´Ð°Ð½Ð¸Ðµ Ð²ÑÐ»Ð¾Ð¶Ð¸ Ð¸Ð· Ð³ÐµÐ¾Ð¼ÐµÑÑÐ¸ÑÐµÑÐºÐ¸Ñ ÑÐ¸Ð³ÑÑ"/>
          <p:cNvPicPr/>
          <p:nvPr/>
        </p:nvPicPr>
        <p:blipFill>
          <a:blip r:embed="rId1"/>
          <a:stretch/>
        </p:blipFill>
        <p:spPr>
          <a:xfrm>
            <a:off x="819000" y="662040"/>
            <a:ext cx="4762800" cy="553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ÐÐ°ÑÑÐ¸Ð½ÐºÐ¸ Ð¿Ð¾ Ð·Ð°Ð¿ÑÐ¾ÑÑ Ð·Ð°Ð´Ð°Ð½Ð¸Ðµ Ð²ÑÐ»Ð¾Ð¶Ð¸ Ð¸Ð· Ð³ÐµÐ¾Ð¼ÐµÑÑÐ¸ÑÐµÑÐºÐ¸Ñ ÑÐ¸Ð³ÑÑ"/>
          <p:cNvPicPr/>
          <p:nvPr/>
        </p:nvPicPr>
        <p:blipFill>
          <a:blip r:embed="rId2"/>
          <a:stretch/>
        </p:blipFill>
        <p:spPr>
          <a:xfrm>
            <a:off x="5810400" y="812880"/>
            <a:ext cx="59814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1473120" y="1025640"/>
            <a:ext cx="98805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«Запомни и нарису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концентрации, устойчивости, объёма внимания, умения удерживать инструкцию, закрепление основных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листы с изображением двух геометрических фигур (круг красного цвета слева, квадрат синего цвета справа, цветные карандаши на каждого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Педагог предъявляет детям картину в течение 10 секунд с изображением двух геометрических фигур разного цвета, просит запомнить расположение, цвет фигур. Дети воспроизводят изображение по памяти на своих листах, а затем сравнивают работы с образцом, анализируют свои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1155600" y="509760"/>
            <a:ext cx="108586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ние «Кто что ест» («Перепутанные лини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 зрительного восприятия, устойчивости вним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бланки с изображением животных, линии от которых ведут к изображениям соответствующих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лакомств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собака – кость, петух – зерно, кошка – миска с молоком)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, проводя пальцем по линиям, или обратной стороной карандаша, должны определить, кто из животных что любит 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Посмотрите внимательно на этот рисунок. На нём изображены разные животные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дети называют, кто изображён на рисунке)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Проводя пальцем по линиям, отгадайте, кто из животных, что больше всего любит есть?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Если у ребёнка задание вызывает затруднения, взрослый индивидуально показывает способ выполнения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438120" y="209520"/>
            <a:ext cx="80326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ние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Найди отлич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устойчивости, переключаемости, объёма вним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таблица с изображением двух картин, отличающихся друг от друга несколькими отлич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поочерёдно называют отличия, которые замечают при сравнении двух карт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Ребята, рассмотрите картины. Назовите, какие отличия есть между этими двумя картинами. За правильный ответ получите жетон, в конце игры посмотрим, у кого будет больше жетонов, тот будет самый внимательны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ÐÐ°ÑÑÐ¸Ð½ÐºÐ¸ Ð¿Ð¾ Ð·Ð°Ð¿ÑÐ¾ÑÑ Ð·Ð°Ð´Ð°Ð½Ð¸Ðµ Ð½Ð°Ð¹Ð´Ð¸ Ð¾ÑÐ»Ð¸ÑÐ¸Ñ"/>
          <p:cNvPicPr/>
          <p:nvPr/>
        </p:nvPicPr>
        <p:blipFill>
          <a:blip r:embed="rId1"/>
          <a:stretch/>
        </p:blipFill>
        <p:spPr>
          <a:xfrm>
            <a:off x="7709040" y="3008160"/>
            <a:ext cx="381636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1206360" y="412920"/>
            <a:ext cx="1069344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Лягушки и аис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слухового внимания, переключаемости внимания, моторной координ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свис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перемещаются по кругу под музыкальное сопровождение, услышав определённое количество свистков, принимают нужную 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Ребята, представим, что мы сейчас с вами оказались на болоте. А кто из вас знает, кто живёт на болоте? Вот и мы сейчас превратимся с вами в лягушек (показ позы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лягушка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присесть, ноги разведены в стороны). А кого очень боятся лягушки? (показ позы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аиста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одна нога согнута в колене, руки разведены в стороны). Когда вы услышите один свисток – вы превращаетесь в лягушек, а когда услышите 2 свистка – вы превращаетесь в аистов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, которые чаще всех ошибаются, считаются проигравшими и выбывают из иг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1511280" y="789120"/>
            <a:ext cx="99950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 с мячом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Съедобное – несъедобно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быстроты реакции, переключаемости внимания, зрительно-моторной координ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мяч средних разме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водящий называет предметы, бросает мяч одному из детей. В зависимости от того, съедобный предмет или несъедобный ребёнок ловит или не ловит мя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Ребята, я сейчас буду называть предметы, и бросать вам мяч. Если предмет съедобный – вы его ловите, если несъедобный - не ловит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Сначала водящим становится взрослый, затем все дети поочерёдно. Если кому-то из детей сложно придумывать слова, можно ввести карточки с изображением хорошо знакомых детям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ÐÐ°ÑÑÐ¸Ð½ÐºÐ¸ Ð¿Ð¾ Ð·Ð°Ð¿ÑÐ¾ÑÑ Ð¸Ð³ÑÐ° ÑÑÐµÐ´Ð¾Ð±Ð½Ð¾Ðµ Ð½Ðµ ÑÑÐµÐ´Ð¾Ð±Ð½Ð¾Ðµ"/>
          <p:cNvPicPr/>
          <p:nvPr/>
        </p:nvPicPr>
        <p:blipFill>
          <a:blip r:embed="rId2"/>
          <a:stretch/>
        </p:blipFill>
        <p:spPr>
          <a:xfrm>
            <a:off x="1041480" y="241200"/>
            <a:ext cx="6603840" cy="3713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ÐÐ°ÑÑÐ¸Ð½ÐºÐ¸ Ð¿Ð¾ Ð·Ð°Ð¿ÑÐ¾ÑÑ Ð¸Ð³ÑÐ° ÑÑÐµÐ´Ð¾Ð±Ð½Ð¾Ðµ Ð½Ðµ ÑÑÐµÐ´Ð¾Ð±Ð½Ð¾Ðµ"/>
          <p:cNvPicPr/>
          <p:nvPr/>
        </p:nvPicPr>
        <p:blipFill>
          <a:blip r:embed="rId3"/>
          <a:stretch/>
        </p:blipFill>
        <p:spPr>
          <a:xfrm>
            <a:off x="6576840" y="3054240"/>
            <a:ext cx="54882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1066680" y="611280"/>
            <a:ext cx="109857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ние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Выложи из геометрических фигу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произвольного внимания, концентрации, объёма внимания, кратковременной памяти, закрепление основных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таблицы с изображениями ёлочки, домика и снеговика, наборы геометрических фигур по количеству 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рассматривают картину-образец, запоминают её, затем по памяти конструируют из свои геометрических фигур такое же изобра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Дети, рассмотрите этот рисунок. Из каких геометрических фигур он состоит? Запомните его. Из ваших конвертов достаньте фигуры и сделайте такую же картину, какую я вам показывал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если дети по памяти затрудняются выложить фигуры, тогда первый раз они выкладывают фигуру с опорой на образец, а затем второй раз выкладывают её уже по памя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2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968480" y="1658880"/>
            <a:ext cx="8864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ним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средоточенность сознания на определённом объек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ами внимания могут быть как любые предметы и явления окружающего мира, так и действия, мысли, переживания самого ребёнка. От уровня развития внимания во многом зависит успешность обучения ребёнка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ÐÐ°ÑÑÐ¸Ð½ÐºÐ¸ Ð¿Ð¾ Ð·Ð°Ð¿ÑÐ¾ÑÑ Ð·Ð°Ð´Ð°Ð½Ð¸Ðµ Ð²ÑÐ»Ð¾Ð¶Ð¸ Ð¸Ð· Ð³ÐµÐ¾Ð¼ÐµÑÑÐ¸ÑÐµÑÐºÐ¸Ñ ÑÐ¸Ð³ÑÑ"/>
          <p:cNvPicPr/>
          <p:nvPr/>
        </p:nvPicPr>
        <p:blipFill>
          <a:blip r:embed="rId2"/>
          <a:stretch/>
        </p:blipFill>
        <p:spPr>
          <a:xfrm>
            <a:off x="1333440" y="330120"/>
            <a:ext cx="476244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ÐÐ°ÑÑÐ¸Ð½ÐºÐ¸ Ð¿Ð¾ Ð·Ð°Ð¿ÑÐ¾ÑÑ Ð·Ð°Ð´Ð°Ð½Ð¸Ðµ Ð²ÑÐ»Ð¾Ð¶Ð¸ Ð¸Ð· Ð³ÐµÐ¾Ð¼ÐµÑÑÐ¸ÑÐµÑÐºÐ¸Ñ ÑÐ¸Ð³ÑÑ"/>
          <p:cNvPicPr/>
          <p:nvPr/>
        </p:nvPicPr>
        <p:blipFill>
          <a:blip r:embed="rId3"/>
          <a:stretch/>
        </p:blipFill>
        <p:spPr>
          <a:xfrm>
            <a:off x="5938920" y="2752560"/>
            <a:ext cx="6200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52760" y="2579760"/>
            <a:ext cx="774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260440" y="1523880"/>
            <a:ext cx="871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имеют ряд особенностей психического развития, в том числе, вним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ями отмечаются его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стойчивость, рассеянность, низкая концентрация, трудности переключения, узкий объём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876240" y="1058760"/>
            <a:ext cx="1131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нимание этих детей характеризуется неустойчивостью, отмечаются периодические его колебания, неравномерная работоспособность. Трудно привлечь и собрать, сконцентрировать внимание детей и удержать на протяжении той или иной деятельности. Очевидна недостаточная целенаправленность деятельности, дети действует импульсивно, часто отвлекаются. Могут наблюдаться и проявления инертности. В этом случае ребенок с трудом переключается с одного задания на друг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1111320" y="1697040"/>
            <a:ext cx="9969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днако, своевременное выявление, изучение и коррекция нарушений познавательной сферы, и прежде всего внимания у детей с задержкой психического развития именно в старшем дошкольном возрасте является необходимым условием их дальнейшего успешного обучения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3441600" y="1562040"/>
            <a:ext cx="8750520" cy="5295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685800" y="1984320"/>
            <a:ext cx="87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речень игр и упраж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1257480" y="85680"/>
            <a:ext cx="105156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Повторяй за мн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развитие активного произвольного вним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ети, стоя у своих стульчиков, смотрят на водящего, и повторяют за ним все движения, которые он показывает, стараясь повторить всё в то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Сейчас мы поиграем. Я буду водящим. Ваша задача следить за мной и повторять за мной все действия, какие я буду вам показыват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 этапе освоения игры показ движений рук осуществляет взрослый, затем водящими становятся и де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ÐÐ°ÑÑÐ¸Ð½ÐºÐ¸ Ð¿Ð¾ Ð·Ð°Ð¿ÑÐ¾ÑÑ Ð¸Ð³ÑÐ° Ð´Ð»Ñ Ð´ÐµÑÐµÐ¹ Ð¿Ð¾Ð²ÑÐ¾ÑÑÐ¹ Ð·Ð° Ð¼Ð½Ð¾Ð¹"/>
          <p:cNvPicPr/>
          <p:nvPr/>
        </p:nvPicPr>
        <p:blipFill>
          <a:blip r:embed="rId2"/>
          <a:stretch/>
        </p:blipFill>
        <p:spPr>
          <a:xfrm>
            <a:off x="7518240" y="399096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ÐÐ°ÑÑÐ¸Ð½ÐºÐ¸ Ð¿Ð¾ Ð·Ð°Ð¿ÑÐ¾ÑÑ Ð¸Ð³ÑÐ° Ð´Ð»Ñ Ð´ÐµÑÐµÐ¹ Ð¿Ð¾Ð²ÑÐ¾ÑÑÐ¹ Ð·Ð° Ð¼Ð½Ð¾Ð¹"/>
          <p:cNvPicPr/>
          <p:nvPr/>
        </p:nvPicPr>
        <p:blipFill>
          <a:blip r:embed="rId3"/>
          <a:stretch/>
        </p:blipFill>
        <p:spPr>
          <a:xfrm>
            <a:off x="2400480" y="3990960"/>
            <a:ext cx="384804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1289160" y="50760"/>
            <a:ext cx="98931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Угадай, что звучи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слухового внимания и воспри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предметы, издающие разные звуки (свисток, карандаш, шарик-погремушка, бумага, ножницы, шир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педагог знакомит детей с предметами, показывает, как они звучат, а затем за ширмой издаёт различные звуки при помощи разных предметов, а дети отгадывают, с помощью какого предмета был произведён зву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Сейчас за ширмой я буду производить разные звуки, а вы должны догадаться, с помощью какого предмета, я шумела. Посмотрим, кто из вас отгадает больше звуков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задание выполняется в полной тиш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ÐÐ°ÑÑÐ¸Ð½ÐºÐ¸ Ð¿Ð¾ Ð·Ð°Ð¿ÑÐ¾ÑÑ Ð¸Ð³ÑÐ° Ð´Ð»Ñ Ð´ÐµÑÐµÐ¹ ÑÐ³Ð°Ð´Ð°Ð¹ ÑÑÐ¾ Ð·Ð²ÑÑÐ¸Ñ"/>
          <p:cNvPicPr/>
          <p:nvPr/>
        </p:nvPicPr>
        <p:blipFill>
          <a:blip r:embed="rId2"/>
          <a:stretch/>
        </p:blipFill>
        <p:spPr>
          <a:xfrm>
            <a:off x="8701200" y="4289400"/>
            <a:ext cx="29858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2082960" y="498600"/>
            <a:ext cx="82929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ние «Дорисуй вторую половинку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 умения удерживать инструкцию, развитие устойчивости, переключаемости вним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Листы с недорисованными изображениями на каждого ребёнка, цветные каранда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выбирают нужные цвета, дорисовывают изображения на листах, называют у кого что получилось, оценивают работы друг др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ÐÐ°ÑÑÐ¸Ð½ÐºÐ¸ Ð¿Ð¾ Ð·Ð°Ð¿ÑÐ¾ÑÑ Ð·Ð°Ð´Ð°Ð½Ð¸Ðµ Ð´Ð¾ÑÐ¸ÑÑÐ¹ Ð¿Ð¾Ð»Ð¾Ð²Ð¸Ð½ÐºÑ"/>
          <p:cNvPicPr/>
          <p:nvPr/>
        </p:nvPicPr>
        <p:blipFill>
          <a:blip r:embed="rId2"/>
          <a:stretch/>
        </p:blipFill>
        <p:spPr>
          <a:xfrm>
            <a:off x="7035840" y="3759120"/>
            <a:ext cx="2832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08:31:36Z</dcterms:created>
  <dc:creator>User</dc:creator>
  <dc:description/>
  <dc:language>en-US</dc:language>
  <cp:lastModifiedBy>User</cp:lastModifiedBy>
  <dcterms:modified xsi:type="dcterms:W3CDTF">2018-07-03T09:59:30Z</dcterms:modified>
  <cp:revision>7</cp:revision>
  <dc:subject/>
  <dc:title>Презентация PowerPoint</dc:title>
</cp:coreProperties>
</file>