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6E428-4152-42C6-ADE1-6847A74E1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CE2-F3FD-46FD-BA8F-40485078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754C-17E5-48A1-AAEB-1D3ECC1E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2325-8BD0-4968-90DA-A7C8A2D46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5301-10D1-4AEC-B746-B34682DE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578-C12A-419E-AE30-E37DDB0F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BE54-7FDA-44DE-86A6-FF856BB9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D05C-9A07-44BB-B3E1-F6DF8883E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F068-74CE-41E5-BD4E-EF18BC3C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EC0-58B1-49D1-B0AE-92569A9F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03C-0FEA-466D-9374-460B0649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1538-6EF9-42CB-955C-D2F0945F0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18D77-4775-411E-BF66-77B5DF750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9360"/>
            <a:ext cx="12192120" cy="6876720"/>
          </a:xfrm>
          <a:prstGeom prst="rect">
            <a:avLst/>
          </a:prstGeom>
          <a:ln w="0">
            <a:noFill/>
          </a:ln>
        </p:spPr>
      </p:pic>
      <p:sp>
        <p:nvSpPr>
          <p:cNvPr id="42" name="Прямоугольник 4"/>
          <p:cNvSpPr/>
          <p:nvPr/>
        </p:nvSpPr>
        <p:spPr>
          <a:xfrm>
            <a:off x="1187280" y="2370240"/>
            <a:ext cx="925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ы для развития внимания детей старшего дошкольного возраста с задержкой психического развит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65" name="TextBox 1"/>
          <p:cNvSpPr/>
          <p:nvPr/>
        </p:nvSpPr>
        <p:spPr>
          <a:xfrm>
            <a:off x="1778040" y="1271520"/>
            <a:ext cx="972828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«Летает – не летае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развитие переключаемости внимания, умения выделять главные, существенные признаки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едагог называет детям слова. Если данный предмет может летать – дети говорят слово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летае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и машут руками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рыльями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сли предмет не летает – говорят 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е летает»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уки при этом опущены вниз. Часто ошибающиеся игроки выбывают из 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имерный перечень слов – змея, диван, бабочка, стул, баран, корова, самолёт, дерево, вертолёт, лодка, утюг, муха, собака, дом, воробей и д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67" name="Прямоугольник 1"/>
          <p:cNvSpPr/>
          <p:nvPr/>
        </p:nvSpPr>
        <p:spPr>
          <a:xfrm>
            <a:off x="1587600" y="430200"/>
            <a:ext cx="99568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«Выложи из палочек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мелкой моторики, зрительного восприятия, произвольного внимания, умения действовать по образц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чётные палочки, карточки – образц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, опираясь на свою карточку-образец, выкладывают на столах нужное изображение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квадрат, треугольник, домик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Посмотрите, что изображено у вас на рисунке. Возьмите палочки и выложите из них точно такой же узор. При выкладывании будьте внимательны. Приступайте к работ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если ребёнок не справляется с самыми простыми рисунками, то начинать выкладывать узор необходимо прямо на карточке, используя приём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наложения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6" descr="ÐÐ¾ÑÐ¾Ð¶ÐµÐµ Ð¸Ð·Ð¾Ð±ÑÐ°Ð¶ÐµÐ½Ð¸Ðµ"/>
          <p:cNvPicPr/>
          <p:nvPr/>
        </p:nvPicPr>
        <p:blipFill>
          <a:blip r:embed="rId2"/>
          <a:stretch/>
        </p:blipFill>
        <p:spPr>
          <a:xfrm>
            <a:off x="4849920" y="5261040"/>
            <a:ext cx="52099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1"/>
          <a:stretch/>
        </p:blipFill>
        <p:spPr>
          <a:xfrm>
            <a:off x="819000" y="662040"/>
            <a:ext cx="4762800" cy="5533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2"/>
          <a:stretch/>
        </p:blipFill>
        <p:spPr>
          <a:xfrm>
            <a:off x="5810400" y="812880"/>
            <a:ext cx="598140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1"/>
          <p:cNvSpPr/>
          <p:nvPr/>
        </p:nvSpPr>
        <p:spPr>
          <a:xfrm>
            <a:off x="1473120" y="1025640"/>
            <a:ext cx="98805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«Запомни и нарису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концентрации, устойчивости, объёма внимания, умения удерживать инструкцию, закрепление основных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листы с изображением двух геометрических фигур (круг красного цвета слева, квадрат синего цвета справа, цветные карандаши на каждого ребёнк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едагог предъявляет детям картину в течение 10 секунд с изображением двух геометрических фигур разного цвета, просит запомнить расположение, цвет фигур. Дети воспроизводят изображение по памяти на своих листах, а затем сравнивают работы с образцом, анализируют свои ошиб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"/>
          <p:cNvSpPr/>
          <p:nvPr/>
        </p:nvSpPr>
        <p:spPr>
          <a:xfrm>
            <a:off x="1155600" y="509760"/>
            <a:ext cx="10858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«Кто что ест» («Перепутанные линии»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 зрительного восприятия, устойчивости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бланки с изображением животных, линии от которых ведут к изображениям соответствующих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лакомств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собака – кость, петух – зерно, кошка – миска с молоком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, проводя пальцем по линиям, или обратной стороной карандаша, должны определить, кто из животных что любит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Посмотрите внимательно на этот рисунок. На нём изображены разные животные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(дети называют, кто изображён на рисунке)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. Проводя пальцем по линиям, отгадайте, кто из животных, что больше всего любит есть?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Если у ребёнка задание вызывает затруднения, взрослый индивидуально показывает способ выполнения зад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1"/>
          <p:cNvSpPr/>
          <p:nvPr/>
        </p:nvSpPr>
        <p:spPr>
          <a:xfrm>
            <a:off x="438120" y="209520"/>
            <a:ext cx="80326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Найди отличия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устойчивости, переключаемости, объёма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таблица с изображением двух картин, отличающихся друг от друга несколькими отличия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поочерёдно называют отличия, которые замечают при сравнении двух карти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Ребята, рассмотрите картины. Назовите, какие отличия есть между этими двумя картинами. За правильный ответ получите жетон, в конце игры посмотрим, у кого будет больше жетонов, тот будет самый внимательный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ÐÐ°ÑÑÐ¸Ð½ÐºÐ¸ Ð¿Ð¾ Ð·Ð°Ð¿ÑÐ¾ÑÑ Ð·Ð°Ð´Ð°Ð½Ð¸Ðµ Ð½Ð°Ð¹Ð´Ð¸ Ð¾ÑÐ»Ð¸ÑÐ¸Ñ"/>
          <p:cNvPicPr/>
          <p:nvPr/>
        </p:nvPicPr>
        <p:blipFill>
          <a:blip r:embed="rId1"/>
          <a:stretch/>
        </p:blipFill>
        <p:spPr>
          <a:xfrm>
            <a:off x="7709040" y="3008160"/>
            <a:ext cx="3816360" cy="37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78" name="Прямоугольник 1"/>
          <p:cNvSpPr/>
          <p:nvPr/>
        </p:nvSpPr>
        <p:spPr>
          <a:xfrm>
            <a:off x="1206360" y="412920"/>
            <a:ext cx="1069344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Лягушки и аисты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слухового внимания, переключаемости внимания, моторной координ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вист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перемещаются по кругу под музыкальное сопровождение, услышав определённое количество свистков, принимают нужную позицию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Ребята, представим, что мы сейчас с вами оказались на болоте. А кто из вас знает, кто живёт на болоте? Вот и мы сейчас превратимся с вами в лягушек (показ позы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лягушка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присесть, ноги разведены в стороны). А кого очень боятся лягушки? (показ позы </a:t>
            </a:r>
            <a:r>
              <a:rPr b="0" i="1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«аиста»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 - одна нога согнута в колене, руки разведены в стороны). Когда вы услышите один свисток – вы превращаетесь в лягушек, а когда услышите 2 свистка – вы превращаетесь в аист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, которые чаще всех ошибаются, считаются проигравшими и выбывают из игры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"/>
          <p:cNvSpPr/>
          <p:nvPr/>
        </p:nvSpPr>
        <p:spPr>
          <a:xfrm>
            <a:off x="1511280" y="789120"/>
            <a:ext cx="99950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 с мячом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Съедобное – несъедобное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быстроты реакции, переключаемости внимания, зрительно-моторной координаци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мяч средних размер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водящий называет предметы, бросает мяч одному из детей. В зависимости от того, съедобный предмет или несъедобный ребёнок ловит или не ловит мяч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Ребята, я сейчас буду называть предметы, и бросать вам мяч. Если предмет съедобный – вы его ловите, если несъедобный - не ловите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Сначала водящим становится взрослый, затем все дети поочерёдно. Если кому-то из детей сложно придумывать слова, можно ввести карточки с изображением хорошо знакомых детям предмет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ÐÐ°ÑÑÐ¸Ð½ÐºÐ¸ Ð¿Ð¾ Ð·Ð°Ð¿ÑÐ¾ÑÑ Ð¸Ð³ÑÐ° ÑÑÐµÐ´Ð¾Ð±Ð½Ð¾Ðµ Ð½Ðµ ÑÑÐµÐ´Ð¾Ð±Ð½Ð¾Ðµ"/>
          <p:cNvPicPr/>
          <p:nvPr/>
        </p:nvPicPr>
        <p:blipFill>
          <a:blip r:embed="rId2"/>
          <a:stretch/>
        </p:blipFill>
        <p:spPr>
          <a:xfrm>
            <a:off x="1041480" y="241200"/>
            <a:ext cx="6603840" cy="3713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ÐÐ°ÑÑÐ¸Ð½ÐºÐ¸ Ð¿Ð¾ Ð·Ð°Ð¿ÑÐ¾ÑÑ Ð¸Ð³ÑÐ° ÑÑÐµÐ´Ð¾Ð±Ð½Ð¾Ðµ Ð½Ðµ ÑÑÐµÐ´Ð¾Ð±Ð½Ð¾Ðµ"/>
          <p:cNvPicPr/>
          <p:nvPr/>
        </p:nvPicPr>
        <p:blipFill>
          <a:blip r:embed="rId3"/>
          <a:stretch/>
        </p:blipFill>
        <p:spPr>
          <a:xfrm>
            <a:off x="6576840" y="3054240"/>
            <a:ext cx="5488200" cy="36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85" name="Прямоугольник 1"/>
          <p:cNvSpPr/>
          <p:nvPr/>
        </p:nvSpPr>
        <p:spPr>
          <a:xfrm>
            <a:off x="1066680" y="611280"/>
            <a:ext cx="109857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Выложи из геометрических фигур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произвольного внимания, концентрации, объёма внимания, кратковременной памяти, закрепление основных геометрических фигур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таблицы с изображениями ёлочки, домика и снеговика, наборы геометрических фигур по количеству дет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рассматривают картину-образец, запоминают её, затем по памяти конструируют из свои геометрических фигур такое же изображени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Дети, рассмотрите этот рисунок. Из каких геометрических фигур он состоит? Запомните его. Из ваших конвертов достаньте фигуры и сделайте такую же картину, какую я вам показывала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если дети по памяти затрудняются выложить фигуры, тогда первый раз они выкладывают фигуру с опорой на образец, а затем второй раз выкладывают её уже по памя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2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1968480" y="1658880"/>
            <a:ext cx="8864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имани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сосредоточенность сознания на определённом объект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ами внимания могут быть как любые предметы и явления окружающего мира, так и действия, мысли, переживания самого ребёнка. От уровня развития внимания во многом зависит успешность обучения ребёнка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2"/>
          <a:stretch/>
        </p:blipFill>
        <p:spPr>
          <a:xfrm>
            <a:off x="1333440" y="330120"/>
            <a:ext cx="4762440" cy="2971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ÐÐ°ÑÑÐ¸Ð½ÐºÐ¸ Ð¿Ð¾ Ð·Ð°Ð¿ÑÐ¾ÑÑ Ð·Ð°Ð´Ð°Ð½Ð¸Ðµ Ð²ÑÐ»Ð¾Ð¶Ð¸ Ð¸Ð· Ð³ÐµÐ¾Ð¼ÐµÑÑÐ¸ÑÐµÑÐºÐ¸Ñ ÑÐ¸Ð³ÑÑ"/>
          <p:cNvPicPr/>
          <p:nvPr/>
        </p:nvPicPr>
        <p:blipFill>
          <a:blip r:embed="rId3"/>
          <a:stretch/>
        </p:blipFill>
        <p:spPr>
          <a:xfrm>
            <a:off x="5938920" y="2752560"/>
            <a:ext cx="620064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90" name="TextBox 2"/>
          <p:cNvSpPr/>
          <p:nvPr/>
        </p:nvSpPr>
        <p:spPr>
          <a:xfrm>
            <a:off x="2552760" y="2579760"/>
            <a:ext cx="7746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47" name="TextBox 2"/>
          <p:cNvSpPr/>
          <p:nvPr/>
        </p:nvSpPr>
        <p:spPr>
          <a:xfrm>
            <a:off x="2260440" y="1523880"/>
            <a:ext cx="8712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с ЗПР имеют ряд особенностей психического развития, в том числе, внимания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ями отмечаются его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устойчивость, рассеянность, низкая концентрация, трудности переключения, узкий объём</a:t>
            </a:r>
            <a:r>
              <a:rPr b="0" i="1" lang="ru-RU" sz="18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49" name="Прямоугольник 1"/>
          <p:cNvSpPr/>
          <p:nvPr/>
        </p:nvSpPr>
        <p:spPr>
          <a:xfrm>
            <a:off x="876240" y="1058760"/>
            <a:ext cx="113158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Внимание этих детей характеризуется неустойчивостью, отмечаются периодические его колебания, неравномерная работоспособность. Трудно привлечь и собрать, сконцентрировать внимание детей и удержать на протяжении той или иной деятельности. Очевидна недостаточная целенаправленность деятельности, дети действует импульсивно, часто отвлекаются. Могут наблюдаться и проявления инертности. В этом случае ребенок с трудом переключается с одного задания на друг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1"/>
          <p:cNvSpPr/>
          <p:nvPr/>
        </p:nvSpPr>
        <p:spPr>
          <a:xfrm>
            <a:off x="1111320" y="1697040"/>
            <a:ext cx="9969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Однако, своевременное выявление, изучение и коррекция нарушений познавательной сферы, и прежде всего внимания у детей с задержкой психического развития именно в старшем дошкольном возрасте является необходимым условием их дальнейшего успешного обучения в школ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3441600" y="1562040"/>
            <a:ext cx="8750520" cy="5295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685800" y="1984320"/>
            <a:ext cx="875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еречень игр и упражнений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"/>
          <p:cNvSpPr/>
          <p:nvPr/>
        </p:nvSpPr>
        <p:spPr>
          <a:xfrm>
            <a:off x="1257480" y="85680"/>
            <a:ext cx="10515600" cy="393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Повторяй за мной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развитие активного произвольного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дети, стоя у своих стульчиков, смотрят на водящего, и повторяют за ним все движения, которые он показывает, стараясь повторить всё в точнос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Сейчас мы поиграем. Я буду водящим. Ваша задача следить за мной и повторять за мной все действия, какие я буду вам показывать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на этапе освоения игры показ движений рук осуществляет взрослый, затем водящими становятся и де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ÐÐ°ÑÑÐ¸Ð½ÐºÐ¸ Ð¿Ð¾ Ð·Ð°Ð¿ÑÐ¾ÑÑ Ð¸Ð³ÑÐ° Ð´Ð»Ñ Ð´ÐµÑÐµÐ¹ Ð¿Ð¾Ð²ÑÐ¾ÑÑÐ¹ Ð·Ð° Ð¼Ð½Ð¾Ð¹"/>
          <p:cNvPicPr/>
          <p:nvPr/>
        </p:nvPicPr>
        <p:blipFill>
          <a:blip r:embed="rId2"/>
          <a:stretch/>
        </p:blipFill>
        <p:spPr>
          <a:xfrm>
            <a:off x="7518240" y="3990960"/>
            <a:ext cx="2781360" cy="27813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ÐÐ°ÑÑÐ¸Ð½ÐºÐ¸ Ð¿Ð¾ Ð·Ð°Ð¿ÑÐ¾ÑÑ Ð¸Ð³ÑÐ° Ð´Ð»Ñ Ð´ÐµÑÐµÐ¹ Ð¿Ð¾Ð²ÑÐ¾ÑÑÐ¹ Ð·Ð° Ð¼Ð½Ð¾Ð¹"/>
          <p:cNvPicPr/>
          <p:nvPr/>
        </p:nvPicPr>
        <p:blipFill>
          <a:blip r:embed="rId3"/>
          <a:stretch/>
        </p:blipFill>
        <p:spPr>
          <a:xfrm>
            <a:off x="2400480" y="3990960"/>
            <a:ext cx="384804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59" name="Прямоугольник 1"/>
          <p:cNvSpPr/>
          <p:nvPr/>
        </p:nvSpPr>
        <p:spPr>
          <a:xfrm>
            <a:off x="1289160" y="50760"/>
            <a:ext cx="98931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Игра </a:t>
            </a: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«Угадай, что звучит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 слухового внимания и восприят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редметы, издающие разные звуки (свисток, карандаш, шарик-погремушка, бумага, ножницы, шир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педагог знакомит детей с предметами, показывает, как они звучат, а затем за ширмой издаёт различные звуки при помощи разных предметов, а дети отгадывают, с помощью какого предмета был произведён зву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Инструкция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«Сейчас за ширмой я буду производить разные звуки, а вы должны догадаться, с помощью какого предмета, я шумела. Посмотрим, кто из вас отгадает больше звуков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Примеч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задание выполняется в полной тиш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ÐÐ°ÑÑÐ¸Ð½ÐºÐ¸ Ð¿Ð¾ Ð·Ð°Ð¿ÑÐ¾ÑÑ Ð¸Ð³ÑÐ° Ð´Ð»Ñ Ð´ÐµÑÐµÐ¹ ÑÐ³Ð°Ð´Ð°Ð¹ ÑÑÐ¾ Ð·Ð²ÑÑÐ¸Ñ"/>
          <p:cNvPicPr/>
          <p:nvPr/>
        </p:nvPicPr>
        <p:blipFill>
          <a:blip r:embed="rId2"/>
          <a:stretch/>
        </p:blipFill>
        <p:spPr>
          <a:xfrm>
            <a:off x="8701200" y="4289400"/>
            <a:ext cx="2985840" cy="25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ÐÐ°ÑÑÐ¸Ð½ÐºÐ¸ Ð¿Ð¾ Ð·Ð°Ð¿ÑÐ¾ÑÑ ÐºÐ°ÑÑÐ¸Ð½ÐºÐ¸ Ð´Ð»Ñ ÑÐ¾Ð½Ð° Ð¿ÑÐµÐ·ÐµÐ½ÑÐ°ÑÐ¸Ð¸ Ð¸Ð³ÑÑ Ð´Ð»Ñ Ð´ÐµÑÐµÐ¹"/>
          <p:cNvPicPr/>
          <p:nvPr/>
        </p:nvPicPr>
        <p:blipFill>
          <a:blip r:embed="rId1"/>
          <a:stretch/>
        </p:blipFill>
        <p:spPr>
          <a:xfrm>
            <a:off x="0" y="-38160"/>
            <a:ext cx="12192120" cy="68961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2082960" y="498600"/>
            <a:ext cx="82929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адание «Дорисуй вторую половинку»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Цель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 развитие умения удерживать инструкцию, развитие устойчивости, переключаемости вним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Оборудов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Листы с недорисованными изображениями на каждого ребёнка, цветные карандаш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11111"/>
                </a:solidFill>
                <a:uFillTx/>
                <a:latin typeface="Times New Roman"/>
                <a:ea typeface="Times New Roman"/>
              </a:rPr>
              <a:t>Содержание</a:t>
            </a:r>
            <a:r>
              <a:rPr b="0" lang="ru-RU" sz="2400" spc="-1" strike="noStrike">
                <a:solidFill>
                  <a:srgbClr val="111111"/>
                </a:solidFill>
                <a:latin typeface="Times New Roman"/>
                <a:ea typeface="Times New Roman"/>
              </a:rPr>
              <a:t>: дети выбирают нужные цвета, дорисовывают изображения на листах, называют у кого что получилось, оценивают работы друг дру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2" descr="ÐÐ°ÑÑÐ¸Ð½ÐºÐ¸ Ð¿Ð¾ Ð·Ð°Ð¿ÑÐ¾ÑÑ Ð·Ð°Ð´Ð°Ð½Ð¸Ðµ Ð´Ð¾ÑÐ¸ÑÑÐ¹ Ð¿Ð¾Ð»Ð¾Ð²Ð¸Ð½ÐºÑ"/>
          <p:cNvPicPr/>
          <p:nvPr/>
        </p:nvPicPr>
        <p:blipFill>
          <a:blip r:embed="rId2"/>
          <a:stretch/>
        </p:blipFill>
        <p:spPr>
          <a:xfrm>
            <a:off x="7035840" y="3759120"/>
            <a:ext cx="2832120" cy="28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03T08:31:36Z</dcterms:created>
  <dc:creator>User</dc:creator>
  <dc:description/>
  <dc:language>en-US</dc:language>
  <cp:lastModifiedBy>User</cp:lastModifiedBy>
  <dcterms:modified xsi:type="dcterms:W3CDTF">2018-07-03T09:59:30Z</dcterms:modified>
  <cp:revision>7</cp:revision>
  <dc:subject/>
  <dc:title>Презентация PowerPoint</dc:title>
</cp:coreProperties>
</file>