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28.png" ContentType="image/png"/>
  <Override PartName="/ppt/media/image9.wmf" ContentType="image/x-wmf"/>
  <Override PartName="/ppt/media/image11.jpeg" ContentType="image/jpeg"/>
  <Override PartName="/ppt/media/image23.wmf" ContentType="image/x-wmf"/>
  <Override PartName="/ppt/media/image8.png" ContentType="image/png"/>
  <Override PartName="/ppt/media/image14.jpeg" ContentType="image/jpeg"/>
  <Override PartName="/ppt/media/image7.wmf" ContentType="image/x-wmf"/>
  <Override PartName="/ppt/media/image20.jpeg" ContentType="image/jpeg"/>
  <Override PartName="/ppt/media/image12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4.png" ContentType="image/png"/>
  <Override PartName="/ppt/media/image27.png" ContentType="image/png"/>
  <Override PartName="/ppt/media/image24.wmf" ContentType="image/x-wm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25.png" ContentType="image/png"/>
  <Override PartName="/ppt/media/image2.png" ContentType="image/png"/>
  <Override PartName="/ppt/media/image3.wmf" ContentType="image/x-wmf"/>
  <Override PartName="/ppt/media/image1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3ADC-0265-448E-8966-A16DC3B15E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B321-8B34-4405-A553-20849A7FB2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D8979-19FD-4497-80BB-316CC98EFB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8A62-927D-4BB0-85A7-CB4879ED0B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4E8-8113-4EB8-86F7-755A642D7C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F9F6-ED1A-4A03-B587-43DC9ECEA55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92E80-0A30-4A6D-8794-C27BA3A695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716E-2117-4FF0-A3C8-C3320976BD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72C2F-5AF2-4A3A-8770-F00C855D78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3D35A-B1B6-453A-AAF3-70AD7B277C1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66379-72B1-48B5-A516-290ECAB52C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CCD1-8AF1-4770-A1EB-82775229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29C1-25A4-4598-851F-B04E5AC6B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1455-F974-41FE-9291-15F795AE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DFC4-5F93-4522-BC75-12AFC80B5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42C-F285-49D5-9CCD-0093B76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A6AC-3F21-4621-ABBC-85330A6A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0714-FCDE-417D-831F-BB8BF93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359E-06D8-4CE4-BE5C-A68B590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5A44-7810-4C61-8891-29B08A8AC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7380-80B0-4374-92D8-08642E8C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3314-03CD-4300-8104-425214FC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AA68-0B21-479A-A20F-9ED27DC5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67579-844D-4966-BCE5-0FED07180C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image" Target="../media/image11.jpeg"/><Relationship Id="rId6" Type="http://schemas.openxmlformats.org/officeDocument/2006/relationships/image" Target="../media/image28.png"/><Relationship Id="rId7" Type="http://schemas.openxmlformats.org/officeDocument/2006/relationships/image" Target="../media/image27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9.wmf"/><Relationship Id="rId3" Type="http://schemas.openxmlformats.org/officeDocument/2006/relationships/image" Target="../media/image8.png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09588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ДОУ д/с № 6 «Солнышко» п. Петровский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: </a:t>
            </a:r>
            <a:br>
              <a:rPr sz="2000"/>
            </a:br>
            <a:br>
              <a:rPr sz="2400"/>
            </a:b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Прямоугольник 3" descr=""/>
          <p:cNvPicPr/>
          <p:nvPr/>
        </p:nvPicPr>
        <p:blipFill>
          <a:blip r:embed="rId1"/>
          <a:stretch/>
        </p:blipFill>
        <p:spPr>
          <a:xfrm>
            <a:off x="530280" y="2475000"/>
            <a:ext cx="7967520" cy="890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8" descr=""/>
          <p:cNvPicPr/>
          <p:nvPr/>
        </p:nvPicPr>
        <p:blipFill>
          <a:blip r:embed="rId2"/>
          <a:stretch/>
        </p:blipFill>
        <p:spPr>
          <a:xfrm>
            <a:off x="7391520" y="44197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2438280" y="15238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пект Н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м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3"/>
          <a:srcRect l="46429" t="0" r="0" b="0"/>
          <a:stretch/>
        </p:blipFill>
        <p:spPr>
          <a:xfrm>
            <a:off x="4038480" y="4724280"/>
            <a:ext cx="3924360" cy="117648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C:\Users\Инна\Desktop\инна открытое мероприятие\img4.jpg"/>
          <p:cNvPicPr/>
          <p:nvPr/>
        </p:nvPicPr>
        <p:blipFill>
          <a:blip r:embed="rId1"/>
          <a:srcRect l="0" t="0" r="50004" b="0"/>
          <a:stretch/>
        </p:blipFill>
        <p:spPr>
          <a:xfrm>
            <a:off x="1523880" y="152280"/>
            <a:ext cx="59691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1" presetSubtype="3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66" dur="75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C:\Users\Инна\Desktop\инна открытое мероприятие\iHGNACUWP.jpg"/>
          <p:cNvPicPr/>
          <p:nvPr/>
        </p:nvPicPr>
        <p:blipFill>
          <a:blip r:embed="rId1"/>
          <a:stretch/>
        </p:blipFill>
        <p:spPr>
          <a:xfrm>
            <a:off x="76320" y="304920"/>
            <a:ext cx="894852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75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C:\Users\Инна\Desktop\инна открытое мероприятие\i0A52YWP9.jpg"/>
          <p:cNvPicPr/>
          <p:nvPr/>
        </p:nvPicPr>
        <p:blipFill>
          <a:blip r:embed="rId1"/>
          <a:srcRect l="19096" t="0" r="12718" b="37008"/>
          <a:stretch/>
        </p:blipFill>
        <p:spPr>
          <a:xfrm>
            <a:off x="439560" y="272880"/>
            <a:ext cx="8379000" cy="58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3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7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C:\Users\Инна\Desktop\инна открытое мероприятие\ne-razzhigajte-koster-v-lesu-bez-vzroslyx.jpg"/>
          <p:cNvPicPr/>
          <p:nvPr/>
        </p:nvPicPr>
        <p:blipFill>
          <a:blip r:embed="rId1"/>
          <a:stretch/>
        </p:blipFill>
        <p:spPr>
          <a:xfrm>
            <a:off x="285840" y="272880"/>
            <a:ext cx="855180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75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C:\Users\Инна\Desktop\инна открытое мероприятие\iGDO1HZX2.jpg"/>
          <p:cNvPicPr/>
          <p:nvPr/>
        </p:nvPicPr>
        <p:blipFill>
          <a:blip r:embed="rId1"/>
          <a:srcRect l="0" t="0" r="0" b="9880"/>
          <a:stretch/>
        </p:blipFill>
        <p:spPr>
          <a:xfrm>
            <a:off x="380880" y="380880"/>
            <a:ext cx="85392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Инна\Desktop\инна открытое мероприятие\17610465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2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Инна\Desktop\инна открытое мероприятие\i18KNW974.jpg"/>
          <p:cNvPicPr/>
          <p:nvPr/>
        </p:nvPicPr>
        <p:blipFill>
          <a:blip r:embed="rId1"/>
          <a:stretch/>
        </p:blipFill>
        <p:spPr>
          <a:xfrm>
            <a:off x="228600" y="201600"/>
            <a:ext cx="8763120" cy="63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1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6" dur="75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876920" y="19051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slide0010_image028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5334120" y="380880"/>
            <a:ext cx="295596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LADYBUG1"/>
          <p:cNvPicPr/>
          <p:nvPr/>
        </p:nvPicPr>
        <p:blipFill>
          <a:blip r:embed="rId2"/>
          <a:stretch/>
        </p:blipFill>
        <p:spPr>
          <a:xfrm rot="2772000">
            <a:off x="5299920" y="3326040"/>
            <a:ext cx="2485800" cy="234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" descr="GRSHPPR"/>
          <p:cNvPicPr/>
          <p:nvPr/>
        </p:nvPicPr>
        <p:blipFill>
          <a:blip r:embed="rId3"/>
          <a:stretch/>
        </p:blipFill>
        <p:spPr>
          <a:xfrm>
            <a:off x="646200" y="4495680"/>
            <a:ext cx="3475080" cy="1559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BUTRFLY3"/>
          <p:cNvPicPr/>
          <p:nvPr/>
        </p:nvPicPr>
        <p:blipFill>
          <a:blip r:embed="rId4"/>
          <a:stretch/>
        </p:blipFill>
        <p:spPr>
          <a:xfrm rot="3340200">
            <a:off x="1080000" y="883440"/>
            <a:ext cx="2506680" cy="24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1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324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705720" y="3581280"/>
            <a:ext cx="114300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98 0.17619 C -0.01441 0.15076 -0.01476 0.11168 -0.03281 0.09573 C -0.03559 0.08486 -0.04323 0.07769 -0.04983 0.07052 C -0.06753 0.05087 -0.04462 0.07492 -0.0592 0.0555 C -0.06076 0.05342 -0.06319 0.05226 -0.06493 0.05041 C -0.07049 0.0444 -0.07552 0.03515 -0.08003 0.02775 C -0.08594 0.0185 -0.08993 0.00671 -0.09878 0.00278 C -0.10833 -0.01641 -0.14184 -0.02589 -0.1592 -0.02751 C -0.17049 -0.02867 -0.18194 -0.02913 -0.19323 -0.03005 C -0.20017 -0.02913 -0.20712 -0.0289 -0.21389 -0.02751 C -0.2158 -0.02705 -0.2184 -0.02705 -0.21962 -0.02497 C -0.22309 -0.01849 -0.22326 -0.00994 -0.22517 -0.00231 C -0.22587 0.00024 -0.22708 0.00532 -0.22708 0.00532 C -0.22778 0.0111 -0.22656 0.01804 -0.22899 0.02289 C -0.23003 0.02521 -0.23299 0.02174 -0.2349 0.02035 C -0.23698 0.01827 -0.23819 0.0148 -0.24028 0.01272 C -0.24653 0.00625 -0.25573 -0.00046 -0.26302 -0.00485 C -0.28819 -0.01988 -0.31753 -0.01803 -0.3441 -0.01988 C -0.34757 -0.01919 -0.35833 -0.01826 -0.36302 -0.01479 C -0.36701 -0.01179 -0.37431 -0.00485 -0.37431 -0.00485 C -0.38281 0.01249 -0.38038 0.0044 -0.38368 0.01781 C -0.38437 0.02868 -0.38403 0.03977 -0.38559 0.05041 C -0.38594 0.05295 -0.38628 0.04509 -0.3875 0.04301 C -0.38889 0.0407 -0.39115 0.03931 -0.39323 0.03792 C -0.39913 0.03399 -0.40833 0.03376 -0.41389 0.03284 C -0.44062 0.03885 -0.46667 0.04278 -0.48941 0.06313 C -0.49861 0.05989 -0.50399 0.06105 -0.51198 0.06798 C -0.51788 0.07954 -0.52344 0.09619 -0.5309 0.10567 C -0.53368 0.11677 -0.53767 0.12532 -0.54028 0.13596 C -0.54167 0.14821 -0.54514 0.15954 -0.54219 0.1711 C -0.5441 0.17272 -0.54635 0.1785 -0.54792 0.17619 C -0.55122 0.17087 -0.55174 0.15607 -0.55174 0.15607 C -0.5526 0.13711 -0.55243 0.12093 -0.55538 0.10313 C -0.55816 0.08694 -0.56302 0.07145 -0.56667 0.0555 C -0.56875 0.03677 -0.57014 0.01434 -0.58559 0.00787 C -0.58681 0.00532 -0.58785 0.00232 -0.58941 0.00024 C -0.59097 -0.00185 -0.59358 -0.00254 -0.59497 -0.00485 C -0.60503 -0.02173 -0.58646 -0.003 -0.6026 -0.01734 C -0.63524 -0.01641 -0.66806 -0.01711 -0.70069 -0.01479 C -0.7066 -0.01433 -0.71771 -0.00739 -0.71771 -0.00739 C -0.71962 -0.00578 -0.72118 -0.00369 -0.72326 -0.00231 C -0.725 -0.00115 -0.72743 -0.00138 -0.72899 0.00024 C -0.7375 0.00925 -0.7283 0.00787 -0.73663 0.00787 E">
                                      <p:cBhvr>
                                        <p:cTn id="163" dur="3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828800" y="50292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562720" y="914400"/>
            <a:ext cx="1089000" cy="395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mur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6705720" y="1600200"/>
            <a:ext cx="1752480" cy="695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mur"/>
          <p:cNvPicPr/>
          <p:nvPr/>
        </p:nvPicPr>
        <p:blipFill>
          <a:blip r:embed="rId4">
            <a:lum contrast="10000"/>
          </a:blip>
          <a:stretch/>
        </p:blipFill>
        <p:spPr>
          <a:xfrm>
            <a:off x="2884320" y="3048120"/>
            <a:ext cx="1230480" cy="468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4" descr="anthill1"/>
          <p:cNvPicPr/>
          <p:nvPr/>
        </p:nvPicPr>
        <p:blipFill>
          <a:blip r:embed="rId5">
            <a:lum contrast="10000"/>
          </a:blip>
          <a:stretch/>
        </p:blipFill>
        <p:spPr>
          <a:xfrm>
            <a:off x="5257800" y="2316240"/>
            <a:ext cx="3656160" cy="3968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"/>
          <p:cNvPicPr/>
          <p:nvPr/>
        </p:nvPicPr>
        <p:blipFill>
          <a:blip r:embed="rId6">
            <a:lum contrast="10000"/>
          </a:blip>
          <a:stretch/>
        </p:blipFill>
        <p:spPr>
          <a:xfrm>
            <a:off x="7696080" y="5029200"/>
            <a:ext cx="1067040" cy="1368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mur"/>
          <p:cNvPicPr/>
          <p:nvPr/>
        </p:nvPicPr>
        <p:blipFill>
          <a:blip r:embed="rId7">
            <a:lum contrast="20000"/>
          </a:blip>
          <a:stretch/>
        </p:blipFill>
        <p:spPr>
          <a:xfrm rot="20040600">
            <a:off x="3533760" y="5735160"/>
            <a:ext cx="1801800" cy="6955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mur"/>
          <p:cNvPicPr/>
          <p:nvPr/>
        </p:nvPicPr>
        <p:blipFill>
          <a:blip r:embed="rId8">
            <a:lum contrast="30000"/>
          </a:blip>
          <a:stretch/>
        </p:blipFill>
        <p:spPr>
          <a:xfrm>
            <a:off x="533520" y="6095880"/>
            <a:ext cx="1191960" cy="4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8" descr=""/>
          <p:cNvPicPr/>
          <p:nvPr/>
        </p:nvPicPr>
        <p:blipFill>
          <a:blip r:embed="rId1"/>
          <a:stretch/>
        </p:blipFill>
        <p:spPr>
          <a:xfrm>
            <a:off x="3809880" y="2327400"/>
            <a:ext cx="2743200" cy="37972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11"/>
          <p:cNvSpPr/>
          <p:nvPr/>
        </p:nvSpPr>
        <p:spPr>
          <a:xfrm>
            <a:off x="900000" y="387000"/>
            <a:ext cx="7863120" cy="13136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смотри, что кроха он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н могучий словно слон.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боится он труда,</a:t>
            </a:r>
            <a:br>
              <a:rPr sz="2000"/>
            </a:br>
            <a:r>
              <a:rPr b="0" lang="ru-RU" sz="20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Не ленится никог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5410440"/>
          </a:xfrm>
          <a:prstGeom prst="rect">
            <a:avLst/>
          </a:prstGeom>
          <a:solidFill>
            <a:srgbClr val="c5f49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ОД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0" descr="mur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3733920" y="342900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0" descr="mur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6553080" y="762120"/>
            <a:ext cx="1801800" cy="69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0" descr="mur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609480" y="5257800"/>
            <a:ext cx="1801800" cy="69516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8" descr="">
            <a:hlinkClick r:id="" action="ppaction://hlinkshowjump?jump=nextslide"/>
          </p:cNvPr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219320" y="4495680"/>
            <a:ext cx="1450800" cy="18907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781680" y="1219320"/>
            <a:ext cx="1981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По берёзке 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зберус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 листочек зацеплю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сё увижу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лес и луг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Что находится вокруг!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9" descr="000803_1055_8542_vuvv"/>
          <p:cNvPicPr/>
          <p:nvPr/>
        </p:nvPicPr>
        <p:blipFill>
          <a:blip r:embed="rId2"/>
          <a:stretch/>
        </p:blipFill>
        <p:spPr>
          <a:xfrm>
            <a:off x="2438280" y="685800"/>
            <a:ext cx="3014640" cy="5715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000803_1055_8542_vuvv"/>
          <p:cNvPicPr/>
          <p:nvPr/>
        </p:nvPicPr>
        <p:blipFill>
          <a:blip r:embed="rId3"/>
          <a:stretch/>
        </p:blipFill>
        <p:spPr>
          <a:xfrm>
            <a:off x="5410080" y="3048120"/>
            <a:ext cx="1447920" cy="350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000803_1065_2411_vnvv"/>
          <p:cNvPicPr/>
          <p:nvPr/>
        </p:nvPicPr>
        <p:blipFill>
          <a:blip r:embed="rId1"/>
          <a:stretch/>
        </p:blipFill>
        <p:spPr>
          <a:xfrm>
            <a:off x="2438280" y="2666880"/>
            <a:ext cx="6172200" cy="3200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" descr="j0293828"/>
          <p:cNvPicPr/>
          <p:nvPr/>
        </p:nvPicPr>
        <p:blipFill>
          <a:blip r:embed="rId2"/>
          <a:stretch/>
        </p:blipFill>
        <p:spPr>
          <a:xfrm>
            <a:off x="533520" y="990720"/>
            <a:ext cx="3047760" cy="1836720"/>
          </a:xfrm>
          <a:prstGeom prst="rect">
            <a:avLst/>
          </a:prstGeom>
          <a:ln w="0">
            <a:noFill/>
          </a:ln>
        </p:spPr>
      </p:pic>
      <p:pic>
        <p:nvPicPr>
          <p:cNvPr id="62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124080" y="2895480"/>
            <a:ext cx="12193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8326 L 0.08334 -0.04995 E">
                                      <p:cBhvr>
                                        <p:cTn id="29" dur="2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2" descr="000803_1080_8808_vuvv"/>
          <p:cNvPicPr/>
          <p:nvPr/>
        </p:nvPicPr>
        <p:blipFill>
          <a:blip r:embed="rId1"/>
          <a:stretch/>
        </p:blipFill>
        <p:spPr>
          <a:xfrm>
            <a:off x="4876920" y="3200400"/>
            <a:ext cx="286848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000803_1080_8808_vuvv"/>
          <p:cNvPicPr/>
          <p:nvPr/>
        </p:nvPicPr>
        <p:blipFill>
          <a:blip r:embed="rId2"/>
          <a:stretch/>
        </p:blipFill>
        <p:spPr>
          <a:xfrm>
            <a:off x="990720" y="1905120"/>
            <a:ext cx="3962160" cy="3429000"/>
          </a:xfrm>
          <a:prstGeom prst="rect">
            <a:avLst/>
          </a:prstGeom>
          <a:ln w="0">
            <a:noFill/>
          </a:ln>
        </p:spPr>
      </p:pic>
      <p:pic>
        <p:nvPicPr>
          <p:cNvPr id="65" name="Содержимое 9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380880" y="5029200"/>
            <a:ext cx="1219320" cy="167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000803_1080_8808_vuvv"/>
          <p:cNvPicPr/>
          <p:nvPr/>
        </p:nvPicPr>
        <p:blipFill>
          <a:blip r:embed="rId4"/>
          <a:stretch/>
        </p:blipFill>
        <p:spPr>
          <a:xfrm>
            <a:off x="7010280" y="2209680"/>
            <a:ext cx="1828800" cy="15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D:\Садчикова\ГОД ПЛАН СОЛНЫШКО 17-18\ГОТОВЫЙ ГОДОВОЙ ПЛАН 17 2\РМО 18 апрель\НОД Плотниковаа ИГ\Копия P4160106.JPG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6" presetSubtype="37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7" descr="anthill1"/>
          <p:cNvPicPr/>
          <p:nvPr/>
        </p:nvPicPr>
        <p:blipFill>
          <a:blip r:embed="rId1"/>
          <a:stretch/>
        </p:blipFill>
        <p:spPr>
          <a:xfrm>
            <a:off x="841320" y="380880"/>
            <a:ext cx="7480440" cy="60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C:\Users\Инна\Desktop\инна открытое мероприятие\0008-008-Pravila-povedenija-v-lesu.jpg"/>
          <p:cNvPicPr/>
          <p:nvPr/>
        </p:nvPicPr>
        <p:blipFill>
          <a:blip r:embed="rId1"/>
          <a:stretch/>
        </p:blipFill>
        <p:spPr>
          <a:xfrm>
            <a:off x="609480" y="173160"/>
            <a:ext cx="812808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7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C:\Users\Инна\Desktop\инна открытое мероприятие\017.jpg"/>
          <p:cNvPicPr/>
          <p:nvPr/>
        </p:nvPicPr>
        <p:blipFill>
          <a:blip r:embed="rId1"/>
          <a:srcRect l="9157" t="22556" r="7665" b="3302"/>
          <a:stretch/>
        </p:blipFill>
        <p:spPr>
          <a:xfrm>
            <a:off x="192240" y="270000"/>
            <a:ext cx="8570880" cy="613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75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zer</dc:creator>
  <dc:description/>
  <dc:language>en-US</dc:language>
  <cp:lastModifiedBy>Инна</cp:lastModifiedBy>
  <dcterms:modified xsi:type="dcterms:W3CDTF">2018-04-23T16:37:43Z</dcterms:modified>
  <cp:revision>1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