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8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2F231-3173-4B66-A364-934EEDF38E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C4DC3-7E65-4497-AFDF-1F57BF6C69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1881-FF7B-4A1D-99E4-3F625E3B7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1E28-6F8A-4F3C-B26E-A0D8D81B9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7F20-D9F2-4917-A2FF-90D6D3404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F934-3B34-4900-BDFD-472AF5A281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E8BB-AD70-48CB-9588-19E8A9DAD9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2118-DAAD-4AB4-8205-71516C9BB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18A4-4665-4142-8411-30B478DE70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5D2A-DA6E-45AE-8058-BA5E2F1F81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E28-F3B7-4798-81B1-2828140AAA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6080-AB44-4C20-9ACC-56C8394DD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B29-E9F1-40D6-812D-0A212C57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B96-CBE7-4A6E-8FA3-51349A477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7921-C5BE-4879-BFFC-63450794B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136A-6E11-409D-8A46-3593B535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31B0-5142-4195-8208-47CC0FD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B869-7FF7-4C9E-916D-AAD23852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78D4-8A67-4780-86DA-56DEC422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13B-8EC0-45CB-B7D1-C8C0B28AF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1116-65CC-433D-B491-45E75885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756-B2CE-4204-A8CB-9E50F326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2FE-B90C-4D9B-988B-9840B63B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A2D-E8AE-4572-91B9-B924D6572D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11.jpe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588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6 «Солнышко» п. Петровский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2475000"/>
            <a:ext cx="796752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438280" y="1523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46429" t="0" r="0" b="0"/>
          <a:stretch/>
        </p:blipFill>
        <p:spPr>
          <a:xfrm>
            <a:off x="4038480" y="4724280"/>
            <a:ext cx="3924360" cy="1176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Инна\Desktop\инна открытое мероприятие\img4.jpg"/>
          <p:cNvPicPr/>
          <p:nvPr/>
        </p:nvPicPr>
        <p:blipFill>
          <a:blip r:embed="rId1"/>
          <a:srcRect l="0" t="0" r="50004" b="0"/>
          <a:stretch/>
        </p:blipFill>
        <p:spPr>
          <a:xfrm>
            <a:off x="1523880" y="152280"/>
            <a:ext cx="5969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6" dur="7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Инна\Desktop\инна открытое мероприятие\iHGNACUWP.jpg"/>
          <p:cNvPicPr/>
          <p:nvPr/>
        </p:nvPicPr>
        <p:blipFill>
          <a:blip r:embed="rId1"/>
          <a:stretch/>
        </p:blipFill>
        <p:spPr>
          <a:xfrm>
            <a:off x="76320" y="304920"/>
            <a:ext cx="89485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Users\Инна\Desktop\инна открытое мероприятие\i0A52YWP9.jpg"/>
          <p:cNvPicPr/>
          <p:nvPr/>
        </p:nvPicPr>
        <p:blipFill>
          <a:blip r:embed="rId1"/>
          <a:srcRect l="19096" t="0" r="12718" b="37008"/>
          <a:stretch/>
        </p:blipFill>
        <p:spPr>
          <a:xfrm>
            <a:off x="439560" y="272880"/>
            <a:ext cx="83790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Инна\Desktop\инна открытое мероприятие\ne-razzhigajte-koster-v-lesu-bez-vzroslyx.jpg"/>
          <p:cNvPicPr/>
          <p:nvPr/>
        </p:nvPicPr>
        <p:blipFill>
          <a:blip r:embed="rId1"/>
          <a:stretch/>
        </p:blipFill>
        <p:spPr>
          <a:xfrm>
            <a:off x="285840" y="272880"/>
            <a:ext cx="8551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Инна\Desktop\инна открытое мероприятие\iGDO1HZX2.jpg"/>
          <p:cNvPicPr/>
          <p:nvPr/>
        </p:nvPicPr>
        <p:blipFill>
          <a:blip r:embed="rId1"/>
          <a:srcRect l="0" t="0" r="0" b="9880"/>
          <a:stretch/>
        </p:blipFill>
        <p:spPr>
          <a:xfrm>
            <a:off x="380880" y="380880"/>
            <a:ext cx="8539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Инна\Desktop\инна открытое мероприятие\17610465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Инна\Desktop\инна открытое мероприятие\i18KNW974.jpg"/>
          <p:cNvPicPr/>
          <p:nvPr/>
        </p:nvPicPr>
        <p:blipFill>
          <a:blip r:embed="rId1"/>
          <a:stretch/>
        </p:blipFill>
        <p:spPr>
          <a:xfrm>
            <a:off x="228600" y="201600"/>
            <a:ext cx="876312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lide0010_image028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334120" y="380880"/>
            <a:ext cx="295596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LADYBUG1"/>
          <p:cNvPicPr/>
          <p:nvPr/>
        </p:nvPicPr>
        <p:blipFill>
          <a:blip r:embed="rId2"/>
          <a:stretch/>
        </p:blipFill>
        <p:spPr>
          <a:xfrm rot="2772000">
            <a:off x="5299920" y="3326040"/>
            <a:ext cx="2485800" cy="234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GRSHPPR"/>
          <p:cNvPicPr/>
          <p:nvPr/>
        </p:nvPicPr>
        <p:blipFill>
          <a:blip r:embed="rId3"/>
          <a:stretch/>
        </p:blipFill>
        <p:spPr>
          <a:xfrm>
            <a:off x="646200" y="4495680"/>
            <a:ext cx="3475080" cy="155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BUTRFLY3"/>
          <p:cNvPicPr/>
          <p:nvPr/>
        </p:nvPicPr>
        <p:blipFill>
          <a:blip r:embed="rId4"/>
          <a:stretch/>
        </p:blipFill>
        <p:spPr>
          <a:xfrm rot="3340200">
            <a:off x="1080000" y="883440"/>
            <a:ext cx="25066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32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705720" y="3581280"/>
            <a:ext cx="1143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17619 C -0.01441 0.15076 -0.01476 0.11168 -0.03281 0.09573 C -0.03559 0.08486 -0.04323 0.07769 -0.04983 0.07052 C -0.06753 0.05087 -0.04462 0.07492 -0.0592 0.0555 C -0.06076 0.05342 -0.06319 0.05226 -0.06493 0.05041 C -0.07049 0.0444 -0.07552 0.03515 -0.08003 0.02775 C -0.08594 0.0185 -0.08993 0.00671 -0.09878 0.00278 C -0.10833 -0.01641 -0.14184 -0.02589 -0.1592 -0.02751 C -0.17049 -0.02867 -0.18194 -0.02913 -0.19323 -0.03005 C -0.20017 -0.02913 -0.20712 -0.0289 -0.21389 -0.02751 C -0.2158 -0.02705 -0.2184 -0.02705 -0.21962 -0.02497 C -0.22309 -0.01849 -0.22326 -0.00994 -0.22517 -0.00231 C -0.22587 0.00024 -0.22708 0.00532 -0.22708 0.00532 C -0.22778 0.0111 -0.22656 0.01804 -0.22899 0.02289 C -0.23003 0.02521 -0.23299 0.02174 -0.2349 0.02035 C -0.23698 0.01827 -0.23819 0.0148 -0.24028 0.01272 C -0.24653 0.00625 -0.25573 -0.00046 -0.26302 -0.00485 C -0.28819 -0.01988 -0.31753 -0.01803 -0.3441 -0.01988 C -0.34757 -0.01919 -0.35833 -0.01826 -0.36302 -0.01479 C -0.36701 -0.01179 -0.37431 -0.00485 -0.37431 -0.00485 C -0.38281 0.01249 -0.38038 0.0044 -0.38368 0.01781 C -0.38437 0.02868 -0.38403 0.03977 -0.38559 0.05041 C -0.38594 0.05295 -0.38628 0.04509 -0.3875 0.04301 C -0.38889 0.0407 -0.39115 0.03931 -0.39323 0.03792 C -0.39913 0.03399 -0.40833 0.03376 -0.41389 0.03284 C -0.44062 0.03885 -0.46667 0.04278 -0.48941 0.06313 C -0.49861 0.05989 -0.50399 0.06105 -0.51198 0.06798 C -0.51788 0.07954 -0.52344 0.09619 -0.5309 0.10567 C -0.53368 0.11677 -0.53767 0.12532 -0.54028 0.13596 C -0.54167 0.14821 -0.54514 0.15954 -0.54219 0.1711 C -0.5441 0.17272 -0.54635 0.1785 -0.54792 0.17619 C -0.55122 0.17087 -0.55174 0.15607 -0.55174 0.15607 C -0.5526 0.13711 -0.55243 0.12093 -0.55538 0.10313 C -0.55816 0.08694 -0.56302 0.07145 -0.56667 0.0555 C -0.56875 0.03677 -0.57014 0.01434 -0.58559 0.00787 C -0.58681 0.00532 -0.58785 0.00232 -0.58941 0.00024 C -0.59097 -0.00185 -0.59358 -0.00254 -0.59497 -0.00485 C -0.60503 -0.02173 -0.58646 -0.003 -0.6026 -0.01734 C -0.63524 -0.01641 -0.66806 -0.01711 -0.70069 -0.01479 C -0.7066 -0.01433 -0.71771 -0.00739 -0.71771 -0.00739 C -0.71962 -0.00578 -0.72118 -0.00369 -0.72326 -0.00231 C -0.725 -0.00115 -0.72743 -0.00138 -0.72899 0.00024 C -0.7375 0.00925 -0.7283 0.00787 -0.73663 0.00787 E">
                                      <p:cBhvr>
                                        <p:cTn id="163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50292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562720" y="914400"/>
            <a:ext cx="1089000" cy="3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mur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705720" y="1600200"/>
            <a:ext cx="175248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ur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2884320" y="3048120"/>
            <a:ext cx="1230480" cy="46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anthill1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5257800" y="2316240"/>
            <a:ext cx="3656160" cy="39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7696080" y="502920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mur"/>
          <p:cNvPicPr/>
          <p:nvPr/>
        </p:nvPicPr>
        <p:blipFill>
          <a:blip r:embed="rId7">
            <a:lum contrast="20000"/>
          </a:blip>
          <a:stretch/>
        </p:blipFill>
        <p:spPr>
          <a:xfrm rot="20040600">
            <a:off x="3533760" y="5735160"/>
            <a:ext cx="1801800" cy="69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ur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533520" y="6095880"/>
            <a:ext cx="1191960" cy="4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8" descr=""/>
          <p:cNvPicPr/>
          <p:nvPr/>
        </p:nvPicPr>
        <p:blipFill>
          <a:blip r:embed="rId1"/>
          <a:stretch/>
        </p:blipFill>
        <p:spPr>
          <a:xfrm>
            <a:off x="3809880" y="2327400"/>
            <a:ext cx="2743200" cy="379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900000" y="387000"/>
            <a:ext cx="7863120" cy="13136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смотри, что кроха он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н могучий словно слон.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боится он труда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ленится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54104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733920" y="34290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553080" y="76212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mur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09480" y="5257800"/>
            <a:ext cx="1801800" cy="69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>
            <a:hlinkClick r:id="" action="ppaction://hlinkshowjump?jump=nextslide"/>
          </p:cNvPr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9320" y="4495680"/>
            <a:ext cx="1450800" cy="189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781680" y="1219320"/>
            <a:ext cx="19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 берёзке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бер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листочек зацепл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увиж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 и л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ходится вокруг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000803_1055_8542_vuvv"/>
          <p:cNvPicPr/>
          <p:nvPr/>
        </p:nvPicPr>
        <p:blipFill>
          <a:blip r:embed="rId2"/>
          <a:stretch/>
        </p:blipFill>
        <p:spPr>
          <a:xfrm>
            <a:off x="2438280" y="685800"/>
            <a:ext cx="301464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00803_1055_8542_vuvv"/>
          <p:cNvPicPr/>
          <p:nvPr/>
        </p:nvPicPr>
        <p:blipFill>
          <a:blip r:embed="rId3"/>
          <a:stretch/>
        </p:blipFill>
        <p:spPr>
          <a:xfrm>
            <a:off x="5410080" y="3048120"/>
            <a:ext cx="14479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000803_1065_2411_vnvv"/>
          <p:cNvPicPr/>
          <p:nvPr/>
        </p:nvPicPr>
        <p:blipFill>
          <a:blip r:embed="rId1"/>
          <a:stretch/>
        </p:blipFill>
        <p:spPr>
          <a:xfrm>
            <a:off x="2438280" y="2666880"/>
            <a:ext cx="617220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0293828"/>
          <p:cNvPicPr/>
          <p:nvPr/>
        </p:nvPicPr>
        <p:blipFill>
          <a:blip r:embed="rId2"/>
          <a:stretch/>
        </p:blipFill>
        <p:spPr>
          <a:xfrm>
            <a:off x="533520" y="990720"/>
            <a:ext cx="3047760" cy="18367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124080" y="2895480"/>
            <a:ext cx="1219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8326 L 0.08334 -0.04995 E">
                                      <p:cBhvr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000803_1080_8808_vuvv"/>
          <p:cNvPicPr/>
          <p:nvPr/>
        </p:nvPicPr>
        <p:blipFill>
          <a:blip r:embed="rId1"/>
          <a:stretch/>
        </p:blipFill>
        <p:spPr>
          <a:xfrm>
            <a:off x="4876920" y="3200400"/>
            <a:ext cx="28684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000803_1080_8808_vuvv"/>
          <p:cNvPicPr/>
          <p:nvPr/>
        </p:nvPicPr>
        <p:blipFill>
          <a:blip r:embed="rId2"/>
          <a:stretch/>
        </p:blipFill>
        <p:spPr>
          <a:xfrm>
            <a:off x="990720" y="190512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80880" y="50292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000803_1080_8808_vuvv"/>
          <p:cNvPicPr/>
          <p:nvPr/>
        </p:nvPicPr>
        <p:blipFill>
          <a:blip r:embed="rId4"/>
          <a:stretch/>
        </p:blipFill>
        <p:spPr>
          <a:xfrm>
            <a:off x="7010280" y="2209680"/>
            <a:ext cx="1828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Садчикова\ГОД ПЛАН СОЛНЫШКО 17-18\ГОТОВЫЙ ГОДОВОЙ ПЛАН 17 2\РМО 18 апрель\НОД Плотниковаа ИГ\Копия P4160106.JPG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7" descr="anthill1"/>
          <p:cNvPicPr/>
          <p:nvPr/>
        </p:nvPicPr>
        <p:blipFill>
          <a:blip r:embed="rId1"/>
          <a:stretch/>
        </p:blipFill>
        <p:spPr>
          <a:xfrm>
            <a:off x="841320" y="380880"/>
            <a:ext cx="7480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Инна\Desktop\инна открытое мероприятие\0008-008-Pravila-povedenija-v-lesu.jpg"/>
          <p:cNvPicPr/>
          <p:nvPr/>
        </p:nvPicPr>
        <p:blipFill>
          <a:blip r:embed="rId1"/>
          <a:stretch/>
        </p:blipFill>
        <p:spPr>
          <a:xfrm>
            <a:off x="609480" y="1731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Инна\Desktop\инна открытое мероприятие\017.jpg"/>
          <p:cNvPicPr/>
          <p:nvPr/>
        </p:nvPicPr>
        <p:blipFill>
          <a:blip r:embed="rId1"/>
          <a:srcRect l="9157" t="22556" r="7665" b="3302"/>
          <a:stretch/>
        </p:blipFill>
        <p:spPr>
          <a:xfrm>
            <a:off x="192240" y="270000"/>
            <a:ext cx="8570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7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zer</dc:creator>
  <dc:description/>
  <dc:language>en-US</dc:language>
  <cp:lastModifiedBy>Инна</cp:lastModifiedBy>
  <dcterms:modified xsi:type="dcterms:W3CDTF">2018-04-23T16:37:43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