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F0A-64D4-4392-95C4-B8894EBA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876-15F6-4853-BF8C-8F65C3D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F39-0B91-4A3C-A960-10BF9832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10A-E8A6-4FBB-8EDB-045386C3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87B-9EA8-4C5D-BF39-7169E1B9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215A-4141-41BA-BFB8-8C903C2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B522-6C7E-45C6-A75B-CB11C82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192F-2DD7-4880-9E8A-08C62B19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05E6-71C1-4650-BC7E-BE33F67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7E2A-80DF-45FA-BF81-94A32EE1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74C5-CF74-49AF-81DC-967715A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10B-1852-4291-8BB0-99FEC0F5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725C-2C8D-4012-A944-1996375C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CD9A-6560-412C-9B70-9DF921D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8DA8-110A-402B-A177-86BE510D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6516-F839-480A-AE5F-4EE8B14D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2F50-0B33-48D6-A84F-373A867C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BDE5-4CEB-4E48-99C2-A14A0E0E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6ABA-62AF-4A9B-B09D-99F42AD5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58E8-04E0-48E1-85B0-AE0A6D2A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D623B-664B-46E9-B67E-34119709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01AA-FC66-4C01-9EAA-44D0A97F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E5D-E027-4065-ACFC-C5F3B623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0B86-B5C8-4AF8-A2CC-A9E0B73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3925-DD2A-4C30-8054-4559670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B091D-941D-4D56-B7BC-E367EBF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29DF-8EAF-4FE6-BBAA-43954CE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430D-9338-4014-9457-C52335B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E11B-FDFC-4617-B2B7-B87BD790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4CAC-523A-4D3C-A1D6-50592389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4859-EDCE-42B6-9504-27D48E71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C9EC-95A1-4CFE-B242-500BB53E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05D9-37AB-4C31-9B6E-B96FE7CB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B81-F1BF-482C-8746-B19A3FD2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CB63-D0E3-46C5-87B3-7DFA799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8AD6-59AD-45AB-9C38-BD7B6DF5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8255-2341-439E-87D5-A07DDC67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F9BC-B6F2-4050-B25D-0E67D715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3746-AB12-4542-9984-1B0FCC2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9B03-FA7C-40DE-9FEE-09637E8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1CE00-397F-4F50-BD3A-79C36FC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5643-2777-4520-B657-ECB44B11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55A9-1ABE-4394-9A97-3FB8F426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7E4-02DD-4264-9456-4589658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FFB-B51A-4DA4-AA43-0B9BBB3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66A-F3AB-4773-A8DD-2D88AB1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05E-4B51-4D28-9188-2774FE3A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8B9-2DC3-4BD5-A0B1-0F851EC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B8DB-5ECC-4358-833F-294A03DA6FFB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A7EE-F29D-463A-BDC1-00A9987C4200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0154-C9D5-4E21-87A1-78E7B0F94744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3A82-C264-40B3-A22B-6EB2187E8A51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 34.02.01 Сестринское де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– Медицинская сестра/ Медицинский брат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Строительная смета по замене полов многоэтажного здан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и ценовая политика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6624720" cy="6490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"/>
          <p:cNvSpPr/>
          <p:nvPr/>
        </p:nvSpPr>
        <p:spPr>
          <a:xfrm>
            <a:off x="4643280" y="4149720"/>
            <a:ext cx="417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роект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а  I  курса  группы 113 А-Ф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фьева Никиты Витальевича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маченко Ольга Николаевна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556000" y="60753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Высел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18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исок источник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341360"/>
            <a:ext cx="763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нографии, книги, учебные пособия</a:t>
            </a:r>
            <a:r>
              <a:rPr b="1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именченко Д. Величины и их измерение. //Н. Ш., № 6, 1990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личины и их измерение : [учеб.-метод. пособие] / М-во образования и науки РФ, Гос. образоват. учреждение высш. проф. образования "Алт. гос. пед. акад." сост. Г. А. Бакланова. - Барнаул : АлтГПА, 201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балин С.А."Измерения для всех”. М.: Издательство стандартов, 1991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чников из сети </a:t>
            </a:r>
            <a:r>
              <a:rPr b="1" lang="en-US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сурсы сети интернет (выбор строительных материалов для ремонта комнаты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remont-delux.ru/rasche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shopvira.ru/Flizelinovye_oboi/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ext-decor.ru/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http://www.parquetline.ru/shponirovannyi-plintu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97080" y="385920"/>
            <a:ext cx="77072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270080"/>
            <a:ext cx="67802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знать общую площадь где нужно поменять пол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Узнать цену наиболее выгодных строительных материалов и подсчитать сумм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Подсчитать оплату труда (рабочих) за  сделанную работ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Заголовок 1"/>
          <p:cNvSpPr/>
          <p:nvPr/>
        </p:nvSpPr>
        <p:spPr>
          <a:xfrm>
            <a:off x="-252360" y="3638520"/>
            <a:ext cx="7562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Объект 2"/>
          <p:cNvSpPr/>
          <p:nvPr/>
        </p:nvSpPr>
        <p:spPr>
          <a:xfrm>
            <a:off x="395280" y="4199040"/>
            <a:ext cx="7562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делать расчёт с наименьшими затратами денежных средств на ремо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нести это на сов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3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1557360"/>
            <a:ext cx="7058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уденческая жизнь богата разнообразными событиями. Часть жизни ребят проходит в стенах колледжа– это, примерно, 1190 часов в году (до 6-7 часов в день). На переменах большинство учащихся время проводит в коридорах. Но основную часть учебного времени студенты проводят в аудиториях в которых необходимо поддерживать чистоту и порядок. А чистота и санитарное состояние кабинетов зависит от качества напольных покрыт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 как данное здание Выселковскому филиалу колледжа было предоставлено после использования другим учебным заведением качество полов оставляло желать лучше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345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равнение соотношения качества материала и стоимости. Виды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Объект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19272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Виды плинтус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уществует два вида плинтусов это деревянный и пластиковы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еревянный- Плинтус, выполненный из массива дерева и шпона применяется для обрамления паркетных и ламинатных полов, основа конструкции обычно выполняется из елового или соснового массива, которая сверху покрыта шпоном из ценных пород дерева. Кроме того, возможно изготовление целиком из массива (дуба, ясеня, вишни и др.). Некоторые модели могут быть снабжены каналом под кабель.</a:t>
            </a: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Объект 3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5256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35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ковый- Самым серьезным конкурентом деревянным плинтусам является из пластиковый аналог. Позиция, занимаемая на рынке пластиковым плинтусом Большинство пластиковых плинтусов формой и размером напоминают деревянные плинтусы. С тыльной стороны они снабжены крепежными каналами и нишей для провода. Пластиковые плинтусы для ковролина и бытового линолеума часто имеют паз с лицевой стороны, куда вставляют ленту ковролина или линолеума, отрезанную от основного рулона, в результате чего достигается фактурное и цветовое единство плинтуса и напольного покрытия. Пластиковыми также бывают плинтусы-планки, они просто клеятся к стене клейкой лентой, которой снабжена тыльная сторона такого плинтуса. Плюсы Легко устанавливается, стоимость меньше, высокая устойчивость к воде. разнообразие форм и расцветок. Минусы-пластиковые плинтуса очень хрупкие.</a:t>
            </a: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3" descr=""/>
          <p:cNvPicPr/>
          <p:nvPr/>
        </p:nvPicPr>
        <p:blipFill>
          <a:blip r:embed="rId1"/>
          <a:stretch/>
        </p:blipFill>
        <p:spPr>
          <a:xfrm>
            <a:off x="4678200" y="3508200"/>
            <a:ext cx="44578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чёт стоимости работы и материала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оимость рабо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1 м</a:t>
            </a:r>
            <a:r>
              <a:rPr b="0" lang="ru-RU" sz="18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мы заплатим 50руб. Всего 160.73м</a:t>
            </a:r>
            <a:r>
              <a:rPr b="0" lang="ru-RU" sz="1800" spc="-1" strike="noStrike" baseline="30000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Значит мы заплатим за полную работу 50*160.73=8036.5руб. Округляем до 8050руб. Стоимость укладки линолеума вместе с остальной работо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и предлож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557360"/>
            <a:ext cx="6348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всех сравнений, я считаю  наиболее выгодные материалы такие как линолеум вид ПВХ (поливинилхлоридный) , категория  коммерческий, так как этот материал по цене средний и у него незначительные минусы для такого помещения, высокая прочность имеет очень толстый защитный слой и износостойкий. Такой линолеум обойдется около 800руб за кв./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интуса я считаю лучше будут пластиковый так как они влагоустойчивые легко устанавливаемые, имеют возможность скрыть в себе различны сетевые кабеля, имеют очень большую разновидность окраски и в разы дешевле. 50 руб. - 1полоска(2,5м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ывод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6560" y="1844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ыла проведена работа по измерению, вычислению площади и периметра кабинетов. Были проанализированы материалы в соотношении цены и качества. И был выбран наиболее оптимальный вариа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ончив свою работу, я могу сказать, что всё, что было задумано получилось. И проведенный расчет средств на ремонт кабинетов предлагает оптимальный вариант их расходования и может найти практическое применение в работе не только нашего колле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следовательская работа показала мне, что знания математики необходимы в строительстве и ремонте здани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19:29Z</dcterms:created>
  <dc:creator>Test</dc:creator>
  <dc:description/>
  <dc:language>en-US</dc:language>
  <cp:lastModifiedBy>Пользователь</cp:lastModifiedBy>
  <dcterms:modified xsi:type="dcterms:W3CDTF">2018-05-11T14:03:04Z</dcterms:modified>
  <cp:revision>29</cp:revision>
  <dc:subject/>
  <dc:title>Гражданский проект по теме: «Именем Екатерины нареченный…» (составленный на основе изучения исторической литературы, документов данной эпохи и статей СМИ).</dc:title>
</cp:coreProperties>
</file>