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6A2-84A1-42AD-B5EA-5B3BBAE4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B56-6447-4DD1-B6CB-36389DBE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A64-DA76-4A80-9D4F-856D90CA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7D2-DBED-4B0E-B2AD-20B14EC4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61B1-E54F-4A81-B6D3-FAE67789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68EA-CD1F-48D5-A031-F326331C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2A78-F38E-4EDB-A170-ACCBC795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5C96-7351-4D63-89B0-11F28A95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21A9-FAA4-47EA-A986-17EDB6E3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CB29-E15B-422D-8AF3-DF09C541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3141-9769-4D30-85E6-AEE038B5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3DB-72A7-48C7-A451-14698890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4266-839D-4346-8D0D-E5D591ED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4B5F-DD12-4385-81B8-DCE15982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1B96-52BC-4740-9761-72D9487F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C710-43BD-43AD-9F11-155EC704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6609-0B4B-404B-82C9-72512FFE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C1FCA-8424-47A5-9523-8B51CE4B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37FF9-88D3-44A7-8404-66FC0429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C14F9-26F1-4B92-8E13-D645BD65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07162-DE09-48F8-988B-394C2F2B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AD52D-611B-4FC6-9E09-EDFB13F9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753-A60D-4660-9FDD-0A9AD6D7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B3526-820C-41A5-9D53-0DBF3ECF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ACE07-CB9D-4510-9361-B0C87C38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6A874-ECAA-478E-A644-C9F2CFD4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76F71-035B-4734-9F6A-177AA2E5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88461-6F3D-4FC0-9245-2C36ADA4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9F4F-4B5B-463E-9C16-6AC2F0E1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C7FD5-AA19-4AD9-8616-1C6A77A5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7DA84-013D-4279-B7FC-AEB32943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BD46F-2C88-4B40-8614-CFC2FF05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BD3A-25D7-471C-89ED-4D98E2A0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180-E912-4658-974C-3B9169EF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BBAC8-5095-4305-90DA-3E6B1997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07FA6-EF74-4351-A715-DE110C20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0954C-773C-45FD-81CA-F529F234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5E9A2-18C3-4235-8FC3-7E9F5CBE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E9140-71F1-47BC-A4C8-F4B3C95D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8F9E5-D7CC-40A7-857D-D94030C3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470BF-AC55-44C0-B226-B47AE5B9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A62ED-CC79-44C3-AFF6-72D808C2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8A801-651C-4152-B2AD-799C2057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1BD-BA88-44E3-8AEF-C12F3DAA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517-0D94-46D4-99A5-75FB1820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E27F-4D76-4F57-91FC-D59A6F64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2E4-9853-443B-B475-68EF7B71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0A28-BE5B-438F-A0BD-3F79BBAD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EF17-301F-4576-9455-EB629FB3C766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1B2F-AAE5-4A24-BDD8-DCB8AF304417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7F45-0314-42C2-9305-7EFC2FE4BE05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5068-D0C2-46C3-9582-15D82C6D3AA7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 34.02.01 Сестринское дел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я – Медицинская сестра/ Медицинский брат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роек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Строительная смета по замене полов многоэтажного здания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и ценовая политика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6624720" cy="6490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2"/>
          <p:cNvSpPr/>
          <p:nvPr/>
        </p:nvSpPr>
        <p:spPr>
          <a:xfrm>
            <a:off x="4643280" y="4149720"/>
            <a:ext cx="4176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роект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а  I  курса  группы 113 А-Ф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фьева Никиты Витальевича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маченко Ольга Николаевна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556000" y="6075360"/>
            <a:ext cx="28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Высел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18 г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писок источников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5280" y="1341360"/>
            <a:ext cx="763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нографии, книги, учебные пособия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лименченко Д. Величины и их измерение. //Н. Ш., № 6, 1990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личины и их измерение : [учеб.-метод. пособие] / М-во образования и науки РФ, Гос. образоват. учреждение высш. проф. образования "Алт. гос. пед. акад." сост. Г. А. Бакланова. - Барнаул : АлтГПА, 2011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балин С.А."Измерения для всех”. М.: Издательство стандартов, 1991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точников из сети </a:t>
            </a:r>
            <a:r>
              <a:rPr b="1" lang="en-US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terne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сурсы сети интернет (выбор строительных материалов для ремонта комнаты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ttp://www.remont-delux.ru/rasche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ttp://www.shopvira.ru/Flizelinovye_oboi/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ttp://www.ext-decor.ru/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ttp://www.parquetline.ru/shponirovannyi-plintu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97080" y="385920"/>
            <a:ext cx="77072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5280" y="1270080"/>
            <a:ext cx="678024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Узнать общую площадь где нужно поменять полы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Узнать цену наиболее выгодных строительных материалов и подсчитать сумм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дсчитать оплату труда (рабочих) за  сделанную работ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Заголовок 1"/>
          <p:cNvSpPr/>
          <p:nvPr/>
        </p:nvSpPr>
        <p:spPr>
          <a:xfrm>
            <a:off x="-252360" y="3638520"/>
            <a:ext cx="7562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Объект 2"/>
          <p:cNvSpPr/>
          <p:nvPr/>
        </p:nvSpPr>
        <p:spPr>
          <a:xfrm>
            <a:off x="395280" y="4199040"/>
            <a:ext cx="7562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делать расчёт с наименьшими затратами денежных средств на ремон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3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ынести это на со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3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480" y="1557360"/>
            <a:ext cx="7058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уденческая жизнь богата разнообразными событиями. Часть жизни ребят проходит в стенах колледжа– это, примерно, 1190 часов в году (до 6-7 часов в день). На переменах большинство учащихся время проводит в коридорах. Но основную часть учебного времени студенты проводят в аудиториях в которых необходимо поддерживать чистоту и порядок. А чистота и санитарное состояние кабинетов зависит от качества напольных покрытий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ак как данное здание Выселковскому филиалу колледжа было предоставлено после использования другим учебным заведением качество полов оставляло желать лучше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7345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равнение соотношения качества материала и стоимости. Виды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3" name="Объект 4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19272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Виды плинтус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уществует два вида плинтусов это деревянный и пластиковы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Деревянный- Плинтус, выполненный из массива дерева и шпона применяется для обрамления паркетных и ламинатных полов, основа конструкции обычно выполняется из елового или соснового массива, которая сверху покрыта шпоном из ценных пород дерева. Кроме того, возможно изготовление целиком из массива (дуба, ясеня, вишни и др.). Некоторые модели могут быть снабжены каналом под кабель.</a:t>
            </a:r>
            <a:br>
              <a:rPr sz="1600"/>
            </a:b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Объект 3" descr=""/>
          <p:cNvPicPr/>
          <p:nvPr/>
        </p:nvPicPr>
        <p:blipFill>
          <a:blip r:embed="rId1"/>
          <a:stretch/>
        </p:blipFill>
        <p:spPr>
          <a:xfrm>
            <a:off x="1332000" y="3213000"/>
            <a:ext cx="525600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356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ковый- Самым серьезным конкурентом деревянным плинтусам является из пластиковый аналог. Позиция, занимаемая на рынке пластиковым плинтусом Большинство пластиковых плинтусов формой и размером напоминают деревянные плинтусы. С тыльной стороны они снабжены крепежными каналами и нишей для провода. Пластиковые плинтусы для ковролина и бытового линолеума часто имеют паз с лицевой стороны, куда вставляют ленту ковролина или линолеума, отрезанную от основного рулона, в результате чего достигается фактурное и цветовое единство плинтуса и напольного покрытия. Пластиковыми также бывают плинтусы-планки, они просто клеятся к стене клейкой лентой, которой снабжена тыльная сторона такого плинтуса. Плюсы Легко устанавливается, стоимость меньше, высокая устойчивость к воде. разнообразие форм и расцветок. Минусы-пластиковые плинтуса очень хрупкие.</a:t>
            </a:r>
            <a:br>
              <a:rPr sz="1600"/>
            </a:b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Объект 3" descr=""/>
          <p:cNvPicPr/>
          <p:nvPr/>
        </p:nvPicPr>
        <p:blipFill>
          <a:blip r:embed="rId1"/>
          <a:stretch/>
        </p:blipFill>
        <p:spPr>
          <a:xfrm>
            <a:off x="4678200" y="3508200"/>
            <a:ext cx="445788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счёт стоимости работы и материала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оимость рабо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 1 м</a:t>
            </a:r>
            <a:r>
              <a:rPr b="0" lang="ru-RU" sz="18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мы заплатим 50руб. Всего 160.73м</a:t>
            </a:r>
            <a:r>
              <a:rPr b="0" lang="ru-RU" sz="18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Значит мы заплатим за полную работу 50*160.73=8036.5руб. Округляем до 8050руб. Стоимость укладки линолеума вместе с остальной работо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и предлож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1557360"/>
            <a:ext cx="6348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ле всех сравнений, я считаю  наиболее выгодные материалы такие как линолеум вид ПВХ (поливинилхлоридный) , категория  коммерческий, так как этот материал по цене средний и у него незначительные минусы для такого помещения, высокая прочность имеет очень толстый защитный слой и износостойкий. Такой линолеум обойдется около 800руб за кв./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линтуса я считаю лучше будут пластиковый так как они влагоустойчивые легко устанавливаемые, имеют возможность скрыть в себе различны сетевые кабеля, имеют очень большую разновидность окраски и в разы дешевле. 50 руб. - 1полоска(2,5м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Вывод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26560" y="184464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ыла проведена работа по измерению, вычислению площади и периметра кабинетов. Были проанализированы материалы в соотношении цены и качества. И был выбран наиболее оптимальный вариан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ончив свою работу, я могу сказать, что всё, что было задумано получилось. И проведенный расчет средств на ремонт кабинетов предлагает оптимальный вариант их расходования и может найти практическое применение в работе не только нашего колледж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следовательская работа показала мне, что знания математики необходимы в строительстве и ремонте зданий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19:29Z</dcterms:created>
  <dc:creator>Test</dc:creator>
  <dc:description/>
  <dc:language>en-US</dc:language>
  <cp:lastModifiedBy>Пользователь</cp:lastModifiedBy>
  <dcterms:modified xsi:type="dcterms:W3CDTF">2018-05-11T14:03:04Z</dcterms:modified>
  <cp:revision>29</cp:revision>
  <dc:subject/>
  <dc:title>Гражданский проект по теме: «Именем Екатерины нареченный…» (составленный на основе изучения исторической литературы, документов данной эпохи и статей СМИ).</dc:title>
</cp:coreProperties>
</file>