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C0B-4766-445C-85AC-5FE06D7E3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8936-4687-4494-8881-9BDD55012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A130-9694-4B47-88A3-D3524510C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438C-9EF6-4E68-8F2A-5B82A9DCC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EBD-D281-4FDB-8D37-65E9B7964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76B-9E73-46E9-BDBD-E42374E7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58ED-4C5B-442A-A67B-CFEDD90CF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0F12-5037-491D-BE3E-F0F650E6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0E8C-ECE7-4AE5-A1EA-AE1C715A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2711-7648-4B5C-A22F-1E36BB64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8C5-4185-4D65-AA9F-763F243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3912-ED72-4FD2-AC08-80B60447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B49D-9C6D-4D22-B1B7-904C29C73E5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doshkolnik.ru/zdorove/15626-proekt-po-valeologii-formirovaniyu-u-deteiy-cennostnogo-otnosheniya-k-zdorovomu-obrazu-zhizni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c1604"/>
                </a:solidFill>
                <a:latin typeface="Arial"/>
              </a:rPr>
              <a:t>Проект </a:t>
            </a:r>
            <a:br>
              <a:rPr sz="4000"/>
            </a:br>
            <a:r>
              <a:rPr b="1" lang="ru-RU" sz="4000" spc="-1" strike="noStrike">
                <a:solidFill>
                  <a:srgbClr val="bc1604"/>
                </a:solidFill>
                <a:latin typeface="Arial"/>
              </a:rPr>
              <a:t>«Валеология – наука о здоровье</a:t>
            </a:r>
            <a:r>
              <a:rPr b="0" lang="ru-RU" sz="4000" spc="-1" strike="noStrike">
                <a:solidFill>
                  <a:srgbClr val="bc1604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07680" y="3393000"/>
            <a:ext cx="3572280" cy="2786400"/>
          </a:xfrm>
          <a:prstGeom prst="rect">
            <a:avLst/>
          </a:prstGeom>
          <a:gradFill rotWithShape="0">
            <a:gsLst>
              <a:gs pos="0">
                <a:srgbClr val="b8b8e2"/>
              </a:gs>
              <a:gs pos="100000">
                <a:srgbClr val="ececf7"/>
              </a:gs>
            </a:gsLst>
            <a:lin ang="16200000"/>
          </a:gradFill>
          <a:ln w="9360">
            <a:solidFill>
              <a:srgbClr val="62629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ла: Малкина Н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спитатель МАДОУ «Детский сад № 11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ентр развития ребё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готови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уппа №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Содержимое 3" descr="330026694634_86625_image00051.jpg"/>
          <p:cNvPicPr/>
          <p:nvPr/>
        </p:nvPicPr>
        <p:blipFill>
          <a:blip r:embed="rId1"/>
          <a:stretch/>
        </p:blipFill>
        <p:spPr>
          <a:xfrm>
            <a:off x="219240" y="2176560"/>
            <a:ext cx="4638600" cy="8869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solnishko1"/>
          <p:cNvPicPr/>
          <p:nvPr/>
        </p:nvPicPr>
        <p:blipFill>
          <a:blip r:embed="rId2"/>
          <a:stretch/>
        </p:blipFill>
        <p:spPr>
          <a:xfrm>
            <a:off x="6629400" y="857160"/>
            <a:ext cx="25146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сширять представления детей о том, что полезно и что вредно для здоровья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 дидактические игры, чтение и просмотр иллюстраций, работа со схемам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2919240" cy="21351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6072120" y="142884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214200" y="4572000"/>
            <a:ext cx="2846520" cy="2135160"/>
          </a:xfrm>
          <a:prstGeom prst="rect">
            <a:avLst/>
          </a:prstGeom>
          <a:ln w="0">
            <a:noFill/>
          </a:ln>
        </p:spPr>
      </p:pic>
      <p:pic>
        <p:nvPicPr>
          <p:cNvPr id="80" name="Содержимое 9" descr="1320214029_algoritm-odevanija.jpg"/>
          <p:cNvPicPr/>
          <p:nvPr/>
        </p:nvPicPr>
        <p:blipFill>
          <a:blip r:embed="rId4"/>
          <a:stretch/>
        </p:blipFill>
        <p:spPr>
          <a:xfrm>
            <a:off x="6072120" y="4572000"/>
            <a:ext cx="2868840" cy="213516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4" descr="c66f735e11b3bb475412d47e9c5aadbe5f390677417839.jpg"/>
          <p:cNvPicPr/>
          <p:nvPr/>
        </p:nvPicPr>
        <p:blipFill>
          <a:blip r:embed="rId5"/>
          <a:stretch/>
        </p:blipFill>
        <p:spPr>
          <a:xfrm>
            <a:off x="2378160" y="2736720"/>
            <a:ext cx="437040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500040"/>
            <a:ext cx="85104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Обеспечение преемственности в работе ДОУ и семьи в вопросах физического развития и оздоровления детей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5857920" y="3714840"/>
            <a:ext cx="3143160" cy="2778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285840" y="4214880"/>
            <a:ext cx="3071880" cy="2428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3500280" y="2286000"/>
            <a:ext cx="2286000" cy="3500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1" descr=""/>
          <p:cNvPicPr/>
          <p:nvPr/>
        </p:nvPicPr>
        <p:blipFill>
          <a:blip r:embed="rId4"/>
          <a:stretch/>
        </p:blipFill>
        <p:spPr>
          <a:xfrm>
            <a:off x="285840" y="1357200"/>
            <a:ext cx="3071880" cy="27860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6"/>
          <p:cNvSpPr/>
          <p:nvPr/>
        </p:nvSpPr>
        <p:spPr>
          <a:xfrm>
            <a:off x="5929200" y="135720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ульт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здание фотоальбом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стие в спортивных мероприятия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одительское собрание –Дисскус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авки рисун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Arial"/>
              </a:rPr>
              <a:t>Желаем всем здоровья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285840" y="928800"/>
            <a:ext cx="4214880" cy="2714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4857840" y="928800"/>
            <a:ext cx="4000320" cy="2706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5" descr=""/>
          <p:cNvPicPr/>
          <p:nvPr/>
        </p:nvPicPr>
        <p:blipFill>
          <a:blip r:embed="rId3"/>
          <a:stretch/>
        </p:blipFill>
        <p:spPr>
          <a:xfrm>
            <a:off x="301680" y="4000680"/>
            <a:ext cx="4194000" cy="25714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4"/>
          <a:stretch/>
        </p:blipFill>
        <p:spPr>
          <a:xfrm>
            <a:off x="4929120" y="3963960"/>
            <a:ext cx="3929040" cy="2608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solnishko1"/>
          <p:cNvPicPr/>
          <p:nvPr/>
        </p:nvPicPr>
        <p:blipFill>
          <a:blip r:embed="rId5"/>
          <a:stretch/>
        </p:blipFill>
        <p:spPr>
          <a:xfrm>
            <a:off x="3429000" y="2857680"/>
            <a:ext cx="251460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" descr="solnishko1"/>
          <p:cNvPicPr/>
          <p:nvPr/>
        </p:nvPicPr>
        <p:blipFill>
          <a:blip r:embed="rId1"/>
          <a:stretch/>
        </p:blipFill>
        <p:spPr>
          <a:xfrm>
            <a:off x="3143160" y="4500720"/>
            <a:ext cx="2514600" cy="21650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301680" y="22824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e9e9ff"/>
                </a:solidFill>
                <a:uFillTx/>
                <a:latin typeface="Arial"/>
                <a:hlinkClick r:id="rId2"/>
              </a:rPr>
              <a:t>Проект по валеологии, формированию у детей ценностного отношения к здоровому образу жизн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звание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Валеология – наука о здоровье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ип проекта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здоровительный, исследовательско–творческ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  Сохранение  и  укрепление  здоровья  детей, 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мирование привычки к здоровому образу жиз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частники проекта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спитатель, воспитанники, родител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одолжительность: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Долгосрочный сентябрь 2016 – май 2017го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500040"/>
            <a:ext cx="8510400" cy="614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туальность</a:t>
            </a:r>
            <a:br>
              <a:rPr sz="2000"/>
            </a:br>
            <a:br>
              <a:rPr sz="16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сегодняшний день оздоровление становится одной из главных социальных проблем, и наука о здоровье – валеология - стала интенсивно развиваться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алеолог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(от латинского «valeo» – «быть здоровым»)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– молодая интегративная наука, постигающая средства и закономерности, направленные на формирование, восстановление и укрепление здоровья каждого человека с использованием разнообразных оздоравливающих методик и технологий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учиться рассуждать о здоровье ребенок должен не со слов взрослых, а на основе собственного (конечно, пока элементарного) опыта. Знание ребенком основ гигиены, правил безопасной жизнедеятельности составляет фундамент формирования здорового образа жизни, способствующий эффективности всех оздоровительных мероприятий, проводимых в дошкольном учреждении и семье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жным условием успешной работы по сохранению здоровья детей является понимание того, что «здоровый образ жизни» должен стать стилем жизн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 Поэтому проектно-исследовательская деятельность занимает прочное место в работе нашей группы. Применение полученных валеологических знаний поможет детям изменить отношение к своему здоровью, к способам его укрепления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32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 Сохранение  и  укрепление  здоровья  детей,  формирование привычки к здоровому образу жизн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дачи: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положительного отношения к здоровому образу жизни у детей дошкольного возраста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ормирование у детей 6-7 лет представлений о строении человеческого тела и назначении внутренних органов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ширить знания детей о здоровье и происхождении болезней;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ширять представления детей о том, что полезно и что вредно для здоровья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еспечение преемственности в работе ДОУ и семьи в вопросах физического развития и оздоровления детей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G:\Валеология\101MSDCF\DSC08376.JPG"/>
          <p:cNvPicPr/>
          <p:nvPr/>
        </p:nvPicPr>
        <p:blipFill>
          <a:blip r:embed="rId1"/>
          <a:stretch/>
        </p:blipFill>
        <p:spPr>
          <a:xfrm>
            <a:off x="1623960" y="3357720"/>
            <a:ext cx="5896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Ожидаемые  результаты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2" descr="G:\Валеология\101MSDCF\DSC08377.JPG"/>
          <p:cNvPicPr/>
          <p:nvPr/>
        </p:nvPicPr>
        <p:blipFill>
          <a:blip r:embed="rId1"/>
          <a:stretch/>
        </p:blipFill>
        <p:spPr>
          <a:xfrm>
            <a:off x="285840" y="571680"/>
            <a:ext cx="4286160" cy="292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648320" y="1000080"/>
            <a:ext cx="4194000" cy="28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лученные ребёнком знания и представления о своем теле, своём здоровье, физической культуре позволят найти способы укрепления и сохранения здоров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обретённые навыки помогут осознанно выбрать здоровый образ жизн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вышение уровня адаптации к окружающему миру ( в т.ч. к обучению в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школе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одите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явление интереса к вопросу физического развития и оздоровления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00"/>
              </a:spcBef>
              <a:buClr>
                <a:srgbClr val="e9e9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ктивное участие в проекте по физическому развитию и оздоровлению дете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Picture 5" descr="G:\Валеология\101MSDCF\DSC08566.JPG"/>
          <p:cNvPicPr/>
          <p:nvPr/>
        </p:nvPicPr>
        <p:blipFill>
          <a:blip r:embed="rId2"/>
          <a:stretch/>
        </p:blipFill>
        <p:spPr>
          <a:xfrm>
            <a:off x="285840" y="3643200"/>
            <a:ext cx="428616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ормирование положительного отношения к здоровому образу жизни у детей дошкольного возрас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2" descr="G:\Валеология\101MSDCF\DSC08392.JPG"/>
          <p:cNvPicPr/>
          <p:nvPr/>
        </p:nvPicPr>
        <p:blipFill>
          <a:blip r:embed="rId1"/>
          <a:stretch/>
        </p:blipFill>
        <p:spPr>
          <a:xfrm>
            <a:off x="142920" y="928800"/>
            <a:ext cx="3000240" cy="228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G:\Валеология\101MSDCF\DSC08476.JPG"/>
          <p:cNvPicPr/>
          <p:nvPr/>
        </p:nvPicPr>
        <p:blipFill>
          <a:blip r:embed="rId2"/>
          <a:stretch/>
        </p:blipFill>
        <p:spPr>
          <a:xfrm>
            <a:off x="2000160" y="264312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G:\Валеология\101MSDCF\DSC08345.JPG"/>
          <p:cNvPicPr/>
          <p:nvPr/>
        </p:nvPicPr>
        <p:blipFill>
          <a:blip r:embed="rId3"/>
          <a:stretch/>
        </p:blipFill>
        <p:spPr>
          <a:xfrm>
            <a:off x="142920" y="4286160"/>
            <a:ext cx="2989080" cy="2349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tretch/>
        </p:blipFill>
        <p:spPr>
          <a:xfrm>
            <a:off x="5357880" y="1643040"/>
            <a:ext cx="3571920" cy="4857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solnishko1"/>
          <p:cNvPicPr/>
          <p:nvPr/>
        </p:nvPicPr>
        <p:blipFill>
          <a:blip r:embed="rId5"/>
          <a:stretch/>
        </p:blipFill>
        <p:spPr>
          <a:xfrm>
            <a:off x="2928960" y="4692600"/>
            <a:ext cx="25146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Проект в проект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71680" y="1500120"/>
            <a:ext cx="3903480" cy="4884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5072040" y="1428840"/>
            <a:ext cx="3699000" cy="4956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solnishko1"/>
          <p:cNvPicPr/>
          <p:nvPr/>
        </p:nvPicPr>
        <p:blipFill>
          <a:blip r:embed="rId3"/>
          <a:stretch/>
        </p:blipFill>
        <p:spPr>
          <a:xfrm>
            <a:off x="0" y="0"/>
            <a:ext cx="2514600" cy="21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Формирование у детей 6-7 лет представлений о строении человеческого тела и назначении внутренних органов.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Расширить знания детей о здоровье и происхождении болезней;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285840" y="1143000"/>
            <a:ext cx="3489120" cy="2643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321160" y="1143000"/>
            <a:ext cx="3537000" cy="2643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286240" y="4000680"/>
            <a:ext cx="3643560" cy="2643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4"/>
          <a:stretch/>
        </p:blipFill>
        <p:spPr>
          <a:xfrm>
            <a:off x="285840" y="4000680"/>
            <a:ext cx="3500280" cy="26431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9" descr="solnishko1"/>
          <p:cNvPicPr/>
          <p:nvPr/>
        </p:nvPicPr>
        <p:blipFill>
          <a:blip r:embed="rId5"/>
          <a:stretch/>
        </p:blipFill>
        <p:spPr>
          <a:xfrm>
            <a:off x="3214800" y="2857680"/>
            <a:ext cx="251460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изкульт –минутки, массаж, физкультура, длительные прогулки, оздоровительный бег, подвижные иг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3537000" cy="2500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321160" y="1357200"/>
            <a:ext cx="3537000" cy="2571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285840" y="3963960"/>
            <a:ext cx="3537000" cy="2679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5286240" y="4000680"/>
            <a:ext cx="3571920" cy="264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solnishko1"/>
          <p:cNvPicPr/>
          <p:nvPr/>
        </p:nvPicPr>
        <p:blipFill>
          <a:blip r:embed="rId5"/>
          <a:stretch/>
        </p:blipFill>
        <p:spPr>
          <a:xfrm>
            <a:off x="3214800" y="2857680"/>
            <a:ext cx="2514600" cy="21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7T16:36:29Z</dcterms:created>
  <dc:creator>Наташа</dc:creator>
  <dc:description/>
  <dc:language>en-US</dc:language>
  <cp:lastModifiedBy>детский сад11</cp:lastModifiedBy>
  <dcterms:modified xsi:type="dcterms:W3CDTF">2017-09-21T11:52:16Z</dcterms:modified>
  <cp:revision>54</cp:revision>
  <dc:subject/>
  <dc:title>Отчёт по годовым задачам за</dc:title>
</cp:coreProperties>
</file>