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692-0103-4D9F-A6ED-D29BD81C1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A269-0277-41F7-9F76-9B7A2F60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F16-F8E3-4DBE-9D1A-830AE061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3EFC-6439-4FFF-B30C-7AF4BC13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44DD-D662-4CBA-BA25-29DA96BD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BB95-58C4-4D46-88C7-7DFB7E850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448C-A84C-4D8B-950F-257EC0E6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96F0-0FDD-46EC-A5F1-7FD820B9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1E76-0681-4B99-A8F2-442EE9F3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804-3976-48E0-8324-410AF60D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086D-FBFE-4503-B4D1-1C5FDE35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5289-B63F-481E-AF3C-F26AC2FA2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47762-D0DE-4504-B50E-8FF096B0D46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doshkolnik.ru/zdorove/15626-proekt-po-valeologii-formirovaniyu-u-deteiy-cennostnogo-otnosheniya-k-zdorovomu-obrazu-zhizni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c1604"/>
                </a:solidFill>
                <a:latin typeface="Arial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bc1604"/>
                </a:solidFill>
                <a:latin typeface="Arial"/>
              </a:rPr>
              <a:t>«Валеология – наука о здоровье</a:t>
            </a:r>
            <a:r>
              <a:rPr b="0" lang="ru-RU" sz="4000" spc="-1" strike="noStrike">
                <a:solidFill>
                  <a:srgbClr val="bc1604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07680" y="3393000"/>
            <a:ext cx="3572280" cy="2786400"/>
          </a:xfrm>
          <a:prstGeom prst="rect">
            <a:avLst/>
          </a:prstGeom>
          <a:gradFill rotWithShape="0">
            <a:gsLst>
              <a:gs pos="0">
                <a:srgbClr val="b8b8e2"/>
              </a:gs>
              <a:gs pos="100000">
                <a:srgbClr val="ececf7"/>
              </a:gs>
            </a:gsLst>
            <a:lin ang="16200000"/>
          </a:gradFill>
          <a:ln w="9360">
            <a:solidFill>
              <a:srgbClr val="626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а: Малкина Н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МАДОУ «Детский сад № 1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 развития ребё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а №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Содержимое 3" descr="330026694634_86625_image00051.jpg"/>
          <p:cNvPicPr/>
          <p:nvPr/>
        </p:nvPicPr>
        <p:blipFill>
          <a:blip r:embed="rId1"/>
          <a:stretch/>
        </p:blipFill>
        <p:spPr>
          <a:xfrm>
            <a:off x="219240" y="2176560"/>
            <a:ext cx="4638600" cy="886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olnishko1"/>
          <p:cNvPicPr/>
          <p:nvPr/>
        </p:nvPicPr>
        <p:blipFill>
          <a:blip r:embed="rId2"/>
          <a:stretch/>
        </p:blipFill>
        <p:spPr>
          <a:xfrm>
            <a:off x="6629400" y="857160"/>
            <a:ext cx="25146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сширять представления детей о том, что полезно и что вредно для здоровья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 дидактические игры, чтение и просмотр иллюстраций, работа со схем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2919240" cy="21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72120" y="14288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214200" y="4572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9" descr="1320214029_algoritm-odevanija.jpg"/>
          <p:cNvPicPr/>
          <p:nvPr/>
        </p:nvPicPr>
        <p:blipFill>
          <a:blip r:embed="rId4"/>
          <a:stretch/>
        </p:blipFill>
        <p:spPr>
          <a:xfrm>
            <a:off x="6072120" y="4572000"/>
            <a:ext cx="2868840" cy="213516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4" descr="c66f735e11b3bb475412d47e9c5aadbe5f390677417839.jpg"/>
          <p:cNvPicPr/>
          <p:nvPr/>
        </p:nvPicPr>
        <p:blipFill>
          <a:blip r:embed="rId5"/>
          <a:stretch/>
        </p:blipFill>
        <p:spPr>
          <a:xfrm>
            <a:off x="2378160" y="2736720"/>
            <a:ext cx="43704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500040"/>
            <a:ext cx="8510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еспечение преемственности в работе ДОУ и семьи в вопросах физического развития и оздоровления дете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857920" y="3714840"/>
            <a:ext cx="3143160" cy="277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85840" y="421488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3500280" y="2286000"/>
            <a:ext cx="2286000" cy="3500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85840" y="1357200"/>
            <a:ext cx="3071880" cy="27860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6"/>
          <p:cNvSpPr/>
          <p:nvPr/>
        </p:nvSpPr>
        <p:spPr>
          <a:xfrm>
            <a:off x="5929200" y="135720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фотоальбом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стие в спортивных мероприят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тельское собрание –Дисску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авки рисун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Желаем всем здоровья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4214880" cy="27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4857840" y="928800"/>
            <a:ext cx="4000320" cy="270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01680" y="4000680"/>
            <a:ext cx="4194000" cy="257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4929120" y="3963960"/>
            <a:ext cx="3929040" cy="260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solnishko1"/>
          <p:cNvPicPr/>
          <p:nvPr/>
        </p:nvPicPr>
        <p:blipFill>
          <a:blip r:embed="rId5"/>
          <a:stretch/>
        </p:blipFill>
        <p:spPr>
          <a:xfrm>
            <a:off x="3429000" y="2857680"/>
            <a:ext cx="251460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solnishko1"/>
          <p:cNvPicPr/>
          <p:nvPr/>
        </p:nvPicPr>
        <p:blipFill>
          <a:blip r:embed="rId1"/>
          <a:stretch/>
        </p:blipFill>
        <p:spPr>
          <a:xfrm>
            <a:off x="3143160" y="4500720"/>
            <a:ext cx="2514600" cy="216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e9e9ff"/>
                </a:solidFill>
                <a:uFillTx/>
                <a:latin typeface="Arial"/>
                <a:hlinkClick r:id="rId2"/>
              </a:rPr>
              <a:t>Проект по валеологии, формированию у детей ценностного отношения к здоровому образу жиз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зва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леология – наука о здоровь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ип проекта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доровительный, исследовательско–твор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 Сохранение  и  укрепление  здоровья  детей,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привычки к здоровому образу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астники проекта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тель, воспитанники, род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должительност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олгосрочный сентябрь 2016 – май 2017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500040"/>
            <a:ext cx="85104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туальность</a:t>
            </a:r>
            <a:br>
              <a:rPr sz="2000"/>
            </a:b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сегодняшний день оздоровление становится одной из главных социальных проблем, и наука о здоровье – валеология - стала интенсивно развиватьс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леолог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от латинского «valeo» – «быть здоровым»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молодая интегративная наука, постигающая средства и закономерности, направленные на формирование, восстановление и укрепление здоровья каждого человека с использованием разнообразных оздоравливающих методик и технологий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иться рассуждать о здоровье ребенок должен не со слов взрослых, а на основе собственного (конечно, пока элементарного) опыта. Знание ребенком основ гигиены, правил безопасной жизнедеятельности составляет фундамент формирования здорового образа жизни, способствующий эффективности всех оздоровительных мероприятий, проводимых в дошкольном учреждении и семь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ым условием успешной работы по сохранению здоровья детей является понимание того, что «здоровый образ жизни» должен стать стилем жизн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оэтому проектно-исследовательская деятельность занимает прочное место в работе нашей группы. Применение полученных валеологических знаний поможет детям изменить отношение к своему здоровью, к способам его укреплени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2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Сохранение  и  укрепление  здоровья  детей,  формирование привычки к здоровому образу жизн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чи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положительного отношения к здоровому образу жизни у детей дошкольного возрас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у детей 6-7 лет представлений о строении человеческого тела и назначении внутренних органов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ширить знания детей о здоровье и происхождении болезней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ширять представления детей о том, что полезно и что вредно для здоровь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ение преемственности в работе ДОУ и семьи в вопросах физического развития и оздоровления детей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G:\Валеология\101MSDCF\DSC08376.JPG"/>
          <p:cNvPicPr/>
          <p:nvPr/>
        </p:nvPicPr>
        <p:blipFill>
          <a:blip r:embed="rId1"/>
          <a:stretch/>
        </p:blipFill>
        <p:spPr>
          <a:xfrm>
            <a:off x="1623960" y="3357720"/>
            <a:ext cx="5896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жидаемые  результат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G:\Валеология\101MSDCF\DSC08377.JPG"/>
          <p:cNvPicPr/>
          <p:nvPr/>
        </p:nvPicPr>
        <p:blipFill>
          <a:blip r:embed="rId1"/>
          <a:stretch/>
        </p:blipFill>
        <p:spPr>
          <a:xfrm>
            <a:off x="285840" y="571680"/>
            <a:ext cx="4286160" cy="292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000080"/>
            <a:ext cx="41940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ученные ребёнком знания и представления о своем теле, своём здоровье, физической культуре позволят найти способы укрепления и сохранения здоров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обретённые навыки помогут осознанно выбрать здоровый образ жи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уровня адаптации к окружающему миру ( в т.ч. к обучению 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коле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дит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явление интереса к вопросу физического развития и оздоровления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ивное участие в проекте по физическому развитию и оздоровлению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G:\Валеология\101MSDCF\DSC08566.JPG"/>
          <p:cNvPicPr/>
          <p:nvPr/>
        </p:nvPicPr>
        <p:blipFill>
          <a:blip r:embed="rId2"/>
          <a:stretch/>
        </p:blipFill>
        <p:spPr>
          <a:xfrm>
            <a:off x="285840" y="3643200"/>
            <a:ext cx="42861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ормирование положительного отношения к здоровому образу жизни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G:\Валеология\101MSDCF\DSC08392.JPG"/>
          <p:cNvPicPr/>
          <p:nvPr/>
        </p:nvPicPr>
        <p:blipFill>
          <a:blip r:embed="rId1"/>
          <a:stretch/>
        </p:blipFill>
        <p:spPr>
          <a:xfrm>
            <a:off x="142920" y="9288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G:\Валеология\101MSDCF\DSC08476.JPG"/>
          <p:cNvPicPr/>
          <p:nvPr/>
        </p:nvPicPr>
        <p:blipFill>
          <a:blip r:embed="rId2"/>
          <a:stretch/>
        </p:blipFill>
        <p:spPr>
          <a:xfrm>
            <a:off x="2000160" y="264312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G:\Валеология\101MSDCF\DSC08345.JPG"/>
          <p:cNvPicPr/>
          <p:nvPr/>
        </p:nvPicPr>
        <p:blipFill>
          <a:blip r:embed="rId3"/>
          <a:stretch/>
        </p:blipFill>
        <p:spPr>
          <a:xfrm>
            <a:off x="142920" y="4286160"/>
            <a:ext cx="2989080" cy="234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5357880" y="1643040"/>
            <a:ext cx="3571920" cy="4857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solnishko1"/>
          <p:cNvPicPr/>
          <p:nvPr/>
        </p:nvPicPr>
        <p:blipFill>
          <a:blip r:embed="rId5"/>
          <a:stretch/>
        </p:blipFill>
        <p:spPr>
          <a:xfrm>
            <a:off x="2928960" y="4692600"/>
            <a:ext cx="25146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ект в проект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3903480" cy="488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072040" y="1428840"/>
            <a:ext cx="3699000" cy="495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solnishko1"/>
          <p:cNvPicPr/>
          <p:nvPr/>
        </p:nvPicPr>
        <p:blipFill>
          <a:blip r:embed="rId3"/>
          <a:stretch/>
        </p:blipFill>
        <p:spPr>
          <a:xfrm>
            <a:off x="0" y="0"/>
            <a:ext cx="25146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ормирование у детей 6-7 лет представлений о строении человеческого тела и назначении внутренних органов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сширить знания детей о здоровье и происхождении болезней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3489120" cy="26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321160" y="1143000"/>
            <a:ext cx="3537000" cy="2643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286240" y="4000680"/>
            <a:ext cx="3643560" cy="264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4"/>
          <a:stretch/>
        </p:blipFill>
        <p:spPr>
          <a:xfrm>
            <a:off x="285840" y="4000680"/>
            <a:ext cx="3500280" cy="26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solnishko1"/>
          <p:cNvPicPr/>
          <p:nvPr/>
        </p:nvPicPr>
        <p:blipFill>
          <a:blip r:embed="rId5"/>
          <a:stretch/>
        </p:blipFill>
        <p:spPr>
          <a:xfrm>
            <a:off x="3214800" y="2857680"/>
            <a:ext cx="251460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культ –минутки, массаж, физкультура, длительные прогулки, оздоровительный бег, подвижные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537000" cy="2500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321160" y="1357200"/>
            <a:ext cx="3537000" cy="2571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285840" y="3963960"/>
            <a:ext cx="3537000" cy="2679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5286240" y="400068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olnishko1"/>
          <p:cNvPicPr/>
          <p:nvPr/>
        </p:nvPicPr>
        <p:blipFill>
          <a:blip r:embed="rId5"/>
          <a:stretch/>
        </p:blipFill>
        <p:spPr>
          <a:xfrm>
            <a:off x="3214800" y="2857680"/>
            <a:ext cx="251460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6:36:29Z</dcterms:created>
  <dc:creator>Наташа</dc:creator>
  <dc:description/>
  <dc:language>en-US</dc:language>
  <cp:lastModifiedBy>детский сад11</cp:lastModifiedBy>
  <dcterms:modified xsi:type="dcterms:W3CDTF">2017-09-21T11:52:16Z</dcterms:modified>
  <cp:revision>54</cp:revision>
  <dc:subject/>
  <dc:title>Отчёт по годовым задачам за</dc:title>
</cp:coreProperties>
</file>