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9C9-EA26-4BFE-BB10-5DA63617E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418E-0B94-4C53-BFBB-908042C9F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1E87-F583-4580-824B-252D067D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75F8-6825-4A4E-B892-9CC4D1411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9B1D-5CA5-4309-A5F7-5FDCD207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C171-F05B-404A-AE7A-E0EBE719D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C3F1-2DC5-4171-ACD4-6C2620F4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2054-EB7B-424A-8CFC-BCB8AC551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5C18-02C6-42C7-83BC-F2662A80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7ACE-C6AE-4143-BF23-18408DBC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13258-D955-402E-83E4-9CFB0A73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776-E5D7-49E5-B2D8-2620C4A0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52456-F69B-429D-AB54-7FAB98FC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F985-74A8-4858-8324-BF1245BA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6E71-E234-402F-AAF5-FB85637BB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2D7DC-F3B3-41F0-90E2-8589C1344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7A8B-A56C-480D-89BD-B6BD2941F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A1BD-F843-44F2-BD38-703D0F15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F9C0-E3A9-4DFA-AE21-E66E542BF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0DE9-F642-4047-B39D-6B3D508F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94EB-EF6F-44BA-BDF5-2F33B2C7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0B6E-4EE1-46D6-A39A-8026664D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13D-2BD6-4EC1-B996-8BD42F93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93D9-BD0D-447A-881C-282317E5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E42D-5C30-4A33-A19D-1B674AA21064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26D5-E58F-475F-967A-E89C9D39C412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03280" y="333360"/>
            <a:ext cx="4949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Tahoma"/>
              </a:rPr>
              <a:t>В любви и строгости нужна мер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50560" y="2491920"/>
            <a:ext cx="856908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юбовь к детям – одно из благороднейших человеческих чувств, которое озаряет жизнь семьи светом радости, помогает родителям легче переживать печали и горести. Дети, согретые любовью и лаской родителей, растут приветливыми, у них развивается уверенность в своих силах, жизнерадостность, чувство собственного достоин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юбовь к детям прежде всего проявляется в понимании их интересов, запросов, чутком отношении к их внутреннему миру, их планам пусть не всегда разумным и обоснованным. Любящий отец и мать не погасят окриком романтические мечты своих детей и холодным безразлич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ahoma"/>
              </a:rPr>
              <a:t>Пример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92360" y="1483920"/>
            <a:ext cx="703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70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ать держала Игоря в большой строгости. Установив для сына определённый режим, она требовала его точного исполнения. Однажды мальчик пришёл домой позже, не в 8 часов, как было установлено, а в 8 – 30. Мать заподозрила, что сын попал в плохую компанию. Не говоря ни слова, она ударила сына по лицу. Мальчик был потрясён этим до глубины душ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7040" indent="-437040" algn="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ак иногда взгляд на детей только как объект воспитания приводит к грубым ошибкам. В результате родители надолго, а в отдельных случаях и навсегда могут потерять искреннюю любовь и уважение детей к себ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" descr="http://74210s118.edusite.ru/images/schoolboy0.jpg"/>
          <p:cNvPicPr/>
          <p:nvPr/>
        </p:nvPicPr>
        <p:blipFill>
          <a:blip r:embed="rId1"/>
          <a:stretch/>
        </p:blipFill>
        <p:spPr>
          <a:xfrm>
            <a:off x="0" y="1773360"/>
            <a:ext cx="197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ahoma"/>
              </a:rPr>
              <a:t>Что пагубно действует на детей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Заласкивание, отсутствие должной требовательности к ребёнку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ело нередко кончается тем, что родители попадают в зависимость от капризов и прихотей своих де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Нервозные окр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 сисюканье и нервозные окрики свидетельствуют о беспомощности р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948360" y="5521320"/>
            <a:ext cx="15940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ahoma"/>
              </a:rPr>
              <a:t>Что важно в воспитании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75438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 Внимание к возрастным изменени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Умение найти правильный путь к чувствам и сознанию ребёнка, выбор наиболее эффективных методов воздейств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блюдение меры в строгости и ласке, доброте и требова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27280" y="5661000"/>
            <a:ext cx="410544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ahoma"/>
              </a:rPr>
              <a:t>Как добиться успеха в воспитании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ходить в нужный момент слова одобрения и пориц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бирать правильную интонацию голоса, соответствующее выражение лица, правильный жес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держанный , но в то же время проникнутый глубоким чувством огорчения разговор родителей с ребёнком произведёт на него более глубокое и сильное впечатление, чем истеричные крики и угроз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252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691920"/>
            <a:ext cx="75438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Любовь и строгость в их правильном соотношении –сильные, действенные средства воспитания детей в семье. Они помогут родителям  воспитать своих детей достойными людьм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555768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560" y="1125360"/>
            <a:ext cx="75675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ароде справедливо говорят: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«Птица не может летать без крыльев, человек не может жить без доверия»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Доверие окрыляет человека, придаёт ему уверенность в себе, порождает энергию и бодрость. Но особенно нуждаются в доверии и чуткости дети и подростки. Они тянутся к взрослым, надеясь получить у них ответы на свои вопросы, встретить внимание, поддерж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ahoma"/>
              </a:rPr>
              <a:t>Ошибки родител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5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ногие ошибки родителей в воспитании происходят именно потому, что они рассматривают детей только как объект воспитания, поучают их, наказывают, предъявляют к ним чрезмерные требования. Нередко это ведёт к унижению достоинства ребёнка, невниманию к его чувствам и переживаниям. А в итоге- грубые, порой неисправимые просчёты в воспитан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ahoma"/>
              </a:rPr>
              <a:t>Пример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78501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юбящая бабушка решила наказать внучку за полученную «двойку» и отправить её в школу в стареньком рваном платье. Девочка плакала, упрашивала разрешить ей надеть школьную форму, но бабушка была непреклонна. Ей казалось, что она воспитывает внучку, а на самом деле только унижала её. Может, эта бабушка не любит внучку?  Любит, очень любит и хочет ей добра, желает, чтобы внучка не получала больше  «двоек». Но в своём способе воспитания бабушка показала неуважение к ней, не поняла её пережи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ahoma"/>
              </a:rPr>
              <a:t>Какой должна быть родительская любовь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одительская любовь должна быть взыскательной и требовательной, без слезливой сентиментальности и всепрощения, без жертвенных отношений со стороны матери или отца. Слепая, неразумная любовь приведёт к тому, что дети вырастут холодными и расчётливыми эгоистами. Воспитывать нужно в ребёнке потребность быть чутким не только к родным, но и ко всем людям. Тогда у него возникнет уверенность в том, что он никогда не станется один, что в трудную минуту рядом с ним будут друзья и обязательно помогу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ahoma"/>
              </a:rPr>
              <a:t>Соблюдение чувства меры в строг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2560" y="1980720"/>
            <a:ext cx="756756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ажно в воспитании соблюдать чувство меры в строгости. Чрезмерная строгость вредит воспитанию. Грубо ошибаются те родители, которые считают, что строгость важна. Чрезмерная строгость возбуждает уважение к родителям холодное, трепетное, боязливое, невольно приучает к скрытости и лживости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ffcc"/>
                </a:solidFill>
                <a:latin typeface="Tahoma"/>
              </a:rPr>
              <a:t>Как избежать ошибок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Прежде всего надо понять мотивы поведения ребёнка, добрые намерения не рассматривать как злой умысе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ahoma"/>
              </a:rPr>
              <a:t>Пример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926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дходя к дому Николай Петрович увидел своего сына Олега, гневно размахивавшего перед лицом какого – то подростка. Не разобравшись, в чём дело, отец обрушился на сына: «Хулиган! Немедленно домой!» Олег пытался объяснять отцу, что он защищал малыша, у которого этот подросток порвал бумажного змея. Но Николай Петрович, не выслушав сына, приказал ему немедленно отправиться домой. Огорчённый Олег с тоской думал о несправедливости отца, который всегда говорил о необходимости защищать слабых, а в данной ситуации не захотел его поня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иколай Петрович не потрудился выяснить мотивы поведения сына и нанёс ему оскорбление. Кроме того у сына появилось сомнение в справедливости от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Tahoma"/>
              </a:rPr>
              <a:t>К чему приводит нежелание родителей понять ребёнка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Нежелание изучить мотивы поведения детей, завышенные требования к ним часто приводят к серьёзным конфликтам между родителями и детьм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02:27:21Z</dcterms:created>
  <dc:creator>админ</dc:creator>
  <dc:description/>
  <dc:language>en-US</dc:language>
  <cp:lastModifiedBy>админ</cp:lastModifiedBy>
  <dcterms:modified xsi:type="dcterms:W3CDTF">2018-07-02T17:14:05Z</dcterms:modified>
  <cp:revision>6</cp:revision>
  <dc:subject/>
  <dc:title>В любви и строгости нужна мера</dc:title>
</cp:coreProperties>
</file>