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36E8-49DC-4E00-A5FA-BCFFC623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2524-7301-4400-BA17-9141C1C9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8AFA-D35C-4ED4-A845-CD4C91AB9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68C81-ED5E-49D0-98B3-7ABC906FF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0679-247A-401A-B371-EBC66D38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7A83-3499-417D-9203-A51A6595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137DC-CFEC-42F7-9024-C2933CBF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4158D-777C-4ACE-8295-6ACF46D8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AAA9-A4B8-462D-BCD8-061CA181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145F-A722-4B7C-9039-D9611AA6C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C73A3-502D-4474-B3E6-48444964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052-6F30-40A8-A5D4-5C27360A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7225-07C6-48FD-9405-3DB60FC06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ED2E-37A6-4182-9D74-F83FD2FD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ECA8-36D6-46C6-B59D-1B8AF310C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7AAF8-E66F-4DD1-8F1D-AD6FDF8E7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21D9-F733-41CE-BADF-6729231F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B1F5-1BF2-4230-98B6-2E2DFD28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116D-B64C-48D7-BE66-C265358B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8608-6A87-44BA-ADF8-5250B761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6EEE-4682-4C5A-91E1-F87C5D92A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61F8-D555-49CC-AFF8-FB717248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BDD5-7FBE-4889-AA17-0AFA8EAAC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F55-4E98-45EF-8713-FF550D55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273E-62D4-42AC-A060-C76CCCD4F78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C9E1-4644-46F2-9B3A-5655C66EAA2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03280" y="333360"/>
            <a:ext cx="494964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ahoma"/>
              </a:rPr>
              <a:t>В любви и строгости нужна мер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250560" y="2491920"/>
            <a:ext cx="856908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овь к детям – одно из благороднейших человеческих чувств, которое озаряет жизнь семьи светом радости, помогает родителям легче переживать печали и горести. Дети, согретые любовью и лаской родителей, растут приветливыми, у них развивается уверенность в своих силах, жизнерадостность, чувство собственного достоинст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овь к детям прежде всего проявляется в понимании их интересов, запросов, чутком отношении к их внутреннему миру, их планам пусть не всегда разумным и обоснованным. Любящий отец и мать не погасят окриком романтические мечты своих детей и холодным безразличи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Приме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92360" y="1483920"/>
            <a:ext cx="703872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704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Мать держала Игоря в большой строгости. Установив для сына определённый режим, она требовала его точного исполнения. Однажды мальчик пришёл домой позже, не в 8 часов, как было установлено, а в 8 – 30. Мать заподозрила, что сын попал в плохую компанию. Не говоря ни слова, она ударила сына по лицу. Мальчик был потрясён этим до глубины душ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437040" indent="-437040" algn="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Так иногда взгляд на детей только как объект воспитания приводит к грубым ошибкам. В результате родители надолго, а в отдельных случаях и навсегда могут потерять искреннюю любовь и уважение детей к себ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2" descr="http://74210s118.edusite.ru/images/schoolboy0.jpg"/>
          <p:cNvPicPr/>
          <p:nvPr/>
        </p:nvPicPr>
        <p:blipFill>
          <a:blip r:embed="rId1"/>
          <a:stretch/>
        </p:blipFill>
        <p:spPr>
          <a:xfrm>
            <a:off x="0" y="1773360"/>
            <a:ext cx="197964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Что пагубно действует на детей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Заласкивание, отсутствие должной требовательности к ребёнку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Дело нередко кончается тем, что родители попадают в зависимость от капризов и прихотей сво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ервозные окри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 сисюканье и нервозные окрики свидетельствуют о беспомощности родител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48360" y="5521320"/>
            <a:ext cx="159408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Что важно в воспитани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341360"/>
            <a:ext cx="754380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1. Внимание к возрастным изменения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. Умение найти правильный путь к чувствам и сознанию ребёнка, выбор наиболее эффективных методов воздейств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блюдение меры в строгости и ласке, доброте и требовательност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627280" y="5661000"/>
            <a:ext cx="41054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Как добиться успеха в воспитани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ходить в нужный момент слова одобрения и пориц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Подбирать правильную интонацию голоса, соответствующее выражение лица, правильный жес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Сдержанный , но в то же время проникнутый глубоким чувством огорчения разговор родителей с ребёнком произведёт на него более глубокое и сильное впечатление, чем истеричные крики и угроз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42560" y="125280"/>
            <a:ext cx="7543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71280" y="691920"/>
            <a:ext cx="75438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Любовь и строгость в их правильном соотношении –сильные, действенные средства воспитания детей в семье. Они помогут родителям  воспитать своих детей достойными людь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195640" y="1916280"/>
            <a:ext cx="555768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42560" y="1125360"/>
            <a:ext cx="756756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роде справедливо говорят: </a:t>
            </a: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«Птица не может летать без крыльев, человек не может жить без доверия».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Доверие окрыляет человека, придаёт ему уверенность в себе, порождает энергию и бодрость. Но особенно нуждаются в доверии и чуткости дети и подростки. Они тянутся к взрослым, надеясь получить у них ответы на свои вопросы, встретить внимание, поддерж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Ошибки родителей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42560" y="1557360"/>
            <a:ext cx="75438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ногие ошибки родителей в воспитании происходят именно потому, что они рассматривают детей только как объект воспитания, поучают их, наказывают, предъявляют к ним чрезмерные требования. Нередко это ведёт к унижению достоинства ребёнка, невниманию к его чувствам и переживаниям. А в итоге- грубые, порой неисправимые просчёты в воспитани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47628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Пример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42920" y="1483920"/>
            <a:ext cx="78501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юбящая бабушка решила наказать внучку за полученную «двойку» и отправить её в школу в стареньком рваном платье. Девочка плакала, упрашивала разрешить ей надеть школьную форму, но бабушка была непреклонна. Ей казалось, что она воспитывает внучку, а на самом деле только унижала её. Может, эта бабушка не любит внучку?  Любит, очень любит и хочет ей добра, желает, чтобы внучка не получала больше  «двоек». Но в своём способе воспитания бабушка показала неуважение к ней, не поняла её пережив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Какой должна быть родительская любовь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Родительская любовь должна быть взыскательной и требовательной, без слезливой сентиментальности и всепрощения, без жертвенных отношений со стороны матери или отца. Слепая, неразумная любовь приведёт к тому, что дети вырастут холодными и расчётливыми эгоистами. Воспитывать нужно в ребёнке потребность быть чутким не только к родным, но и ко всем людям. Тогда у него возникнет уверенность в том, что он никогда не станется один, что в трудную минуту рядом с ним будут друзья и обязательно помогут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Соблюдение чувства меры в строгости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756756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ажно в воспитании соблюдать чувство меры в строгости. Чрезмерная строгость вредит воспитанию. Грубо ошибаются те родители, которые считают, что строгость важна. Чрезмерная строгость возбуждает уважение к родителям холодное, трепетное, боязливое, невольно приучает к скрытости и лживости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ffcc"/>
                </a:solidFill>
                <a:latin typeface="Tahoma"/>
              </a:rPr>
              <a:t>Как избежать ошибок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Прежде всего надо понять мотивы поведения ребёнка, добрые намерения не рассматривать как злой умысе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Примеры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4000" y="1268280"/>
            <a:ext cx="79261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дходя к дому Николай Петрович увидел своего сына Олега, гневно размахивавшего перед лицом какого – то подростка. Не разобравшись, в чём дело, отец обрушился на сына: «Хулиган! Немедленно домой!» Олег пытался объяснять отцу, что он защищал малыша, у которого этот подросток порвал бумажного змея. Но Николай Петрович, не выслушав сына, приказал ему немедленно отправиться домой. Огорчённый Олег с тоской думал о несправедливости отца, который всегда говорил о необходимости защищать слабых, а в данной ситуации не захотел его понять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r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иколай Петрович не потрудился выяснить мотивы поведения сына и нанёс ему оскорбление. Кроме того у сына появилось сомнение в справедливости отц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cc"/>
                </a:solidFill>
                <a:latin typeface="Tahoma"/>
              </a:rPr>
              <a:t>К чему приводит нежелание родителей понять ребёнк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Нежелание изучить мотивы поведения детей, завышенные требования к ним часто приводят к серьёзным конфликтам между родителями и детьм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7T02:27:21Z</dcterms:created>
  <dc:creator>админ</dc:creator>
  <dc:description/>
  <dc:language>en-US</dc:language>
  <cp:lastModifiedBy>админ</cp:lastModifiedBy>
  <dcterms:modified xsi:type="dcterms:W3CDTF">2018-07-02T17:14:05Z</dcterms:modified>
  <cp:revision>6</cp:revision>
  <dc:subject/>
  <dc:title>В любви и строгости нужна мера</dc:title>
</cp:coreProperties>
</file>