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48B-E82D-4EAD-9054-A3F5BCDF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5F1-1AEA-402C-9568-09155DC8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0EF-9602-445F-9309-75633BB0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E92-B9DD-4987-8307-15EA677D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6B3-CB02-4F6D-AE21-6EA8D7A1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FA0-5C43-44DE-BA58-3AE1D02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A7A-D22A-427E-BDB3-D0227A1E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14F-D06F-4FE9-B57B-DC4EDD9D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8AA-CCC7-4342-BEBF-C51694BF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B70-881A-4D93-AE20-D11FA06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B12-10AF-45BC-8B75-83E6590F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14E-1DA9-43EE-B71A-0F103A47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B6BB-A7D9-473F-8199-FAEE60CE178B}" type="slidenum">
              <a:rPr b="0" lang="ru-RU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1692360" y="1413000"/>
            <a:ext cx="568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массаж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Основные приемы самомассаж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7640" y="1981080"/>
            <a:ext cx="6626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Tahoma"/>
              </a:rPr>
              <a:t>Поглаживание.</a:t>
            </a:r>
            <a:endParaRPr b="0" lang="en-US" sz="4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Tahoma"/>
              </a:rPr>
              <a:t>Растирание.</a:t>
            </a:r>
            <a:endParaRPr b="0" lang="en-US" sz="4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Tahoma"/>
              </a:rPr>
              <a:t>Вибрация и поколачивание.</a:t>
            </a:r>
            <a:endParaRPr b="0" lang="en-US" sz="4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867b"/>
                </a:solidFill>
                <a:latin typeface="Tahoma"/>
              </a:rPr>
              <a:t>Самомассаж </a:t>
            </a: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мышц</a:t>
            </a:r>
            <a:r>
              <a:rPr b="1" i="1" lang="ru-RU" sz="2400" spc="-1" strike="noStrike">
                <a:solidFill>
                  <a:srgbClr val="5a867b"/>
                </a:solidFill>
                <a:latin typeface="Tahoma"/>
              </a:rPr>
              <a:t> головы и шеи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41335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«Я хороший»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Расположите ладони обеих рук на голове, ближе ко лбу, соединив пальцы в центре. Проведите ладонями по волосам, опускаясь вниз через уши и боковые поверхности шеи к плечам. Движения рук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должны быть одновременными, медленными, поглаживающими. Повторить 4-6 раз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2" name="Picture 6" descr="Копия Копия 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619280" y="2276640"/>
            <a:ext cx="2673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Наденем шапочку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Исходное положение рук то же. Движения обеих ладоней вниз к ушам, а затем по переднебоковой части шеи к яремной ямке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66" name="Picture 8" descr="Копия Копия Копия 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979640" y="2205000"/>
            <a:ext cx="27162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Самомассаж мышц лиц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336600"/>
                </a:solidFill>
                <a:latin typeface="Tahoma"/>
              </a:rPr>
              <a:t>«Рисуем дорож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Движения пальцев от середины лба к вискам. Повторить 4-6 раз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0" name="Picture 6" descr="File0006"/>
          <p:cNvPicPr/>
          <p:nvPr/>
        </p:nvPicPr>
        <p:blipFill>
          <a:blip r:embed="rId1"/>
          <a:stretch/>
        </p:blipFill>
        <p:spPr>
          <a:xfrm>
            <a:off x="1619280" y="2276640"/>
            <a:ext cx="265428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Рисуем яблоч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6120" y="2565000"/>
            <a:ext cx="38480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Круговые движения пальцев от середины лба к вискам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4" name="Picture 6" descr="Копия File0006"/>
          <p:cNvPicPr/>
          <p:nvPr/>
        </p:nvPicPr>
        <p:blipFill>
          <a:blip r:embed="rId1"/>
          <a:stretch/>
        </p:blipFill>
        <p:spPr>
          <a:xfrm>
            <a:off x="1835280" y="2133720"/>
            <a:ext cx="2797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Рисуем елоч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Движение пальцев от середины лба к вискам по диагонали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78" name="Picture 7" descr="Копия Копия Копия Копия 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692360" y="2060640"/>
            <a:ext cx="29098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Копия Копия Копия File0006"/>
          <p:cNvPicPr/>
          <p:nvPr/>
        </p:nvPicPr>
        <p:blipFill>
          <a:blip r:embed="rId1"/>
          <a:stretch/>
        </p:blipFill>
        <p:spPr>
          <a:xfrm>
            <a:off x="1763640" y="1844640"/>
            <a:ext cx="2984400" cy="345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Копия Копия Копия Копия Копия File0006"/>
          <p:cNvPicPr/>
          <p:nvPr/>
        </p:nvPicPr>
        <p:blipFill>
          <a:blip r:embed="rId2"/>
          <a:stretch/>
        </p:blipFill>
        <p:spPr>
          <a:xfrm>
            <a:off x="1763640" y="1916280"/>
            <a:ext cx="292284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Копия Копия Копия Копия File0006"/>
          <p:cNvPicPr/>
          <p:nvPr/>
        </p:nvPicPr>
        <p:blipFill>
          <a:blip r:embed="rId3"/>
          <a:stretch/>
        </p:blipFill>
        <p:spPr>
          <a:xfrm>
            <a:off x="1619280" y="1844640"/>
            <a:ext cx="2984400" cy="3456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Пальцевой душ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6600"/>
                </a:solidFill>
                <a:latin typeface="Tahoma"/>
              </a:rPr>
              <a:t>Легкое постукивание или похлопывание кончиками пальцев по лбу, щекам, подбородку.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Рисуем бров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6000" y="198900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оводить по бровям от переносицы к вискам каждым пальцем поочередно: указательным, средним, безымянным и мизинцем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8" name="Picture 6" descr="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835280" y="2133720"/>
            <a:ext cx="2798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Нарисуем усы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Движения указательными и средними пальцами от середины верхней губы к углам рта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2" name="Picture 6" descr="Копия 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763640" y="2060640"/>
            <a:ext cx="29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Веселый клоун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Движение указательными и средними пальцами от середины нижней губы к углам рта, а затем к скуловой кости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6" name="Picture 6" descr="Копия Копия 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763640" y="1989000"/>
            <a:ext cx="30448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1356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336600"/>
                </a:solidFill>
                <a:latin typeface="Tahoma"/>
              </a:rPr>
              <a:t>Массаж – один из методов физического и энергетического воздействия на тело человека – может успокоить, снять боль, помочь победить болезнь и даже способствует умственному, речевому и физическому развитию детей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Массаж как лечебное средство известен уже в глубокой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древности. Понятие «массаж» происходит от латинского слова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«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massa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» - прилипающее к пальцам; греческого «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masso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» - сжимать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руками; арабского «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mass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» или «</a:t>
            </a:r>
            <a:r>
              <a:rPr b="0" lang="en-US" sz="2000" spc="-1" strike="noStrike">
                <a:solidFill>
                  <a:srgbClr val="336600"/>
                </a:solidFill>
                <a:latin typeface="Tahoma"/>
              </a:rPr>
              <a:t>masch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» - нежно надавливать.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Все эти термины в некоторой степени отражают сущность массажа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Массаж зародился на ранних этапах развития народной медицины.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В древности люди при различных недугах и болях применяли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разминание, поколачивание тела.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Погладим подбородок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336600"/>
                </a:solidFill>
                <a:latin typeface="Tahoma"/>
              </a:rPr>
              <a:t>Тыльной поверхностью пальцев поглаживать от середины подбородка к ушам.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0" name="Picture 6" descr="Копия Копия Копия 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403280" y="1700280"/>
            <a:ext cx="3046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Копия Копия Копия Копия Копия Копия Копия Копия Копия Копия Копия Копия File0006"/>
          <p:cNvPicPr/>
          <p:nvPr/>
        </p:nvPicPr>
        <p:blipFill>
          <a:blip r:embed="rId1"/>
          <a:stretch/>
        </p:blipFill>
        <p:spPr>
          <a:xfrm>
            <a:off x="1908000" y="1844640"/>
            <a:ext cx="2916360" cy="352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Копия Копия Копия Копия Копия Копия Копия Копия Копия Копия Копия Копия File0006 (1)"/>
          <p:cNvPicPr/>
          <p:nvPr/>
        </p:nvPicPr>
        <p:blipFill>
          <a:blip r:embed="rId2"/>
          <a:stretch/>
        </p:blipFill>
        <p:spPr>
          <a:xfrm>
            <a:off x="1692360" y="1773360"/>
            <a:ext cx="3046320" cy="352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Копия Копия Копия Копия Копия Копия Копия Копия Копия Копия Копия Копия File0006 (2)"/>
          <p:cNvPicPr/>
          <p:nvPr/>
        </p:nvPicPr>
        <p:blipFill>
          <a:blip r:embed="rId3"/>
          <a:stretch/>
        </p:blipFill>
        <p:spPr>
          <a:xfrm>
            <a:off x="1692360" y="1700280"/>
            <a:ext cx="3170160" cy="3672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Нарисуем три дорож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Движение пальцев от середины нижней губы к ушам, от середины верхней губы к ушам, от середины носа к ушам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Нарисуем кружочки / Погреем щечки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Круговые движение кончиками пальцев по щекам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Растирающие круговые движения ладонями по щекам в разных направлениях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0" name="Picture 6" descr="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763640" y="2133720"/>
            <a:ext cx="28591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«Умыли личико»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12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Ладонями обеих рук производить легкие поглаживающие движения от середины лба вниз по щекам к подбородку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4" name="Picture 6" descr="Копия Копия Копия Копия Копия Копия Копия Копия Копия Копия Копия Копия Копия Копия File0006 (2)"/>
          <p:cNvPicPr/>
          <p:nvPr/>
        </p:nvPicPr>
        <p:blipFill>
          <a:blip r:embed="rId1"/>
          <a:stretch/>
        </p:blipFill>
        <p:spPr>
          <a:xfrm>
            <a:off x="1692360" y="2060640"/>
            <a:ext cx="2984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867b"/>
                </a:solidFill>
                <a:latin typeface="Tahoma"/>
              </a:rPr>
              <a:t>Самомассаж мышц языка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гладить язык губами»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Просунуть язык как можно больше сквозь узкую щель между губами, расслабить его. Постепенно убирать язык в полость рта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шлепать язык губами».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 Положить язык на нижнюю губу и похлопать его губами, произносить : «Пя-пя-пя». Рекомендуется поэтапное выполнение: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шлепать губами кончик языка;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00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ahoma"/>
              </a:rPr>
              <a:t>пошлепать губами середину языка; </a:t>
            </a:r>
            <a:endParaRPr b="0" lang="en-US" sz="16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00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00"/>
                </a:solidFill>
                <a:latin typeface="Tahoma"/>
              </a:rPr>
              <a:t>пошлепать губами язык, продвигая его медленно вперед-назад.</a:t>
            </a:r>
            <a:endParaRPr b="0" lang="en-US" sz="16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глаживание языка зубами».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Просунуть язык как можно больше через зубы, расслабить язык. Постепенно убирать язык в полость рта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кусаем язык».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Улыбнуться, приоткрыть рот и покусывать язык зубами, произнося: «Та-та-та». Варианты: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кусывать кончик языка;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кусывать середину языка;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1" marL="914400" indent="-457200">
              <a:spcBef>
                <a:spcPts val="451"/>
              </a:spcBef>
              <a:buClr>
                <a:srgbClr val="3366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кусывать язык, продвигая его постепенно вперед-назад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Рисуем дорожки на языке».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Прижать язык к верхним зубам и с силой высовывать его наружу, рисуя  на языке дорожки верхними зубами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Рисуем зигзаги на языке»,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начиная с кончика языка до середины и обратно. Движения языка от одного угла рта к другому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Повторить </a:t>
            </a: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кусаем кончик языка»</a:t>
            </a:r>
            <a:r>
              <a:rPr b="0" lang="ru-RU" sz="1800" spc="-1" strike="noStrike">
                <a:solidFill>
                  <a:srgbClr val="336600"/>
                </a:solidFill>
                <a:latin typeface="Tahoma"/>
              </a:rPr>
              <a:t> и  </a:t>
            </a: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«Пошлепаем язык губами»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Самомассаж ушных раковин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8487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Погреем ушки». 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Приложить ладони к ушным раковинам и растереть их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Потянули за ушки».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 Взяться пальцами за ушные мочки и потянуть их вниз 3-5 раз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«Послушаем тишину».</a:t>
            </a:r>
            <a:r>
              <a:rPr b="0" lang="ru-RU" sz="2800" spc="-1" strike="noStrike">
                <a:solidFill>
                  <a:srgbClr val="336600"/>
                </a:solidFill>
                <a:latin typeface="Tahoma"/>
              </a:rPr>
              <a:t> Накрыть ушные раковины ладонями. Подержать их в таком положении 2-3 с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2160" y="5373720"/>
            <a:ext cx="7772400" cy="3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867b"/>
                </a:solidFill>
                <a:latin typeface="Tahoma"/>
              </a:rPr>
              <a:t>СПАСИБО ЗА ВНИМАНИЕ!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364464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1.Блыскина И.В. Комплексный подход к коррекции речевой патологии у детей. Логопедический массаж: Методическое пособие для педагогов дошкольных образовательных учреждений. – СПб.: ДЕТСТВО – ПРЕСС, 2010. – 112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2.Дьякова Е.А. Логопедический массаж: Учеб. пособие для студ. высш. учеб. заведений. – М.: Издательский центр «Академия», 20003. – 96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3.Крупенчук О.И., Воровьева Т.А. Исправляем произношение: Комплексная методика коррекции артикуляционных расстройств. </a:t>
            </a:r>
            <a:r>
              <a:rPr b="0" lang="ru-RU" sz="2800" spc="-1" strike="noStrike">
                <a:solidFill>
                  <a:srgbClr val="5a867b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СПб.: Издательский дом «Литера», 2007. – 96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4.Кольцова М.М., Рузина М.С. Ребенок учится говорить. Пальчиковый игротренинг. – Екатеринбург: У-Фактория, 2004 – 224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5.Архипова Е.Ф. Логопедический массаж при дизартрии. – М.: АСТ: Астрель; Владимир: ВТК, 2009. – 123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867b"/>
                </a:solidFill>
                <a:latin typeface="Tahoma"/>
              </a:rPr>
              <a:t>6.Рогунова О.А. Самомассаж. Методические рекомендации. – Томск: ОГУ «РЦРО», 2004. – 26с.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Tahoma"/>
              </a:rPr>
              <a:t>Логопедический массаж – это метод активного механического воздействия, который изменяет состояние мышц, нервов, кровеносных сосудов и тканей периферического речевого аппарата</a:t>
            </a:r>
            <a:r>
              <a:rPr b="0" i="1" lang="ru-RU" sz="2400" spc="-1" strike="noStrike">
                <a:solidFill>
                  <a:srgbClr val="3366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Цель логопедов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 – максимально развить методику массажа, направленную на коррекцию речевых нарушений, заключающуюся в общеукрепляющем воздействии на нервные и речевые функциональные системы организма</a:t>
            </a:r>
            <a:r>
              <a:rPr b="0" lang="ru-RU" sz="2400" spc="-1" strike="noStrike">
                <a:solidFill>
                  <a:srgbClr val="5a867b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5280" y="765000"/>
            <a:ext cx="7993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Tahoma"/>
              </a:rPr>
              <a:t>Цели логопедического массажа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Нормализация мышечного тонуса общей, мимической и артикуляционной мускулатуры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Уменьшение проявлений парезов и параличей мышц артикуляционного аппарата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нижение патологических двигательных проявлений мышц речевого аппарата (синкинезии, гиперкинезы, судороги и т.п.)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тимуляция проприоцептивных (ощущение положения в пространстве) ощущений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Увеличение объема и амплитуды артикуляционных движений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Активизация тех групп мышц периферического речевого аппарата, у которых имелась недостаточная сократительная активность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Формирование произвольных, координированных движений органов артикуляции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867b"/>
                </a:solidFill>
                <a:latin typeface="Tahoma"/>
              </a:rPr>
              <a:t>Виды массажа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6481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Дифференцированный укрепляющий либо расслабляющий массаж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Массаж биологически активных  точек (БАТ)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Массаж с применение специальных приспособлений (логопедических зондов, шпателя, вибромассажера и т.п.)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амомассаж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Противопоказания для проведения массаж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5628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оматические или инфекционные заболевания в остром периоде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Коньюктивиты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Острые и хронические заболевания кожных покровов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Гингивиты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томатиты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Наличие герпеса на губах или другие инфекции полости рта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Наличие увеличенных лимфатических узлов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Резко выраженная пульсация сонных артерий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777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336600"/>
                </a:solidFill>
                <a:latin typeface="Tahoma"/>
              </a:rPr>
              <a:t>Самомассаж  - это массаж, выполняемый самим ребенком (подростком, взрослым), страдающим речевой патологией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222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867b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Цель</a:t>
            </a: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 логопедического самомассажа – стимуляция кинестетических ощущений мышц, участвующих в работе периферического речевого аппарата, а также в нормализации мышечного тонуса данных мышц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a867b"/>
                </a:solidFill>
                <a:latin typeface="Tahoma"/>
              </a:rPr>
              <a:t>Положительные стороны самомассаж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амомассаж можно проводить не только индивидуально, но и фронтально с группой детей одновременно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амомассаж можно использовать многократно в течение дня, включая его в различные режимные </a:t>
            </a: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моменты в условиях ДОУ (после утренней гимнастики, дневного сна)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Самомассаж может быть включен в логопедическое занятие, при этом приемы самомассажа могут предварять, либо завершать артикуляционную гимнастику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a867b"/>
                </a:solidFill>
                <a:latin typeface="Tahoma"/>
              </a:rPr>
              <a:t>Условия проведения самомассажа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Длительность одного сеанса для детей дошкольного возраста составляет 5-10 минут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Каждое движение выполняется 4-6 раз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В один сеанс самомассажа может быть включено лишь несколько из предлагаемых приемов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Приемы самомассажа могут варьировать в течение дня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Перед проведением самомассажа ребенок должен быть тщательно умыт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Tahoma"/>
              </a:rPr>
              <a:t>Перед проведением самомассажа руки необходимо согреть (растереть друг о друга)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3:37:10Z</dcterms:created>
  <dc:creator>Ирина</dc:creator>
  <dc:description/>
  <cp:keywords/>
  <dc:language>en-US</dc:language>
  <cp:lastModifiedBy>Admin</cp:lastModifiedBy>
  <dcterms:modified xsi:type="dcterms:W3CDTF">2018-07-04T17:24:55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