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212-A901-4C7B-AB0A-996F60A1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4189-8CBF-432C-9781-9BD22780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7DA4-F1B6-48BC-96AD-1F2DEBC7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018D-DBE0-4B13-83D4-4A85B09C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B862-3228-43B8-84E8-372565F6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42DA-A0AA-4675-AC0B-CB0C926C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D34-0313-4E7F-9CF8-FD7E5FCC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E975-8D95-409D-A784-383EB42F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E038-C232-47C7-8901-B2C30A3C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7D42-9740-4041-9217-6189D186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005B-2E1B-43CD-A696-E4E9A1B9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FED6-1D98-44B8-871B-32023EEE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86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8353-3545-4A57-8FE4-280CEBC062F3}" type="slidenum">
              <a:rPr b="0" lang="ru-RU" sz="1200" spc="-1" strike="noStrike">
                <a:solidFill>
                  <a:srgbClr val="5a86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1692360" y="1413000"/>
            <a:ext cx="5688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омассаж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4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Основные приемы самомассажа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7640" y="1981080"/>
            <a:ext cx="66265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Tahoma"/>
              </a:rPr>
              <a:t>Поглаживание.</a:t>
            </a:r>
            <a:endParaRPr b="0" lang="en-US" sz="44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Tahoma"/>
              </a:rPr>
              <a:t>Растирание.</a:t>
            </a:r>
            <a:endParaRPr b="0" lang="en-US" sz="44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Tahoma"/>
              </a:rPr>
              <a:t>Вибрация и поколачивание.</a:t>
            </a:r>
            <a:endParaRPr b="0" lang="en-US" sz="44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a867b"/>
                </a:solidFill>
                <a:latin typeface="Tahoma"/>
              </a:rPr>
              <a:t>Самомассаж </a:t>
            </a: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мышц</a:t>
            </a:r>
            <a:r>
              <a:rPr b="1" i="1" lang="ru-RU" sz="2400" spc="-1" strike="noStrike">
                <a:solidFill>
                  <a:srgbClr val="5a867b"/>
                </a:solidFill>
                <a:latin typeface="Tahoma"/>
              </a:rPr>
              <a:t> головы и шеи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6480" y="1981080"/>
            <a:ext cx="41335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Tahoma"/>
              </a:rPr>
              <a:t>«Я хороший»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a867b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336600"/>
                </a:solidFill>
                <a:latin typeface="Tahoma"/>
              </a:rPr>
              <a:t>Расположите ладони обеих рук на голове, ближе ко лбу, соединив пальцы в центре. Проведите ладонями по волосам, опускаясь вниз через уши и боковые поверхности шеи к плечам. Движения рук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66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336600"/>
                </a:solidFill>
                <a:latin typeface="Tahoma"/>
              </a:rPr>
              <a:t>должны быть одновременными, медленными, поглаживающими. Повторить 4-6 раз.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62" name="Picture 6" descr="Копия Копия Копия Копия Копия Копия Копия Копия Копия Копия Копия Копия Копия Копия Копия File0006 (2)"/>
          <p:cNvPicPr/>
          <p:nvPr/>
        </p:nvPicPr>
        <p:blipFill>
          <a:blip r:embed="rId1"/>
          <a:stretch/>
        </p:blipFill>
        <p:spPr>
          <a:xfrm>
            <a:off x="1619280" y="2276640"/>
            <a:ext cx="2673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«Наденем шапочку»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867b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Исходное положение рук то же. Движения обеих ладоней вниз к ушам, а затем по переднебоковой части шеи к яремной ямке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66" name="Picture 8" descr="Копия Копия Копия Копия Копия Копия Копия Копия Копия Копия Копия Копия Копия Копия Копия Копия File0006 (2)"/>
          <p:cNvPicPr/>
          <p:nvPr/>
        </p:nvPicPr>
        <p:blipFill>
          <a:blip r:embed="rId1"/>
          <a:stretch/>
        </p:blipFill>
        <p:spPr>
          <a:xfrm>
            <a:off x="1979640" y="2205000"/>
            <a:ext cx="271620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Самомассаж мышц лица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6600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336600"/>
                </a:solidFill>
                <a:latin typeface="Tahoma"/>
              </a:rPr>
              <a:t>«Рисуем дорожки»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336600"/>
                </a:solidFill>
                <a:latin typeface="Tahoma"/>
              </a:rPr>
              <a:t>Движения пальцев от середины лба к вискам. Повторить 4-6 раз.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70" name="Picture 6" descr="File0006"/>
          <p:cNvPicPr/>
          <p:nvPr/>
        </p:nvPicPr>
        <p:blipFill>
          <a:blip r:embed="rId1"/>
          <a:stretch/>
        </p:blipFill>
        <p:spPr>
          <a:xfrm>
            <a:off x="1619280" y="2276640"/>
            <a:ext cx="265428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«Рисуем яблочки»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6120" y="2565000"/>
            <a:ext cx="384804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867b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Круговые движения пальцев от середины лба к вискам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74" name="Picture 6" descr="Копия File0006"/>
          <p:cNvPicPr/>
          <p:nvPr/>
        </p:nvPicPr>
        <p:blipFill>
          <a:blip r:embed="rId1"/>
          <a:stretch/>
        </p:blipFill>
        <p:spPr>
          <a:xfrm>
            <a:off x="1835280" y="2133720"/>
            <a:ext cx="2797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«Рисуем елочки»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867b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867b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Движение пальцев от середины лба к вискам по диагонали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78" name="Picture 7" descr="Копия Копия Копия Копия Копия Копия Копия Копия Копия Копия Копия Копия Копия Копия Копия Копия Копия File0006 (2)"/>
          <p:cNvPicPr/>
          <p:nvPr/>
        </p:nvPicPr>
        <p:blipFill>
          <a:blip r:embed="rId1"/>
          <a:stretch/>
        </p:blipFill>
        <p:spPr>
          <a:xfrm>
            <a:off x="1692360" y="2060640"/>
            <a:ext cx="29098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Копия Копия Копия File0006"/>
          <p:cNvPicPr/>
          <p:nvPr/>
        </p:nvPicPr>
        <p:blipFill>
          <a:blip r:embed="rId1"/>
          <a:stretch/>
        </p:blipFill>
        <p:spPr>
          <a:xfrm>
            <a:off x="1763640" y="1844640"/>
            <a:ext cx="2984400" cy="3456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Копия Копия Копия Копия Копия File0006"/>
          <p:cNvPicPr/>
          <p:nvPr/>
        </p:nvPicPr>
        <p:blipFill>
          <a:blip r:embed="rId2"/>
          <a:stretch/>
        </p:blipFill>
        <p:spPr>
          <a:xfrm>
            <a:off x="1763640" y="1916280"/>
            <a:ext cx="2922840" cy="338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Копия Копия Копия Копия File0006"/>
          <p:cNvPicPr/>
          <p:nvPr/>
        </p:nvPicPr>
        <p:blipFill>
          <a:blip r:embed="rId3"/>
          <a:stretch/>
        </p:blipFill>
        <p:spPr>
          <a:xfrm>
            <a:off x="1619280" y="1844640"/>
            <a:ext cx="2984400" cy="3456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«Пальцевой душ»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a867b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a867b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a867b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6600"/>
                </a:solidFill>
                <a:latin typeface="Tahoma"/>
              </a:rPr>
              <a:t>Легкое постукивание или похлопывание кончиками пальцев по лбу, щекам, подбородку.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«Рисуем брови»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6000" y="198900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роводить по бровям от переносицы к вискам каждым пальцем поочередно: указательным, средним, безымянным и мизинцем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88" name="Picture 6" descr="Копия Копия Копия Копия Копия Копия File0006"/>
          <p:cNvPicPr/>
          <p:nvPr/>
        </p:nvPicPr>
        <p:blipFill>
          <a:blip r:embed="rId1"/>
          <a:stretch/>
        </p:blipFill>
        <p:spPr>
          <a:xfrm>
            <a:off x="1835280" y="2133720"/>
            <a:ext cx="2798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«Нарисуем усы»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867b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867b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Движения указательными и средними пальцами от середины верхней губы к углам рта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92" name="Picture 6" descr="Копия Копия Копия Копия Копия Копия Копия File0006"/>
          <p:cNvPicPr/>
          <p:nvPr/>
        </p:nvPicPr>
        <p:blipFill>
          <a:blip r:embed="rId1"/>
          <a:stretch/>
        </p:blipFill>
        <p:spPr>
          <a:xfrm>
            <a:off x="1763640" y="2060640"/>
            <a:ext cx="29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«Веселый клоун»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867b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867b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Движение указательными и средними пальцами от середины нижней губы к углам рта, а затем к скуловой кости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96" name="Picture 6" descr="Копия Копия Копия Копия Копия Копия Копия Копия File0006"/>
          <p:cNvPicPr/>
          <p:nvPr/>
        </p:nvPicPr>
        <p:blipFill>
          <a:blip r:embed="rId1"/>
          <a:stretch/>
        </p:blipFill>
        <p:spPr>
          <a:xfrm>
            <a:off x="1763640" y="1989000"/>
            <a:ext cx="30448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4000" y="692280"/>
            <a:ext cx="81356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867b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336600"/>
                </a:solidFill>
                <a:latin typeface="Tahoma"/>
              </a:rPr>
              <a:t>Массаж – один из методов физического и энергетического воздействия на тело человека – может успокоить, снять боль, помочь победить болезнь и даже способствует умственному, речевому и физическому развитию детей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Массаж как лечебное средство известен уже в глубокой 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древности. Понятие «массаж» происходит от латинского слова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«</a:t>
            </a:r>
            <a:r>
              <a:rPr b="0" lang="en-US" sz="2000" spc="-1" strike="noStrike">
                <a:solidFill>
                  <a:srgbClr val="336600"/>
                </a:solidFill>
                <a:latin typeface="Tahoma"/>
              </a:rPr>
              <a:t>massa</a:t>
            </a: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» - прилипающее к пальцам; греческого «</a:t>
            </a:r>
            <a:r>
              <a:rPr b="0" lang="en-US" sz="2000" spc="-1" strike="noStrike">
                <a:solidFill>
                  <a:srgbClr val="336600"/>
                </a:solidFill>
                <a:latin typeface="Tahoma"/>
              </a:rPr>
              <a:t>masso</a:t>
            </a: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» - сжимать 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руками; арабского «</a:t>
            </a:r>
            <a:r>
              <a:rPr b="0" lang="en-US" sz="2000" spc="-1" strike="noStrike">
                <a:solidFill>
                  <a:srgbClr val="336600"/>
                </a:solidFill>
                <a:latin typeface="Tahoma"/>
              </a:rPr>
              <a:t>mass</a:t>
            </a: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» или «</a:t>
            </a:r>
            <a:r>
              <a:rPr b="0" lang="en-US" sz="2000" spc="-1" strike="noStrike">
                <a:solidFill>
                  <a:srgbClr val="336600"/>
                </a:solidFill>
                <a:latin typeface="Tahoma"/>
              </a:rPr>
              <a:t>masch</a:t>
            </a: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» - нежно надавливать. 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Все эти термины в некоторой степени отражают сущность массажа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Массаж зародился на ранних этапах развития народной медицины. 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В древности люди при различных недугах и болях применяли 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разминание, поколачивание тела. 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«Погладим подбородок»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867b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867b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336600"/>
                </a:solidFill>
                <a:latin typeface="Tahoma"/>
              </a:rPr>
              <a:t>Тыльной поверхностью пальцев поглаживать от середины подбородка к ушам.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00" name="Picture 6" descr="Копия Копия Копия Копия Копия Копия Копия Копия Копия File0006"/>
          <p:cNvPicPr/>
          <p:nvPr/>
        </p:nvPicPr>
        <p:blipFill>
          <a:blip r:embed="rId1"/>
          <a:stretch/>
        </p:blipFill>
        <p:spPr>
          <a:xfrm>
            <a:off x="1403280" y="1700280"/>
            <a:ext cx="30463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Копия Копия Копия Копия Копия Копия Копия Копия Копия Копия Копия Копия File0006"/>
          <p:cNvPicPr/>
          <p:nvPr/>
        </p:nvPicPr>
        <p:blipFill>
          <a:blip r:embed="rId1"/>
          <a:stretch/>
        </p:blipFill>
        <p:spPr>
          <a:xfrm>
            <a:off x="1908000" y="1844640"/>
            <a:ext cx="2916360" cy="3529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Копия Копия Копия Копия Копия Копия Копия Копия Копия Копия Копия Копия File0006 (1)"/>
          <p:cNvPicPr/>
          <p:nvPr/>
        </p:nvPicPr>
        <p:blipFill>
          <a:blip r:embed="rId2"/>
          <a:stretch/>
        </p:blipFill>
        <p:spPr>
          <a:xfrm>
            <a:off x="1692360" y="1773360"/>
            <a:ext cx="3046320" cy="3527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Копия Копия Копия Копия Копия Копия Копия Копия Копия Копия Копия Копия File0006 (2)"/>
          <p:cNvPicPr/>
          <p:nvPr/>
        </p:nvPicPr>
        <p:blipFill>
          <a:blip r:embed="rId3"/>
          <a:stretch/>
        </p:blipFill>
        <p:spPr>
          <a:xfrm>
            <a:off x="1692360" y="1700280"/>
            <a:ext cx="3170160" cy="3672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«Нарисуем три дорожки»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a867b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a867b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336600"/>
                </a:solidFill>
                <a:latin typeface="Tahoma"/>
              </a:rPr>
              <a:t>Движение пальцев от середины нижней губы к ушам, от середины верхней губы к ушам, от середины носа к ушам.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«Нарисуем кружочки / Погреем щечки»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Круговые движение кончиками пальцев по щекам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Растирающие круговые движения ладонями по щекам в разных направлениях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10" name="Picture 6" descr="Копия Копия Копия Копия Копия Копия Копия Копия Копия Копия Копия Копия Копия File0006 (2)"/>
          <p:cNvPicPr/>
          <p:nvPr/>
        </p:nvPicPr>
        <p:blipFill>
          <a:blip r:embed="rId1"/>
          <a:stretch/>
        </p:blipFill>
        <p:spPr>
          <a:xfrm>
            <a:off x="1763640" y="2133720"/>
            <a:ext cx="285912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«Умыли личико»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867b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867b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Ладонями обеих рук производить легкие поглаживающие движения от середины лба вниз по щекам к подбородку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14" name="Picture 6" descr="Копия Копия Копия Копия Копия Копия Копия Копия Копия Копия Копия Копия Копия Копия File0006 (2)"/>
          <p:cNvPicPr/>
          <p:nvPr/>
        </p:nvPicPr>
        <p:blipFill>
          <a:blip r:embed="rId1"/>
          <a:stretch/>
        </p:blipFill>
        <p:spPr>
          <a:xfrm>
            <a:off x="1692360" y="2060640"/>
            <a:ext cx="2984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a867b"/>
                </a:solidFill>
                <a:latin typeface="Tahoma"/>
              </a:rPr>
              <a:t>Самомассаж мышц языка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ahoma"/>
              </a:rPr>
              <a:t>«Погладить язык губами»</a:t>
            </a:r>
            <a:r>
              <a:rPr b="0" lang="ru-RU" sz="1800" spc="-1" strike="noStrike">
                <a:solidFill>
                  <a:srgbClr val="336600"/>
                </a:solidFill>
                <a:latin typeface="Tahoma"/>
              </a:rPr>
              <a:t> Просунуть язык как можно больше сквозь узкую щель между губами, расслабить его. Постепенно убирать язык в полость рта.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ahoma"/>
              </a:rPr>
              <a:t>«Пошлепать язык губами».</a:t>
            </a:r>
            <a:r>
              <a:rPr b="0" lang="ru-RU" sz="1800" spc="-1" strike="noStrike">
                <a:solidFill>
                  <a:srgbClr val="336600"/>
                </a:solidFill>
                <a:latin typeface="Tahoma"/>
              </a:rPr>
              <a:t>  Положить язык на нижнюю губу и похлопать его губами, произносить : «Пя-пя-пя». Рекомендуется поэтапное выполнение: 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lvl="1" marL="914400" indent="-457200">
              <a:spcBef>
                <a:spcPts val="451"/>
              </a:spcBef>
              <a:buClr>
                <a:srgbClr val="3366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Tahoma"/>
              </a:rPr>
              <a:t>пошлепать губами кончик языка; 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lvl="1" marL="914400" indent="-457200">
              <a:spcBef>
                <a:spcPts val="400"/>
              </a:spcBef>
              <a:buClr>
                <a:srgbClr val="3366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Tahoma"/>
              </a:rPr>
              <a:t>пошлепать губами середину языка; </a:t>
            </a:r>
            <a:endParaRPr b="0" lang="en-US" sz="1600" spc="-1" strike="noStrike">
              <a:solidFill>
                <a:srgbClr val="5a867b"/>
              </a:solidFill>
              <a:latin typeface="Tahoma"/>
            </a:endParaRPr>
          </a:p>
          <a:p>
            <a:pPr lvl="1" marL="914400" indent="-457200">
              <a:spcBef>
                <a:spcPts val="400"/>
              </a:spcBef>
              <a:buClr>
                <a:srgbClr val="3366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Tahoma"/>
              </a:rPr>
              <a:t>пошлепать губами язык, продвигая его медленно вперед-назад.</a:t>
            </a:r>
            <a:endParaRPr b="0" lang="en-US" sz="16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ahoma"/>
              </a:rPr>
              <a:t>«Поглаживание языка зубами».</a:t>
            </a:r>
            <a:r>
              <a:rPr b="0" lang="ru-RU" sz="1800" spc="-1" strike="noStrike">
                <a:solidFill>
                  <a:srgbClr val="336600"/>
                </a:solidFill>
                <a:latin typeface="Tahoma"/>
              </a:rPr>
              <a:t> Просунуть язык как можно больше через зубы, расслабить язык. Постепенно убирать язык в полость рта.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29528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ahoma"/>
              </a:rPr>
              <a:t>«Покусаем язык».</a:t>
            </a:r>
            <a:r>
              <a:rPr b="0" lang="ru-RU" sz="1800" spc="-1" strike="noStrike">
                <a:solidFill>
                  <a:srgbClr val="336600"/>
                </a:solidFill>
                <a:latin typeface="Tahoma"/>
              </a:rPr>
              <a:t> Улыбнуться, приоткрыть рот и покусывать язык зубами, произнося: «Та-та-та». Варианты: 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lvl="1" marL="914400" indent="-457200">
              <a:spcBef>
                <a:spcPts val="451"/>
              </a:spcBef>
              <a:buClr>
                <a:srgbClr val="3366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Tahoma"/>
              </a:rPr>
              <a:t>покусывать кончик языка; 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lvl="1" marL="914400" indent="-457200">
              <a:spcBef>
                <a:spcPts val="451"/>
              </a:spcBef>
              <a:buClr>
                <a:srgbClr val="3366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Tahoma"/>
              </a:rPr>
              <a:t>покусывать середину языка; 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lvl="1" marL="914400" indent="-457200">
              <a:spcBef>
                <a:spcPts val="451"/>
              </a:spcBef>
              <a:buClr>
                <a:srgbClr val="3366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Tahoma"/>
              </a:rPr>
              <a:t>покусывать язык, продвигая его постепенно вперед-назад.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ahoma"/>
              </a:rPr>
              <a:t>«Рисуем дорожки на языке».</a:t>
            </a:r>
            <a:r>
              <a:rPr b="0" lang="ru-RU" sz="1800" spc="-1" strike="noStrike">
                <a:solidFill>
                  <a:srgbClr val="336600"/>
                </a:solidFill>
                <a:latin typeface="Tahoma"/>
              </a:rPr>
              <a:t> Прижать язык к верхним зубам и с силой высовывать его наружу, рисуя  на языке дорожки верхними зубами.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ahoma"/>
              </a:rPr>
              <a:t>«Рисуем зигзаги на языке»,</a:t>
            </a:r>
            <a:r>
              <a:rPr b="0" lang="ru-RU" sz="1800" spc="-1" strike="noStrike">
                <a:solidFill>
                  <a:srgbClr val="336600"/>
                </a:solidFill>
                <a:latin typeface="Tahoma"/>
              </a:rPr>
              <a:t> начиная с кончика языка до середины и обратно. Движения языка от одного угла рта к другому.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Tahoma"/>
              </a:rPr>
              <a:t>Повторить </a:t>
            </a:r>
            <a:r>
              <a:rPr b="1" lang="ru-RU" sz="1800" spc="-1" strike="noStrike">
                <a:solidFill>
                  <a:srgbClr val="336600"/>
                </a:solidFill>
                <a:latin typeface="Tahoma"/>
              </a:rPr>
              <a:t>«Покусаем кончик языка»</a:t>
            </a:r>
            <a:r>
              <a:rPr b="0" lang="ru-RU" sz="1800" spc="-1" strike="noStrike">
                <a:solidFill>
                  <a:srgbClr val="336600"/>
                </a:solidFill>
                <a:latin typeface="Tahoma"/>
              </a:rPr>
              <a:t> и  </a:t>
            </a:r>
            <a:r>
              <a:rPr b="1" lang="ru-RU" sz="1800" spc="-1" strike="noStrike">
                <a:solidFill>
                  <a:srgbClr val="336600"/>
                </a:solidFill>
                <a:latin typeface="Tahoma"/>
              </a:rPr>
              <a:t>«Пошлепаем язык губами».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Самомассаж ушных раковин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84872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ahoma"/>
              </a:rPr>
              <a:t>«Погреем ушки». </a:t>
            </a:r>
            <a:r>
              <a:rPr b="0" lang="ru-RU" sz="2800" spc="-1" strike="noStrike">
                <a:solidFill>
                  <a:srgbClr val="336600"/>
                </a:solidFill>
                <a:latin typeface="Tahoma"/>
              </a:rPr>
              <a:t>Приложить ладони к ушным раковинам и растереть их.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ahoma"/>
              </a:rPr>
              <a:t>«Потянули за ушки».</a:t>
            </a:r>
            <a:r>
              <a:rPr b="0" lang="ru-RU" sz="2800" spc="-1" strike="noStrike">
                <a:solidFill>
                  <a:srgbClr val="336600"/>
                </a:solidFill>
                <a:latin typeface="Tahoma"/>
              </a:rPr>
              <a:t> Взяться пальцами за ушные мочки и потянуть их вниз 3-5 раз.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ahoma"/>
              </a:rPr>
              <a:t>«Послушаем тишину».</a:t>
            </a:r>
            <a:r>
              <a:rPr b="0" lang="ru-RU" sz="2800" spc="-1" strike="noStrike">
                <a:solidFill>
                  <a:srgbClr val="336600"/>
                </a:solidFill>
                <a:latin typeface="Tahoma"/>
              </a:rPr>
              <a:t> Накрыть ушные раковины ладонями. Подержать их в таком положении 2-3 с.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22160" y="5373720"/>
            <a:ext cx="7772400" cy="3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a867b"/>
                </a:solidFill>
                <a:latin typeface="Tahoma"/>
              </a:rPr>
              <a:t>СПАСИБО ЗА ВНИМАНИЕ!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364464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Литература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867b"/>
                </a:solidFill>
                <a:latin typeface="Tahoma"/>
              </a:rPr>
              <a:t>1.Блыскина И.В. Комплексный подход к коррекции речевой патологии у детей. Логопедический массаж: Методическое пособие для педагогов дошкольных образовательных учреждений. – СПб.: ДЕТСТВО – ПРЕСС, 2010. – 112с.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867b"/>
                </a:solidFill>
                <a:latin typeface="Tahoma"/>
              </a:rPr>
              <a:t>2.Дьякова Е.А. Логопедический массаж: Учеб. пособие для студ. высш. учеб. заведений. – М.: Издательский центр «Академия», 20003. – 96с.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867b"/>
                </a:solidFill>
                <a:latin typeface="Tahoma"/>
              </a:rPr>
              <a:t>3.Крупенчук О.И., Воровьева Т.А. Исправляем произношение: Комплексная методика коррекции артикуляционных расстройств. </a:t>
            </a:r>
            <a:r>
              <a:rPr b="0" lang="ru-RU" sz="2800" spc="-1" strike="noStrike">
                <a:solidFill>
                  <a:srgbClr val="5a867b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5a867b"/>
                </a:solidFill>
                <a:latin typeface="Tahoma"/>
              </a:rPr>
              <a:t>СПб.: Издательский дом «Литера», 2007. – 96с.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867b"/>
                </a:solidFill>
                <a:latin typeface="Tahoma"/>
              </a:rPr>
              <a:t>4.Кольцова М.М., Рузина М.С. Ребенок учится говорить. Пальчиковый игротренинг. – Екатеринбург: У-Фактория, 2004 – 224с.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867b"/>
                </a:solidFill>
                <a:latin typeface="Tahoma"/>
              </a:rPr>
              <a:t>5.Архипова Е.Ф. Логопедический массаж при дизартрии. – М.: АСТ: Астрель; Владимир: ВТК, 2009. – 123с.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867b"/>
                </a:solidFill>
                <a:latin typeface="Tahoma"/>
              </a:rPr>
              <a:t>6.Рогунова О.А. Самомассаж. Методические рекомендации. – Томск: ОГУ «РЦРО», 2004. – 26с.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77043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00"/>
                </a:solidFill>
                <a:latin typeface="Tahoma"/>
              </a:rPr>
              <a:t>Логопедический массаж – это метод активного механического воздействия, который изменяет состояние мышц, нервов, кровеносных сосудов и тканей периферического речевого аппарата</a:t>
            </a:r>
            <a:r>
              <a:rPr b="0" i="1" lang="ru-RU" sz="2400" spc="-1" strike="noStrike">
                <a:solidFill>
                  <a:srgbClr val="3366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Цель логопедов</a:t>
            </a: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 – максимально развить методику массажа, направленную на коррекцию речевых нарушений, заключающуюся в общеукрепляющем воздействии на нервные и речевые функциональные системы организма</a:t>
            </a:r>
            <a:r>
              <a:rPr b="0" lang="ru-RU" sz="2400" spc="-1" strike="noStrike">
                <a:solidFill>
                  <a:srgbClr val="5a867b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55280" y="765000"/>
            <a:ext cx="79930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Tahoma"/>
              </a:rPr>
              <a:t>Цели логопедического массажа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Нормализация мышечного тонуса общей, мимической и артикуляционной мускулатуры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Уменьшение проявлений парезов и параличей мышц артикуляционного аппарата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Снижение патологических двигательных проявлений мышц речевого аппарата (синкинезии, гиперкинезы, судороги и т.п.)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Стимуляция проприоцептивных (ощущение положения в пространстве) ощущений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Увеличение объема и амплитуды артикуляционных движений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Активизация тех групп мышц периферического речевого аппарата, у которых имелась недостаточная сократительная активность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Формирование произвольных, координированных движений органов артикуляции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a867b"/>
                </a:solidFill>
                <a:latin typeface="Tahoma"/>
              </a:rPr>
              <a:t>Виды массажа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02920" y="2060640"/>
            <a:ext cx="6481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Дифференцированный укрепляющий либо расслабляющий массаж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Массаж биологически активных  точек (БАТ)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Массаж с применение специальных приспособлений (логопедических зондов, шпателя, вибромассажера и т.п.)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Самомассаж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Противопоказания для проведения массажа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640" y="1981080"/>
            <a:ext cx="75628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Соматические или инфекционные заболевания в остром периоде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Коньюктивиты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Острые и хронические заболевания кожных покровов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Гингивиты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Стоматиты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Наличие герпеса на губах или другие инфекции полости рта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Наличие увеличенных лимфатических узлов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Резко выраженная пульсация сонных артерий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71280" y="980640"/>
            <a:ext cx="7777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336600"/>
                </a:solidFill>
                <a:latin typeface="Tahoma"/>
              </a:rPr>
              <a:t>Самомассаж  - это массаж, выполняемый самим ребенком (подростком, взрослым), страдающим речевой патологией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867b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Цель</a:t>
            </a: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 логопедического самомассажа – стимуляция кинестетических ощущений мышц, участвующих в работе периферического речевого аппарата, а также в нормализации мышечного тонуса данных мышц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Положительные стороны самомассажа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Самомассаж можно проводить не только индивидуально, но и фронтально с группой детей одновременно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Самомассаж можно использовать многократно в течение дня, включая его в различные режимные </a:t>
            </a: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моменты в условиях ДОУ (после утренней гимнастики, дневного сна)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Самомассаж может быть включен в логопедическое занятие, при этом приемы самомассажа могут предварять, либо завершать артикуляционную гимнастику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a867b"/>
                </a:solidFill>
                <a:latin typeface="Tahoma"/>
              </a:rPr>
              <a:t>Условия проведения самомассажа</a:t>
            </a:r>
            <a:endParaRPr b="0" lang="en-US" sz="3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Длительность одного сеанса для детей дошкольного возраста составляет 5-10 минут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Каждое движение выполняется 4-6 раз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В один сеанс самомассажа может быть включено лишь несколько из предлагаемых приемов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Приемы самомассажа могут варьировать в течение дня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Перед проведением самомассажа ребенок должен быть тщательно умыт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Перед проведением самомассажа руки необходимо согреть (растереть друг о друга)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13:37:10Z</dcterms:created>
  <dc:creator>Ирина</dc:creator>
  <dc:description/>
  <cp:keywords/>
  <dc:language>en-US</dc:language>
  <cp:lastModifiedBy>Admin</cp:lastModifiedBy>
  <dcterms:modified xsi:type="dcterms:W3CDTF">2018-07-04T17:24:55Z</dcterms:modified>
  <cp:revision>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49</vt:lpwstr>
  </property>
</Properties>
</file>