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B480-626A-42EC-9F27-F180724C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F486-16F1-420E-AF10-D8D68DAAB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4959-4075-49EF-99BD-CE054C604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A583-E54E-405B-A241-5AACFAAC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CB09-95D7-4A3F-A70A-0D8DF744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B466-E4B3-44AD-8F1F-2C8EDD73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76D1-FA9C-4908-892A-D0688848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50F4-E6B6-4765-A66B-7800AEA5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CFD5-54B5-4DEF-AC26-1DAACE22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1DFF-89B7-4FF0-964E-13F6CD2D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0008-A8C0-4267-93F9-47A9EC25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1EBE-20C0-45B2-B168-0781FE95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7D9C-1045-4BE8-A742-FE9D9103F4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7"/>
          <p:cNvSpPr/>
          <p:nvPr/>
        </p:nvSpPr>
        <p:spPr>
          <a:xfrm>
            <a:off x="4011480" y="2068560"/>
            <a:ext cx="6166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ff6600"/>
                </a:solidFill>
                <a:latin typeface="Monotype Corsiva"/>
              </a:rPr>
              <a:t>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езентация к уро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Arial"/>
              </a:rPr>
              <a:t>Иллюстрирование русской народной сказ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0066cc"/>
                </a:solidFill>
                <a:latin typeface="Arial"/>
              </a:rPr>
              <a:t>«Гуси-лебеди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eef795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Иллюстрация  к  сказке 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«Конек -Горбунок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image005"/>
          <p:cNvPicPr/>
          <p:nvPr/>
        </p:nvPicPr>
        <p:blipFill>
          <a:blip r:embed="rId1"/>
          <a:srcRect l="4639" t="6025" r="4127" b="14540"/>
          <a:stretch/>
        </p:blipFill>
        <p:spPr>
          <a:xfrm>
            <a:off x="2050920" y="1528920"/>
            <a:ext cx="47628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3780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Иллюстрация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3300"/>
                </a:solidFill>
                <a:latin typeface="Georgia"/>
              </a:rPr>
              <a:t>к  сказ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Georgia"/>
              </a:rPr>
              <a:t>«Василиса Прекрасна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image002"/>
          <p:cNvPicPr/>
          <p:nvPr/>
        </p:nvPicPr>
        <p:blipFill>
          <a:blip r:embed="rId1"/>
          <a:stretch/>
        </p:blipFill>
        <p:spPr>
          <a:xfrm>
            <a:off x="3876840" y="0"/>
            <a:ext cx="5267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image008"/>
          <p:cNvPicPr/>
          <p:nvPr/>
        </p:nvPicPr>
        <p:blipFill>
          <a:blip r:embed="rId1"/>
          <a:stretch/>
        </p:blipFill>
        <p:spPr>
          <a:xfrm>
            <a:off x="990720" y="304920"/>
            <a:ext cx="7010280" cy="51004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533520" y="5486400"/>
            <a:ext cx="8415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Внимательно  рассмотрите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Monotype Corsiva"/>
              </a:rPr>
              <a:t>узоры и орнаменты на иллюстр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усские народные сказ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title"/>
          <p:cNvPicPr/>
          <p:nvPr/>
        </p:nvPicPr>
        <p:blipFill>
          <a:blip r:embed="rId1"/>
          <a:stretch/>
        </p:blipFill>
        <p:spPr>
          <a:xfrm>
            <a:off x="826920" y="1628640"/>
            <a:ext cx="3351240" cy="4550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DSC00035"/>
          <p:cNvPicPr/>
          <p:nvPr/>
        </p:nvPicPr>
        <p:blipFill>
          <a:blip r:embed="rId2"/>
          <a:stretch/>
        </p:blipFill>
        <p:spPr>
          <a:xfrm>
            <a:off x="4913280" y="1700280"/>
            <a:ext cx="3402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Лента времени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Arial"/>
                <a:ea typeface="Times New Roman"/>
              </a:rPr>
              <a:t>сказки «Гуси-лебед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42960" y="1699920"/>
            <a:ext cx="785808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и-лебеди и брате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а и печ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а и яблонь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а и реч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а и баба Яг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вочка и мыш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а с братом и реч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а с братом и яблонь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тра с братом и печ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Этапы работы над рисунком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6760" y="1785600"/>
            <a:ext cx="83581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нкими линиями проводим линию горизо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яем расположение главных героев рису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мечаем места, где будут располагаться остальные предме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нкими линиями прорисовываем детали предметов, соразмеряя их пропорци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Итог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85840" y="1499760"/>
            <a:ext cx="8501040" cy="27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творчеством, каких художников мы познакомились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ли отличия в иллюстрациях разных художник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ет ли иллюстрация существовать как самостоятельное произведени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 каким сказкам созданы иллюстр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то нарисовал эти иллюстрации?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bil02i"/>
          <p:cNvPicPr/>
          <p:nvPr/>
        </p:nvPicPr>
        <p:blipFill>
          <a:blip r:embed="rId1"/>
          <a:stretch/>
        </p:blipFill>
        <p:spPr>
          <a:xfrm>
            <a:off x="1071720" y="4071960"/>
            <a:ext cx="2644560" cy="2608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5"/>
          <p:cNvPicPr/>
          <p:nvPr/>
        </p:nvPicPr>
        <p:blipFill>
          <a:blip r:embed="rId2"/>
          <a:srcRect l="0" t="1969" r="52407" b="3677"/>
          <a:stretch/>
        </p:blipFill>
        <p:spPr>
          <a:xfrm>
            <a:off x="4500720" y="4071960"/>
            <a:ext cx="2571480" cy="25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170028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Це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организовать деятельность учащихся по ознакомлению с творчеством художников И.Билибина, Е.М.Рачева; дать представление о роли фантазии в искусств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содействовать формированию интереса к народному сказочному творчеству, способствовать развитию графических навыков в передаче пропорций сложных по форме предметов, навыков композиционного решения рисунк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cc"/>
                </a:solidFill>
                <a:latin typeface="Arial"/>
              </a:rPr>
              <a:t>способствовать  воспитанию доброты и отзывчив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Иллюстрация</a:t>
            </a:r>
            <a:r>
              <a:rPr b="1" i="1" lang="ru-RU" sz="3600" spc="-1" strike="noStrike">
                <a:solidFill>
                  <a:srgbClr val="ff0000"/>
                </a:solidFill>
                <a:latin typeface="Georgia"/>
              </a:rPr>
              <a:t> </a:t>
            </a:r>
            <a:r>
              <a:rPr b="1" i="1" lang="ru-RU" sz="2800" spc="-1" strike="noStrike">
                <a:solidFill>
                  <a:srgbClr val="ff0000"/>
                </a:solidFill>
                <a:latin typeface="Georgia"/>
              </a:rPr>
              <a:t>   рисунок,  раскрывающий  литературное произве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Иллюстратор </a:t>
            </a:r>
            <a:r>
              <a:rPr b="1" i="1" lang="ru-RU" sz="2400" spc="-1" strike="noStrike">
                <a:solidFill>
                  <a:srgbClr val="ff0000"/>
                </a:solidFill>
                <a:latin typeface="Georgia"/>
              </a:rPr>
              <a:t> художник,  оформляющий  книгу,  раскрывающий  средствами  художественной  графики  содержание литературного произ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image005"/>
          <p:cNvPicPr/>
          <p:nvPr/>
        </p:nvPicPr>
        <p:blipFill>
          <a:blip r:embed="rId1"/>
          <a:srcRect l="0" t="84553" r="362" b="0"/>
          <a:stretch/>
        </p:blipFill>
        <p:spPr>
          <a:xfrm>
            <a:off x="755640" y="5805360"/>
            <a:ext cx="7848720" cy="7923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image005"/>
          <p:cNvPicPr/>
          <p:nvPr/>
        </p:nvPicPr>
        <p:blipFill>
          <a:blip r:embed="rId2"/>
          <a:srcRect l="0" t="84553" r="362" b="0"/>
          <a:stretch/>
        </p:blipFill>
        <p:spPr>
          <a:xfrm>
            <a:off x="468360" y="404640"/>
            <a:ext cx="8207280" cy="86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Художники-иллюстра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Евгений Михайлович Раче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Иван Яковлевич Билиби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8320" y="333000"/>
            <a:ext cx="43164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Евгений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Михайлович 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Georgia"/>
              </a:rPr>
              <a:t>Раче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rachev1-1"/>
          <p:cNvPicPr/>
          <p:nvPr/>
        </p:nvPicPr>
        <p:blipFill>
          <a:blip r:embed="rId1"/>
          <a:stretch/>
        </p:blipFill>
        <p:spPr>
          <a:xfrm>
            <a:off x="324000" y="404640"/>
            <a:ext cx="4251240" cy="59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fed6"/>
            </a:gs>
            <a:gs pos="100000">
              <a:srgbClr val="eef79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1str"/>
          <p:cNvPicPr/>
          <p:nvPr/>
        </p:nvPicPr>
        <p:blipFill>
          <a:blip r:embed="rId1"/>
          <a:stretch/>
        </p:blipFill>
        <p:spPr>
          <a:xfrm>
            <a:off x="684360" y="1628640"/>
            <a:ext cx="3776400" cy="49914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3300"/>
                </a:solidFill>
                <a:latin typeface="Georgia"/>
              </a:rPr>
              <a:t>Иллюстрации  к  сказке 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иЛЛЮСТРАЦИЯ 1"/>
          <p:cNvPicPr/>
          <p:nvPr/>
        </p:nvPicPr>
        <p:blipFill>
          <a:blip r:embed="rId2"/>
          <a:stretch/>
        </p:blipFill>
        <p:spPr>
          <a:xfrm>
            <a:off x="611280" y="1700280"/>
            <a:ext cx="3816360" cy="4914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ИЛЛЮСТРИРОВАНИЕ 4"/>
          <p:cNvPicPr/>
          <p:nvPr/>
        </p:nvPicPr>
        <p:blipFill>
          <a:blip r:embed="rId3"/>
          <a:stretch/>
        </p:blipFill>
        <p:spPr>
          <a:xfrm>
            <a:off x="4932360" y="1700280"/>
            <a:ext cx="3768840" cy="4816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title"/>
          <p:cNvPicPr/>
          <p:nvPr/>
        </p:nvPicPr>
        <p:blipFill>
          <a:blip r:embed="rId1"/>
          <a:stretch/>
        </p:blipFill>
        <p:spPr>
          <a:xfrm>
            <a:off x="539640" y="765000"/>
            <a:ext cx="3849840" cy="5227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ИЛЛЮСТРАЦИЯ 2"/>
          <p:cNvPicPr/>
          <p:nvPr/>
        </p:nvPicPr>
        <p:blipFill>
          <a:blip r:embed="rId2"/>
          <a:stretch/>
        </p:blipFill>
        <p:spPr>
          <a:xfrm>
            <a:off x="5003640" y="836640"/>
            <a:ext cx="3834000" cy="5113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ИЛЛЮСТРАЦИЯ 3"/>
          <p:cNvPicPr/>
          <p:nvPr/>
        </p:nvPicPr>
        <p:blipFill>
          <a:blip r:embed="rId3"/>
          <a:stretch/>
        </p:blipFill>
        <p:spPr>
          <a:xfrm>
            <a:off x="324000" y="765000"/>
            <a:ext cx="40687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image001[1]"/>
          <p:cNvPicPr/>
          <p:nvPr/>
        </p:nvPicPr>
        <p:blipFill>
          <a:blip r:embed="rId1"/>
          <a:srcRect l="0" t="4866" r="263" b="4866"/>
          <a:stretch/>
        </p:blipFill>
        <p:spPr>
          <a:xfrm>
            <a:off x="0" y="0"/>
            <a:ext cx="60721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6072120" y="692280"/>
            <a:ext cx="3071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Иван  </a:t>
            </a:r>
            <a:br>
              <a:rPr sz="4000"/>
            </a:b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Яковлевич Билиб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29320" y="20160"/>
            <a:ext cx="117468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Сказки И.Билиб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иллюстрации 5"/>
          <p:cNvPicPr/>
          <p:nvPr/>
        </p:nvPicPr>
        <p:blipFill>
          <a:blip r:embed="rId1"/>
          <a:stretch/>
        </p:blipFill>
        <p:spPr>
          <a:xfrm>
            <a:off x="468360" y="1484280"/>
            <a:ext cx="3924360" cy="4940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иллюстрирование7"/>
          <p:cNvPicPr/>
          <p:nvPr/>
        </p:nvPicPr>
        <p:blipFill>
          <a:blip r:embed="rId2"/>
          <a:stretch/>
        </p:blipFill>
        <p:spPr>
          <a:xfrm>
            <a:off x="4859280" y="1484280"/>
            <a:ext cx="369576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2T17:09:56Z</dcterms:created>
  <dc:creator>Юля</dc:creator>
  <dc:description/>
  <dc:language>en-US</dc:language>
  <cp:lastModifiedBy>наталья</cp:lastModifiedBy>
  <dcterms:modified xsi:type="dcterms:W3CDTF">2018-07-04T17:17:23Z</dcterms:modified>
  <cp:revision>57</cp:revision>
  <dc:subject/>
  <dc:title>Слайд 1</dc:title>
</cp:coreProperties>
</file>