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6.jpeg" ContentType="image/jpeg"/>
  <Override PartName="/ppt/media/image10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7.jpeg" ContentType="image/jpeg"/>
  <Override PartName="/ppt/media/image12.jpeg" ContentType="image/jpeg"/>
  <Override PartName="/ppt/media/image3.gif" ContentType="image/gif"/>
  <Override PartName="/ppt/media/image4.png" ContentType="image/png"/>
  <Override PartName="/ppt/media/image2.gif" ContentType="image/gif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7AE5-A111-41CB-A7E6-8E3602035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9BA3-835F-43CD-A685-BCE9168C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984A-E9BC-4AA1-88F6-C993909E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28AF-8A58-4F29-B327-D13814196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D756-AE05-4E43-8561-7E3DF7A57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AAF5-66CA-49AF-8438-88DA9EE3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1B8F-BA08-47F5-B12B-5EF1614A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8D92B-A404-40C2-9520-367C671F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0B2C4-4CC7-4155-9675-81C865C7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204D6-1CF0-48EF-9372-1872AA20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E4A7-23AF-410B-9CDB-16AB63AC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6B3-6A39-41C5-BEC3-03B7F958A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9E6E-7E15-4E72-BC2A-F64F12E3E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9CB7-AAD3-44BC-84E6-4C6EC8E9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BD69-988D-4C37-99C2-88B0A93E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83B6-CFDE-4E75-B7B9-D12034BA6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5FEA-08A3-4730-8532-B09458492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AFA-D19E-4CCA-B943-58DB5EFD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E26-9D76-4F43-A9E9-A99E858FA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6720-D102-4351-A9E4-5B771A6C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B8A5-A62E-4F1E-B844-0A436B10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FC6A-880F-4C97-8838-C0A51867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9030-572F-4429-87D1-E63B6A11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13A-5C8F-40AB-9E41-2CE9F14D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1AD7-2BCD-4DD2-97FD-6DC9434A07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4010-3317-4254-95CE-8783BE06BE5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7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NEIGE LIDESE NEIG"/>
          <p:cNvPicPr/>
          <p:nvPr/>
        </p:nvPicPr>
        <p:blipFill>
          <a:blip r:embed="rId1"/>
          <a:stretch/>
        </p:blipFill>
        <p:spPr>
          <a:xfrm rot="5400000">
            <a:off x="285840" y="2422080"/>
            <a:ext cx="4000320" cy="457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NEIGE LIDESE NEIG"/>
          <p:cNvPicPr/>
          <p:nvPr/>
        </p:nvPicPr>
        <p:blipFill>
          <a:blip r:embed="rId2"/>
          <a:stretch/>
        </p:blipFill>
        <p:spPr>
          <a:xfrm rot="5400000">
            <a:off x="249840" y="-249840"/>
            <a:ext cx="4000680" cy="45007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endParaRPr b="0" lang="en-US" sz="7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84000" y="388620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Georgia"/>
              </a:rPr>
              <a:t>ВЫПОЛНИЛ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Georgia"/>
              </a:rPr>
              <a:t>Кончаков Макар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ff"/>
                </a:solidFill>
                <a:latin typeface="Georgia"/>
              </a:rPr>
              <a:t>старшая группа МБДОУ№24 Научный руководитель: Горовенко Н.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NEIGE LIDESE NEIG"/>
          <p:cNvPicPr/>
          <p:nvPr/>
        </p:nvPicPr>
        <p:blipFill>
          <a:blip r:embed="rId3"/>
          <a:stretch/>
        </p:blipFill>
        <p:spPr>
          <a:xfrm>
            <a:off x="4643280" y="0"/>
            <a:ext cx="4500720" cy="4000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NEIGE LIDESE NEIG"/>
          <p:cNvPicPr/>
          <p:nvPr/>
        </p:nvPicPr>
        <p:blipFill>
          <a:blip r:embed="rId4"/>
          <a:stretch/>
        </p:blipFill>
        <p:spPr>
          <a:xfrm>
            <a:off x="4643280" y="2997360"/>
            <a:ext cx="4716720" cy="4000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Etoile_1"/>
          <p:cNvPicPr/>
          <p:nvPr/>
        </p:nvPicPr>
        <p:blipFill>
          <a:blip r:embed="rId5"/>
          <a:stretch/>
        </p:blipFill>
        <p:spPr>
          <a:xfrm>
            <a:off x="1979640" y="141300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Etoile_1"/>
          <p:cNvPicPr/>
          <p:nvPr/>
        </p:nvPicPr>
        <p:blipFill>
          <a:blip r:embed="rId6"/>
          <a:stretch/>
        </p:blipFill>
        <p:spPr>
          <a:xfrm>
            <a:off x="324000" y="249228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Etoile_1"/>
          <p:cNvPicPr/>
          <p:nvPr/>
        </p:nvPicPr>
        <p:blipFill>
          <a:blip r:embed="rId7"/>
          <a:stretch/>
        </p:blipFill>
        <p:spPr>
          <a:xfrm>
            <a:off x="2050920" y="3141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4" descr="Etoile_1"/>
          <p:cNvPicPr/>
          <p:nvPr/>
        </p:nvPicPr>
        <p:blipFill>
          <a:blip r:embed="rId8"/>
          <a:stretch/>
        </p:blipFill>
        <p:spPr>
          <a:xfrm>
            <a:off x="539640" y="4653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2" name="Прямоугольник 11" descr=""/>
          <p:cNvPicPr/>
          <p:nvPr/>
        </p:nvPicPr>
        <p:blipFill>
          <a:blip r:embed="rId9"/>
          <a:stretch/>
        </p:blipFill>
        <p:spPr>
          <a:xfrm>
            <a:off x="500040" y="231840"/>
            <a:ext cx="7851960" cy="334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395280" y="47628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80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0932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785920" y="3642840"/>
            <a:ext cx="2900520" cy="24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81867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Григорий Остер: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« Мороженое, как и всяк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серьезное оружие, следуе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применять только в мирны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целях. Поэтому морожено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надо есть для удовольстви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а не для ангины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1"/>
          <a:stretch/>
        </p:blipFill>
        <p:spPr>
          <a:xfrm>
            <a:off x="6443640" y="4005360"/>
            <a:ext cx="2468520" cy="2533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6286680" y="214200"/>
            <a:ext cx="242856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00"/>
                </a:solidFill>
                <a:latin typeface="Tahoma"/>
              </a:rPr>
              <a:t>Спасибо </a:t>
            </a:r>
            <a:br>
              <a:rPr sz="9600"/>
            </a:br>
            <a:r>
              <a:rPr b="1" i="1" lang="ru-RU" sz="9600" spc="-1" strike="noStrike">
                <a:solidFill>
                  <a:srgbClr val="ff0000"/>
                </a:solidFill>
                <a:latin typeface="Tahoma"/>
              </a:rPr>
              <a:t>за </a:t>
            </a:r>
            <a:br>
              <a:rPr sz="9600"/>
            </a:br>
            <a:r>
              <a:rPr b="1" i="1" lang="ru-RU" sz="9600" spc="-1" strike="noStrike">
                <a:solidFill>
                  <a:srgbClr val="ff0000"/>
                </a:solidFill>
                <a:latin typeface="Tahoma"/>
              </a:rPr>
              <a:t>внимание!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Aharoni"/>
              </a:rPr>
              <a:t>Актуальность темы </a:t>
            </a:r>
            <a:br>
              <a:rPr sz="3600"/>
            </a:b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57120" y="1356840"/>
            <a:ext cx="85010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61616"/>
                </a:solidFill>
                <a:latin typeface="Tahoma"/>
                <a:ea typeface="Aharoni"/>
              </a:rPr>
              <a:t>Я очень люблю мороженое и думаю, что мороженое – самый популярный и любимый десерт не только детей но и взрослых. Однако мама мне часто говорит: «Не ешь много мороженого – заболеешь!» «Много мороженого вредно!» В своей работе я решил выяснить, так ли это чего больше в мороженом пользы или вреда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4200"/>
            <a:ext cx="77724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Цель работы:</a:t>
            </a:r>
            <a:br>
              <a:rPr sz="3600"/>
            </a:br>
            <a:r>
              <a:rPr b="0" lang="ru-RU" sz="3600" spc="-1" strike="noStrike">
                <a:solidFill>
                  <a:srgbClr val="161616"/>
                </a:solidFill>
                <a:latin typeface="Tahoma"/>
              </a:rPr>
              <a:t>изучить воздействия мороженого на организм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71680" y="1999800"/>
            <a:ext cx="79293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Задачи исследовани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  <a:ea typeface="Aharoni"/>
              </a:rPr>
              <a:t>Убедится в том, что мороженое, действительно является ценным пищевым продукто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  <a:ea typeface="Aharoni"/>
              </a:rPr>
              <a:t>Выяснит какой вред может принести мороженое здоровью люде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  <a:ea typeface="Aharoni"/>
              </a:rPr>
              <a:t>Изучить состав и виды морожен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  <a:ea typeface="Aharoni"/>
              </a:rPr>
              <a:t>Ознакомится с процессом изготовления мороженного в домашних условия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ahoma"/>
                <a:ea typeface="Aharoni"/>
              </a:rPr>
              <a:t>Беседа с медсестрой 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98" name="Picture 5" descr="C:\Users\Панкратова Людмила\Documents\My Bluetooth\IMG_20170207_082953.jpg"/>
          <p:cNvPicPr/>
          <p:nvPr/>
        </p:nvPicPr>
        <p:blipFill>
          <a:blip r:embed="rId1"/>
          <a:stretch/>
        </p:blipFill>
        <p:spPr>
          <a:xfrm>
            <a:off x="395280" y="1981080"/>
            <a:ext cx="396072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C:\Users\Панкратова Людмила\Documents\My Bluetooth\IMG_20170207_083011.jpg"/>
          <p:cNvPicPr/>
          <p:nvPr/>
        </p:nvPicPr>
        <p:blipFill>
          <a:blip r:embed="rId2"/>
          <a:stretch/>
        </p:blipFill>
        <p:spPr>
          <a:xfrm>
            <a:off x="4572000" y="1981080"/>
            <a:ext cx="3960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Правила употребления мороженого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0" y="1500120"/>
            <a:ext cx="91440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161616"/>
                </a:solidFill>
                <a:latin typeface="Tahoma"/>
                <a:ea typeface="Aharoni"/>
              </a:rPr>
              <a:t>кушать мороженое спокойно, не торопяс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  <a:ea typeface="Aharoni"/>
              </a:rPr>
              <a:t>Кушать мороженое лучше в помещении, дома или в каф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  <a:ea typeface="Aharoni"/>
              </a:rPr>
              <a:t>Помнить, чрезмерное употребление мороженого может стать причиной простудных заболеваний, ангины, потери голос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  <a:ea typeface="Aharoni"/>
              </a:rPr>
              <a:t>Мороженое нельзя долго хранить в домашних условиях. При длительном хранении мороженое становится не вкусным и небезопасным. Поэтому принесенное домой мороженое должно быть съедено в течение недел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790092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Georgia"/>
              </a:rPr>
              <a:t>Что такое мороженое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3" name="Picture 19" descr="Etoile_1"/>
          <p:cNvPicPr/>
          <p:nvPr/>
        </p:nvPicPr>
        <p:blipFill>
          <a:blip r:embed="rId1"/>
          <a:stretch/>
        </p:blipFill>
        <p:spPr>
          <a:xfrm>
            <a:off x="5654520" y="272268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928520"/>
            <a:ext cx="43290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eorgia"/>
              </a:rPr>
              <a:t>Замороженное сладкое кушанье из сливок, сахара, сока ягод, ароматных вещест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3" descr="081e39d07735[1]"/>
          <p:cNvPicPr/>
          <p:nvPr/>
        </p:nvPicPr>
        <p:blipFill>
          <a:blip r:embed="rId2"/>
          <a:stretch/>
        </p:blipFill>
        <p:spPr>
          <a:xfrm>
            <a:off x="285840" y="3929040"/>
            <a:ext cx="3581280" cy="2685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1" descr="Etoile_1"/>
          <p:cNvPicPr/>
          <p:nvPr/>
        </p:nvPicPr>
        <p:blipFill>
          <a:blip r:embed="rId3"/>
          <a:stretch/>
        </p:blipFill>
        <p:spPr>
          <a:xfrm>
            <a:off x="4427640" y="472428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Aharoni"/>
              </a:rPr>
              <a:t>История мороженного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981080"/>
            <a:ext cx="5043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Мороженное появилось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cc"/>
                </a:solidFill>
                <a:latin typeface="Tahoma"/>
              </a:rPr>
              <a:t>5т.летназад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</a:rPr>
              <a:t>В Китае оно состоял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</a:rPr>
              <a:t>из снега, льда 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161616"/>
                </a:solidFill>
                <a:latin typeface="Tahoma"/>
              </a:rPr>
              <a:t>кусочков фрук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</a:rPr>
              <a:t>На Руси это был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</a:rPr>
              <a:t>заморожен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61616"/>
                </a:solidFill>
                <a:latin typeface="Tahoma"/>
              </a:rPr>
              <a:t>натертое молок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4648320" y="2000160"/>
            <a:ext cx="42098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138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А еще мороженое бывает!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spcBef>
                <a:spcPts val="700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8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2657520" cy="2438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90px-Icepop-green"/>
          <p:cNvPicPr/>
          <p:nvPr/>
        </p:nvPicPr>
        <p:blipFill>
          <a:blip r:embed="rId2"/>
          <a:stretch/>
        </p:blipFill>
        <p:spPr>
          <a:xfrm>
            <a:off x="1258920" y="1125360"/>
            <a:ext cx="2952720" cy="2438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C:\Users\Панкратова Людмила\Desktop\я-исследователь н.в\IMG_20170112_103012.jpg"/>
          <p:cNvPicPr/>
          <p:nvPr/>
        </p:nvPicPr>
        <p:blipFill>
          <a:blip r:embed="rId3"/>
          <a:stretch/>
        </p:blipFill>
        <p:spPr>
          <a:xfrm>
            <a:off x="1257480" y="3860640"/>
            <a:ext cx="2687400" cy="266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:\Users\Панкратова Людмила\Desktop\я-исследователь н.в\IMG_20170112_103031.jpg"/>
          <p:cNvPicPr/>
          <p:nvPr/>
        </p:nvPicPr>
        <p:blipFill>
          <a:blip r:embed="rId4"/>
          <a:stretch/>
        </p:blipFill>
        <p:spPr>
          <a:xfrm>
            <a:off x="4784760" y="3860640"/>
            <a:ext cx="33163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5T04:40:17Z</dcterms:created>
  <dc:creator>Новокрещена Ю. А.</dc:creator>
  <dc:description/>
  <dc:language>en-US</dc:language>
  <cp:lastModifiedBy>Панкратова Людмила</cp:lastModifiedBy>
  <dcterms:modified xsi:type="dcterms:W3CDTF">2017-02-07T05:34:15Z</dcterms:modified>
  <cp:revision>22</cp:revision>
  <dc:subject/>
  <dc:title>Мороженое.</dc:title>
</cp:coreProperties>
</file>