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4.png" ContentType="image/png"/>
  <Override PartName="/ppt/media/image2.gif" ContentType="image/gif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9C4B-552F-49DF-9032-86B18D84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E30-E4FA-4863-BA00-B8DEEE0A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1276-8A4D-4A9A-93A1-5E86BB54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F7D5-916F-4743-8907-4BD9DECD2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1E6E9-67D4-4D09-9EDC-46D83C8B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B89F-E9AC-4DA2-ABD8-240566224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0EB79-B140-4621-811F-2115FBC1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1286-91CF-4500-98AC-0237E07A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A546-8CD3-414E-8E91-8EC6F5D2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B6E8B-65AF-48D6-959B-4301D358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3B86-450B-4939-B165-AAAAC334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B666-F52F-4C46-B7EA-84DB6EE60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8E0A4-B758-493D-92AF-8AD5A68B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65680-A155-42B2-9A5A-4EBC670E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73627-6F43-45D0-978A-6358A171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7EDA-EC8E-43FE-89D4-66AE65840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305A-D7EF-4B94-A6F2-7E6E6644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ED9E-D403-4B6E-9226-76E2D22B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D0C1-9370-4229-B6E6-CCA160CA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97E3-A7C1-4F18-BE77-2869CFA9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5F57-DCB5-46EE-B23C-9215FB6B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4BCC-3E5D-4F3E-AA0F-9310F891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08CD-4B8D-42C0-BB9E-061B2912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8E8-D377-406A-8CF3-E67B9CCE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4B97-9338-49EE-A40B-BB4EE2F59E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86CB-F097-4F5A-823E-882DF250B0A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NEIGE LIDESE NEIG"/>
          <p:cNvPicPr/>
          <p:nvPr/>
        </p:nvPicPr>
        <p:blipFill>
          <a:blip r:embed="rId1"/>
          <a:stretch/>
        </p:blipFill>
        <p:spPr>
          <a:xfrm rot="5400000">
            <a:off x="285840" y="242208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NEIGE LIDESE NEIG"/>
          <p:cNvPicPr/>
          <p:nvPr/>
        </p:nvPicPr>
        <p:blipFill>
          <a:blip r:embed="rId2"/>
          <a:stretch/>
        </p:blipFill>
        <p:spPr>
          <a:xfrm rot="5400000">
            <a:off x="249840" y="-249840"/>
            <a:ext cx="4000680" cy="4500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Кончаков Мака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старшая группа МБДОУ№24 Научный руководитель: Горовенко Н.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NEIGE LIDESE NEIG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400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EIGE LIDESE NEIG"/>
          <p:cNvPicPr/>
          <p:nvPr/>
        </p:nvPicPr>
        <p:blipFill>
          <a:blip r:embed="rId4"/>
          <a:stretch/>
        </p:blipFill>
        <p:spPr>
          <a:xfrm>
            <a:off x="4643280" y="2997360"/>
            <a:ext cx="4716720" cy="400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Etoile_1"/>
          <p:cNvPicPr/>
          <p:nvPr/>
        </p:nvPicPr>
        <p:blipFill>
          <a:blip r:embed="rId5"/>
          <a:stretch/>
        </p:blipFill>
        <p:spPr>
          <a:xfrm>
            <a:off x="1979640" y="141300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Etoile_1"/>
          <p:cNvPicPr/>
          <p:nvPr/>
        </p:nvPicPr>
        <p:blipFill>
          <a:blip r:embed="rId6"/>
          <a:stretch/>
        </p:blipFill>
        <p:spPr>
          <a:xfrm>
            <a:off x="324000" y="2492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Etoile_1"/>
          <p:cNvPicPr/>
          <p:nvPr/>
        </p:nvPicPr>
        <p:blipFill>
          <a:blip r:embed="rId7"/>
          <a:stretch/>
        </p:blipFill>
        <p:spPr>
          <a:xfrm>
            <a:off x="2050920" y="3141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Etoile_1"/>
          <p:cNvPicPr/>
          <p:nvPr/>
        </p:nvPicPr>
        <p:blipFill>
          <a:blip r:embed="rId8"/>
          <a:stretch/>
        </p:blipFill>
        <p:spPr>
          <a:xfrm>
            <a:off x="539640" y="465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11" descr=""/>
          <p:cNvPicPr/>
          <p:nvPr/>
        </p:nvPicPr>
        <p:blipFill>
          <a:blip r:embed="rId9"/>
          <a:stretch/>
        </p:blipFill>
        <p:spPr>
          <a:xfrm>
            <a:off x="500040" y="231840"/>
            <a:ext cx="785196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85920" y="3642840"/>
            <a:ext cx="29005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86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ригорий Остер: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 Мороженое, как и всяк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ерьезное оружие, сле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менять только в мир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целях. Поэтому морожен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адо есть для удовольств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 не для ангин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6443640" y="4005360"/>
            <a:ext cx="2468520" cy="253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86680" y="214200"/>
            <a:ext cx="24285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br>
              <a:rPr sz="9600"/>
            </a:br>
            <a:r>
              <a:rPr b="1" i="1" lang="ru-RU" sz="9600" spc="-1" strike="noStrike">
                <a:solidFill>
                  <a:srgbClr val="ff0000"/>
                </a:solidFill>
                <a:latin typeface="Tahoma"/>
              </a:rPr>
              <a:t>за </a:t>
            </a:r>
            <a:br>
              <a:rPr sz="9600"/>
            </a:br>
            <a:r>
              <a:rPr b="1" i="1" lang="ru-RU" sz="9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Aharoni"/>
              </a:rPr>
              <a:t>Актуальность темы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57120" y="1356840"/>
            <a:ext cx="85010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  <a:ea typeface="Aharoni"/>
              </a:rPr>
              <a:t>Я очень люблю мороженое и думаю, что мороженое – самый популярный и любимый десерт не только детей но и взрослых. Однако мама мне часто говорит: «Не ешь много мороженого – заболеешь!» «Много мороженого вредно!» В своей работе я решил выяснить, так ли это чего больше в мороженом пользы или вре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ль работы:</a:t>
            </a:r>
            <a:br>
              <a:rPr sz="3600"/>
            </a:b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изучить воздействия мороженого на организ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71680" y="1999800"/>
            <a:ext cx="7929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адачи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Убедится в том, что мороженое, действительно является ценным пищевым продук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Выяснит какой вред может принести мороженое здоровью лю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Изучить состав и виды мороже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Ознакомится с процессом изготовления мороженного в домашних услов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  <a:ea typeface="Aharoni"/>
              </a:rPr>
              <a:t>Беседа с медсестрой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5" descr="C:\Users\Панкратова Людмила\Documents\My Bluetooth\IMG_20170207_082953.jpg"/>
          <p:cNvPicPr/>
          <p:nvPr/>
        </p:nvPicPr>
        <p:blipFill>
          <a:blip r:embed="rId1"/>
          <a:stretch/>
        </p:blipFill>
        <p:spPr>
          <a:xfrm>
            <a:off x="395280" y="1981080"/>
            <a:ext cx="396072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Панкратова Людмила\Documents\My Bluetooth\IMG_20170207_083011.jpg"/>
          <p:cNvPicPr/>
          <p:nvPr/>
        </p:nvPicPr>
        <p:blipFill>
          <a:blip r:embed="rId2"/>
          <a:stretch/>
        </p:blipFill>
        <p:spPr>
          <a:xfrm>
            <a:off x="4572000" y="1981080"/>
            <a:ext cx="396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авила употребления мороженог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500120"/>
            <a:ext cx="91440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кушать мороженое спокойно, не торопя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Кушать мороженое лучше в помещении, дома или в каф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Помнить, чрезмерное употребление мороженого может стать причиной простудных заболеваний, ангины, потери гол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Мороженое нельзя долго хранить в домашних условиях. При длительном хранении мороженое становится не вкусным и небезопасным. Поэтому принесенное домой мороженое должно быть съедено в течение нед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900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Что такое мороженое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Picture 19" descr="Etoile_1"/>
          <p:cNvPicPr/>
          <p:nvPr/>
        </p:nvPicPr>
        <p:blipFill>
          <a:blip r:embed="rId1"/>
          <a:stretch/>
        </p:blipFill>
        <p:spPr>
          <a:xfrm>
            <a:off x="5654520" y="27226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28520"/>
            <a:ext cx="43290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Замороженное сладкое кушанье из сливок, сахара, сока ягод, ароматных веще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3" descr="081e39d07735[1]"/>
          <p:cNvPicPr/>
          <p:nvPr/>
        </p:nvPicPr>
        <p:blipFill>
          <a:blip r:embed="rId2"/>
          <a:stretch/>
        </p:blipFill>
        <p:spPr>
          <a:xfrm>
            <a:off x="285840" y="392904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Etoile_1"/>
          <p:cNvPicPr/>
          <p:nvPr/>
        </p:nvPicPr>
        <p:blipFill>
          <a:blip r:embed="rId3"/>
          <a:stretch/>
        </p:blipFill>
        <p:spPr>
          <a:xfrm>
            <a:off x="4427640" y="4724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Aharoni"/>
              </a:rPr>
              <a:t>История мороженного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10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Мороженное появи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5т.летназ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В Китае оно состоял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из снега, льда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кусочков фру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На Руси это был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заморож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натертое моло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648320" y="2000160"/>
            <a:ext cx="42098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А еще мороженое бывает!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2657520" cy="243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90px-Icepop-green"/>
          <p:cNvPicPr/>
          <p:nvPr/>
        </p:nvPicPr>
        <p:blipFill>
          <a:blip r:embed="rId2"/>
          <a:stretch/>
        </p:blipFill>
        <p:spPr>
          <a:xfrm>
            <a:off x="1258920" y="1125360"/>
            <a:ext cx="2952720" cy="2438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Панкратова Людмила\Desktop\я-исследователь н.в\IMG_20170112_103012.jpg"/>
          <p:cNvPicPr/>
          <p:nvPr/>
        </p:nvPicPr>
        <p:blipFill>
          <a:blip r:embed="rId3"/>
          <a:stretch/>
        </p:blipFill>
        <p:spPr>
          <a:xfrm>
            <a:off x="1257480" y="3860640"/>
            <a:ext cx="268740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Users\Панкратова Людмила\Desktop\я-исследователь н.в\IMG_20170112_103031.jpg"/>
          <p:cNvPicPr/>
          <p:nvPr/>
        </p:nvPicPr>
        <p:blipFill>
          <a:blip r:embed="rId4"/>
          <a:stretch/>
        </p:blipFill>
        <p:spPr>
          <a:xfrm>
            <a:off x="4784760" y="3860640"/>
            <a:ext cx="3316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4:40:17Z</dcterms:created>
  <dc:creator>Новокрещена Ю. А.</dc:creator>
  <dc:description/>
  <dc:language>en-US</dc:language>
  <cp:lastModifiedBy>Панкратова Людмила</cp:lastModifiedBy>
  <dcterms:modified xsi:type="dcterms:W3CDTF">2017-02-07T05:34:15Z</dcterms:modified>
  <cp:revision>22</cp:revision>
  <dc:subject/>
  <dc:title>Мороженое.</dc:title>
</cp:coreProperties>
</file>