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3D8-0A80-430F-A5AC-3B511FAF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0DA-448C-4E00-8F44-E22BCB81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4C41E-D8E7-462B-88E8-37D3133B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77BF6-16BE-4BF6-9E39-8BC1EB1D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615CD-806A-41C3-9C78-B311C831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10E08-CE02-47DB-9014-E88BC998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DA8AE-875B-47B6-9EEA-E23A552C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0EB2B-91AA-4596-9D7F-5275811B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E416C-EF0F-4794-93E0-B7BB80EB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E1493-8D72-4C8B-BB0F-B7AC0A13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C41F9-42A2-413C-BFEB-B9CF7232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2ABDA-7122-408B-A339-62CD99C0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785-B3A6-4CDD-BBDB-99265B71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96385-17A3-4BB8-8B48-DE30D68E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C45F2-C75F-4DFA-8FC1-65837DBD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9F3F5-82A6-48AB-89E9-8F13EAC3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15A51-C489-4359-B7DA-BC72C98C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3F215-1631-4F9C-820D-E7F9B258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FDBAF-862D-4345-8BA1-0EDF1A1F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4C4BE-99F6-4E0F-AAEF-88A5D120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8DF9C-A1DF-4F8B-9DAB-6476FA14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139DF-49B4-4096-866E-AC480584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777DA-CE15-4DDB-A981-2BE58475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09B-D56F-43D5-B6B9-EBB92DDD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33F32-C712-461F-B08E-1F3AB586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39846-0223-4840-9117-03461E73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8DA43-CF53-4C6F-B0CA-0D286F18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DBE93-A858-47FE-B544-003EA6E2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B122D-A85C-4EA4-AE28-36CB29FF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5C40F-AE76-43AA-B5F4-33AB7551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DF135-16AA-4BD3-A9AC-108D2E11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AC2B4-84D2-41C9-AC61-9465F4A8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F50EF-8A93-45BB-8B26-E4AD80A6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B10D6-4B1F-4F8F-AE34-A25BD1B0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31B5-E00F-404E-927E-80C6BF18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17F5D-2567-4533-91D9-0359FE47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816AE-6182-4EE4-A067-1C0C0390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D7A73-84FB-4219-8FED-5CCFCCC9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26900-E962-4B29-ADAC-8399ADBF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C56E3-77AF-42EA-9C14-91FD133E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EA207-FFBF-4F58-BDBB-E1FC931E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98F1F-0AF8-42E2-8C9E-C8F004E8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72383-526B-4095-8AB7-A307E26E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58502-1655-4F1F-8F33-6003D9C0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9B283-191A-43BF-A974-44798593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09B5-1E7C-4C03-BFDB-E5A6383C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A39B9-33F9-4C36-AF6C-BAB2226B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F739C-C998-4BB4-AAB5-095D4142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6BE5A-9448-45C6-8658-D0E6A3DC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3D540-D41E-4CDD-B441-C66743D5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B406F-EA3F-42C9-B226-3CFE785E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FDA9A-F8A8-41EA-9508-60999A22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E0688-30F0-430B-A153-3C47AFC5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995DC-A2B3-418A-9AB0-E32FEC83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E1601-EB8E-49D1-874A-B0B07782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8F826-4382-4079-93BF-C53AC3A8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0178-178F-48CA-AC9A-A1460A3D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8DBA8-6177-49E0-84E2-2B6DA3B0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0A9D2-275B-44C8-8EAB-B159888A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839A88-C49E-4080-ABA3-23F737D6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F443B-F1BB-4132-B5D2-A531C5EA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EB636-848A-48A7-9D8E-13719DC7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27B22-708F-44F4-BE86-753E75B1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1811E-74A5-44B6-9D22-4CD81A4B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86F531-0CD0-4834-BF8F-5DB53006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07F65-7A28-4064-953D-8E707B3E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9E631A-1099-4C29-96D1-CE3DEC65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98F9-5F65-4C11-B410-985891AA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64C03-BB24-44E6-97DB-36BDEEE2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49AD2B-EB49-4C45-AA54-595AC781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A99FE-0D88-4F70-83B7-5100BAFA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7D464-8E8C-4382-9DD2-4A3F1432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3C298-AD3F-4EC4-8541-117F7AAC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9EF9E-B39D-43BE-B12D-058AE0DC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2B04A-5CE2-46C6-A4B3-192076C5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1C6B3-1151-43B1-AED3-6BF48253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F4B41-3D12-4BE0-99B4-227ED636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6778D-9BE2-487A-B7F6-53D13E11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1972-71D2-40BA-B3AB-87D7AA96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FD7038-4C89-42AF-9246-0C2D9285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42A83-B849-4A56-91C9-DD012DA8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90F73-3447-49D4-B007-1B251983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791F14-8850-45E1-BCC4-D30CB2AD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F8012A-F49E-4F88-BCB4-48135228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1AB2C4-1F8A-46AA-8046-EF9A5981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9E54A-5A38-41A8-94D8-08D8AF66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E037E2-B36F-4DC7-B17D-D750C7F5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BD2861-CD2B-41C5-B4E6-334EC93A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CEC4C-5924-42C1-8B1D-33B731E1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8BE0-250E-4DA9-8616-6C38F219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768F9-62EC-4690-9B4E-3FA526D7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E9F25-298F-46C8-A396-BAB2D6EB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3F51C7-78DB-4B87-BD97-E66B39B1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4240ED-FFCE-4D5B-A959-A398EC29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224B46-CC8F-42CE-A49A-95F9020B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56206-AF01-421D-B822-9009E702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D45551-8828-4615-B054-8239E4B6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7F001A-B789-498E-BC63-AC04A195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9D004E-ECA7-4198-ABF7-C2D384E5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81FCA2-7B96-43E7-AFC1-DF8FC125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8F2B-498D-4ED3-AA8E-8E1AA4E6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F3A6B4-CE63-413E-801A-58EF561D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BD0493-5C1A-450C-AB9F-90DA376E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06BA58-EE9E-432A-86D8-BA3981DF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A47FE-A7A2-4DA0-B910-F900A56F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B7963-F030-47CA-9239-AF5D7D7C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FAF75-A426-416C-9416-0C596435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E81D8-1862-48C1-8F21-D4D955BE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D66AF-7452-4C0F-9234-1779A37C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2F26A-E1B6-492E-BDA5-CBC85800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7A8001-48FE-48B4-9757-E6855864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71B-ADB9-42A3-9444-D24E34B9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8826-A316-4539-8FE0-31A4D047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0BAA1-A3C3-4586-9B58-333AE58C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6AB18-CB8A-467C-B0DC-7CCD4B42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5095B4-782F-433A-B7B8-5035D03F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61A2CD-BF70-4F14-A12C-6495E2C3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19407E-A813-4248-A7E1-BCF4EEAD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3F62-B2F5-46AA-A622-AE254B45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1870-70CC-4F45-AF58-FFFF2E27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C765-4DDF-41C0-BE47-FCE5F246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F3B4-D8D8-49C1-9AD8-3D790753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1DFEB-C7FE-4967-BABB-D52291BE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2ABC9-C46D-4F45-BDA8-9A8A17DB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DDCA3-5FFF-4EE4-8952-A57B9697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0551C-EABE-4DF8-8955-EA938F39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540B9-7AEC-46E3-B693-F0FC02EF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BBA-1E9A-4520-A05F-294B682F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56FB3-40BF-47F3-A7BF-4590A5F0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7E19-C7CC-4B6D-9CDD-A2AA7942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3F3E0-3151-4263-AB81-7C0EFC01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268CA-DF59-4DAA-9ACE-BF6666FA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D098-B7B9-4083-849F-ADD4735F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F8F9C-68A8-4FA7-A102-DC1964BE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0AFE-D468-4BEA-AFBB-B273234E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5F670-609C-4676-A6AA-72ABAD10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DF956-FB01-4A49-B02C-1B57BCB4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CE8C0-7105-4FCC-954D-3EF83290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00C-19B9-4A05-938A-A07EEEB6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149D-24C7-4D62-AC97-3DF790AB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597EB-3A91-44F1-BBE3-B2A2CF70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612E7-7723-4E2E-A29E-5D48B57A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4A604-548E-497C-8222-E992A455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D571-765F-4F89-BBAB-D0814464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166DF-2189-4D83-9DD6-E3CC31D2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1D7C-561F-4EB8-8A71-1EB804B0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77B2A-EA7E-4CCF-A88B-0B09C6EE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E21E8-F99C-447D-9710-522FD0CB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65F2F-A359-457D-B664-8450B6EB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A62-A8CD-4906-83E4-89C6E87D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257C9-7AD9-4DEF-8FB3-6A13183E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7C0F-B4D1-4794-BA70-278D38DC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9626E-4204-4226-A0E2-87836C12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1E13F-7E2A-42ED-B003-F80AAEF1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9DAC8-7146-4866-93A5-9982D690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81DC6-0A82-42E8-9D4D-A8A477EA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80086-29C7-4314-9892-596A246F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33F01-9733-4B85-97BD-46271606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4E3AB-C773-4095-ACD5-A676E1EE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C256F-9455-44A1-8E4F-B730701E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F3F-8DE4-4C64-83C7-381F1B59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323F9-D60E-4374-BD8C-5B920AE2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CD4ED-6713-4388-AD95-7949BD06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22F0B-1737-4D54-9F47-8BE4B898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5C554-F25A-40DF-865F-3B492D55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69A72-1AF3-482D-B296-36E86712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43886-3969-4F6C-9348-5D934D73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67535-5EF3-4251-8FDE-8D35DA92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D56B0-531B-4950-B15F-414D4D15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2CF98-30CC-4229-A60D-AA9D3649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F2F6F-8DE8-4D40-857D-CD7B5828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4FF-FEC2-4C8A-B041-E5B4EF9C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E5AE2-A7C6-474E-9AF1-3D6C74C8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E04DF-FF77-419A-AEE0-A172771B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ED153-57BF-41E9-8EC7-9C1EA868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743E6-66A5-4AFB-A702-F99029A5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B78D7-7786-4967-96D2-A69D0267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7338A-91AF-4FB9-83AE-2E21BE4C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CBB9A-4D72-4255-99E1-FB79771E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F9633-D32D-4E06-ADC1-1ECC0FF6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EC096-B40A-435D-8037-86B73BFA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945A5-553A-4D03-8C39-8EC7825D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6FF-F4D6-408A-85A9-C2230CE2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8B6ED-F177-4A73-9426-5C50888B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A7014-4117-4683-9D5A-AAF54B31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5BD5B-9F18-4433-A59C-DC8706A4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17AC3-15B9-45A1-8B88-D0D1E2C8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176CB-5716-497F-81B6-36970358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42E84-20D8-4964-A35D-3ABBD8F0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D913D-CF5F-4CF6-8B50-F8F52A6E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C37A1-3AE0-4140-B723-C4142CF3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7C40F-01AA-4C15-A542-96863893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9B907-A9AD-46AF-BD3E-7B15AB3A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1F5-DF8B-4D7E-8640-1EEA1931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A427D-0A26-4A2E-A412-93A99F28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CCF32-FC05-459C-BC65-63A0E0C3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45AD8-903F-4A76-B2B6-CEC493C6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BD1F7-45D1-42D9-82BE-BCD1A3DE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CF279-5062-4E43-95BF-5507C5CF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B6A3B-D864-4B44-9547-B6D91BC7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07CE9-BBFC-4261-BDDB-5F019201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BCFCB-2A2B-4806-B276-73E2076A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53D5C-7C9E-427E-9D3E-A29A3ABF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225B8-10A0-4C01-9A78-C9F8117D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9FE7B-7F59-4A3F-BD42-9C0BDC63A04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FCD28-7B9C-45CE-B604-D0ABEC0DC72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65C10-95DE-4C8F-A3C6-D0E96834BC1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4e67c8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4e67c8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F1BA12-D053-4497-9730-AE0C3503DEB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2A6A0-088E-46C0-8ED4-0456398A43B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4e67c8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4e67c8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B6B77-DE45-4DD9-8F05-86400F1180C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773EB-5FB4-45F2-A464-03CD81D9531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9AD95-0904-4C54-AC79-3954042A241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6BFA2-E397-4FCA-AE96-32E9583ED03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BD89F-569F-4837-877C-BF341DF8347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51D20-4158-4943-88CE-FFA2BE5BB9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11D40-5473-4AAF-BD3E-71BB30E3F65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60CBE-6B2F-4A1E-8A51-15DCFBFFD07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55555-40E5-44E1-8C11-E54DCF2C990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E7718-4D4B-4E8A-B39F-457008836DD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4A1B0-8568-4527-B1F6-1B5DB62EF3E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127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12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12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e67c8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05D9E-D770-473D-961B-2B7864EDF10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771280" y="3213000"/>
            <a:ext cx="532476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262626"/>
                </a:solidFill>
                <a:latin typeface="Century Gothic"/>
              </a:rPr>
              <a:t>Причины </a:t>
            </a:r>
            <a:br>
              <a:rPr sz="4400"/>
            </a:br>
            <a:r>
              <a:rPr b="0" lang="ru-RU" sz="4400" spc="-1" strike="noStrike">
                <a:solidFill>
                  <a:srgbClr val="262626"/>
                </a:solidFill>
                <a:latin typeface="Century Gothic"/>
              </a:rPr>
              <a:t>школьной неуспеваемости.</a:t>
            </a:r>
            <a:br>
              <a:rPr sz="4400"/>
            </a:br>
            <a:r>
              <a:rPr b="0" lang="ru-RU" sz="4400" spc="-1" strike="noStrike">
                <a:solidFill>
                  <a:srgbClr val="262626"/>
                </a:solidFill>
                <a:latin typeface="Century Gothic"/>
              </a:rPr>
              <a:t>Полезные рекомендации</a:t>
            </a:r>
            <a:br>
              <a:rPr sz="4400"/>
            </a:br>
            <a:r>
              <a:rPr b="0" lang="ru-RU" sz="4400" spc="-1" strike="noStrike">
                <a:solidFill>
                  <a:srgbClr val="262626"/>
                </a:solidFill>
                <a:latin typeface="Century Gothic"/>
              </a:rPr>
              <a:t>родителям.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3564000" y="4436640"/>
            <a:ext cx="5186160" cy="17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 </a:t>
            </a:r>
            <a:endParaRPr b="0" lang="en-US" sz="29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entury Gothic"/>
              </a:rPr>
              <a:t>Мыкало Н.М.,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entury Gothic"/>
              </a:rPr>
              <a:t>педагог – психолог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595959"/>
                </a:solidFill>
                <a:latin typeface="Century Gothic"/>
              </a:rPr>
              <a:t>МБОУ МО г.Нягань СОШ № 14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Рекомендации родителям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2627280" y="2204640"/>
            <a:ext cx="53294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6. Обсуждайте книги, фильмы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7.Учите пользоваться словарями, книгами.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8. Не сравнивайте ребенка с другими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9.Создавайте традиции и ритуалы семьи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 Gothic"/>
              </a:rPr>
              <a:t>10. Любите независимо от успеваемости 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771640" y="1699920"/>
            <a:ext cx="59040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Успехов в учебе !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116000" y="4292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268000" y="852120"/>
            <a:ext cx="65883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чины неуспеваем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4e67c8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делал все правильно - опять «двойка»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4e67c8"/>
              </a:buClr>
              <a:buFont typeface="Times New Roman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возникает образ прочитанного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4e67c8"/>
              </a:buClr>
              <a:buFont typeface="Times New Roman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усвоил требования учителя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2123640" y="2276280"/>
            <a:ext cx="604836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как не получается»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уверенность в своих силах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умеет учитьс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2920" y="2074680"/>
            <a:ext cx="65912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763640" y="1125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чего не понимаю»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аточная скорость обучени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4e67c8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развития мышления, памяти, внимани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4e67c8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во взаимоотношениях с учителем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591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2298240" y="2204640"/>
            <a:ext cx="64501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хочу учиться»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аток учебной мотивац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аточная поддержка в семь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фликты с одноклассниками или учителем</a:t>
            </a:r>
            <a:r>
              <a:rPr b="0" lang="ru-RU" sz="13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2920" y="2074680"/>
            <a:ext cx="65912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2123640" y="2205000"/>
            <a:ext cx="659124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чем учиться, если есть компьютер, который всё умеет»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язнь трудностей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942920" y="2074680"/>
            <a:ext cx="65912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763280" y="1773360"/>
            <a:ext cx="659124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обще ничего не хочу»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4e67c8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к развития воли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изкая познавательная активность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Слагаемые успех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2411280" y="2707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- ТРУД РЕБЁНКА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             </a:t>
            </a: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- ВАШЕ ВРЕМЯ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- ТЕРПЕНИЕ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Рекомендации родителям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2484000" y="2491920"/>
            <a:ext cx="532764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1. Поддерживайте ребенка</a:t>
            </a:r>
            <a:endParaRPr b="0" lang="en-US" sz="27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2. Следите за режимом дня</a:t>
            </a:r>
            <a:endParaRPr b="0" lang="en-US" sz="27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3. Предоставляйте возможность выбора</a:t>
            </a:r>
            <a:endParaRPr b="0" lang="en-US" sz="27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4. Организуйте досуг по интересам</a:t>
            </a:r>
            <a:endParaRPr b="0" lang="en-US" sz="27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Gothic"/>
              </a:rPr>
              <a:t>5. Трудности решайте сразу</a:t>
            </a:r>
            <a:endParaRPr b="0" lang="en-US" sz="27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3:24:12Z</dcterms:created>
  <dc:creator>Comp</dc:creator>
  <dc:description/>
  <dc:language>en-US</dc:language>
  <cp:lastModifiedBy>Пользователь</cp:lastModifiedBy>
  <dcterms:modified xsi:type="dcterms:W3CDTF">2018-07-04T15:02:37Z</dcterms:modified>
  <cp:revision>19</cp:revision>
  <dc:subject/>
  <dc:title>Слайд 1</dc:title>
</cp:coreProperties>
</file>