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26E-08BE-4956-9B8F-0E70EB99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F6A-2512-403F-B9DF-76E92EE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5461-6AFD-4592-A373-225B8E42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87339-BAC6-4478-AE09-229A934E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B3950-84B4-4C17-B5C6-86AEFCB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1050D-9CDD-4C16-8C28-8615806F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A1EDE-4590-40C3-BA69-BD83C76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B89C7-C499-49F4-A95B-D37F6B4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34CA8-E30A-42DB-82A6-2FB51F0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5D54A-8AA3-4B8A-B9A5-FF19CC30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FE28E-E97A-4858-9481-5F57ACC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5C221-B328-4DF8-9397-D98DEB35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587-460C-480B-A857-97A7D4DE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E712F-5587-47FB-99B2-6DE2DE98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88C2E-CA00-497F-A836-87E20E2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DD00-42D3-4088-9D90-C48F3EA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9BA61-6E15-4AD1-920D-BDC7A75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EA110-A8AE-483E-9B4E-2697E9CB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82FB2-B212-4D4C-A920-D28B847D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2EE0-977B-40D1-8C5C-A2CB1BD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F05DA-B4E7-4E27-9157-75C0589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D5EA-5A7E-41D6-A564-1875088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8C8DF-44BC-443F-A8C3-0A7FCB88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3D4-FF3C-4715-9231-27B38707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B6B9-D2A7-458A-8439-14B48360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0A451-27D2-4234-B7EC-E319DDA2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BABF5-A858-4F62-A58C-135154BF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8415-E629-40C7-AA48-9439B237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AF79-092F-48B0-84DF-5EADC97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A1BA-728B-4ADD-A834-4AF49122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1826-6A6A-4D33-952F-F57C5EA5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D27B3-B175-46AE-B7C4-7695A58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D8FB-46DD-411D-8EE0-B63903F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C3269-7FA7-4FB9-870F-FB27FCE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2278-1768-4E94-91AB-AD92A5A9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358A-B9A0-4812-A898-DA566484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85B6-33AE-4B97-B1A0-08F7300F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054E-2386-4795-82CD-6BDF22A0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458E-18D3-466B-AAA6-E6ABE9D2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B272A-CAE3-44DA-AF42-3E33781C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52ADB-45CA-41E1-878D-72734989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DC2B-84DC-4DDA-B67A-A1AE850E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A8DC-9DA6-4B2E-84C3-300870D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1154-1158-40CA-B7AC-4CAE86A9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DCD96-E206-41BF-A7DC-5203C58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9FD-9448-45D7-9AC0-487850C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36C57-B4D7-4C19-A095-CE48A72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FAEF7-24FC-478B-9D40-6CD200C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97B99-66ED-404D-B9B7-2FACD04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F4AC1-0127-4181-9BD9-B7F67F11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ADFC2-5F9F-4E23-86EC-0A034D14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AA25F-62D8-4FDA-8CC6-09CA47D8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832E9-DE5F-4A63-AD54-A187417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CFC5A-1D89-45A3-95AF-DDED4A3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B84CA-393F-4386-9666-4BABA9CA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FD4EA-F7AD-4C5B-BF00-D3F1B08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C4D-9DD1-4775-BD5D-3B32EB7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D0E69-0E3A-4923-A126-8AD50C3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D904-6AF3-4F90-ACC6-AE97DC66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390BB-728D-4BF7-B6B5-F6FD26F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F1DEF-2F2B-4893-B11E-90D912F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4275A-7E9E-4E3B-9976-B7A4D94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7ADFD-6F46-47B8-9449-0E5EDD42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E272B-09C8-41DE-AFA3-EDA7CA91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1DE7A-0BF3-4FBE-9B59-745371E1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E0E80-5DB1-455D-86ED-03F0C43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BBCA7-7E87-42DF-BBEF-2E91F12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00AC-1FFA-4466-AAED-452C95D9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880D9-D639-4070-9B70-3F40E44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F7F66-3152-470C-BF0E-432F046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82BDC-A792-4FD8-9977-7AFAE1B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51BF2-35E4-485C-9245-584076B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15151-5D35-4F26-8CC5-A0D95A8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C7D60-8A36-4854-B068-5634231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78C37-BE41-4AC6-AFBE-62ADD094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255BD-C077-447D-A5BA-A42566F3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5E382-710B-4C0A-8CA7-18A51E8B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12B78-B398-49A7-885E-68DA740C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C931-626D-40A9-B2B8-428F6A9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EF8EA-14E2-49A3-96EE-5C3CD5AA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6C9D4-356D-40A8-8E71-F4A6CCE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7531C-F063-4056-B8EA-F57C0F9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FF4F8-19D5-46B4-A8C7-27C0DB7E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3337C-20F6-4EC9-BC1E-02705CC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53BDC-1F2A-49D0-B873-75424FC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B27F4-0945-4E9B-8371-E97F79D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0508F-5F5C-424B-AE48-1C30936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9C267-0B96-49F0-8E37-19C6F02C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FCD2C-0E27-4A25-A795-BCB7BBA6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839-6339-47EB-B44B-D558B2B9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B96D5-793D-4608-BEBB-485B3C3C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DC3DB-32F1-495B-91AB-A878C15A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06ED8-FD01-47FF-8FCB-20DA766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91D1C-F9BB-4363-951B-0B182FC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8970E-C4E3-4B0F-8591-584B3502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CCBC9-4154-436B-9E4C-ED491C8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8A94D-3701-4973-B9A3-80C466D8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A1DF2-E5CD-4DA3-B421-4FB0C75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55B94-30C3-4A4C-9712-928BC77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DB46C-CAE7-495F-9F4D-93603605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AF8B-3BFB-41F2-9F76-1138104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A53F7-1AD2-4694-A95E-529D4828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36CD5-7183-4F5E-ADA3-1C9C9EFC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CF42C-B990-4677-B141-41EE569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4FC4F-B37D-4E71-B0D9-431381D7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24EDB-709B-4166-B1F6-3DFD3CE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EA627-6744-4CE0-B017-C3F9F07F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E7223-EA6B-4B21-B124-60EB0667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9594A-EF29-4079-8321-3F631597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1237F-FA76-48E8-93DC-915624C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09917-484D-43D6-9579-EE963E4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D5B-A4AA-4316-8906-16436C7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AA9-D0CD-4B2C-ADF1-8F23A77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0E107-9216-4815-9B5C-EEDEF03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0265F-1298-4AFF-8B6F-E638FC5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64AAB-3CEB-4654-A212-90A6E7B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3D814-0716-4DA3-BD75-BD91008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F5DF4-E851-4365-A246-7698FB6F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CFC5-6EBF-48F8-8E87-B57A9C5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1E5E-5E70-449B-81DA-C70C4B1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18C-802B-4F86-AFEF-968F1464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C73-9946-4A9A-8ECE-AEE0583B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CC17-1C0C-4CF2-95D3-C63EC222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370C-C937-43F9-B82E-70223B2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2495-D2A2-499A-87A5-906405D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FD0F-82ED-424F-8713-5BF0C6F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294F-28F8-4E0C-B18C-BC74CF5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714-9124-4FBD-A7A4-499983B4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FAFE-23BA-4828-B3D4-4719FB3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418B-5524-4CAB-92FA-C06EF1C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7753-34A8-4BC5-B63A-D544928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5736-D8B4-4660-AC34-4432205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235C-7897-4E29-B63C-B7FD3DC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06D1-FD4D-4162-9456-580A030A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340C-1DAE-4BFB-B1B1-34B4352E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BAB7D-652C-4DE3-B756-3B0E7A3D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BB71-AA97-4197-8BAD-56743D08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AE0A-0889-4449-917A-78AEFC63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30D-B3FE-4559-B9BE-1E9AFF6A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F1A6-2164-477F-98D9-EE66AF43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651A-EB1D-461A-A9D2-365423B8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CF4C-203F-473E-9FA7-EEAE1857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C4E4-E342-48A6-B0CC-2D1C116A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5808-E57C-4E9C-8C27-D09E924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639C-B2EF-46BA-9514-E48EB19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A56A-44BF-4E6B-9E8F-1ED214C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4396-FE7E-4C15-AAB5-4776556A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1967-8FAF-455A-9222-2A2427E4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6898-E37D-4A02-9076-BA0BA9CF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090-5C74-40B5-9857-B8C7A9F3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7712-2FF8-4FFC-950C-F3EDBC4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1EE2-7C7D-4591-93FB-7F0C5F2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15DE-1DAE-48A7-A224-5C28EFB1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DBB5-B6D5-4487-8928-C37905A3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AA8C-4CB8-406D-9F3C-E329384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2646-C8B6-4353-AA6E-CDF0AA9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0C52-8924-441A-8EBA-70E49FE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D75A-104B-46FB-A7AB-0A6C3F2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4E73-E79D-4FF1-9211-68892BC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7B72-AA81-41AC-A4D8-CA09C089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D4B-8312-415C-A632-009475C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0518-4BFE-4EFD-9183-99A2EFB9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2133-4454-4EA4-9362-232786E5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B8E8-2780-4B46-894A-2E1BA0E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10543-B411-42C0-9B23-4499CEA3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AF08-2894-47B4-8592-3F01E2A6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434D-15F9-48E4-8A59-BD54AD4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7A11-EBF6-4C48-B829-ECEB1F9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4020-984B-4A88-A5E3-2C2D582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5BE0-5CCE-48D0-88FD-DECE26F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3CBC-8790-4B2E-841C-D484C87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A0B-CB73-4BCB-B65D-1EBF163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84F5-C40B-4934-9831-0CCF0A7B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A99D-7401-4AE4-BD29-45AE4546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5B3F-456D-4584-93AD-62D812BE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80FA-0089-42FF-8D9C-D5326A9D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0466-C183-434F-A9BC-DAD9F7BD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27E0-6E23-42EE-9A17-47588DB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1D9A-8436-4F53-8707-667ED26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0940-53D4-4D8C-8261-4F7A4F1D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8E7B-1A26-4833-BB49-B63D594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F2037-2F30-4D4C-B672-7652860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F57-6D56-465E-BFA6-D874E25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FCD9-BE6F-46B8-ABD1-4AB6225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9934-9035-4957-BE81-E095099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930B-04B1-4704-B76A-63B4546F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3C04-BB8D-417F-B2B2-9A498641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F07E-546A-4730-AB64-C51C15F2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9AF5-2A46-420F-AB5C-579518C4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0FAD-BFA9-4264-AB6B-FB29066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90F6-8A14-4DCE-9E7D-2E957515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1D267-D957-42F4-9344-B9EBF50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8B927-8A4E-4A31-AE61-639A9F1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A9B-BC83-4935-BFB9-F638BAD2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1719D-8FDA-4C21-A36C-1172008B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FD553-EC42-4D2F-9981-2BE9425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F6EE-C701-4192-B572-B69A8C8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6E3D-F318-4DB1-8BCC-713D5D3F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DA126-61C2-47E3-9235-E67F8A8C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6BC2-0252-4441-BC50-040A61F9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8788C-70CC-456F-A2FD-68DD22B8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93ADE-F883-4780-9E06-BBC86FF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DD5E-1C72-4122-A620-D6E24B9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B7EF3-CA8D-4E1B-A581-EDDFD0D6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92765-CD03-416A-AF38-725BB9207B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D24F6-4C0B-4B14-9DFF-C654422B3B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DD0C8-6113-453D-9AA0-026EC5FA48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42061-8146-43EE-ABEB-75DF8DB091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97082-EEC4-4999-A53F-34713652AF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F500A-7373-42C6-9F2D-96013EF9FD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7CACD-F3E9-4487-8C63-11B095A2DD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5EB74-9C4A-4630-B7FB-0277CAE0DC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A25B4-B141-46C8-82CD-7D9ACF829E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468DF-DC31-42BC-A95D-7E5AE9C3B0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88010-0A85-43DD-B988-04207B165F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7F8D1-2D82-4849-AC8F-246185E350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6F7A8-E523-4BCB-B11A-56D224DBFB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9744C-8A9F-4A4A-8F38-0AF40A0A49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FB9AB-CEB8-4C7B-9EFA-951E8456E0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5C3D6-53F3-4D59-AB41-8BA1E77EDD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01A0E-0202-4D53-811C-348ED633C9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771280" y="3213000"/>
            <a:ext cx="53247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Причины 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школьной неуспеваемости.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Полезные рекомендации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родителям.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3564000" y="4436640"/>
            <a:ext cx="518616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 </a:t>
            </a:r>
            <a:endParaRPr b="0" lang="en-US" sz="2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Мыкало Н.М.,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педагог – психолог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МБОУ МО г.Нягань СОШ № 14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комендации родителя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5329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6. Обсуждайте книги, фильмы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7.Учите пользоваться словарями, книгами.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8. Не сравнивайте ребенка с други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9.Создавайте традиции и ритуалы семь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10. Любите независимо от успеваемости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771640" y="1699920"/>
            <a:ext cx="59040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Успехов в учебе !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16000" y="4292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268000" y="852120"/>
            <a:ext cx="6588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ины неуспеваем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делал все правильно - опять «двойка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возникает образ прочитанного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усвоил требования учителя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60483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ак не получается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веренность в своих сила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умеет учитьс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63640" y="1125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понимаю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ая скорость обуч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развития мышления, памяти, вним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во взаимоотношениях с учителем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591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98240" y="2204640"/>
            <a:ext cx="6450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хочу учиться»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к учебной мотив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ая поддержка в семь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фликты с одноклассниками или учителем</a:t>
            </a: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123640" y="220500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чем учиться, если есть компьютер, который всё умеет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язнь трудност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763280" y="177336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обще ничего не хочу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развития вол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ая познавательная активность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Слагаемые успех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411280" y="2707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ТРУД РЕБЁНКА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ВАШЕ ВРЕМЯ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ТЕРПЕНИЕ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Рекомендации родителям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484000" y="2491920"/>
            <a:ext cx="53276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1. Поддерживайте ребенка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2. Следите за режимом дня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3. Предоставляйте возможность выбора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4. Организуйте досуг по интересам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5. Трудности решайте сразу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Пользователь</cp:lastModifiedBy>
  <dcterms:modified xsi:type="dcterms:W3CDTF">2018-07-04T15:02:37Z</dcterms:modified>
  <cp:revision>19</cp:revision>
  <dc:subject/>
  <dc:title>Слайд 1</dc:title>
</cp:coreProperties>
</file>