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4F12-DCDE-4311-99AD-1E9D32C1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23D2-95E1-40CD-80F2-C695EBC1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134-5D1B-44E1-B79B-530FD8F49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8E8D-A674-42D3-8EC4-0CD2CBA4D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27BF-301D-4A3C-BAA1-7F2B9FE8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A26-607D-4F34-BD76-473AF725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172F-90E9-4583-B91B-358F3893C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190-857F-4FF4-AA06-F94470F5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E495-9DB4-43FC-88C9-8E9E06B8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652-CDC6-4B08-9EF0-AA1D3553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EA0-8815-49B5-AA4A-F0730D59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632-D2FB-4407-A69E-0AFC127D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B003-3162-4A35-873F-7A4095790D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47640" y="2349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evi Strauss inv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093080" y="26028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Равнобедренный треугольник 5"/>
          <p:cNvSpPr/>
          <p:nvPr/>
        </p:nvSpPr>
        <p:spPr>
          <a:xfrm>
            <a:off x="5651640" y="189000"/>
            <a:ext cx="1800000" cy="107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084720" y="54936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084720" y="2349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d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jea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812000" y="2349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-0.00948 C -0.42118 0.04534 -0.71511 0.10016 -0.82014 0.15105 C -0.92518 0.20194 -0.76684 0.27157 -0.75625 0.2954 E">
                                      <p:cBhvr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5783 C -0.18646 0.09067 -0.3684 0.12537 -0.44652 0.15961 C -0.52361 0.19523 -0.46823 0.24913 -0.47205 0.26763 E">
                                      <p:cBhvr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0.03007 C -0.20868 0.0768 -0.3875 0.127 -0.46059 0.16725 C -0.5316 0.20565 -0.46459 0.24497 -0.46198 0.26394 C -0.45799 0.28591 -0.45139 0.2836 -0.44202 0.28337 E">
                                      <p:cBhvr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21 0.00069 L 0.19479 0.00069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754 0.00069 L 0.08246 0.00069 E">
                                      <p:cBhvr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1:50:58Z</dcterms:created>
  <dc:creator>user</dc:creator>
  <dc:description/>
  <dc:language>en-US</dc:language>
  <cp:lastModifiedBy>user</cp:lastModifiedBy>
  <dcterms:modified xsi:type="dcterms:W3CDTF">2011-11-11T12:14:05Z</dcterms:modified>
  <cp:revision>3</cp:revision>
  <dc:subject/>
  <dc:title>Слайд 1</dc:title>
</cp:coreProperties>
</file>