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44AA4-6E56-4EFC-AAD8-9742CE0C7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D48AE-B19D-4277-B8DE-641A515CC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986A0-D3C8-4874-ABE3-B227F9366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60999-DBC6-4376-B213-056529942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9767C-B7A0-47D8-A844-9B6D9467A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FD75F-3ECD-41F8-8EF1-9349006F6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D5375-F892-43AB-8362-32E759122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BD3A3-62DB-4564-A4B6-80FA49F30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181A4-225B-4907-8C4D-6A753B1F5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70E52-4C16-4371-AD8A-6B3BB6F02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E9816-9184-4611-BD45-3D0FFA01F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7DC2D-32E5-4D6D-BE68-1B5F23EA1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24CDE-4DA7-4C58-9D37-DE99B2D68A8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1547640" y="2349360"/>
            <a:ext cx="504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Levi Strauss inven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Box 4"/>
          <p:cNvSpPr/>
          <p:nvPr/>
        </p:nvSpPr>
        <p:spPr>
          <a:xfrm>
            <a:off x="7093080" y="260280"/>
            <a:ext cx="1366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Wha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Равнобедренный треугольник 5"/>
          <p:cNvSpPr/>
          <p:nvPr/>
        </p:nvSpPr>
        <p:spPr>
          <a:xfrm>
            <a:off x="5651640" y="189000"/>
            <a:ext cx="1800000" cy="10792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Box 6"/>
          <p:cNvSpPr/>
          <p:nvPr/>
        </p:nvSpPr>
        <p:spPr>
          <a:xfrm>
            <a:off x="6084720" y="549360"/>
            <a:ext cx="100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Calibri"/>
              </a:rPr>
              <a:t>did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Box 7"/>
          <p:cNvSpPr/>
          <p:nvPr/>
        </p:nvSpPr>
        <p:spPr>
          <a:xfrm>
            <a:off x="6084720" y="2349360"/>
            <a:ext cx="2590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ed</a:t>
            </a:r>
            <a:r>
              <a:rPr b="1" lang="en-US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jeans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Box 8"/>
          <p:cNvSpPr/>
          <p:nvPr/>
        </p:nvSpPr>
        <p:spPr>
          <a:xfrm>
            <a:off x="7812000" y="2349360"/>
            <a:ext cx="86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604 -0.00948 C -0.42118 0.04534 -0.71511 0.10016 -0.82014 0.15105 C -0.92518 0.20194 -0.76684 0.27157 -0.75625 0.2954 E">
                                      <p:cBhvr>
                                        <p:cTn id="20" dur="1000" fill="hold"/>
                                        <p:tgtEl>
                                          <p:spTgt spid="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82 0.05783 C -0.18646 0.09067 -0.3684 0.12537 -0.44652 0.15961 C -0.52361 0.19523 -0.46823 0.24913 -0.47205 0.26763 E">
                                      <p:cBhvr>
                                        <p:cTn id="30" dur="1000" fill="hold"/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778 0.03007 C -0.20868 0.0768 -0.3875 0.127 -0.46059 0.16725 C -0.5316 0.20565 -0.46459 0.24497 -0.46198 0.26394 C -0.45799 0.28591 -0.45139 0.2836 -0.44202 0.28337 E">
                                      <p:cBhvr>
                                        <p:cTn id="32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521 0.00069 L 0.19479 0.00069 E">
                                      <p:cBhvr>
                                        <p:cTn id="34" dur="2000" fill="hold"/>
                                        <p:tgtEl>
                                          <p:spTgt spid="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6754 0.00069 L 0.08246 0.00069 E">
                                      <p:cBhvr>
                                        <p:cTn id="36" dur="20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2000"/>
                            </p:stCondLst>
                            <p:childTnLst>
                              <p:par>
                                <p:cTn id="3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9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4000"/>
                            </p:stCondLst>
                            <p:childTnLst>
                              <p:par>
                                <p:cTn id="42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1T11:50:58Z</dcterms:created>
  <dc:creator>user</dc:creator>
  <dc:description/>
  <dc:language>en-US</dc:language>
  <cp:lastModifiedBy>user</cp:lastModifiedBy>
  <dcterms:modified xsi:type="dcterms:W3CDTF">2011-11-11T12:14:05Z</dcterms:modified>
  <cp:revision>3</cp:revision>
  <dc:subject/>
  <dc:title>Слайд 1</dc:title>
</cp:coreProperties>
</file>