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EE2C-37E9-4E38-97F9-A1B6F6BD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AB1A-3FB8-4148-A807-D471194C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2359-0C05-4050-94F5-B9B5C2A0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70D2-0E46-4A91-BA27-0BA69DCD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BD4E-0412-4C15-B531-AA908430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564D-3F41-411A-A84B-099F205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6670-C883-47CF-880C-F5409961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3292-F899-4A23-87B9-9FBC9FB3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5140-ED59-44FA-89F2-3F239352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438D-2CEA-4F43-9EB6-CCA4ED2B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27E9-14E5-4237-B879-32205CA6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D69B-D9EF-44DE-9137-7BF9956F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C79-12BF-49B3-BA56-70C1957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51FC-582D-4ED4-862D-27E1F073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7A48-0D64-4C31-AF6C-BEAEE00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6A34-F755-4415-B0F4-57D58A55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5F39-FAB0-4401-8197-89008DE2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0F15-2399-4F7D-9E95-0A588EF5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523C-54DA-4814-A2B8-4CF5C5E9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4C52-9A73-4DE4-8F09-7EB7D41A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739C-1A39-43BD-A4D2-5396EE34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04D2-B3EA-463E-BEAD-9639CD8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6ECA-B087-47BE-8906-70FF1B7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CAAB-2CAE-4787-B867-052EB52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FF76-BE7B-4482-A17F-C99FD2D019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3E5-3282-43D1-AA40-B2801EBFD6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1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d9"/>
                </a:solidFill>
                <a:latin typeface="Garamond"/>
              </a:rPr>
              <a:t>Презентация на тему «</a:t>
            </a:r>
            <a:r>
              <a:rPr b="1" lang="en-US" sz="5400" spc="-1" strike="noStrike">
                <a:solidFill>
                  <a:srgbClr val="d9d9d9"/>
                </a:solidFill>
                <a:latin typeface="Garamond"/>
              </a:rPr>
              <a:t>VOX</a:t>
            </a:r>
            <a:r>
              <a:rPr b="1" lang="ru-RU" sz="5400" spc="-1" strike="noStrike">
                <a:solidFill>
                  <a:srgbClr val="d9d9d9"/>
                </a:solidFill>
                <a:latin typeface="Garamond"/>
              </a:rPr>
              <a:t>».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Романец Оксана Петровна, учитель музыки МБОУ ООШ №8 г. Советс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Заголовок 4"/>
          <p:cNvGrpSpPr/>
          <p:nvPr/>
        </p:nvGrpSpPr>
        <p:grpSpPr>
          <a:xfrm>
            <a:off x="539640" y="333360"/>
            <a:ext cx="8000640" cy="3239280"/>
            <a:chOff x="539640" y="333360"/>
            <a:chExt cx="8000640" cy="3239280"/>
          </a:xfrm>
        </p:grpSpPr>
        <p:pic>
          <p:nvPicPr>
            <p:cNvPr id="219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539640" y="333360"/>
              <a:ext cx="8000640" cy="32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42880" y="354240"/>
              <a:ext cx="7988040" cy="32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Умеете ли Вы правильно дышать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Содержимое 5"/>
          <p:cNvGrpSpPr/>
          <p:nvPr/>
        </p:nvGrpSpPr>
        <p:grpSpPr>
          <a:xfrm>
            <a:off x="1258920" y="1989000"/>
            <a:ext cx="6413400" cy="3655440"/>
            <a:chOff x="1258920" y="1989000"/>
            <a:chExt cx="6413400" cy="3655440"/>
          </a:xfrm>
        </p:grpSpPr>
        <p:pic>
          <p:nvPicPr>
            <p:cNvPr id="222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258920" y="1989000"/>
              <a:ext cx="6413400" cy="36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265040" y="1995480"/>
              <a:ext cx="6400440" cy="36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Влияет ли дыхание на голос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Влияет ли голос на умение петь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Влияет ли голос на умение общаться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Необходимо ли умение общаться в жизни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Arial"/>
                </a:rPr>
                <a:t>Хочешь ли быть успешным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332000" y="0"/>
            <a:ext cx="71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124000" y="33336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Заголовок 4"/>
          <p:cNvGrpSpPr/>
          <p:nvPr/>
        </p:nvGrpSpPr>
        <p:grpSpPr>
          <a:xfrm>
            <a:off x="826920" y="0"/>
            <a:ext cx="7921440" cy="2107800"/>
            <a:chOff x="826920" y="0"/>
            <a:chExt cx="7921440" cy="2107800"/>
          </a:xfrm>
        </p:grpSpPr>
        <p:pic>
          <p:nvPicPr>
            <p:cNvPr id="227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826920" y="0"/>
              <a:ext cx="7921440" cy="21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30160" y="13680"/>
              <a:ext cx="790884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Твой помощник- правильное дыхание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Содержимое 5"/>
          <p:cNvGrpSpPr/>
          <p:nvPr/>
        </p:nvGrpSpPr>
        <p:grpSpPr>
          <a:xfrm>
            <a:off x="1365120" y="3882960"/>
            <a:ext cx="6413760" cy="1762200"/>
            <a:chOff x="1365120" y="3882960"/>
            <a:chExt cx="6413760" cy="1762200"/>
          </a:xfrm>
        </p:grpSpPr>
        <p:pic>
          <p:nvPicPr>
            <p:cNvPr id="230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365120" y="3882960"/>
              <a:ext cx="64137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1639800" cy="2219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2771640" cy="1866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0" y="5075280"/>
            <a:ext cx="2016000" cy="1782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2484360" y="2133720"/>
            <a:ext cx="3478320" cy="4292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6883560" y="4748040"/>
            <a:ext cx="22604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Заголовок 4"/>
          <p:cNvGrpSpPr/>
          <p:nvPr/>
        </p:nvGrpSpPr>
        <p:grpSpPr>
          <a:xfrm>
            <a:off x="611280" y="0"/>
            <a:ext cx="7785000" cy="1487520"/>
            <a:chOff x="611280" y="0"/>
            <a:chExt cx="7785000" cy="1487520"/>
          </a:xfrm>
        </p:grpSpPr>
        <p:pic>
          <p:nvPicPr>
            <p:cNvPr id="238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11280" y="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14520" y="9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Органы дыхания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0" name="Содержимое 5"/>
          <p:cNvGrpSpPr/>
          <p:nvPr/>
        </p:nvGrpSpPr>
        <p:grpSpPr>
          <a:xfrm>
            <a:off x="1258920" y="6148440"/>
            <a:ext cx="6413400" cy="709560"/>
            <a:chOff x="1258920" y="6148440"/>
            <a:chExt cx="6413400" cy="709560"/>
          </a:xfrm>
        </p:grpSpPr>
        <p:pic>
          <p:nvPicPr>
            <p:cNvPr id="241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258920" y="6148440"/>
              <a:ext cx="6413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265040" y="6149520"/>
              <a:ext cx="6400440" cy="7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Дыхание- основа звука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9640" y="1197000"/>
            <a:ext cx="5284800" cy="4932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427640" y="2708280"/>
            <a:ext cx="649080" cy="7308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484360" y="242100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2276640"/>
            <a:ext cx="792000" cy="21564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Носовая полость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284720" y="2276640"/>
            <a:ext cx="3585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986920" y="3141720"/>
            <a:ext cx="792360" cy="7128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Гортань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339640" y="3068640"/>
            <a:ext cx="6476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3132000" y="2708280"/>
            <a:ext cx="863640" cy="7308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Носоглотка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87280" y="2349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3933720"/>
            <a:ext cx="934920" cy="7164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Бронхи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842920" y="4005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443640" y="1197000"/>
            <a:ext cx="24940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Заголовок 4"/>
          <p:cNvGrpSpPr/>
          <p:nvPr/>
        </p:nvGrpSpPr>
        <p:grpSpPr>
          <a:xfrm>
            <a:off x="684360" y="333360"/>
            <a:ext cx="7785000" cy="1487520"/>
            <a:chOff x="684360" y="333360"/>
            <a:chExt cx="7785000" cy="1487520"/>
          </a:xfrm>
        </p:grpSpPr>
        <p:pic>
          <p:nvPicPr>
            <p:cNvPr id="256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3333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87600" y="3430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Работа в группах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8" name="Содержимое 5"/>
          <p:cNvGrpSpPr/>
          <p:nvPr/>
        </p:nvGrpSpPr>
        <p:grpSpPr>
          <a:xfrm>
            <a:off x="0" y="3284640"/>
            <a:ext cx="9143640" cy="3239640"/>
            <a:chOff x="0" y="3284640"/>
            <a:chExt cx="9143640" cy="3239640"/>
          </a:xfrm>
        </p:grpSpPr>
        <p:pic>
          <p:nvPicPr>
            <p:cNvPr id="259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3284640"/>
              <a:ext cx="9143640" cy="3239640"/>
            </a:xfrm>
            <a:prstGeom prst="rect">
              <a:avLst/>
            </a:prstGeom>
            <a:ln w="9360">
              <a:solidFill>
                <a:srgbClr val="a886e0"/>
              </a:solidFill>
              <a:miter/>
            </a:ln>
          </p:spPr>
        </p:pic>
        <p:sp>
          <p:nvSpPr>
            <p:cNvPr id="260" name=""/>
            <p:cNvSpPr/>
            <p:nvPr/>
          </p:nvSpPr>
          <p:spPr>
            <a:xfrm>
              <a:off x="9000" y="3290400"/>
              <a:ext cx="9125280" cy="32216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Историки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- исследуют историю вокального пения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Аналитики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- исследуют вопросы охраны и восстановления голоса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Практики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- проводят исследования применения дыхательной гимнастики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1989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Если т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с нами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ыбирай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в какой группе будешь проводить исследовани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55640" y="404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Результатом Вашей работы могут быть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79280" y="162864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ть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5280" y="270828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кл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40000" y="386064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03640" y="386064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рошю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659640" y="2781360"/>
            <a:ext cx="172728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зе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804000" y="1557360"/>
            <a:ext cx="172728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бликац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5661000"/>
            <a:ext cx="214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284720" y="2421000"/>
            <a:ext cx="7128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1197000"/>
            <a:ext cx="2160360" cy="1440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886e0"/>
                </a:solidFill>
                <a:latin typeface="Arial"/>
              </a:rPr>
              <a:t>ПРОЕК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692000" y="191628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3635280" y="2421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79280" y="2421000"/>
            <a:ext cx="1655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360" y="2637000"/>
            <a:ext cx="863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2637000"/>
            <a:ext cx="93672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2421000"/>
            <a:ext cx="151272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6804000" y="198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5580000" y="1916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231840" y="474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44784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900000" y="508464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чники информаци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lnikov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ное издательство «Большая энциклопедия» 2001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ндекс.Словари Музыкальный словарь, 2008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ние-википедия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kipedi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var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ande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Заголовок 4"/>
          <p:cNvGrpSpPr/>
          <p:nvPr/>
        </p:nvGrpSpPr>
        <p:grpSpPr>
          <a:xfrm>
            <a:off x="684360" y="333360"/>
            <a:ext cx="7785000" cy="1487520"/>
            <a:chOff x="684360" y="333360"/>
            <a:chExt cx="7785000" cy="1487520"/>
          </a:xfrm>
        </p:grpSpPr>
        <p:pic>
          <p:nvPicPr>
            <p:cNvPr id="287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3333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87600" y="3430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9" name="Содержимое 5"/>
          <p:cNvGrpSpPr/>
          <p:nvPr/>
        </p:nvGrpSpPr>
        <p:grpSpPr>
          <a:xfrm>
            <a:off x="0" y="765000"/>
            <a:ext cx="9143640" cy="3058920"/>
            <a:chOff x="0" y="765000"/>
            <a:chExt cx="9143640" cy="3058920"/>
          </a:xfrm>
        </p:grpSpPr>
        <p:pic>
          <p:nvPicPr>
            <p:cNvPr id="290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9143640" cy="30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9000" y="770400"/>
              <a:ext cx="9125280" cy="30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50b3d"/>
                  </a:solidFill>
                  <a:latin typeface="Arial"/>
                </a:rPr>
                <a:t>После завершения проекта ты сможешь, лучше узнать предмет хорового и вокального пения!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50b3d"/>
                  </a:solidFill>
                  <a:latin typeface="Arial"/>
                </a:rPr>
                <a:t>Поправить голос, здоровье своё и своих близких!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50b3d"/>
                  </a:solidFill>
                  <a:latin typeface="Arial"/>
                </a:rPr>
                <a:t>Заложить основу будущих успехов!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116000" y="1341360"/>
            <a:ext cx="2160720" cy="1519200"/>
          </a:xfrm>
          <a:prstGeom prst="rect">
            <a:avLst/>
          </a:prstGeom>
          <a:ln w="12600">
            <a:solidFill>
              <a:srgbClr val="0099cc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6227640" y="1268280"/>
            <a:ext cx="2160720" cy="162108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3780000" y="3284640"/>
            <a:ext cx="2087280" cy="146988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3564000" y="5129280"/>
            <a:ext cx="2305080" cy="17287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Заголовок 4"/>
          <p:cNvGrpSpPr/>
          <p:nvPr/>
        </p:nvGrpSpPr>
        <p:grpSpPr>
          <a:xfrm>
            <a:off x="684360" y="333360"/>
            <a:ext cx="7785000" cy="1487520"/>
            <a:chOff x="684360" y="333360"/>
            <a:chExt cx="7785000" cy="1487520"/>
          </a:xfrm>
        </p:grpSpPr>
        <p:pic>
          <p:nvPicPr>
            <p:cNvPr id="298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3333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87600" y="3430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0" name="Содержимое 5"/>
          <p:cNvGrpSpPr/>
          <p:nvPr/>
        </p:nvGrpSpPr>
        <p:grpSpPr>
          <a:xfrm>
            <a:off x="0" y="765000"/>
            <a:ext cx="9143640" cy="3058920"/>
            <a:chOff x="0" y="765000"/>
            <a:chExt cx="9143640" cy="3058920"/>
          </a:xfrm>
        </p:grpSpPr>
        <p:pic>
          <p:nvPicPr>
            <p:cNvPr id="301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765000"/>
              <a:ext cx="9143640" cy="30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9000" y="770400"/>
              <a:ext cx="9125280" cy="30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1052640"/>
            <a:ext cx="741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Желаю 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Arial"/>
              </a:rPr>
              <a:t>успехов!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Заголовок 4"/>
          <p:cNvGrpSpPr/>
          <p:nvPr/>
        </p:nvGrpSpPr>
        <p:grpSpPr>
          <a:xfrm>
            <a:off x="684360" y="981000"/>
            <a:ext cx="7785000" cy="1726920"/>
            <a:chOff x="684360" y="981000"/>
            <a:chExt cx="7785000" cy="1726920"/>
          </a:xfrm>
        </p:grpSpPr>
        <p:pic>
          <p:nvPicPr>
            <p:cNvPr id="103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981000"/>
              <a:ext cx="778500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7600" y="992160"/>
              <a:ext cx="7772400" cy="17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d9d9d9"/>
                  </a:solidFill>
                  <a:latin typeface="Arial"/>
                </a:rPr>
                <a:t>Что такое «</a:t>
              </a: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VOX</a:t>
              </a:r>
              <a:r>
                <a:rPr b="1" lang="ru-RU" sz="4400" spc="-1" strike="noStrike">
                  <a:solidFill>
                    <a:srgbClr val="d9d9d9"/>
                  </a:solidFill>
                  <a:latin typeface="Arial"/>
                </a:rPr>
                <a:t>»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Содержимое 5"/>
          <p:cNvGrpSpPr/>
          <p:nvPr/>
        </p:nvGrpSpPr>
        <p:grpSpPr>
          <a:xfrm>
            <a:off x="1692360" y="5516640"/>
            <a:ext cx="6048360" cy="1008000"/>
            <a:chOff x="1692360" y="5516640"/>
            <a:chExt cx="6048360" cy="1008000"/>
          </a:xfrm>
        </p:grpSpPr>
        <p:pic>
          <p:nvPicPr>
            <p:cNvPr id="106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692360" y="5516640"/>
              <a:ext cx="60483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698120" y="5518440"/>
              <a:ext cx="6036120" cy="10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4" marL="2057400" indent="-22860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00000" y="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60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6193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Заголовок 4"/>
          <p:cNvGrpSpPr/>
          <p:nvPr/>
        </p:nvGrpSpPr>
        <p:grpSpPr>
          <a:xfrm>
            <a:off x="684360" y="333360"/>
            <a:ext cx="7785000" cy="1487520"/>
            <a:chOff x="684360" y="333360"/>
            <a:chExt cx="7785000" cy="1487520"/>
          </a:xfrm>
        </p:grpSpPr>
        <p:pic>
          <p:nvPicPr>
            <p:cNvPr id="112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3333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7600" y="3430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Что такое голос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4" name="Содержимое 5"/>
          <p:cNvGrpSpPr/>
          <p:nvPr/>
        </p:nvGrpSpPr>
        <p:grpSpPr>
          <a:xfrm>
            <a:off x="0" y="2060640"/>
            <a:ext cx="9143640" cy="3058560"/>
            <a:chOff x="0" y="2060640"/>
            <a:chExt cx="9143640" cy="3058560"/>
          </a:xfrm>
        </p:grpSpPr>
        <p:pic>
          <p:nvPicPr>
            <p:cNvPr id="115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2060640"/>
              <a:ext cx="9143640" cy="30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000" y="2066040"/>
              <a:ext cx="912528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Чем отличается обычное напевание от правильного пения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Как связаны голос и речь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567320"/>
            <a:ext cx="2700360" cy="22906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43280" y="3860640"/>
            <a:ext cx="2914560" cy="22687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832360" y="4657680"/>
            <a:ext cx="3311640" cy="2200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Заголовок 4"/>
          <p:cNvGrpSpPr/>
          <p:nvPr/>
        </p:nvGrpSpPr>
        <p:grpSpPr>
          <a:xfrm>
            <a:off x="684360" y="115920"/>
            <a:ext cx="7785000" cy="1008000"/>
            <a:chOff x="684360" y="115920"/>
            <a:chExt cx="7785000" cy="1008000"/>
          </a:xfrm>
        </p:grpSpPr>
        <p:pic>
          <p:nvPicPr>
            <p:cNvPr id="122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115920"/>
              <a:ext cx="778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87600" y="122400"/>
              <a:ext cx="77724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Вы это знаете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Содержимое 5"/>
          <p:cNvGrpSpPr/>
          <p:nvPr/>
        </p:nvGrpSpPr>
        <p:grpSpPr>
          <a:xfrm>
            <a:off x="0" y="1484280"/>
            <a:ext cx="9143640" cy="1800000"/>
            <a:chOff x="0" y="1484280"/>
            <a:chExt cx="9143640" cy="1800000"/>
          </a:xfrm>
        </p:grpSpPr>
        <p:pic>
          <p:nvPicPr>
            <p:cNvPr id="125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9143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000" y="1487520"/>
              <a:ext cx="9125280" cy="17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Показатели плохого голоса и несовершенной речи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Показатели правильного голоса и речи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451640" y="2205000"/>
            <a:ext cx="1200240" cy="187164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492360" y="5013360"/>
            <a:ext cx="2124360" cy="15969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148360" y="2349360"/>
            <a:ext cx="2085840" cy="15685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2556000" y="2492280"/>
            <a:ext cx="2014560" cy="161460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0" y="2333520"/>
            <a:ext cx="2190600" cy="175284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5796000" y="4869000"/>
            <a:ext cx="1942920" cy="15541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7878600" y="5013360"/>
            <a:ext cx="1265400" cy="184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0" y="4941720"/>
            <a:ext cx="1436760" cy="1916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1835280" y="4941720"/>
            <a:ext cx="1490400" cy="191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Заголовок 4"/>
          <p:cNvGrpSpPr/>
          <p:nvPr/>
        </p:nvGrpSpPr>
        <p:grpSpPr>
          <a:xfrm>
            <a:off x="684360" y="115920"/>
            <a:ext cx="7785000" cy="1008000"/>
            <a:chOff x="684360" y="115920"/>
            <a:chExt cx="7785000" cy="1008000"/>
          </a:xfrm>
        </p:grpSpPr>
        <p:pic>
          <p:nvPicPr>
            <p:cNvPr id="138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115920"/>
              <a:ext cx="778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87600" y="122400"/>
              <a:ext cx="77724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И это знаете?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0" name="Содержимое 5"/>
          <p:cNvGrpSpPr/>
          <p:nvPr/>
        </p:nvGrpSpPr>
        <p:grpSpPr>
          <a:xfrm>
            <a:off x="0" y="1484280"/>
            <a:ext cx="9143640" cy="1800000"/>
            <a:chOff x="0" y="1484280"/>
            <a:chExt cx="9143640" cy="1800000"/>
          </a:xfrm>
        </p:grpSpPr>
        <p:pic>
          <p:nvPicPr>
            <p:cNvPr id="141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0" y="1484280"/>
              <a:ext cx="9143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9000" y="1487520"/>
              <a:ext cx="9125280" cy="17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68360" y="5734080"/>
            <a:ext cx="299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3834000" cy="4281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356000" y="321300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Заголовок 4"/>
          <p:cNvGrpSpPr/>
          <p:nvPr/>
        </p:nvGrpSpPr>
        <p:grpSpPr>
          <a:xfrm>
            <a:off x="900000" y="189000"/>
            <a:ext cx="7777440" cy="2781000"/>
            <a:chOff x="900000" y="189000"/>
            <a:chExt cx="7777440" cy="2781000"/>
          </a:xfrm>
        </p:grpSpPr>
        <p:pic>
          <p:nvPicPr>
            <p:cNvPr id="147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900000" y="189000"/>
              <a:ext cx="777744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02880" y="207000"/>
              <a:ext cx="7764840" cy="27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9d9d9"/>
                  </a:solidFill>
                  <a:latin typeface="Arial"/>
                </a:rPr>
                <a:t>Как связаны голос и речь?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9d9d9"/>
                  </a:solidFill>
                  <a:latin typeface="Arial"/>
                </a:rPr>
                <a:t>Владение речью становится важной профессиональной составляющей человека и влияет на формирование имиджа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9" name="Содержимое 5"/>
          <p:cNvGrpSpPr/>
          <p:nvPr/>
        </p:nvGrpSpPr>
        <p:grpSpPr>
          <a:xfrm>
            <a:off x="1042920" y="3645000"/>
            <a:ext cx="7057800" cy="2952360"/>
            <a:chOff x="1042920" y="3645000"/>
            <a:chExt cx="7057800" cy="2952360"/>
          </a:xfrm>
        </p:grpSpPr>
        <p:pic>
          <p:nvPicPr>
            <p:cNvPr id="150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042920" y="3645000"/>
              <a:ext cx="7057800" cy="29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49760" y="3650400"/>
              <a:ext cx="7043760" cy="29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187280" y="3573360"/>
            <a:ext cx="669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особность к устной коммуникации - 83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увство ответственности – 79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бранность, внутренняя дисциплина – 6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нергичность – 53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рганизаторские способности – 42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нешние данные – 3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явление инициативы, элемент творчества – 19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2852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анные социологического  опроса  ученых-психолог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Заголовок 4"/>
          <p:cNvGrpSpPr/>
          <p:nvPr/>
        </p:nvGrpSpPr>
        <p:grpSpPr>
          <a:xfrm>
            <a:off x="468360" y="0"/>
            <a:ext cx="7785000" cy="1487520"/>
            <a:chOff x="468360" y="0"/>
            <a:chExt cx="7785000" cy="1487520"/>
          </a:xfrm>
        </p:grpSpPr>
        <p:pic>
          <p:nvPicPr>
            <p:cNvPr id="155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468360" y="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9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Правильно петь, говорить, дышать </a:t>
              </a:r>
              <a:r>
                <a:rPr b="1" lang="en-US" sz="4400" spc="-1" strike="noStrike">
                  <a:solidFill>
                    <a:srgbClr val="d9d9d9"/>
                  </a:solidFill>
                  <a:latin typeface="Verdana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7" name="Содержимое 5"/>
          <p:cNvGrpSpPr/>
          <p:nvPr/>
        </p:nvGrpSpPr>
        <p:grpSpPr>
          <a:xfrm>
            <a:off x="539640" y="1557360"/>
            <a:ext cx="7704000" cy="2158560"/>
            <a:chOff x="539640" y="1557360"/>
            <a:chExt cx="7704000" cy="2158560"/>
          </a:xfrm>
        </p:grpSpPr>
        <p:pic>
          <p:nvPicPr>
            <p:cNvPr id="158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539640" y="1557360"/>
              <a:ext cx="7704000" cy="21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47200" y="1561320"/>
              <a:ext cx="7688520" cy="2146680"/>
            </a:xfrm>
            <a:prstGeom prst="rect">
              <a:avLst/>
            </a:prstGeom>
            <a:solidFill>
              <a:srgbClr val="a886e0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Искусство пения-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это искусство образов и эмоций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Arial"/>
                </a:rPr>
                <a:t>Вокал-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 это технологический процесс художественного пения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886e0"/>
                  </a:solidFill>
                  <a:latin typeface="Arial"/>
                </a:rPr>
                <a:t>Исполнитель</a:t>
              </a:r>
              <a:r>
                <a:rPr b="0" lang="en-US" sz="3200" spc="-1" strike="noStrike">
                  <a:solidFill>
                    <a:srgbClr val="750b3d"/>
                  </a:solidFill>
                  <a:latin typeface="Arial"/>
                </a:rPr>
                <a:t>- это человек, владеющий специальными знаниями и приёмами вокала, свободно управляющий своим голосом и умеющий донести красоту исполнения до слушателя.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Заголовок 4"/>
          <p:cNvGrpSpPr/>
          <p:nvPr/>
        </p:nvGrpSpPr>
        <p:grpSpPr>
          <a:xfrm>
            <a:off x="682560" y="2120760"/>
            <a:ext cx="7785000" cy="1487520"/>
            <a:chOff x="682560" y="2120760"/>
            <a:chExt cx="7785000" cy="1487520"/>
          </a:xfrm>
        </p:grpSpPr>
        <p:pic>
          <p:nvPicPr>
            <p:cNvPr id="16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2560" y="212076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85800" y="213048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63" name="Содержимое 5"/>
          <p:cNvGrpSpPr/>
          <p:nvPr/>
        </p:nvGrpSpPr>
        <p:grpSpPr>
          <a:xfrm>
            <a:off x="1365120" y="3882960"/>
            <a:ext cx="6413760" cy="1762200"/>
            <a:chOff x="1365120" y="3882960"/>
            <a:chExt cx="6413760" cy="1762200"/>
          </a:xfrm>
        </p:grpSpPr>
        <p:pic>
          <p:nvPicPr>
            <p:cNvPr id="164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365120" y="3882960"/>
              <a:ext cx="64137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2916360" cy="194292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111640" y="0"/>
            <a:ext cx="4032360" cy="280512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620800" cy="1935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3348000" y="836640"/>
            <a:ext cx="1177920" cy="177336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048440" y="4057560"/>
            <a:ext cx="2095560" cy="280044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5003640" y="3141720"/>
            <a:ext cx="1679760" cy="208260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2987640" y="4273560"/>
            <a:ext cx="1771560" cy="2584440"/>
          </a:xfrm>
          <a:prstGeom prst="rect">
            <a:avLst/>
          </a:prstGeom>
          <a:ln w="9360">
            <a:solidFill>
              <a:srgbClr val="a886e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Заголовок 4"/>
          <p:cNvGrpSpPr/>
          <p:nvPr/>
        </p:nvGrpSpPr>
        <p:grpSpPr>
          <a:xfrm>
            <a:off x="684360" y="0"/>
            <a:ext cx="7785000" cy="1487520"/>
            <a:chOff x="684360" y="0"/>
            <a:chExt cx="7785000" cy="1487520"/>
          </a:xfrm>
        </p:grpSpPr>
        <p:pic>
          <p:nvPicPr>
            <p:cNvPr id="174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684360" y="0"/>
              <a:ext cx="7785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7600" y="9720"/>
              <a:ext cx="7772400" cy="1469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9d9d9"/>
                  </a:solidFill>
                  <a:latin typeface="Arial"/>
                </a:rPr>
                <a:t>Жанры вокального искусства</a:t>
              </a:r>
              <a:endParaRPr b="0" lang="en-US" sz="4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6" name="Содержимое 5"/>
          <p:cNvGrpSpPr/>
          <p:nvPr/>
        </p:nvGrpSpPr>
        <p:grpSpPr>
          <a:xfrm>
            <a:off x="1332000" y="3141720"/>
            <a:ext cx="6413400" cy="1762200"/>
            <a:chOff x="1332000" y="3141720"/>
            <a:chExt cx="6413400" cy="1762200"/>
          </a:xfrm>
        </p:grpSpPr>
        <p:pic>
          <p:nvPicPr>
            <p:cNvPr id="177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1332000" y="3141720"/>
              <a:ext cx="641340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338120" y="3144960"/>
              <a:ext cx="640044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348000" y="3357720"/>
            <a:ext cx="2664000" cy="1008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57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анр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06064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595008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587700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566100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148428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443700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58972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84640"/>
            <a:ext cx="180036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484280"/>
            <a:ext cx="180000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516720" y="220500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7020000" y="3284640"/>
            <a:ext cx="1800000" cy="718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37000"/>
            <a:ext cx="1800360" cy="71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1557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ь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07672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тское 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671184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276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ров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7308720" y="3357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од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6948360" y="4437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самблев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7164360" y="573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мер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587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рков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59500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страд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6100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фессиональ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50864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ительск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84640"/>
            <a:ext cx="17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ерно-концертн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1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кадемическое п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564000" y="4365720"/>
            <a:ext cx="72072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365720"/>
            <a:ext cx="576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4221000"/>
            <a:ext cx="165564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4076640"/>
            <a:ext cx="1152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012000" y="3645000"/>
            <a:ext cx="1152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724360" y="2781000"/>
            <a:ext cx="100836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788000" y="2205000"/>
            <a:ext cx="57600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20500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2637000"/>
            <a:ext cx="1656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645000"/>
            <a:ext cx="1656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63640" y="4149720"/>
            <a:ext cx="1728720" cy="57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763640" y="4292640"/>
            <a:ext cx="21607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6-07T20:33:34Z</dcterms:modified>
  <cp:revision>22</cp:revision>
  <dc:subject/>
  <dc:title>Слайд 1</dc:title>
</cp:coreProperties>
</file>