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52DC-BC67-42F8-9636-F4AB344A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AC9F-B5EB-4761-AC81-3650214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C34C-2A17-48EF-89A9-07CC69D6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1BF2-6386-449E-B82F-AED5E8C1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E8DE-6987-4F5A-B3C8-E58A3E86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8849-B533-4871-861B-32EFA10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9118-C035-4EA9-9E1A-71C93A1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DE75-A8F5-41CF-B053-8560B69F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D056-CB57-46E6-9646-5B3A171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FE2E-3C6A-4138-80E7-66D53A60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E48-5029-41E3-AB76-7E71435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9880-F07E-4F6B-8339-68E42E2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FC4-3091-48A4-918A-4D754BE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07D-F21B-4AB7-B8EB-1DB508E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36F2-4EB3-4B27-B494-B5A9C52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E10-C29D-4DE3-BCF5-DEB276F9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3A97-CCA9-47A1-90DF-617BD5A6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6A56-A781-4DC5-949D-1C7728F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97E7-356F-4A5D-AE77-21C6CA11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3737-65EF-4D38-9367-14C95C8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83B0-EFA0-4157-91E0-FA628AFF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6C9D-E3D2-4BBD-8EE1-2506AC9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32E1-F421-4496-BBAD-F450DC1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F072-5080-454D-A608-2FD35EB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838-7CA1-42DD-8F34-14F180959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FB2-FAB3-4529-A2A3-39CC3C34F2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1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d9"/>
                </a:solidFill>
                <a:latin typeface="Garamond"/>
              </a:rPr>
              <a:t>Презентация на тему «</a:t>
            </a:r>
            <a:r>
              <a:rPr b="1" lang="en-US" sz="5400" spc="-1" strike="noStrike">
                <a:solidFill>
                  <a:srgbClr val="d9d9d9"/>
                </a:solidFill>
                <a:latin typeface="Garamond"/>
              </a:rPr>
              <a:t>VOX</a:t>
            </a:r>
            <a:r>
              <a:rPr b="1" lang="ru-RU" sz="5400" spc="-1" strike="noStrike">
                <a:solidFill>
                  <a:srgbClr val="d9d9d9"/>
                </a:solidFill>
                <a:latin typeface="Garamond"/>
              </a:rPr>
              <a:t>».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Романец Оксана Петровна, учитель музыки МБОУ ООШ №8 г. Сове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Заголовок 4"/>
          <p:cNvGrpSpPr/>
          <p:nvPr/>
        </p:nvGrpSpPr>
        <p:grpSpPr>
          <a:xfrm>
            <a:off x="539640" y="333360"/>
            <a:ext cx="8000640" cy="3239280"/>
            <a:chOff x="539640" y="333360"/>
            <a:chExt cx="8000640" cy="3239280"/>
          </a:xfrm>
        </p:grpSpPr>
        <p:pic>
          <p:nvPicPr>
            <p:cNvPr id="219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539640" y="333360"/>
              <a:ext cx="800064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42880" y="354240"/>
              <a:ext cx="7988040" cy="32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Умеете ли Вы правильно дышать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Содержимое 5"/>
          <p:cNvGrpSpPr/>
          <p:nvPr/>
        </p:nvGrpSpPr>
        <p:grpSpPr>
          <a:xfrm>
            <a:off x="1258920" y="1989000"/>
            <a:ext cx="6413400" cy="3655440"/>
            <a:chOff x="1258920" y="1989000"/>
            <a:chExt cx="6413400" cy="3655440"/>
          </a:xfrm>
        </p:grpSpPr>
        <p:pic>
          <p:nvPicPr>
            <p:cNvPr id="222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258920" y="1989000"/>
              <a:ext cx="6413400" cy="36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265040" y="1995480"/>
              <a:ext cx="6400440" cy="36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дыхание на голос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голос на умение пет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голос на умение общаться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Необходимо ли умение общаться в жизни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Arial"/>
                </a:rPr>
                <a:t>Хочешь ли быть успешным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32000" y="0"/>
            <a:ext cx="71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333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Заголовок 4"/>
          <p:cNvGrpSpPr/>
          <p:nvPr/>
        </p:nvGrpSpPr>
        <p:grpSpPr>
          <a:xfrm>
            <a:off x="826920" y="0"/>
            <a:ext cx="7921440" cy="2107800"/>
            <a:chOff x="826920" y="0"/>
            <a:chExt cx="7921440" cy="2107800"/>
          </a:xfrm>
        </p:grpSpPr>
        <p:pic>
          <p:nvPicPr>
            <p:cNvPr id="22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826920" y="0"/>
              <a:ext cx="7921440" cy="21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30160" y="13680"/>
              <a:ext cx="790884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Твой помощник- правильное дыхание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Содержимое 5"/>
          <p:cNvGrpSpPr/>
          <p:nvPr/>
        </p:nvGrpSpPr>
        <p:grpSpPr>
          <a:xfrm>
            <a:off x="1365120" y="3882960"/>
            <a:ext cx="6413760" cy="1762200"/>
            <a:chOff x="1365120" y="3882960"/>
            <a:chExt cx="6413760" cy="1762200"/>
          </a:xfrm>
        </p:grpSpPr>
        <p:pic>
          <p:nvPicPr>
            <p:cNvPr id="23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65120" y="3882960"/>
              <a:ext cx="64137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1639800" cy="2219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771640" cy="1866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5075280"/>
            <a:ext cx="2016000" cy="1782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484360" y="2133720"/>
            <a:ext cx="3478320" cy="429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883560" y="4748040"/>
            <a:ext cx="22604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Заголовок 4"/>
          <p:cNvGrpSpPr/>
          <p:nvPr/>
        </p:nvGrpSpPr>
        <p:grpSpPr>
          <a:xfrm>
            <a:off x="611280" y="0"/>
            <a:ext cx="7785000" cy="1487520"/>
            <a:chOff x="611280" y="0"/>
            <a:chExt cx="7785000" cy="1487520"/>
          </a:xfrm>
        </p:grpSpPr>
        <p:pic>
          <p:nvPicPr>
            <p:cNvPr id="23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4520" y="9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Органы дыхания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0" name="Содержимое 5"/>
          <p:cNvGrpSpPr/>
          <p:nvPr/>
        </p:nvGrpSpPr>
        <p:grpSpPr>
          <a:xfrm>
            <a:off x="1258920" y="6148440"/>
            <a:ext cx="6413400" cy="709560"/>
            <a:chOff x="1258920" y="6148440"/>
            <a:chExt cx="6413400" cy="709560"/>
          </a:xfrm>
        </p:grpSpPr>
        <p:pic>
          <p:nvPicPr>
            <p:cNvPr id="2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258920" y="6148440"/>
              <a:ext cx="6413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265040" y="6149520"/>
              <a:ext cx="64004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Дыхание- основа звука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5284800" cy="4932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427640" y="2708280"/>
            <a:ext cx="649080" cy="730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484360" y="242100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276640"/>
            <a:ext cx="792000" cy="21564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Носовая полость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284720" y="2276640"/>
            <a:ext cx="3585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86920" y="3141720"/>
            <a:ext cx="792360" cy="71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Гортань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339640" y="3068640"/>
            <a:ext cx="647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2708280"/>
            <a:ext cx="863640" cy="730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Носоглотка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280" y="2349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3933720"/>
            <a:ext cx="934920" cy="7164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Бронхи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842920" y="4005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2494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56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Работа в группах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" name="Содержимое 5"/>
          <p:cNvGrpSpPr/>
          <p:nvPr/>
        </p:nvGrpSpPr>
        <p:grpSpPr>
          <a:xfrm>
            <a:off x="0" y="3284640"/>
            <a:ext cx="9143640" cy="3239640"/>
            <a:chOff x="0" y="3284640"/>
            <a:chExt cx="9143640" cy="3239640"/>
          </a:xfrm>
        </p:grpSpPr>
        <p:pic>
          <p:nvPicPr>
            <p:cNvPr id="259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3284640"/>
              <a:ext cx="9143640" cy="3239640"/>
            </a:xfrm>
            <a:prstGeom prst="rect">
              <a:avLst/>
            </a:prstGeom>
            <a:ln w="9360">
              <a:solidFill>
                <a:srgbClr val="a886e0"/>
              </a:solidFill>
              <a:miter/>
            </a:ln>
          </p:spPr>
        </p:pic>
        <p:sp>
          <p:nvSpPr>
            <p:cNvPr id="260" name=""/>
            <p:cNvSpPr/>
            <p:nvPr/>
          </p:nvSpPr>
          <p:spPr>
            <a:xfrm>
              <a:off x="9000" y="3290400"/>
              <a:ext cx="9125280" cy="3221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Истор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исследуют историю вокального пени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Аналит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исследуют вопросы охраны и восстановления голоса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Практ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проводят исследования применения дыхательной гимнастик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1989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Если т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с нами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бирай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в какой группе будешь проводить исследова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5640" y="404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Результатом Вашей работы могут быть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9280" y="1628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ть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5280" y="270828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40000" y="3860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03640" y="3860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ошю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659640" y="2781360"/>
            <a:ext cx="172728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з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804000" y="155736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блик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5661000"/>
            <a:ext cx="21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284720" y="2421000"/>
            <a:ext cx="712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197000"/>
            <a:ext cx="2160360" cy="1440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692000" y="191628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24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280" y="2421000"/>
            <a:ext cx="165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360" y="2637000"/>
            <a:ext cx="863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2637000"/>
            <a:ext cx="936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421000"/>
            <a:ext cx="151272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680400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5580000" y="1916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3184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508464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и информац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lnikov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ое издательство «Большая энциклопедия» 2001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ндекс.Словари Музыкальный словарь, 2008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ние-википед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var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ande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8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" name="Содержимое 5"/>
          <p:cNvGrpSpPr/>
          <p:nvPr/>
        </p:nvGrpSpPr>
        <p:grpSpPr>
          <a:xfrm>
            <a:off x="0" y="765000"/>
            <a:ext cx="9143640" cy="3058920"/>
            <a:chOff x="0" y="765000"/>
            <a:chExt cx="9143640" cy="3058920"/>
          </a:xfrm>
        </p:grpSpPr>
        <p:pic>
          <p:nvPicPr>
            <p:cNvPr id="29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364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9000" y="770400"/>
              <a:ext cx="912528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После завершения проекта ты сможешь, лучше узнать предмет хорового и вокального пения!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Поправить голос, здоровье своё и своих близких!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Заложить основу будущих успехов!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2160720" cy="151920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6227640" y="1268280"/>
            <a:ext cx="2160720" cy="16210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3780000" y="3284640"/>
            <a:ext cx="2087280" cy="14698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3564000" y="5129280"/>
            <a:ext cx="2305080" cy="17287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9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0" name="Содержимое 5"/>
          <p:cNvGrpSpPr/>
          <p:nvPr/>
        </p:nvGrpSpPr>
        <p:grpSpPr>
          <a:xfrm>
            <a:off x="0" y="765000"/>
            <a:ext cx="9143640" cy="3058920"/>
            <a:chOff x="0" y="765000"/>
            <a:chExt cx="9143640" cy="3058920"/>
          </a:xfrm>
        </p:grpSpPr>
        <p:pic>
          <p:nvPicPr>
            <p:cNvPr id="30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364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9000" y="770400"/>
              <a:ext cx="912528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105264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Желаю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успехов!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Заголовок 4"/>
          <p:cNvGrpSpPr/>
          <p:nvPr/>
        </p:nvGrpSpPr>
        <p:grpSpPr>
          <a:xfrm>
            <a:off x="684360" y="981000"/>
            <a:ext cx="7785000" cy="1726920"/>
            <a:chOff x="684360" y="981000"/>
            <a:chExt cx="7785000" cy="1726920"/>
          </a:xfrm>
        </p:grpSpPr>
        <p:pic>
          <p:nvPicPr>
            <p:cNvPr id="103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981000"/>
              <a:ext cx="778500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7600" y="992160"/>
              <a:ext cx="777240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d9d9d9"/>
                  </a:solidFill>
                  <a:latin typeface="Arial"/>
                </a:rPr>
                <a:t>Что такое «</a:t>
              </a: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VOX</a:t>
              </a:r>
              <a:r>
                <a:rPr b="1" lang="ru-RU" sz="4400" spc="-1" strike="noStrike">
                  <a:solidFill>
                    <a:srgbClr val="d9d9d9"/>
                  </a:solidFill>
                  <a:latin typeface="Arial"/>
                </a:rPr>
                <a:t>»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Содержимое 5"/>
          <p:cNvGrpSpPr/>
          <p:nvPr/>
        </p:nvGrpSpPr>
        <p:grpSpPr>
          <a:xfrm>
            <a:off x="1692360" y="5516640"/>
            <a:ext cx="6048360" cy="1008000"/>
            <a:chOff x="1692360" y="5516640"/>
            <a:chExt cx="6048360" cy="1008000"/>
          </a:xfrm>
        </p:grpSpPr>
        <p:pic>
          <p:nvPicPr>
            <p:cNvPr id="106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692360" y="5516640"/>
              <a:ext cx="60483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698120" y="5518440"/>
              <a:ext cx="6036120" cy="10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2057400" indent="-22860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00000" y="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6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6193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112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Что такое голос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4" name="Содержимое 5"/>
          <p:cNvGrpSpPr/>
          <p:nvPr/>
        </p:nvGrpSpPr>
        <p:grpSpPr>
          <a:xfrm>
            <a:off x="0" y="2060640"/>
            <a:ext cx="9143640" cy="3058560"/>
            <a:chOff x="0" y="2060640"/>
            <a:chExt cx="9143640" cy="3058560"/>
          </a:xfrm>
        </p:grpSpPr>
        <p:pic>
          <p:nvPicPr>
            <p:cNvPr id="115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2060640"/>
              <a:ext cx="9143640" cy="30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000" y="2066040"/>
              <a:ext cx="912528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Чем отличается обычное напевание от правильного пения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Как связаны голос и реч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567320"/>
            <a:ext cx="2700360" cy="2290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43280" y="3860640"/>
            <a:ext cx="2914560" cy="2268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832360" y="4657680"/>
            <a:ext cx="3311640" cy="22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4"/>
          <p:cNvGrpSpPr/>
          <p:nvPr/>
        </p:nvGrpSpPr>
        <p:grpSpPr>
          <a:xfrm>
            <a:off x="684360" y="115920"/>
            <a:ext cx="7785000" cy="1008000"/>
            <a:chOff x="684360" y="115920"/>
            <a:chExt cx="7785000" cy="1008000"/>
          </a:xfrm>
        </p:grpSpPr>
        <p:pic>
          <p:nvPicPr>
            <p:cNvPr id="122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115920"/>
              <a:ext cx="778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87600" y="122400"/>
              <a:ext cx="77724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Вы это знаете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Содержимое 5"/>
          <p:cNvGrpSpPr/>
          <p:nvPr/>
        </p:nvGrpSpPr>
        <p:grpSpPr>
          <a:xfrm>
            <a:off x="0" y="1484280"/>
            <a:ext cx="9143640" cy="1800000"/>
            <a:chOff x="0" y="1484280"/>
            <a:chExt cx="9143640" cy="1800000"/>
          </a:xfrm>
        </p:grpSpPr>
        <p:pic>
          <p:nvPicPr>
            <p:cNvPr id="125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9143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000" y="1487520"/>
              <a:ext cx="9125280" cy="17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Показатели плохого голоса и несовершенной реч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Показатели правильного голоса и реч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451640" y="2205000"/>
            <a:ext cx="1200240" cy="18716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492360" y="5013360"/>
            <a:ext cx="2124360" cy="1596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148360" y="2349360"/>
            <a:ext cx="2085840" cy="1568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556000" y="2492280"/>
            <a:ext cx="2014560" cy="161460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2333520"/>
            <a:ext cx="2190600" cy="17528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796000" y="4869000"/>
            <a:ext cx="1942920" cy="15541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878600" y="5013360"/>
            <a:ext cx="1265400" cy="18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0" y="4941720"/>
            <a:ext cx="1436760" cy="1916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835280" y="4941720"/>
            <a:ext cx="1490400" cy="191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Заголовок 4"/>
          <p:cNvGrpSpPr/>
          <p:nvPr/>
        </p:nvGrpSpPr>
        <p:grpSpPr>
          <a:xfrm>
            <a:off x="684360" y="115920"/>
            <a:ext cx="7785000" cy="1008000"/>
            <a:chOff x="684360" y="115920"/>
            <a:chExt cx="7785000" cy="1008000"/>
          </a:xfrm>
        </p:grpSpPr>
        <p:pic>
          <p:nvPicPr>
            <p:cNvPr id="13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115920"/>
              <a:ext cx="778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87600" y="122400"/>
              <a:ext cx="77724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И это знаете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Содержимое 5"/>
          <p:cNvGrpSpPr/>
          <p:nvPr/>
        </p:nvGrpSpPr>
        <p:grpSpPr>
          <a:xfrm>
            <a:off x="0" y="1484280"/>
            <a:ext cx="9143640" cy="1800000"/>
            <a:chOff x="0" y="1484280"/>
            <a:chExt cx="9143640" cy="1800000"/>
          </a:xfrm>
        </p:grpSpPr>
        <p:pic>
          <p:nvPicPr>
            <p:cNvPr id="1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9143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000" y="1487520"/>
              <a:ext cx="9125280" cy="17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3834000" cy="4281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Заголовок 4"/>
          <p:cNvGrpSpPr/>
          <p:nvPr/>
        </p:nvGrpSpPr>
        <p:grpSpPr>
          <a:xfrm>
            <a:off x="900000" y="189000"/>
            <a:ext cx="7777440" cy="2781000"/>
            <a:chOff x="900000" y="189000"/>
            <a:chExt cx="7777440" cy="2781000"/>
          </a:xfrm>
        </p:grpSpPr>
        <p:pic>
          <p:nvPicPr>
            <p:cNvPr id="14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900000" y="189000"/>
              <a:ext cx="777744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02880" y="207000"/>
              <a:ext cx="7764840" cy="27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9d9d9"/>
                  </a:solidFill>
                  <a:latin typeface="Arial"/>
                </a:rPr>
                <a:t>Как связаны голос и реч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9d9d9"/>
                  </a:solidFill>
                  <a:latin typeface="Arial"/>
                </a:rPr>
                <a:t>Владение речью становится важной профессиональной составляющей человека и влияет на формирование имиджа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Содержимое 5"/>
          <p:cNvGrpSpPr/>
          <p:nvPr/>
        </p:nvGrpSpPr>
        <p:grpSpPr>
          <a:xfrm>
            <a:off x="1042920" y="3645000"/>
            <a:ext cx="7057800" cy="2952360"/>
            <a:chOff x="1042920" y="3645000"/>
            <a:chExt cx="7057800" cy="2952360"/>
          </a:xfrm>
        </p:grpSpPr>
        <p:pic>
          <p:nvPicPr>
            <p:cNvPr id="15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042920" y="3645000"/>
              <a:ext cx="705780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49760" y="3650400"/>
              <a:ext cx="7043760" cy="29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187280" y="3573360"/>
            <a:ext cx="669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ность к устной коммуникации - 83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увство ответственности – 79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ранность, внутренняя дисциплина – 6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нергичность – 53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ганизаторские способности – 42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нешние данные – 3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явление инициативы, элемент творчества – 19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852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анные социологического  опроса  ученых-психолог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Заголовок 4"/>
          <p:cNvGrpSpPr/>
          <p:nvPr/>
        </p:nvGrpSpPr>
        <p:grpSpPr>
          <a:xfrm>
            <a:off x="468360" y="0"/>
            <a:ext cx="7785000" cy="1487520"/>
            <a:chOff x="468360" y="0"/>
            <a:chExt cx="7785000" cy="1487520"/>
          </a:xfrm>
        </p:grpSpPr>
        <p:pic>
          <p:nvPicPr>
            <p:cNvPr id="155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6836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9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Правильно петь, говорить, дышать </a:t>
              </a:r>
              <a:r>
                <a:rPr b="1" lang="en-US" sz="4400" spc="-1" strike="noStrike">
                  <a:solidFill>
                    <a:srgbClr val="d9d9d9"/>
                  </a:solidFill>
                  <a:latin typeface="Verdan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7" name="Содержимое 5"/>
          <p:cNvGrpSpPr/>
          <p:nvPr/>
        </p:nvGrpSpPr>
        <p:grpSpPr>
          <a:xfrm>
            <a:off x="539640" y="1557360"/>
            <a:ext cx="7704000" cy="2158560"/>
            <a:chOff x="539640" y="1557360"/>
            <a:chExt cx="7704000" cy="2158560"/>
          </a:xfrm>
        </p:grpSpPr>
        <p:pic>
          <p:nvPicPr>
            <p:cNvPr id="158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539640" y="1557360"/>
              <a:ext cx="7704000" cy="21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47200" y="1561320"/>
              <a:ext cx="7688520" cy="2146680"/>
            </a:xfrm>
            <a:prstGeom prst="rect">
              <a:avLst/>
            </a:prstGeom>
            <a:solidFill>
              <a:srgbClr val="a886e0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скусство пения-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это искусство образов и эмоций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Вокал-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это технологический процесс художественного пени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886e0"/>
                  </a:solidFill>
                  <a:latin typeface="Arial"/>
                </a:rPr>
                <a:t>Исполнитель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это человек, владеющий специальными знаниями и приёмами вокала, свободно управляющий своим голосом и умеющий донести красоту исполнения до слушател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Заголовок 4"/>
          <p:cNvGrpSpPr/>
          <p:nvPr/>
        </p:nvGrpSpPr>
        <p:grpSpPr>
          <a:xfrm>
            <a:off x="682560" y="2120760"/>
            <a:ext cx="7785000" cy="1487520"/>
            <a:chOff x="682560" y="2120760"/>
            <a:chExt cx="7785000" cy="1487520"/>
          </a:xfrm>
        </p:grpSpPr>
        <p:pic>
          <p:nvPicPr>
            <p:cNvPr id="16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2560" y="21207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Содержимое 5"/>
          <p:cNvGrpSpPr/>
          <p:nvPr/>
        </p:nvGrpSpPr>
        <p:grpSpPr>
          <a:xfrm>
            <a:off x="1365120" y="3882960"/>
            <a:ext cx="6413760" cy="1762200"/>
            <a:chOff x="1365120" y="3882960"/>
            <a:chExt cx="6413760" cy="1762200"/>
          </a:xfrm>
        </p:grpSpPr>
        <p:pic>
          <p:nvPicPr>
            <p:cNvPr id="164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65120" y="3882960"/>
              <a:ext cx="64137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2916360" cy="194292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111640" y="0"/>
            <a:ext cx="4032360" cy="280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20800" cy="1935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3348000" y="836640"/>
            <a:ext cx="1177920" cy="1773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048440" y="4057560"/>
            <a:ext cx="2095560" cy="28004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003640" y="3141720"/>
            <a:ext cx="1679760" cy="208260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2987640" y="4273560"/>
            <a:ext cx="1771560" cy="25844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Заголовок 4"/>
          <p:cNvGrpSpPr/>
          <p:nvPr/>
        </p:nvGrpSpPr>
        <p:grpSpPr>
          <a:xfrm>
            <a:off x="684360" y="0"/>
            <a:ext cx="7785000" cy="1487520"/>
            <a:chOff x="684360" y="0"/>
            <a:chExt cx="7785000" cy="1487520"/>
          </a:xfrm>
        </p:grpSpPr>
        <p:pic>
          <p:nvPicPr>
            <p:cNvPr id="174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7600" y="9720"/>
              <a:ext cx="7772400" cy="1469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Жанры вокального искусства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6" name="Содержимое 5"/>
          <p:cNvGrpSpPr/>
          <p:nvPr/>
        </p:nvGrpSpPr>
        <p:grpSpPr>
          <a:xfrm>
            <a:off x="1332000" y="3141720"/>
            <a:ext cx="6413400" cy="1762200"/>
            <a:chOff x="1332000" y="3141720"/>
            <a:chExt cx="6413400" cy="1762200"/>
          </a:xfrm>
        </p:grpSpPr>
        <p:pic>
          <p:nvPicPr>
            <p:cNvPr id="177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32000" y="3141720"/>
              <a:ext cx="64134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338120" y="3144960"/>
              <a:ext cx="64004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348000" y="3357720"/>
            <a:ext cx="2664000" cy="100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57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н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06064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595008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587700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5661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148428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4437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58972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84640"/>
            <a:ext cx="180036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484280"/>
            <a:ext cx="180000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516720" y="2205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7020000" y="328464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37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1557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ь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07672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тское 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6711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276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ров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7308720" y="3357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од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6948360" y="44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самблев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573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мер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587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рков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59500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страд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6100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ессиональ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508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ительск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8464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ерно-концерт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1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адемическ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64000" y="4365720"/>
            <a:ext cx="72072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365720"/>
            <a:ext cx="576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4221000"/>
            <a:ext cx="16556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4076640"/>
            <a:ext cx="1152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12000" y="3645000"/>
            <a:ext cx="1152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24360" y="2781000"/>
            <a:ext cx="1008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788000" y="2205000"/>
            <a:ext cx="57600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20500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2637000"/>
            <a:ext cx="1656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645000"/>
            <a:ext cx="165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63640" y="4149720"/>
            <a:ext cx="172872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63640" y="4292640"/>
            <a:ext cx="21607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6-07T20:33:34Z</dcterms:modified>
  <cp:revision>22</cp:revision>
  <dc:subject/>
  <dc:title>Слайд 1</dc:title>
</cp:coreProperties>
</file>