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BB2-0543-4037-B71C-B80CC7401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AE7-B64D-4517-A186-7E3715D23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F16-97B8-4FDB-8A6C-0FBA7D09C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09D-16FC-4256-9ABB-8E52F99CC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CF7-3A35-4335-B3CB-F26D84794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C16-F98D-45BB-B079-7AED09CA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DEC-F7A7-40C1-B5EF-F29CA265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0F0-9685-4F67-91EA-555476B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B99-AF91-4E65-9E5A-82EAE2DE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39C-C09D-4543-BF6A-679D7AAC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4D7E-0177-447F-811F-C97FCD11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0BBB-FA37-48DE-9194-3FD1C21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B04-4373-4530-A7CB-21ABAAE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AF0A-AB7C-4F0D-BBB1-7FD2DB7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FCB5-394F-4FFD-934E-C5A993C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259-E309-494D-AD15-9FC6D8B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719-22D4-4E8F-A836-2112096A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16E-38FA-401C-A452-5A7F3EE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C9F0-1D61-4F3C-9939-9B9EA44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D54-A33F-4616-846B-32231DC4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0361-E4F2-4D96-8FCF-655F791C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BE7D-41F9-490E-8579-037C340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5816-F8B4-4E7D-AA16-408D3156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B81E-AE60-4782-9BB9-CEDCD16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5C11-1601-4832-A44F-77C08E52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2728-75C8-4D83-8BE7-7D6C8870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A713-AC59-461B-B849-3054E622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4C79-0BF3-4E3E-81D4-57574C8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D583-CDB1-4599-8DB7-186C8877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23C1-CDFF-4EB8-97FB-7421A283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28D8-C8F3-4AD3-B61C-4DE9944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296C-64E1-4DFD-9C13-BE88CF0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F7E8-7C05-4D7A-9F00-76CB981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56055-2070-469B-98E3-3E8C40D5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6EAA-8A93-4832-8C6D-E7BC8919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FFE3-5B4F-40D6-BF94-D5258B65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1C871-4E8E-4051-95CB-6DB3CCC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A313-5F05-4086-8C5C-A9655146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8AE-4703-48D9-A0C4-6928A19C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D41C-A786-4F20-A928-911AA80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F14F6-1544-4A6E-9BAC-D91E40E4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80FE-FCBF-4719-973B-4D19A82E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BDDA-D961-4AE9-BAEE-0CC451B7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821B-0CA4-4E5E-B2D9-A947CD3D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28C7-6CA3-4AD7-A7CA-6DBC978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ECAB-C95C-4B4B-BFF8-DCCD2DCB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9A64-86F7-4306-8CDA-177982AD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D294-DD42-4E4F-9058-05F90B09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5C22-587B-45CC-B7A8-574371D0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ABE-00D2-4243-A077-FB8B024F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40EB5-ED8A-4FFD-B950-E86F77D7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E9A20-99C2-4A4B-8B82-7B7CEC8C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CC35-295C-459E-B1E4-FE4CBED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D1FE-3352-469D-91AC-1D19ADC6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A61A-238F-4C1D-BAC0-CF72624A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0FD9-6FCD-49C5-A0C0-D0FC73F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02A3-55EC-458A-B934-B983A108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A7D2A-85C5-4699-A091-78FDBEA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C343-6E49-4C35-B90E-88E41DF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BCC97-88FF-4C61-94F5-F231E5F3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59C-4934-4571-B3D1-934AE81E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6869-10D0-4E91-8BF5-6C7F2580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9A62-9DCC-4482-90E2-25AE8FE4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58BC-A3A3-4F8E-A275-CE46FF2C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E87E-1D11-4667-95B4-39976F1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3B89B-A8E1-4033-A5A6-F84E0D67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18DD0-302C-42BF-8D56-825CDDD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EA8B3-9623-4B49-8AB4-00ACCDBD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984E-EAE9-4231-B761-AED1C71C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EAB8-7713-47AA-97CC-0AD81BA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B65A-50FB-4442-A555-0D9D163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FFD-4AFE-46CB-9DDB-027DE726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9CAF-E7BA-4698-8687-6811F0E0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E731-3FA1-45A5-A3BC-FD836063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8CDB-39E6-44D4-8BF2-C49A960A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C676-A601-43C3-8DD5-B7565D5B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2A1F-CD5E-4860-9529-937FFC47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8DC9-3492-421F-9857-2858BFA8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237E-34DD-4D69-9FED-E3FC1B0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926DA-458D-4E28-A79C-B2F5864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A4D3-F554-4E20-A95A-EF4769CA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E17E-FDCC-4DFF-A50D-B1DEC21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718-2538-491F-89E0-43EA771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C7AB-2D64-4098-A477-51A3008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A18C-75A4-4C20-BE62-87DA5E31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2F2C5-69FD-469F-9902-371D0AB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61829-A170-4CB6-8277-9C4DDD0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AB58-812D-49D5-9F2D-F42A31EC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4982-39CA-421D-88E3-4693970D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76CC8-DC13-4F21-8926-78FB9E0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55A1-6957-42EA-9034-5B32620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47DF-F122-47FE-9831-ECEF02B2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B62F4-9849-4EF3-8A39-CD7AA791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222-0550-46DC-B7B4-4077FD8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6EFE-9373-4E44-B74F-5E8CBB5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68DA9-7887-4D44-9B3E-83DE068C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17891-14DA-4602-BF48-B56C250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D6841-1936-4B37-81D4-AABD2C1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ACE3-9FBD-4485-B713-5C84799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3F9E-2957-40FA-9B75-EDB840D8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650B-AEF7-4F78-8E2B-000A49E5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162A-B09B-4515-A86D-CFB02847AB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9608-2276-41C8-BEB4-376D8098593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698-88D5-4435-8268-9479B8772C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1042-9F1D-4205-BD75-32111A01A1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F90-185F-4ADD-98F3-1C6D450E3A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8EF-2837-4DD7-942E-182736507B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A831-6C84-4AA8-9774-9E7F9794C3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76E1-BFE9-4C64-AEBC-1665A850064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treugolniki.ru/svojstva-storon-i-uglov-parallelogramma/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treugolniki.ru/svojstva-diagonalej-parallelogramma/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1600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329"/>
                </a:solidFill>
                <a:latin typeface="Times New Roman"/>
                <a:ea typeface="Times New Roman"/>
              </a:rPr>
              <a:t>Свойства</a:t>
            </a:r>
            <a:r>
              <a:rPr b="1" i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раллелограм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3919320" y="5029200"/>
            <a:ext cx="50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полнил ученик 8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4205520" y="5562720"/>
            <a:ext cx="324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гатырев Е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87"/>
          <p:cNvSpPr/>
          <p:nvPr/>
        </p:nvSpPr>
        <p:spPr>
          <a:xfrm>
            <a:off x="304920" y="609480"/>
            <a:ext cx="8381880" cy="68580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88"/>
          <p:cNvSpPr/>
          <p:nvPr/>
        </p:nvSpPr>
        <p:spPr>
          <a:xfrm>
            <a:off x="12600" y="961920"/>
            <a:ext cx="7454880" cy="8668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0" y="533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1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две стороны равны и параллельны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54"/>
          <p:cNvSpPr/>
          <p:nvPr/>
        </p:nvSpPr>
        <p:spPr>
          <a:xfrm>
            <a:off x="380880" y="2119320"/>
            <a:ext cx="3810240" cy="1828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55"/>
          <p:cNvSpPr/>
          <p:nvPr/>
        </p:nvSpPr>
        <p:spPr>
          <a:xfrm>
            <a:off x="371520" y="2147760"/>
            <a:ext cx="3795840" cy="18097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1752480" y="0"/>
            <a:ext cx="53341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ки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4807080" y="14479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о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C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четырёх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АВ </a:t>
            </a:r>
            <a:r>
              <a:rPr b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||</a:t>
            </a: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C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52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4495680" y="35812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С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777960" y="2819520"/>
            <a:ext cx="3123720" cy="380880"/>
            <a:chOff x="777960" y="2819520"/>
            <a:chExt cx="3123720" cy="380880"/>
          </a:xfrm>
        </p:grpSpPr>
        <p:sp>
          <p:nvSpPr>
            <p:cNvPr id="395" name="Line 11"/>
            <p:cNvSpPr/>
            <p:nvPr/>
          </p:nvSpPr>
          <p:spPr>
            <a:xfrm>
              <a:off x="777960" y="281952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2"/>
            <p:cNvSpPr/>
            <p:nvPr/>
          </p:nvSpPr>
          <p:spPr>
            <a:xfrm>
              <a:off x="3673440" y="297180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67"/>
          <p:cNvGrpSpPr/>
          <p:nvPr/>
        </p:nvGrpSpPr>
        <p:grpSpPr>
          <a:xfrm>
            <a:off x="520920" y="2261520"/>
            <a:ext cx="3512880" cy="1544040"/>
            <a:chOff x="520920" y="2261520"/>
            <a:chExt cx="3512880" cy="1544040"/>
          </a:xfrm>
        </p:grpSpPr>
        <p:sp>
          <p:nvSpPr>
            <p:cNvPr id="398" name="Freeform 21"/>
            <p:cNvSpPr/>
            <p:nvPr/>
          </p:nvSpPr>
          <p:spPr>
            <a:xfrm rot="21041400">
              <a:off x="533160" y="3628800"/>
              <a:ext cx="135000" cy="1666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 flipH="1" flipV="1" rot="21041400">
              <a:off x="3885840" y="2271240"/>
              <a:ext cx="134640" cy="1666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Freeform 59"/>
          <p:cNvSpPr/>
          <p:nvPr/>
        </p:nvSpPr>
        <p:spPr>
          <a:xfrm>
            <a:off x="1981080" y="2830680"/>
            <a:ext cx="43020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0"/>
          <p:cNvSpPr/>
          <p:nvPr/>
        </p:nvSpPr>
        <p:spPr>
          <a:xfrm>
            <a:off x="4495680" y="281952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строим диагональ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1"/>
          <p:cNvSpPr/>
          <p:nvPr/>
        </p:nvSpPr>
        <p:spPr>
          <a:xfrm>
            <a:off x="4572000" y="396252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9"/>
          <p:cNvGrpSpPr/>
          <p:nvPr/>
        </p:nvGrpSpPr>
        <p:grpSpPr>
          <a:xfrm>
            <a:off x="152280" y="4419720"/>
            <a:ext cx="7315200" cy="459720"/>
            <a:chOff x="152280" y="4419720"/>
            <a:chExt cx="7315200" cy="459720"/>
          </a:xfrm>
        </p:grpSpPr>
        <p:sp>
          <p:nvSpPr>
            <p:cNvPr id="404" name="Text Box 62"/>
            <p:cNvSpPr/>
            <p:nvPr/>
          </p:nvSpPr>
          <p:spPr>
            <a:xfrm>
              <a:off x="457200" y="441972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С=    А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при АВ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II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64"/>
                <p:cNvSpPr txBox="1"/>
                <p:nvPr/>
              </p:nvSpPr>
              <p:spPr>
                <a:xfrm>
                  <a:off x="152280" y="441972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65"/>
                <p:cNvSpPr txBox="1"/>
                <p:nvPr/>
              </p:nvSpPr>
              <p:spPr>
                <a:xfrm>
                  <a:off x="1295280" y="441972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Group 74"/>
          <p:cNvGrpSpPr/>
          <p:nvPr/>
        </p:nvGrpSpPr>
        <p:grpSpPr>
          <a:xfrm>
            <a:off x="228600" y="4876920"/>
            <a:ext cx="8991360" cy="465840"/>
            <a:chOff x="228600" y="4876920"/>
            <a:chExt cx="8991360" cy="465840"/>
          </a:xfrm>
        </p:grpSpPr>
        <p:sp>
          <p:nvSpPr>
            <p:cNvPr id="408" name="Text Box 71"/>
            <p:cNvSpPr/>
            <p:nvPr/>
          </p:nvSpPr>
          <p:spPr>
            <a:xfrm>
              <a:off x="457200" y="4883040"/>
              <a:ext cx="876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ВС =  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 по 2 сторонам и углу между ни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Object 72"/>
                <p:cNvSpPr txBox="1"/>
                <p:nvPr/>
              </p:nvSpPr>
              <p:spPr>
                <a:xfrm>
                  <a:off x="1447560" y="4883040"/>
                  <a:ext cx="32724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0" name="Object 73"/>
                <p:cNvSpPr txBox="1"/>
                <p:nvPr/>
              </p:nvSpPr>
              <p:spPr>
                <a:xfrm>
                  <a:off x="228600" y="4876920"/>
                  <a:ext cx="3268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79"/>
          <p:cNvGrpSpPr/>
          <p:nvPr/>
        </p:nvGrpSpPr>
        <p:grpSpPr>
          <a:xfrm>
            <a:off x="228600" y="5410080"/>
            <a:ext cx="8686800" cy="459720"/>
            <a:chOff x="228600" y="5410080"/>
            <a:chExt cx="8686800" cy="459720"/>
          </a:xfrm>
        </p:grpSpPr>
        <p:sp>
          <p:nvSpPr>
            <p:cNvPr id="412" name="Text Box 76"/>
            <p:cNvSpPr/>
            <p:nvPr/>
          </p:nvSpPr>
          <p:spPr>
            <a:xfrm>
              <a:off x="533520" y="541008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СА=    СА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при прямых ВС и А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77"/>
                <p:cNvSpPr txBox="1"/>
                <p:nvPr/>
              </p:nvSpPr>
              <p:spPr>
                <a:xfrm>
                  <a:off x="228600" y="541008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Object 78"/>
                <p:cNvSpPr txBox="1"/>
                <p:nvPr/>
              </p:nvSpPr>
              <p:spPr>
                <a:xfrm>
                  <a:off x="1371600" y="5410080"/>
                  <a:ext cx="4636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81"/>
          <p:cNvSpPr/>
          <p:nvPr/>
        </p:nvSpPr>
        <p:spPr>
          <a:xfrm>
            <a:off x="3048120" y="5791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A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4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 определению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4419720" y="21337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93"/>
          <p:cNvGrpSpPr/>
          <p:nvPr/>
        </p:nvGrpSpPr>
        <p:grpSpPr>
          <a:xfrm>
            <a:off x="946440" y="2117160"/>
            <a:ext cx="2678760" cy="1861200"/>
            <a:chOff x="946440" y="2117160"/>
            <a:chExt cx="2678760" cy="1861200"/>
          </a:xfrm>
        </p:grpSpPr>
        <p:sp>
          <p:nvSpPr>
            <p:cNvPr id="419" name="AutoShape 91"/>
            <p:cNvSpPr/>
            <p:nvPr/>
          </p:nvSpPr>
          <p:spPr>
            <a:xfrm rot="20493600">
              <a:off x="3428280" y="21333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92"/>
            <p:cNvSpPr/>
            <p:nvPr/>
          </p:nvSpPr>
          <p:spPr>
            <a:xfrm flipH="1" flipV="1" rot="20493600">
              <a:off x="990360" y="3656520"/>
              <a:ext cx="15192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3"/>
          <p:cNvSpPr/>
          <p:nvPr/>
        </p:nvSpPr>
        <p:spPr>
          <a:xfrm>
            <a:off x="0" y="914400"/>
            <a:ext cx="8852040" cy="8888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"/>
          <p:cNvSpPr/>
          <p:nvPr/>
        </p:nvSpPr>
        <p:spPr>
          <a:xfrm>
            <a:off x="304920" y="609480"/>
            <a:ext cx="8381880" cy="723960"/>
          </a:xfrm>
          <a:prstGeom prst="pie">
            <a:avLst/>
          </a:prstGeom>
          <a:solidFill>
            <a:srgbClr val="99ff99"/>
          </a:solidFill>
          <a:ln w="9360">
            <a:solidFill>
              <a:srgbClr val="99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противоположные стороны попарно равны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5"/>
          <p:cNvSpPr/>
          <p:nvPr/>
        </p:nvSpPr>
        <p:spPr>
          <a:xfrm>
            <a:off x="380880" y="2119320"/>
            <a:ext cx="3810240" cy="1828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"/>
          <p:cNvSpPr/>
          <p:nvPr/>
        </p:nvSpPr>
        <p:spPr>
          <a:xfrm>
            <a:off x="371520" y="2147760"/>
            <a:ext cx="3795840" cy="180972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752480" y="0"/>
            <a:ext cx="53341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ки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4807080" y="14479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ано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ВС</a:t>
            </a:r>
            <a:r>
              <a:rPr b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=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3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4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4648320" y="33526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С – общая ст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777960" y="2819520"/>
            <a:ext cx="3123720" cy="380880"/>
            <a:chOff x="777960" y="2819520"/>
            <a:chExt cx="3123720" cy="380880"/>
          </a:xfrm>
        </p:grpSpPr>
        <p:sp>
          <p:nvSpPr>
            <p:cNvPr id="436" name="Line 17"/>
            <p:cNvSpPr/>
            <p:nvPr/>
          </p:nvSpPr>
          <p:spPr>
            <a:xfrm>
              <a:off x="777960" y="281952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3673440" y="2971800"/>
              <a:ext cx="228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22"/>
          <p:cNvSpPr/>
          <p:nvPr/>
        </p:nvSpPr>
        <p:spPr>
          <a:xfrm>
            <a:off x="1981080" y="2830680"/>
            <a:ext cx="430200" cy="507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648320" y="2590920"/>
            <a:ext cx="43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строим диагональ 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4648320" y="373392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52"/>
          <p:cNvGrpSpPr/>
          <p:nvPr/>
        </p:nvGrpSpPr>
        <p:grpSpPr>
          <a:xfrm>
            <a:off x="1752480" y="4419720"/>
            <a:ext cx="5410440" cy="465840"/>
            <a:chOff x="1752480" y="4419720"/>
            <a:chExt cx="5410440" cy="465840"/>
          </a:xfrm>
        </p:grpSpPr>
        <p:sp>
          <p:nvSpPr>
            <p:cNvPr id="442" name="Text Box 30"/>
            <p:cNvSpPr/>
            <p:nvPr/>
          </p:nvSpPr>
          <p:spPr>
            <a:xfrm>
              <a:off x="1981080" y="4425840"/>
              <a:ext cx="51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ВС =  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 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31"/>
                <p:cNvSpPr txBox="1"/>
                <p:nvPr/>
              </p:nvSpPr>
              <p:spPr>
                <a:xfrm>
                  <a:off x="2971800" y="4425840"/>
                  <a:ext cx="32688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32"/>
                <p:cNvSpPr txBox="1"/>
                <p:nvPr/>
              </p:nvSpPr>
              <p:spPr>
                <a:xfrm>
                  <a:off x="1752480" y="4419720"/>
                  <a:ext cx="32724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Group 33"/>
          <p:cNvGrpSpPr/>
          <p:nvPr/>
        </p:nvGrpSpPr>
        <p:grpSpPr>
          <a:xfrm>
            <a:off x="228600" y="4892760"/>
            <a:ext cx="8686800" cy="459720"/>
            <a:chOff x="228600" y="4892760"/>
            <a:chExt cx="8686800" cy="459720"/>
          </a:xfrm>
        </p:grpSpPr>
        <p:sp>
          <p:nvSpPr>
            <p:cNvPr id="446" name="Text Box 34"/>
            <p:cNvSpPr/>
            <p:nvPr/>
          </p:nvSpPr>
          <p:spPr>
            <a:xfrm>
              <a:off x="533520" y="489276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С=    А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Это при прямых АВ и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35"/>
                <p:cNvSpPr txBox="1"/>
                <p:nvPr/>
              </p:nvSpPr>
              <p:spPr>
                <a:xfrm>
                  <a:off x="228600" y="489276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Object 36"/>
                <p:cNvSpPr txBox="1"/>
                <p:nvPr/>
              </p:nvSpPr>
              <p:spPr>
                <a:xfrm>
                  <a:off x="1371600" y="489276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9" name="Text Box 37"/>
          <p:cNvSpPr/>
          <p:nvPr/>
        </p:nvSpPr>
        <p:spPr>
          <a:xfrm>
            <a:off x="3200400" y="5257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по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изнаку 1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4724280" y="182880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8"/>
          <p:cNvGrpSpPr/>
          <p:nvPr/>
        </p:nvGrpSpPr>
        <p:grpSpPr>
          <a:xfrm>
            <a:off x="604800" y="2346480"/>
            <a:ext cx="3355920" cy="1400400"/>
            <a:chOff x="604800" y="2346480"/>
            <a:chExt cx="3355920" cy="1400400"/>
          </a:xfrm>
        </p:grpSpPr>
        <p:sp>
          <p:nvSpPr>
            <p:cNvPr id="453" name="AutoShape 42"/>
            <p:cNvSpPr/>
            <p:nvPr/>
          </p:nvSpPr>
          <p:spPr>
            <a:xfrm flipH="1" flipV="1" rot="19191000">
              <a:off x="685080" y="342864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3"/>
            <p:cNvSpPr/>
            <p:nvPr/>
          </p:nvSpPr>
          <p:spPr>
            <a:xfrm rot="19455600">
              <a:off x="3733920" y="23619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44"/>
          <p:cNvGrpSpPr/>
          <p:nvPr/>
        </p:nvGrpSpPr>
        <p:grpSpPr>
          <a:xfrm>
            <a:off x="1752480" y="1981080"/>
            <a:ext cx="952200" cy="2120760"/>
            <a:chOff x="1752480" y="1981080"/>
            <a:chExt cx="952200" cy="2120760"/>
          </a:xfrm>
        </p:grpSpPr>
        <p:grpSp>
          <p:nvGrpSpPr>
            <p:cNvPr id="456" name="Group 45"/>
            <p:cNvGrpSpPr/>
            <p:nvPr/>
          </p:nvGrpSpPr>
          <p:grpSpPr>
            <a:xfrm>
              <a:off x="1752480" y="3809880"/>
              <a:ext cx="203400" cy="291960"/>
              <a:chOff x="1752480" y="3809880"/>
              <a:chExt cx="203400" cy="291960"/>
            </a:xfrm>
          </p:grpSpPr>
          <p:sp>
            <p:nvSpPr>
              <p:cNvPr id="457" name="Freeform 46"/>
              <p:cNvSpPr/>
              <p:nvPr/>
            </p:nvSpPr>
            <p:spPr>
              <a:xfrm>
                <a:off x="1752480" y="380988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7"/>
              <p:cNvSpPr/>
              <p:nvPr/>
            </p:nvSpPr>
            <p:spPr>
              <a:xfrm>
                <a:off x="1816200" y="380988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8"/>
            <p:cNvGrpSpPr/>
            <p:nvPr/>
          </p:nvGrpSpPr>
          <p:grpSpPr>
            <a:xfrm>
              <a:off x="2502000" y="1981080"/>
              <a:ext cx="202680" cy="291960"/>
              <a:chOff x="2502000" y="1981080"/>
              <a:chExt cx="202680" cy="291960"/>
            </a:xfrm>
          </p:grpSpPr>
          <p:sp>
            <p:nvSpPr>
              <p:cNvPr id="460" name="Freeform 49"/>
              <p:cNvSpPr/>
              <p:nvPr/>
            </p:nvSpPr>
            <p:spPr>
              <a:xfrm>
                <a:off x="2502000" y="19810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50"/>
              <p:cNvSpPr/>
              <p:nvPr/>
            </p:nvSpPr>
            <p:spPr>
              <a:xfrm>
                <a:off x="2565360" y="19810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51"/>
          <p:cNvSpPr/>
          <p:nvPr/>
        </p:nvSpPr>
        <p:spPr>
          <a:xfrm>
            <a:off x="4654440" y="41148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С=А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4495680" y="5715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2"/>
          <p:cNvSpPr/>
          <p:nvPr/>
        </p:nvSpPr>
        <p:spPr>
          <a:xfrm>
            <a:off x="-76320" y="406440"/>
            <a:ext cx="9131400" cy="88884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304920" y="76320"/>
            <a:ext cx="8737560" cy="761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3</a:t>
            </a:r>
            <a:r>
              <a:rPr b="1" i="1" lang="ru-RU" sz="2400" spc="-1" strike="noStrike" baseline="30000">
                <a:solidFill>
                  <a:srgbClr val="464646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Arial"/>
              </a:rPr>
              <a:t>.  Если в четырехугольнике диагонали пересекаются и точкой пересечения делятся пополам, то этот четырехугольник –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5"/>
          <p:cNvSpPr/>
          <p:nvPr/>
        </p:nvSpPr>
        <p:spPr>
          <a:xfrm>
            <a:off x="380880" y="2133720"/>
            <a:ext cx="1892520" cy="1828800"/>
          </a:xfrm>
          <a:prstGeom prst="pie">
            <a:avLst/>
          </a:prstGeom>
          <a:solidFill>
            <a:srgbClr val="99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6"/>
          <p:cNvSpPr/>
          <p:nvPr/>
        </p:nvSpPr>
        <p:spPr>
          <a:xfrm>
            <a:off x="2279520" y="2136600"/>
            <a:ext cx="1905120" cy="18208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304920" y="1219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76428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7848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4132800" y="182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3339000" y="38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"/>
          <p:cNvSpPr/>
          <p:nvPr/>
        </p:nvSpPr>
        <p:spPr>
          <a:xfrm>
            <a:off x="371520" y="2133720"/>
            <a:ext cx="3819600" cy="1827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"/>
          <p:cNvSpPr/>
          <p:nvPr/>
        </p:nvSpPr>
        <p:spPr>
          <a:xfrm>
            <a:off x="380880" y="2144880"/>
            <a:ext cx="3784680" cy="180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53"/>
          <p:cNvGrpSpPr/>
          <p:nvPr/>
        </p:nvGrpSpPr>
        <p:grpSpPr>
          <a:xfrm>
            <a:off x="1143000" y="2438280"/>
            <a:ext cx="2209680" cy="1219320"/>
            <a:chOff x="1143000" y="2438280"/>
            <a:chExt cx="2209680" cy="1219320"/>
          </a:xfrm>
        </p:grpSpPr>
        <p:sp>
          <p:nvSpPr>
            <p:cNvPr id="477" name="Line 17"/>
            <p:cNvSpPr/>
            <p:nvPr/>
          </p:nvSpPr>
          <p:spPr>
            <a:xfrm>
              <a:off x="1143000" y="3429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124080" y="243828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Text Box 20"/>
          <p:cNvSpPr/>
          <p:nvPr/>
        </p:nvSpPr>
        <p:spPr>
          <a:xfrm>
            <a:off x="4648320" y="2590920"/>
            <a:ext cx="43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4648320" y="297180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О=ОС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8"/>
          <p:cNvGrpSpPr/>
          <p:nvPr/>
        </p:nvGrpSpPr>
        <p:grpSpPr>
          <a:xfrm>
            <a:off x="1752480" y="4419720"/>
            <a:ext cx="5791320" cy="465840"/>
            <a:chOff x="1752480" y="4419720"/>
            <a:chExt cx="5791320" cy="465840"/>
          </a:xfrm>
        </p:grpSpPr>
        <p:sp>
          <p:nvSpPr>
            <p:cNvPr id="482" name="Text Box 23"/>
            <p:cNvSpPr/>
            <p:nvPr/>
          </p:nvSpPr>
          <p:spPr>
            <a:xfrm>
              <a:off x="1981080" y="442584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ОВ =   СО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 по первому призна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Object 24"/>
                <p:cNvSpPr txBox="1"/>
                <p:nvPr/>
              </p:nvSpPr>
              <p:spPr>
                <a:xfrm>
                  <a:off x="2971800" y="4425840"/>
                  <a:ext cx="32688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4" name="Object 25"/>
                <p:cNvSpPr txBox="1"/>
                <p:nvPr/>
              </p:nvSpPr>
              <p:spPr>
                <a:xfrm>
                  <a:off x="1752480" y="4419720"/>
                  <a:ext cx="32724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Group 26"/>
          <p:cNvGrpSpPr/>
          <p:nvPr/>
        </p:nvGrpSpPr>
        <p:grpSpPr>
          <a:xfrm>
            <a:off x="228600" y="5502240"/>
            <a:ext cx="8686800" cy="459720"/>
            <a:chOff x="228600" y="5502240"/>
            <a:chExt cx="8686800" cy="459720"/>
          </a:xfrm>
        </p:grpSpPr>
        <p:sp>
          <p:nvSpPr>
            <p:cNvPr id="486" name="Text Box 27"/>
            <p:cNvSpPr/>
            <p:nvPr/>
          </p:nvSpPr>
          <p:spPr>
            <a:xfrm>
              <a:off x="533520" y="5502240"/>
              <a:ext cx="83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ВАО=    О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. при прямых АВ и С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и секущей 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28"/>
                <p:cNvSpPr txBox="1"/>
                <p:nvPr/>
              </p:nvSpPr>
              <p:spPr>
                <a:xfrm>
                  <a:off x="228600" y="550224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8" name="Object 29"/>
                <p:cNvSpPr txBox="1"/>
                <p:nvPr/>
              </p:nvSpPr>
              <p:spPr>
                <a:xfrm>
                  <a:off x="1371600" y="5502240"/>
                  <a:ext cx="46368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9" name="Text Box 30"/>
          <p:cNvSpPr/>
          <p:nvPr/>
        </p:nvSpPr>
        <p:spPr>
          <a:xfrm>
            <a:off x="3200400" y="5867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Значит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152280" y="632448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Четырехугольник – параллелограмм по 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ризнаку 1</a:t>
            </a:r>
            <a:r>
              <a:rPr b="1" i="1" lang="ru-RU" sz="2400" spc="-1" strike="noStrike" baseline="30000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2"/>
          <p:cNvSpPr/>
          <p:nvPr/>
        </p:nvSpPr>
        <p:spPr>
          <a:xfrm>
            <a:off x="4724280" y="1828800"/>
            <a:ext cx="433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АВС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–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3"/>
          <p:cNvGrpSpPr/>
          <p:nvPr/>
        </p:nvGrpSpPr>
        <p:grpSpPr>
          <a:xfrm>
            <a:off x="604800" y="2346480"/>
            <a:ext cx="3355920" cy="1400400"/>
            <a:chOff x="604800" y="2346480"/>
            <a:chExt cx="3355920" cy="1400400"/>
          </a:xfrm>
        </p:grpSpPr>
        <p:sp>
          <p:nvSpPr>
            <p:cNvPr id="493" name="AutoShape 34"/>
            <p:cNvSpPr/>
            <p:nvPr/>
          </p:nvSpPr>
          <p:spPr>
            <a:xfrm flipH="1" flipV="1" rot="19191000">
              <a:off x="685080" y="3428640"/>
              <a:ext cx="152280" cy="3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35"/>
            <p:cNvSpPr/>
            <p:nvPr/>
          </p:nvSpPr>
          <p:spPr>
            <a:xfrm rot="19455600">
              <a:off x="3733920" y="2361960"/>
              <a:ext cx="15228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52"/>
          <p:cNvGrpSpPr/>
          <p:nvPr/>
        </p:nvGrpSpPr>
        <p:grpSpPr>
          <a:xfrm>
            <a:off x="1676520" y="2438280"/>
            <a:ext cx="1193760" cy="1130400"/>
            <a:chOff x="1676520" y="2438280"/>
            <a:chExt cx="1193760" cy="1130400"/>
          </a:xfrm>
        </p:grpSpPr>
        <p:grpSp>
          <p:nvGrpSpPr>
            <p:cNvPr id="496" name="Group 37"/>
            <p:cNvGrpSpPr/>
            <p:nvPr/>
          </p:nvGrpSpPr>
          <p:grpSpPr>
            <a:xfrm>
              <a:off x="2666880" y="3276720"/>
              <a:ext cx="203400" cy="291960"/>
              <a:chOff x="2666880" y="3276720"/>
              <a:chExt cx="203400" cy="291960"/>
            </a:xfrm>
          </p:grpSpPr>
          <p:sp>
            <p:nvSpPr>
              <p:cNvPr id="497" name="Freeform 38"/>
              <p:cNvSpPr/>
              <p:nvPr/>
            </p:nvSpPr>
            <p:spPr>
              <a:xfrm>
                <a:off x="2666880" y="327672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9"/>
              <p:cNvSpPr/>
              <p:nvPr/>
            </p:nvSpPr>
            <p:spPr>
              <a:xfrm>
                <a:off x="2730600" y="3276720"/>
                <a:ext cx="13968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40"/>
            <p:cNvGrpSpPr/>
            <p:nvPr/>
          </p:nvGrpSpPr>
          <p:grpSpPr>
            <a:xfrm>
              <a:off x="1676520" y="2438280"/>
              <a:ext cx="202680" cy="291960"/>
              <a:chOff x="1676520" y="2438280"/>
              <a:chExt cx="202680" cy="291960"/>
            </a:xfrm>
          </p:grpSpPr>
          <p:sp>
            <p:nvSpPr>
              <p:cNvPr id="500" name="Freeform 41"/>
              <p:cNvSpPr/>
              <p:nvPr/>
            </p:nvSpPr>
            <p:spPr>
              <a:xfrm>
                <a:off x="1676520" y="24382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2"/>
              <p:cNvSpPr/>
              <p:nvPr/>
            </p:nvSpPr>
            <p:spPr>
              <a:xfrm>
                <a:off x="1739880" y="2438280"/>
                <a:ext cx="139320" cy="291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Text Box 43"/>
          <p:cNvSpPr/>
          <p:nvPr/>
        </p:nvSpPr>
        <p:spPr>
          <a:xfrm>
            <a:off x="4654440" y="33526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=О</a:t>
            </a:r>
            <a:r>
              <a:rPr b="1" i="1" lang="en-US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по услов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4"/>
          <p:cNvSpPr/>
          <p:nvPr/>
        </p:nvSpPr>
        <p:spPr>
          <a:xfrm>
            <a:off x="3124080" y="4952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=С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6"/>
          <p:cNvSpPr/>
          <p:nvPr/>
        </p:nvSpPr>
        <p:spPr>
          <a:xfrm>
            <a:off x="1257480" y="2171880"/>
            <a:ext cx="2095200" cy="1790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2059200" y="251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48"/>
              <p:cNvSpPr txBox="1"/>
              <p:nvPr/>
            </p:nvSpPr>
            <p:spPr>
              <a:xfrm>
                <a:off x="1295280" y="1217520"/>
                <a:ext cx="65534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∩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О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О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ереди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51"/>
          <p:cNvGrpSpPr/>
          <p:nvPr/>
        </p:nvGrpSpPr>
        <p:grpSpPr>
          <a:xfrm>
            <a:off x="1905120" y="2819520"/>
            <a:ext cx="736560" cy="457200"/>
            <a:chOff x="1905120" y="2819520"/>
            <a:chExt cx="736560" cy="457200"/>
          </a:xfrm>
        </p:grpSpPr>
        <p:sp>
          <p:nvSpPr>
            <p:cNvPr id="508" name="Freeform 49"/>
            <p:cNvSpPr/>
            <p:nvPr/>
          </p:nvSpPr>
          <p:spPr>
            <a:xfrm>
              <a:off x="2514600" y="2895480"/>
              <a:ext cx="127080" cy="381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50"/>
            <p:cNvSpPr/>
            <p:nvPr/>
          </p:nvSpPr>
          <p:spPr>
            <a:xfrm flipH="1" flipV="1">
              <a:off x="1905120" y="2819520"/>
              <a:ext cx="126720" cy="380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57"/>
          <p:cNvGrpSpPr/>
          <p:nvPr/>
        </p:nvGrpSpPr>
        <p:grpSpPr>
          <a:xfrm>
            <a:off x="4343400" y="3749760"/>
            <a:ext cx="4419720" cy="825480"/>
            <a:chOff x="4343400" y="3749760"/>
            <a:chExt cx="4419720" cy="825480"/>
          </a:xfrm>
        </p:grpSpPr>
        <p:sp>
          <p:nvSpPr>
            <p:cNvPr id="511" name="Text Box 15"/>
            <p:cNvSpPr/>
            <p:nvPr/>
          </p:nvSpPr>
          <p:spPr>
            <a:xfrm>
              <a:off x="4648320" y="374976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АОВ=    СО</a:t>
              </a:r>
              <a:r>
                <a:rPr b="1" i="1" lang="en-US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2400" spc="-1" strike="noStrike">
                  <a:solidFill>
                    <a:srgbClr val="464646"/>
                  </a:solidFill>
                  <a:latin typeface="Times New Roman"/>
                  <a:ea typeface="Times New Roman"/>
                </a:rPr>
                <a:t>, как вертика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Object 55"/>
                <p:cNvSpPr txBox="1"/>
                <p:nvPr/>
              </p:nvSpPr>
              <p:spPr>
                <a:xfrm>
                  <a:off x="4343400" y="3749760"/>
                  <a:ext cx="4572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56"/>
                <p:cNvSpPr txBox="1"/>
                <p:nvPr/>
              </p:nvSpPr>
              <p:spPr>
                <a:xfrm>
                  <a:off x="5562720" y="3749760"/>
                  <a:ext cx="4572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\[A{C^2} + B{D^2} = 2(A{B^2} + A{D^2})\]"/>
          <p:cNvPicPr/>
          <p:nvPr/>
        </p:nvPicPr>
        <p:blipFill>
          <a:blip r:embed="rId1"/>
          <a:stretch/>
        </p:blipFill>
        <p:spPr>
          <a:xfrm>
            <a:off x="380880" y="0"/>
            <a:ext cx="2219400" cy="200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summa kvadratov diagonaley "/>
          <p:cNvPicPr/>
          <p:nvPr/>
        </p:nvPicPr>
        <p:blipFill>
          <a:blip r:embed="rId2"/>
          <a:stretch/>
        </p:blipFill>
        <p:spPr>
          <a:xfrm>
            <a:off x="0" y="380880"/>
            <a:ext cx="2633760" cy="1363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diagonali-delyat-ploshchad-parallelogramma"/>
          <p:cNvPicPr/>
          <p:nvPr/>
        </p:nvPicPr>
        <p:blipFill>
          <a:blip r:embed="rId3"/>
          <a:stretch/>
        </p:blipFill>
        <p:spPr>
          <a:xfrm>
            <a:off x="4419720" y="380880"/>
            <a:ext cx="2896920" cy="19749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\[{S_{\Delta AOB}} = {S_{\Delta BOC}} = {S_{\Delta COD}} = {S_{\Delta AOD}}\]"/>
          <p:cNvPicPr/>
          <p:nvPr/>
        </p:nvPicPr>
        <p:blipFill>
          <a:blip r:embed="rId4"/>
          <a:stretch/>
        </p:blipFill>
        <p:spPr>
          <a:xfrm>
            <a:off x="4572000" y="0"/>
            <a:ext cx="2781360" cy="13320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7"/>
          <p:cNvSpPr/>
          <p:nvPr/>
        </p:nvSpPr>
        <p:spPr>
          <a:xfrm>
            <a:off x="4572000" y="2666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8"/>
          <p:cNvSpPr/>
          <p:nvPr/>
        </p:nvSpPr>
        <p:spPr>
          <a:xfrm>
            <a:off x="3733920" y="35053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Треугольники ABD и CDB равны по трём сторонам (сторона BD — общая, AD=BC и AB=CD как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противоположные стороны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\[{S_{\Delta ABD}} = {S_{\Delta CDB}}\]"/>
          <p:cNvPicPr/>
          <p:nvPr/>
        </p:nvPicPr>
        <p:blipFill>
          <a:blip r:embed="rId6"/>
          <a:stretch/>
        </p:blipFill>
        <p:spPr>
          <a:xfrm>
            <a:off x="5486400" y="4876920"/>
            <a:ext cx="1285920" cy="1522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1"/>
          <p:cNvSpPr/>
          <p:nvPr/>
        </p:nvSpPr>
        <p:spPr>
          <a:xfrm>
            <a:off x="2160" y="3960"/>
            <a:ext cx="153000" cy="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01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10101"/>
                </a:solidFill>
                <a:latin typeface="Lat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4"/>
          <p:cNvSpPr/>
          <p:nvPr/>
        </p:nvSpPr>
        <p:spPr>
          <a:xfrm>
            <a:off x="4267080" y="51055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Так как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Arial"/>
                <a:hlinkClick r:id="rId7"/>
              </a:rPr>
              <a:t>диагонали параллелограмма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пересечения делятся пополам AO — медиана треугольника ABD, CO — C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6" descr="\[{S_{\Delta AOB}} = {S_{\Delta AOD}} = \frac{1}{2}{S_{\Delta ABD}}\]"/>
          <p:cNvPicPr/>
          <p:nvPr/>
        </p:nvPicPr>
        <p:blipFill>
          <a:blip r:embed="rId8"/>
          <a:stretch/>
        </p:blipFill>
        <p:spPr>
          <a:xfrm>
            <a:off x="4114800" y="5943600"/>
            <a:ext cx="2152800" cy="343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8" descr="\[{S_{\Delta BOC}} = {S_{\Delta COD}} = \frac{1}{2}{S_{\Delta CDB}}\]"/>
          <p:cNvPicPr/>
          <p:nvPr/>
        </p:nvPicPr>
        <p:blipFill>
          <a:blip r:embed="rId9"/>
          <a:stretch/>
        </p:blipFill>
        <p:spPr>
          <a:xfrm>
            <a:off x="6400800" y="5943600"/>
            <a:ext cx="2162160" cy="34308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17"/>
          <p:cNvSpPr/>
          <p:nvPr/>
        </p:nvSpPr>
        <p:spPr>
          <a:xfrm>
            <a:off x="4050000" y="6488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и требовалось до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0" descr="\[{S_{\Delta AOB}} = {S_{\Delta BOC}} = {S_{\Delta COD}} = {S_{\Delta AOD}}\]"/>
          <p:cNvPicPr/>
          <p:nvPr/>
        </p:nvPicPr>
        <p:blipFill>
          <a:blip r:embed="rId10"/>
          <a:stretch/>
        </p:blipFill>
        <p:spPr>
          <a:xfrm>
            <a:off x="5867280" y="6400800"/>
            <a:ext cx="2781360" cy="13320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19"/>
          <p:cNvSpPr/>
          <p:nvPr/>
        </p:nvSpPr>
        <p:spPr>
          <a:xfrm>
            <a:off x="39625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1"/>
          <p:cNvSpPr/>
          <p:nvPr/>
        </p:nvSpPr>
        <p:spPr>
          <a:xfrm>
            <a:off x="5400" y="175248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2"/>
          <p:cNvSpPr/>
          <p:nvPr/>
        </p:nvSpPr>
        <p:spPr>
          <a:xfrm>
            <a:off x="0" y="20574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4"/>
          <p:cNvSpPr/>
          <p:nvPr/>
        </p:nvSpPr>
        <p:spPr>
          <a:xfrm>
            <a:off x="13680" y="23623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5"/>
          <p:cNvSpPr/>
          <p:nvPr/>
        </p:nvSpPr>
        <p:spPr>
          <a:xfrm>
            <a:off x="7200" y="26668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каз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2" descr="\[A{C^2} + B{D^2} = 2(A{B^2} + A{D^2})\]"/>
          <p:cNvPicPr/>
          <p:nvPr/>
        </p:nvPicPr>
        <p:blipFill>
          <a:blip r:embed="rId11"/>
          <a:stretch/>
        </p:blipFill>
        <p:spPr>
          <a:xfrm>
            <a:off x="1219320" y="2743200"/>
            <a:ext cx="2219040" cy="200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4" descr="summa kvadratov diagonaley parallelogramma"/>
          <p:cNvPicPr/>
          <p:nvPr/>
        </p:nvPicPr>
        <p:blipFill>
          <a:blip r:embed="rId12"/>
          <a:stretch/>
        </p:blipFill>
        <p:spPr>
          <a:xfrm>
            <a:off x="0" y="2971800"/>
            <a:ext cx="1838160" cy="1168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6" descr="\[\begin{array}{l} B{D^2} = B{K^2} + K{D^2}\\ \underline {A{C^2} = C{F^2} + A{F^2}} \\ A{C^2} + B{D^2} = B{K^2} + C{F^2} + K{D^2} + A{F^2} \end{array}\]"/>
          <p:cNvPicPr/>
          <p:nvPr/>
        </p:nvPicPr>
        <p:blipFill>
          <a:blip r:embed="rId13"/>
          <a:stretch/>
        </p:blipFill>
        <p:spPr>
          <a:xfrm>
            <a:off x="0" y="4191120"/>
            <a:ext cx="3049560" cy="5652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\[A{C^2} + B{D^2} = \]"/>
          <p:cNvPicPr/>
          <p:nvPr/>
        </p:nvPicPr>
        <p:blipFill>
          <a:blip r:embed="rId14"/>
          <a:stretch/>
        </p:blipFill>
        <p:spPr>
          <a:xfrm>
            <a:off x="0" y="4800600"/>
            <a:ext cx="1057320" cy="17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\[ = 2(A{B^2} - A{K^2}) + {(AD - AK)^2} + {(AD + AK)^2}\]"/>
          <p:cNvPicPr/>
          <p:nvPr/>
        </p:nvPicPr>
        <p:blipFill>
          <a:blip r:embed="rId15"/>
          <a:stretch/>
        </p:blipFill>
        <p:spPr>
          <a:xfrm>
            <a:off x="914400" y="4800600"/>
            <a:ext cx="3629160" cy="2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4" descr="\[A{C^2} + B{D^2} = 2A{B^2} + 2A{D^2}\]"/>
          <p:cNvPicPr/>
          <p:nvPr/>
        </p:nvPicPr>
        <p:blipFill>
          <a:blip r:embed="rId16">
            <a:lum bright="28000"/>
          </a:blip>
          <a:stretch/>
        </p:blipFill>
        <p:spPr>
          <a:xfrm>
            <a:off x="0" y="6172200"/>
            <a:ext cx="2162160" cy="171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6" descr="\[A{C^2} + B{D^2} = 2{(A{B^2} + AD^2}).\]"/>
          <p:cNvPicPr/>
          <p:nvPr/>
        </p:nvPicPr>
        <p:blipFill>
          <a:blip r:embed="rId17">
            <a:lum bright="24000"/>
          </a:blip>
          <a:stretch/>
        </p:blipFill>
        <p:spPr>
          <a:xfrm>
            <a:off x="0" y="6400800"/>
            <a:ext cx="2257560" cy="200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8" descr="\[A{C^2} + B{D^2} = 2A{B^2}\underline { - 2A{K^2}}  + \]"/>
          <p:cNvPicPr/>
          <p:nvPr/>
        </p:nvPicPr>
        <p:blipFill>
          <a:blip r:embed="rId18"/>
          <a:stretch/>
        </p:blipFill>
        <p:spPr>
          <a:xfrm>
            <a:off x="0" y="5257800"/>
            <a:ext cx="2238480" cy="200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0" descr="\[ + A{D^2}\underline{\underline { - 2 \cdot AD \cdot AK}}  + \underline {A{K^2}}  + \]"/>
          <p:cNvPicPr/>
          <p:nvPr/>
        </p:nvPicPr>
        <p:blipFill>
          <a:blip r:embed="rId19"/>
          <a:stretch/>
        </p:blipFill>
        <p:spPr>
          <a:xfrm>
            <a:off x="0" y="5410080"/>
            <a:ext cx="2181240" cy="2383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2" descr="\[ + A{D^2}\underline{\underline { + 2 \cdot AD \cdot AK}}  + \underline {A{K^2}} \]"/>
          <p:cNvPicPr/>
          <p:nvPr/>
        </p:nvPicPr>
        <p:blipFill>
          <a:blip r:embed="rId20"/>
          <a:stretch/>
        </p:blipFill>
        <p:spPr>
          <a:xfrm>
            <a:off x="0" y="5638680"/>
            <a:ext cx="2057400" cy="23832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38"/>
          <p:cNvSpPr/>
          <p:nvPr/>
        </p:nvSpPr>
        <p:spPr>
          <a:xfrm>
            <a:off x="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прощ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9"/>
          <p:cNvSpPr/>
          <p:nvPr/>
        </p:nvSpPr>
        <p:spPr>
          <a:xfrm>
            <a:off x="0" y="4952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ваем ско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40"/>
          <p:cNvSpPr/>
          <p:nvPr/>
        </p:nvSpPr>
        <p:spPr>
          <a:xfrm>
            <a:off x="0" y="6553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и требовалось дока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</cp:lastModifiedBy>
  <dcterms:modified xsi:type="dcterms:W3CDTF">2018-03-05T09:59:59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