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3990-0369-4CCE-97E0-2CEFBE3EFA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F925-C550-4F99-8909-D49A2D83AA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0DEB-8CAF-41FB-B484-B3D1280132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68EB-4086-4A46-8045-7F7F06BB1A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C4A5-B61D-46D1-81EE-0F3C43F98C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7AD1-608C-4C6A-A124-AF739D8F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8908-C7CE-4977-B328-C201C2FD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121F-C7A1-47F6-AACE-7871D306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C9CE-847D-4372-83D6-6CDAAC27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6711-77A8-468A-9583-79C36559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BCC2-C7BE-4405-96EB-0629CCA1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3EA2-A266-492E-A75C-AB82985B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11A9-7232-4CE3-B0A6-410FC5DD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FE06-422B-44B6-B156-9BA91FD8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7C14-0FD7-462F-93E7-247C5195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6DF0-A5F2-4B4A-BEB2-A084956B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75B4-F118-46E3-B2E7-221130F9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856F-E278-4B3A-9188-3497373C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C8EC-F0B2-4344-A20C-78117A81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6E4A-4753-4B2F-9292-A9FE8A25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9A2B-7DDB-4D09-AB79-979F66CF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ECF1-AF82-49AE-8B33-4D9E58E15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0F624-6E6E-4E0B-832F-B7A0E52E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B5033-AB14-45FF-B396-AFA7B5DD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25973-FD86-4A33-A94F-9010C0A7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06DEF-C2E7-4B2F-92C7-5C608407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37C87-2D31-4D08-B798-5C1BC873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42E1-DC25-4BD9-93A5-D9D55483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1B9DF-6616-414D-AC67-683DA749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625D4-7333-4936-9B7A-838CFFFA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31019-07ED-4F5B-80D1-CED95D9C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3F6FE-091D-421B-8232-D495C2D3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AB465-D184-42B9-8EC7-DAC328C9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7D55F-E0F2-4376-B661-42612E90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A300F-B46A-44BC-BAC5-D3393CD7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81339-7E05-4FF3-A629-7C132855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9BD6E-3011-48DA-93B9-16A93310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79861-3002-41C1-9854-B238DBA6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52AC-1638-4830-8008-7390ED11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2C81C-350B-4C38-A4DC-F0221E10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87188-3723-4F2E-85F5-48DA6D4A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D771C-8662-45AC-8885-C7169001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D855D-08D6-4E64-B42C-7062F97D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97E41-C8E5-4118-BEBB-3F58C32C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563E5-1537-4A14-97B0-554146E0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E2635-992E-4657-80E7-08B6BF5C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3AAF4-AE87-47F4-B01A-D9597378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C7063-1D23-45AB-BB21-26124EA79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21471-4675-48D5-BDE3-EE100149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76AC-9A89-43CF-A678-F40F1A31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CA4B3-8668-431F-AD95-FB96F94A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958E7-40A9-457C-AE6D-B1D128E8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593E6-5127-45EF-AB31-C613E9CD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6370B-D0A9-4E7A-A6A8-0DEDCD46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5178B-CBE2-4AC8-93F6-96FF8DAD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6BD2C-7F0B-470D-9D72-A18EB794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7F0C2-F572-4ACA-8002-349537CD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B3791-BEFB-44E2-AE42-C8AB2FAD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D0E18-C4AF-4D1B-A432-0EC30292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435AC-71C9-484E-9B80-CD57C9AB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2C79-5011-4612-8CAA-E6006F63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3B18D-8671-42EF-8B76-BEC87597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CEAEC-D524-4F1A-9086-B9344570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3592B-48E2-47C0-A0E3-F92FF6A2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391A4-26BB-43D0-B95B-236570EF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0C75F-7ED9-44BD-A7BF-744A2C96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7A10E-BD08-4215-8B5C-5D31388C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DF44E-709E-49C4-889F-9B29FA45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1F727-8BB1-400A-A493-9E83C6A1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9414F-65A2-4252-A07A-FA4A0F97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F4770-AC08-439B-B8B5-B99F27B3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5126-5CAB-4F91-AC33-A70638CC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B4858-0E96-469C-84FE-8FDA7CC8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03C17-8395-4B5D-BB29-CE4D0BFA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68515-B765-4CF7-BF75-B678408E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01A15-0F1E-433D-81CC-0DC8995E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77FB3-0C8F-4F4D-9552-6667068B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7A14C-0DA1-46A7-AA1D-F7C568BD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4E3C2-FBEC-482C-8DEC-75C850DD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2B443-BDF1-4EC1-A268-C2931008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14099-5A46-4820-97AA-1E162B26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DB490-C9D3-490A-BE01-B696B9BF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A65C-0B2C-419A-970F-B784FF31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4FBA4-D8A5-4326-8409-4F1D64A0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AAA78-343B-4F6B-91DF-84488D6B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C7474-9881-41B7-91B3-AAF736E2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BA48A-DDF7-442C-961E-FE5B309B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19509-1EEB-41A8-842A-9D3C1735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66A3C-3F06-4FD8-92FA-19394DEA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86509-9B3B-43D3-8B7A-9AD62996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9AED8-30B7-40D1-930F-F8FEBAA1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C9521-B40B-4A79-885D-29BF9E6E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A310A-DDDB-4CC0-B7DC-C74E1A15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52B9-2C2F-41CC-9CB1-54CA2D04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2A9E3-7057-4E25-82F1-1D29E3AE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749F6-C131-4F20-9A15-A2F1E571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5E535-68A0-430E-A505-3346EEB5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2ACD6-DCC1-4B88-9066-6C59ED15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4103F-24F7-4FDD-88E9-369086A8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82FEE-7C23-4802-A7A5-4ADCFE60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08E0B-88F7-4688-88AB-D739335E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D5C9-391C-419E-8893-32750330BB3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6570-D055-43FC-89E6-F5343C90927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49EB-7FF5-4679-8833-7C4BAB4DEC7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2E0F-051D-45B0-BB8A-44287AC8C88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8A9A-263E-4BC2-8095-ADBA71F3F4F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613A-9B25-46B3-896D-988CB252754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8AFC-E78F-42EE-B84C-5E3B04CCD71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5066-B472-4DB1-8776-CD9B4855F01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hyperlink" Target="http://www.treugolniki.ru/svojstva-storon-i-uglov-parallelogramma/" TargetMode="External"/><Relationship Id="rId6" Type="http://schemas.openxmlformats.org/officeDocument/2006/relationships/image" Target="../media/image11.png"/><Relationship Id="rId7" Type="http://schemas.openxmlformats.org/officeDocument/2006/relationships/hyperlink" Target="http://www.treugolniki.ru/svojstva-diagonalej-parallelogramma/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0.png"/><Relationship Id="rId11" Type="http://schemas.openxmlformats.org/officeDocument/2006/relationships/image" Target="../media/image7.png"/><Relationship Id="rId12" Type="http://schemas.openxmlformats.org/officeDocument/2006/relationships/image" Target="../media/image14.jpe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0" y="16002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62329"/>
                </a:solidFill>
                <a:latin typeface="Times New Roman"/>
                <a:ea typeface="Times New Roman"/>
              </a:rPr>
              <a:t>Свойства</a:t>
            </a:r>
            <a:r>
              <a:rPr b="1" i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7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араллелограмм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5"/>
          <p:cNvSpPr/>
          <p:nvPr/>
        </p:nvSpPr>
        <p:spPr>
          <a:xfrm>
            <a:off x="3919320" y="5029200"/>
            <a:ext cx="504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полнил ученик 8 кл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6"/>
          <p:cNvSpPr/>
          <p:nvPr/>
        </p:nvSpPr>
        <p:spPr>
          <a:xfrm>
            <a:off x="4205520" y="5562720"/>
            <a:ext cx="324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огатырев Ег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Freeform 87"/>
          <p:cNvSpPr/>
          <p:nvPr/>
        </p:nvSpPr>
        <p:spPr>
          <a:xfrm>
            <a:off x="304920" y="609480"/>
            <a:ext cx="8381880" cy="685800"/>
          </a:xfrm>
          <a:prstGeom prst="pie">
            <a:avLst/>
          </a:prstGeom>
          <a:solidFill>
            <a:srgbClr val="99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88"/>
          <p:cNvSpPr/>
          <p:nvPr/>
        </p:nvSpPr>
        <p:spPr>
          <a:xfrm>
            <a:off x="12600" y="961920"/>
            <a:ext cx="7454880" cy="8668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0" y="533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464646"/>
                </a:solidFill>
                <a:latin typeface="Arial"/>
              </a:rPr>
              <a:t>1</a:t>
            </a:r>
            <a:r>
              <a:rPr b="1" i="1" lang="ru-RU" sz="2400" spc="-1" strike="noStrike" baseline="30000">
                <a:solidFill>
                  <a:srgbClr val="464646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464646"/>
                </a:solidFill>
                <a:latin typeface="Arial"/>
              </a:rPr>
              <a:t>.  Если в четырехугольнике две стороны равны и параллельны, то этот четырехугольник – параллело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54"/>
          <p:cNvSpPr/>
          <p:nvPr/>
        </p:nvSpPr>
        <p:spPr>
          <a:xfrm>
            <a:off x="380880" y="2119320"/>
            <a:ext cx="3810240" cy="18288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55"/>
          <p:cNvSpPr/>
          <p:nvPr/>
        </p:nvSpPr>
        <p:spPr>
          <a:xfrm>
            <a:off x="371520" y="2147760"/>
            <a:ext cx="3795840" cy="1809720"/>
          </a:xfrm>
          <a:prstGeom prst="pie">
            <a:avLst/>
          </a:prstGeom>
          <a:solidFill>
            <a:srgbClr val="99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1752480" y="0"/>
            <a:ext cx="53341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знаки параллел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4807080" y="1447920"/>
            <a:ext cx="433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ано: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А</a:t>
            </a:r>
            <a:r>
              <a:rPr b="1" i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CD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-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четырёх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АВ=С</a:t>
            </a:r>
            <a:r>
              <a:rPr b="1" i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, АВ </a:t>
            </a:r>
            <a:r>
              <a:rPr b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||</a:t>
            </a:r>
            <a:r>
              <a:rPr b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CD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764280" y="1828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78480" y="382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4132800" y="1828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3339000" y="382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9"/>
          <p:cNvSpPr/>
          <p:nvPr/>
        </p:nvSpPr>
        <p:spPr>
          <a:xfrm>
            <a:off x="371520" y="2133720"/>
            <a:ext cx="3819600" cy="1827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52"/>
          <p:cNvSpPr/>
          <p:nvPr/>
        </p:nvSpPr>
        <p:spPr>
          <a:xfrm>
            <a:off x="380880" y="2144880"/>
            <a:ext cx="3784680" cy="1803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3"/>
          <p:cNvSpPr/>
          <p:nvPr/>
        </p:nvSpPr>
        <p:spPr>
          <a:xfrm>
            <a:off x="4495680" y="3581280"/>
            <a:ext cx="34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АС – общая ст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10"/>
          <p:cNvGrpSpPr/>
          <p:nvPr/>
        </p:nvGrpSpPr>
        <p:grpSpPr>
          <a:xfrm>
            <a:off x="777960" y="2819520"/>
            <a:ext cx="3123720" cy="380880"/>
            <a:chOff x="777960" y="2819520"/>
            <a:chExt cx="3123720" cy="380880"/>
          </a:xfrm>
        </p:grpSpPr>
        <p:sp>
          <p:nvSpPr>
            <p:cNvPr id="395" name="Line 11"/>
            <p:cNvSpPr/>
            <p:nvPr/>
          </p:nvSpPr>
          <p:spPr>
            <a:xfrm>
              <a:off x="777960" y="2819520"/>
              <a:ext cx="228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2"/>
            <p:cNvSpPr/>
            <p:nvPr/>
          </p:nvSpPr>
          <p:spPr>
            <a:xfrm>
              <a:off x="3673440" y="2971800"/>
              <a:ext cx="228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67"/>
          <p:cNvGrpSpPr/>
          <p:nvPr/>
        </p:nvGrpSpPr>
        <p:grpSpPr>
          <a:xfrm>
            <a:off x="520920" y="2261520"/>
            <a:ext cx="3512880" cy="1544040"/>
            <a:chOff x="520920" y="2261520"/>
            <a:chExt cx="3512880" cy="1544040"/>
          </a:xfrm>
        </p:grpSpPr>
        <p:sp>
          <p:nvSpPr>
            <p:cNvPr id="398" name="Freeform 21"/>
            <p:cNvSpPr/>
            <p:nvPr/>
          </p:nvSpPr>
          <p:spPr>
            <a:xfrm rot="21041400">
              <a:off x="533160" y="3628800"/>
              <a:ext cx="135000" cy="166680"/>
            </a:xfrm>
            <a:prstGeom prst="pie">
              <a:avLst/>
            </a:pr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2"/>
            <p:cNvSpPr/>
            <p:nvPr/>
          </p:nvSpPr>
          <p:spPr>
            <a:xfrm flipH="1" flipV="1" rot="21041400">
              <a:off x="3885840" y="2271240"/>
              <a:ext cx="134640" cy="166680"/>
            </a:xfrm>
            <a:prstGeom prst="pie">
              <a:avLst/>
            </a:pr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Freeform 59"/>
          <p:cNvSpPr/>
          <p:nvPr/>
        </p:nvSpPr>
        <p:spPr>
          <a:xfrm>
            <a:off x="1981080" y="2830680"/>
            <a:ext cx="430200" cy="5079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0"/>
          <p:cNvSpPr/>
          <p:nvPr/>
        </p:nvSpPr>
        <p:spPr>
          <a:xfrm>
            <a:off x="4495680" y="2819520"/>
            <a:ext cx="433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Построим диагональ 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1"/>
          <p:cNvSpPr/>
          <p:nvPr/>
        </p:nvSpPr>
        <p:spPr>
          <a:xfrm>
            <a:off x="4572000" y="3962520"/>
            <a:ext cx="34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АВ=С</a:t>
            </a:r>
            <a:r>
              <a:rPr b="1" i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, по услов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69"/>
          <p:cNvGrpSpPr/>
          <p:nvPr/>
        </p:nvGrpSpPr>
        <p:grpSpPr>
          <a:xfrm>
            <a:off x="152280" y="4419720"/>
            <a:ext cx="7315200" cy="459720"/>
            <a:chOff x="152280" y="4419720"/>
            <a:chExt cx="7315200" cy="459720"/>
          </a:xfrm>
        </p:grpSpPr>
        <p:sp>
          <p:nvSpPr>
            <p:cNvPr id="404" name="Text Box 62"/>
            <p:cNvSpPr/>
            <p:nvPr/>
          </p:nvSpPr>
          <p:spPr>
            <a:xfrm>
              <a:off x="457200" y="4419720"/>
              <a:ext cx="70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ВАС=    АС</a:t>
              </a:r>
              <a:r>
                <a:rPr b="1" i="1" lang="en-US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D</a:t>
              </a: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при АВ</a:t>
              </a:r>
              <a:r>
                <a:rPr b="1" i="1" lang="en-US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II</a:t>
              </a: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С</a:t>
              </a:r>
              <a:r>
                <a:rPr b="1" i="1" lang="en-US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D </a:t>
              </a: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и секущей А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5" name="Object 64"/>
                <p:cNvSpPr txBox="1"/>
                <p:nvPr/>
              </p:nvSpPr>
              <p:spPr>
                <a:xfrm>
                  <a:off x="152280" y="4419720"/>
                  <a:ext cx="46368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6" name="Object 65"/>
                <p:cNvSpPr txBox="1"/>
                <p:nvPr/>
              </p:nvSpPr>
              <p:spPr>
                <a:xfrm>
                  <a:off x="1295280" y="4419720"/>
                  <a:ext cx="46368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7" name="Group 74"/>
          <p:cNvGrpSpPr/>
          <p:nvPr/>
        </p:nvGrpSpPr>
        <p:grpSpPr>
          <a:xfrm>
            <a:off x="228600" y="4876920"/>
            <a:ext cx="8991360" cy="465840"/>
            <a:chOff x="228600" y="4876920"/>
            <a:chExt cx="8991360" cy="465840"/>
          </a:xfrm>
        </p:grpSpPr>
        <p:sp>
          <p:nvSpPr>
            <p:cNvPr id="408" name="Text Box 71"/>
            <p:cNvSpPr/>
            <p:nvPr/>
          </p:nvSpPr>
          <p:spPr>
            <a:xfrm>
              <a:off x="457200" y="4883040"/>
              <a:ext cx="876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АВС =   С</a:t>
              </a:r>
              <a:r>
                <a:rPr b="1" i="1" lang="en-US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D</a:t>
              </a: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А по 2 сторонам и углу между ни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9" name="Object 72"/>
                <p:cNvSpPr txBox="1"/>
                <p:nvPr/>
              </p:nvSpPr>
              <p:spPr>
                <a:xfrm>
                  <a:off x="1447560" y="4883040"/>
                  <a:ext cx="327240" cy="38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0" name="Object 73"/>
                <p:cNvSpPr txBox="1"/>
                <p:nvPr/>
              </p:nvSpPr>
              <p:spPr>
                <a:xfrm>
                  <a:off x="228600" y="4876920"/>
                  <a:ext cx="326880" cy="38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1" name="Group 79"/>
          <p:cNvGrpSpPr/>
          <p:nvPr/>
        </p:nvGrpSpPr>
        <p:grpSpPr>
          <a:xfrm>
            <a:off x="228600" y="5410080"/>
            <a:ext cx="8686800" cy="459720"/>
            <a:chOff x="228600" y="5410080"/>
            <a:chExt cx="8686800" cy="459720"/>
          </a:xfrm>
        </p:grpSpPr>
        <p:sp>
          <p:nvSpPr>
            <p:cNvPr id="412" name="Text Box 76"/>
            <p:cNvSpPr/>
            <p:nvPr/>
          </p:nvSpPr>
          <p:spPr>
            <a:xfrm>
              <a:off x="533520" y="5410080"/>
              <a:ext cx="83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ВСА=    СА</a:t>
              </a:r>
              <a:r>
                <a:rPr b="1" i="1" lang="en-US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D</a:t>
              </a: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. при прямых ВС и А</a:t>
              </a:r>
              <a:r>
                <a:rPr b="1" i="1" lang="en-US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D </a:t>
              </a: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и секущей АС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Object 77"/>
                <p:cNvSpPr txBox="1"/>
                <p:nvPr/>
              </p:nvSpPr>
              <p:spPr>
                <a:xfrm>
                  <a:off x="228600" y="5410080"/>
                  <a:ext cx="46368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4" name="Object 78"/>
                <p:cNvSpPr txBox="1"/>
                <p:nvPr/>
              </p:nvSpPr>
              <p:spPr>
                <a:xfrm>
                  <a:off x="1371600" y="5410080"/>
                  <a:ext cx="46368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5" name="Text Box 81"/>
          <p:cNvSpPr/>
          <p:nvPr/>
        </p:nvSpPr>
        <p:spPr>
          <a:xfrm>
            <a:off x="3048120" y="57913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Значит,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|AD</a:t>
            </a:r>
            <a:r>
              <a:rPr b="1" i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.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4"/>
          <p:cNvSpPr/>
          <p:nvPr/>
        </p:nvSpPr>
        <p:spPr>
          <a:xfrm>
            <a:off x="152280" y="6324480"/>
            <a:ext cx="90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Четырехугольник – параллелограмм </a:t>
            </a:r>
            <a:r>
              <a:rPr b="1" i="1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о определению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0"/>
          <p:cNvSpPr/>
          <p:nvPr/>
        </p:nvSpPr>
        <p:spPr>
          <a:xfrm>
            <a:off x="4419720" y="2133720"/>
            <a:ext cx="433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казать: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АВС</a:t>
            </a:r>
            <a:r>
              <a:rPr b="1" i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–параллело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93"/>
          <p:cNvGrpSpPr/>
          <p:nvPr/>
        </p:nvGrpSpPr>
        <p:grpSpPr>
          <a:xfrm>
            <a:off x="946440" y="2117160"/>
            <a:ext cx="2678760" cy="1861200"/>
            <a:chOff x="946440" y="2117160"/>
            <a:chExt cx="2678760" cy="1861200"/>
          </a:xfrm>
        </p:grpSpPr>
        <p:sp>
          <p:nvSpPr>
            <p:cNvPr id="419" name="AutoShape 91"/>
            <p:cNvSpPr/>
            <p:nvPr/>
          </p:nvSpPr>
          <p:spPr>
            <a:xfrm rot="20493600">
              <a:off x="3428280" y="2133360"/>
              <a:ext cx="152280" cy="304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92"/>
            <p:cNvSpPr/>
            <p:nvPr/>
          </p:nvSpPr>
          <p:spPr>
            <a:xfrm flipH="1" flipV="1" rot="20493600">
              <a:off x="990360" y="3656520"/>
              <a:ext cx="151920" cy="30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7" dur="5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reeform 3"/>
          <p:cNvSpPr/>
          <p:nvPr/>
        </p:nvSpPr>
        <p:spPr>
          <a:xfrm>
            <a:off x="0" y="914400"/>
            <a:ext cx="8852040" cy="8888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2"/>
          <p:cNvSpPr/>
          <p:nvPr/>
        </p:nvSpPr>
        <p:spPr>
          <a:xfrm>
            <a:off x="304920" y="609480"/>
            <a:ext cx="8381880" cy="723960"/>
          </a:xfrm>
          <a:prstGeom prst="pie">
            <a:avLst/>
          </a:prstGeom>
          <a:solidFill>
            <a:srgbClr val="99ff99"/>
          </a:solidFill>
          <a:ln w="9360">
            <a:solidFill>
              <a:srgbClr val="99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0" y="609480"/>
            <a:ext cx="9144000" cy="119124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464646"/>
                </a:solidFill>
                <a:latin typeface="Arial"/>
              </a:rPr>
              <a:t>2</a:t>
            </a:r>
            <a:r>
              <a:rPr b="1" i="1" lang="ru-RU" sz="2400" spc="-1" strike="noStrike" baseline="30000">
                <a:solidFill>
                  <a:srgbClr val="464646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464646"/>
                </a:solidFill>
                <a:latin typeface="Arial"/>
              </a:rPr>
              <a:t>.  Если в четырехугольнике противоположные стороны попарно равны, то этот четырехугольник – параллело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5"/>
          <p:cNvSpPr/>
          <p:nvPr/>
        </p:nvSpPr>
        <p:spPr>
          <a:xfrm>
            <a:off x="380880" y="2119320"/>
            <a:ext cx="3810240" cy="18288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6"/>
          <p:cNvSpPr/>
          <p:nvPr/>
        </p:nvSpPr>
        <p:spPr>
          <a:xfrm>
            <a:off x="371520" y="2147760"/>
            <a:ext cx="3795840" cy="1809720"/>
          </a:xfrm>
          <a:prstGeom prst="pie">
            <a:avLst/>
          </a:prstGeom>
          <a:solidFill>
            <a:srgbClr val="99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1752480" y="0"/>
            <a:ext cx="53341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знаки параллел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4807080" y="1447920"/>
            <a:ext cx="43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ано: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АВ=С</a:t>
            </a:r>
            <a:r>
              <a:rPr b="1" i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, ВС</a:t>
            </a:r>
            <a:r>
              <a:rPr b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=А</a:t>
            </a:r>
            <a:r>
              <a:rPr b="1" i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764280" y="1828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0"/>
          <p:cNvSpPr/>
          <p:nvPr/>
        </p:nvSpPr>
        <p:spPr>
          <a:xfrm>
            <a:off x="78480" y="382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1"/>
          <p:cNvSpPr/>
          <p:nvPr/>
        </p:nvSpPr>
        <p:spPr>
          <a:xfrm>
            <a:off x="4132800" y="1828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3339000" y="382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13"/>
          <p:cNvSpPr/>
          <p:nvPr/>
        </p:nvSpPr>
        <p:spPr>
          <a:xfrm>
            <a:off x="371520" y="2133720"/>
            <a:ext cx="3819600" cy="1827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14"/>
          <p:cNvSpPr/>
          <p:nvPr/>
        </p:nvSpPr>
        <p:spPr>
          <a:xfrm>
            <a:off x="380880" y="2144880"/>
            <a:ext cx="3784680" cy="1803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5"/>
          <p:cNvSpPr/>
          <p:nvPr/>
        </p:nvSpPr>
        <p:spPr>
          <a:xfrm>
            <a:off x="4648320" y="3352680"/>
            <a:ext cx="34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АС – общая ст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6"/>
          <p:cNvGrpSpPr/>
          <p:nvPr/>
        </p:nvGrpSpPr>
        <p:grpSpPr>
          <a:xfrm>
            <a:off x="777960" y="2819520"/>
            <a:ext cx="3123720" cy="380880"/>
            <a:chOff x="777960" y="2819520"/>
            <a:chExt cx="3123720" cy="380880"/>
          </a:xfrm>
        </p:grpSpPr>
        <p:sp>
          <p:nvSpPr>
            <p:cNvPr id="436" name="Line 17"/>
            <p:cNvSpPr/>
            <p:nvPr/>
          </p:nvSpPr>
          <p:spPr>
            <a:xfrm>
              <a:off x="777960" y="2819520"/>
              <a:ext cx="228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8"/>
            <p:cNvSpPr/>
            <p:nvPr/>
          </p:nvSpPr>
          <p:spPr>
            <a:xfrm>
              <a:off x="3673440" y="2971800"/>
              <a:ext cx="228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Freeform 22"/>
          <p:cNvSpPr/>
          <p:nvPr/>
        </p:nvSpPr>
        <p:spPr>
          <a:xfrm>
            <a:off x="1981080" y="2830680"/>
            <a:ext cx="430200" cy="5079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3"/>
          <p:cNvSpPr/>
          <p:nvPr/>
        </p:nvSpPr>
        <p:spPr>
          <a:xfrm>
            <a:off x="4648320" y="2590920"/>
            <a:ext cx="433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Построим диагональ 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4"/>
          <p:cNvSpPr/>
          <p:nvPr/>
        </p:nvSpPr>
        <p:spPr>
          <a:xfrm>
            <a:off x="4648320" y="3733920"/>
            <a:ext cx="34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АВ=С</a:t>
            </a:r>
            <a:r>
              <a:rPr b="1" i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, по услов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52"/>
          <p:cNvGrpSpPr/>
          <p:nvPr/>
        </p:nvGrpSpPr>
        <p:grpSpPr>
          <a:xfrm>
            <a:off x="1752480" y="4419720"/>
            <a:ext cx="5410440" cy="465840"/>
            <a:chOff x="1752480" y="4419720"/>
            <a:chExt cx="5410440" cy="465840"/>
          </a:xfrm>
        </p:grpSpPr>
        <p:sp>
          <p:nvSpPr>
            <p:cNvPr id="442" name="Text Box 30"/>
            <p:cNvSpPr/>
            <p:nvPr/>
          </p:nvSpPr>
          <p:spPr>
            <a:xfrm>
              <a:off x="1981080" y="4425840"/>
              <a:ext cx="518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АВС =   С</a:t>
              </a:r>
              <a:r>
                <a:rPr b="1" i="1" lang="en-US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D</a:t>
              </a: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А по трем сторон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3" name="Object 31"/>
                <p:cNvSpPr txBox="1"/>
                <p:nvPr/>
              </p:nvSpPr>
              <p:spPr>
                <a:xfrm>
                  <a:off x="2971800" y="4425840"/>
                  <a:ext cx="326880" cy="38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4" name="Object 32"/>
                <p:cNvSpPr txBox="1"/>
                <p:nvPr/>
              </p:nvSpPr>
              <p:spPr>
                <a:xfrm>
                  <a:off x="1752480" y="4419720"/>
                  <a:ext cx="327240" cy="38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5" name="Group 33"/>
          <p:cNvGrpSpPr/>
          <p:nvPr/>
        </p:nvGrpSpPr>
        <p:grpSpPr>
          <a:xfrm>
            <a:off x="228600" y="4892760"/>
            <a:ext cx="8686800" cy="459720"/>
            <a:chOff x="228600" y="4892760"/>
            <a:chExt cx="8686800" cy="459720"/>
          </a:xfrm>
        </p:grpSpPr>
        <p:sp>
          <p:nvSpPr>
            <p:cNvPr id="446" name="Text Box 34"/>
            <p:cNvSpPr/>
            <p:nvPr/>
          </p:nvSpPr>
          <p:spPr>
            <a:xfrm>
              <a:off x="533520" y="4892760"/>
              <a:ext cx="83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ВАС=    АС</a:t>
              </a:r>
              <a:r>
                <a:rPr b="1" i="1" lang="en-US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D</a:t>
              </a: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. Это при прямых АВ и С</a:t>
              </a:r>
              <a:r>
                <a:rPr b="1" i="1" lang="en-US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D </a:t>
              </a: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и секущей АС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7" name="Object 35"/>
                <p:cNvSpPr txBox="1"/>
                <p:nvPr/>
              </p:nvSpPr>
              <p:spPr>
                <a:xfrm>
                  <a:off x="228600" y="4892760"/>
                  <a:ext cx="46368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8" name="Object 36"/>
                <p:cNvSpPr txBox="1"/>
                <p:nvPr/>
              </p:nvSpPr>
              <p:spPr>
                <a:xfrm>
                  <a:off x="1371600" y="4892760"/>
                  <a:ext cx="46368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9" name="Text Box 37"/>
          <p:cNvSpPr/>
          <p:nvPr/>
        </p:nvSpPr>
        <p:spPr>
          <a:xfrm>
            <a:off x="3200400" y="52578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Значит,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В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|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1" i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.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8"/>
          <p:cNvSpPr/>
          <p:nvPr/>
        </p:nvSpPr>
        <p:spPr>
          <a:xfrm>
            <a:off x="152280" y="6324480"/>
            <a:ext cx="90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Четырехугольник – параллелограмм по </a:t>
            </a:r>
            <a:r>
              <a:rPr b="1" i="1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ризнаку 1</a:t>
            </a:r>
            <a:r>
              <a:rPr b="1" i="1" lang="ru-RU" sz="2400" spc="-1" strike="noStrike" baseline="30000">
                <a:solidFill>
                  <a:srgbClr val="800080"/>
                </a:solidFill>
                <a:latin typeface="Times New Roman"/>
                <a:ea typeface="Times New Roman"/>
              </a:rPr>
              <a:t>0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0"/>
          <p:cNvSpPr/>
          <p:nvPr/>
        </p:nvSpPr>
        <p:spPr>
          <a:xfrm>
            <a:off x="4724280" y="1828800"/>
            <a:ext cx="433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казать: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АВС</a:t>
            </a:r>
            <a:r>
              <a:rPr b="1" i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–параллело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58"/>
          <p:cNvGrpSpPr/>
          <p:nvPr/>
        </p:nvGrpSpPr>
        <p:grpSpPr>
          <a:xfrm>
            <a:off x="604800" y="2346480"/>
            <a:ext cx="3355920" cy="1400400"/>
            <a:chOff x="604800" y="2346480"/>
            <a:chExt cx="3355920" cy="1400400"/>
          </a:xfrm>
        </p:grpSpPr>
        <p:sp>
          <p:nvSpPr>
            <p:cNvPr id="453" name="AutoShape 42"/>
            <p:cNvSpPr/>
            <p:nvPr/>
          </p:nvSpPr>
          <p:spPr>
            <a:xfrm flipH="1" flipV="1" rot="19191000">
              <a:off x="685080" y="3428640"/>
              <a:ext cx="152280" cy="30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43"/>
            <p:cNvSpPr/>
            <p:nvPr/>
          </p:nvSpPr>
          <p:spPr>
            <a:xfrm rot="19455600">
              <a:off x="3733920" y="2361960"/>
              <a:ext cx="152280" cy="304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44"/>
          <p:cNvGrpSpPr/>
          <p:nvPr/>
        </p:nvGrpSpPr>
        <p:grpSpPr>
          <a:xfrm>
            <a:off x="1752480" y="1981080"/>
            <a:ext cx="952200" cy="2120760"/>
            <a:chOff x="1752480" y="1981080"/>
            <a:chExt cx="952200" cy="2120760"/>
          </a:xfrm>
        </p:grpSpPr>
        <p:grpSp>
          <p:nvGrpSpPr>
            <p:cNvPr id="456" name="Group 45"/>
            <p:cNvGrpSpPr/>
            <p:nvPr/>
          </p:nvGrpSpPr>
          <p:grpSpPr>
            <a:xfrm>
              <a:off x="1752480" y="3809880"/>
              <a:ext cx="203400" cy="291960"/>
              <a:chOff x="1752480" y="3809880"/>
              <a:chExt cx="203400" cy="291960"/>
            </a:xfrm>
          </p:grpSpPr>
          <p:sp>
            <p:nvSpPr>
              <p:cNvPr id="457" name="Freeform 46"/>
              <p:cNvSpPr/>
              <p:nvPr/>
            </p:nvSpPr>
            <p:spPr>
              <a:xfrm>
                <a:off x="1752480" y="3809880"/>
                <a:ext cx="139680" cy="2919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47"/>
              <p:cNvSpPr/>
              <p:nvPr/>
            </p:nvSpPr>
            <p:spPr>
              <a:xfrm>
                <a:off x="1816200" y="3809880"/>
                <a:ext cx="139680" cy="2919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48"/>
            <p:cNvGrpSpPr/>
            <p:nvPr/>
          </p:nvGrpSpPr>
          <p:grpSpPr>
            <a:xfrm>
              <a:off x="2502000" y="1981080"/>
              <a:ext cx="202680" cy="291960"/>
              <a:chOff x="2502000" y="1981080"/>
              <a:chExt cx="202680" cy="291960"/>
            </a:xfrm>
          </p:grpSpPr>
          <p:sp>
            <p:nvSpPr>
              <p:cNvPr id="460" name="Freeform 49"/>
              <p:cNvSpPr/>
              <p:nvPr/>
            </p:nvSpPr>
            <p:spPr>
              <a:xfrm>
                <a:off x="2502000" y="1981080"/>
                <a:ext cx="139320" cy="2919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50"/>
              <p:cNvSpPr/>
              <p:nvPr/>
            </p:nvSpPr>
            <p:spPr>
              <a:xfrm>
                <a:off x="2565360" y="1981080"/>
                <a:ext cx="139320" cy="2919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Text Box 51"/>
          <p:cNvSpPr/>
          <p:nvPr/>
        </p:nvSpPr>
        <p:spPr>
          <a:xfrm>
            <a:off x="4654440" y="4114800"/>
            <a:ext cx="34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ВС=А</a:t>
            </a:r>
            <a:r>
              <a:rPr b="1" i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, по услов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7"/>
          <p:cNvSpPr/>
          <p:nvPr/>
        </p:nvSpPr>
        <p:spPr>
          <a:xfrm>
            <a:off x="4495680" y="5715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В=С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, по условию</a:t>
            </a:r>
            <a:r>
              <a:rPr b="1" i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.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71" dur="3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reeform 2"/>
          <p:cNvSpPr/>
          <p:nvPr/>
        </p:nvSpPr>
        <p:spPr>
          <a:xfrm>
            <a:off x="-76320" y="406440"/>
            <a:ext cx="9131400" cy="888840"/>
          </a:xfrm>
          <a:prstGeom prst="pie">
            <a:avLst/>
          </a:prstGeom>
          <a:solidFill>
            <a:srgbClr val="99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3"/>
          <p:cNvSpPr/>
          <p:nvPr/>
        </p:nvSpPr>
        <p:spPr>
          <a:xfrm>
            <a:off x="304920" y="76320"/>
            <a:ext cx="8737560" cy="7617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464646"/>
                </a:solidFill>
                <a:latin typeface="Arial"/>
              </a:rPr>
              <a:t>3</a:t>
            </a:r>
            <a:r>
              <a:rPr b="1" i="1" lang="ru-RU" sz="2400" spc="-1" strike="noStrike" baseline="30000">
                <a:solidFill>
                  <a:srgbClr val="464646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464646"/>
                </a:solidFill>
                <a:latin typeface="Arial"/>
              </a:rPr>
              <a:t>.  Если в четырехугольнике диагонали пересекаются и точкой пересечения делятся пополам, то этот четырехугольник – параллело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5"/>
          <p:cNvSpPr/>
          <p:nvPr/>
        </p:nvSpPr>
        <p:spPr>
          <a:xfrm>
            <a:off x="380880" y="2133720"/>
            <a:ext cx="1892520" cy="1828800"/>
          </a:xfrm>
          <a:prstGeom prst="pie">
            <a:avLst/>
          </a:prstGeom>
          <a:solidFill>
            <a:srgbClr val="99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6"/>
          <p:cNvSpPr/>
          <p:nvPr/>
        </p:nvSpPr>
        <p:spPr>
          <a:xfrm>
            <a:off x="2279520" y="2136600"/>
            <a:ext cx="1905120" cy="18208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8"/>
          <p:cNvSpPr/>
          <p:nvPr/>
        </p:nvSpPr>
        <p:spPr>
          <a:xfrm>
            <a:off x="304920" y="12193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9"/>
          <p:cNvSpPr/>
          <p:nvPr/>
        </p:nvSpPr>
        <p:spPr>
          <a:xfrm>
            <a:off x="764280" y="1828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0"/>
          <p:cNvSpPr/>
          <p:nvPr/>
        </p:nvSpPr>
        <p:spPr>
          <a:xfrm>
            <a:off x="78480" y="382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1"/>
          <p:cNvSpPr/>
          <p:nvPr/>
        </p:nvSpPr>
        <p:spPr>
          <a:xfrm>
            <a:off x="4132800" y="1828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2"/>
          <p:cNvSpPr/>
          <p:nvPr/>
        </p:nvSpPr>
        <p:spPr>
          <a:xfrm>
            <a:off x="3339000" y="382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13"/>
          <p:cNvSpPr/>
          <p:nvPr/>
        </p:nvSpPr>
        <p:spPr>
          <a:xfrm>
            <a:off x="371520" y="2133720"/>
            <a:ext cx="3819600" cy="1827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4"/>
          <p:cNvSpPr/>
          <p:nvPr/>
        </p:nvSpPr>
        <p:spPr>
          <a:xfrm>
            <a:off x="380880" y="2144880"/>
            <a:ext cx="3784680" cy="1803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53"/>
          <p:cNvGrpSpPr/>
          <p:nvPr/>
        </p:nvGrpSpPr>
        <p:grpSpPr>
          <a:xfrm>
            <a:off x="1143000" y="2438280"/>
            <a:ext cx="2209680" cy="1219320"/>
            <a:chOff x="1143000" y="2438280"/>
            <a:chExt cx="2209680" cy="1219320"/>
          </a:xfrm>
        </p:grpSpPr>
        <p:sp>
          <p:nvSpPr>
            <p:cNvPr id="477" name="Line 17"/>
            <p:cNvSpPr/>
            <p:nvPr/>
          </p:nvSpPr>
          <p:spPr>
            <a:xfrm>
              <a:off x="1143000" y="34290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18"/>
            <p:cNvSpPr/>
            <p:nvPr/>
          </p:nvSpPr>
          <p:spPr>
            <a:xfrm>
              <a:off x="3124080" y="243828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Text Box 20"/>
          <p:cNvSpPr/>
          <p:nvPr/>
        </p:nvSpPr>
        <p:spPr>
          <a:xfrm>
            <a:off x="4648320" y="2590920"/>
            <a:ext cx="43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1"/>
          <p:cNvSpPr/>
          <p:nvPr/>
        </p:nvSpPr>
        <p:spPr>
          <a:xfrm>
            <a:off x="4648320" y="2971800"/>
            <a:ext cx="34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АО=ОС, по услов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58"/>
          <p:cNvGrpSpPr/>
          <p:nvPr/>
        </p:nvGrpSpPr>
        <p:grpSpPr>
          <a:xfrm>
            <a:off x="1752480" y="4419720"/>
            <a:ext cx="5791320" cy="465840"/>
            <a:chOff x="1752480" y="4419720"/>
            <a:chExt cx="5791320" cy="465840"/>
          </a:xfrm>
        </p:grpSpPr>
        <p:sp>
          <p:nvSpPr>
            <p:cNvPr id="482" name="Text Box 23"/>
            <p:cNvSpPr/>
            <p:nvPr/>
          </p:nvSpPr>
          <p:spPr>
            <a:xfrm>
              <a:off x="1981080" y="4425840"/>
              <a:ext cx="556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АОВ =   СО</a:t>
              </a:r>
              <a:r>
                <a:rPr b="1" i="1" lang="en-US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D</a:t>
              </a: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 по первому признак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3" name="Object 24"/>
                <p:cNvSpPr txBox="1"/>
                <p:nvPr/>
              </p:nvSpPr>
              <p:spPr>
                <a:xfrm>
                  <a:off x="2971800" y="4425840"/>
                  <a:ext cx="32688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4" name="Object 25"/>
                <p:cNvSpPr txBox="1"/>
                <p:nvPr/>
              </p:nvSpPr>
              <p:spPr>
                <a:xfrm>
                  <a:off x="1752480" y="4419720"/>
                  <a:ext cx="32724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5" name="Group 26"/>
          <p:cNvGrpSpPr/>
          <p:nvPr/>
        </p:nvGrpSpPr>
        <p:grpSpPr>
          <a:xfrm>
            <a:off x="228600" y="5502240"/>
            <a:ext cx="8686800" cy="459720"/>
            <a:chOff x="228600" y="5502240"/>
            <a:chExt cx="8686800" cy="459720"/>
          </a:xfrm>
        </p:grpSpPr>
        <p:sp>
          <p:nvSpPr>
            <p:cNvPr id="486" name="Text Box 27"/>
            <p:cNvSpPr/>
            <p:nvPr/>
          </p:nvSpPr>
          <p:spPr>
            <a:xfrm>
              <a:off x="533520" y="5502240"/>
              <a:ext cx="83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ВАО=    ОС</a:t>
              </a:r>
              <a:r>
                <a:rPr b="1" i="1" lang="en-US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D</a:t>
              </a: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. при прямых АВ и С</a:t>
              </a:r>
              <a:r>
                <a:rPr b="1" i="1" lang="en-US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D </a:t>
              </a: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и секущей АС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7" name="Object 28"/>
                <p:cNvSpPr txBox="1"/>
                <p:nvPr/>
              </p:nvSpPr>
              <p:spPr>
                <a:xfrm>
                  <a:off x="228600" y="5502240"/>
                  <a:ext cx="46368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8" name="Object 29"/>
                <p:cNvSpPr txBox="1"/>
                <p:nvPr/>
              </p:nvSpPr>
              <p:spPr>
                <a:xfrm>
                  <a:off x="1371600" y="5502240"/>
                  <a:ext cx="46368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9" name="Text Box 30"/>
          <p:cNvSpPr/>
          <p:nvPr/>
        </p:nvSpPr>
        <p:spPr>
          <a:xfrm>
            <a:off x="3200400" y="5867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Значит,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В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|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1" i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.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31"/>
          <p:cNvSpPr/>
          <p:nvPr/>
        </p:nvSpPr>
        <p:spPr>
          <a:xfrm>
            <a:off x="152280" y="6324480"/>
            <a:ext cx="90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Четырехугольник – параллелограмм по </a:t>
            </a:r>
            <a:r>
              <a:rPr b="1" i="1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ризнаку 1</a:t>
            </a:r>
            <a:r>
              <a:rPr b="1" i="1" lang="ru-RU" sz="2400" spc="-1" strike="noStrike" baseline="30000">
                <a:solidFill>
                  <a:srgbClr val="800080"/>
                </a:solidFill>
                <a:latin typeface="Times New Roman"/>
                <a:ea typeface="Times New Roman"/>
              </a:rPr>
              <a:t>0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2"/>
          <p:cNvSpPr/>
          <p:nvPr/>
        </p:nvSpPr>
        <p:spPr>
          <a:xfrm>
            <a:off x="4724280" y="1828800"/>
            <a:ext cx="433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казать: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АВС</a:t>
            </a:r>
            <a:r>
              <a:rPr b="1" i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–параллело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33"/>
          <p:cNvGrpSpPr/>
          <p:nvPr/>
        </p:nvGrpSpPr>
        <p:grpSpPr>
          <a:xfrm>
            <a:off x="604800" y="2346480"/>
            <a:ext cx="3355920" cy="1400400"/>
            <a:chOff x="604800" y="2346480"/>
            <a:chExt cx="3355920" cy="1400400"/>
          </a:xfrm>
        </p:grpSpPr>
        <p:sp>
          <p:nvSpPr>
            <p:cNvPr id="493" name="AutoShape 34"/>
            <p:cNvSpPr/>
            <p:nvPr/>
          </p:nvSpPr>
          <p:spPr>
            <a:xfrm flipH="1" flipV="1" rot="19191000">
              <a:off x="685080" y="3428640"/>
              <a:ext cx="152280" cy="30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35"/>
            <p:cNvSpPr/>
            <p:nvPr/>
          </p:nvSpPr>
          <p:spPr>
            <a:xfrm rot="19455600">
              <a:off x="3733920" y="2361960"/>
              <a:ext cx="152280" cy="304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52"/>
          <p:cNvGrpSpPr/>
          <p:nvPr/>
        </p:nvGrpSpPr>
        <p:grpSpPr>
          <a:xfrm>
            <a:off x="1676520" y="2438280"/>
            <a:ext cx="1193760" cy="1130400"/>
            <a:chOff x="1676520" y="2438280"/>
            <a:chExt cx="1193760" cy="1130400"/>
          </a:xfrm>
        </p:grpSpPr>
        <p:grpSp>
          <p:nvGrpSpPr>
            <p:cNvPr id="496" name="Group 37"/>
            <p:cNvGrpSpPr/>
            <p:nvPr/>
          </p:nvGrpSpPr>
          <p:grpSpPr>
            <a:xfrm>
              <a:off x="2666880" y="3276720"/>
              <a:ext cx="203400" cy="291960"/>
              <a:chOff x="2666880" y="3276720"/>
              <a:chExt cx="203400" cy="291960"/>
            </a:xfrm>
          </p:grpSpPr>
          <p:sp>
            <p:nvSpPr>
              <p:cNvPr id="497" name="Freeform 38"/>
              <p:cNvSpPr/>
              <p:nvPr/>
            </p:nvSpPr>
            <p:spPr>
              <a:xfrm>
                <a:off x="2666880" y="3276720"/>
                <a:ext cx="139680" cy="2919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39"/>
              <p:cNvSpPr/>
              <p:nvPr/>
            </p:nvSpPr>
            <p:spPr>
              <a:xfrm>
                <a:off x="2730600" y="3276720"/>
                <a:ext cx="139680" cy="2919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Group 40"/>
            <p:cNvGrpSpPr/>
            <p:nvPr/>
          </p:nvGrpSpPr>
          <p:grpSpPr>
            <a:xfrm>
              <a:off x="1676520" y="2438280"/>
              <a:ext cx="202680" cy="291960"/>
              <a:chOff x="1676520" y="2438280"/>
              <a:chExt cx="202680" cy="291960"/>
            </a:xfrm>
          </p:grpSpPr>
          <p:sp>
            <p:nvSpPr>
              <p:cNvPr id="500" name="Freeform 41"/>
              <p:cNvSpPr/>
              <p:nvPr/>
            </p:nvSpPr>
            <p:spPr>
              <a:xfrm>
                <a:off x="1676520" y="2438280"/>
                <a:ext cx="139320" cy="2919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42"/>
              <p:cNvSpPr/>
              <p:nvPr/>
            </p:nvSpPr>
            <p:spPr>
              <a:xfrm>
                <a:off x="1739880" y="2438280"/>
                <a:ext cx="139320" cy="2919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2" name="Text Box 43"/>
          <p:cNvSpPr/>
          <p:nvPr/>
        </p:nvSpPr>
        <p:spPr>
          <a:xfrm>
            <a:off x="4654440" y="3352680"/>
            <a:ext cx="34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ВО=О</a:t>
            </a:r>
            <a:r>
              <a:rPr b="1" i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, по услов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4"/>
          <p:cNvSpPr/>
          <p:nvPr/>
        </p:nvSpPr>
        <p:spPr>
          <a:xfrm>
            <a:off x="3124080" y="4952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юда,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В=С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46"/>
          <p:cNvSpPr/>
          <p:nvPr/>
        </p:nvSpPr>
        <p:spPr>
          <a:xfrm>
            <a:off x="1257480" y="2171880"/>
            <a:ext cx="2095200" cy="1790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7"/>
          <p:cNvSpPr/>
          <p:nvPr/>
        </p:nvSpPr>
        <p:spPr>
          <a:xfrm>
            <a:off x="2059200" y="25146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48"/>
              <p:cNvSpPr txBox="1"/>
              <p:nvPr/>
            </p:nvSpPr>
            <p:spPr>
              <a:xfrm>
                <a:off x="1295280" y="1217520"/>
                <a:ext cx="65534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∩</m:t>
                    </m:r>
                    <m:r>
                      <m:rPr>
                        <m:lit/>
                        <m:nor/>
                      </m:rPr>
                      <m:t xml:space="preserve">ВD</m:t>
                    </m:r>
                    <m:r>
                      <m:t xml:space="preserve">=</m:t>
                    </m:r>
                    <m:r>
                      <m:t xml:space="preserve">О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О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середин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7" name="Group 51"/>
          <p:cNvGrpSpPr/>
          <p:nvPr/>
        </p:nvGrpSpPr>
        <p:grpSpPr>
          <a:xfrm>
            <a:off x="1905120" y="2819520"/>
            <a:ext cx="736560" cy="457200"/>
            <a:chOff x="1905120" y="2819520"/>
            <a:chExt cx="736560" cy="457200"/>
          </a:xfrm>
        </p:grpSpPr>
        <p:sp>
          <p:nvSpPr>
            <p:cNvPr id="508" name="Freeform 49"/>
            <p:cNvSpPr/>
            <p:nvPr/>
          </p:nvSpPr>
          <p:spPr>
            <a:xfrm>
              <a:off x="2514600" y="2895480"/>
              <a:ext cx="127080" cy="381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50"/>
            <p:cNvSpPr/>
            <p:nvPr/>
          </p:nvSpPr>
          <p:spPr>
            <a:xfrm flipH="1" flipV="1">
              <a:off x="1905120" y="2819520"/>
              <a:ext cx="126720" cy="3808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57"/>
          <p:cNvGrpSpPr/>
          <p:nvPr/>
        </p:nvGrpSpPr>
        <p:grpSpPr>
          <a:xfrm>
            <a:off x="4343400" y="3749760"/>
            <a:ext cx="4419720" cy="825480"/>
            <a:chOff x="4343400" y="3749760"/>
            <a:chExt cx="4419720" cy="825480"/>
          </a:xfrm>
        </p:grpSpPr>
        <p:sp>
          <p:nvSpPr>
            <p:cNvPr id="511" name="Text Box 15"/>
            <p:cNvSpPr/>
            <p:nvPr/>
          </p:nvSpPr>
          <p:spPr>
            <a:xfrm>
              <a:off x="4648320" y="3749760"/>
              <a:ext cx="4114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АОВ=    СО</a:t>
              </a:r>
              <a:r>
                <a:rPr b="1" i="1" lang="en-US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D</a:t>
              </a: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, как вертикаль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2" name="Object 55"/>
                <p:cNvSpPr txBox="1"/>
                <p:nvPr/>
              </p:nvSpPr>
              <p:spPr>
                <a:xfrm>
                  <a:off x="4343400" y="3749760"/>
                  <a:ext cx="45720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3" name="Object 56"/>
                <p:cNvSpPr txBox="1"/>
                <p:nvPr/>
              </p:nvSpPr>
              <p:spPr>
                <a:xfrm>
                  <a:off x="5562720" y="3749760"/>
                  <a:ext cx="45720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dissolv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\[A{C^2} + B{D^2} = 2(A{B^2} + A{D^2})\]"/>
          <p:cNvPicPr/>
          <p:nvPr/>
        </p:nvPicPr>
        <p:blipFill>
          <a:blip r:embed="rId1"/>
          <a:stretch/>
        </p:blipFill>
        <p:spPr>
          <a:xfrm>
            <a:off x="380880" y="0"/>
            <a:ext cx="2219400" cy="2001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summa kvadratov diagonaley "/>
          <p:cNvPicPr/>
          <p:nvPr/>
        </p:nvPicPr>
        <p:blipFill>
          <a:blip r:embed="rId2"/>
          <a:stretch/>
        </p:blipFill>
        <p:spPr>
          <a:xfrm>
            <a:off x="0" y="380880"/>
            <a:ext cx="2633760" cy="13636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6" descr="diagonali-delyat-ploshchad-parallelogramma"/>
          <p:cNvPicPr/>
          <p:nvPr/>
        </p:nvPicPr>
        <p:blipFill>
          <a:blip r:embed="rId3"/>
          <a:stretch/>
        </p:blipFill>
        <p:spPr>
          <a:xfrm>
            <a:off x="4419720" y="380880"/>
            <a:ext cx="2896920" cy="19749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8" descr="\[{S_{\Delta AOB}} = {S_{\Delta BOC}} = {S_{\Delta COD}} = {S_{\Delta AOD}}\]"/>
          <p:cNvPicPr/>
          <p:nvPr/>
        </p:nvPicPr>
        <p:blipFill>
          <a:blip r:embed="rId4"/>
          <a:stretch/>
        </p:blipFill>
        <p:spPr>
          <a:xfrm>
            <a:off x="4572000" y="0"/>
            <a:ext cx="2781360" cy="133200"/>
          </a:xfrm>
          <a:prstGeom prst="rect">
            <a:avLst/>
          </a:prstGeom>
          <a:ln w="0">
            <a:noFill/>
          </a:ln>
        </p:spPr>
      </p:pic>
      <p:sp>
        <p:nvSpPr>
          <p:cNvPr id="518" name="Прямоугольник 7"/>
          <p:cNvSpPr/>
          <p:nvPr/>
        </p:nvSpPr>
        <p:spPr>
          <a:xfrm>
            <a:off x="4572000" y="26668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оказатель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8"/>
          <p:cNvSpPr/>
          <p:nvPr/>
        </p:nvSpPr>
        <p:spPr>
          <a:xfrm>
            <a:off x="3733920" y="350532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Треугольники ABD и CDB равны по трём сторонам (сторона BD — общая, AD=BC и AB=CD как </a:t>
            </a:r>
            <a:r>
              <a:rPr b="0" lang="ru-RU" sz="1800" spc="-1" strike="noStrike" u="sng">
                <a:solidFill>
                  <a:srgbClr val="ff8119"/>
                </a:solidFill>
                <a:uFillTx/>
                <a:latin typeface="Arial"/>
                <a:hlinkClick r:id="rId5"/>
              </a:rPr>
              <a:t>противоположные стороны параллелограм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0" descr="\[{S_{\Delta ABD}} = {S_{\Delta CDB}}\]"/>
          <p:cNvPicPr/>
          <p:nvPr/>
        </p:nvPicPr>
        <p:blipFill>
          <a:blip r:embed="rId6"/>
          <a:stretch/>
        </p:blipFill>
        <p:spPr>
          <a:xfrm>
            <a:off x="5486400" y="4876920"/>
            <a:ext cx="1285920" cy="15228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11"/>
          <p:cNvSpPr/>
          <p:nvPr/>
        </p:nvSpPr>
        <p:spPr>
          <a:xfrm>
            <a:off x="2160" y="3960"/>
            <a:ext cx="153000" cy="66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01"/>
                </a:solidFill>
                <a:latin typeface="Arial"/>
              </a:rPr>
              <a:t>  </a:t>
            </a:r>
            <a:r>
              <a:rPr b="0" lang="ru-RU" sz="1000" spc="-1" strike="noStrike">
                <a:solidFill>
                  <a:srgbClr val="010101"/>
                </a:solidFill>
                <a:latin typeface="Lato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01"/>
                </a:solidFill>
                <a:latin typeface="Arial"/>
              </a:rPr>
              <a:t>  </a:t>
            </a:r>
            <a:r>
              <a:rPr b="0" lang="ru-RU" sz="1000" spc="-1" strike="noStrike">
                <a:solidFill>
                  <a:srgbClr val="010101"/>
                </a:solidFill>
                <a:latin typeface="Lato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01"/>
                </a:solidFill>
                <a:latin typeface="Arial"/>
              </a:rPr>
              <a:t>  </a:t>
            </a:r>
            <a:r>
              <a:rPr b="0" lang="ru-RU" sz="1000" spc="-1" strike="noStrike">
                <a:solidFill>
                  <a:srgbClr val="010101"/>
                </a:solidFill>
                <a:latin typeface="Lato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14"/>
          <p:cNvSpPr/>
          <p:nvPr/>
        </p:nvSpPr>
        <p:spPr>
          <a:xfrm>
            <a:off x="4267080" y="510552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Так как </a:t>
            </a:r>
            <a:r>
              <a:rPr b="0" lang="ru-RU" sz="1800" spc="-1" strike="noStrike" u="sng">
                <a:solidFill>
                  <a:srgbClr val="ff8119"/>
                </a:solidFill>
                <a:uFillTx/>
                <a:latin typeface="Arial"/>
                <a:hlinkClick r:id="rId7"/>
              </a:rPr>
              <a:t>диагонали параллелограмма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очке пересечения делятся пополам AO — медиана треугольника ABD, CO — C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6" descr="\[{S_{\Delta AOB}} = {S_{\Delta AOD}} = \frac{1}{2}{S_{\Delta ABD}}\]"/>
          <p:cNvPicPr/>
          <p:nvPr/>
        </p:nvPicPr>
        <p:blipFill>
          <a:blip r:embed="rId8"/>
          <a:stretch/>
        </p:blipFill>
        <p:spPr>
          <a:xfrm>
            <a:off x="4114800" y="5943600"/>
            <a:ext cx="2152800" cy="3430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8" descr="\[{S_{\Delta BOC}} = {S_{\Delta COD}} = \frac{1}{2}{S_{\Delta CDB}}\]"/>
          <p:cNvPicPr/>
          <p:nvPr/>
        </p:nvPicPr>
        <p:blipFill>
          <a:blip r:embed="rId9"/>
          <a:stretch/>
        </p:blipFill>
        <p:spPr>
          <a:xfrm>
            <a:off x="6400800" y="5943600"/>
            <a:ext cx="2162160" cy="343080"/>
          </a:xfrm>
          <a:prstGeom prst="rect">
            <a:avLst/>
          </a:prstGeom>
          <a:ln w="0">
            <a:noFill/>
          </a:ln>
        </p:spPr>
      </p:pic>
      <p:sp>
        <p:nvSpPr>
          <p:cNvPr id="525" name="Прямоугольник 17"/>
          <p:cNvSpPr/>
          <p:nvPr/>
        </p:nvSpPr>
        <p:spPr>
          <a:xfrm>
            <a:off x="4050000" y="648828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Что и требовалось доказ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20" descr="\[{S_{\Delta AOB}} = {S_{\Delta BOC}} = {S_{\Delta COD}} = {S_{\Delta AOD}}\]"/>
          <p:cNvPicPr/>
          <p:nvPr/>
        </p:nvPicPr>
        <p:blipFill>
          <a:blip r:embed="rId10"/>
          <a:stretch/>
        </p:blipFill>
        <p:spPr>
          <a:xfrm>
            <a:off x="5867280" y="6400800"/>
            <a:ext cx="2781360" cy="133200"/>
          </a:xfrm>
          <a:prstGeom prst="rect">
            <a:avLst/>
          </a:prstGeom>
          <a:ln w="0">
            <a:noFill/>
          </a:ln>
        </p:spPr>
      </p:pic>
      <p:sp>
        <p:nvSpPr>
          <p:cNvPr id="527" name="Прямоугольник 19"/>
          <p:cNvSpPr/>
          <p:nvPr/>
        </p:nvSpPr>
        <p:spPr>
          <a:xfrm>
            <a:off x="3962520" y="6248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21"/>
          <p:cNvSpPr/>
          <p:nvPr/>
        </p:nvSpPr>
        <p:spPr>
          <a:xfrm>
            <a:off x="5400" y="175248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оугольник 22"/>
          <p:cNvSpPr/>
          <p:nvPr/>
        </p:nvSpPr>
        <p:spPr>
          <a:xfrm>
            <a:off x="0" y="20574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гон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24"/>
          <p:cNvSpPr/>
          <p:nvPr/>
        </p:nvSpPr>
        <p:spPr>
          <a:xfrm>
            <a:off x="13680" y="2362320"/>
            <a:ext cx="29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оугольник 25"/>
          <p:cNvSpPr/>
          <p:nvPr/>
        </p:nvSpPr>
        <p:spPr>
          <a:xfrm>
            <a:off x="7200" y="26668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оказ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22" descr="\[A{C^2} + B{D^2} = 2(A{B^2} + A{D^2})\]"/>
          <p:cNvPicPr/>
          <p:nvPr/>
        </p:nvPicPr>
        <p:blipFill>
          <a:blip r:embed="rId11"/>
          <a:stretch/>
        </p:blipFill>
        <p:spPr>
          <a:xfrm>
            <a:off x="1219320" y="2743200"/>
            <a:ext cx="2219040" cy="2001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4" descr="summa kvadratov diagonaley parallelogramma"/>
          <p:cNvPicPr/>
          <p:nvPr/>
        </p:nvPicPr>
        <p:blipFill>
          <a:blip r:embed="rId12"/>
          <a:stretch/>
        </p:blipFill>
        <p:spPr>
          <a:xfrm>
            <a:off x="0" y="2971800"/>
            <a:ext cx="1838160" cy="11685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6" descr="\[\begin{array}{l} B{D^2} = B{K^2} + K{D^2}\\ \underline {A{C^2} = C{F^2} + A{F^2}} \\ A{C^2} + B{D^2} = B{K^2} + C{F^2} + K{D^2} + A{F^2} \end{array}\]"/>
          <p:cNvPicPr/>
          <p:nvPr/>
        </p:nvPicPr>
        <p:blipFill>
          <a:blip r:embed="rId13"/>
          <a:stretch/>
        </p:blipFill>
        <p:spPr>
          <a:xfrm>
            <a:off x="0" y="4191120"/>
            <a:ext cx="3049560" cy="5652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30" descr="\[A{C^2} + B{D^2} = \]"/>
          <p:cNvPicPr/>
          <p:nvPr/>
        </p:nvPicPr>
        <p:blipFill>
          <a:blip r:embed="rId14"/>
          <a:stretch/>
        </p:blipFill>
        <p:spPr>
          <a:xfrm>
            <a:off x="0" y="4800600"/>
            <a:ext cx="1057320" cy="1713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32" descr="\[ = 2(A{B^2} - A{K^2}) + {(AD - AK)^2} + {(AD + AK)^2}\]"/>
          <p:cNvPicPr/>
          <p:nvPr/>
        </p:nvPicPr>
        <p:blipFill>
          <a:blip r:embed="rId15"/>
          <a:stretch/>
        </p:blipFill>
        <p:spPr>
          <a:xfrm>
            <a:off x="914400" y="4800600"/>
            <a:ext cx="3629160" cy="2001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34" descr="\[A{C^2} + B{D^2} = 2A{B^2} + 2A{D^2}\]"/>
          <p:cNvPicPr/>
          <p:nvPr/>
        </p:nvPicPr>
        <p:blipFill>
          <a:blip r:embed="rId16">
            <a:lum bright="28000"/>
          </a:blip>
          <a:stretch/>
        </p:blipFill>
        <p:spPr>
          <a:xfrm>
            <a:off x="0" y="6172200"/>
            <a:ext cx="2162160" cy="1713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6" descr="\[A{C^2} + B{D^2} = 2{(A{B^2} + AD^2}).\]"/>
          <p:cNvPicPr/>
          <p:nvPr/>
        </p:nvPicPr>
        <p:blipFill>
          <a:blip r:embed="rId17">
            <a:lum bright="24000"/>
          </a:blip>
          <a:stretch/>
        </p:blipFill>
        <p:spPr>
          <a:xfrm>
            <a:off x="0" y="6400800"/>
            <a:ext cx="2257560" cy="2001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8" descr="\[A{C^2} + B{D^2} = 2A{B^2}\underline { - 2A{K^2}}  + \]"/>
          <p:cNvPicPr/>
          <p:nvPr/>
        </p:nvPicPr>
        <p:blipFill>
          <a:blip r:embed="rId18"/>
          <a:stretch/>
        </p:blipFill>
        <p:spPr>
          <a:xfrm>
            <a:off x="0" y="5257800"/>
            <a:ext cx="2238480" cy="2001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0" descr="\[ + A{D^2}\underline{\underline { - 2 \cdot AD \cdot AK}}  + \underline {A{K^2}}  + \]"/>
          <p:cNvPicPr/>
          <p:nvPr/>
        </p:nvPicPr>
        <p:blipFill>
          <a:blip r:embed="rId19"/>
          <a:stretch/>
        </p:blipFill>
        <p:spPr>
          <a:xfrm>
            <a:off x="0" y="5410080"/>
            <a:ext cx="2181240" cy="2383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2" descr="\[ + A{D^2}\underline{\underline { + 2 \cdot AD \cdot AK}}  + \underline {A{K^2}} \]"/>
          <p:cNvPicPr/>
          <p:nvPr/>
        </p:nvPicPr>
        <p:blipFill>
          <a:blip r:embed="rId20"/>
          <a:stretch/>
        </p:blipFill>
        <p:spPr>
          <a:xfrm>
            <a:off x="0" y="5638680"/>
            <a:ext cx="2057400" cy="238320"/>
          </a:xfrm>
          <a:prstGeom prst="rect">
            <a:avLst/>
          </a:prstGeom>
          <a:ln w="0">
            <a:noFill/>
          </a:ln>
        </p:spPr>
      </p:pic>
      <p:sp>
        <p:nvSpPr>
          <p:cNvPr id="542" name="Прямоугольник 38"/>
          <p:cNvSpPr/>
          <p:nvPr/>
        </p:nvSpPr>
        <p:spPr>
          <a:xfrm>
            <a:off x="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Упроща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39"/>
          <p:cNvSpPr/>
          <p:nvPr/>
        </p:nvSpPr>
        <p:spPr>
          <a:xfrm>
            <a:off x="0" y="4952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крываем скоб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40"/>
          <p:cNvSpPr/>
          <p:nvPr/>
        </p:nvSpPr>
        <p:spPr>
          <a:xfrm>
            <a:off x="0" y="65530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Что и требовалось доказ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Пользователь</cp:lastModifiedBy>
  <dcterms:modified xsi:type="dcterms:W3CDTF">2018-03-05T09:59:59Z</dcterms:modified>
  <cp:revision>1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