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15A40-4BEB-4B99-87DD-002EACEE5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B1476-A88B-4F2F-A879-637DB5951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22614-F504-4877-A133-A5F6812F8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2E5A0-0755-460B-B9C1-8712D87EC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4BAD7-3173-4C7E-96AE-42128D959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F72FA-A61E-46ED-805C-7F6F41154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1B6B2-451E-4B84-8CF0-17699CD56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BD2D2-017D-49CB-9040-F3FD2BE3B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5F31F-D826-434B-99E0-42B271312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38C66-9D90-4AEB-900F-5E997B77F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6374F-1412-4B61-A531-8A2A65A26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B88CF-8749-4528-BABC-B0DB36FCA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A065A-2CBF-4826-9D52-B222333D42B0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4000" y="1125000"/>
            <a:ext cx="8229600" cy="496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 u="sng">
                <a:solidFill>
                  <a:srgbClr val="000000"/>
                </a:solidFill>
                <a:uFillTx/>
                <a:latin typeface="Calibri"/>
              </a:rPr>
              <a:t>ПРЕЗЕНТАЦИЯ</a:t>
            </a:r>
            <a:br>
              <a:rPr sz="5400"/>
            </a:b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Методика проведения письма по памяти, тексты зрительных диктантов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8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Я сижу тихонько</a:t>
            </a:r>
            <a:br>
              <a:rPr sz="5400"/>
            </a:b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Около прибоя</a:t>
            </a:r>
            <a:br>
              <a:rPr sz="5400"/>
            </a:b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Окунаю кисточку</a:t>
            </a:r>
            <a:br>
              <a:rPr sz="5400"/>
            </a:b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В море голубое.</a:t>
            </a:r>
            <a:br>
              <a:rPr sz="5400"/>
            </a:b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(В. Орлов)</a:t>
            </a:r>
            <a:br>
              <a:rPr sz="5400"/>
            </a:br>
            <a:br>
              <a:rPr sz="5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052640"/>
            <a:ext cx="8229600" cy="580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Облако, облако,</a:t>
            </a:r>
            <a:br>
              <a:rPr sz="5400"/>
            </a:b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Шёрстка колечками, </a:t>
            </a:r>
            <a:br>
              <a:rPr sz="5400"/>
            </a:b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Очень ты, облако,</a:t>
            </a:r>
            <a:br>
              <a:rPr sz="5400"/>
            </a:b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Схоже с колечками. </a:t>
            </a:r>
            <a:br>
              <a:rPr sz="5400"/>
            </a:b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(В. Лунин)</a:t>
            </a:r>
            <a:br>
              <a:rPr sz="5400"/>
            </a:br>
            <a:br>
              <a:rPr sz="5400"/>
            </a:b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8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Какой это мастер</a:t>
            </a:r>
            <a:br>
              <a:rPr sz="6000"/>
            </a:b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На стёкла нанёс.</a:t>
            </a:r>
            <a:br>
              <a:rPr sz="6000"/>
            </a:b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И листья, и травы</a:t>
            </a:r>
            <a:br>
              <a:rPr sz="6000"/>
            </a:b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И заросли роз?</a:t>
            </a:r>
            <a:br>
              <a:rPr sz="6000"/>
            </a:b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(загадка)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8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Ветер с веток их срывает</a:t>
            </a:r>
            <a:br>
              <a:rPr sz="4800"/>
            </a:b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И повсюду рассыпает:</a:t>
            </a:r>
            <a:br>
              <a:rPr sz="4800"/>
            </a:b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Жёлтые, резные,</a:t>
            </a:r>
            <a:br>
              <a:rPr sz="4800"/>
            </a:b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Узоры расписные.</a:t>
            </a:r>
            <a:br>
              <a:rPr sz="4800"/>
            </a:b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(загадка)</a:t>
            </a:r>
            <a:br>
              <a:rPr sz="4800"/>
            </a:br>
            <a:br>
              <a:rPr sz="48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8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Это диво – будто в сказке,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 воздухе танцуют краски!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Хоровод водить устанут –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окрывалом пёстрым станут.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(загадка)</a:t>
            </a:r>
            <a:br>
              <a:rPr sz="4000"/>
            </a:br>
            <a:br>
              <a:rPr sz="40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8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Есть у нас в квартире робот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У него огромный хобот.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Любит робот чистоту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И гудит как лайнер «Ту».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(Т. Лонго)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8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ЗРИТЕЛЬНЫЕ ДИКТАНТЫ ПО МЕТОДИКЕ И.Т. ФЕДОРЕНКО.</a:t>
            </a: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8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спользуя методические рекомендации И.Т. Федоренко для развития оперативной памяти, составила 18 наборов по 6 предложений в каждом. Происходит постепенное увеличение количества букв в предложении: от 8 букв до 46 букв. На экране  показывается одно предложение, которое дети заучивают согласно указанного времени. Запись предложения в тетрадях. Затем проводится такая же работа над остальными предложениями набора. Главное условие успеха – это ежедневная работ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"/>
          <p:cNvGraphicFramePr/>
          <p:nvPr/>
        </p:nvGraphicFramePr>
        <p:xfrm>
          <a:off x="0" y="0"/>
          <a:ext cx="9144000" cy="6861240"/>
        </p:xfrm>
        <a:graphic>
          <a:graphicData uri="http://schemas.openxmlformats.org/drawingml/2006/table">
            <a:tbl>
              <a:tblPr/>
              <a:tblGrid>
                <a:gridCol w="1469880"/>
                <a:gridCol w="3429000"/>
                <a:gridCol w="1959120"/>
                <a:gridCol w="2286000"/>
              </a:tblGrid>
              <a:tr h="11844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екс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л-во бук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ремя экспозиции (сек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46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то Настя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946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Щука мала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</a:tr>
              <a:tr h="946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й арбуз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946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 тебе рада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</a:tr>
              <a:tr h="9464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ша улица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946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ыла гроза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0" y="0"/>
          <a:ext cx="9144000" cy="6861240"/>
        </p:xfrm>
        <a:graphic>
          <a:graphicData uri="http://schemas.openxmlformats.org/drawingml/2006/table">
            <a:tbl>
              <a:tblPr/>
              <a:tblGrid>
                <a:gridCol w="1469880"/>
                <a:gridCol w="3429000"/>
                <a:gridCol w="1959120"/>
                <a:gridCol w="2286000"/>
              </a:tblGrid>
              <a:tr h="11844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екс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л-во бук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ремя экспозиции (сек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46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уляю в роще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946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ы не грусти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</a:tr>
              <a:tr h="946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ёлтый лист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946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умел огонь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</a:tr>
              <a:tr h="9464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лышал звук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946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шуми в лесу!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545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ffc000"/>
                </a:solidFill>
                <a:uFillTx/>
                <a:latin typeface="Calibri"/>
              </a:rPr>
              <a:t>Составитель: Чернышева С. Г.  </a:t>
            </a:r>
            <a:br>
              <a:rPr sz="4400"/>
            </a:br>
            <a:r>
              <a:rPr b="0" lang="ru-RU" sz="4400" spc="-1" strike="noStrike" u="sng">
                <a:solidFill>
                  <a:srgbClr val="ffc000"/>
                </a:solidFill>
                <a:uFillTx/>
                <a:latin typeface="Calibri"/>
              </a:rPr>
              <a:t>учитель начальных классов МБОУ "СОШ № 38 </a:t>
            </a:r>
            <a:br>
              <a:rPr sz="4400"/>
            </a:br>
            <a:r>
              <a:rPr b="0" lang="ru-RU" sz="4400" spc="-1" strike="noStrike" u="sng">
                <a:solidFill>
                  <a:srgbClr val="ffc000"/>
                </a:solidFill>
                <a:uFillTx/>
                <a:latin typeface="Calibri"/>
              </a:rPr>
              <a:t>г. Владивостока"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0" y="0"/>
          <a:ext cx="9144000" cy="6861240"/>
        </p:xfrm>
        <a:graphic>
          <a:graphicData uri="http://schemas.openxmlformats.org/drawingml/2006/table">
            <a:tbl>
              <a:tblPr/>
              <a:tblGrid>
                <a:gridCol w="1469880"/>
                <a:gridCol w="3429000"/>
                <a:gridCol w="1959120"/>
                <a:gridCol w="2286000"/>
              </a:tblGrid>
              <a:tr h="11844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екс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л-во бук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ремя экспозиции (сек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46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ждик крапал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946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утые берега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</a:tr>
              <a:tr h="946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лубокий снег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946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авный денёк!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</a:tr>
              <a:tr h="9464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ходи гулять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946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ступила ночь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0" y="0"/>
          <a:ext cx="9144000" cy="6861240"/>
        </p:xfrm>
        <a:graphic>
          <a:graphicData uri="http://schemas.openxmlformats.org/drawingml/2006/table">
            <a:tbl>
              <a:tblPr/>
              <a:tblGrid>
                <a:gridCol w="1187280"/>
                <a:gridCol w="3711600"/>
                <a:gridCol w="1959120"/>
                <a:gridCol w="2286000"/>
              </a:tblGrid>
              <a:tr h="11844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екс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л-во бук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ремя экспозиции (сек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46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рковный сок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946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рвал фиалку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</a:tr>
              <a:tr h="946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знать новость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946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чини рассказ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</a:tr>
              <a:tr h="9464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учи наизусть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946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рковный сок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"/>
          <p:cNvGraphicFramePr/>
          <p:nvPr/>
        </p:nvGraphicFramePr>
        <p:xfrm>
          <a:off x="0" y="0"/>
          <a:ext cx="9144000" cy="6861240"/>
        </p:xfrm>
        <a:graphic>
          <a:graphicData uri="http://schemas.openxmlformats.org/drawingml/2006/table">
            <a:tbl>
              <a:tblPr/>
              <a:tblGrid>
                <a:gridCol w="1469880"/>
                <a:gridCol w="3429000"/>
                <a:gridCol w="1959120"/>
                <a:gridCol w="2286000"/>
              </a:tblGrid>
              <a:tr h="11786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екс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л-во бук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ремя экспозиции (сек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417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учше не бывает!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9417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роги размыло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</a:tr>
              <a:tr h="9417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летели утки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9752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да земля дождю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</a:tr>
              <a:tr h="9421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учи рассеялись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9399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ес нужно беречь!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0" y="0"/>
          <a:ext cx="9144000" cy="6861240"/>
        </p:xfrm>
        <a:graphic>
          <a:graphicData uri="http://schemas.openxmlformats.org/drawingml/2006/table">
            <a:tbl>
              <a:tblPr/>
              <a:tblGrid>
                <a:gridCol w="1469880"/>
                <a:gridCol w="3429000"/>
                <a:gridCol w="1959120"/>
                <a:gridCol w="2286000"/>
              </a:tblGrid>
              <a:tr h="11844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екс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л-во бук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ремя экспозиции (сек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46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ул южный ветер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946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ё очень красиво!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</a:tr>
              <a:tr h="946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 Пети две бабушки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946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небе плыли обла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</a:tr>
              <a:tr h="9464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ы делили апельсин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946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рода вокруг нас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0" y="0"/>
          <a:ext cx="9144000" cy="6861240"/>
        </p:xfrm>
        <a:graphic>
          <a:graphicData uri="http://schemas.openxmlformats.org/drawingml/2006/table">
            <a:tbl>
              <a:tblPr/>
              <a:tblGrid>
                <a:gridCol w="1469880"/>
                <a:gridCol w="3429000"/>
                <a:gridCol w="1959120"/>
                <a:gridCol w="2286000"/>
              </a:tblGrid>
              <a:tr h="11844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екс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л-во бук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ремя экспозиции (сек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46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акат – вид графики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946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л холодный дождь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</a:tr>
              <a:tr h="946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ожился на поля туман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946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удь другом животным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</a:tr>
              <a:tr h="9464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слонили солнце тучи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946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ли по лесу два товарища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0" y="0"/>
          <a:ext cx="9144000" cy="6861240"/>
        </p:xfrm>
        <a:graphic>
          <a:graphicData uri="http://schemas.openxmlformats.org/drawingml/2006/table">
            <a:tbl>
              <a:tblPr/>
              <a:tblGrid>
                <a:gridCol w="1469880"/>
                <a:gridCol w="3429000"/>
                <a:gridCol w="1959120"/>
                <a:gridCol w="2286000"/>
              </a:tblGrid>
              <a:tr h="11844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екс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л-во бук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ремя экспозиции (сек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46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разоряй гнёзд птиц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946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сной разлилась Десна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</a:tr>
              <a:tr h="946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жар – злейший враг леса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946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ломай ветки деревьев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</a:tr>
              <a:tr h="9464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ы живём на планете Земля!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946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лики лесные богатства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1468440"/>
                <a:gridCol w="3429000"/>
                <a:gridCol w="1960560"/>
                <a:gridCol w="2286000"/>
              </a:tblGrid>
              <a:tr h="11844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екс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л-во бук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ремя экспозиции (сек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46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оро засвищут соловьи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9446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 криком пронеслись гуси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</a:tr>
              <a:tr h="946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рих – это короткая линия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946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дин гусёнок тоже нырнул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</a:tr>
              <a:tr h="9446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усыня вела гусят на речку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946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западе разгоралась заря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1468440"/>
                <a:gridCol w="3429000"/>
                <a:gridCol w="1960560"/>
                <a:gridCol w="2286000"/>
              </a:tblGrid>
              <a:tr h="11844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екс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л-во бук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ремя экспозиции (сек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46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выми прилетают грачи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9446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 послал на базар чудаков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</a:tr>
              <a:tr h="946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уд кормит, а лень портит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946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мая длинная река в мире – Нил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</a:tr>
              <a:tr h="9446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мое глубокое озеро – Байкал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946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кусство – это тропа к знанию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0" y="0"/>
          <a:ext cx="9144000" cy="6861240"/>
        </p:xfrm>
        <a:graphic>
          <a:graphicData uri="http://schemas.openxmlformats.org/drawingml/2006/table">
            <a:tbl>
              <a:tblPr/>
              <a:tblGrid>
                <a:gridCol w="1469880"/>
                <a:gridCol w="3429000"/>
                <a:gridCol w="1959120"/>
                <a:gridCol w="2286000"/>
              </a:tblGrid>
              <a:tr h="11844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екс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л-во бук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ремя экспозиции (сек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46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мый глубокий океан – Тихий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946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ков мастер, такова и работа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</a:tr>
              <a:tr h="946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ла лисичка вдоль тропинки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946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тята любят играть с клубком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</a:tr>
              <a:tr h="9464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елёные лягушки песенку поют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946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сна – светолюбивое растение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0" y="0"/>
          <a:ext cx="9144000" cy="6861240"/>
        </p:xfrm>
        <a:graphic>
          <a:graphicData uri="http://schemas.openxmlformats.org/drawingml/2006/table">
            <a:tbl>
              <a:tblPr/>
              <a:tblGrid>
                <a:gridCol w="1469880"/>
                <a:gridCol w="3429000"/>
                <a:gridCol w="1959120"/>
                <a:gridCol w="2286000"/>
              </a:tblGrid>
              <a:tr h="11844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екс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л-во бук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ремя экспозиции (сек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46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цветёт черёмуха душистая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946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основом лесу светло и сухо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</a:tr>
              <a:tr h="946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ипографии напечатали книги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946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ждик хлынул, словно из ведра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</a:tr>
              <a:tr h="9464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тицы начинают строить гнёзда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946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воздухе разливался аромат трав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1998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)Письмо по памяти развивает оперативную память, орфографическую зоркость и закрепляет навык грамотного письма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ля учащихся первых классов письмо по памяти начинается с букв, слогов, слов и предложений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чиная со второго класса, используются предложения, пословицы, поговорки, словарные слова, стихотворен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"/>
          <p:cNvGraphicFramePr/>
          <p:nvPr/>
        </p:nvGraphicFramePr>
        <p:xfrm>
          <a:off x="0" y="0"/>
          <a:ext cx="9144000" cy="6861240"/>
        </p:xfrm>
        <a:graphic>
          <a:graphicData uri="http://schemas.openxmlformats.org/drawingml/2006/table">
            <a:tbl>
              <a:tblPr/>
              <a:tblGrid>
                <a:gridCol w="1469880"/>
                <a:gridCol w="3429000"/>
                <a:gridCol w="1959120"/>
                <a:gridCol w="2286000"/>
              </a:tblGrid>
              <a:tr h="11844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екс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л-во бук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ремя экспозиции (сек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46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мые горы в мире – Гималаи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946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кова пряха, такова и на ней рубаха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</a:tr>
              <a:tr h="946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рандаши бывают твёрдые и мягкие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946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тематика – наука о числах и фигурах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</a:tr>
              <a:tr h="9464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удожник использовал серую бумагу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946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орит – сочетание цветов в картине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0" y="0"/>
          <a:ext cx="9144000" cy="6861240"/>
        </p:xfrm>
        <a:graphic>
          <a:graphicData uri="http://schemas.openxmlformats.org/drawingml/2006/table">
            <a:tbl>
              <a:tblPr/>
              <a:tblGrid>
                <a:gridCol w="1469880"/>
                <a:gridCol w="3429000"/>
                <a:gridCol w="1959120"/>
                <a:gridCol w="2286000"/>
              </a:tblGrid>
              <a:tr h="11844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екс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л-во бук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ремя экспозиции (сек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46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вый март пришёл, белый снег сошёл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946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еленейся, зеленейся, мой зелёный сад!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</a:tr>
              <a:tr h="946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дёт матушка – весна, отворяй ворота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946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елёненький кузнечик песенку завёл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</a:tr>
              <a:tr h="9464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рин – сказочная птица с лицом девушки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946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к пошли наши ребята из ворот на огород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0" y="0"/>
          <a:ext cx="9144000" cy="6861240"/>
        </p:xfrm>
        <a:graphic>
          <a:graphicData uri="http://schemas.openxmlformats.org/drawingml/2006/table">
            <a:tbl>
              <a:tblPr/>
              <a:tblGrid>
                <a:gridCol w="1469880"/>
                <a:gridCol w="3429000"/>
                <a:gridCol w="1959120"/>
                <a:gridCol w="2286000"/>
              </a:tblGrid>
              <a:tr h="11844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екс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л-во бук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ремя экспозиции (сек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46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лесу раздавался отрывистый стук дятла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946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ний, голубой, зелёный – это холодные цвета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</a:tr>
              <a:tr h="946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десь диковинных зверей в клетку не сажают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946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ёлтый, оранжевый и красный – тёплые цвета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</a:tr>
              <a:tr h="9464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пути на базар чудаки перепутали все пятаки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946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урундуки запасают семена и кедровые шишки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0" y="0"/>
          <a:ext cx="9144000" cy="6945480"/>
        </p:xfrm>
        <a:graphic>
          <a:graphicData uri="http://schemas.openxmlformats.org/drawingml/2006/table">
            <a:tbl>
              <a:tblPr/>
              <a:tblGrid>
                <a:gridCol w="816120"/>
                <a:gridCol w="5051160"/>
                <a:gridCol w="1513080"/>
                <a:gridCol w="1763640"/>
              </a:tblGrid>
              <a:tr h="10393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екс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л-во бук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ремя экспозиции (сек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8542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 восходом солнца высоко поднялись птицы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8535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еография изучает горы, равнины, моря, океаны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</a:tr>
              <a:tr h="8539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сками художники пишут, а не рисуют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8535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вет помогает передать настроение в картинах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</a:tr>
              <a:tr h="12459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уашь – непрозрачная краска, которую разводят водой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12448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розные узоры на стекле напоминают веточки и цветы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"/>
          <p:cNvGraphicFramePr/>
          <p:nvPr/>
        </p:nvGraphicFramePr>
        <p:xfrm>
          <a:off x="0" y="0"/>
          <a:ext cx="9144000" cy="6861240"/>
        </p:xfrm>
        <a:graphic>
          <a:graphicData uri="http://schemas.openxmlformats.org/drawingml/2006/table">
            <a:tbl>
              <a:tblPr/>
              <a:tblGrid>
                <a:gridCol w="1143000"/>
                <a:gridCol w="4653000"/>
                <a:gridCol w="1388880"/>
                <a:gridCol w="1959120"/>
              </a:tblGrid>
              <a:tr h="9795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екс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л-во бук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ремя экспозиции (сек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784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 мохнатых ресниц ели летят пушистые снежинки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1176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зеленела трава на проталинах, запели жаворонки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</a:tr>
              <a:tr h="784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елётные птицы ежегодно улетают в тёплые края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1176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варель – прозрачная краска, которую разводят водой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</a:tr>
              <a:tr h="784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бры делают запасы из веток деревьев и кустарников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1176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берегу реки в ветхом шалаше жили старик да старуха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652320"/>
                <a:gridCol w="5389560"/>
                <a:gridCol w="1143000"/>
                <a:gridCol w="1959120"/>
              </a:tblGrid>
              <a:tr h="10684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екс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л-во бук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ремя экспозиции (сек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8906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хрупких ветвях берёз серебрится волнистый иней.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8902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елётные птицы каждый год улетают в дальние края.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</a:tr>
              <a:tr h="8906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ы заблудились и стали продвигаться к жилищу лесника.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8906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 шумом вышла группа туристов с рюкзаками за плечами.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</a:tr>
              <a:tr h="1336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тицы долго кружили над родным болотом и наконец улетели.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8906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ивопись    - это один из видов изобразительного искусства.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8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2)АЛГОРИТМ РАБОТЫ НАД СТИХОТВОРЕНИЕМ: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- знакомство со стихотворением;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- объяснение орфограмм, знаков препинания;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- заучивание стихотворения;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- запись в тетради;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- самопроверка (самооценка);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- взаимопроверка (взаимооценка)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8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3)По технологии КСО можно использовать следующие виды коллективных занятий: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- в парах;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- в парах сменного состава;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- индивидуальная форма работы;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- групповая форма работы;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- коллективная форма работы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8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4)Первый шаг - знакомство со стихотворением: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- читает учитель;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- работа в группах и парах: учитель - ученик, ученик - ученик.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Разбор стихотворения: объяснение незнакомых слов, при необходимости использование словаря.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Второй шаг - объяснение орфограмм, знаков препинания. Работа в группах.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Особое внимание "опасным" словам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8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5)Третий шаг - заучивание стихотворения. Работа в группе: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- по очереди читают;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- по очереди читают на память;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- смена партнёра.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Четвёртый шаг: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- работа в тетрадях;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ятый шаг: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- самопроверка (самооценка);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- взаимопроверка (взаимооценка)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8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6)На следующий день контрольное письмо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о памяти,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ценку выставляет учитель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8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ТЕКСТЫ СТИХОТВОРЕНИЙ ДЛЯ ПИСЬМА ПО ПАМЯТИ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30T00:37:02Z</dcterms:created>
  <dc:creator>пример Андрей</dc:creator>
  <dc:description/>
  <dc:language>en-US</dc:language>
  <cp:lastModifiedBy>Светлана</cp:lastModifiedBy>
  <dcterms:modified xsi:type="dcterms:W3CDTF">2018-07-04T09:02:26Z</dcterms:modified>
  <cp:revision>7</cp:revision>
  <dc:subject/>
  <dc:title>ПРЕЗЕНТАЦИЯ Методика проведения письма по памяти, тексты зрительных диктантов</dc:title>
</cp:coreProperties>
</file>