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4C36-596E-4F56-A2AF-E894D1CD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AA5-776C-49B4-ACAE-EC117451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43D-2867-4D7C-A53E-B98945665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8BA-58B2-4FBC-9075-A494625C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36E3-B08A-47A8-A771-00493847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F03-79A3-430B-A46A-AA3ABE9B0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AC4C-8326-430E-866F-9D55C950A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FC6F-EB55-47DA-92B3-8D764D734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0736-D76F-46C4-92B1-65609787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222D-63FF-4FCC-A27B-B08E69939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C89-C291-42B7-BBB0-6821D5FB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4C76-623A-4BE5-8A08-55C3FB49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02C4-D145-44C2-ADD6-AC3C906615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496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000000"/>
                </a:solidFill>
                <a:uFillTx/>
                <a:latin typeface="Calibri"/>
              </a:rPr>
              <a:t>ПРЕЗЕНТАЦИ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Методика проведения письма по памяти, тексты зрительных диктантов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Я сижу тихонько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коло прибоя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кунаю кисточку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 море голубое.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(В. Орлов)</a:t>
            </a:r>
            <a:br>
              <a:rPr sz="5400"/>
            </a:br>
            <a:br>
              <a:rPr sz="5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блако, облако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Шёрстка колечками,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Очень ты, облако,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Схоже с колечками. </a:t>
            </a: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(В. Лунин)</a:t>
            </a:r>
            <a:br>
              <a:rPr sz="5400"/>
            </a:br>
            <a:br>
              <a:rPr sz="5400"/>
            </a:b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Какой это мастер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На стёкла нанёс.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 листья, и травы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И заросли роз?</a:t>
            </a:r>
            <a:br>
              <a:rPr sz="6000"/>
            </a:b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Ветер с веток их срывает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И повсюду рассыпает: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Жёлтые, резные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Узоры расписные.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br>
              <a:rPr sz="4800"/>
            </a:br>
            <a:br>
              <a:rPr sz="48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Это диво – будто в сказке,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 воздухе танцуют краски!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Хоровод водить устанут –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крывалом пёстрым станут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загадка)</a:t>
            </a:r>
            <a:br>
              <a:rPr sz="4000"/>
            </a:br>
            <a:br>
              <a:rPr sz="40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ть у нас в квартире робо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 него огромный хобо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юбит робот чистоту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гудит как лайнер «Ту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(Т. Лонго)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РИТЕЛЬНЫЕ ДИКТАНТЫ ПО МЕТОДИКЕ И.Т. ФЕДОРЕНКО.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уя методические рекомендации И.Т. Федоренко для развития оперативной памяти, составила 18 наборов по 6 предложений в каждом. Происходит постепенное увеличение количества букв в предложении: от 8 букв до 46 букв. На экране  показывается одно предложение, которое дети заучивают согласно указанного времени. Запись предложения в тетрадях. Затем проводится такая же работа над остальными предложениями набора. Главное условие успеха – это ежедневная рабо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то Настя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ука мал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й арбуз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тебе рад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ша улиц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ыла гроз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ляю в роще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 не грусти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 лист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умел огон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ышал звук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шуми в лесу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545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Составитель: Чернышева С. Г.  </a:t>
            </a:r>
            <a:br>
              <a:rPr sz="4400"/>
            </a:b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учитель начальных классов МБОУ "СОШ № 38 </a:t>
            </a:r>
            <a:br>
              <a:rPr sz="4400"/>
            </a:br>
            <a:r>
              <a:rPr b="0" lang="ru-RU" sz="4400" spc="-1" strike="noStrike" u="sng">
                <a:solidFill>
                  <a:srgbClr val="ffc000"/>
                </a:solidFill>
                <a:uFillTx/>
                <a:latin typeface="Calibri"/>
              </a:rPr>
              <a:t>г. Владивостока"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 крапал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утые берега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убокий снег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вный денёк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ходи гулят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ступила ночь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187280"/>
                <a:gridCol w="37116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ный со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вал фиалку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нать ново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ни рассказ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учи наизуст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ковный сок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78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ше не бывает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роги размыло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1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летели утки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75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а земля дождю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2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чи рассеялись.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39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с нужно беречь!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ул южный ветер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ё очень красиво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Пети две бабуш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бе плыли обла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делили апельси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рода вокруг на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кат – вид график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 холодный дождь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жился на поля туман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дь другом животным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слонили солнце туч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и по лесу два товарищ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разоряй гнёзд птиц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сной разлилась Десн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жар – злейший враг лес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ломай ветки деревье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живём на планете Земля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ки лесные богатств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68440"/>
                <a:gridCol w="3429000"/>
                <a:gridCol w="196056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ро засвищут соловь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криком пронеслись гус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рих – это короткая лини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дин гусёнок тоже нырнул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сыня вела гусят на речку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западе разгоралась зар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1468440"/>
                <a:gridCol w="3429000"/>
                <a:gridCol w="196056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ми прилетают грач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 послал на базар чуда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уд кормит, а лень порти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я длинная река в мире – Ни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4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ое глубокое озеро – Байка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кусство – это тропа к знанию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й глубокий океан – Тихи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 мастер, такова и рабо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ла лисичка вдоль тропи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тята любят играть с клубком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ёные лягушки песенку поют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сна – светолюбивое растен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цветёт черёмуха душистая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основом лесу светло и сух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ипографии напечатали книги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ждик хлынул, словно из ведр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начинают строить гнёзд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воздухе разливался аромат трав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998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Письмо по памяти развивает оперативную память, орфографическую зоркость и закрепляет навык грамотного письма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учащихся первых классов письмо по памяти начинается с букв, слогов, слов и предложений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чиная со второго класса, используются предложения, пословицы, поговорки, словарные слова, стихотвор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ые горы в мире – Гимала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ова пряха, такова и на ней рубах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андаши бывают твёрдые и мягки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тематика – наука о числах и фигурах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ник использовал серую бумагу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орит – сочетание цветов в картине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ый март пришёл, белый снег сошё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ейся, зеленейся, мой зелёный сад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дёт матушка – весна, отворяй ворот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ёненький кузнечик песенку завёл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рин – сказочная птица с лицом девуш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пошли наши ребята из ворот на огород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469880"/>
                <a:gridCol w="3429000"/>
                <a:gridCol w="1959120"/>
                <a:gridCol w="2286000"/>
              </a:tblGrid>
              <a:tr h="11844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лесу раздавался отрывистый стук дятл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ний, голубой, зелёный – это холодные ц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есь диковинных зверей в клетку не сажают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ёлтый, оранжевый и красный – тёплые цвета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пути на базар чудаки перепутали все пята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94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урундуки запасают семена и кедровые шишки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0" y="0"/>
          <a:ext cx="9144000" cy="6945480"/>
        </p:xfrm>
        <a:graphic>
          <a:graphicData uri="http://schemas.openxmlformats.org/drawingml/2006/table">
            <a:tbl>
              <a:tblPr/>
              <a:tblGrid>
                <a:gridCol w="816120"/>
                <a:gridCol w="5051160"/>
                <a:gridCol w="1513080"/>
                <a:gridCol w="1763640"/>
              </a:tblGrid>
              <a:tr h="1039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54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осходом солнца высоко поднялись птиц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ография изучает горы, равнины, моря, океан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53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ками художники пишут, а не рисуют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53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вет помогает передать настроение в картинах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245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уашь – непрозрачная краска, которую разводят водой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244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розные узоры на стекле напоминают веточки и цветы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0" y="0"/>
          <a:ext cx="9144000" cy="6861240"/>
        </p:xfrm>
        <a:graphic>
          <a:graphicData uri="http://schemas.openxmlformats.org/drawingml/2006/table">
            <a:tbl>
              <a:tblPr/>
              <a:tblGrid>
                <a:gridCol w="1143000"/>
                <a:gridCol w="4653000"/>
                <a:gridCol w="1388880"/>
                <a:gridCol w="1959120"/>
              </a:tblGrid>
              <a:tr h="9795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мохнатых ресниц ели летят пушистые снежи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зеленела трава на проталинах, запели жаворонк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ётные птицы ежегодно улетают в тёплые кра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варель – прозрачная краска, которую разводят водой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ры делают запасы из веток деревьев и кустарников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11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берегу реки в ветхом шалаше жили старик да старуха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652320"/>
                <a:gridCol w="5389560"/>
                <a:gridCol w="1143000"/>
                <a:gridCol w="1959120"/>
              </a:tblGrid>
              <a:tr h="10684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л-во бук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я экспозиции (сек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 хрупких ветвях берёз серебрится волнистый иней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лётные птицы каждый год улетают в дальние края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ы заблудились и стали продвигаться к жилищу лесника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шумом вышла группа туристов с рюкзаками за плечам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  <a:tr h="133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тицы долго кружили над родным болотом и наконец улетели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e6d3"/>
                    </a:solidFill>
                  </a:tcPr>
                </a:tc>
              </a:tr>
              <a:tr h="890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вопись    - это один из видов изобразительного искусства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f3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2)АЛГОРИТМ РАБОТЫ НАД СТИХОТВОРЕНИЕМ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накомство со стихотворением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объяснение орфограмм, знаков препинания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аучивание стихотворения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запись в тетради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амопроверка (самооценка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взаимопроверка (взаимооценк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3)По технологии КСО можно использовать следующие виды коллективных занятий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в парах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в парах сменного состава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индивидуальная форма работ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групповая форма работы;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- коллективная форма работы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4)Первый шаг - знакомство со стихотворением: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читает учитель;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абота в группах и парах: учитель - ученик, ученик - ученик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Разбор стихотворения: объяснение незнакомых слов, при необходимости использование словар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торой шаг - объяснение орфограмм, знаков препинания. Работа в группах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собое внимание "опасным" слова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5)Третий шаг - заучивание стихотворения. Работа в группе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о очереди читают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по очереди читают на память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мена партнёра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Четвёртый ша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работа в тетрадях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ятый шаг: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самопроверка (самооценка);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- взаимопроверка (взаимооценк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6)На следующий день контрольное письмо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 памят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ценку выставляет учитель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КСТЫ СТИХОТВОРЕНИЙ ДЛЯ ПИСЬМА ПО ПАМЯТ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30T00:37:02Z</dcterms:created>
  <dc:creator>пример Андрей</dc:creator>
  <dc:description/>
  <dc:language>en-US</dc:language>
  <cp:lastModifiedBy>Светлана</cp:lastModifiedBy>
  <dcterms:modified xsi:type="dcterms:W3CDTF">2018-07-04T09:02:26Z</dcterms:modified>
  <cp:revision>7</cp:revision>
  <dc:subject/>
  <dc:title>ПРЕЗЕНТАЦИЯ Методика проведения письма по памяти, тексты зрительных диктантов</dc:title>
</cp:coreProperties>
</file>