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13CD-69BA-4378-996C-560F7D5A8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056C-C460-4716-B77A-D99969471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5025-8E5A-4EA1-B46B-7372C2ACA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BF76-7D87-426A-9C1F-AE94D2960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36FC9-4814-4AC8-B909-F98696797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3E9E9-E8F2-46C9-B640-FB3C4B2A9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11909-424B-4E10-A063-844AB5353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446C9-7E0B-46B5-8C82-38BE89798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B314B-6DC6-4FAA-8E25-E06905910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85F89-1A0C-4748-B1E6-D1F74801C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4B12A-499C-4F6E-ADC3-E80C03DC0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1165-DBE6-44F8-8829-CADFECDC6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D14EA-9DFE-446A-A871-FA84D1253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99F3C-8302-487F-B6E3-643CBBD1B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45A55-33E4-4C66-8459-38AB59BEE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3CE4A-936B-404B-9B50-3455E141F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665BE-3193-44E2-AC32-9356CB738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442AC7-3C56-4096-87C0-EC9F32588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9F2E71-2DDD-498D-AEEE-8B8988F92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F3FD35-9045-4360-B231-84088A781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FCB9E1-D546-42AE-9C96-1E21EFE2D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26DB48-4707-407A-87E5-C782AC5B0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D2BA-0C92-43F3-AE50-BB0034367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0CC157-40A7-4EE6-8EC9-60A1CBBC0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DD2908-14C7-48B3-BDDE-BE16FF24F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1E2820-C0C0-4ED4-A4C6-92AEE71A9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0DE13D-5EA3-4925-94F8-37DF064CB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F06B7D-415D-4481-A02C-CB4232F7D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0EF49F-32EA-40E8-A9AA-6DB396802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583825-8C0D-47E6-AE32-3E8167AE4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A4748B-F40B-4606-8EB0-59C1C2E83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A85CBE-3BF8-401C-9B62-F47C2CF16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E7FA52-C718-45CD-9F5C-41630DCD7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D9C8-F5DE-4196-9FD7-0407090F5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29DBB8-25FF-44FD-9D5C-A1DC8E462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E44FD8-7168-47C0-A6CE-03393A058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238DB5-855E-40AA-B274-2A2307200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27E87C-DC62-4F77-B078-9F103C2BC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EE975F-A686-4A98-A46E-1B202D671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AC822C-A608-4E31-8116-17A8673E2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73BB71-3DA6-4EA6-B060-B690ED969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773DCB-6F08-471B-B15F-9F19A1350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CA080B-2181-4637-8111-50CD8150A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865E2C-4886-4634-9884-E748B09F7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08D0-7646-4177-8FD7-EC878AD59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AFF0EB-4835-41D8-8917-6E4FD9F0C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64F81D-6711-4854-B9AA-B28A2556F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E7E61A-207C-49C4-AE17-0018B7EBA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D507AC-2C41-418F-A613-3675B4EE0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65ACDC-CFC1-47FD-8CBA-A23AEB775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A1EFCC-F9B8-4645-BCA8-C44E68B52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732F27-AD16-4984-A094-C090272C5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77E5F5-E7FB-4A1B-A736-F64AFD124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27765F-F0BE-4EE6-818D-4320E4884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3E6BE0-99DC-4305-A5A0-576CCF666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D5E1-FA4A-4B1C-99A6-1CADC1730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EB0913-0571-49FC-8BF2-1725B2C8A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22EE4A-8E6E-4B2B-BF1A-69E222568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777B1B-E2DA-4155-A80B-92F99C7A2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1D98B6-DDBA-4E10-ACD4-6C970BEAD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3FF457-9481-4BCB-BA98-8E3C4341A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7391DB-582C-43A3-97FE-895C88208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95549D-2165-40B4-8AEA-9476F3C24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7CE26F-19CC-42C2-9124-E83ECCCB9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74731F-C248-45D2-A482-5DA058B9D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6DA0F3-9AD2-4B84-BE1C-DD99BE0D1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8139-66AB-470A-B1D4-8A882FB39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C3D3A6-58A9-49D1-B1CF-FF164B5F5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2FAC2C-FE87-4B56-A3A9-7B17E3A10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8600E6-C318-4FEB-8B62-F59B697D8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B835-AB6E-4E0D-B737-2D037076B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F287-7C43-4C38-A533-790C7AC86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769EB76-0A54-4DCF-9321-90BB556C7FA5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902D612-EE0F-4842-BB05-A21ED5888234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CF7E582-A078-43FC-AAEA-46160BBFD39D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4000" spc="-1" strike="noStrike" cap="all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22160" y="2906640"/>
            <a:ext cx="7772040" cy="149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8b8b8b"/>
                </a:solidFill>
                <a:latin typeface="Calibri"/>
              </a:rPr>
              <a:t>Образец текста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159FECF-C9F9-43F7-BD47-806EDAAFF165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535040"/>
            <a:ext cx="4039920" cy="63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body"/>
          </p:nvPr>
        </p:nvSpPr>
        <p:spPr>
          <a:xfrm>
            <a:off x="457200" y="2174760"/>
            <a:ext cx="4039920" cy="39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4645080" y="1535040"/>
            <a:ext cx="4041360" cy="63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body"/>
          </p:nvPr>
        </p:nvSpPr>
        <p:spPr>
          <a:xfrm>
            <a:off x="4645080" y="2174760"/>
            <a:ext cx="4041360" cy="39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dt" idx="13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8"/>
          <p:cNvSpPr>
            <a:spLocks noGrp="1"/>
          </p:cNvSpPr>
          <p:nvPr>
            <p:ph type="sldNum" idx="15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555B48D-76B8-434B-B06E-48DB65447789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6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8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3A42E1C-7CF1-4926-8EBE-B43426A10255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259640" y="1124640"/>
            <a:ext cx="7543440" cy="152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0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9fc0ff"/>
                </a:solidFill>
                <a:latin typeface="Calibri"/>
              </a:rPr>
              <a:t>«Предметно-пространственная развивающая среда в средней группе в соответствии с ФГОС»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3132000" y="4221000"/>
            <a:ext cx="5832360" cy="79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 cap="all">
                <a:solidFill>
                  <a:schemeClr val="accent4"/>
                </a:solidFill>
                <a:latin typeface="Monotype Corsiva"/>
              </a:rPr>
              <a:t>Подготовила: воспитатель Булгакова Е.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332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49" strike="noStrike">
                <a:solidFill>
                  <a:srgbClr val="002060"/>
                </a:solidFill>
                <a:latin typeface="Georgia"/>
              </a:rPr>
              <a:t>Речевое развитие: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1" name="Рисунок 8" descr="a744286ec829fd57d485b64741a95ffea770d365c10c9e0e99f11f65ed3af356.jpg"/>
          <p:cNvPicPr/>
          <p:nvPr/>
        </p:nvPicPr>
        <p:blipFill>
          <a:blip r:embed="rId2"/>
          <a:stretch/>
        </p:blipFill>
        <p:spPr>
          <a:xfrm>
            <a:off x="4283640" y="1484640"/>
            <a:ext cx="3528000" cy="4266720"/>
          </a:xfrm>
          <a:prstGeom prst="rect">
            <a:avLst/>
          </a:prstGeom>
          <a:ln cap="sq" w="190500">
            <a:solidFill>
              <a:srgbClr val="ffffff"/>
            </a:solidFill>
            <a:miter/>
          </a:ln>
          <a:effectLst>
            <a:outerShdw algn="tl" blurRad="65160" dir="12889470" dist="50432" kx="195000" ky="145000" rotWithShape="0">
              <a:srgbClr val="000000">
                <a:alpha val="30000"/>
              </a:srgbClr>
            </a:outerShdw>
          </a:effectLst>
          <a:scene3d>
            <a:camera prst="orthographicFront">
              <a:rot lat="0" lon="0" rev="360000"/>
            </a:camera>
            <a:lightRig dir="t" rig="twoPt">
              <a:rot lat="0" lon="0" rev="7200000"/>
            </a:lightRig>
          </a:scene3d>
          <a:sp3d contourW="12700">
            <a:bevelT w="25400" h="19050"/>
            <a:contourClr>
              <a:srgbClr val="969696"/>
            </a:contourClr>
          </a:sp3d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49" strike="noStrike">
                <a:solidFill>
                  <a:srgbClr val="002060"/>
                </a:solidFill>
                <a:latin typeface="Georgia"/>
              </a:rPr>
              <a:t>Художественно-эстетическое развитие: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Рисунок 6"/>
          <p:cNvSpPr/>
          <p:nvPr/>
        </p:nvSpPr>
        <p:spPr>
          <a:xfrm>
            <a:off x="4068000" y="1845000"/>
            <a:ext cx="4464000" cy="3312000"/>
          </a:xfrm>
          <a:prstGeom prst="round2DiagRect">
            <a:avLst>
              <a:gd name="adj1" fmla="val 16667"/>
              <a:gd name="adj2" fmla="val 0"/>
            </a:avLst>
          </a:prstGeom>
          <a:blipFill rotWithShape="0">
            <a:blip r:embed="rId2"/>
            <a:srcRect/>
            <a:stretch/>
          </a:blipFill>
          <a:ln cap="sq" w="88900">
            <a:solidFill>
              <a:srgbClr val="ffffff"/>
            </a:solidFill>
            <a:miter/>
          </a:ln>
          <a:effectLst>
            <a:outerShdw algn="tl" blurRad="254160" rotWithShape="0">
              <a:srgbClr val="00000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49" strike="noStrike">
                <a:solidFill>
                  <a:srgbClr val="002060"/>
                </a:solidFill>
                <a:latin typeface="Georgia"/>
              </a:rPr>
              <a:t>Физическое развитие: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Рисунок 7"/>
          <p:cNvSpPr/>
          <p:nvPr/>
        </p:nvSpPr>
        <p:spPr>
          <a:xfrm>
            <a:off x="4572000" y="1484640"/>
            <a:ext cx="3200040" cy="4266720"/>
          </a:xfrm>
          <a:prstGeom prst="round2DiagRect">
            <a:avLst>
              <a:gd name="adj1" fmla="val 16667"/>
              <a:gd name="adj2" fmla="val 0"/>
            </a:avLst>
          </a:prstGeom>
          <a:blipFill rotWithShape="0">
            <a:blip r:embed="rId2"/>
            <a:srcRect/>
            <a:stretch/>
          </a:blipFill>
          <a:ln cap="sq" w="88900">
            <a:solidFill>
              <a:srgbClr val="ffffff"/>
            </a:solidFill>
            <a:miter/>
          </a:ln>
          <a:effectLst>
            <a:outerShdw algn="tl" blurRad="254160" rotWithShape="0">
              <a:srgbClr val="00000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277" name="Прямоугольник 2"/>
          <p:cNvSpPr/>
          <p:nvPr/>
        </p:nvSpPr>
        <p:spPr>
          <a:xfrm>
            <a:off x="1469160" y="5805360"/>
            <a:ext cx="696384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  <a:scene3d>
              <a:camera prst="orthographicFront"/>
              <a:lightRig dir="tl" rig="soft">
                <a:rot lat="0" lon="0" rev="0"/>
              </a:lightRig>
            </a:scene3d>
            <a:sp3d contourW="25400" prstMaterial="matte">
              <a:bevelT prst="artDeco" w="25400" h="5588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5400" spc="49" strike="noStrike">
                <a:solidFill>
                  <a:schemeClr val="accent2"/>
                </a:solidFill>
                <a:latin typeface="Calibri"/>
              </a:rPr>
              <a:t>Спасибо за внимание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Прямоугольник 1"/>
          <p:cNvSpPr/>
          <p:nvPr/>
        </p:nvSpPr>
        <p:spPr>
          <a:xfrm>
            <a:off x="395640" y="260640"/>
            <a:ext cx="8208720" cy="54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 u="sng">
                <a:solidFill>
                  <a:srgbClr val="ff9855"/>
                </a:solidFill>
                <a:uFillTx/>
                <a:latin typeface="Calibri"/>
              </a:rPr>
              <a:t>Организация развивающей предметно-пространственной среды в свете требований ФГОС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3200" spc="-1" strike="noStrike" u="sng">
                <a:solidFill>
                  <a:srgbClr val="0070c0"/>
                </a:solidFill>
                <a:uFillTx/>
                <a:latin typeface="Monotype Corsiva"/>
              </a:rPr>
              <a:t>Развивающая предметно-пространственная среда</a:t>
            </a: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ru-RU" sz="1400" spc="-1" strike="noStrike">
                <a:solidFill>
                  <a:srgbClr val="000000"/>
                </a:solidFill>
                <a:latin typeface="Bookman Old Style"/>
              </a:rPr>
              <a:t>часть образовательной среды, представленная специально организованным пространством (помещениями, участком и т. п., материалами, оборудованием и инвентарем для развития детей дошкольного возраста в соответствии с особенностями каждого возрастного этапа, охраны и укрепления их здоровья, учёта особенностей и коррекции недостатков их развит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Bookman Old Style"/>
              </a:rPr>
              <a:t>В соответствии с ФГОС программа должна строиться с учетом принципа интеграции образовательных областей и в соответствии с возрастными возможностями и особенностями воспитанников. Решение программных образовательных задач предусматривается не только в совместной деятельности взрослого и детей, но и в самостоятельной деятельности детей, а также при проведении режимных момент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Bookman Old Style"/>
              </a:rPr>
              <a:t>Создавая развивающую предметно-пространственную среду любой возрастной группы в ДОУ, необходимо учитывать психологические основы конструктивного взаимодействия участников воспитательно-образовательного процесса, дизайн и эргономику современной среды дошкольного учреждения и психологические особенности возрастной группы, на которую нацелена данная сред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15640" y="260640"/>
            <a:ext cx="702432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49" strike="noStrike">
                <a:solidFill>
                  <a:schemeClr val="accent2"/>
                </a:solidFill>
                <a:latin typeface="Georgia"/>
              </a:rPr>
              <a:t>Создавая предметно-развивающую среду необходимо помнить: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Прямоугольник 2"/>
          <p:cNvSpPr/>
          <p:nvPr/>
        </p:nvSpPr>
        <p:spPr>
          <a:xfrm>
            <a:off x="251640" y="1556640"/>
            <a:ext cx="8748000" cy="44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indent="-216000"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Среда должна выполнять образовательную, развивающую, воспитывающую, стимулирующую, организованную, коммуникативную функции.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Bookman Old Style"/>
              </a:rPr>
              <a:t>Но самое главное – она должна работать на развитие самостоятельности и самодеятельности ребен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Необходимо гибкое и вариативное использование пространства. Среда должна служить удовлетворению потребностей и интересов ребен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Форма и дизайн предметов ориентирована на безопасность и возраст де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Элементы декора должны быть легко сменяемы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В каждой группе необходимо предусмотреть место для детской экспериментальной деяте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Прямоугольник 1"/>
          <p:cNvSpPr/>
          <p:nvPr/>
        </p:nvSpPr>
        <p:spPr>
          <a:xfrm>
            <a:off x="467640" y="1268640"/>
            <a:ext cx="8280720" cy="50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Организуя предметную среду в групповом помещении необходимо учитывать закономерности психического развития, показатели их здоровья, психофизиологические и коммуникативные особенности, уровень общего и речевого развития, а также показатели эмоционально - потребностной сфе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Цветовая палитра должна быть представлена теплыми, пастельными тон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При создании развивающего пространства в групповом помещении необходимо учитывать ведущую роль игровой деяте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Предметно-развивающая среда группы должна меняться в зависимости от возрастных особенностей детей, периода обучения, образовательной программ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99640" y="1268640"/>
            <a:ext cx="702432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49" strike="noStrike" u="sng">
                <a:solidFill>
                  <a:srgbClr val="002060"/>
                </a:solidFill>
                <a:uFillTx/>
                <a:latin typeface="Georgia"/>
              </a:rPr>
              <a:t>РПП среда в среднем дошкольном возрасте: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Прямоугольник 2"/>
          <p:cNvSpPr/>
          <p:nvPr/>
        </p:nvSpPr>
        <p:spPr>
          <a:xfrm>
            <a:off x="467640" y="2565000"/>
            <a:ext cx="8280720" cy="344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Организация жизни и воспитание детей пятого года жизни направлены на дальнейшее развитие умения понимать окружающих людей, проявлять к ним доброжелательное отношение, стремиться к общению и взаимодейств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Предметно-развивающая среда группы организуется с учётом возможностей для детей играть и заниматься отдельными подгруппами. Пособия и игрушки располагаются так, чтобы не мешать их свободному перемещению. Необходимо предусмотреть место для временного уединения дошкольника, где он может подумать, помечта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95640" y="1556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49" strike="noStrike">
                <a:solidFill>
                  <a:srgbClr val="002060"/>
                </a:solidFill>
                <a:latin typeface="Georgia"/>
              </a:rPr>
              <a:t>Развивающая предметно-пространственная среда должна быть: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Прямоугольник 2"/>
          <p:cNvSpPr/>
          <p:nvPr/>
        </p:nvSpPr>
        <p:spPr>
          <a:xfrm>
            <a:off x="1187640" y="3069000"/>
            <a:ext cx="6480360" cy="22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800" spc="-1" strike="noStrike">
                <a:solidFill>
                  <a:srgbClr val="0070c0"/>
                </a:solidFill>
                <a:latin typeface="Georgia"/>
              </a:rPr>
              <a:t>Содержательно-насыщенн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800" spc="-1" strike="noStrike">
                <a:solidFill>
                  <a:srgbClr val="0070c0"/>
                </a:solidFill>
                <a:latin typeface="Georgia"/>
              </a:rPr>
              <a:t>Полифункциональн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3. </a:t>
            </a:r>
            <a:r>
              <a:rPr b="1" lang="ru-RU" sz="2800" spc="-1" strike="noStrike">
                <a:solidFill>
                  <a:srgbClr val="0070c0"/>
                </a:solidFill>
                <a:latin typeface="Georgia"/>
              </a:rPr>
              <a:t>Трансформируем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4. </a:t>
            </a:r>
            <a:r>
              <a:rPr b="1" lang="ru-RU" sz="2800" spc="-1" strike="noStrike">
                <a:solidFill>
                  <a:srgbClr val="0070c0"/>
                </a:solidFill>
                <a:latin typeface="Georgia"/>
              </a:rPr>
              <a:t>Вариативн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5. </a:t>
            </a:r>
            <a:r>
              <a:rPr b="1" lang="ru-RU" sz="2800" spc="-1" strike="noStrike">
                <a:solidFill>
                  <a:srgbClr val="0070c0"/>
                </a:solidFill>
                <a:latin typeface="Georgia"/>
              </a:rPr>
              <a:t>Безопасн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115640" y="332640"/>
            <a:ext cx="7128360" cy="25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buNone/>
            </a:pPr>
            <a:br>
              <a:rPr sz="4000"/>
            </a:br>
            <a:br>
              <a:rPr sz="4000"/>
            </a:br>
            <a:r>
              <a:rPr b="1" lang="ru-RU" sz="2200" spc="49" strike="noStrike">
                <a:solidFill>
                  <a:srgbClr val="002060"/>
                </a:solidFill>
                <a:latin typeface="Georgia"/>
              </a:rPr>
              <a:t>Примерные центры, которые должны быть созданы в группе по образовательным областям в свете требований ФГОС:</a:t>
            </a:r>
            <a:endParaRPr b="0" lang="ru-RU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547640" y="3213000"/>
            <a:ext cx="6636960" cy="1825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ff0000"/>
              </a:buClr>
              <a:buFont typeface="Wingdings" charset="2"/>
              <a:buChar char=""/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Социально-коммуникативное развитие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ff0000"/>
              </a:buClr>
              <a:buFont typeface="Wingdings" charset="2"/>
              <a:buChar char=""/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Познавательное развитие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ff0000"/>
              </a:buClr>
              <a:buFont typeface="Wingdings" charset="2"/>
              <a:buChar char=""/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Речевое развитие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ff0000"/>
              </a:buClr>
              <a:buFont typeface="Wingdings" charset="2"/>
              <a:buChar char=""/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Художественно-эстетическое развитие включает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ff0000"/>
              </a:buClr>
              <a:buFont typeface="Wingdings" charset="2"/>
              <a:buChar char=""/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Физическое развитие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Рисунок 12" descr="98351c13f60fb2d0d6b0f64169376c4e0d08451f82b911ade3ce65725cebf48c.jpg"/>
          <p:cNvPicPr/>
          <p:nvPr/>
        </p:nvPicPr>
        <p:blipFill>
          <a:blip r:embed="rId2"/>
          <a:stretch/>
        </p:blipFill>
        <p:spPr>
          <a:xfrm>
            <a:off x="6804360" y="1268640"/>
            <a:ext cx="2063880" cy="270936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14400" y="332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49" strike="noStrike">
                <a:solidFill>
                  <a:srgbClr val="002060"/>
                </a:solidFill>
                <a:latin typeface="Georgia"/>
              </a:rPr>
              <a:t>Социально-коммуникативное развитие: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907640" y="1845000"/>
            <a:ext cx="46080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Monotype Corsiva"/>
              </a:rPr>
              <a:t>центры сюжетно-ролевых игр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4" name="Рисунок 11" descr="8013dacfd34f492687d898a92bc1af1918c30b506960a418c1644aa9e60a5251.jpg"/>
          <p:cNvPicPr/>
          <p:nvPr/>
        </p:nvPicPr>
        <p:blipFill>
          <a:blip r:embed="rId3"/>
          <a:stretch/>
        </p:blipFill>
        <p:spPr>
          <a:xfrm>
            <a:off x="3996000" y="3789000"/>
            <a:ext cx="2808000" cy="213588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Рисунок 4" descr="1c582f58932ab5d445910c1e2bfbe5cabc05d7cc06ef12e1e672410ac6ee3d25.jpg"/>
          <p:cNvPicPr/>
          <p:nvPr/>
        </p:nvPicPr>
        <p:blipFill>
          <a:blip r:embed="rId2"/>
          <a:stretch/>
        </p:blipFill>
        <p:spPr>
          <a:xfrm>
            <a:off x="4356000" y="1412640"/>
            <a:ext cx="4266720" cy="2400120"/>
          </a:xfrm>
          <a:prstGeom prst="rect">
            <a:avLst/>
          </a:prstGeom>
          <a:ln w="0">
            <a:noFill/>
          </a:ln>
          <a:effectLst>
            <a:outerShdw algn="tl" blurRad="190440" rotWithShape="0">
              <a:srgbClr val="000000">
                <a:alpha val="70000"/>
              </a:srgbClr>
            </a:outerShdw>
          </a:effectLst>
        </p:spPr>
      </p:pic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14400" y="188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8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49" strike="noStrike">
                <a:solidFill>
                  <a:srgbClr val="002060"/>
                </a:solidFill>
                <a:latin typeface="Georgia"/>
              </a:rPr>
              <a:t>Познавательное развитие: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3640" y="134064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2596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                                         </a:t>
            </a:r>
            <a:r>
              <a:rPr b="1" lang="ru-RU" sz="3200" spc="-1" strike="noStrike">
                <a:solidFill>
                  <a:srgbClr val="ffffff"/>
                </a:solidFill>
                <a:latin typeface="Monotype Corsiva"/>
              </a:rPr>
              <a:t>Центр «Мы познаём мир»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8" name="Рисунок 5" descr="27c2015651f1dabc9b690bf913a3d67ae8292eea7a89e940ec6bd09befcd743d.jpg"/>
          <p:cNvPicPr/>
          <p:nvPr/>
        </p:nvPicPr>
        <p:blipFill>
          <a:blip r:embed="rId3"/>
          <a:stretch/>
        </p:blipFill>
        <p:spPr>
          <a:xfrm>
            <a:off x="395640" y="3933000"/>
            <a:ext cx="4032000" cy="240012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  <p:sp>
        <p:nvSpPr>
          <p:cNvPr id="269" name="TextBox 6"/>
          <p:cNvSpPr/>
          <p:nvPr/>
        </p:nvSpPr>
        <p:spPr>
          <a:xfrm>
            <a:off x="-240480" y="3933000"/>
            <a:ext cx="53200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Monotype Corsiva"/>
              </a:rPr>
              <a:t>Центр экспериментир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3</TotalTime>
  <Application>LibreOffice/7.4.7.2$Linux_X86_64 LibreOffice_project/40$Build-2</Application>
  <AppVersion>15.0000</AppVersion>
  <Words>477</Words>
  <Paragraphs>49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09T12:56:44Z</dcterms:created>
  <dc:creator>Пользователь</dc:creator>
  <dc:description/>
  <dc:language>en-US</dc:language>
  <cp:lastModifiedBy>lenovo</cp:lastModifiedBy>
  <dcterms:modified xsi:type="dcterms:W3CDTF">2015-12-29T05:21:45Z</dcterms:modified>
  <cp:revision>44</cp:revision>
  <dc:subject/>
  <dc:title>«Предметно-пространственная развивающая среда в группе в соответствии с ФГОС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3</vt:r8>
  </property>
</Properties>
</file>