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C469-B22B-48CF-AB45-65BD20201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82C5-0B89-43B6-B3CC-75A5FD38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DB0D-806E-4A2C-A03B-017F395EC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B9AA-E29B-4528-89D4-71DABE92A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DEF8-BDD7-450A-809C-61A33C8BC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1611-951D-451E-99BA-3529CA36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F3DE-DE94-4201-B9C6-B717326D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9DAA-A8AB-43E8-A3B5-F6452AFB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B11F-A09F-4869-8655-69EDD1E0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D27E-6B0E-4598-BFBF-5546B2C5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EAA8-C2C0-449E-96FE-BC5C5666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9CB0-F01F-4F30-99AD-AB941F43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241BF-479E-45AB-B7BE-C0B2099A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FEE2F-2EF6-4EEC-86D3-436F3EF2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2A244-A992-42A4-AC16-62DF33DB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04FE-FDB2-416D-9CF7-B449A92C0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D2C5-7BB3-43B8-BDDA-0A56DDE76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54E7E-F8AD-4D67-9806-F44000E57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B2B5D-3871-46F6-A766-245E57C6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6F36B-1085-4F1B-B719-9CF031E9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A87AF-20A6-4BFC-804A-1D93F291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26ACF-26C9-4D59-8C60-BC00A66A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F02C-816F-452C-B636-6C8BCF0A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E5D90-BCCB-46E9-A166-5F534CA7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92FD2-8DF4-4EA1-9889-3640BFFC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FACE4-EFE6-4376-93F0-3BFC6D9B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4FCB2-2D4F-45E6-A578-B508B24A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B9992-13E6-41A1-B3A8-62587B06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88B7B-2877-423B-AAEE-3683F09E0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18643-9C8D-4E00-8644-DA00CF861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38BF2-A780-4CB5-8334-BEB7C0E6A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D1BA4-EB23-49A9-86B4-FC120F87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FEC4D-946D-46D1-8FB1-D2481664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8851-5915-4648-AE7C-867897CC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302C8-485D-42B1-89DD-01863E97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DE4BD-985E-47C8-A6D4-0C507B44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09E00-0D5A-49BA-A746-9A07D803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C1C0A-CC4C-40DD-AB00-31AC0C2B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C8178-4D08-4FC6-A592-68DD9AFC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80B7B-A687-408A-8DCD-1D3DD528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1C7E4-75EE-4D23-AEC0-BF61C727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5F8B9-74BB-4EF3-9595-A8D2D8B4D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F4CCD-06C3-409E-BA36-D3485FC31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6DD57-07CD-46E8-B79B-BF4EA71AA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631D-BCB9-448D-AF75-B9968ED3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D3B18-C317-4BA2-8086-69ED9AD7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9E2F2-12D2-41FE-8122-4274291E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7A808-85DC-4D01-BA15-8FFEBD75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DFC22-1C99-4721-8595-246D6C69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FDEC8-3211-439B-9F0D-C101BDBF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6879D-B0B5-4FB9-AFBA-A28F9D5A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36224-9517-4158-91E4-25AE7AFD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19A0A-2ED9-4A51-921B-BB795678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A8680-B0B1-409F-B006-283D7170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3FA45-708F-4F30-B885-6FEA292FF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FBE8-55E0-4F04-A23A-7442D6B0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269C1-CE77-429F-BD91-A5B6252FC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6D945-3F5C-45B4-9DE7-E425062B9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98D8D-046B-4BDC-A54D-0B6CD3B8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F3234-05E8-4A1A-912F-799B04F0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EB5DE-8AC9-4292-8883-578E406D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C0E2E-13AC-46BA-B694-7C517960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2EBCA-4734-4248-8B22-7E4C9ED2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766FD-EFC4-4E89-A7BE-3601BF6C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62374-C394-4F65-90AA-791C42A5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531B4-94E2-417D-8AB1-1F0CD729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C735-A6EC-4BD7-82DC-A6342F5D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5BEC7-DE62-4FCB-A2FE-47640010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97504-C1F1-45AD-9827-F4E9BE7C3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BEB24-154B-4B4D-9374-6071F4940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7761-4F9C-4CB4-8761-2C24A25D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A9BD-F87D-472E-983F-4BAC6812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4CB3473-4CE3-482D-8B0A-E3A74A582B6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3BA405C-300F-4222-861E-2C2C303439D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ED43BEB-CF82-453B-8F7F-617082A9D39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 cap="all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8b8b8b"/>
                </a:solidFill>
                <a:latin typeface="Calibri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FC74B58-3827-47F1-99D3-20638109A7F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body"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4645080" y="2174760"/>
            <a:ext cx="4041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8"/>
          <p:cNvSpPr>
            <a:spLocks noGrp="1"/>
          </p:cNvSpPr>
          <p:nvPr>
            <p:ph type="sldNum" idx="1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226DE6-8888-4AF0-BFD2-1D67E435A22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899D431-E02B-42C2-96EA-965894454F4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59640" y="1124640"/>
            <a:ext cx="7543440" cy="152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0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9fc0ff"/>
                </a:solidFill>
                <a:latin typeface="Calibri"/>
              </a:rPr>
              <a:t>«Предметно-пространственная развивающая среда в средней группе в соответствии с ФГОС»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3132000" y="4221000"/>
            <a:ext cx="5832360" cy="79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 cap="all">
                <a:solidFill>
                  <a:schemeClr val="accent4"/>
                </a:solidFill>
                <a:latin typeface="Monotype Corsiva"/>
              </a:rPr>
              <a:t>Подготовила: воспитатель Булгакова Е.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332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49" strike="noStrike">
                <a:solidFill>
                  <a:srgbClr val="002060"/>
                </a:solidFill>
                <a:latin typeface="Georgia"/>
              </a:rPr>
              <a:t>Речевое развитие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Рисунок 8" descr="a744286ec829fd57d485b64741a95ffea770d365c10c9e0e99f11f65ed3af356.jpg"/>
          <p:cNvPicPr/>
          <p:nvPr/>
        </p:nvPicPr>
        <p:blipFill>
          <a:blip r:embed="rId2"/>
          <a:stretch/>
        </p:blipFill>
        <p:spPr>
          <a:xfrm>
            <a:off x="4283640" y="1484640"/>
            <a:ext cx="3528000" cy="426672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49" strike="noStrike">
                <a:solidFill>
                  <a:srgbClr val="002060"/>
                </a:solidFill>
                <a:latin typeface="Georgia"/>
              </a:rPr>
              <a:t>Художественно-эстетическое развитие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Рисунок 6"/>
          <p:cNvSpPr/>
          <p:nvPr/>
        </p:nvSpPr>
        <p:spPr>
          <a:xfrm>
            <a:off x="4068000" y="1845000"/>
            <a:ext cx="4464000" cy="331200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2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49" strike="noStrike">
                <a:solidFill>
                  <a:srgbClr val="002060"/>
                </a:solidFill>
                <a:latin typeface="Georgia"/>
              </a:rPr>
              <a:t>Физическое развитие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Рисунок 7"/>
          <p:cNvSpPr/>
          <p:nvPr/>
        </p:nvSpPr>
        <p:spPr>
          <a:xfrm>
            <a:off x="4572000" y="1484640"/>
            <a:ext cx="3200040" cy="426672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2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77" name="Прямоугольник 2"/>
          <p:cNvSpPr/>
          <p:nvPr/>
        </p:nvSpPr>
        <p:spPr>
          <a:xfrm>
            <a:off x="1469160" y="5805360"/>
            <a:ext cx="69638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49" strike="noStrike">
                <a:solidFill>
                  <a:schemeClr val="accent2"/>
                </a:solidFill>
                <a:latin typeface="Calibri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1"/>
          <p:cNvSpPr/>
          <p:nvPr/>
        </p:nvSpPr>
        <p:spPr>
          <a:xfrm>
            <a:off x="395640" y="260640"/>
            <a:ext cx="8208720" cy="54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 u="sng">
                <a:solidFill>
                  <a:srgbClr val="ff9855"/>
                </a:solidFill>
                <a:uFillTx/>
                <a:latin typeface="Calibri"/>
              </a:rPr>
              <a:t>Организация развивающей предметно-пространственной среды в свете требований ФГО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 u="sng">
                <a:solidFill>
                  <a:srgbClr val="0070c0"/>
                </a:solidFill>
                <a:uFillTx/>
                <a:latin typeface="Monotype Corsiva"/>
              </a:rPr>
              <a:t>Развивающая предметно-пространственная среда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часть образовательной среды, представленная специально организованным пространством (помещениями, участком и т. п., материалами, оборудованием и инвентарем для развития детей дошкольного возраста в соответствии с особенностями каждого возрастного этапа, охраны и укрепления их здоровья, учёта особенностей и коррекции недостатков их развит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В соответствии с ФГОС программа должна строиться с учетом принципа интеграции образовательных областей и в соответствии с возрастными возможностями и особенностями воспитанников. Решение программных образовательных задач предусматривается не только в совместной деятельности взрослого и детей, но и в самостоятельной деятельности детей, а также при проведении режимных момен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Создавая развивающую предметно-пространственную среду любой возрастной группы в ДОУ, необходимо учитывать психологические основы конструктивного взаимодействия участников воспитательно-образовательного процесса, дизайн и эргономику современной среды дошкольного учреждения и психологические особенности возрастной группы, на которую нацелена данная сре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15640" y="26064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49" strike="noStrike">
                <a:solidFill>
                  <a:schemeClr val="accent2"/>
                </a:solidFill>
                <a:latin typeface="Georgia"/>
              </a:rPr>
              <a:t>Создавая предметно-развивающую среду необходимо помнить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Прямоугольник 2"/>
          <p:cNvSpPr/>
          <p:nvPr/>
        </p:nvSpPr>
        <p:spPr>
          <a:xfrm>
            <a:off x="251640" y="1556640"/>
            <a:ext cx="874800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Среда должна выполнять образовательную, развивающую, воспитывающую, стимулирующую, организованную, коммуникативную функции.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Но самое главное – она должна работать на развитие самостоятельности и самодеятельности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Необходимо гибкое и вариативное использование пространства. Среда должна служить удовлетворению потребностей и интересов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Форма и дизайн предметов ориентирована на безопасность и возраст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Элементы декора должны быть легко сменяем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В каждой группе необходимо предусмотреть место для детской эксперименталь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рямоугольник 1"/>
          <p:cNvSpPr/>
          <p:nvPr/>
        </p:nvSpPr>
        <p:spPr>
          <a:xfrm>
            <a:off x="467640" y="1268640"/>
            <a:ext cx="828072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Организуя предметную среду в групповом помещении необходимо учитывать закономерности психического развития, показатели их здоровья, психофизиологические и коммуникативные особенности, уровень общего и речевого развития, а также показатели эмоционально - потребностной сф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Цветовая палитра должна быть представлена теплыми, пастельными тон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При создании развивающего пространства в групповом помещении необходимо учитывать ведущую роль игров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Предметно-развивающая среда группы должна меняться в зависимости от возрастных особенностей детей, периода обучения, образовательной програм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99640" y="126864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49" strike="noStrike" u="sng">
                <a:solidFill>
                  <a:srgbClr val="002060"/>
                </a:solidFill>
                <a:uFillTx/>
                <a:latin typeface="Georgia"/>
              </a:rPr>
              <a:t>РПП среда в среднем дошкольном возрасте: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Прямоугольник 2"/>
          <p:cNvSpPr/>
          <p:nvPr/>
        </p:nvSpPr>
        <p:spPr>
          <a:xfrm>
            <a:off x="467640" y="2565000"/>
            <a:ext cx="8280720" cy="34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Организация жизни и воспитание детей пятого года жизни направлены на дальнейшее развитие умения понимать окружающих людей, проявлять к ним доброжелательное отношение, стремиться к общению и взаимодейств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Предметно-развивающая среда группы организуется с учётом возможностей для детей играть и заниматься отдельными подгруппами. Пособия и игрушки располагаются так, чтобы не мешать их свободному перемещению. Необходимо предусмотреть место для временного уединения дошкольника, где он может подумать, помечт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5640" y="155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49" strike="noStrike">
                <a:solidFill>
                  <a:srgbClr val="002060"/>
                </a:solidFill>
                <a:latin typeface="Georgia"/>
              </a:rPr>
              <a:t>Развивающая предметно-пространственная среда должна быть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Прямоугольник 2"/>
          <p:cNvSpPr/>
          <p:nvPr/>
        </p:nvSpPr>
        <p:spPr>
          <a:xfrm>
            <a:off x="1187640" y="3069000"/>
            <a:ext cx="648036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Georgia"/>
              </a:rPr>
              <a:t>Содержательно-насыщен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Georgia"/>
              </a:rPr>
              <a:t>Полифункциональ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3. </a:t>
            </a:r>
            <a:r>
              <a:rPr b="1" lang="ru-RU" sz="2800" spc="-1" strike="noStrike">
                <a:solidFill>
                  <a:srgbClr val="0070c0"/>
                </a:solidFill>
                <a:latin typeface="Georgia"/>
              </a:rPr>
              <a:t>Трансформируем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4. </a:t>
            </a:r>
            <a:r>
              <a:rPr b="1" lang="ru-RU" sz="2800" spc="-1" strike="noStrike">
                <a:solidFill>
                  <a:srgbClr val="0070c0"/>
                </a:solidFill>
                <a:latin typeface="Georgia"/>
              </a:rPr>
              <a:t>Вариатив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5. </a:t>
            </a:r>
            <a:r>
              <a:rPr b="1" lang="ru-RU" sz="2800" spc="-1" strike="noStrike">
                <a:solidFill>
                  <a:srgbClr val="0070c0"/>
                </a:solidFill>
                <a:latin typeface="Georgia"/>
              </a:rPr>
              <a:t>Безопас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15640" y="332640"/>
            <a:ext cx="7128360" cy="25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br>
              <a:rPr sz="4000"/>
            </a:br>
            <a:r>
              <a:rPr b="1" lang="ru-RU" sz="2200" spc="49" strike="noStrike">
                <a:solidFill>
                  <a:srgbClr val="002060"/>
                </a:solidFill>
                <a:latin typeface="Georgia"/>
              </a:rPr>
              <a:t>Примерные центры, которые должны быть созданы в группе по образовательным областям в свете требований ФГОС:</a:t>
            </a: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47640" y="3213000"/>
            <a:ext cx="6636960" cy="182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ff0000"/>
              </a:buClr>
              <a:buFont typeface="Wingdings" charset="2"/>
              <a:buChar char=""/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Социально-коммуникативное развитие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ff0000"/>
              </a:buClr>
              <a:buFont typeface="Wingdings" charset="2"/>
              <a:buChar char=""/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Познавательное развитие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ff0000"/>
              </a:buClr>
              <a:buFont typeface="Wingdings" charset="2"/>
              <a:buChar char=""/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Речевое развитие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ff0000"/>
              </a:buClr>
              <a:buFont typeface="Wingdings" charset="2"/>
              <a:buChar char=""/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Художественно-эстетическое развитие включает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ff0000"/>
              </a:buClr>
              <a:buFont typeface="Wingdings" charset="2"/>
              <a:buChar char=""/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Физическое развитие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Рисунок 12" descr="98351c13f60fb2d0d6b0f64169376c4e0d08451f82b911ade3ce65725cebf48c.jpg"/>
          <p:cNvPicPr/>
          <p:nvPr/>
        </p:nvPicPr>
        <p:blipFill>
          <a:blip r:embed="rId2"/>
          <a:stretch/>
        </p:blipFill>
        <p:spPr>
          <a:xfrm>
            <a:off x="6804360" y="1268640"/>
            <a:ext cx="2063880" cy="2709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332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49" strike="noStrike">
                <a:solidFill>
                  <a:srgbClr val="002060"/>
                </a:solidFill>
                <a:latin typeface="Georgia"/>
              </a:rPr>
              <a:t>Социально-коммуникативное развитие: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907640" y="1845000"/>
            <a:ext cx="46080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центры сюжетно-ролевых игр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Рисунок 11" descr="8013dacfd34f492687d898a92bc1af1918c30b506960a418c1644aa9e60a5251.jpg"/>
          <p:cNvPicPr/>
          <p:nvPr/>
        </p:nvPicPr>
        <p:blipFill>
          <a:blip r:embed="rId3"/>
          <a:stretch/>
        </p:blipFill>
        <p:spPr>
          <a:xfrm>
            <a:off x="3996000" y="3789000"/>
            <a:ext cx="2808000" cy="21358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Рисунок 4" descr="1c582f58932ab5d445910c1e2bfbe5cabc05d7cc06ef12e1e672410ac6ee3d25.jpg"/>
          <p:cNvPicPr/>
          <p:nvPr/>
        </p:nvPicPr>
        <p:blipFill>
          <a:blip r:embed="rId2"/>
          <a:stretch/>
        </p:blipFill>
        <p:spPr>
          <a:xfrm>
            <a:off x="4356000" y="1412640"/>
            <a:ext cx="4266720" cy="2400120"/>
          </a:xfrm>
          <a:prstGeom prst="rect">
            <a:avLst/>
          </a:prstGeom>
          <a:ln w="0">
            <a:noFill/>
          </a:ln>
          <a:effectLst>
            <a:outerShdw algn="tl" blurRad="190440" rotWithShape="0">
              <a:srgbClr val="000000">
                <a:alpha val="70000"/>
              </a:srgbClr>
            </a:outerShdw>
          </a:effectLst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49" strike="noStrike">
                <a:solidFill>
                  <a:srgbClr val="002060"/>
                </a:solidFill>
                <a:latin typeface="Georgia"/>
              </a:rPr>
              <a:t>Познавательное развитие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3640" y="1340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259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      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Центр «Мы познаём мир»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Рисунок 5" descr="27c2015651f1dabc9b690bf913a3d67ae8292eea7a89e940ec6bd09befcd743d.jpg"/>
          <p:cNvPicPr/>
          <p:nvPr/>
        </p:nvPicPr>
        <p:blipFill>
          <a:blip r:embed="rId3"/>
          <a:stretch/>
        </p:blipFill>
        <p:spPr>
          <a:xfrm>
            <a:off x="395640" y="3933000"/>
            <a:ext cx="4032000" cy="240012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269" name="TextBox 6"/>
          <p:cNvSpPr/>
          <p:nvPr/>
        </p:nvSpPr>
        <p:spPr>
          <a:xfrm>
            <a:off x="-240480" y="3933000"/>
            <a:ext cx="53200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Monotype Corsiva"/>
              </a:rPr>
              <a:t>Центр эксперимент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  <Words>477</Words>
  <Paragraphs>4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9T12:56:44Z</dcterms:created>
  <dc:creator>Пользователь</dc:creator>
  <dc:description/>
  <dc:language>en-US</dc:language>
  <cp:lastModifiedBy>lenovo</cp:lastModifiedBy>
  <dcterms:modified xsi:type="dcterms:W3CDTF">2015-12-29T05:21:45Z</dcterms:modified>
  <cp:revision>44</cp:revision>
  <dc:subject/>
  <dc:title>«Предметно-пространственная развивающая среда в группе в соответствии с ФГОС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3</vt:r8>
  </property>
</Properties>
</file>