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13.gif" ContentType="image/gif"/>
  <Override PartName="/ppt/media/image5.png" ContentType="image/png"/>
  <Override PartName="/ppt/media/image6.png" ContentType="image/png"/>
  <Override PartName="/ppt/media/image7.gif" ContentType="image/gif"/>
  <Override PartName="/ppt/media/image8.jpeg" ContentType="image/jpeg"/>
  <Override PartName="/ppt/media/image9.wmf" ContentType="image/x-wmf"/>
  <Override PartName="/ppt/media/image10.jpeg" ContentType="image/jpeg"/>
  <Override PartName="/ppt/media/image11.wmf" ContentType="image/x-wmf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818E-64B8-4B40-8584-64D9524C43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6AF07FA0-4098-4D47-A948-BC72CD1761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F13F3CE9-ACEE-4F5D-B76A-36893B8ACE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87720201-6B28-4D51-BA3A-FFB2AAB021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880920"/>
                <a:tab algn="l" pos="1762200"/>
                <a:tab algn="l" pos="2643120"/>
                <a:tab algn="l" pos="3524400"/>
                <a:tab algn="l" pos="4405320"/>
                <a:tab algn="l" pos="5286240"/>
                <a:tab algn="l" pos="6167520"/>
                <a:tab algn="l" pos="7048440"/>
                <a:tab algn="l" pos="7929720"/>
                <a:tab algn="l" pos="8810640"/>
                <a:tab algn="l" pos="9691560"/>
                <a:tab algn="l" pos="10572840"/>
              </a:tabLst>
            </a:pPr>
            <a:fld id="{11869527-0A53-4143-B4F3-06440936EA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533C-0349-4DE2-AB75-28CD42ADD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3A62-5EAF-4364-B45A-687ACBB4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8B88-6107-4D6C-A54C-8F9430517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34BC-4BB5-42ED-816A-93B7C235F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9718-6F36-479D-B488-85381827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62F4-2BFE-4F90-B8CB-2DA331FA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8E1C-26D6-4F4E-A7C1-331FFDC7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E10B-205C-497A-949F-32C2704C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14AD-4EA8-4FA3-BFEB-081517A75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5799-0C3C-4DF5-BB5A-CB9F0FBC9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BAFD-6706-4DEC-9877-145E70EB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C95A-1D55-42DF-9343-DEBB2F043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440C-0708-40D0-BBFB-19838EBB24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roshkolu.ru/user/kuchina57/file/231311/" TargetMode="External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79280" y="475920"/>
            <a:ext cx="684036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УХОВНО-НРАВСТВЕННОЕ РАЗВИТИЕ ЛИЧНОСТИ В ШКОЛЕ ВО ВНЕУРОЧНОЙ ДЕЯТЕЛЬНО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230508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Формы, мероприятия для реализации програм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713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. Краеведческий кружок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 Кружок «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Православная  культура»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. Семинары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. Лекции.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6. Экскурс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7. А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8. Кокур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141"/>
          <p:cNvPicPr/>
          <p:nvPr/>
        </p:nvPicPr>
        <p:blipFill>
          <a:blip r:embed="rId1"/>
          <a:stretch/>
        </p:blipFill>
        <p:spPr>
          <a:xfrm>
            <a:off x="6877080" y="2276640"/>
            <a:ext cx="1747800" cy="1873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211640" y="3141720"/>
            <a:ext cx="230364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362800" cy="1008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Мероприятия для реализации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4978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ень мате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ень семь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ень самоу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ставки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гровые семейные конк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ематические классные ча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нкурсы рисунков,   стихов, песен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j0297541"/>
          <p:cNvPicPr/>
          <p:nvPr/>
        </p:nvPicPr>
        <p:blipFill>
          <a:blip r:embed="rId1"/>
          <a:stretch/>
        </p:blipFill>
        <p:spPr>
          <a:xfrm>
            <a:off x="6732720" y="1197000"/>
            <a:ext cx="2016000" cy="2035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524720" y="3645000"/>
            <a:ext cx="122256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Духовно-нравственное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Патриотическое воспита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является частью духовного воспитания. В рамках патриотического воспитания можно провест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« Уроки мужества»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Встречи с ветеранам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интересными людьми гор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Экскурсии в краеведче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музей школы, город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Защиту прое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948360" y="2924280"/>
            <a:ext cx="191304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Педагогический смысл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3640" y="907560"/>
            <a:ext cx="837396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дагогический смысл работы новых стандарт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 духовно - нравственному становлению личности школьни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остоит в том, чтобы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помогать ученику продвигаться от элементарных навыков поведения к более высокому уровн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де требуется самостоятельность принятия решения и нравственный выбо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Этому и содействует наша программа воспитания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596360" y="2997360"/>
            <a:ext cx="1223640" cy="112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Колобок букет принес... - Таисия Олеговна Кучин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3716280"/>
            <a:ext cx="2663640" cy="2382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1476360" y="1341360"/>
            <a:ext cx="6600960" cy="241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асибо за внимание!!!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7779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Духовность и нравствен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3588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новым стандартам перед школой ставится задача подготовк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тветственного граждани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способного самостоятельно оценивать происходящее и строить свою деятельность в соответствии с интересами окружающих его людей.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Решение этой задачи связано с формированием устойчивых духовно-нравственных свойств личности школьн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096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Актуальность пробл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560" y="1267920"/>
            <a:ext cx="85690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Во-первых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бщество нуждается в подготовке широко образованных, высоко нравственных людей, обладающих не только знаниями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о и прекрасными чертами личности.</a:t>
            </a:r>
            <a:br>
              <a:rPr sz="2800"/>
            </a:b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Во-вторых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 современном мире ребёнок развивается, окружённый множеством разнообразных источников сильного воздействия на него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как позитивного, так и негативног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характера.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В-третьих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нравственные знания информируют ребёнка о нормах поведения в обществе, дают представления о последствиях нарушения этих нор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Социальный запро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920" y="1267920"/>
            <a:ext cx="8208720" cy="49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ный                       Здоров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ный                    Творческ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ьтурный         Высоконравствен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ин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6372360" y="3833640"/>
            <a:ext cx="2438280" cy="3024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372360" y="1773360"/>
            <a:ext cx="2628720" cy="2133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211640" y="1484280"/>
            <a:ext cx="2089080" cy="115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5280" y="1628640"/>
            <a:ext cx="8391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66"/>
                </a:solidFill>
                <a:latin typeface="Calibri"/>
              </a:rPr>
              <a:t>Цель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оспитание, социально-педагогическая поддержка становления и развития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высоконравственного, ответственного, инициативного и компетентного гражданина России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66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Calibri"/>
              </a:rPr>
              <a:t>Зада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 сфере личностного развит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 сфере общественных отношен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сфере государственных отношен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7740720" y="4149720"/>
            <a:ext cx="1106280" cy="15127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79280" y="333360"/>
            <a:ext cx="8713800" cy="1224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Цели и задачи  нравственно – духовн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воспитания личности в рамках образовательной</a:t>
            </a: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программы 1- 6 класс (ФГОС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reeform 2"/>
          <p:cNvSpPr/>
          <p:nvPr/>
        </p:nvSpPr>
        <p:spPr>
          <a:xfrm flipH="1" rot="1704000">
            <a:off x="4345920" y="341280"/>
            <a:ext cx="1977840" cy="2808360"/>
          </a:xfrm>
          <a:custGeom>
            <a:avLst/>
            <a:gdLst>
              <a:gd name="textAreaLeft" fmla="*/ 360 w 1977840"/>
              <a:gd name="textAreaRight" fmla="*/ 1978560 w 1977840"/>
              <a:gd name="textAreaTop" fmla="*/ 0 h 2808360"/>
              <a:gd name="textAreaBottom" fmla="*/ 2808720 h 2808360"/>
            </a:gdLst>
            <a:ahLst/>
            <a:rect l="textAreaLeft" t="textAreaTop" r="textAreaRight" b="textAreaBottom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99ff99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3"/>
          <p:cNvSpPr/>
          <p:nvPr/>
        </p:nvSpPr>
        <p:spPr>
          <a:xfrm flipH="1" rot="1788600">
            <a:off x="2453040" y="4009680"/>
            <a:ext cx="1952640" cy="2997360"/>
          </a:xfrm>
          <a:custGeom>
            <a:avLst/>
            <a:gdLst>
              <a:gd name="textAreaLeft" fmla="*/ 360 w 1952640"/>
              <a:gd name="textAreaRight" fmla="*/ 1953360 w 1952640"/>
              <a:gd name="textAreaTop" fmla="*/ 0 h 2997360"/>
              <a:gd name="textAreaBottom" fmla="*/ 2997720 h 2997360"/>
            </a:gdLst>
            <a:ahLst/>
            <a:rect l="textAreaLeft" t="textAreaTop" r="textAreaRight" b="textAreaBottom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333399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4"/>
          <p:cNvSpPr/>
          <p:nvPr/>
        </p:nvSpPr>
        <p:spPr>
          <a:xfrm rot="16200000">
            <a:off x="5575320" y="2006280"/>
            <a:ext cx="1978200" cy="2949480"/>
          </a:xfrm>
          <a:custGeom>
            <a:avLst/>
            <a:gdLst>
              <a:gd name="textAreaLeft" fmla="*/ 0 w 1978200"/>
              <a:gd name="textAreaRight" fmla="*/ 1978560 w 1978200"/>
              <a:gd name="textAreaTop" fmla="*/ 0 h 2949480"/>
              <a:gd name="textAreaBottom" fmla="*/ 2949840 h 2949480"/>
            </a:gdLst>
            <a:ahLst/>
            <a:rect l="textAreaLeft" t="textAreaTop" r="textAreaRight" b="textAreaBottom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ffff99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5"/>
          <p:cNvSpPr/>
          <p:nvPr/>
        </p:nvSpPr>
        <p:spPr>
          <a:xfrm rot="19317600">
            <a:off x="1979640" y="294840"/>
            <a:ext cx="1935000" cy="3003480"/>
          </a:xfrm>
          <a:custGeom>
            <a:avLst/>
            <a:gdLst>
              <a:gd name="textAreaLeft" fmla="*/ 0 w 1935000"/>
              <a:gd name="textAreaRight" fmla="*/ 1935360 w 1935000"/>
              <a:gd name="textAreaTop" fmla="*/ 0 h 3003480"/>
              <a:gd name="textAreaBottom" fmla="*/ 3003840 h 3003480"/>
            </a:gdLst>
            <a:ahLst/>
            <a:rect l="textAreaLeft" t="textAreaTop" r="textAreaRight" b="textAreaBottom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e339db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2124000" y="4600440"/>
            <a:ext cx="2330640" cy="20408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спитание трудолюбия, сознательного отношения к образованию,           труду и жизни,  профессиональная ориентац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1"/>
          <p:cNvSpPr/>
          <p:nvPr/>
        </p:nvSpPr>
        <p:spPr>
          <a:xfrm>
            <a:off x="5796000" y="2637000"/>
            <a:ext cx="194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спитание социальной ответственности и компетент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4351320" y="907920"/>
            <a:ext cx="1995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спитание нравственных чувств, убеждений, этического созн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 rot="19001400">
            <a:off x="1116000" y="2636640"/>
            <a:ext cx="2406600" cy="22446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1"/>
          <p:cNvSpPr/>
          <p:nvPr/>
        </p:nvSpPr>
        <p:spPr>
          <a:xfrm>
            <a:off x="1859040" y="907920"/>
            <a:ext cx="2049480" cy="15541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спитание ценностного отношения к прекрасному, эстетическое воспит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 rot="908400">
            <a:off x="4341960" y="4327560"/>
            <a:ext cx="2525400" cy="2208240"/>
          </a:xfrm>
          <a:prstGeom prst="rect">
            <a:avLst/>
          </a:prstGeom>
          <a:ln w="0">
            <a:noFill/>
          </a:ln>
        </p:spPr>
      </p:pic>
      <p:sp>
        <p:nvSpPr>
          <p:cNvPr id="73" name="Oval 7"/>
          <p:cNvSpPr/>
          <p:nvPr/>
        </p:nvSpPr>
        <p:spPr>
          <a:xfrm>
            <a:off x="3344760" y="2579760"/>
            <a:ext cx="1990800" cy="1993680"/>
          </a:xfrm>
          <a:prstGeom prst="ellipse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Основ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направ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деятель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4673520" y="4292640"/>
            <a:ext cx="2059200" cy="2014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спитание экологической культуры, культуры здорового и безопасного образа жиз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1001880" y="2708280"/>
            <a:ext cx="2373120" cy="1797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спитание гражданственности, патриотизма, уважения к правам, свободам и обязанностям человека духовно-нравственное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ни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Ожидаемый результа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Первый уровень результато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это приобретение школьником социальных знаний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о патриотизме, этике и эстетике, нормах морали, о том, как вести себя в обществе, культуре поведения и т.д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Главное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– они должны получить правильное представление 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нимание о социальной реальности и повседневной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Ожидаемый результ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Второй уровень результатов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формирование позитивных отношений школьника к базовым ценностям обществ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человек, семья, Отечество, природа, мир, знания, труд, культура)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ценностного отношения к социальной реальности в цело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3603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Ожидаемый результ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8920" y="764640"/>
            <a:ext cx="871380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Третий уровень результато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лучение школьником опыта самостоятельного социального действ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Результат третьего уровня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ход в социу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ети могут принять участие в краеведческих конкурсах, в НОУ, социальных проектах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Приобретают опы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убличного выступления по проблемным вопросам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проведения опросов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общественного мн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самостоятельной организаци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праздников и поздравлений для других люде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самообслужива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организации совместной деятельности с другими детьм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опыт управления другими людьм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пыт работы в коман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4T05:57:47Z</dcterms:created>
  <dc:creator>админ</dc:creator>
  <dc:description/>
  <dc:language>en-US</dc:language>
  <cp:lastModifiedBy>админ</cp:lastModifiedBy>
  <dcterms:modified xsi:type="dcterms:W3CDTF">2018-07-01T16:51:45Z</dcterms:modified>
  <cp:revision>20</cp:revision>
  <dc:subject/>
  <dc:title>Слайд 1</dc:title>
</cp:coreProperties>
</file>