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png" ContentType="image/png"/>
  <Override PartName="/ppt/media/image6.png" ContentType="image/png"/>
  <Override PartName="/ppt/media/image7.gif" ContentType="image/gif"/>
  <Override PartName="/ppt/media/image8.jpeg" ContentType="image/jpeg"/>
  <Override PartName="/ppt/media/image9.wmf" ContentType="image/x-wmf"/>
  <Override PartName="/ppt/media/image10.jpeg" ContentType="image/jpe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0045-9E07-40F8-B8FD-79F5F7BD3F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CF368AF-3829-42D1-A862-FADA4189F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447D258B-55B0-4E07-B6E2-39543D6E5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020013A8-6D3B-4A3F-A751-FE24DA53D9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C7B6868B-6AE0-462A-A1D5-9EBC54E73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B214-2AA0-4963-8CFB-2779FA660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F0B9-806D-4992-861D-94D8892F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C1F-5B78-44D6-9FBA-F40511F3D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95E9-4564-4074-A680-BBBB3E92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2B1-CC23-41C8-8678-41747AD4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A9F9-EB92-46BD-840C-729E32BC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80B-5F51-4532-8D07-FA663B68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EF26-D19C-463D-A8C9-6462ED5A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6C3-95F4-468A-89C5-885EB70E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D8A-4221-4219-BD7F-C875C04F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94F-2E28-4EE5-BFC9-9DAD18C7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AD3-33D1-42FA-854B-6DE6FDC4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02B6-FD61-448E-8117-F934422FD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oshkolu.ru/user/kuchina57/file/231311/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475920"/>
            <a:ext cx="684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УХОВНО-НРАВСТВЕННОЕ РАЗВИТИЕ ЛИЧНОСТИ В ШКОЛЕ ВО ВНЕУРОЧНОЙ ДЕЯ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3050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Формы, мероприятия для реализации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Краеведческий кружок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Кружок «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равославная  культура»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Семинар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Лекции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Экскур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. 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. Кок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41"/>
          <p:cNvPicPr/>
          <p:nvPr/>
        </p:nvPicPr>
        <p:blipFill>
          <a:blip r:embed="rId1"/>
          <a:stretch/>
        </p:blipFill>
        <p:spPr>
          <a:xfrm>
            <a:off x="6877080" y="2276640"/>
            <a:ext cx="1747800" cy="187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23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6280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ероприятия для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нь 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нь сем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нь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ставки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гровые семейные конк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тические классные ч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курсы рисунков,   стихов, песен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j0297541"/>
          <p:cNvPicPr/>
          <p:nvPr/>
        </p:nvPicPr>
        <p:blipFill>
          <a:blip r:embed="rId1"/>
          <a:stretch/>
        </p:blipFill>
        <p:spPr>
          <a:xfrm>
            <a:off x="6732720" y="1197000"/>
            <a:ext cx="2016000" cy="2035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24720" y="3645000"/>
            <a:ext cx="12225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Духовно-нравственно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атриотическое воспит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является частью духовного воспитания. В рамках патриотического воспитания можно прове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« Уроки мужеств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стречи с ветеран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нтересными людьми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Экскурсии в краевед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узей школы,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Защиту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48360" y="2924280"/>
            <a:ext cx="19130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едагогический смысл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3739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мысл работы новых стандарт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духовно - нравственному становлению личности шк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стоит в том, чтобы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омогать ученику продвигаться от элементарных навыков поведения к более высокому уров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де требуется самостоятельность принятия решения и нравственный выб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Этому и содействует наша программа воспитани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96360" y="2997360"/>
            <a:ext cx="122364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Колобок букет принес... - Таисия Олеговна Куч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716280"/>
            <a:ext cx="2663640" cy="238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76360" y="1341360"/>
            <a:ext cx="660096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Духовность и нрав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вым стандартам перед школой ставится задача подготовк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ственного граждан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способного самостоятельно оценивать происходящее и строить свою деятельность в соответствии с интересами окружающих его людей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ешение этой задачи связано с формированием устойчивых духовно-нравственных свойств личности 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Актуальность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о-первых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щество нуждается в подготовке широко образованных, высоко нравственных людей, обладающих не только знаниями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 и прекрасными чертами личности.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о-вторых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современном мире ребёнок развивается, окружённый множеством разнообразных источников сильного воздействия на него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ак позитивного, так и негативн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характера.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-третьих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равственные знания информируют ребёнка о нормах поведения в обществе, дают представления о последствиях нарушения этих нор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циальный за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267920"/>
            <a:ext cx="82087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ый                       Здор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ный                    Твор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ый         Высоконравств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и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372360" y="3833640"/>
            <a:ext cx="2438280" cy="30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262872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208908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628640"/>
            <a:ext cx="8391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Цел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спитание, социально-педагогическая поддержка становления и развит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ысоконравственного, ответственного, инициативного и компетентного гражданина Росси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сфере личностного развит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сфере общественных отнош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фере государственных отнош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740720" y="4149720"/>
            <a:ext cx="1106280" cy="151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333360"/>
            <a:ext cx="8713800" cy="1224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Цели и задачи  нравственно – духов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воспитания личности в рамках образовательной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программы 1- 6 класс (ФГО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 flipH="1" rot="1704000">
            <a:off x="4345920" y="341280"/>
            <a:ext cx="1977840" cy="2808360"/>
          </a:xfrm>
          <a:custGeom>
            <a:avLst/>
            <a:gdLst>
              <a:gd name="textAreaLeft" fmla="*/ 360 w 1977840"/>
              <a:gd name="textAreaRight" fmla="*/ 1978560 w 197784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ff99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flipH="1" rot="1788600">
            <a:off x="2453040" y="4009680"/>
            <a:ext cx="1952640" cy="2997360"/>
          </a:xfrm>
          <a:custGeom>
            <a:avLst/>
            <a:gdLst>
              <a:gd name="textAreaLeft" fmla="*/ 360 w 1952640"/>
              <a:gd name="textAreaRight" fmla="*/ 1953360 w 1952640"/>
              <a:gd name="textAreaTop" fmla="*/ 0 h 2997360"/>
              <a:gd name="textAreaBottom" fmla="*/ 2997720 h 29973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99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200000">
            <a:off x="5575320" y="2006280"/>
            <a:ext cx="1978200" cy="294948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2949480"/>
              <a:gd name="textAreaBottom" fmla="*/ 2949840 h 294948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99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5"/>
          <p:cNvSpPr/>
          <p:nvPr/>
        </p:nvSpPr>
        <p:spPr>
          <a:xfrm rot="19317600">
            <a:off x="1979640" y="294840"/>
            <a:ext cx="1935000" cy="3003480"/>
          </a:xfrm>
          <a:custGeom>
            <a:avLst/>
            <a:gdLst>
              <a:gd name="textAreaLeft" fmla="*/ 0 w 1935000"/>
              <a:gd name="textAreaRight" fmla="*/ 1935360 w 1935000"/>
              <a:gd name="textAreaTop" fmla="*/ 0 h 3003480"/>
              <a:gd name="textAreaBottom" fmla="*/ 3003840 h 300348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e339db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124000" y="4600440"/>
            <a:ext cx="2330640" cy="2040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трудолюбия, сознательного отношения к образованию,           труду и жизни,  профессиональная 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796000" y="263700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социальной ответственности и компетен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351320" y="907920"/>
            <a:ext cx="19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нравственных чувств, убеждений, этического с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 rot="19001400">
            <a:off x="1116000" y="2636640"/>
            <a:ext cx="2406600" cy="2244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1859040" y="907920"/>
            <a:ext cx="2049480" cy="1554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ценностного отношения к прекрасному, эстетическое воспи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 rot="908400">
            <a:off x="4341960" y="4327560"/>
            <a:ext cx="2525400" cy="2208240"/>
          </a:xfrm>
          <a:prstGeom prst="rect">
            <a:avLst/>
          </a:prstGeom>
          <a:ln w="0">
            <a:noFill/>
          </a:ln>
        </p:spPr>
      </p:pic>
      <p:sp>
        <p:nvSpPr>
          <p:cNvPr id="73" name="Oval 7"/>
          <p:cNvSpPr/>
          <p:nvPr/>
        </p:nvSpPr>
        <p:spPr>
          <a:xfrm>
            <a:off x="3344760" y="2579760"/>
            <a:ext cx="1990800" cy="1993680"/>
          </a:xfrm>
          <a:prstGeom prst="ellipse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673520" y="4292640"/>
            <a:ext cx="2059200" cy="2014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экологической культуры, культуры здорового и безопасн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001880" y="2708280"/>
            <a:ext cx="2373120" cy="1797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гражданственности, патриотизма, уважения к правам, свободам и обязанностям человека духовно-нравственно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ервый уровень результа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приобретение школьником социальных знаний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о патриотизме, этике и эстетике, нормах морали, о том, как вести себя в обществе, культуре поведе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Главно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– они должны получить правильное представление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имание о социальной реальности и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жидаемый 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торой уровень результат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ирование позитивных отношений школьника к базовым ценностям обще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человек, семья, Отечество, природа, мир, знания, труд, культура)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ностного отношения к социальной реальности в цел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жидаемый 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Третий уровень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чение школьником опыта самостоятельного социального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езультат третьего уровня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ход в социу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ти могут принять участие в краеведческих конкурсах, в НОУ, социальных проек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риобретают опы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бличного выступления по проблемным вопрос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оведения опрос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бщественного м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амостоятельной организ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аздников и поздравлений для других люд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амообслужи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организации совместной деятельности с другими деть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пыт управления другими людь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ыт работы в коман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05:57:47Z</dcterms:created>
  <dc:creator>админ</dc:creator>
  <dc:description/>
  <dc:language>en-US</dc:language>
  <cp:lastModifiedBy>админ</cp:lastModifiedBy>
  <dcterms:modified xsi:type="dcterms:W3CDTF">2018-07-01T16:51:45Z</dcterms:modified>
  <cp:revision>20</cp:revision>
  <dc:subject/>
  <dc:title>Слайд 1</dc:title>
</cp:coreProperties>
</file>