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755-3BFA-4082-9E2B-C590D586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692-7DD4-4A2C-B240-3B183946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6F9F1-EDC7-4E9C-859C-004C106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8CCEC-65E7-41BC-B041-076245B7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60452-D9C5-46E0-93CD-3FF7130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79162-0596-4A5B-9F57-017B036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222F-6971-4A5D-B1EB-089B5D0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73C54-3CF4-4197-9390-89E0672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3774E-3AA9-468D-9CA3-9C883F5C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05E30-1DA8-49E9-9375-F685C099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1D5F6-A4AE-4026-816E-22ACDBD4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9CA6-312A-4732-B092-5140830E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665-36BB-446F-8C42-213E7FD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A378A-C2BD-4E3F-B2BB-3101C7BF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310A0-928F-4EE4-AD96-42C83E9C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983D1-0F62-421F-93FC-7A317568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56322-B30F-4261-BEEE-C003D885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4A738-49A8-4535-BA7E-B1667DBC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C6AA5-C0C4-4047-A97E-008FFD7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19EEF-B914-4CF6-8FBD-525F23B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AC096-97C9-4B9A-AEA5-5393770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8E96E-D60F-4063-9E9A-52F0ECE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4EAEC-06A3-4F18-AD1F-B486A39D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C71-08EB-45E5-8376-5F51EF65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66B99-AE2D-496C-9F87-31B96F4D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90265-7A91-488A-A29C-A7277ED5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64D3D-F68F-4A15-B992-BD0472A9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32A0-B3F5-42F7-92A7-62424D38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E6A13-3BA0-4285-A53D-2077A31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68B57-C74A-4B76-9873-33413FE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4A5A4-BC48-4A7F-9934-983F203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EB40F-3F2D-4B7D-9E25-06CF62E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2F0F4-DF3E-44F5-9E46-DAE9EC0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83934-DA1C-4756-BECE-62D8F9B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0012-FD80-4673-9D64-A04EAC10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52DD-588A-40E7-B822-DA2BC15A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33360-FACC-4A04-A3DD-7AAB4977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21E99-F214-4258-BA73-8CB785D7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B484B-A915-4B8F-BA15-E6901192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23F8B-9A71-4208-A505-9B68A582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0194-E4A7-415F-B220-765B472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592EB-F42E-493C-B9A3-D7F2308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1533B-AEEA-4E05-9DF3-5D5367D4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96999-4F1A-4B9C-BDD3-8231D68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7E549-557E-4359-B6C0-92B9510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9F30-B7F5-470A-994D-C870EBD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F52D-A3E4-4FB4-8AC6-F417D9A1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1ED79-4DD5-4B4D-9822-4463DE58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4478E-356D-4463-83CE-AA10774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784B0-6A26-42B4-B044-C999964B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67CA0-BC27-4936-80C3-8D8F238C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EBCD-3A61-4890-967F-D483FAB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A0C3-0B52-4A1D-AB8C-5B3A1EC2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3E23-7BC5-4132-8760-1DFC3652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86D7-5B96-4C1C-96E5-4B45031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650B-9485-44D7-A3C0-C8CB5DCA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8B7-4679-4814-B23A-A05D5EB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9CB-0F0A-4915-B3EF-3C34959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95B7-E820-4F56-96CC-FD80A7C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8117-BD2B-4CF3-ADD9-F3753ED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A7DF-D9BE-4137-A449-53507319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CB1-57FE-4478-B44F-021C47B4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DB81-3C0D-4450-9A0E-544FD60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70A9-A57B-4B7F-849F-6481085A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C01B-4751-4DE4-B2B8-FA030DF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EF71-7AA1-4349-9232-874E18CF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A65D-703E-4D74-BB56-D36E5959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5C4-ED94-4758-9CF3-4DFD20D5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091E-7709-4B9F-8A73-2FE3497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772F-89E9-4617-BA99-517099FA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7B12-C3D9-427E-9015-2F00290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0804-920A-4AFB-8201-53FA978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DBFE-4A82-4748-81C9-EBA0C94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563D-07D5-4436-A94F-C34970D0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1BC05-3122-4D79-86B9-84B51FD8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C5E7-6DD1-49B7-96E1-297A5476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5829-DC22-4A32-B0E1-B6F55125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F267-D403-41D0-BE8A-F73FA303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8EE-40E5-494D-B5C3-7C5D1F3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C960-69DE-4978-BA98-B7041BB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77896-D3D0-48CD-9D5B-7761B3C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44617-445A-40C7-BEE1-31402D06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27CD-89D5-4AAF-BBCE-1C2775D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A482-65EC-4E1B-88B1-6058DAA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A035-3EBF-48CE-A85D-EE0767F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9EF04-FC59-4557-BACE-BF9B9F5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3A353-28BE-45EA-9EC1-317337C7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C919-863E-4EA4-BA78-21DA3EAE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0693C-43A1-4FFF-A0B4-50D4569D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EA7-F3A4-430B-A445-FF0CE573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EF0E-D91E-41FB-BE24-4FD6814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8AF7-6143-48A1-B01E-04F02B2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F34D-9948-4631-B75B-34E1C96B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2D7A-32F8-49C2-B07D-A7B86B2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1149-ABDD-41F8-AF08-30371C2E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19CA-1996-46D2-BED6-DC4AD39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AE7E-F92A-4572-BBA4-D0B791B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65F4-E355-441F-997B-2E585FA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BA81-928E-429E-BCD3-FAAA65B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CD54-7B14-41FD-8D1E-92A4EC9C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385-9159-4364-992A-7E2336C4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85CCE-E466-4283-87B8-4CD8C893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C918-BCF3-42EA-901D-1228335E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52CF-0D30-41BC-BD9A-63390D08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0877-C90C-4BCF-879E-9FAC6637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CAF9-6601-496A-A5F1-67CECF8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F6BC-93AB-4583-ADB5-BEB77CC7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4EF0-5E3F-4217-8B93-3F43CCAB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72E5-908D-4376-ACC0-C091144A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CC0A-B917-4DD6-86EF-FEB0797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FDF3-7978-4E90-A05C-4CC30EC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31D-3F6A-40D7-B64F-A80112B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E0D95-C320-4361-AFD0-588665F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1EB9C-577A-47A9-BB1C-AC99F72E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5720-E74C-4DA3-8A86-6C8EBC27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0B625-6C85-43BA-A002-79026019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FD48-358E-40FD-8CF4-8B5CE53A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B7B0-D04D-49CE-98A4-EB3BD58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FD54-1843-4ED0-974B-B862CCF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BBE45-4DD0-444A-B885-3DBD22C0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EF628-A9B0-4C4B-BFDC-783C410E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C9C7-CA2A-4E46-A513-43B7913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E5F-5A7C-41F0-8AF8-5596AA0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C5ED-C1BC-426D-AA91-AE7949D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7359D-DC3C-4A35-8F14-87B8B65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CD92-A87D-4E37-B115-CA5D415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744D6-1F08-494F-8E0C-1F567F6A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9935-0EC2-420C-B330-905A9F6E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1391D-72F2-4F0F-83E8-8F41C9BE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CC29-9407-4DEF-82B8-2CEE3B1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DA2EB-9564-467D-8706-AB96D8B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8660F-DE42-4893-9D37-8E63D725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AD99-6EAD-4E93-B3C0-D122B14C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C58-60F8-40C8-8D63-A583F19F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4EE7E-AC44-45A8-8D3E-099E4EC0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3AD62-675B-4D61-978B-64B4117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9F20-279B-4230-A530-CBA66D19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9B6F6-A299-4DF5-B6D2-182FE24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FFBAB-3D31-4B73-8686-8922B698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686A-5402-4255-B017-3454521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6FA7-9BBB-41D2-8C8C-383C3821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3E49D-E696-478F-ACAE-974D617A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5B1AC-070D-4581-A7EB-E9A1C5A0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78E16-86C0-4DC9-BC4B-1DAA3CF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A8BE-82E5-4197-B34F-2226366402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FE5-B2B8-4AA0-8ACF-E4380E2186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40C-E70E-4D2A-9CA2-06655C5E55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7EC-C24A-40A1-9BDB-BBED1E3496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DA4-A3DE-4CAD-BEE1-9BC4B7E7CA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6DD6-8D52-4920-9674-B5002F8A48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BB4-0DAB-4D37-9AE7-BF12C6C134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B8C-3F63-43C4-AD17-E45232CC8B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C811-9EEA-4079-B5B7-B203BB4265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46D-6854-4FD2-95F4-A5F26ED303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8F64-D0AE-48CC-8768-87FD2D9684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2A6A-8C07-47B5-ACB8-6ED6887CD3A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8" descr="генетика 2"/>
          <p:cNvPicPr/>
          <p:nvPr/>
        </p:nvPicPr>
        <p:blipFill>
          <a:blip r:embed="rId1"/>
          <a:stretch/>
        </p:blipFill>
        <p:spPr>
          <a:xfrm>
            <a:off x="3924360" y="3645000"/>
            <a:ext cx="3460680" cy="280836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c32d2e"/>
                </a:solidFill>
                <a:latin typeface="Corbel"/>
              </a:rPr>
              <a:t>Генетика и медицин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48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Наши врачи должны, как азбуку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3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знать законы</a:t>
            </a:r>
            <a:r>
              <a:rPr b="1" i="1" lang="en-US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наследствен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3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                                     </a:t>
            </a:r>
            <a:r>
              <a:rPr b="0" i="1" lang="ru-RU" sz="2000" spc="-1" strike="noStrike">
                <a:solidFill>
                  <a:srgbClr val="002060"/>
                </a:solidFill>
                <a:latin typeface="Monotype Corsiva"/>
              </a:rPr>
              <a:t>И.П. Павл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1" name="Picture 6" descr="генетика"/>
          <p:cNvPicPr/>
          <p:nvPr/>
        </p:nvPicPr>
        <p:blipFill>
          <a:blip r:embed="rId2"/>
          <a:stretch/>
        </p:blipFill>
        <p:spPr>
          <a:xfrm>
            <a:off x="5748480" y="887400"/>
            <a:ext cx="3247920" cy="29732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генетика3"/>
          <p:cNvPicPr/>
          <p:nvPr/>
        </p:nvPicPr>
        <p:blipFill>
          <a:blip r:embed="rId3"/>
          <a:stretch/>
        </p:blipFill>
        <p:spPr>
          <a:xfrm>
            <a:off x="1619280" y="2997360"/>
            <a:ext cx="2349360" cy="34844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7"/>
          <p:cNvSpPr/>
          <p:nvPr/>
        </p:nvSpPr>
        <p:spPr>
          <a:xfrm>
            <a:off x="6156360" y="6237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017-2018 уч.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Тесты на определение дальтонизм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05" name="Picture 10" descr="тест4"/>
          <p:cNvPicPr/>
          <p:nvPr/>
        </p:nvPicPr>
        <p:blipFill>
          <a:blip r:embed="rId1"/>
          <a:stretch/>
        </p:blipFill>
        <p:spPr>
          <a:xfrm>
            <a:off x="5076720" y="155736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тест 2"/>
          <p:cNvPicPr/>
          <p:nvPr/>
        </p:nvPicPr>
        <p:blipFill>
          <a:blip r:embed="rId2"/>
          <a:stretch/>
        </p:blipFill>
        <p:spPr>
          <a:xfrm>
            <a:off x="2124000" y="4149720"/>
            <a:ext cx="5718240" cy="216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тест на дальтонизм"/>
          <p:cNvPicPr/>
          <p:nvPr/>
        </p:nvPicPr>
        <p:blipFill>
          <a:blip r:embed="rId3"/>
          <a:stretch/>
        </p:blipFill>
        <p:spPr>
          <a:xfrm>
            <a:off x="2340000" y="1413000"/>
            <a:ext cx="2527200" cy="25272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838080" y="2349000"/>
            <a:ext cx="99720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Corbel"/>
              </a:rPr>
              <a:t>Гемофил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34960" y="1773000"/>
            <a:ext cx="73850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зывается рецессивным геном, расположенным в Х – хромосоме, поэтому женщины, гетерозиготные по данному гену, обладают нормальной свертываемостью крови. В браке со здоровым мужчиной женщина передает половине своих сыновей Х – хромосому с геном гемофилии. Причем дочери имеют нормальную свертываемость крови, но половина из них – носительницы гена гемофилии, что скажется в дальнейшем на потомках мужского по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427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«Царская болезнь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3770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олезнь крови, ставшая причиной ранней смерти многих наследников правящих династий Великобритании, Германии, Испании и России, распространялась среди потомков британской Королевы Виктории, у которой, видимо, и произошла мутация гена. Болезнь европейских монархов – гемофил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6" descr="церевич Алексей"/>
          <p:cNvPicPr/>
          <p:nvPr/>
        </p:nvPicPr>
        <p:blipFill>
          <a:blip r:embed="rId1"/>
          <a:stretch/>
        </p:blipFill>
        <p:spPr>
          <a:xfrm>
            <a:off x="4761000" y="2276640"/>
            <a:ext cx="42418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orbel"/>
              </a:rPr>
              <a:t>Серповидноклеточная анем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15" name="Picture 8" descr="серповидн"/>
          <p:cNvPicPr/>
          <p:nvPr/>
        </p:nvPicPr>
        <p:blipFill>
          <a:blip r:embed="rId1"/>
          <a:stretch/>
        </p:blipFill>
        <p:spPr>
          <a:xfrm>
            <a:off x="1476360" y="1557360"/>
            <a:ext cx="3191040" cy="319068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" descr="анемия-серпови-ного-эритроцита-79155818.jpg"/>
          <p:cNvPicPr/>
          <p:nvPr/>
        </p:nvPicPr>
        <p:blipFill>
          <a:blip r:embed="rId2"/>
          <a:stretch/>
        </p:blipFill>
        <p:spPr>
          <a:xfrm>
            <a:off x="4859280" y="2708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2124000" y="1773360"/>
            <a:ext cx="6048360" cy="410364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rbel"/>
              </a:rPr>
              <a:t>Наследование серповидноклеточной анем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19" name="Picture 6" descr="наследование серповиднокл анемии"/>
          <p:cNvPicPr/>
          <p:nvPr/>
        </p:nvPicPr>
        <p:blipFill>
          <a:blip r:embed="rId1"/>
          <a:stretch/>
        </p:blipFill>
        <p:spPr>
          <a:xfrm>
            <a:off x="2340000" y="1992240"/>
            <a:ext cx="554508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orbel"/>
              </a:rPr>
              <a:t>Хромосомные болезни</a:t>
            </a:r>
            <a:br>
              <a:rPr sz="2900"/>
            </a:br>
            <a:r>
              <a:rPr b="1" i="1" lang="ru-RU" sz="1800" spc="-1" strike="noStrike">
                <a:solidFill>
                  <a:srgbClr val="002060"/>
                </a:solidFill>
                <a:latin typeface="Corbel"/>
              </a:rPr>
              <a:t>В отличие от генных болезней характерно не наследование их от предшествующих поколений, а возникновение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orbel"/>
              </a:rPr>
              <a:t>вследствие новой мутации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187280" y="20570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олезнь Дауна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язана с нерасхождением при делении 21 – хромосомы. В результате такой аномалии клетки эмбриона имеют 47 хромосом вместо 46. Хромосома – 21 оказывается не в двойном, а в тройном количестве (трисомия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rbel"/>
              </a:rPr>
              <a:t>Для женщин в возрасте до 25 лет вероятность рождения больного ребенка равна 1/1400, до 30 – 1/1000, в 35 лет риск возрастает до 1/350, в 42 года до 1/60, а в 49 лет до 1/12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23" name="Picture 8" descr="ребенок Дауна"/>
          <p:cNvPicPr/>
          <p:nvPr/>
        </p:nvPicPr>
        <p:blipFill>
          <a:blip r:embed="rId1"/>
          <a:stretch/>
        </p:blipFill>
        <p:spPr>
          <a:xfrm>
            <a:off x="1547640" y="2349360"/>
            <a:ext cx="2708280" cy="2592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девочка Дауна"/>
          <p:cNvPicPr/>
          <p:nvPr/>
        </p:nvPicPr>
        <p:blipFill>
          <a:blip r:embed="rId2"/>
          <a:stretch/>
        </p:blipFill>
        <p:spPr>
          <a:xfrm>
            <a:off x="4556160" y="3141720"/>
            <a:ext cx="4145040" cy="29512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7740720" y="2362320"/>
            <a:ext cx="7905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7499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Факторы, которые вызывают генетические аномалии человек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476000" y="2133720"/>
            <a:ext cx="7497720" cy="42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изм одного из род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рение будущей мате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нятие большого количества лекарств во время беремен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начительный возраст матери. У родителей после 40 лет частота появления больных детей резко возраста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грязнение окружающей среды мутагенами (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диоактивное излучение, химические загрязнители воды, почвы, воздуха, пестициды, химические красители, ла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Пути профилактики наследственных заболева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645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прет на 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прет на употребление алкоголя, наркотических веществ, ку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рьба за чистоту окружающей среды, особенно против мутаген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едико-генетическое консультиров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ородовая диагностика наследственных заболева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ка человека как объекта генетических исследова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жный хромосомный наб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Генетическая неоднородность популяций люд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сутствие гомозиготных ли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ногочисленность потомст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нообразие биологического и социального окружения люд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дленная смена поколе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возможность помещения всех членов семьи в абсолютно одинаковые услов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должительность жизни исследователей соизмерима с длительностью существования объекта изуч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4"/>
          <p:cNvSpPr/>
          <p:nvPr/>
        </p:nvSpPr>
        <p:spPr>
          <a:xfrm>
            <a:off x="826920" y="4292640"/>
            <a:ext cx="7993080" cy="165744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кругленный прямоугольник 3"/>
          <p:cNvSpPr/>
          <p:nvPr/>
        </p:nvSpPr>
        <p:spPr>
          <a:xfrm>
            <a:off x="3780000" y="1989000"/>
            <a:ext cx="2016000" cy="15843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8000" y="7617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Методы изучения наследственности</a:t>
            </a:r>
            <a:r>
              <a:rPr b="1" lang="en-US" sz="32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человека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569" name="Organization Chart 6"/>
          <p:cNvGrpSpPr/>
          <p:nvPr/>
        </p:nvGrpSpPr>
        <p:grpSpPr>
          <a:xfrm>
            <a:off x="971640" y="2060640"/>
            <a:ext cx="7692480" cy="3723120"/>
            <a:chOff x="971640" y="2060640"/>
            <a:chExt cx="7692480" cy="3723120"/>
          </a:xfrm>
        </p:grpSpPr>
        <p:cxnSp>
          <p:nvCxnSpPr>
            <p:cNvPr id="570" name="_s1028"/>
            <p:cNvCxnSpPr>
              <a:stCxn id="571" idx="0"/>
              <a:endCxn id="572" idx="2"/>
            </p:cNvCxnSpPr>
            <p:nvPr/>
          </p:nvCxnSpPr>
          <p:spPr>
            <a:xfrm flipV="1" rot="16200000">
              <a:off x="5940720" y="2425680"/>
              <a:ext cx="745200" cy="299232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29"/>
            <p:cNvCxnSpPr>
              <a:stCxn id="574" idx="0"/>
              <a:endCxn id="572" idx="2"/>
            </p:cNvCxnSpPr>
            <p:nvPr/>
          </p:nvCxnSpPr>
          <p:spPr>
            <a:xfrm flipV="1" rot="16200000">
              <a:off x="4943520" y="3422880"/>
              <a:ext cx="745200" cy="99792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0"/>
            <p:cNvCxnSpPr>
              <a:stCxn id="576" idx="0"/>
              <a:endCxn id="572" idx="2"/>
            </p:cNvCxnSpPr>
            <p:nvPr/>
          </p:nvCxnSpPr>
          <p:spPr>
            <a:xfrm flipH="1" flipV="1" rot="5400000">
              <a:off x="3946320" y="3423240"/>
              <a:ext cx="745200" cy="99756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7" name="_s1031"/>
            <p:cNvCxnSpPr>
              <a:stCxn id="578" idx="0"/>
              <a:endCxn id="572" idx="2"/>
            </p:cNvCxnSpPr>
            <p:nvPr/>
          </p:nvCxnSpPr>
          <p:spPr>
            <a:xfrm flipH="1" flipV="1" rot="5400000">
              <a:off x="2949120" y="2426040"/>
              <a:ext cx="745200" cy="2991960"/>
            </a:xfrm>
            <a:prstGeom prst="bentConnector3">
              <a:avLst>
                <a:gd name="adj1" fmla="val 12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2" name="_s1032"/>
            <p:cNvSpPr/>
            <p:nvPr/>
          </p:nvSpPr>
          <p:spPr>
            <a:xfrm>
              <a:off x="3962880" y="20606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Метод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следстве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челове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_s1033"/>
            <p:cNvSpPr/>
            <p:nvPr/>
          </p:nvSpPr>
          <p:spPr>
            <a:xfrm>
              <a:off x="9716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Генеалог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оставление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сследо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родословных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4"/>
            <p:cNvSpPr/>
            <p:nvPr/>
          </p:nvSpPr>
          <p:spPr>
            <a:xfrm>
              <a:off x="29660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Цитогенет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аютс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хромосом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набор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здоровых 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больных люде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35"/>
            <p:cNvSpPr/>
            <p:nvPr/>
          </p:nvSpPr>
          <p:spPr>
            <a:xfrm>
              <a:off x="49604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Близнецовы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Изуча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енотипиченск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и фенотипиче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ие особенн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лизнец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_s1036"/>
            <p:cNvSpPr/>
            <p:nvPr/>
          </p:nvSpPr>
          <p:spPr>
            <a:xfrm>
              <a:off x="6954840" y="4294440"/>
              <a:ext cx="170928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Биохимический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Изуча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химический соста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внутриклеточ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среды, кров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канево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жидкост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3"/>
          <p:cNvSpPr/>
          <p:nvPr/>
        </p:nvSpPr>
        <p:spPr>
          <a:xfrm>
            <a:off x="1332000" y="2060640"/>
            <a:ext cx="7488000" cy="381636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Схема родословн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1" name="Picture 6" descr="сибсы"/>
          <p:cNvPicPr/>
          <p:nvPr/>
        </p:nvPicPr>
        <p:blipFill>
          <a:blip r:embed="rId1"/>
          <a:stretch/>
        </p:blipFill>
        <p:spPr>
          <a:xfrm>
            <a:off x="1547640" y="2276640"/>
            <a:ext cx="7056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131640" y="2924280"/>
            <a:ext cx="3743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orbel"/>
              </a:rPr>
              <a:t>Близнецы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3" name="Picture 9" descr="деление яйцеклетки"/>
          <p:cNvPicPr/>
          <p:nvPr/>
        </p:nvPicPr>
        <p:blipFill>
          <a:blip r:embed="rId1"/>
          <a:stretch/>
        </p:blipFill>
        <p:spPr>
          <a:xfrm>
            <a:off x="1547640" y="476280"/>
            <a:ext cx="3024360" cy="2424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" descr="однояйцевые близнецы"/>
          <p:cNvPicPr/>
          <p:nvPr/>
        </p:nvPicPr>
        <p:blipFill>
          <a:blip r:embed="rId2"/>
          <a:stretch/>
        </p:blipFill>
        <p:spPr>
          <a:xfrm>
            <a:off x="5148360" y="404640"/>
            <a:ext cx="3830400" cy="2737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4" descr="образование разнояйцев близнец"/>
          <p:cNvPicPr/>
          <p:nvPr/>
        </p:nvPicPr>
        <p:blipFill>
          <a:blip r:embed="rId3"/>
          <a:stretch/>
        </p:blipFill>
        <p:spPr>
          <a:xfrm>
            <a:off x="5580000" y="3860640"/>
            <a:ext cx="3095640" cy="2657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разнояйц"/>
          <p:cNvPicPr/>
          <p:nvPr/>
        </p:nvPicPr>
        <p:blipFill>
          <a:blip r:embed="rId4"/>
          <a:stretch/>
        </p:blipFill>
        <p:spPr>
          <a:xfrm>
            <a:off x="1332000" y="3860640"/>
            <a:ext cx="367164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Наследственные болезн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медицинской генетике насчитывается около 3000 наследственных заболевани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коло 4 % новорожденных детей страдают от генетических дефек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из 10 гамет человека несет ошибочную информацию, обусловленную мутаци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учение и профилактика наследственных болезней человека – предмет науки, котора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ЕДИЦИНСКОЙ ГЕНЕТИК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утации – наследственные изменения генетического материал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258920" y="191592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возникают внезапно, скачкообраз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наследственные, т.е. стойко передаются из поколения в покол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случайны и ненаправленны – мутировать может любой ген, вызывая изменение как незначительных так и жизненно важных признак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ни и те же мутации могут возникать повтор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 своему проявлению мутации могут быть полезными и вредными, доминантными и рецессивны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тации бывают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генеративными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оматически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4"/>
          <p:cNvSpPr/>
          <p:nvPr/>
        </p:nvSpPr>
        <p:spPr>
          <a:xfrm>
            <a:off x="1187280" y="3860640"/>
            <a:ext cx="7848720" cy="1729080"/>
          </a:xfrm>
          <a:prstGeom prst="rect">
            <a:avLst/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кругленный прямоугольник 3"/>
          <p:cNvSpPr/>
          <p:nvPr/>
        </p:nvSpPr>
        <p:spPr>
          <a:xfrm>
            <a:off x="3851280" y="1557360"/>
            <a:ext cx="2521080" cy="1727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9200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Мутации – причина генетических  аномалий    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594" name="Organization Chart 5"/>
          <p:cNvGrpSpPr/>
          <p:nvPr/>
        </p:nvGrpSpPr>
        <p:grpSpPr>
          <a:xfrm>
            <a:off x="1258920" y="1700280"/>
            <a:ext cx="7692120" cy="3723120"/>
            <a:chOff x="1258920" y="1700280"/>
            <a:chExt cx="7692120" cy="3723120"/>
          </a:xfrm>
        </p:grpSpPr>
        <p:cxnSp>
          <p:nvCxnSpPr>
            <p:cNvPr id="595" name="_s2052"/>
            <p:cNvCxnSpPr>
              <a:stCxn id="596" idx="0"/>
              <a:endCxn id="597" idx="2"/>
            </p:cNvCxnSpPr>
            <p:nvPr/>
          </p:nvCxnSpPr>
          <p:spPr>
            <a:xfrm flipV="1" rot="16200000">
              <a:off x="6078600" y="2215080"/>
              <a:ext cx="745200" cy="2692800"/>
            </a:xfrm>
            <a:prstGeom prst="bentConnector3">
              <a:avLst>
                <a:gd name="adj1" fmla="val 20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8" name="_s2053"/>
            <p:cNvCxnSpPr>
              <a:stCxn id="599" idx="0"/>
              <a:endCxn id="597" idx="2"/>
            </p:cNvCxnSpPr>
            <p:nvPr/>
          </p:nvCxnSpPr>
          <p:spPr>
            <a:xfrm flipV="1">
              <a:off x="5105160" y="3189240"/>
              <a:ext cx="2880" cy="745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0" name="_s2054"/>
            <p:cNvCxnSpPr>
              <a:stCxn id="601" idx="0"/>
              <a:endCxn id="597" idx="2"/>
            </p:cNvCxnSpPr>
            <p:nvPr/>
          </p:nvCxnSpPr>
          <p:spPr>
            <a:xfrm flipH="1" flipV="1" rot="5400000">
              <a:off x="3386160" y="2215440"/>
              <a:ext cx="745200" cy="2692800"/>
            </a:xfrm>
            <a:prstGeom prst="bentConnector3">
              <a:avLst>
                <a:gd name="adj1" fmla="val 209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7" name="_s2055"/>
            <p:cNvSpPr/>
            <p:nvPr/>
          </p:nvSpPr>
          <p:spPr>
            <a:xfrm>
              <a:off x="3951000" y="17002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ипы мутац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_s2056"/>
            <p:cNvSpPr/>
            <p:nvPr/>
          </p:nvSpPr>
          <p:spPr>
            <a:xfrm>
              <a:off x="125892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еном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ратны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ем чис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_s2057"/>
            <p:cNvSpPr/>
            <p:nvPr/>
          </p:nvSpPr>
          <p:spPr>
            <a:xfrm>
              <a:off x="395100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ем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уктуры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ромос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_s2058"/>
            <p:cNvSpPr/>
            <p:nvPr/>
          </p:nvSpPr>
          <p:spPr>
            <a:xfrm>
              <a:off x="6643440" y="393408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енные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провождают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зменения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нутри гена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структуре ДН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Генные болезни и аномалии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человека </a:t>
            </a:r>
            <a:r>
              <a:rPr b="1" i="1" lang="ru-RU" sz="2400" spc="-1" strike="noStrike">
                <a:solidFill>
                  <a:srgbClr val="7030a0"/>
                </a:solidFill>
                <a:latin typeface="Monotype Corsiva"/>
              </a:rPr>
              <a:t>дальтонизм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 неспособность различать красный и зеленый цвета) обусловлен сцепленным с полом рецессивным геном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локализованным в Х-хромосоме. У супружеской пары, родился сын – дальтоник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Р: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en-US" sz="2400" spc="-1" strike="noStrike">
                <a:solidFill>
                  <a:srgbClr val="7030a0"/>
                </a:solidFill>
                <a:latin typeface="Gill Sans MT"/>
              </a:rPr>
              <a:t>G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                               </a:t>
            </a:r>
            <a:r>
              <a:rPr b="0" i="1" lang="en-US" sz="2400" spc="-1" strike="noStrike">
                <a:solidFill>
                  <a:srgbClr val="7030a0"/>
                </a:solidFill>
                <a:latin typeface="Gill Sans MT"/>
              </a:rPr>
              <a:t>F</a:t>
            </a:r>
            <a:r>
              <a:rPr b="0" i="1" lang="en-US" sz="2400" spc="-1" strike="noStrike" baseline="-25000">
                <a:solidFill>
                  <a:srgbClr val="7030a0"/>
                </a:solidFill>
                <a:latin typeface="Gill Sans MT"/>
              </a:rPr>
              <a:t>1</a:t>
            </a:r>
            <a:r>
              <a:rPr b="0" i="1" lang="ru-RU" sz="2400" spc="-1" strike="noStrike">
                <a:solidFill>
                  <a:srgbClr val="7030a0"/>
                </a:solidFill>
                <a:latin typeface="Corbel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 : Х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Corbel"/>
              </a:rPr>
              <a:t>с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1800" spc="-1" strike="noStrike">
                <a:solidFill>
                  <a:srgbClr val="7030a0"/>
                </a:solidFill>
                <a:latin typeface="Corbel"/>
              </a:rPr>
              <a:t>сын - дальтоник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1:39:42Z</dcterms:created>
  <dc:creator>вера</dc:creator>
  <dc:description/>
  <dc:language>en-US</dc:language>
  <cp:lastModifiedBy>1</cp:lastModifiedBy>
  <dcterms:modified xsi:type="dcterms:W3CDTF">2018-07-05T07:45:06Z</dcterms:modified>
  <cp:revision>18</cp:revision>
  <dc:subject/>
  <dc:title>Генетика и медицина</dc:title>
</cp:coreProperties>
</file>