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00F-BD34-4E07-99BB-F0D0E749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C38-19B5-4ABD-825D-2C792B8C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23AB-76CF-4F17-BC70-1B8160BC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95223-3E16-476E-99DB-9DA4AA44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D72BC-4802-48D4-8F8F-DECB4CB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05B57-D785-4B90-BA1F-1793622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2C283-98BC-49BD-BFAA-CF8EE6A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9F6FB-6C93-4853-8694-41A9C9B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48C2F-5F40-49FD-98E7-230D3C52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4951A-87E8-4C78-B81B-0B8CDF4C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28582-D72D-497F-9E29-48E762DF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4F2B7-5C3D-4CF6-BCD1-D44005BB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704-80D4-4149-AAF7-F1DDB45D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11F55-DE25-43AD-96A1-197BCF54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0A56C-5A7C-4E54-8AEC-8A183347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EC4C5-FC62-4870-BAB2-B4A15AAD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61184-FBCC-426F-AF9E-AB95E1AE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AFB70-616D-45C5-AC85-F9BAE5BB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48F72-EA92-4230-B2D1-7BD5E86D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B9D38-D388-4F7C-ACA7-79059FBA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2BEEF-B1CC-4E4B-A7EC-A3F94FED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6CEF9-8EDE-41AC-AD41-15D2D1F8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E5653-2C80-404A-863F-359B9A9C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6A5-A30B-428B-9486-088E4DA5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69EC6-638B-4F6C-ACE5-2DD96D67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1E64A-53A3-4689-91B1-EEE0BCF4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84394-2755-4164-BBEB-71424A27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09D1F-7D34-439D-B243-630832E0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EC2F1-01B9-4EC0-A66B-E423BC94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CEF20-5892-4BCF-BA36-1BDD5400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C0C89-77EF-493D-9FF7-4740445C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E003F-E0DB-4A73-9772-78A3A011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D9951-AABC-416D-9641-76B7592C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27EE7-6DC5-4E86-8043-4A24519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30AE-A717-4781-A47F-6CD9A454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C63D3-0112-4A38-9C9A-06BD33B1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69F03-B625-4764-909E-B066B75D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882F0-9B35-421A-9E6A-E9E88D4C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9BB74-9B17-4C81-95D3-BD40DA93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2D6D0-A0D7-4382-A536-A0A4B6F1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3EADE-BDDA-4844-AF0A-BD5FE6D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4971D-9F17-42D8-8D4C-11E8B716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709D7-5064-446C-A340-316D4182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D18FE-66D8-4857-9AC6-558E28DF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ED8AF-0EAE-40BE-9230-BE838D30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11BB-543F-4D10-8B71-2669F07C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3E78B-015A-485C-96D5-035FEF8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C5678-194C-46C2-B8A5-3BF98D50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47006-D079-485F-B0B6-91B23A01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8D27E-2B22-4E2F-B79A-C7D3B11F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C2075-8D40-4D33-BEFF-D344BE5B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C00D-4BE0-480B-B32F-8CEAB871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88BA-6177-4B4E-8FA3-74F5B032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22DE-3E13-4CAC-B981-BC5CB309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68D9-EBB8-45F7-B00E-4387296C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4969-3BF2-4B75-BDC1-BA2ACD54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DE0-C181-4D6C-BA48-EA10F3A0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8727-C786-40F0-910E-0E34FD7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FC27-446A-47C3-9C45-CA3F88C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48CC-E8AE-481E-9B0A-DE9C9A6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48D7-312A-4923-9381-0F96A0C2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42FF-A5A4-4759-A0F2-0CAED82E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5588-B13E-4FA3-8CF1-B0566858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8160-9263-4CF3-8F52-45CDF9F3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5D2D0-08B4-499D-AE43-CAF3AC33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3614-4F99-4ADC-861E-C27FEAA1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7ACE-0C7F-4440-9F40-31B20193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C3B-E4EE-426E-B0F5-604BBB2C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D5E0-C494-4506-921D-C80BDF86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65F9-125D-4E3C-B683-27A44E08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3796-2490-4921-968C-3BA1274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A357-D63B-4C2A-89B8-A79AD30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EB431-B12F-4A90-953E-DE81C17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ECC0-8010-467B-8AC0-A69BEA15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8BB5-C1EB-40AC-8E70-C75E623D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AC5F2-1D79-4B4A-AD08-E3E6B88E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1D7B-F1CD-41F4-ABF4-FD474861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D625-5F2A-40CC-AEA3-289F5349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11F-3924-4C5E-B67B-3AC0DA90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3EA8-9DD7-4E18-942C-DF5811E0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B421E-CB6A-4BBC-8502-42C91FDF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8FBC-BA7B-4588-AA27-47D90AFE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08A8-C8AE-4D6B-B934-D535AF65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9440-B3E2-4ED6-B400-5556C961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7391C-7B9D-4477-96DE-C7D51F69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7529-2B23-4EF4-99DD-54F108A4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F9D7-EAB3-40A0-9281-4F1259AE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9FDD-32C4-4955-887F-8D8C019D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00CFD-578B-4AC1-A95E-80DB19B7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F20-7584-49FF-926F-5652395D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FAD2A-2834-4374-BFDE-3CCB543C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D518-8646-46AA-9E41-219B744E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2AF1-1E6D-41C6-82CC-7B12E398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1C49-E912-4F81-BDB4-5E9A0FAF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FBCC2-E5D1-4AC7-95EF-D29D67A5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BD907-5FB1-4BAD-86B0-A487067A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179A-8B47-42E2-90CA-78800A3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324A-F79D-4638-9689-67E53347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D9AB7-8E84-4610-9F36-BAE1DC0C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25DBE-7532-4B81-BC1A-BE7F3BD4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8A0-AD5A-4C41-A321-39C398D9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10DB1-67D7-43E9-AE61-79DD762E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9C8F1-D975-4459-922F-D482190F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A71A-8B8B-406A-90F4-E9F2D61B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6FBCC-DA4D-421D-B637-A888A67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02229-8769-4B53-A3C1-E7950CDF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9D9C8-F558-4965-AA5C-3BCA1FEE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7BCC-FAA6-44BF-A17C-33FB3C2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CA442-1620-4CC9-B762-9B10FF2C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06485-98F9-485D-9954-F603CCA9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1E3B-3648-4C4E-8AC9-985272C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05E-33FC-447C-BAC3-A2F26FE6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18C0-C133-478D-AB38-F8EDE483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C4968-A8EC-4575-8C20-952B701E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08C59-7090-4A6E-AD90-CDB36228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783A5-3008-46C8-AE5F-B0ABFC64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73787-98CE-4E89-9312-2F58052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64E41-5003-4148-8395-C14F994A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C2B36-A9BE-4439-8F25-011FDD3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968D3-4D58-4BC8-AD52-8618E3F5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32BE8-B5A5-4435-9BA0-8E4B52ED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7BCD7-CE82-4ABC-87AC-3C0C75E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0E6-B3D0-49EE-B407-E1527F8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A8C7A-0C4E-43F2-BCD9-145E944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1A55D-2CCB-4E80-A9C4-035D0BF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40C47-73A5-436F-9FCA-DF781572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97571-B92C-48FD-82A9-0D4316B3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232A5-6C32-4EF8-8042-4E6EBD4D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43681-53B6-492B-B411-C0D53585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F5785-CED3-4801-8386-FA52860A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42663-D08F-4940-B2F6-7928DC6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75984-3E69-4203-921B-725F337A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C96D-8BA7-47D9-814F-202EDCBA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D41-4BB9-40A2-8B41-FB81F0EC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35853-F106-46A0-82C0-0CC4D946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EF68F-8CE9-45AB-BAB6-8824C6A7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D4E73-549A-40EB-A117-973DCFC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2BB12-A9D5-490E-A1CF-B07F2385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F5028-48B6-4C40-B514-90213B92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FD66B-C8D6-4E80-8633-907C81D7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B69F3-115F-47A4-B854-D00AB364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2A26C-A0CF-407A-89C3-A7C999BC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0BDAF-E0A2-49BE-91E1-A5D5BE73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AF93-C216-468E-BFB9-04A2CB6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77DA-C1BC-4D01-AB84-22D1E1D88A3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0A65-0D24-4FD1-8F58-CB86C60ADE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38CC-5716-4D23-A165-0E37D38FF53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7647-9EED-4BD4-84BB-6F23A9577A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D680-D33D-45A3-B2E9-0A085A2766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CA84-0944-4563-A54E-52132BB96D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BC16-6960-4589-9219-D66A877803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5E53-BA5C-4475-9DB7-49F11B2D02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E6A-84EB-4E8F-9B04-2B97C26A46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E2E7-D86C-414C-A9A3-302E5DFD4B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C021-E169-4050-9D74-46A1F939A07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8286-8901-41F2-8F3D-5982C2953D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8" descr="генетика 2"/>
          <p:cNvPicPr/>
          <p:nvPr/>
        </p:nvPicPr>
        <p:blipFill>
          <a:blip r:embed="rId1"/>
          <a:stretch/>
        </p:blipFill>
        <p:spPr>
          <a:xfrm>
            <a:off x="3924360" y="3645000"/>
            <a:ext cx="3460680" cy="280836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32d2e"/>
                </a:solidFill>
                <a:latin typeface="Corbel"/>
              </a:rPr>
              <a:t>Генетика и медицин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48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Наши врачи должны, как азбуку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3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знать законы</a:t>
            </a:r>
            <a:r>
              <a:rPr b="1" i="1" lang="en-US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наследствен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3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                                     </a:t>
            </a:r>
            <a:r>
              <a:rPr b="0" i="1" lang="ru-RU" sz="2000" spc="-1" strike="noStrike">
                <a:solidFill>
                  <a:srgbClr val="002060"/>
                </a:solidFill>
                <a:latin typeface="Monotype Corsiva"/>
              </a:rPr>
              <a:t>И.П. Павл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1" name="Picture 6" descr="генетика"/>
          <p:cNvPicPr/>
          <p:nvPr/>
        </p:nvPicPr>
        <p:blipFill>
          <a:blip r:embed="rId2"/>
          <a:stretch/>
        </p:blipFill>
        <p:spPr>
          <a:xfrm>
            <a:off x="5748480" y="887400"/>
            <a:ext cx="3247920" cy="29732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генетика3"/>
          <p:cNvPicPr/>
          <p:nvPr/>
        </p:nvPicPr>
        <p:blipFill>
          <a:blip r:embed="rId3"/>
          <a:stretch/>
        </p:blipFill>
        <p:spPr>
          <a:xfrm>
            <a:off x="1619280" y="2997360"/>
            <a:ext cx="2349360" cy="34844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7"/>
          <p:cNvSpPr/>
          <p:nvPr/>
        </p:nvSpPr>
        <p:spPr>
          <a:xfrm>
            <a:off x="6156360" y="623736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017-2018 уч.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Тесты на определение дальтонизм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05" name="Picture 10" descr="тест4"/>
          <p:cNvPicPr/>
          <p:nvPr/>
        </p:nvPicPr>
        <p:blipFill>
          <a:blip r:embed="rId1"/>
          <a:stretch/>
        </p:blipFill>
        <p:spPr>
          <a:xfrm>
            <a:off x="5076720" y="155736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тест 2"/>
          <p:cNvPicPr/>
          <p:nvPr/>
        </p:nvPicPr>
        <p:blipFill>
          <a:blip r:embed="rId2"/>
          <a:stretch/>
        </p:blipFill>
        <p:spPr>
          <a:xfrm>
            <a:off x="2124000" y="4149720"/>
            <a:ext cx="5718240" cy="2160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2" descr="тест на дальтонизм"/>
          <p:cNvPicPr/>
          <p:nvPr/>
        </p:nvPicPr>
        <p:blipFill>
          <a:blip r:embed="rId3"/>
          <a:stretch/>
        </p:blipFill>
        <p:spPr>
          <a:xfrm>
            <a:off x="2340000" y="1413000"/>
            <a:ext cx="2527200" cy="25272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838080" y="2349000"/>
            <a:ext cx="99720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2060"/>
                </a:solidFill>
                <a:latin typeface="Corbel"/>
              </a:rPr>
              <a:t>Гемофил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4960" y="1773000"/>
            <a:ext cx="73850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зывается рецессивным геном, расположенным в Х – хромосоме, поэтому женщины, гетерозиготные по данному гену, обладают нормальной свертываемостью крови. В браке со здоровым мужчиной женщина передает половине своих сыновей Х – хромосому с геном гемофилии. Причем дочери имеют нормальную свертываемость крови, но половина из них – носительницы гена гемофилии, что скажется в дальнейшем на потомках мужского по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4278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«Царская болезнь»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3770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лезнь крови, ставшая причиной ранней смерти многих наследников правящих династий Великобритании, Германии, Испании и России, распространялась среди потомков британской Королевы Виктории, у которой, видимо, и произошла мутация гена. Болезнь европейских монархов – гемофил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3" name="Picture 6" descr="церевич Алексей"/>
          <p:cNvPicPr/>
          <p:nvPr/>
        </p:nvPicPr>
        <p:blipFill>
          <a:blip r:embed="rId1"/>
          <a:stretch/>
        </p:blipFill>
        <p:spPr>
          <a:xfrm>
            <a:off x="4761000" y="2276640"/>
            <a:ext cx="42418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orbel"/>
              </a:rPr>
              <a:t>Серповидноклеточная анем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15" name="Picture 8" descr="серповидн"/>
          <p:cNvPicPr/>
          <p:nvPr/>
        </p:nvPicPr>
        <p:blipFill>
          <a:blip r:embed="rId1"/>
          <a:stretch/>
        </p:blipFill>
        <p:spPr>
          <a:xfrm>
            <a:off x="1476360" y="1557360"/>
            <a:ext cx="3191040" cy="319068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3" descr="анемия-серпови-ного-эритроцита-79155818.jpg"/>
          <p:cNvPicPr/>
          <p:nvPr/>
        </p:nvPicPr>
        <p:blipFill>
          <a:blip r:embed="rId2"/>
          <a:stretch/>
        </p:blipFill>
        <p:spPr>
          <a:xfrm>
            <a:off x="4859280" y="2708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Прямоугольник 3"/>
          <p:cNvSpPr/>
          <p:nvPr/>
        </p:nvSpPr>
        <p:spPr>
          <a:xfrm>
            <a:off x="2124000" y="1773360"/>
            <a:ext cx="6048360" cy="4103640"/>
          </a:xfrm>
          <a:prstGeom prst="rect">
            <a:avLst/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rbel"/>
              </a:rPr>
              <a:t>Наследование серповидноклеточной анем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19" name="Picture 6" descr="наследование серповиднокл анемии"/>
          <p:cNvPicPr/>
          <p:nvPr/>
        </p:nvPicPr>
        <p:blipFill>
          <a:blip r:embed="rId1"/>
          <a:stretch/>
        </p:blipFill>
        <p:spPr>
          <a:xfrm>
            <a:off x="2340000" y="1992240"/>
            <a:ext cx="554508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orbel"/>
              </a:rPr>
              <a:t>Хромосомные болезни</a:t>
            </a:r>
            <a:br>
              <a:rPr sz="2900"/>
            </a:br>
            <a:r>
              <a:rPr b="1" i="1" lang="ru-RU" sz="1800" spc="-1" strike="noStrike">
                <a:solidFill>
                  <a:srgbClr val="002060"/>
                </a:solidFill>
                <a:latin typeface="Corbel"/>
              </a:rPr>
              <a:t>В отличие от генных болезней характерно не наследование их от предшествующих поколений, а возникновение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orbel"/>
              </a:rPr>
              <a:t>вследствие новой мутации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187280" y="205704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олезнь Дауна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язана с нерасхождением при делении 21 – хромосомы. В результате такой аномалии клетки эмбриона имеют 47 хромосом вместо 46. Хромосома – 21 оказывается не в двойном, а в тройном количестве (трисоми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Для женщин в возрасте до 25 лет вероятность рождения больного ребенка равна 1/1400, до 30 – 1/1000, в 35 лет риск возрастает до 1/350, в 42 года до 1/60, а в 49 лет до 1/12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3" name="Picture 8" descr="ребенок Дауна"/>
          <p:cNvPicPr/>
          <p:nvPr/>
        </p:nvPicPr>
        <p:blipFill>
          <a:blip r:embed="rId1"/>
          <a:stretch/>
        </p:blipFill>
        <p:spPr>
          <a:xfrm>
            <a:off x="1547640" y="2349360"/>
            <a:ext cx="2708280" cy="2592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девочка Дауна"/>
          <p:cNvPicPr/>
          <p:nvPr/>
        </p:nvPicPr>
        <p:blipFill>
          <a:blip r:embed="rId2"/>
          <a:stretch/>
        </p:blipFill>
        <p:spPr>
          <a:xfrm>
            <a:off x="4556160" y="3141720"/>
            <a:ext cx="4145040" cy="29512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 txBox="1"/>
          <p:nvPr/>
        </p:nvSpPr>
        <p:spPr>
          <a:xfrm>
            <a:off x="7740720" y="2362320"/>
            <a:ext cx="79056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7499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Факторы, которые вызывают генетические аномалии челове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476000" y="2133720"/>
            <a:ext cx="749772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изм одного из родите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урение будущей матер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нятие большого количества лекарств во время беремен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начительный возраст матери. У родителей после 40 лет частота появления больных детей резко возраста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грязнение окружающей среды мутагенами (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адиоактивное излучение, химические загрязнители воды, почвы, воздуха, пестициды, химические красители, лак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Пути профилактики наследственных заболеван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64592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прет на 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прет на употребление алкоголя, наркотических веществ, кур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орьба за чистоту окружающей среды, особенно против мутаген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едико-генетическое консультиров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ородовая диагностика наследственных заболева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фика человека как объекта генетических исследован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жный хромосомный наб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енетическая неоднородность популяций люд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сутствие гомозиготных ли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многочисленность потомст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нообразие биологического и социального окружения люд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дленная смена поколе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возможность помещения всех членов семьи в абсолютно одинаковые услов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должительность жизни исследователей соизмерима с длительностью существования объекта изу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4"/>
          <p:cNvSpPr/>
          <p:nvPr/>
        </p:nvSpPr>
        <p:spPr>
          <a:xfrm>
            <a:off x="826920" y="4292640"/>
            <a:ext cx="7993080" cy="1657440"/>
          </a:xfrm>
          <a:prstGeom prst="rect">
            <a:avLst/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кругленный прямоугольник 3"/>
          <p:cNvSpPr/>
          <p:nvPr/>
        </p:nvSpPr>
        <p:spPr>
          <a:xfrm>
            <a:off x="3780000" y="1989000"/>
            <a:ext cx="2016000" cy="15843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8000" y="7617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Методы изучения наследственности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человека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569" name="Organization Chart 6"/>
          <p:cNvGrpSpPr/>
          <p:nvPr/>
        </p:nvGrpSpPr>
        <p:grpSpPr>
          <a:xfrm>
            <a:off x="971640" y="2060640"/>
            <a:ext cx="7692480" cy="3723120"/>
            <a:chOff x="971640" y="2060640"/>
            <a:chExt cx="7692480" cy="3723120"/>
          </a:xfrm>
        </p:grpSpPr>
        <p:cxnSp>
          <p:nvCxnSpPr>
            <p:cNvPr id="570" name="_s1028"/>
            <p:cNvCxnSpPr>
              <a:stCxn id="571" idx="0"/>
              <a:endCxn id="572" idx="2"/>
            </p:cNvCxnSpPr>
            <p:nvPr/>
          </p:nvCxnSpPr>
          <p:spPr>
            <a:xfrm flipV="1" rot="16200000">
              <a:off x="5940720" y="2425680"/>
              <a:ext cx="745200" cy="2992320"/>
            </a:xfrm>
            <a:prstGeom prst="bentConnector3">
              <a:avLst>
                <a:gd name="adj1" fmla="val 12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29"/>
            <p:cNvCxnSpPr>
              <a:stCxn id="574" idx="0"/>
              <a:endCxn id="572" idx="2"/>
            </p:cNvCxnSpPr>
            <p:nvPr/>
          </p:nvCxnSpPr>
          <p:spPr>
            <a:xfrm flipV="1" rot="16200000">
              <a:off x="4943520" y="3422880"/>
              <a:ext cx="745200" cy="997920"/>
            </a:xfrm>
            <a:prstGeom prst="bentConnector3">
              <a:avLst>
                <a:gd name="adj1" fmla="val 12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0"/>
            <p:cNvCxnSpPr>
              <a:stCxn id="576" idx="0"/>
              <a:endCxn id="572" idx="2"/>
            </p:cNvCxnSpPr>
            <p:nvPr/>
          </p:nvCxnSpPr>
          <p:spPr>
            <a:xfrm flipH="1" flipV="1" rot="5400000">
              <a:off x="3946320" y="3423240"/>
              <a:ext cx="745200" cy="997560"/>
            </a:xfrm>
            <a:prstGeom prst="bentConnector3">
              <a:avLst>
                <a:gd name="adj1" fmla="val 12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1"/>
            <p:cNvCxnSpPr>
              <a:stCxn id="578" idx="0"/>
              <a:endCxn id="572" idx="2"/>
            </p:cNvCxnSpPr>
            <p:nvPr/>
          </p:nvCxnSpPr>
          <p:spPr>
            <a:xfrm flipH="1" flipV="1" rot="5400000">
              <a:off x="2949120" y="2426040"/>
              <a:ext cx="745200" cy="2991960"/>
            </a:xfrm>
            <a:prstGeom prst="bentConnector3">
              <a:avLst>
                <a:gd name="adj1" fmla="val 12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2" name="_s1032"/>
            <p:cNvSpPr/>
            <p:nvPr/>
          </p:nvSpPr>
          <p:spPr>
            <a:xfrm>
              <a:off x="3962880" y="20606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Метод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зу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аследствен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челове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_s1033"/>
            <p:cNvSpPr/>
            <p:nvPr/>
          </p:nvSpPr>
          <p:spPr>
            <a:xfrm>
              <a:off x="971640" y="42944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Генеалогический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оставление 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сследо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одословны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4"/>
            <p:cNvSpPr/>
            <p:nvPr/>
          </p:nvSpPr>
          <p:spPr>
            <a:xfrm>
              <a:off x="2966040" y="42944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Цитогенетический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зучаютс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хромосом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абор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здоровых 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больных люде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35"/>
            <p:cNvSpPr/>
            <p:nvPr/>
          </p:nvSpPr>
          <p:spPr>
            <a:xfrm>
              <a:off x="4960440" y="42944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Близнецовый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Изуча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енотипиченск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и фенотипиче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кие особенност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лизнец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_s1036"/>
            <p:cNvSpPr/>
            <p:nvPr/>
          </p:nvSpPr>
          <p:spPr>
            <a:xfrm>
              <a:off x="6954840" y="42944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Биохимический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зуча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химический соста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нутриклеточ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реды, кров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канево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жидкост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3"/>
          <p:cNvSpPr/>
          <p:nvPr/>
        </p:nvSpPr>
        <p:spPr>
          <a:xfrm>
            <a:off x="1332000" y="2060640"/>
            <a:ext cx="7488000" cy="3816360"/>
          </a:xfrm>
          <a:prstGeom prst="rect">
            <a:avLst/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Схема родословно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1" name="Picture 6" descr="сибсы"/>
          <p:cNvPicPr/>
          <p:nvPr/>
        </p:nvPicPr>
        <p:blipFill>
          <a:blip r:embed="rId1"/>
          <a:stretch/>
        </p:blipFill>
        <p:spPr>
          <a:xfrm>
            <a:off x="1547640" y="2276640"/>
            <a:ext cx="7056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31640" y="2924280"/>
            <a:ext cx="37436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orbel"/>
              </a:rPr>
              <a:t>Близнецы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3" name="Picture 9" descr="деление яйцеклетки"/>
          <p:cNvPicPr/>
          <p:nvPr/>
        </p:nvPicPr>
        <p:blipFill>
          <a:blip r:embed="rId1"/>
          <a:stretch/>
        </p:blipFill>
        <p:spPr>
          <a:xfrm>
            <a:off x="1547640" y="476280"/>
            <a:ext cx="3024360" cy="2424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" descr="однояйцевые близнецы"/>
          <p:cNvPicPr/>
          <p:nvPr/>
        </p:nvPicPr>
        <p:blipFill>
          <a:blip r:embed="rId2"/>
          <a:stretch/>
        </p:blipFill>
        <p:spPr>
          <a:xfrm>
            <a:off x="5148360" y="404640"/>
            <a:ext cx="3830400" cy="27370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4" descr="образование разнояйцев близнец"/>
          <p:cNvPicPr/>
          <p:nvPr/>
        </p:nvPicPr>
        <p:blipFill>
          <a:blip r:embed="rId3"/>
          <a:stretch/>
        </p:blipFill>
        <p:spPr>
          <a:xfrm>
            <a:off x="5580000" y="3860640"/>
            <a:ext cx="3095640" cy="2657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разнояйц"/>
          <p:cNvPicPr/>
          <p:nvPr/>
        </p:nvPicPr>
        <p:blipFill>
          <a:blip r:embed="rId4"/>
          <a:stretch/>
        </p:blipFill>
        <p:spPr>
          <a:xfrm>
            <a:off x="1332000" y="3860640"/>
            <a:ext cx="367164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Наследственные болезн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медицинской генетике насчитывается около 3000 наследственных заболева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коло 4 % новорожденных детей страдают от генетических дефек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из 10 гамет человека несет ошибочную информацию, обусловленную мутаци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учение и профилактика наследственных болезней человека – предмет науки, которая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ЕДИЦИНСКОЙ ГЕНЕТИК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Мутации – наследственные изменения генетического материал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258920" y="1915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тации возникают внезапно, скачкообраз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тации наследственные, т.е. стойко передаются из поколения в покол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тации случайны и ненаправленны – мутировать может любой ген, вызывая изменение как незначительных так и жизненно важных призна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дни и те же мутации могут возникать повтор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 своему проявлению мутации могут быть полезными и вредными, доминантными и рецессивны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тации бывают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генеративными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оматически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4"/>
          <p:cNvSpPr/>
          <p:nvPr/>
        </p:nvSpPr>
        <p:spPr>
          <a:xfrm>
            <a:off x="1187280" y="3860640"/>
            <a:ext cx="7848720" cy="1729080"/>
          </a:xfrm>
          <a:prstGeom prst="rect">
            <a:avLst/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Скругленный прямоугольник 3"/>
          <p:cNvSpPr/>
          <p:nvPr/>
        </p:nvSpPr>
        <p:spPr>
          <a:xfrm>
            <a:off x="3851280" y="1557360"/>
            <a:ext cx="2521080" cy="17272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9200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Мутации – причина генетических  аномалий   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594" name="Organization Chart 5"/>
          <p:cNvGrpSpPr/>
          <p:nvPr/>
        </p:nvGrpSpPr>
        <p:grpSpPr>
          <a:xfrm>
            <a:off x="1258920" y="1700280"/>
            <a:ext cx="7692120" cy="3723120"/>
            <a:chOff x="1258920" y="1700280"/>
            <a:chExt cx="7692120" cy="3723120"/>
          </a:xfrm>
        </p:grpSpPr>
        <p:cxnSp>
          <p:nvCxnSpPr>
            <p:cNvPr id="595" name="_s2052"/>
            <p:cNvCxnSpPr>
              <a:stCxn id="596" idx="0"/>
              <a:endCxn id="597" idx="2"/>
            </p:cNvCxnSpPr>
            <p:nvPr/>
          </p:nvCxnSpPr>
          <p:spPr>
            <a:xfrm flipV="1" rot="16200000">
              <a:off x="6078600" y="2215080"/>
              <a:ext cx="745200" cy="2692800"/>
            </a:xfrm>
            <a:prstGeom prst="bentConnector3">
              <a:avLst>
                <a:gd name="adj1" fmla="val 20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8" name="_s2053"/>
            <p:cNvCxnSpPr>
              <a:stCxn id="599" idx="0"/>
              <a:endCxn id="597" idx="2"/>
            </p:cNvCxnSpPr>
            <p:nvPr/>
          </p:nvCxnSpPr>
          <p:spPr>
            <a:xfrm flipV="1">
              <a:off x="5105160" y="3189240"/>
              <a:ext cx="2880" cy="74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0" name="_s2054"/>
            <p:cNvCxnSpPr>
              <a:stCxn id="601" idx="0"/>
              <a:endCxn id="597" idx="2"/>
            </p:cNvCxnSpPr>
            <p:nvPr/>
          </p:nvCxnSpPr>
          <p:spPr>
            <a:xfrm flipH="1" flipV="1" rot="5400000">
              <a:off x="3386160" y="2215440"/>
              <a:ext cx="745200" cy="2692800"/>
            </a:xfrm>
            <a:prstGeom prst="bentConnector3">
              <a:avLst>
                <a:gd name="adj1" fmla="val 20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7" name="_s2055"/>
            <p:cNvSpPr/>
            <p:nvPr/>
          </p:nvSpPr>
          <p:spPr>
            <a:xfrm>
              <a:off x="3951000" y="170028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ипы мутац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_s2056"/>
            <p:cNvSpPr/>
            <p:nvPr/>
          </p:nvSpPr>
          <p:spPr>
            <a:xfrm>
              <a:off x="1258920" y="393408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еномн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провождаютс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ратны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зменением числ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ромос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_s2057"/>
            <p:cNvSpPr/>
            <p:nvPr/>
          </p:nvSpPr>
          <p:spPr>
            <a:xfrm>
              <a:off x="3951000" y="393408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ромосомн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провождают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зменение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уктур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ромос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_s2058"/>
            <p:cNvSpPr/>
            <p:nvPr/>
          </p:nvSpPr>
          <p:spPr>
            <a:xfrm>
              <a:off x="6643440" y="393408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енн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провождают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зменения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нутри гена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структуре ДН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702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Генные болезни и аномали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 человека </a:t>
            </a:r>
            <a:r>
              <a:rPr b="1" i="1" lang="ru-RU" sz="2400" spc="-1" strike="noStrike">
                <a:solidFill>
                  <a:srgbClr val="7030a0"/>
                </a:solidFill>
                <a:latin typeface="Monotype Corsiva"/>
              </a:rPr>
              <a:t>дальтонизм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 неспособность различать красный и зеленый цвета) обусловлен сцепленным с полом рецессивным геном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локализованным в Х-хромосоме. У супружеской пары, родился сын – дальтоник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Corbel"/>
              </a:rPr>
              <a:t>Р: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х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                               </a:t>
            </a:r>
            <a:r>
              <a:rPr b="0" i="1" lang="en-US" sz="2400" spc="-1" strike="noStrike">
                <a:solidFill>
                  <a:srgbClr val="7030a0"/>
                </a:solidFill>
                <a:latin typeface="Gill Sans MT"/>
              </a:rPr>
              <a:t>G</a:t>
            </a:r>
            <a:r>
              <a:rPr b="0" i="1" lang="ru-RU" sz="2400" spc="-1" strike="noStrike">
                <a:solidFill>
                  <a:srgbClr val="7030a0"/>
                </a:solidFill>
                <a:latin typeface="Corbe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: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                               </a:t>
            </a:r>
            <a:r>
              <a:rPr b="0" i="1" lang="en-US" sz="2400" spc="-1" strike="noStrike">
                <a:solidFill>
                  <a:srgbClr val="7030a0"/>
                </a:solidFill>
                <a:latin typeface="Gill Sans MT"/>
              </a:rPr>
              <a:t>F</a:t>
            </a:r>
            <a:r>
              <a:rPr b="0" i="1" lang="en-US" sz="2400" spc="-1" strike="noStrike" baseline="-25000">
                <a:solidFill>
                  <a:srgbClr val="7030a0"/>
                </a:solidFill>
                <a:latin typeface="Gill Sans MT"/>
              </a:rPr>
              <a:t>1</a:t>
            </a:r>
            <a:r>
              <a:rPr b="0" i="1" lang="ru-RU" sz="2400" spc="-1" strike="noStrike">
                <a:solidFill>
                  <a:srgbClr val="7030a0"/>
                </a:solidFill>
                <a:latin typeface="Corbel"/>
              </a:rPr>
              <a:t>: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У :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1800" spc="-1" strike="noStrike">
                <a:solidFill>
                  <a:srgbClr val="7030a0"/>
                </a:solidFill>
                <a:latin typeface="Corbel"/>
              </a:rPr>
              <a:t>сын - дальтоник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1:39:42Z</dcterms:created>
  <dc:creator>вера</dc:creator>
  <dc:description/>
  <dc:language>en-US</dc:language>
  <cp:lastModifiedBy>1</cp:lastModifiedBy>
  <dcterms:modified xsi:type="dcterms:W3CDTF">2018-07-05T07:45:06Z</dcterms:modified>
  <cp:revision>18</cp:revision>
  <dc:subject/>
  <dc:title>Генетика и медицина</dc:title>
</cp:coreProperties>
</file>