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20D-4A5C-4A62-8FF5-E1460E56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3A7-1F56-42E9-85E6-0CD945AE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A24-2ADF-4557-B230-D59472D9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6DC-55AB-40EB-86FD-DB76EB74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B0A-EE5C-4F2F-BB43-2F15E59B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0E3-66BE-4A53-9972-15986F05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28D-5506-40E1-B534-9586AE3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BE7-99C3-4671-A551-39CAEDE3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85D-A819-43C3-B704-B33B4A08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81F-53F1-4DE6-B73D-9999562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421-C24A-4B07-9815-D45FDB6B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13A-A392-4623-86F7-EBF54B98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9E9E-737E-4584-88CD-CA986C55AB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c8c93"/>
                </a:solidFill>
                <a:latin typeface="Arial"/>
              </a:rPr>
              <a:t>Решение иррациональных уравн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5080" y="5300640"/>
            <a:ext cx="44244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: ученик 10 класса Сёмин Миха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Кривоногова Ольга Андр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2286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50560" y="2636640"/>
            <a:ext cx="61498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2195640" y="2421000"/>
                <a:ext cx="381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6012000" y="1844640"/>
                <a:ext cx="298764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0" y="492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611280" y="1484280"/>
                <a:ext cx="3456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4"/>
              <p:cNvSpPr txBox="1"/>
              <p:nvPr/>
            </p:nvSpPr>
            <p:spPr>
              <a:xfrm>
                <a:off x="2340000" y="3309840"/>
                <a:ext cx="266364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1619280" y="5084640"/>
                <a:ext cx="1008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       , то                                 не им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        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476360" y="476280"/>
                <a:ext cx="33116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2843280" y="1628640"/>
                <a:ext cx="32400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2916360" y="4076640"/>
                <a:ext cx="3456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11"/>
          <p:cNvSpPr/>
          <p:nvPr/>
        </p:nvSpPr>
        <p:spPr>
          <a:xfrm>
            <a:off x="684360" y="206064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0"/>
              <p:cNvSpPr txBox="1"/>
              <p:nvPr/>
            </p:nvSpPr>
            <p:spPr>
              <a:xfrm>
                <a:off x="6300720" y="3500280"/>
                <a:ext cx="262728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3"/>
              <p:cNvSpPr txBox="1"/>
              <p:nvPr/>
            </p:nvSpPr>
            <p:spPr>
              <a:xfrm>
                <a:off x="1476360" y="1773360"/>
                <a:ext cx="79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4"/>
              <p:cNvSpPr txBox="1"/>
              <p:nvPr/>
            </p:nvSpPr>
            <p:spPr>
              <a:xfrm>
                <a:off x="1403280" y="4292640"/>
                <a:ext cx="100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-243000"/>
            <a:ext cx="259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743200" y="2781360"/>
            <a:ext cx="6400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довлетвор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395280" y="981000"/>
                <a:ext cx="3467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3851280" y="404640"/>
                <a:ext cx="331164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Rectangle 9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468360" y="1916280"/>
                <a:ext cx="345924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468360" y="4005360"/>
                <a:ext cx="3024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684360" y="5373720"/>
                <a:ext cx="2881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15"/>
          <p:cNvSpPr/>
          <p:nvPr/>
        </p:nvSpPr>
        <p:spPr>
          <a:xfrm>
            <a:off x="90000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684360" y="6165720"/>
                <a:ext cx="2665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4427640" y="2421000"/>
                <a:ext cx="24876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8"/>
              <p:cNvSpPr txBox="1"/>
              <p:nvPr/>
            </p:nvSpPr>
            <p:spPr>
              <a:xfrm>
                <a:off x="3708360" y="4292640"/>
                <a:ext cx="26640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7812000" y="3789360"/>
                <a:ext cx="1187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7664400" y="5191200"/>
                <a:ext cx="11224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7"/>
              <p:cNvSpPr txBox="1"/>
              <p:nvPr/>
            </p:nvSpPr>
            <p:spPr>
              <a:xfrm>
                <a:off x="6516720" y="5592600"/>
                <a:ext cx="2087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1187280" y="1484280"/>
                <a:ext cx="3888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9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8"/>
              <p:cNvSpPr txBox="1"/>
              <p:nvPr/>
            </p:nvSpPr>
            <p:spPr>
              <a:xfrm>
                <a:off x="5076720" y="765000"/>
                <a:ext cx="338472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Rectangle 21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0"/>
              <p:cNvSpPr txBox="1"/>
              <p:nvPr/>
            </p:nvSpPr>
            <p:spPr>
              <a:xfrm>
                <a:off x="5076720" y="2997360"/>
                <a:ext cx="316872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32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9280" y="1700280"/>
                <a:ext cx="4103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4211640" y="765000"/>
                <a:ext cx="4249800" cy="25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4248000" y="3429000"/>
                <a:ext cx="4896000" cy="299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довлетворя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условию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не удовлетворяет услови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3059280" y="189000"/>
                <a:ext cx="50400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76720" y="1484280"/>
                <a:ext cx="475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3203640" y="2133720"/>
                <a:ext cx="2879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1"/>
              <p:cNvSpPr txBox="1"/>
              <p:nvPr/>
            </p:nvSpPr>
            <p:spPr>
              <a:xfrm>
                <a:off x="3203640" y="2781360"/>
                <a:ext cx="2879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3"/>
              <p:cNvSpPr txBox="1"/>
              <p:nvPr/>
            </p:nvSpPr>
            <p:spPr>
              <a:xfrm>
                <a:off x="3203640" y="3357720"/>
                <a:ext cx="2592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3276720" y="4508640"/>
                <a:ext cx="41050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8"/>
              <p:cNvSpPr txBox="1"/>
              <p:nvPr/>
            </p:nvSpPr>
            <p:spPr>
              <a:xfrm>
                <a:off x="7451640" y="4149720"/>
                <a:ext cx="100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6"/>
              <p:cNvSpPr txBox="1"/>
              <p:nvPr/>
            </p:nvSpPr>
            <p:spPr>
              <a:xfrm>
                <a:off x="8028000" y="5373720"/>
                <a:ext cx="88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8"/>
              <p:cNvSpPr txBox="1"/>
              <p:nvPr/>
            </p:nvSpPr>
            <p:spPr>
              <a:xfrm>
                <a:off x="5364000" y="6165720"/>
                <a:ext cx="1081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Прямоугольник 17"/>
          <p:cNvSpPr/>
          <p:nvPr/>
        </p:nvSpPr>
        <p:spPr>
          <a:xfrm>
            <a:off x="3780000" y="4437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етод подстанов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именение монотонности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, показав на примерах, были решены и пояснены некоторые методы решения и виды иррациональных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Справочник по математике» В.А.Гусев,А.Г.Мордкович.:198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Углубленное изучение курса алгебры и математического анализа» М.Л.Галицкий,М.М.Мошкович,С.И.Шварцабурд.:199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«Ученикам о математике» М.К. Гриненко.:199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Алгебра и начала анализа» (под редакцией А.Н. Колмогор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озникновение и развитие математической науки. К.А. Рыбников.: 198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Оглав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иррационального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иды иррациональных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писок литера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конкретных примерах, как решаются иррациональные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пределени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, в котором под знаком корня содержится переменная, называют иррацион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4000" y="3357360"/>
            <a:ext cx="785484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2987640" y="3357720"/>
                <a:ext cx="4138560" cy="26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Виды иррациональных уравн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а - отрицательно, то уравн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 имеет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         то уравнение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ледует из определения арифметического кор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116000" y="1557360"/>
                <a:ext cx="21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7020000" y="2060640"/>
                <a:ext cx="1800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1476360" y="3429000"/>
                <a:ext cx="1079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0"/>
              <p:cNvSpPr txBox="1"/>
              <p:nvPr/>
            </p:nvSpPr>
            <p:spPr>
              <a:xfrm>
                <a:off x="4859280" y="3284640"/>
                <a:ext cx="39607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⇔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=</m:t>
                    </m:r>
                    <m:r>
                      <m:t xml:space="preserve">а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332000" y="1557360"/>
                <a:ext cx="2448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1476360" y="2565360"/>
                <a:ext cx="2303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8"/>
          <p:cNvGraphicFramePr/>
          <p:nvPr/>
        </p:nvGraphicFramePr>
        <p:xfrm>
          <a:off x="1547640" y="3357720"/>
          <a:ext cx="172908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57720"/>
                    <a:ext cx="17290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1547640" y="4005360"/>
                <a:ext cx="216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2"/>
              <p:cNvSpPr txBox="1"/>
              <p:nvPr/>
            </p:nvSpPr>
            <p:spPr>
              <a:xfrm>
                <a:off x="1979640" y="5013360"/>
                <a:ext cx="2232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ешение иррациональных уравнений, используя переход к смешанн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755640" y="2492280"/>
                <a:ext cx="3672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4427640" y="2060640"/>
                <a:ext cx="352728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408744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яет услов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довлетвор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ю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                                            посторонний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468360" y="836640"/>
                <a:ext cx="3744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Rectangle 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4211640" y="692280"/>
                <a:ext cx="33847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4211640" y="1773360"/>
                <a:ext cx="417672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539640" y="3068640"/>
                <a:ext cx="43214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468360" y="3573360"/>
                <a:ext cx="2808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Rectangle 15"/>
          <p:cNvSpPr/>
          <p:nvPr/>
        </p:nvSpPr>
        <p:spPr>
          <a:xfrm>
            <a:off x="1792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4932360" y="3573360"/>
                <a:ext cx="2521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533520" y="4005360"/>
                <a:ext cx="26049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39640" y="5013360"/>
                <a:ext cx="36720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21"/>
          <p:cNvSpPr/>
          <p:nvPr/>
        </p:nvSpPr>
        <p:spPr>
          <a:xfrm>
            <a:off x="75564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4284720" y="5084640"/>
                <a:ext cx="1403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6804000" y="4149720"/>
                <a:ext cx="100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2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4"/>
              <p:cNvSpPr txBox="1"/>
              <p:nvPr/>
            </p:nvSpPr>
            <p:spPr>
              <a:xfrm>
                <a:off x="6948360" y="5734080"/>
                <a:ext cx="1152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908000" y="6165720"/>
                <a:ext cx="865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ереход к равносильной системе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539640" y="2671920"/>
                <a:ext cx="3672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4211640" y="2060640"/>
                <a:ext cx="252108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40:59Z</dcterms:created>
  <dc:creator>xx</dc:creator>
  <dc:description/>
  <dc:language>en-US</dc:language>
  <cp:lastModifiedBy>SPEEDxp</cp:lastModifiedBy>
  <dcterms:modified xsi:type="dcterms:W3CDTF">2013-02-28T07:59:11Z</dcterms:modified>
  <cp:revision>26</cp:revision>
  <dc:subject/>
  <dc:title>Слайд 1</dc:title>
</cp:coreProperties>
</file>