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DEA1B-DEB1-4C3B-ACE1-D561201A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E970-32E7-411C-B3F3-349FCFA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C467-856A-4A95-9F7C-BCED740A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E7AB-C220-44D1-9787-7AC4C877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37B8-553A-4D37-98AB-91117CF9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7C61-43F3-475A-A424-FDE29323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EB6D-94F9-4EC9-9F97-DC041EA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2A59-9429-45C8-9F1E-9900A369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08A9-D5CA-471C-9AE2-A27D15CD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AFD7-E310-4942-A276-80ECB15E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CF6C-7EC6-4977-9059-ACC5173E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E304-2F5F-405B-88D1-0C31C907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C09D-AB14-4DFA-BB53-53AB09A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2CC8-9AE8-4863-8FB7-2DBACD0B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975F-F6F4-4F29-B9AE-C73A6951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ADA1-0FC6-4AF2-8172-1283BE48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B45B-37E0-4485-B105-0C8E1EF8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F376-2079-4D2A-87AC-79E5BE08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DD30-73AB-429F-A0E2-65E25C86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B180-A8EA-4770-B54E-07587751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EF27-FC70-4264-AFC5-89E35AAC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F356-3312-418F-9F4E-603A2DD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B420-655D-4734-A78F-BD66B57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F9B1-CFB7-4549-94F6-F6C8552C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8ABA-E36E-40F5-A8CB-E34944AF9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6DFB-75E9-491E-AA3F-2FCC637CFC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понский исследователь Масару Эмото, проводя различные эксперименты с кристаллами воды, привел удивительные доказательства информационных свойств воды. За время работы он сделал более 10000 фотографий, некоторые из них опубликованы в его книга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да получила просьбу "Сделать это"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0200" y="2637000"/>
            <a:ext cx="3200400" cy="360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02160" y="2625840"/>
            <a:ext cx="3814920" cy="345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9118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да получила приказ "Сделай это!"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к влияют молитвы на воду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одопроводная вода до и после прочтения молитвы </a:t>
            </a:r>
            <a:br>
              <a:rPr sz="28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166840"/>
            <a:ext cx="7559640" cy="3449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5" descr="pub_5_25.jpg"/>
          <p:cNvPicPr/>
          <p:nvPr/>
        </p:nvPicPr>
        <p:blipFill>
          <a:blip r:embed="rId1"/>
          <a:stretch/>
        </p:blipFill>
        <p:spPr>
          <a:xfrm>
            <a:off x="1474920" y="1133640"/>
            <a:ext cx="6327720" cy="6754680"/>
          </a:xfrm>
          <a:prstGeom prst="rect">
            <a:avLst/>
          </a:prstGeom>
          <a:ln w="0">
            <a:noFill/>
          </a:ln>
        </p:spPr>
      </p:pic>
      <p:pic>
        <p:nvPicPr>
          <p:cNvPr id="125" name="Скругленный прямоугольник 6" descr=""/>
          <p:cNvPicPr/>
          <p:nvPr/>
        </p:nvPicPr>
        <p:blipFill>
          <a:blip r:embed="rId2"/>
          <a:stretch/>
        </p:blipFill>
        <p:spPr>
          <a:xfrm>
            <a:off x="2249640" y="378000"/>
            <a:ext cx="4779720" cy="712440"/>
          </a:xfrm>
          <a:prstGeom prst="rect">
            <a:avLst/>
          </a:prstGeom>
          <a:ln w="0">
            <a:noFill/>
          </a:ln>
        </p:spPr>
      </p:pic>
      <p:sp>
        <p:nvSpPr>
          <p:cNvPr id="126" name="Скругленный прямоугольник 7"/>
          <p:cNvSpPr/>
          <p:nvPr/>
        </p:nvSpPr>
        <p:spPr>
          <a:xfrm>
            <a:off x="539640" y="4668840"/>
            <a:ext cx="7858080" cy="19278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В две одинаковых баночки поместили рис. Два ученика начальной школы говорили рису слова каждый день, на протяжении месяца. В результате, рис, которому дети говорили „спасибо“ (слева) имел приятный аромат. Рис, которому дети говорили „ты — дурак“ (справа), стал черным и сгнил. Они сказали, что его запах был крайне отвратитель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ля получения фотографий микрокристаллов капельки воды помещают в 100 чашек Петри и резко охлаждают в морозильнике в течение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часов. Затем они помещаются в специальный прибор, который состоит из холодильной камеры и микроскопа с подключенным к нему фотоаппаратом. При температуре -5 градусов С в темном поле микроскопа под увеличением 200-500 раз рассматриваются образцы и делаются снимки наиболее характерных кристаллов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лаборатории были исследованы образцы воды из различных водных источников всего мира. Вода подвергалась различным видам воздействия такие как музыка, изображения, электромагнитное излучение от телевизора, мысли одного человека и групп людей, молитвы, напечатанные и произнесенные слова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6913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Это кристаллы воды из последнего чистого источника Японии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688000" cy="439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688000" cy="4392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835280" y="141300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ник горы Кука, Новая Зеланд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718160" cy="49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рктический ледник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1552680"/>
            <a:ext cx="5185080" cy="4037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ристалл воды из реки Йодо, протекающей через крупнейшие города Япони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24000" y="1593720"/>
            <a:ext cx="4969080" cy="4472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ак выглядит кристалл воды, которой сказали "Спасибо"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1546200"/>
            <a:ext cx="5616720" cy="430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А это воде показали имя Адольф Гитлер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904000" cy="4998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28:30Z</dcterms:created>
  <dc:creator>rna</dc:creator>
  <dc:description/>
  <dc:language>en-US</dc:language>
  <cp:lastModifiedBy>rna</cp:lastModifiedBy>
  <dcterms:modified xsi:type="dcterms:W3CDTF">2009-02-16T08:05:14Z</dcterms:modified>
  <cp:revision>5</cp:revision>
  <dc:subject/>
  <dc:title>Это кристаллы воды из последнего чистого источника Японии </dc:title>
</cp:coreProperties>
</file>