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7E791-2C04-432C-AF58-1CD0BC9A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36903-0E15-41AB-AF3A-55E3A96C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145F0-8150-4737-B8C7-A2F447F78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3E207-A3D9-4F62-89F3-B1B054A0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B1F7-4876-4D8C-8CBA-EC58071D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A3F8-D3D8-4096-A451-B5E6C177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DD00-C374-40B6-BC60-6872947E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8E2E-C84D-4B8B-A94D-F6A87089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93E2-5EDC-4CF6-983B-75149748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2460-2353-4CE0-91CF-7486E4A2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C46E-13D5-4C5A-AD82-D18E9BEC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FFA21-1626-4E1F-B903-089A7F63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0841-2983-4506-A5E4-DED51AD2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F3C8-B834-4198-929C-BFAB9C31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E101-E7B1-43A3-9459-895731B8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2B36-D248-40D5-B3B0-4BF56338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737B-B93A-4CAD-BF2E-1D6757D82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DD0D0-7EDC-47D9-AF96-6C4C3F87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AE0D5-4CEC-4D83-B634-D28BD373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5BE68-4335-454C-8ABC-42D813E5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BFF49-769E-440C-926D-8A0340B9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360B7-4D74-441B-8077-EE9B5227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75E0D-230C-4C2D-AC0D-F44E05EA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49074-C721-4504-B616-D8B75AC1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4906-D1E9-4A7E-AA90-F654B35EDC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C170-4E03-4238-B89E-6DDBBF076B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Японский исследователь Масару Эмото, проводя различные эксперименты с кристаллами воды, привел удивительные доказательства информационных свойств воды. За время работы он сделал более 10000 фотографий, некоторые из них опубликованы в его книгах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280" y="9079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ода получила просьбу "Сделать это"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0200" y="2637000"/>
            <a:ext cx="3200400" cy="3600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502160" y="2625840"/>
            <a:ext cx="3814920" cy="3458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932360" y="91188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ода получила приказ "Сделай это!"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79311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Так влияют молитвы на воду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одопроводная вода до и после прочтения молитвы </a:t>
            </a:r>
            <a:br>
              <a:rPr sz="28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360" y="2166840"/>
            <a:ext cx="7559640" cy="34498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Рисунок 5" descr="pub_5_25.jpg"/>
          <p:cNvPicPr/>
          <p:nvPr/>
        </p:nvPicPr>
        <p:blipFill>
          <a:blip r:embed="rId1"/>
          <a:stretch/>
        </p:blipFill>
        <p:spPr>
          <a:xfrm>
            <a:off x="1474920" y="1133640"/>
            <a:ext cx="6327720" cy="6754680"/>
          </a:xfrm>
          <a:prstGeom prst="rect">
            <a:avLst/>
          </a:prstGeom>
          <a:ln w="0">
            <a:noFill/>
          </a:ln>
        </p:spPr>
      </p:pic>
      <p:pic>
        <p:nvPicPr>
          <p:cNvPr id="125" name="Скругленный прямоугольник 6" descr=""/>
          <p:cNvPicPr/>
          <p:nvPr/>
        </p:nvPicPr>
        <p:blipFill>
          <a:blip r:embed="rId2"/>
          <a:stretch/>
        </p:blipFill>
        <p:spPr>
          <a:xfrm>
            <a:off x="2249640" y="378000"/>
            <a:ext cx="4779720" cy="712440"/>
          </a:xfrm>
          <a:prstGeom prst="rect">
            <a:avLst/>
          </a:prstGeom>
          <a:ln w="0">
            <a:noFill/>
          </a:ln>
        </p:spPr>
      </p:pic>
      <p:sp>
        <p:nvSpPr>
          <p:cNvPr id="126" name="Скругленный прямоугольник 7"/>
          <p:cNvSpPr/>
          <p:nvPr/>
        </p:nvSpPr>
        <p:spPr>
          <a:xfrm>
            <a:off x="539640" y="4668840"/>
            <a:ext cx="7858080" cy="192780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В две одинаковых баночки поместили рис. Два ученика начальной школы говорили рису слова каждый день, на протяжении месяца. В результате, рис, которому дети говорили „спасибо“ (слева) имел приятный аромат. Рис, которому дети говорили „ты — дурак“ (справа), стал черным и сгнил. Они сказали, что его запах был крайне отвратитель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Для получения фотографий микрокристаллов капельки воды помещают в 100 чашек Петри и резко охлаждают в морозильнике в течение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 часов. Затем они помещаются в специальный прибор, который состоит из холодильной камеры и микроскопа с подключенным к нему фотоаппаратом. При температуре -5 градусов С в темном поле микроскопа под увеличением 200-500 раз рассматриваются образцы и делаются снимки наиболее характерных кристаллов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 лаборатории были исследованы образцы воды из различных водных источников всего мира. Вода подвергалась различным видам воздействия такие как музыка, изображения, электромагнитное излучение от телевизора, мысли одного человека и групп людей, молитвы, напечатанные и произнесенные слова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7640" y="333000"/>
            <a:ext cx="66913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Это кристаллы воды из последнего чистого источника Японии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835280" y="1413000"/>
            <a:ext cx="5688000" cy="4392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5688000" cy="4392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835280" y="1413000"/>
            <a:ext cx="5688000" cy="4392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Ледник горы Кука, Новая Зеландия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718160" cy="4967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Арктический ледник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08000" y="1552680"/>
            <a:ext cx="5185080" cy="4037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Кристалл воды из реки Йодо, протекающей через крупнейшие города Японии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124000" y="1593720"/>
            <a:ext cx="4969080" cy="4472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Так выглядит кристалл воды, которой сказали "Спасибо"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79640" y="1546200"/>
            <a:ext cx="5616720" cy="4302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А это воде показали имя Адольф Гитлер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5904000" cy="4998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3:28:30Z</dcterms:created>
  <dc:creator>rna</dc:creator>
  <dc:description/>
  <dc:language>en-US</dc:language>
  <cp:lastModifiedBy>rna</cp:lastModifiedBy>
  <dcterms:modified xsi:type="dcterms:W3CDTF">2009-02-16T08:05:14Z</dcterms:modified>
  <cp:revision>5</cp:revision>
  <dc:subject/>
  <dc:title>Это кристаллы воды из последнего чистого источника Японии </dc:title>
</cp:coreProperties>
</file>