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2ECF-C344-4952-9853-8FD034FA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CA83-9F0F-4073-8714-6E749D56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57E1-F482-4606-B5FE-6712FCFB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D393-4596-4A6C-A2A3-4AFE9EEAF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26D-873B-44D5-B22D-4ECC8A529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9E67-F8D2-4365-8B6E-45694FFE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51F-6877-4A19-B466-D4919A18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5F4-7B7A-4820-A3B7-192A0CC87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DEC-2CA9-45CA-9EEE-34360F7D4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3C18-2E18-4BE7-B030-9B5B3B38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EDC9-03C1-4D5C-8F8D-06F7F5AA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7076-5891-45CF-B1A4-00CDF900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63822-DCC9-46F4-AC83-5446D592C4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5420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Тема урока: 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Calibri"/>
              </a:rPr>
              <a:t>«Системы уравнений. Основные способы их решения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2143080"/>
            <a:ext cx="8229600" cy="39830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030a0"/>
                </a:solidFill>
                <a:latin typeface="Calibri"/>
              </a:rPr>
              <a:t>Цель урока: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Обобщить все способы              решения систем уравн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ff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Основные способ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62864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Метод подстановк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828720" y="1925640"/>
                <a:ext cx="117324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" name=""/>
          <p:cNvSpPr/>
          <p:nvPr/>
        </p:nvSpPr>
        <p:spPr>
          <a:xfrm>
            <a:off x="2232000" y="214632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: (1;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59380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Метод алгебраического слож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819000" y="2989440"/>
                <a:ext cx="129564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2303640" y="326232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: (-1;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/>
          <p:nvPr/>
        </p:nvSpPr>
        <p:spPr>
          <a:xfrm>
            <a:off x="719280" y="374652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Графический способ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874800" y="4102200"/>
                <a:ext cx="109692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"/>
          <p:cNvSpPr/>
          <p:nvPr/>
        </p:nvSpPr>
        <p:spPr>
          <a:xfrm>
            <a:off x="2376360" y="448632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: 3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5149800"/>
            <a:ext cx="69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Метод введения переменн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747720" y="5619600"/>
                <a:ext cx="21510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y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alibri"/>
              </a:rPr>
              <a:t>Система симметрических уравнений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2619360" y="2077920"/>
                <a:ext cx="76536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1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07960" y="2908440"/>
                <a:ext cx="226368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y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09760" y="3868560"/>
                <a:ext cx="1577880" cy="64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v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v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28480" y="4861080"/>
                <a:ext cx="84312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=</m:t>
                            </m:r>
                            <m:r>
                              <m:t xml:space="preserve">8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96800" y="1901880"/>
                <a:ext cx="173520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2305080" y="214632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076640"/>
            <a:ext cx="3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.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506680" y="3949560"/>
                <a:ext cx="52848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u</m:t>
                            </m:r>
                            <m:r>
                              <m:t xml:space="preserve">=</m:t>
                            </m:r>
                            <m:r>
                              <m:t xml:space="preserve">6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943280" y="508464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: (4;2), (2;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solidFill>
            <a:srgbClr val="eeece1"/>
          </a:solidFill>
          <a:ln w="9360">
            <a:solidFill>
              <a:srgbClr val="1f497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Решение систем, когда одно из уравнений этой системы есть однородное уравнение 2-й степ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42880" y="1916280"/>
                <a:ext cx="1689120" cy="73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232000" y="2168640"/>
                <a:ext cx="5619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533520" y="2725560"/>
                <a:ext cx="168408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x</m:t>
                                        </m:r>
                                      </m:num>
                                      <m:den>
                                        <m:r>
                                          <m:t xml:space="preserve">y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y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132000" y="3068640"/>
                <a:ext cx="3715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y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2268360" y="3105000"/>
            <a:ext cx="9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550800" y="3946680"/>
                <a:ext cx="122868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0" y="3062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225520" y="3840120"/>
                <a:ext cx="8985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73120" y="4859280"/>
                <a:ext cx="124452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2376360" y="5697360"/>
            <a:ext cx="165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: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2951280" y="5749920"/>
                <a:ext cx="79992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951280" y="5999040"/>
                <a:ext cx="149544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dce6f2"/>
          </a:solidFill>
          <a:ln w="93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Метод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разложения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на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множите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57280" y="1725480"/>
                <a:ext cx="18032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65200" y="2697120"/>
                <a:ext cx="245916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xy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92200" y="3639960"/>
                <a:ext cx="1871640" cy="14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[</m:t>
                        </m:r>
                      </m:e>
                      <m:e/>
                    </m:eqAr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y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1979640" y="509904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: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556000" y="5135400"/>
                <a:ext cx="134280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;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357960"/>
          </a:xfrm>
          <a:prstGeom prst="rect">
            <a:avLst/>
          </a:prstGeom>
          <a:solidFill>
            <a:srgbClr val="d7e4bd"/>
          </a:solidFill>
          <a:ln w="9360">
            <a:solidFill>
              <a:srgbClr val="953735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Вывод:</a:t>
            </a:r>
            <a:br>
              <a:rPr sz="3600"/>
            </a:br>
            <a:r>
              <a:rPr b="0" lang="en-US" sz="3600" spc="-1" strike="noStrike">
                <a:solidFill>
                  <a:srgbClr val="0070c0"/>
                </a:solidFill>
                <a:latin typeface="Calibri"/>
              </a:rPr>
              <a:t>Если в процессе решения системы применяли неравносильные преобразования(возведение в квадрат, умножение уравнений, системы и т.д.), которые привели к расширению области определения какого – либо уравнения системы, то все найденные решения следует провери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6:53:41Z</dcterms:created>
  <dc:creator>GEG</dc:creator>
  <dc:description/>
  <dc:language>en-US</dc:language>
  <cp:lastModifiedBy>Dimanadmin</cp:lastModifiedBy>
  <dcterms:modified xsi:type="dcterms:W3CDTF">2011-03-28T06:09:36Z</dcterms:modified>
  <cp:revision>17</cp:revision>
  <dc:subject/>
  <dc:title>Тема урока:  «Системы уравнений. Основные способы их решения»</dc:title>
</cp:coreProperties>
</file>