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02A3-3432-4CD6-AD05-AE76C5459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C738-BDC1-4D80-9831-0D8578A8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8D54-8D55-443C-BA6C-78349589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8326-C363-4B0B-A0B4-F7F9017E6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90E-E13E-4786-BA44-90087928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4166-ECED-49B9-A53A-21E2A6E1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C8A1-5F59-4163-884B-D2266EA9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12A-9CF0-4C5D-95D9-DA78A3C7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1F8A-C731-40D3-8BDE-BD3890184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5B1-D95C-4552-B774-1C1212C1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C89F-6726-4210-ADA1-3D1217F7D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7393-F96C-4212-BDBC-F2197A73D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0390-4C98-45B1-BA95-E38F95477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Тема урока: 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«Системы уравнений. Основные способы их реше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Цель урока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бобщить все способы              решения систем уравн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Основные спосо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628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Метод подстанов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28720" y="1925640"/>
                <a:ext cx="11732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232000" y="214632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(1;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59380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тод алгебраического слож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19000" y="2989440"/>
                <a:ext cx="12956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303640" y="326232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(-1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719280" y="374652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Графический способ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74800" y="4102200"/>
                <a:ext cx="10969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376360" y="448632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3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14980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Метод введения переменн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47720" y="5619600"/>
                <a:ext cx="2151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Система симметрических уравн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619360" y="2077920"/>
                <a:ext cx="765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07960" y="2908440"/>
                <a:ext cx="2263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09760" y="3868560"/>
                <a:ext cx="157788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8480" y="4861080"/>
                <a:ext cx="8431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96800" y="1901880"/>
                <a:ext cx="17352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305080" y="214632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07664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.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06680" y="3949560"/>
                <a:ext cx="528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943280" y="508464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(4;2), (2;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solidFill>
            <a:srgbClr val="eeece1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Решение систем, когда одно из уравнений этой системы есть однородное уравнение 2-й степ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42880" y="1916280"/>
                <a:ext cx="168912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232000" y="2168640"/>
                <a:ext cx="561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33520" y="2725560"/>
                <a:ext cx="168408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132000" y="3068640"/>
                <a:ext cx="371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268360" y="3105000"/>
            <a:ext cx="9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50800" y="3946680"/>
                <a:ext cx="12286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225520" y="3840120"/>
                <a:ext cx="8985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73120" y="4859280"/>
                <a:ext cx="12445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376360" y="569736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51280" y="5749920"/>
                <a:ext cx="7999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51280" y="5999040"/>
                <a:ext cx="14954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Мето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разложени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н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множ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57280" y="1725480"/>
                <a:ext cx="18032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65200" y="2697120"/>
                <a:ext cx="24591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92200" y="3639960"/>
                <a:ext cx="18716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979640" y="509904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56000" y="5135400"/>
                <a:ext cx="134280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57960"/>
          </a:xfrm>
          <a:prstGeom prst="rect">
            <a:avLst/>
          </a:prstGeom>
          <a:solidFill>
            <a:srgbClr val="d7e4bd"/>
          </a:solidFill>
          <a:ln w="9360">
            <a:solidFill>
              <a:srgbClr val="95373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Вывод:</a:t>
            </a: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Если в процессе решения системы применяли неравносильные преобразования(возведение в квадрат, умножение уравнений, системы и т.д.), которые привели к расширению области определения какого – либо уравнения системы, то все найденные решения следует провери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6:53:41Z</dcterms:created>
  <dc:creator>GEG</dc:creator>
  <dc:description/>
  <dc:language>en-US</dc:language>
  <cp:lastModifiedBy>Dimanadmin</cp:lastModifiedBy>
  <dcterms:modified xsi:type="dcterms:W3CDTF">2011-03-28T06:09:36Z</dcterms:modified>
  <cp:revision>17</cp:revision>
  <dc:subject/>
  <dc:title>Тема урока:  «Системы уравнений. Основные способы их решения»</dc:title>
</cp:coreProperties>
</file>