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10.jpeg" ContentType="image/jpeg"/>
  <Override PartName="/ppt/media/image28.png" ContentType="image/png"/>
  <Override PartName="/ppt/media/image25.png" ContentType="image/png"/>
  <Override PartName="/ppt/media/image5.jpeg" ContentType="image/jpeg"/>
  <Override PartName="/ppt/media/image7.wmf" ContentType="image/x-wmf"/>
  <Override PartName="/ppt/media/image4.jpeg" ContentType="image/jpeg"/>
  <Override PartName="/ppt/media/image8.wmf" ContentType="image/x-wmf"/>
  <Override PartName="/ppt/media/image12.jpeg" ContentType="image/jpeg"/>
  <Override PartName="/ppt/media/image9.png" ContentType="image/png"/>
  <Override PartName="/ppt/media/image23.png" ContentType="image/png"/>
  <Override PartName="/ppt/media/image13.jpeg" ContentType="image/jpeg"/>
  <Override PartName="/ppt/media/applause.wav" ContentType="audio/x-wav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4.jpeg" ContentType="image/jpe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38BC8-C186-411C-9F00-5DC87A656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A37C8-4FB5-4CF3-8751-DD5F24C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AD477-F070-4622-A37E-C35B11247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CD00A-F611-4DE0-B5B1-432BA25EF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78D18B-BF8B-4BEE-BDE1-381E736E0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16E23-75B4-46F2-849D-B192ADBF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AA93D9-F547-49F9-A5D6-1450FD0C8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6DE4B-BA63-4854-9BE8-7F0A1DB5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3756EE-1AA5-43A4-8E64-F9D7B01F8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84BB1E-535F-4CF5-9EEE-500D9D1EE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935017-A1D8-441A-A57E-39F90E5C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F4E72-7AD3-453A-BBAD-45CA12FF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6BD54-9942-4FE5-927F-34A7D009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8B868-88FA-452D-9494-A0417C8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6839BA-6897-4774-BCF4-B1B8B878A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B37DC3-92AD-49FF-9EC8-F26BF21AA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77100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98640" y="179028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143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77100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98640" y="4079160"/>
            <a:ext cx="250236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267978-85A2-4B69-A40F-4468683F1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E0ABC-F5AD-4A87-9229-787A635F0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CBE69-4F34-4077-915C-37F72B8C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85CDB-7883-4945-91D9-4142AA80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90040" y="266400"/>
            <a:ext cx="83250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8A37-6CE3-4495-8A5E-A25A4929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DBEC3-4F61-4BF4-B7D5-7C2BBD57F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25680" y="407916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C4FF-F59D-48B3-971E-AEF25D87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300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25680" y="1790280"/>
            <a:ext cx="37926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43000" y="4079160"/>
            <a:ext cx="7772400" cy="208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973A9-4E55-46D5-B1FF-6E27E5D4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44680" cy="685800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3366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620640" y="1447920"/>
            <a:ext cx="8523360" cy="75960"/>
            <a:chOff x="620640" y="1447920"/>
            <a:chExt cx="8523360" cy="75960"/>
          </a:xfrm>
        </p:grpSpPr>
        <p:sp>
          <p:nvSpPr>
            <p:cNvPr id="2" name=""/>
            <p:cNvSpPr/>
            <p:nvPr/>
          </p:nvSpPr>
          <p:spPr>
            <a:xfrm>
              <a:off x="620640" y="1523880"/>
              <a:ext cx="8523360" cy="0"/>
            </a:xfrm>
            <a:prstGeom prst="line">
              <a:avLst/>
            </a:prstGeom>
            <a:ln cap="sq" w="2556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0640" y="1447920"/>
              <a:ext cx="8523360" cy="0"/>
            </a:xfrm>
            <a:prstGeom prst="line">
              <a:avLst/>
            </a:prstGeom>
            <a:ln cap="sq" w="76320">
              <a:solidFill>
                <a:srgbClr val="99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90040" y="266400"/>
            <a:ext cx="8325000" cy="1104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43000" y="1790280"/>
            <a:ext cx="7772400" cy="438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F64-3698-4A63-B77E-37954B11ED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2560" cy="6858000"/>
            <a:chOff x="0" y="0"/>
            <a:chExt cx="9142560" cy="685800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444680" cy="685800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3366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04800" y="3619440"/>
              <a:ext cx="8523360" cy="76320"/>
              <a:chOff x="604800" y="3619440"/>
              <a:chExt cx="8523360" cy="76320"/>
            </a:xfrm>
          </p:grpSpPr>
          <p:sp>
            <p:nvSpPr>
              <p:cNvPr id="48" name=""/>
              <p:cNvSpPr/>
              <p:nvPr/>
            </p:nvSpPr>
            <p:spPr>
              <a:xfrm>
                <a:off x="604800" y="3695760"/>
                <a:ext cx="8523360" cy="0"/>
              </a:xfrm>
              <a:prstGeom prst="line">
                <a:avLst/>
              </a:prstGeom>
              <a:ln cap="sq" w="2556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04800" y="3619440"/>
                <a:ext cx="8523360" cy="0"/>
              </a:xfrm>
              <a:prstGeom prst="line">
                <a:avLst/>
              </a:prstGeom>
              <a:ln cap="sq" w="76320">
                <a:solidFill>
                  <a:srgbClr val="99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609480" y="1523880"/>
              <a:ext cx="8533080" cy="609840"/>
            </a:xfrm>
            <a:prstGeom prst="rect">
              <a:avLst/>
            </a:prstGeom>
            <a:gradFill rotWithShape="0">
              <a:gsLst>
                <a:gs pos="0">
                  <a:srgbClr val="003366"/>
                </a:gs>
                <a:gs pos="100000">
                  <a:srgbClr val="3366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4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5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142D-7919-4248-82E6-7353259963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6"/>
          </p:nvPr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96040" algn="ctr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3438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792080" algn="ctr">
              <a:spcBef>
                <a:spcPts val="799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1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11.xml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4.jpeg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6.xml"/><Relationship Id="rId4" Type="http://schemas.openxmlformats.org/officeDocument/2006/relationships/image" Target="../media/image4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47960" y="2057400"/>
            <a:ext cx="4267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На улицах     </a:t>
            </a:r>
            <a:r>
              <a:rPr b="1" i="1" lang="en-US" sz="6000" spc="-1" strike="noStrike">
                <a:solidFill>
                  <a:srgbClr val="999933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123720" y="396216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a_LatinoExp"/>
              </a:rPr>
              <a:t>1.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3800" spc="-1" strike="noStrike" u="sng">
                <a:solidFill>
                  <a:srgbClr val="333399"/>
                </a:solidFill>
                <a:uFillTx/>
                <a:latin typeface="Sylfaen"/>
              </a:rPr>
              <a:t>Виды дорог и особенности их перехода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Sylfae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cc"/>
                </a:solidFill>
                <a:uFillTx/>
                <a:latin typeface="a_LatinoExp"/>
              </a:rPr>
              <a:t>2.</a:t>
            </a:r>
            <a:r>
              <a:rPr b="0" lang="en-US" sz="4000" spc="-1" strike="noStrike" u="sng">
                <a:solidFill>
                  <a:srgbClr val="9900ff"/>
                </a:solidFill>
                <a:uFillTx/>
                <a:latin typeface="Tahoma"/>
              </a:rPr>
              <a:t> </a:t>
            </a:r>
            <a:r>
              <a:rPr b="1" lang="en-US" sz="3800" spc="-1" strike="noStrike" u="sng">
                <a:solidFill>
                  <a:srgbClr val="ff0000"/>
                </a:solidFill>
                <a:uFillTx/>
                <a:latin typeface="Sylfaen"/>
              </a:rPr>
              <a:t>Игра</a:t>
            </a: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</a:rPr>
              <a:t> </a:t>
            </a:r>
            <a:r>
              <a:rPr b="1" lang="en-US" sz="3800" spc="-1" strike="noStrike" u="sng">
                <a:solidFill>
                  <a:srgbClr val="333399"/>
                </a:solidFill>
                <a:uFillTx/>
                <a:latin typeface="Sylfaen"/>
              </a:rPr>
              <a:t>«Дорожные знаки».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" y="3809880"/>
            <a:ext cx="205740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610160" y="2743200"/>
            <a:ext cx="48769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  </a:t>
            </a:r>
            <a:r>
              <a:rPr b="1" i="1" lang="en-US" sz="5800" spc="-1" strike="noStrike">
                <a:solidFill>
                  <a:srgbClr val="999933"/>
                </a:solidFill>
                <a:latin typeface="Garamond"/>
              </a:rPr>
              <a:t>и дорогах     </a:t>
            </a:r>
            <a:r>
              <a:rPr b="1" i="1" lang="en-US" sz="6000" spc="-1" strike="noStrike">
                <a:solidFill>
                  <a:srgbClr val="999933"/>
                </a:solidFill>
                <a:latin typeface="Garamond"/>
              </a:rPr>
              <a:t> </a:t>
            </a:r>
            <a:r>
              <a:rPr b="0" lang="en-US" sz="5800" spc="-1" strike="noStrike">
                <a:solidFill>
                  <a:srgbClr val="ffcc66"/>
                </a:solidFill>
                <a:latin typeface="Garamond"/>
              </a:rPr>
              <a:t> 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19520" y="5105520"/>
            <a:ext cx="60958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09680" y="6172200"/>
            <a:ext cx="58676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3886200"/>
            <a:ext cx="60962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95480" y="3987720"/>
            <a:ext cx="60199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39960" y="6324480"/>
            <a:ext cx="4222800" cy="3128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Автор игры: Крылова О.Н.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9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73232E-006 L -0.23333 0.00555 E">
                                      <p:cBhvr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295280" y="1676520"/>
            <a:ext cx="243864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Загородна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>
            <a:hlinkClick r:id="rId3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228600" y="2743200"/>
            <a:ext cx="4495680" cy="388620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4876920" y="1600200"/>
            <a:ext cx="4038480" cy="4572000"/>
          </a:xfrm>
          <a:prstGeom prst="rect">
            <a:avLst/>
          </a:prstGeom>
          <a:blipFill rotWithShape="0">
            <a:blip r:embed="rId5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Переходить загородную дорогу следует так: </a:t>
            </a:r>
            <a:r>
              <a:rPr b="1" i="1" lang="en-US" sz="2300" spc="-1" strike="noStrike">
                <a:solidFill>
                  <a:srgbClr val="ff0066"/>
                </a:solidFill>
                <a:latin typeface="Arial Narrow"/>
              </a:rPr>
              <a:t>остановиться перед ней, сказав себе: «Будь осторожен!»,</a:t>
            </a: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 имея в виду, что машина может появиться с любой стороны, в том числе из-за поворотов, которые всегда есть на загородной дороге. Поэтому надо смотреть вокруг (дорога может быть извилистой), потом налево, направо и, убедившись в безопасности, контролируя ситуацию, переходить дорогу, по возможности не останавливаясь посередине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85800" y="457200"/>
            <a:ext cx="7921800" cy="1150920"/>
          </a:xfrm>
          <a:custGeom>
            <a:avLst/>
            <a:gdLst>
              <a:gd name="textAreaLeft" fmla="*/ 158760 w 7921800"/>
              <a:gd name="textAreaRight" fmla="*/ 7763040 w 7921800"/>
              <a:gd name="textAreaTop" fmla="*/ 158760 h 1150920"/>
              <a:gd name="textAreaBottom" fmla="*/ 992160 h 1150920"/>
            </a:gdLst>
            <a:ahLst/>
            <a:rect l="textAreaLeft" t="textAreaTop" r="textAreaRight" b="textAreaBottom"/>
            <a:pathLst>
              <a:path w="148633" h="21600">
                <a:moveTo>
                  <a:pt x="0" y="0"/>
                </a:moveTo>
                <a:lnTo>
                  <a:pt x="148633" y="0"/>
                </a:lnTo>
                <a:lnTo>
                  <a:pt x="148633" y="21600"/>
                </a:lnTo>
                <a:lnTo>
                  <a:pt x="0" y="21600"/>
                </a:lnTo>
                <a:close/>
              </a:path>
              <a:path fill="lightenLess" w="148633" h="21600">
                <a:moveTo>
                  <a:pt x="0" y="0"/>
                </a:moveTo>
                <a:lnTo>
                  <a:pt x="148633" y="0"/>
                </a:lnTo>
                <a:lnTo>
                  <a:pt x="145652" y="2982"/>
                </a:lnTo>
                <a:lnTo>
                  <a:pt x="2982" y="2982"/>
                </a:lnTo>
                <a:close/>
              </a:path>
              <a:path fill="darken" w="148633" h="21600">
                <a:moveTo>
                  <a:pt x="148633" y="0"/>
                </a:moveTo>
                <a:lnTo>
                  <a:pt x="148633" y="21600"/>
                </a:lnTo>
                <a:lnTo>
                  <a:pt x="145652" y="18618"/>
                </a:lnTo>
                <a:lnTo>
                  <a:pt x="145652" y="2982"/>
                </a:lnTo>
                <a:close/>
              </a:path>
              <a:path fill="darkenLess" w="148633" h="21600">
                <a:moveTo>
                  <a:pt x="148633" y="21600"/>
                </a:moveTo>
                <a:lnTo>
                  <a:pt x="0" y="21600"/>
                </a:lnTo>
                <a:lnTo>
                  <a:pt x="2982" y="18618"/>
                </a:lnTo>
                <a:lnTo>
                  <a:pt x="145652" y="18618"/>
                </a:lnTo>
                <a:close/>
              </a:path>
              <a:path fill="lighten" w="148633" h="21600">
                <a:moveTo>
                  <a:pt x="0" y="21600"/>
                </a:moveTo>
                <a:lnTo>
                  <a:pt x="0" y="0"/>
                </a:lnTo>
                <a:lnTo>
                  <a:pt x="2982" y="2982"/>
                </a:lnTo>
                <a:lnTo>
                  <a:pt x="2982" y="18618"/>
                </a:lnTo>
                <a:close/>
              </a:path>
            </a:pathLst>
          </a:custGeom>
          <a:solidFill>
            <a:srgbClr val="ccffff">
              <a:alpha val="78000"/>
            </a:srgbClr>
          </a:solidFill>
          <a:ln w="47520">
            <a:solidFill>
              <a:srgbClr val="000080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851040" y="1797120"/>
            <a:ext cx="2346120" cy="417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487680" y="208584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20960" y="2336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927680" y="208584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296040" y="208584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87680" y="338292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927680" y="338292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96040" y="338292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487680" y="4678200"/>
            <a:ext cx="1152720" cy="1152720"/>
          </a:xfrm>
          <a:custGeom>
            <a:avLst/>
            <a:gdLst>
              <a:gd name="textAreaLeft" fmla="*/ 173520 w 1152720"/>
              <a:gd name="textAreaRight" fmla="*/ 979200 w 115272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18345" y="18345"/>
                </a:lnTo>
                <a:lnTo>
                  <a:pt x="18345" y="3255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3255" y="18345"/>
                </a:lnTo>
                <a:lnTo>
                  <a:pt x="18345" y="18345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45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927680" y="467820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296040" y="4678200"/>
            <a:ext cx="1152360" cy="1152720"/>
          </a:xfrm>
          <a:custGeom>
            <a:avLst/>
            <a:gdLst>
              <a:gd name="textAreaLeft" fmla="*/ 173520 w 1152360"/>
              <a:gd name="textAreaRight" fmla="*/ 978840 w 1152360"/>
              <a:gd name="textAreaTop" fmla="*/ 173520 h 1152720"/>
              <a:gd name="textAreaBottom" fmla="*/ 979200 h 115272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18345" y="3255"/>
                </a:lnTo>
                <a:lnTo>
                  <a:pt x="3255" y="3255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18345" y="18352"/>
                </a:lnTo>
                <a:lnTo>
                  <a:pt x="18345" y="3255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3255" y="18352"/>
                </a:lnTo>
                <a:lnTo>
                  <a:pt x="18345" y="18352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3255" y="3255"/>
                </a:lnTo>
                <a:lnTo>
                  <a:pt x="3255" y="18352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168880" y="2260440"/>
            <a:ext cx="609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6540480" y="2260440"/>
            <a:ext cx="685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72096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5168880" y="363204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540480" y="363204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797280" y="4927680"/>
            <a:ext cx="6094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1688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540480" y="4927680"/>
            <a:ext cx="6858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762120"/>
            <a:ext cx="739116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38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хо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579680" y="6222960"/>
            <a:ext cx="3792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берите номер вопроса и щёлкнит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левой клавишей мыши по циф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2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3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4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5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6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5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checkerboard(down)" transition="out">
                                      <p:cBhvr additive="repl">
                                        <p:cTn id="3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rId3" action="ppaction://hlinksldjump"/>
          </p:cNvPr>
          <p:cNvSpPr/>
          <p:nvPr/>
        </p:nvSpPr>
        <p:spPr>
          <a:xfrm>
            <a:off x="6045120" y="6172200"/>
            <a:ext cx="2870280" cy="433440"/>
          </a:xfrm>
          <a:custGeom>
            <a:avLst/>
            <a:gdLst>
              <a:gd name="textAreaLeft" fmla="*/ 59400 w 2870280"/>
              <a:gd name="textAreaRight" fmla="*/ 2810880 w 287028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2936" h="21600">
                <a:moveTo>
                  <a:pt x="0" y="0"/>
                </a:moveTo>
                <a:lnTo>
                  <a:pt x="142936" y="0"/>
                </a:lnTo>
                <a:lnTo>
                  <a:pt x="142936" y="21600"/>
                </a:lnTo>
                <a:lnTo>
                  <a:pt x="0" y="21600"/>
                </a:lnTo>
                <a:close/>
              </a:path>
              <a:path fill="lightenLess" w="142936" h="21600">
                <a:moveTo>
                  <a:pt x="0" y="0"/>
                </a:moveTo>
                <a:lnTo>
                  <a:pt x="142936" y="0"/>
                </a:lnTo>
                <a:lnTo>
                  <a:pt x="139976" y="2961"/>
                </a:lnTo>
                <a:lnTo>
                  <a:pt x="2961" y="2961"/>
                </a:lnTo>
                <a:close/>
              </a:path>
              <a:path fill="darken" w="142936" h="21600">
                <a:moveTo>
                  <a:pt x="142936" y="0"/>
                </a:moveTo>
                <a:lnTo>
                  <a:pt x="142936" y="21600"/>
                </a:lnTo>
                <a:lnTo>
                  <a:pt x="139976" y="18639"/>
                </a:lnTo>
                <a:lnTo>
                  <a:pt x="139976" y="2961"/>
                </a:lnTo>
                <a:close/>
              </a:path>
              <a:path fill="darkenLess" w="142936" h="21600">
                <a:moveTo>
                  <a:pt x="142936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9976" y="18639"/>
                </a:lnTo>
                <a:close/>
              </a:path>
              <a:path fill="lighten" w="142936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153280" y="533520"/>
            <a:ext cx="304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3880" y="2819520"/>
            <a:ext cx="73915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Дорога с односторонним движением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Знак говорит водителям автомобилей и велосипедистам, что на этом участке дороги можно двигаться только в одном направлении. Разворачиваться и ехать в обратном направлении, навстречу движению, нельзя. Это может привести к дорожному происшествию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525840" y="2814480"/>
            <a:ext cx="3141720" cy="31593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382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383" dur="500" autoRev="1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7.40741E-007 L -0.29791 -0.28333 E">
                                      <p:cBhvr>
                                        <p:cTn id="387" dur="1000" fill="hold"/>
                                        <p:tgtEl>
                                          <p:spTgt spid="2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9" dur="1000" fill="hold"/>
                                        <p:tgtEl>
                                          <p:spTgt spid="21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>
            <a:hlinkClick r:id="rId3" action="ppaction://hlinksldjump"/>
          </p:cNvPr>
          <p:cNvSpPr/>
          <p:nvPr/>
        </p:nvSpPr>
        <p:spPr>
          <a:xfrm>
            <a:off x="6083280" y="6172200"/>
            <a:ext cx="2832120" cy="433440"/>
          </a:xfrm>
          <a:custGeom>
            <a:avLst/>
            <a:gdLst>
              <a:gd name="textAreaLeft" fmla="*/ 59400 w 2832120"/>
              <a:gd name="textAreaRight" fmla="*/ 2772720 w 28321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036" h="21600">
                <a:moveTo>
                  <a:pt x="0" y="0"/>
                </a:moveTo>
                <a:lnTo>
                  <a:pt x="141036" y="0"/>
                </a:lnTo>
                <a:lnTo>
                  <a:pt x="141036" y="21600"/>
                </a:lnTo>
                <a:lnTo>
                  <a:pt x="0" y="21600"/>
                </a:lnTo>
                <a:close/>
              </a:path>
              <a:path fill="lightenLess" w="141036" h="21600">
                <a:moveTo>
                  <a:pt x="0" y="0"/>
                </a:moveTo>
                <a:lnTo>
                  <a:pt x="141036" y="0"/>
                </a:lnTo>
                <a:lnTo>
                  <a:pt x="138075" y="2961"/>
                </a:lnTo>
                <a:lnTo>
                  <a:pt x="2961" y="2961"/>
                </a:lnTo>
                <a:close/>
              </a:path>
              <a:path fill="darken" w="141036" h="21600">
                <a:moveTo>
                  <a:pt x="141036" y="0"/>
                </a:moveTo>
                <a:lnTo>
                  <a:pt x="141036" y="21600"/>
                </a:lnTo>
                <a:lnTo>
                  <a:pt x="138075" y="18639"/>
                </a:lnTo>
                <a:lnTo>
                  <a:pt x="138075" y="2961"/>
                </a:lnTo>
                <a:close/>
              </a:path>
              <a:path fill="darkenLess" w="141036" h="21600">
                <a:moveTo>
                  <a:pt x="141036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075" y="18639"/>
                </a:lnTo>
                <a:close/>
              </a:path>
              <a:path fill="lighten" w="141036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Где он устанавли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676520" y="2895480"/>
            <a:ext cx="7086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Двустороннее движение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Такой знак устанавливают на участке улицы или дороги со встречным движением, которому ранее предшествовал участок дороги с односторонним движением. Водители и велосипедисты должны проезжать этот опасный участок дороги с особой осторожностью, снизив скорость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4"/>
          <a:stretch/>
        </p:blipFill>
        <p:spPr>
          <a:xfrm>
            <a:off x="3390840" y="2833560"/>
            <a:ext cx="3589560" cy="3114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03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04" dur="500" autoRev="1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2.22222E-006 L -0.29791 -0.28611 E">
                                      <p:cBhvr>
                                        <p:cTn id="408" dur="2000" fill="hold"/>
                                        <p:tgtEl>
                                          <p:spTgt spid="2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0" dur="2000" fill="hold"/>
                                        <p:tgtEl>
                                          <p:spTgt spid="22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7924680" y="304920"/>
            <a:ext cx="843120" cy="838080"/>
          </a:xfrm>
          <a:custGeom>
            <a:avLst/>
            <a:gdLst>
              <a:gd name="textAreaLeft" fmla="*/ 91440 w 843120"/>
              <a:gd name="textAreaRight" fmla="*/ 751680 w 843120"/>
              <a:gd name="textAreaTop" fmla="*/ 91440 h 838080"/>
              <a:gd name="textAreaBottom" fmla="*/ 746640 h 838080"/>
            </a:gdLst>
            <a:ahLst/>
            <a:rect l="textAreaLeft" t="textAreaTop" r="textAreaRight" b="textAreaBottom"/>
            <a:pathLst>
              <a:path w="21730" h="21600">
                <a:moveTo>
                  <a:pt x="0" y="0"/>
                </a:moveTo>
                <a:lnTo>
                  <a:pt x="21730" y="0"/>
                </a:lnTo>
                <a:lnTo>
                  <a:pt x="21730" y="21600"/>
                </a:lnTo>
                <a:lnTo>
                  <a:pt x="0" y="21600"/>
                </a:lnTo>
                <a:close/>
              </a:path>
              <a:path fill="lightenLess" w="21730" h="21600">
                <a:moveTo>
                  <a:pt x="0" y="0"/>
                </a:moveTo>
                <a:lnTo>
                  <a:pt x="21730" y="0"/>
                </a:lnTo>
                <a:lnTo>
                  <a:pt x="19372" y="2358"/>
                </a:lnTo>
                <a:lnTo>
                  <a:pt x="2358" y="2358"/>
                </a:lnTo>
                <a:close/>
              </a:path>
              <a:path fill="darken" w="21730" h="21600">
                <a:moveTo>
                  <a:pt x="21730" y="0"/>
                </a:moveTo>
                <a:lnTo>
                  <a:pt x="21730" y="21600"/>
                </a:lnTo>
                <a:lnTo>
                  <a:pt x="19372" y="19242"/>
                </a:lnTo>
                <a:lnTo>
                  <a:pt x="19372" y="2358"/>
                </a:lnTo>
                <a:close/>
              </a:path>
              <a:path fill="darkenLess" w="21730" h="21600">
                <a:moveTo>
                  <a:pt x="21730" y="21600"/>
                </a:moveTo>
                <a:lnTo>
                  <a:pt x="0" y="21600"/>
                </a:lnTo>
                <a:lnTo>
                  <a:pt x="2358" y="19242"/>
                </a:lnTo>
                <a:lnTo>
                  <a:pt x="19372" y="19242"/>
                </a:lnTo>
                <a:close/>
              </a:path>
              <a:path fill="lighten" w="21730" h="21600">
                <a:moveTo>
                  <a:pt x="0" y="21600"/>
                </a:moveTo>
                <a:lnTo>
                  <a:pt x="0" y="0"/>
                </a:lnTo>
                <a:lnTo>
                  <a:pt x="2358" y="2358"/>
                </a:lnTo>
                <a:lnTo>
                  <a:pt x="2358" y="19242"/>
                </a:lnTo>
                <a:close/>
              </a:path>
            </a:pathLst>
          </a:custGeom>
          <a:gradFill rotWithShape="0">
            <a:gsLst>
              <a:gs pos="0">
                <a:srgbClr val="ff9999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05320" y="1523880"/>
            <a:ext cx="52578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ителям и пешехода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124080"/>
            <a:ext cx="73915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Место стоян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 знак указывает на место стоянки транспортных средств. Пешеходам нельзя заходить на эту площадку, так как в любую минуту к стоянке может подъехать автомобиль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4"/>
          <a:stretch/>
        </p:blipFill>
        <p:spPr>
          <a:xfrm>
            <a:off x="3862440" y="3076560"/>
            <a:ext cx="3000240" cy="3017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3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24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25" dur="500" autoRev="1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8148E-006 L -0.31458 -0.30556 E">
                                      <p:cBhvr>
                                        <p:cTn id="429" dur="2000" fill="hold"/>
                                        <p:tgtEl>
                                          <p:spTgt spid="2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1" dur="2000" fill="hold"/>
                                        <p:tgtEl>
                                          <p:spTgt spid="23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>
            <a:hlinkClick r:id="rId3" action="ppaction://hlinksldjump"/>
          </p:cNvPr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1600200"/>
            <a:ext cx="5257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огда и где 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устанавливаетс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95480"/>
            <a:ext cx="70866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0" i="1" lang="en-US" sz="2700" spc="-1" strike="noStrike" u="sng">
                <a:solidFill>
                  <a:srgbClr val="ff0000"/>
                </a:solidFill>
                <a:uFillTx/>
                <a:latin typeface="Arial"/>
              </a:rPr>
              <a:t>Проход закрыт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т знак запрещает движение пешеходов. Его устанавливают, как правило, в местах, где ведутся какие-либо дорожно-ремонтные работы, около строительных площадок, то есть там, где может возникнуть опасность для жизни пешеходов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3581280" y="2852640"/>
            <a:ext cx="3154320" cy="31719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4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45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46" dur="500" autoRev="1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22222E-006 L -0.28333 -0.28889 E">
                                      <p:cBhvr>
                                        <p:cTn id="450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2" dur="2000" fill="hold"/>
                                        <p:tgtEl>
                                          <p:spTgt spid="24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2000"/>
                            </p:stCondLst>
                            <p:childTnLst>
                              <p:par>
                                <p:cTn id="45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ие действия долж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предпринять водител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76520" y="2743200"/>
            <a:ext cx="7086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Движение без остановки запрещено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Знак окрашен в красный цвет. Его устанавливают перед перекрёстками улиц и дорог с большим движением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Увидев этот знак , водители автомобилей и велосипедисты должны остановиться и пропустить транспортные средства в поперечном направлении. После этого можно начать движение через перекрёсток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3505320" y="2819520"/>
            <a:ext cx="3276360" cy="32763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66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67" dur="500" autoRev="1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1" dur="2000" fill="hold"/>
                                        <p:tgtEl>
                                          <p:spTgt spid="249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11022E-016 L -0.30417 -0.29444 E">
                                      <p:cBhvr>
                                        <p:cTn id="473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ffff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>
            <a:hlinkClick r:id="rId3" action="ppaction://hlinksldjump"/>
          </p:cNvPr>
          <p:cNvSpPr/>
          <p:nvPr/>
        </p:nvSpPr>
        <p:spPr>
          <a:xfrm>
            <a:off x="6095880" y="6172200"/>
            <a:ext cx="2819520" cy="433440"/>
          </a:xfrm>
          <a:custGeom>
            <a:avLst/>
            <a:gdLst>
              <a:gd name="textAreaLeft" fmla="*/ 59400 w 2819520"/>
              <a:gd name="textAreaRight" fmla="*/ 2760120 w 28195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7448" y="2961"/>
                </a:lnTo>
                <a:lnTo>
                  <a:pt x="2961" y="2961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7448" y="18639"/>
                </a:lnTo>
                <a:lnTo>
                  <a:pt x="137448" y="2961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7448" y="18639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81280" y="16002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ет этот 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 должен поступи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водитель и велосипедис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2895480"/>
            <a:ext cx="739152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ересечение с трамвайной линией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В некоторых городах дорогу часто пересекают трамвайные линии. Они опасны для водителей и пешеходов. Пешеходы, велосипедисты и водители автомашин должны полностью убедиться в том, что нет приближающегося трамвая, и только после этого можно пересекать трамвайные пут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00400" y="2752560"/>
            <a:ext cx="3809880" cy="3303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487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488" dur="500" autoRev="1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2" dur="2000" fill="hold"/>
                                        <p:tgtEl>
                                          <p:spTgt spid="258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7 L -0.26666 -0.28657 E">
                                      <p:cBhvr>
                                        <p:cTn id="494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2000"/>
                            </p:stCondLst>
                            <p:childTnLst>
                              <p:par>
                                <p:cTn id="49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>
            <a:hlinkClick r:id="rId3" action="ppaction://hlinksldjump"/>
          </p:cNvPr>
          <p:cNvSpPr/>
          <p:nvPr/>
        </p:nvSpPr>
        <p:spPr>
          <a:xfrm>
            <a:off x="6095880" y="6172200"/>
            <a:ext cx="2819520" cy="433440"/>
          </a:xfrm>
          <a:custGeom>
            <a:avLst/>
            <a:gdLst>
              <a:gd name="textAreaLeft" fmla="*/ 59400 w 2819520"/>
              <a:gd name="textAreaRight" fmla="*/ 2760120 w 28195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0409" h="21600">
                <a:moveTo>
                  <a:pt x="0" y="0"/>
                </a:moveTo>
                <a:lnTo>
                  <a:pt x="140409" y="0"/>
                </a:lnTo>
                <a:lnTo>
                  <a:pt x="140409" y="21600"/>
                </a:lnTo>
                <a:lnTo>
                  <a:pt x="0" y="21600"/>
                </a:lnTo>
                <a:close/>
              </a:path>
              <a:path fill="lightenLess" w="140409" h="21600">
                <a:moveTo>
                  <a:pt x="0" y="0"/>
                </a:moveTo>
                <a:lnTo>
                  <a:pt x="140409" y="0"/>
                </a:lnTo>
                <a:lnTo>
                  <a:pt x="137448" y="2961"/>
                </a:lnTo>
                <a:lnTo>
                  <a:pt x="2961" y="2961"/>
                </a:lnTo>
                <a:close/>
              </a:path>
              <a:path fill="darken" w="140409" h="21600">
                <a:moveTo>
                  <a:pt x="140409" y="0"/>
                </a:moveTo>
                <a:lnTo>
                  <a:pt x="140409" y="21600"/>
                </a:lnTo>
                <a:lnTo>
                  <a:pt x="137448" y="18639"/>
                </a:lnTo>
                <a:lnTo>
                  <a:pt x="137448" y="2961"/>
                </a:lnTo>
                <a:close/>
              </a:path>
              <a:path fill="darkenLess" w="140409" h="21600">
                <a:moveTo>
                  <a:pt x="140409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7448" y="18639"/>
                </a:lnTo>
                <a:close/>
              </a:path>
              <a:path fill="lighten" w="140409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160020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бозначают эти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Где их можно встрет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181480" y="2514600"/>
            <a:ext cx="3733920" cy="3236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1523880" y="2600280"/>
            <a:ext cx="3657600" cy="31701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76720" y="2438280"/>
            <a:ext cx="563868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    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рутой подъём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          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Крутой  спус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На дорогах встречаются крутые подъёмы и спуски. О их появлении на пути водителей автомобилей и велосипедистов устанавливают эти знаки. В этих местах надо ехать с особой осторожностью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08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09" dur="500" autoRev="1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3" dur="2000" fill="hold"/>
                                        <p:tgtEl>
                                          <p:spTgt spid="2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81481E-006 L -0.09167 -0.26575 E">
                                      <p:cBhvr>
                                        <p:cTn id="515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7" dur="2000" fill="hold"/>
                                        <p:tgtEl>
                                          <p:spTgt spid="26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7037E-006 L -0.4875 0.05301 E">
                                      <p:cBhvr>
                                        <p:cTn id="519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609480"/>
            <a:ext cx="609588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>
            <a:hlinkClick r:id="rId3" action="ppaction://hlinksldjump"/>
          </p:cNvPr>
          <p:cNvSpPr/>
          <p:nvPr/>
        </p:nvSpPr>
        <p:spPr>
          <a:xfrm>
            <a:off x="6070680" y="6172200"/>
            <a:ext cx="2844720" cy="433440"/>
          </a:xfrm>
          <a:custGeom>
            <a:avLst/>
            <a:gdLst>
              <a:gd name="textAreaLeft" fmla="*/ 59400 w 2844720"/>
              <a:gd name="textAreaRight" fmla="*/ 2785320 w 284472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41664" h="21600">
                <a:moveTo>
                  <a:pt x="0" y="0"/>
                </a:moveTo>
                <a:lnTo>
                  <a:pt x="141664" y="0"/>
                </a:lnTo>
                <a:lnTo>
                  <a:pt x="141664" y="21600"/>
                </a:lnTo>
                <a:lnTo>
                  <a:pt x="0" y="21600"/>
                </a:lnTo>
                <a:close/>
              </a:path>
              <a:path fill="lightenLess" w="141664" h="21600">
                <a:moveTo>
                  <a:pt x="0" y="0"/>
                </a:moveTo>
                <a:lnTo>
                  <a:pt x="141664" y="0"/>
                </a:lnTo>
                <a:lnTo>
                  <a:pt x="138703" y="2961"/>
                </a:lnTo>
                <a:lnTo>
                  <a:pt x="2961" y="2961"/>
                </a:lnTo>
                <a:close/>
              </a:path>
              <a:path fill="darken" w="141664" h="21600">
                <a:moveTo>
                  <a:pt x="141664" y="0"/>
                </a:moveTo>
                <a:lnTo>
                  <a:pt x="141664" y="21600"/>
                </a:lnTo>
                <a:lnTo>
                  <a:pt x="138703" y="18639"/>
                </a:lnTo>
                <a:lnTo>
                  <a:pt x="138703" y="2961"/>
                </a:lnTo>
                <a:close/>
              </a:path>
              <a:path fill="darkenLess" w="141664" h="21600">
                <a:moveTo>
                  <a:pt x="1416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8703" y="18639"/>
                </a:lnTo>
                <a:close/>
              </a:path>
              <a:path fill="lighten" w="1416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1600200"/>
            <a:ext cx="5257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ое название имеет это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знак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О чём он говори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2895480"/>
            <a:ext cx="73152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Пункт пер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медицинской помощ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Это знак оповещает водителей и пассажиров о том, что неподалёку от дороги находится пункт неотложной помощ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3886200" y="2819520"/>
            <a:ext cx="2649600" cy="32763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2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33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34" dur="500" autoRev="1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8" dur="2000" fill="hold"/>
                                        <p:tgtEl>
                                          <p:spTgt spid="277"/>
                                        </p:tgtEl>
                                      </p:cBhvr>
                                      <p:to x="75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11022E-016 L -0.26979 -0.23889 E">
                                      <p:cBhvr>
                                        <p:cTn id="540" dur="2000" fill="hold"/>
                                        <p:tgtEl>
                                          <p:spTgt spid="2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2000"/>
                            </p:stCondLst>
                            <p:childTnLst>
                              <p:par>
                                <p:cTn id="54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038480" y="1676520"/>
            <a:ext cx="4876920" cy="46116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24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240" y="5790960"/>
            <a:ext cx="3809880" cy="68580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33"/>
                </a:solidFill>
                <a:latin typeface="a_RubricaCn"/>
              </a:rPr>
              <a:t>Проезжая часть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3520" y="4648320"/>
            <a:ext cx="2438280" cy="685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_PlakatTitulOtl"/>
              </a:rPr>
              <a:t> </a:t>
            </a:r>
            <a:r>
              <a:rPr b="1" lang="en-US" sz="3400" spc="-1" strike="noStrike">
                <a:solidFill>
                  <a:srgbClr val="660033"/>
                </a:solidFill>
                <a:latin typeface="a_RubricaCn"/>
              </a:rPr>
              <a:t>Тротуар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86200" y="6019560"/>
            <a:ext cx="914400" cy="15228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971800" y="4495680"/>
            <a:ext cx="1676520" cy="457200"/>
          </a:xfrm>
          <a:prstGeom prst="line">
            <a:avLst/>
          </a:prstGeom>
          <a:ln w="12708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600200"/>
            <a:ext cx="3581280" cy="2514600"/>
          </a:xfrm>
          <a:prstGeom prst="rect">
            <a:avLst/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ешеходы должны ходить по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у, а не вдоль дороги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 всегда возвышается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д проезжей частью дорог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 15—20 см, чтобы на него н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заезжали машины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" y="1600200"/>
            <a:ext cx="3581280" cy="2743200"/>
          </a:xfrm>
          <a:prstGeom prst="rect">
            <a:avLst/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а некоторых улицах, гд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особенно многолюдно,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тротуары отделяют от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роезжей части дороги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металлическим ограждением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Через него ни в коем случае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нельзя перелезать 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20123400">
            <a:off x="4038120" y="464796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9980000">
            <a:off x="4724280" y="434340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9573800">
            <a:off x="5333760" y="396216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20266800">
            <a:off x="6004080" y="3659040"/>
            <a:ext cx="914400" cy="83844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rot="19980000">
            <a:off x="6705720" y="327672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9980000">
            <a:off x="7391520" y="2971800"/>
            <a:ext cx="914400" cy="91440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19980000">
            <a:off x="8075520" y="2665080"/>
            <a:ext cx="838440" cy="896760"/>
          </a:xfrm>
          <a:prstGeom prst="blockArc">
            <a:avLst>
              <a:gd name="adj1" fmla="val 10586623"/>
              <a:gd name="adj2" fmla="val 213377"/>
              <a:gd name="adj3" fmla="val 19477"/>
            </a:avLst>
          </a:prstGeom>
          <a:solidFill>
            <a:srgbClr val="80808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32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3700"/>
                            </p:stCondLst>
                            <p:childTnLst>
                              <p:par>
                                <p:cTn id="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3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6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7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924680" y="304920"/>
            <a:ext cx="847800" cy="838080"/>
          </a:xfrm>
          <a:custGeom>
            <a:avLst/>
            <a:gdLst>
              <a:gd name="textAreaLeft" fmla="*/ 88920 w 847800"/>
              <a:gd name="textAreaRight" fmla="*/ 758880 w 847800"/>
              <a:gd name="textAreaTop" fmla="*/ 88920 h 838080"/>
              <a:gd name="textAreaBottom" fmla="*/ 749160 h 838080"/>
            </a:gdLst>
            <a:ahLst/>
            <a:rect l="textAreaLeft" t="textAreaTop" r="textAreaRight" b="textAreaBottom"/>
            <a:pathLst>
              <a:path w="21850" h="21600">
                <a:moveTo>
                  <a:pt x="0" y="0"/>
                </a:moveTo>
                <a:lnTo>
                  <a:pt x="21850" y="0"/>
                </a:lnTo>
                <a:lnTo>
                  <a:pt x="21850" y="21600"/>
                </a:lnTo>
                <a:lnTo>
                  <a:pt x="0" y="21600"/>
                </a:lnTo>
                <a:close/>
              </a:path>
              <a:path fill="lightenLess" w="21850" h="21600">
                <a:moveTo>
                  <a:pt x="0" y="0"/>
                </a:moveTo>
                <a:lnTo>
                  <a:pt x="21850" y="0"/>
                </a:lnTo>
                <a:lnTo>
                  <a:pt x="19560" y="2291"/>
                </a:lnTo>
                <a:lnTo>
                  <a:pt x="2291" y="2291"/>
                </a:lnTo>
                <a:close/>
              </a:path>
              <a:path fill="darken" w="21850" h="21600">
                <a:moveTo>
                  <a:pt x="21850" y="0"/>
                </a:moveTo>
                <a:lnTo>
                  <a:pt x="21850" y="21600"/>
                </a:lnTo>
                <a:lnTo>
                  <a:pt x="19560" y="19309"/>
                </a:lnTo>
                <a:lnTo>
                  <a:pt x="19560" y="2291"/>
                </a:lnTo>
                <a:close/>
              </a:path>
              <a:path fill="darkenLess" w="21850" h="21600">
                <a:moveTo>
                  <a:pt x="21850" y="21600"/>
                </a:moveTo>
                <a:lnTo>
                  <a:pt x="0" y="21600"/>
                </a:lnTo>
                <a:lnTo>
                  <a:pt x="2291" y="19309"/>
                </a:lnTo>
                <a:lnTo>
                  <a:pt x="19560" y="19309"/>
                </a:lnTo>
                <a:close/>
              </a:path>
              <a:path fill="lighten" w="21850" h="21600">
                <a:moveTo>
                  <a:pt x="0" y="21600"/>
                </a:moveTo>
                <a:lnTo>
                  <a:pt x="0" y="0"/>
                </a:lnTo>
                <a:lnTo>
                  <a:pt x="2291" y="2291"/>
                </a:lnTo>
                <a:lnTo>
                  <a:pt x="2291" y="19309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8153280" y="533520"/>
            <a:ext cx="3812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442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442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676520" y="609480"/>
            <a:ext cx="61722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ahoma"/>
              </a:rPr>
              <a:t>Игра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4400" spc="-1" strike="noStrike">
                <a:solidFill>
                  <a:srgbClr val="0000ff"/>
                </a:solidFill>
                <a:latin typeface="a_BodoniOrtoNrTtlCm"/>
              </a:rPr>
              <a:t>«Дорожные  знаки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6108840" y="6172200"/>
            <a:ext cx="2806560" cy="433440"/>
          </a:xfrm>
          <a:custGeom>
            <a:avLst/>
            <a:gdLst>
              <a:gd name="textAreaLeft" fmla="*/ 59400 w 2806560"/>
              <a:gd name="textAreaRight" fmla="*/ 2747160 w 2806560"/>
              <a:gd name="textAreaTop" fmla="*/ 59400 h 433440"/>
              <a:gd name="textAreaBottom" fmla="*/ 374040 h 433440"/>
            </a:gdLst>
            <a:ahLst/>
            <a:rect l="textAreaLeft" t="textAreaTop" r="textAreaRight" b="textAreaBottom"/>
            <a:pathLst>
              <a:path w="139764" h="21600">
                <a:moveTo>
                  <a:pt x="0" y="0"/>
                </a:moveTo>
                <a:lnTo>
                  <a:pt x="139764" y="0"/>
                </a:lnTo>
                <a:lnTo>
                  <a:pt x="139764" y="21600"/>
                </a:lnTo>
                <a:lnTo>
                  <a:pt x="0" y="21600"/>
                </a:lnTo>
                <a:close/>
              </a:path>
              <a:path fill="lightenLess" w="139764" h="21600">
                <a:moveTo>
                  <a:pt x="0" y="0"/>
                </a:moveTo>
                <a:lnTo>
                  <a:pt x="139764" y="0"/>
                </a:lnTo>
                <a:lnTo>
                  <a:pt x="136803" y="2961"/>
                </a:lnTo>
                <a:lnTo>
                  <a:pt x="2961" y="2961"/>
                </a:lnTo>
                <a:close/>
              </a:path>
              <a:path fill="darken" w="139764" h="21600">
                <a:moveTo>
                  <a:pt x="139764" y="0"/>
                </a:moveTo>
                <a:lnTo>
                  <a:pt x="139764" y="21600"/>
                </a:lnTo>
                <a:lnTo>
                  <a:pt x="136803" y="18639"/>
                </a:lnTo>
                <a:lnTo>
                  <a:pt x="136803" y="2961"/>
                </a:lnTo>
                <a:close/>
              </a:path>
              <a:path fill="darkenLess" w="139764" h="21600">
                <a:moveTo>
                  <a:pt x="139764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136803" y="18639"/>
                </a:lnTo>
                <a:close/>
              </a:path>
              <a:path fill="lighten" w="139764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3366cc"/>
          </a:solidFill>
          <a:ln w="2232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грать дальш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114800" y="1600200"/>
            <a:ext cx="4724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Какое общее наз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имеют эти знаки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- Что они показывают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1120" y="2514600"/>
            <a:ext cx="4572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en-US" sz="2600" spc="-1" strike="noStrike" u="sng">
                <a:solidFill>
                  <a:srgbClr val="990099"/>
                </a:solidFill>
                <a:uFillTx/>
                <a:latin typeface="Arial"/>
              </a:rPr>
              <a:t>Правильный ответ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Знаки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 «</a:t>
            </a:r>
            <a:r>
              <a:rPr b="1" i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Обязательное направление движения</a:t>
            </a:r>
            <a:r>
              <a:rPr b="0" lang="en-US" sz="2800" spc="-1" strike="noStrike">
                <a:solidFill>
                  <a:srgbClr val="660066"/>
                </a:solidFill>
                <a:latin typeface="Arial"/>
              </a:rPr>
              <a:t>»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660066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660066"/>
                </a:solidFill>
                <a:latin typeface="Arial"/>
              </a:rPr>
              <a:t>Знаки показывают направление движения автомобилям и велосипедистам. Они должны продолжать движение только в ту сторону, куда указывает стрелка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4"/>
          <a:stretch/>
        </p:blipFill>
        <p:spPr>
          <a:xfrm>
            <a:off x="2590920" y="2895480"/>
            <a:ext cx="1218960" cy="121932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5"/>
          <a:stretch/>
        </p:blipFill>
        <p:spPr>
          <a:xfrm>
            <a:off x="2590920" y="4495680"/>
            <a:ext cx="1287360" cy="12956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6"/>
          <a:stretch/>
        </p:blipFill>
        <p:spPr>
          <a:xfrm>
            <a:off x="4800600" y="287640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7"/>
          <a:stretch/>
        </p:blipFill>
        <p:spPr>
          <a:xfrm>
            <a:off x="7086600" y="2933640"/>
            <a:ext cx="1257480" cy="125748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8"/>
          <a:stretch/>
        </p:blipFill>
        <p:spPr>
          <a:xfrm>
            <a:off x="4800600" y="4476600"/>
            <a:ext cx="1306440" cy="131472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9"/>
          <a:stretch/>
        </p:blipFill>
        <p:spPr>
          <a:xfrm>
            <a:off x="7086600" y="44956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78960" y="6222960"/>
            <a:ext cx="35305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проверки правильности отве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щёлкните левой клавишей мыш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0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animClr clrSpc="rgb">
                                      <p:cBhvr>
                                        <p:cTn id="554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ffff"/>
                                      </p:to>
                                    </p:animClr>
                                    <p:set>
                                      <p:cBhvr>
                                        <p:cTn id="555" dur="500" autoRev="1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0.125 -0.17778 E">
                                      <p:cBhvr>
                                        <p:cTn id="565" dur="5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44444E-006 L -0.12448 -0.21112 E">
                                      <p:cBhvr>
                                        <p:cTn id="567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44444E-006 L -0.2106 -0.17523 E">
                                      <p:cBhvr>
                                        <p:cTn id="569" dur="2000" fill="hold"/>
                                        <p:tgtEl>
                                          <p:spTgt spid="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21041 -0.21389 E">
                                      <p:cBhvr>
                                        <p:cTn id="571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55556E-006 L -0.60833 0.24444 E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0.44791 0.00278 E">
                                      <p:cBhvr>
                                        <p:cTn id="575" dur="2000" fill="hold"/>
                                        <p:tgtEl>
                                          <p:spTgt spid="2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1838160" y="914400"/>
            <a:ext cx="6438960" cy="571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олодцы !</a:t>
            </a:r>
            <a:endParaRPr b="1" lang="en-US" sz="1800" spc="1" strike="noStrike">
              <a:ln w="255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80880" y="1676520"/>
            <a:ext cx="4287960" cy="4876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4876920" y="1676520"/>
            <a:ext cx="4038480" cy="457200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По дорогам движется много машин. Чтобы они не сталкивались и для безо­пасности водителей и пешеходов на проезжей части дороги делают дорожную разметку, т.е. рисуют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линии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и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 стрелки</a:t>
            </a:r>
            <a:r>
              <a:rPr b="1" lang="en-US" sz="23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800600" y="1676520"/>
            <a:ext cx="4114800" cy="4572000"/>
          </a:xfrm>
          <a:prstGeom prst="rect">
            <a:avLst/>
          </a:prstGeom>
          <a:blipFill rotWithShape="0">
            <a:blip r:embed="rId5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Сплошная белая линия (одна или две) разделяет проезжую часть дороги и нужна для того, чтобы одни машины ехали в одном направлении, а другие — в противоположном. Такое движение транспорта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ДВУСТОРОННИМ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Если машины едут только в одном направлении, то такое движение называется 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ОДНОСТОРОННИМ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1676520"/>
            <a:ext cx="4267440" cy="48765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3352680"/>
            <a:ext cx="4191120" cy="16002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3048120"/>
            <a:ext cx="4267440" cy="16002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 rot="1329600">
            <a:off x="498600" y="4173480"/>
            <a:ext cx="1925640" cy="7430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 rot="991800">
            <a:off x="3025440" y="3324240"/>
            <a:ext cx="16002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500"/>
                            </p:stCondLst>
                            <p:childTnLst>
                              <p:par>
                                <p:cTn id="156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C -0.12326 -0.05902 -0.24652 -0.11805 -0.29583 -0.14166 E">
                                      <p:cBhvr>
                                        <p:cTn id="157" dur="5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96296E-006 L 0.28334 0.14445 E">
                                      <p:cBhvr>
                                        <p:cTn id="159" dur="5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746748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cc66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5943600" y="1905120"/>
            <a:ext cx="2971800" cy="4572000"/>
          </a:xfrm>
          <a:prstGeom prst="rect">
            <a:avLst/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а больших дорогах (шоссе) делают широкую разделительную полосу, иногда с газоном или кустами. Пешеходам находиться на ней запрещ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1752480"/>
            <a:ext cx="5333760" cy="487692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52680"/>
            <a:ext cx="5334120" cy="205740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048120"/>
            <a:ext cx="5257800" cy="1981080"/>
          </a:xfrm>
          <a:prstGeom prst="line">
            <a:avLst/>
          </a:prstGeom>
          <a:ln w="177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 rot="1329600">
            <a:off x="380880" y="4724280"/>
            <a:ext cx="1925640" cy="743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 rot="991800">
            <a:off x="4184280" y="3087720"/>
            <a:ext cx="1523880" cy="5936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04920" y="22860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914400" y="25146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1371600" y="27432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1981080" y="297180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2666880" y="32767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3352680" y="35053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3962520" y="3733920"/>
            <a:ext cx="1089000" cy="12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4572000" y="4038480"/>
            <a:ext cx="108900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5.92593E-006 C -0.12326 -0.05902 -0.24652 -0.11805 -0.29583 -0.14166 E">
                                      <p:cBhvr>
                                        <p:cTn id="185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2.96296E-006 L 0.28334 0.14445 E">
                                      <p:cBhvr>
                                        <p:cTn id="187" dur="5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1.11111E-006 L -6.66667E-006 -0.08889 E">
                                      <p:cBhvr>
                                        <p:cTn id="189" dur="1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55556E-006 L -3.33333E-006 0.04444 E">
                                      <p:cBhvr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7500"/>
                            </p:stCondLst>
                            <p:childTnLst>
                              <p:par>
                                <p:cTn id="1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500"/>
                            </p:stCondLst>
                            <p:childTnLst>
                              <p:par>
                                <p:cTn id="1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600200" y="228600"/>
            <a:ext cx="7238880" cy="1143000"/>
          </a:xfrm>
          <a:prstGeom prst="rect">
            <a:avLst/>
          </a:prstGeom>
          <a:blipFill rotWithShape="0">
            <a:blip r:embed="rId2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Дети не должны выходить на проезжую часть больших дорог без сопровождения взрослых. Транспорт там движется в несколько рядов, и водители могут не заметить одиноко стоящего на проезжей части ребенка. Это может закончиться авари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95680" y="1828800"/>
            <a:ext cx="4343400" cy="449568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На больших, широких улицах с двусторонним движением бывают «</a:t>
            </a:r>
            <a:r>
              <a:rPr b="1" lang="en-US" sz="2400" spc="-1" strike="noStrike">
                <a:solidFill>
                  <a:srgbClr val="ff0000"/>
                </a:solidFill>
                <a:latin typeface="Arial Narrow"/>
              </a:rPr>
              <a:t>ОСТРОВКИ БЕЗОПАСНОСТ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». Это такое возвышение над проезжей частью дороги. Если пешеходы не успели перейти широкую дорогу, они могут остановиться на «</a:t>
            </a:r>
            <a:r>
              <a:rPr b="1" lang="en-US" sz="2200" spc="-1" strike="noStrike">
                <a:solidFill>
                  <a:srgbClr val="ff0000"/>
                </a:solidFill>
                <a:latin typeface="Arial Narrow"/>
              </a:rPr>
              <a:t>ОСТРОВКЕ БЕЗОПАСНОСТИ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», чтобы пропустить машины. Водителям нельзя заезжать на «островок безопасности», даже если на нем нет пешех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228600" y="2133720"/>
            <a:ext cx="4191120" cy="3565440"/>
          </a:xfrm>
          <a:prstGeom prst="rect">
            <a:avLst/>
          </a:prstGeom>
          <a:ln w="1908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048120" y="1752480"/>
            <a:ext cx="34290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ИДЫ   ДОР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971440" y="2514600"/>
            <a:ext cx="762120" cy="60948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>
            <a:hlinkClick r:id="rId3" action="ppaction://hlinksldjump"/>
          </p:cNvPr>
          <p:cNvSpPr/>
          <p:nvPr/>
        </p:nvSpPr>
        <p:spPr>
          <a:xfrm>
            <a:off x="380880" y="3200400"/>
            <a:ext cx="304812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односторонн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15000" y="2514600"/>
            <a:ext cx="609480" cy="60948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>
            <a:hlinkClick r:id="rId4" action="ppaction://hlinksldjump"/>
          </p:cNvPr>
          <p:cNvSpPr/>
          <p:nvPr/>
        </p:nvSpPr>
        <p:spPr>
          <a:xfrm>
            <a:off x="5867280" y="3200400"/>
            <a:ext cx="3048120" cy="1523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усторонни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вижени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733560" y="2514600"/>
            <a:ext cx="533160" cy="236232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>
            <a:hlinkClick r:id="rId5" action="ppaction://hlinksldjump"/>
          </p:cNvPr>
          <p:cNvSpPr/>
          <p:nvPr/>
        </p:nvSpPr>
        <p:spPr>
          <a:xfrm>
            <a:off x="762120" y="4952880"/>
            <a:ext cx="350496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 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трамвайным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029200" y="2514600"/>
            <a:ext cx="457200" cy="2362320"/>
          </a:xfrm>
          <a:prstGeom prst="line">
            <a:avLst/>
          </a:prstGeom>
          <a:ln w="95400">
            <a:solidFill>
              <a:srgbClr val="00008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4952880" y="4952880"/>
            <a:ext cx="3581640" cy="1524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Загородна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доро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523880"/>
            <a:ext cx="990360" cy="609840"/>
          </a:xfrm>
          <a:custGeom>
            <a:avLst/>
            <a:gdLst>
              <a:gd name="textAreaLeft" fmla="*/ 83520 w 990360"/>
              <a:gd name="textAreaRight" fmla="*/ 906840 w 990360"/>
              <a:gd name="textAreaTop" fmla="*/ 83520 h 609840"/>
              <a:gd name="textAreaBottom" fmla="*/ 526320 h 609840"/>
            </a:gdLst>
            <a:ahLst/>
            <a:rect l="textAreaLeft" t="textAreaTop" r="textAreaRight" b="textAreaBottom"/>
            <a:pathLst>
              <a:path w="35070" h="21600">
                <a:moveTo>
                  <a:pt x="0" y="0"/>
                </a:moveTo>
                <a:lnTo>
                  <a:pt x="35070" y="0"/>
                </a:lnTo>
                <a:lnTo>
                  <a:pt x="35070" y="21600"/>
                </a:lnTo>
                <a:lnTo>
                  <a:pt x="0" y="21600"/>
                </a:lnTo>
                <a:close/>
              </a:path>
              <a:path fill="lightenLess" w="35070" h="21600">
                <a:moveTo>
                  <a:pt x="0" y="0"/>
                </a:moveTo>
                <a:lnTo>
                  <a:pt x="35070" y="0"/>
                </a:lnTo>
                <a:lnTo>
                  <a:pt x="32109" y="2961"/>
                </a:lnTo>
                <a:lnTo>
                  <a:pt x="2961" y="2961"/>
                </a:lnTo>
                <a:close/>
              </a:path>
              <a:path fill="darken" w="35070" h="21600">
                <a:moveTo>
                  <a:pt x="35070" y="0"/>
                </a:moveTo>
                <a:lnTo>
                  <a:pt x="35070" y="21600"/>
                </a:lnTo>
                <a:lnTo>
                  <a:pt x="32109" y="18639"/>
                </a:lnTo>
                <a:lnTo>
                  <a:pt x="32109" y="2961"/>
                </a:lnTo>
                <a:close/>
              </a:path>
              <a:path fill="darkenLess" w="35070" h="21600">
                <a:moveTo>
                  <a:pt x="35070" y="21600"/>
                </a:moveTo>
                <a:lnTo>
                  <a:pt x="0" y="21600"/>
                </a:lnTo>
                <a:lnTo>
                  <a:pt x="2961" y="18639"/>
                </a:lnTo>
                <a:lnTo>
                  <a:pt x="32109" y="18639"/>
                </a:lnTo>
                <a:close/>
              </a:path>
              <a:path fill="lighten" w="35070" h="21600">
                <a:moveTo>
                  <a:pt x="0" y="21600"/>
                </a:moveTo>
                <a:lnTo>
                  <a:pt x="0" y="0"/>
                </a:lnTo>
                <a:lnTo>
                  <a:pt x="2961" y="2961"/>
                </a:lnTo>
                <a:lnTo>
                  <a:pt x="2961" y="18639"/>
                </a:lnTo>
                <a:close/>
              </a:path>
            </a:pathLst>
          </a:custGeom>
          <a:solidFill>
            <a:srgbClr val="008080"/>
          </a:solidFill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и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00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80880" y="3043080"/>
            <a:ext cx="4191120" cy="343404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752480"/>
            <a:ext cx="3048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дносторонни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и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981080"/>
            <a:ext cx="4191120" cy="396252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 Narrow"/>
              </a:rPr>
              <a:t>Несмотря на то, что на такой дороге движение транспорта в одну сторону, смотреть надо не только в эту сторону, но и в противоположную. Так как навстречу транспортному потоку могут ехать специаль-ные машины — «скорой помощи», милиции, пожарной охраны и другие машины аварийной службы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1981080"/>
            <a:ext cx="251460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усторонни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вижение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228600" y="3352680"/>
            <a:ext cx="3352680" cy="298764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  <p:sp>
        <p:nvSpPr>
          <p:cNvPr id="169" name=""/>
          <p:cNvSpPr/>
          <p:nvPr/>
        </p:nvSpPr>
        <p:spPr>
          <a:xfrm>
            <a:off x="3733920" y="1600200"/>
            <a:ext cx="5181480" cy="457200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</a:rPr>
              <a:t>Подойдя к проезжей части дороги, надо остановиться и посмотреть во все стороны, затем налево, направо, а дойдя до середины — еще раз направо, контролируя ситуацию слева. Если не удалось сразу перейти дорогу, следует остановиться посередине, на линии, разделяющей транспортные потоки противоположных направлений. При этом надо иметь в виду, что на дорогах с интенсивным движением нужно быть осторожным. Один шаг вперед или назад может стоить жизни. Машины едут слева и справа в 2—3 ряда. Из-за любого неосторожного движения можно попасть под колеса транспорта. Поэтому такие дороги детям следует переходить в сопровождении взрослых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>
            <a:hlinkClick r:id="rId5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04920" y="152280"/>
            <a:ext cx="1033200" cy="1219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3880" y="533520"/>
            <a:ext cx="7391520" cy="49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ahoma"/>
              </a:rPr>
              <a:t>Виды дорог и особенности их переход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" y="1981080"/>
            <a:ext cx="2514600" cy="1219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66cc"/>
              </a:gs>
              <a:gs pos="50000">
                <a:srgbClr val="ffffff"/>
              </a:gs>
              <a:gs pos="100000">
                <a:srgbClr val="3366cc"/>
              </a:gs>
            </a:gsLst>
            <a:lin ang="5400000"/>
          </a:gradFill>
          <a:ln w="28440">
            <a:solidFill>
              <a:srgbClr val="000080"/>
            </a:solidFill>
            <a:miter/>
          </a:ln>
          <a:effectLst>
            <a:outerShdw dist="107932" dir="18900000" blurRad="0" rotWithShape="0">
              <a:srgbClr val="0099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Дорога 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трамвайны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путя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>
            <a:hlinkClick r:id="rId3" action="ppaction://hlinksldjump"/>
          </p:cNvPr>
          <p:cNvSpPr/>
          <p:nvPr/>
        </p:nvSpPr>
        <p:spPr>
          <a:xfrm>
            <a:off x="7696080" y="6248520"/>
            <a:ext cx="1043280" cy="380880"/>
          </a:xfrm>
          <a:custGeom>
            <a:avLst/>
            <a:gdLst>
              <a:gd name="textAreaLeft" fmla="*/ 24480 w 1043280"/>
              <a:gd name="textAreaRight" fmla="*/ 1018800 w 10432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9130" h="21600">
                <a:moveTo>
                  <a:pt x="0" y="0"/>
                </a:moveTo>
                <a:lnTo>
                  <a:pt x="59130" y="0"/>
                </a:lnTo>
                <a:lnTo>
                  <a:pt x="59130" y="21600"/>
                </a:lnTo>
                <a:lnTo>
                  <a:pt x="0" y="21600"/>
                </a:lnTo>
                <a:close/>
              </a:path>
              <a:path fill="lightenLess" w="59130" h="21600">
                <a:moveTo>
                  <a:pt x="0" y="0"/>
                </a:moveTo>
                <a:lnTo>
                  <a:pt x="59130" y="0"/>
                </a:lnTo>
                <a:lnTo>
                  <a:pt x="57730" y="1400"/>
                </a:lnTo>
                <a:lnTo>
                  <a:pt x="1400" y="1400"/>
                </a:lnTo>
                <a:close/>
              </a:path>
              <a:path fill="darken" w="59130" h="21600">
                <a:moveTo>
                  <a:pt x="59130" y="0"/>
                </a:moveTo>
                <a:lnTo>
                  <a:pt x="59130" y="21600"/>
                </a:lnTo>
                <a:lnTo>
                  <a:pt x="57730" y="20200"/>
                </a:lnTo>
                <a:lnTo>
                  <a:pt x="57730" y="1400"/>
                </a:lnTo>
                <a:close/>
              </a:path>
              <a:path fill="darkenLess" w="59130" h="21600">
                <a:moveTo>
                  <a:pt x="591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730" y="20200"/>
                </a:lnTo>
                <a:close/>
              </a:path>
              <a:path fill="lighten" w="591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130" h="21600">
                <a:moveTo>
                  <a:pt x="33064" y="10800"/>
                </a:moveTo>
                <a:lnTo>
                  <a:pt x="22558" y="17806"/>
                </a:lnTo>
                <a:lnTo>
                  <a:pt x="22558" y="3794"/>
                </a:lnTo>
                <a:close/>
              </a:path>
              <a:path fill="darken" w="59130" h="21600">
                <a:moveTo>
                  <a:pt x="34909" y="3794"/>
                </a:moveTo>
                <a:lnTo>
                  <a:pt x="34909" y="17806"/>
                </a:lnTo>
                <a:lnTo>
                  <a:pt x="36571" y="17806"/>
                </a:lnTo>
                <a:lnTo>
                  <a:pt x="36571" y="3794"/>
                </a:lnTo>
                <a:close/>
              </a:path>
            </a:pathLst>
          </a:custGeom>
          <a:noFill/>
          <a:ln cap="rnd" w="15840">
            <a:solidFill>
              <a:srgbClr val="3366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1676520"/>
            <a:ext cx="5257800" cy="4419360"/>
          </a:xfrm>
          <a:prstGeom prst="rect">
            <a:avLst/>
          </a:prstGeom>
          <a:blipFill rotWithShape="0">
            <a:blip r:embed="rId4">
              <a:alphaModFix amt="53000"/>
            </a:blip>
            <a:srcRect/>
            <a:tile tx="0" ty="0" sx="100000" sy="100000" algn="ctr"/>
          </a:blip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При переходе дороги с трамвайными путями нужно, подойдя к проезжей части, остановиться, посмотреть налево и направо. Если нет трамвая и машин — переходить. Перед трамвайными путями снова остановиться, посмотреть налево, направо. При отсутствии трамваев и машин перейти дорогу до конца. </a:t>
            </a:r>
            <a:r>
              <a:rPr b="1" lang="ru-RU" sz="2300" spc="-1" strike="noStrike">
                <a:solidFill>
                  <a:srgbClr val="ff0000"/>
                </a:solidFill>
                <a:latin typeface="Arial Narrow"/>
              </a:rPr>
              <a:t>Ни в коем случае нельзя останавливаться между трамвайными путями.</a:t>
            </a: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 Это очень опасно, так как </a:t>
            </a:r>
            <a:r>
              <a:rPr b="1" lang="ru-RU" sz="2300" spc="-1" strike="noStrike" u="sng">
                <a:solidFill>
                  <a:srgbClr val="000000"/>
                </a:solidFill>
                <a:uFillTx/>
                <a:latin typeface="Arial Narrow"/>
              </a:rPr>
              <a:t>движение трамваев может быть встречным</a:t>
            </a:r>
            <a:r>
              <a:rPr b="1" lang="ru-RU" sz="2300" spc="-1" strike="noStrike">
                <a:solidFill>
                  <a:srgbClr val="000000"/>
                </a:solidFill>
                <a:latin typeface="Arial Narrow"/>
              </a:rPr>
              <a:t>. Широкие дороги с  двусторонним движением и трамвай-ными путями следует переходить только со взрослыми.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304920" y="3429000"/>
            <a:ext cx="3200400" cy="3112920"/>
          </a:xfrm>
          <a:prstGeom prst="rect">
            <a:avLst/>
          </a:prstGeom>
          <a:ln w="38160">
            <a:solidFill>
              <a:srgbClr val="3366cc"/>
            </a:solidFill>
            <a:miter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ustomer</cp:lastModifiedBy>
  <dcterms:modified xsi:type="dcterms:W3CDTF">2010-01-08T05:53:16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