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10.jpeg" ContentType="image/jpeg"/>
  <Override PartName="/ppt/media/image28.png" ContentType="image/png"/>
  <Override PartName="/ppt/media/image25.png" ContentType="image/png"/>
  <Override PartName="/ppt/media/image5.jpeg" ContentType="image/jpeg"/>
  <Override PartName="/ppt/media/image7.wmf" ContentType="image/x-wmf"/>
  <Override PartName="/ppt/media/image4.jpeg" ContentType="image/jpeg"/>
  <Override PartName="/ppt/media/image8.wmf" ContentType="image/x-wmf"/>
  <Override PartName="/ppt/media/image12.jpeg" ContentType="image/jpeg"/>
  <Override PartName="/ppt/media/image9.png" ContentType="image/png"/>
  <Override PartName="/ppt/media/image23.png" ContentType="image/png"/>
  <Override PartName="/ppt/media/image13.jpeg" ContentType="image/jpeg"/>
  <Override PartName="/ppt/media/applause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838B1-1182-4F5A-8559-2FE3FB97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333B-0715-4061-8E5C-E64273993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06EEE-7744-4EDE-BB19-A33EF042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FDC5-B619-4CDB-9735-56BC07F18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195022-1CFC-4A26-8A4B-B36F9748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99275-7D64-4213-834B-D2242156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244BB4-C439-4E9C-AA2B-5D3DA089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EF53C-3A7A-4A37-A429-32FDB65C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4471E-9B60-4C0B-B060-2FCF824A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BDF019-D2DF-447E-9BCF-5A5079DD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B23D0-A81C-4FD7-9490-28A5399B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531DC-00D3-4A5C-8DE5-B8413F969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861570-2A09-4932-B327-3BC97EBB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E57BC4-8BB0-4BA8-B110-BF45A7C1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6ED94-1F49-44D1-91FA-3EB7A196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54693E-3B98-40CF-A4E3-F14AA39D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7DE0A-7151-490B-8A74-5BB4FCE91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DF6B1-87F3-4E48-ACD8-71D85B8D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F099A-9F04-45F7-8677-70080F63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B945-4D2C-44DD-A7F4-416C265D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CD58-1C8D-4DB7-9078-EDCD13683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8EF9F-277E-46DB-BAD7-6DF6A0F5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CD9C-B320-41D4-B6EF-82B958DB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5486-4A4A-4864-A0DA-174D5605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4B2B-E7C5-4939-BD5E-F77C24BF0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BEE0-81BF-4FBE-9467-1092010C5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1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47960" y="2057400"/>
            <a:ext cx="42670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999933"/>
                </a:solidFill>
                <a:latin typeface="Garamond"/>
              </a:rPr>
              <a:t>На улицах     </a:t>
            </a:r>
            <a:r>
              <a:rPr b="1" i="1" lang="en-US" sz="6000" spc="-1" strike="noStrike">
                <a:solidFill>
                  <a:srgbClr val="999933"/>
                </a:solidFill>
                <a:latin typeface="Garamond"/>
              </a:rPr>
              <a:t> </a:t>
            </a:r>
            <a:r>
              <a:rPr b="0" lang="en-US" sz="58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123720" y="396216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_LatinoExp"/>
              </a:rPr>
              <a:t>1.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800" spc="-1" strike="noStrike" u="sng">
                <a:solidFill>
                  <a:srgbClr val="333399"/>
                </a:solidFill>
                <a:uFillTx/>
                <a:latin typeface="Sylfaen"/>
              </a:rPr>
              <a:t>Виды дорог и особенности их перехода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Sylfae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_LatinoExp"/>
              </a:rPr>
              <a:t>2.</a:t>
            </a:r>
            <a:r>
              <a:rPr b="0" lang="en-US" sz="4000" spc="-1" strike="noStrike" u="sng">
                <a:solidFill>
                  <a:srgbClr val="9900ff"/>
                </a:solidFill>
                <a:uFillTx/>
                <a:latin typeface="Tahoma"/>
              </a:rPr>
              <a:t> </a:t>
            </a:r>
            <a:r>
              <a:rPr b="1" lang="en-US" sz="3800" spc="-1" strike="noStrike" u="sng">
                <a:solidFill>
                  <a:srgbClr val="ff0000"/>
                </a:solidFill>
                <a:uFillTx/>
                <a:latin typeface="Sylfaen"/>
              </a:rPr>
              <a:t>Игра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lang="en-US" sz="3800" spc="-1" strike="noStrike" u="sng">
                <a:solidFill>
                  <a:srgbClr val="333399"/>
                </a:solidFill>
                <a:uFillTx/>
                <a:latin typeface="Sylfaen"/>
              </a:rPr>
              <a:t>«Дорожные знаки»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10160" y="2743200"/>
            <a:ext cx="4876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999933"/>
                </a:solidFill>
                <a:latin typeface="Garamond"/>
              </a:rPr>
              <a:t>  </a:t>
            </a:r>
            <a:r>
              <a:rPr b="1" i="1" lang="en-US" sz="5800" spc="-1" strike="noStrike">
                <a:solidFill>
                  <a:srgbClr val="999933"/>
                </a:solidFill>
                <a:latin typeface="Garamond"/>
              </a:rPr>
              <a:t>и дорогах     </a:t>
            </a:r>
            <a:r>
              <a:rPr b="1" i="1" lang="en-US" sz="6000" spc="-1" strike="noStrike">
                <a:solidFill>
                  <a:srgbClr val="999933"/>
                </a:solidFill>
                <a:latin typeface="Garamond"/>
              </a:rPr>
              <a:t> </a:t>
            </a:r>
            <a:r>
              <a:rPr b="0" lang="en-US" sz="58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5105520"/>
            <a:ext cx="6095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617220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38862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398772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39960" y="6324480"/>
            <a:ext cx="4222800" cy="31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Автор игры: Крылова О.Н.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3232E-006 L -0.23333 0.00555 E">
                                      <p:cBhvr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676520"/>
            <a:ext cx="2438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город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о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7696080" y="624852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33064" y="10800"/>
                </a:moveTo>
                <a:lnTo>
                  <a:pt x="22558" y="17806"/>
                </a:lnTo>
                <a:lnTo>
                  <a:pt x="22558" y="3794"/>
                </a:lnTo>
                <a:close/>
              </a:path>
              <a:path fill="darken" w="59130" h="21600">
                <a:moveTo>
                  <a:pt x="34909" y="3794"/>
                </a:moveTo>
                <a:lnTo>
                  <a:pt x="34909" y="17806"/>
                </a:lnTo>
                <a:lnTo>
                  <a:pt x="36571" y="17806"/>
                </a:lnTo>
                <a:lnTo>
                  <a:pt x="36571" y="3794"/>
                </a:lnTo>
                <a:close/>
              </a:path>
            </a:pathLst>
          </a:custGeom>
          <a:noFill/>
          <a:ln cap="rnd" w="15840">
            <a:solidFill>
              <a:srgbClr val="33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28600" y="2743200"/>
            <a:ext cx="4495680" cy="388620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4876920" y="1600200"/>
            <a:ext cx="4038480" cy="4572000"/>
          </a:xfrm>
          <a:prstGeom prst="rect">
            <a:avLst/>
          </a:prstGeom>
          <a:blipFill rotWithShape="0">
            <a:blip r:embed="rId5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Переходить загородную дорогу следует так: </a:t>
            </a:r>
            <a:r>
              <a:rPr b="1" i="1" lang="en-US" sz="2300" spc="-1" strike="noStrike">
                <a:solidFill>
                  <a:srgbClr val="ff0066"/>
                </a:solidFill>
                <a:latin typeface="Arial Narrow"/>
              </a:rPr>
              <a:t>остановиться перед ней, сказав себе: «Будь осторожен!»,</a:t>
            </a: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 имея в виду, что машина может появиться с любой стороны, в том числе из-за поворотов, которые всегда есть на загородной дороге. Поэтому надо смотреть вокруг (дорога может быть извилистой), потом налево, направо и, убедившись в безопасности, контролируя ситуацию, переходить дорогу, по возможности не останавливаясь посередин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57200"/>
            <a:ext cx="7921800" cy="1150920"/>
          </a:xfrm>
          <a:custGeom>
            <a:avLst/>
            <a:gdLst>
              <a:gd name="textAreaLeft" fmla="*/ 158760 w 7921800"/>
              <a:gd name="textAreaRight" fmla="*/ 7763040 w 7921800"/>
              <a:gd name="textAreaTop" fmla="*/ 158760 h 1150920"/>
              <a:gd name="textAreaBottom" fmla="*/ 992160 h 1150920"/>
            </a:gdLst>
            <a:ahLst/>
            <a:rect l="textAreaLeft" t="textAreaTop" r="textAreaRight" b="textAreaBottom"/>
            <a:pathLst>
              <a:path w="148633" h="21600">
                <a:moveTo>
                  <a:pt x="0" y="0"/>
                </a:moveTo>
                <a:lnTo>
                  <a:pt x="148633" y="0"/>
                </a:lnTo>
                <a:lnTo>
                  <a:pt x="148633" y="21600"/>
                </a:lnTo>
                <a:lnTo>
                  <a:pt x="0" y="21600"/>
                </a:lnTo>
                <a:close/>
              </a:path>
              <a:path fill="lightenLess" w="148633" h="21600">
                <a:moveTo>
                  <a:pt x="0" y="0"/>
                </a:moveTo>
                <a:lnTo>
                  <a:pt x="148633" y="0"/>
                </a:lnTo>
                <a:lnTo>
                  <a:pt x="145652" y="2982"/>
                </a:lnTo>
                <a:lnTo>
                  <a:pt x="2982" y="2982"/>
                </a:lnTo>
                <a:close/>
              </a:path>
              <a:path fill="darken" w="148633" h="21600">
                <a:moveTo>
                  <a:pt x="148633" y="0"/>
                </a:moveTo>
                <a:lnTo>
                  <a:pt x="148633" y="21600"/>
                </a:lnTo>
                <a:lnTo>
                  <a:pt x="145652" y="18618"/>
                </a:lnTo>
                <a:lnTo>
                  <a:pt x="145652" y="2982"/>
                </a:lnTo>
                <a:close/>
              </a:path>
              <a:path fill="darkenLess" w="148633" h="21600">
                <a:moveTo>
                  <a:pt x="148633" y="21600"/>
                </a:moveTo>
                <a:lnTo>
                  <a:pt x="0" y="21600"/>
                </a:lnTo>
                <a:lnTo>
                  <a:pt x="2982" y="18618"/>
                </a:lnTo>
                <a:lnTo>
                  <a:pt x="145652" y="18618"/>
                </a:lnTo>
                <a:close/>
              </a:path>
              <a:path fill="lighten" w="148633" h="21600">
                <a:moveTo>
                  <a:pt x="0" y="21600"/>
                </a:moveTo>
                <a:lnTo>
                  <a:pt x="0" y="0"/>
                </a:lnTo>
                <a:lnTo>
                  <a:pt x="2982" y="2982"/>
                </a:lnTo>
                <a:lnTo>
                  <a:pt x="2982" y="18618"/>
                </a:lnTo>
                <a:close/>
              </a:path>
            </a:pathLst>
          </a:custGeom>
          <a:solidFill>
            <a:srgbClr val="ccffff">
              <a:alpha val="78000"/>
            </a:srgbClr>
          </a:solidFill>
          <a:ln w="47520">
            <a:solidFill>
              <a:srgbClr val="000080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51040" y="1797120"/>
            <a:ext cx="2346120" cy="4170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487680" y="2085840"/>
            <a:ext cx="1152720" cy="1152720"/>
          </a:xfrm>
          <a:custGeom>
            <a:avLst/>
            <a:gdLst>
              <a:gd name="textAreaLeft" fmla="*/ 173520 w 1152720"/>
              <a:gd name="textAreaRight" fmla="*/ 979200 w 115272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45" y="18345"/>
                </a:lnTo>
                <a:lnTo>
                  <a:pt x="18345" y="325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55" y="18345"/>
                </a:lnTo>
                <a:lnTo>
                  <a:pt x="18345" y="1834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45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20960" y="233676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27680" y="208584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96040" y="208584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87680" y="3382920"/>
            <a:ext cx="1152720" cy="1152720"/>
          </a:xfrm>
          <a:custGeom>
            <a:avLst/>
            <a:gdLst>
              <a:gd name="textAreaLeft" fmla="*/ 173520 w 1152720"/>
              <a:gd name="textAreaRight" fmla="*/ 979200 w 115272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45" y="18345"/>
                </a:lnTo>
                <a:lnTo>
                  <a:pt x="18345" y="325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55" y="18345"/>
                </a:lnTo>
                <a:lnTo>
                  <a:pt x="18345" y="1834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45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27680" y="338292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6040" y="338292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87680" y="4678200"/>
            <a:ext cx="1152720" cy="1152720"/>
          </a:xfrm>
          <a:custGeom>
            <a:avLst/>
            <a:gdLst>
              <a:gd name="textAreaLeft" fmla="*/ 173520 w 1152720"/>
              <a:gd name="textAreaRight" fmla="*/ 979200 w 115272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45" y="18345"/>
                </a:lnTo>
                <a:lnTo>
                  <a:pt x="18345" y="325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55" y="18345"/>
                </a:lnTo>
                <a:lnTo>
                  <a:pt x="18345" y="1834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45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27680" y="467820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96040" y="467820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68880" y="226044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40480" y="226044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2096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16888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540480" y="363204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97280" y="49276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1688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5404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762120"/>
            <a:ext cx="7391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38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08840" y="6172200"/>
            <a:ext cx="2806560" cy="433440"/>
          </a:xfrm>
          <a:custGeom>
            <a:avLst/>
            <a:gdLst>
              <a:gd name="textAreaLeft" fmla="*/ 59400 w 2806560"/>
              <a:gd name="textAreaRight" fmla="*/ 2747160 w 280656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39764" h="21600">
                <a:moveTo>
                  <a:pt x="0" y="0"/>
                </a:moveTo>
                <a:lnTo>
                  <a:pt x="139764" y="0"/>
                </a:lnTo>
                <a:lnTo>
                  <a:pt x="139764" y="21600"/>
                </a:lnTo>
                <a:lnTo>
                  <a:pt x="0" y="21600"/>
                </a:lnTo>
                <a:close/>
              </a:path>
              <a:path fill="lightenLess" w="139764" h="21600">
                <a:moveTo>
                  <a:pt x="0" y="0"/>
                </a:moveTo>
                <a:lnTo>
                  <a:pt x="139764" y="0"/>
                </a:lnTo>
                <a:lnTo>
                  <a:pt x="136803" y="2961"/>
                </a:lnTo>
                <a:lnTo>
                  <a:pt x="2961" y="2961"/>
                </a:lnTo>
                <a:close/>
              </a:path>
              <a:path fill="darken" w="139764" h="21600">
                <a:moveTo>
                  <a:pt x="139764" y="0"/>
                </a:moveTo>
                <a:lnTo>
                  <a:pt x="139764" y="21600"/>
                </a:lnTo>
                <a:lnTo>
                  <a:pt x="136803" y="18639"/>
                </a:lnTo>
                <a:lnTo>
                  <a:pt x="136803" y="2961"/>
                </a:lnTo>
                <a:close/>
              </a:path>
              <a:path fill="darkenLess" w="139764" h="21600">
                <a:moveTo>
                  <a:pt x="1397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6803" y="18639"/>
                </a:lnTo>
                <a:close/>
              </a:path>
              <a:path fill="lighten" w="1397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х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79680" y="6222960"/>
            <a:ext cx="3792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берите номер вопроса и щёлкнит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вой клавишей мыши по циф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6045120" y="6172200"/>
            <a:ext cx="2870280" cy="433440"/>
          </a:xfrm>
          <a:custGeom>
            <a:avLst/>
            <a:gdLst>
              <a:gd name="textAreaLeft" fmla="*/ 59400 w 2870280"/>
              <a:gd name="textAreaRight" fmla="*/ 2810880 w 287028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2936" h="21600">
                <a:moveTo>
                  <a:pt x="0" y="0"/>
                </a:moveTo>
                <a:lnTo>
                  <a:pt x="142936" y="0"/>
                </a:lnTo>
                <a:lnTo>
                  <a:pt x="142936" y="21600"/>
                </a:lnTo>
                <a:lnTo>
                  <a:pt x="0" y="21600"/>
                </a:lnTo>
                <a:close/>
              </a:path>
              <a:path fill="lightenLess" w="142936" h="21600">
                <a:moveTo>
                  <a:pt x="0" y="0"/>
                </a:moveTo>
                <a:lnTo>
                  <a:pt x="142936" y="0"/>
                </a:lnTo>
                <a:lnTo>
                  <a:pt x="139976" y="2961"/>
                </a:lnTo>
                <a:lnTo>
                  <a:pt x="2961" y="2961"/>
                </a:lnTo>
                <a:close/>
              </a:path>
              <a:path fill="darken" w="142936" h="21600">
                <a:moveTo>
                  <a:pt x="142936" y="0"/>
                </a:moveTo>
                <a:lnTo>
                  <a:pt x="142936" y="21600"/>
                </a:lnTo>
                <a:lnTo>
                  <a:pt x="139976" y="18639"/>
                </a:lnTo>
                <a:lnTo>
                  <a:pt x="139976" y="2961"/>
                </a:lnTo>
                <a:close/>
              </a:path>
              <a:path fill="darkenLess" w="142936" h="21600">
                <a:moveTo>
                  <a:pt x="142936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9976" y="18639"/>
                </a:lnTo>
                <a:close/>
              </a:path>
              <a:path fill="lighten" w="142936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24680" y="304920"/>
            <a:ext cx="843120" cy="838080"/>
          </a:xfrm>
          <a:custGeom>
            <a:avLst/>
            <a:gdLst>
              <a:gd name="textAreaLeft" fmla="*/ 91440 w 843120"/>
              <a:gd name="textAreaRight" fmla="*/ 751680 w 843120"/>
              <a:gd name="textAreaTop" fmla="*/ 91440 h 838080"/>
              <a:gd name="textAreaBottom" fmla="*/ 746640 h 838080"/>
            </a:gdLst>
            <a:ahLst/>
            <a:rect l="textAreaLeft" t="textAreaTop" r="textAreaRight" b="textAreaBottom"/>
            <a:pathLst>
              <a:path w="21730" h="21600">
                <a:moveTo>
                  <a:pt x="0" y="0"/>
                </a:moveTo>
                <a:lnTo>
                  <a:pt x="21730" y="0"/>
                </a:lnTo>
                <a:lnTo>
                  <a:pt x="21730" y="21600"/>
                </a:lnTo>
                <a:lnTo>
                  <a:pt x="0" y="21600"/>
                </a:lnTo>
                <a:close/>
              </a:path>
              <a:path fill="lightenLess" w="21730" h="21600">
                <a:moveTo>
                  <a:pt x="0" y="0"/>
                </a:moveTo>
                <a:lnTo>
                  <a:pt x="21730" y="0"/>
                </a:lnTo>
                <a:lnTo>
                  <a:pt x="19372" y="2358"/>
                </a:lnTo>
                <a:lnTo>
                  <a:pt x="2358" y="2358"/>
                </a:lnTo>
                <a:close/>
              </a:path>
              <a:path fill="darken" w="21730" h="21600">
                <a:moveTo>
                  <a:pt x="21730" y="0"/>
                </a:moveTo>
                <a:lnTo>
                  <a:pt x="21730" y="21600"/>
                </a:lnTo>
                <a:lnTo>
                  <a:pt x="19372" y="19242"/>
                </a:lnTo>
                <a:lnTo>
                  <a:pt x="19372" y="2358"/>
                </a:lnTo>
                <a:close/>
              </a:path>
              <a:path fill="darkenLess" w="21730" h="21600">
                <a:moveTo>
                  <a:pt x="21730" y="21600"/>
                </a:moveTo>
                <a:lnTo>
                  <a:pt x="0" y="21600"/>
                </a:lnTo>
                <a:lnTo>
                  <a:pt x="2358" y="19242"/>
                </a:lnTo>
                <a:lnTo>
                  <a:pt x="19372" y="19242"/>
                </a:lnTo>
                <a:close/>
              </a:path>
              <a:path fill="lighten" w="21730" h="21600">
                <a:moveTo>
                  <a:pt x="0" y="21600"/>
                </a:moveTo>
                <a:lnTo>
                  <a:pt x="0" y="0"/>
                </a:lnTo>
                <a:lnTo>
                  <a:pt x="2358" y="2358"/>
                </a:lnTo>
                <a:lnTo>
                  <a:pt x="2358" y="1924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53280" y="5335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1600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О чём он говори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2819520"/>
            <a:ext cx="7391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0" i="1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Дорога с односторонним движением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Знак говорит водителям автомобилей и велосипедистам, что на этом участке дороги можно двигаться только в одном направлении. Разворачиваться и ехать в обратном направлении, навстречу движению, нельзя. Это может привести к дорожному происшеств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525840" y="2814480"/>
            <a:ext cx="3141720" cy="315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autoRev="1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382" dur="500" autoRev="1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383" dur="500" autoRev="1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7 L -0.29791 -0.28333 E">
                                      <p:cBhvr>
                                        <p:cTn id="387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1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924680" y="304920"/>
            <a:ext cx="843120" cy="838080"/>
          </a:xfrm>
          <a:custGeom>
            <a:avLst/>
            <a:gdLst>
              <a:gd name="textAreaLeft" fmla="*/ 91440 w 843120"/>
              <a:gd name="textAreaRight" fmla="*/ 751680 w 843120"/>
              <a:gd name="textAreaTop" fmla="*/ 91440 h 838080"/>
              <a:gd name="textAreaBottom" fmla="*/ 746640 h 838080"/>
            </a:gdLst>
            <a:ahLst/>
            <a:rect l="textAreaLeft" t="textAreaTop" r="textAreaRight" b="textAreaBottom"/>
            <a:pathLst>
              <a:path w="21730" h="21600">
                <a:moveTo>
                  <a:pt x="0" y="0"/>
                </a:moveTo>
                <a:lnTo>
                  <a:pt x="21730" y="0"/>
                </a:lnTo>
                <a:lnTo>
                  <a:pt x="21730" y="21600"/>
                </a:lnTo>
                <a:lnTo>
                  <a:pt x="0" y="21600"/>
                </a:lnTo>
                <a:close/>
              </a:path>
              <a:path fill="lightenLess" w="21730" h="21600">
                <a:moveTo>
                  <a:pt x="0" y="0"/>
                </a:moveTo>
                <a:lnTo>
                  <a:pt x="21730" y="0"/>
                </a:lnTo>
                <a:lnTo>
                  <a:pt x="19372" y="2358"/>
                </a:lnTo>
                <a:lnTo>
                  <a:pt x="2358" y="2358"/>
                </a:lnTo>
                <a:close/>
              </a:path>
              <a:path fill="darken" w="21730" h="21600">
                <a:moveTo>
                  <a:pt x="21730" y="0"/>
                </a:moveTo>
                <a:lnTo>
                  <a:pt x="21730" y="21600"/>
                </a:lnTo>
                <a:lnTo>
                  <a:pt x="19372" y="19242"/>
                </a:lnTo>
                <a:lnTo>
                  <a:pt x="19372" y="2358"/>
                </a:lnTo>
                <a:close/>
              </a:path>
              <a:path fill="darkenLess" w="21730" h="21600">
                <a:moveTo>
                  <a:pt x="21730" y="21600"/>
                </a:moveTo>
                <a:lnTo>
                  <a:pt x="0" y="21600"/>
                </a:lnTo>
                <a:lnTo>
                  <a:pt x="2358" y="19242"/>
                </a:lnTo>
                <a:lnTo>
                  <a:pt x="19372" y="19242"/>
                </a:lnTo>
                <a:close/>
              </a:path>
              <a:path fill="lighten" w="21730" h="21600">
                <a:moveTo>
                  <a:pt x="0" y="21600"/>
                </a:moveTo>
                <a:lnTo>
                  <a:pt x="0" y="0"/>
                </a:lnTo>
                <a:lnTo>
                  <a:pt x="2358" y="2358"/>
                </a:lnTo>
                <a:lnTo>
                  <a:pt x="2358" y="1924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3" action="ppaction://hlinksldjump"/>
          </p:cNvPr>
          <p:cNvSpPr/>
          <p:nvPr/>
        </p:nvSpPr>
        <p:spPr>
          <a:xfrm>
            <a:off x="6083280" y="6172200"/>
            <a:ext cx="2832120" cy="433440"/>
          </a:xfrm>
          <a:custGeom>
            <a:avLst/>
            <a:gdLst>
              <a:gd name="textAreaLeft" fmla="*/ 59400 w 2832120"/>
              <a:gd name="textAreaRight" fmla="*/ 2772720 w 28321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1036" h="21600">
                <a:moveTo>
                  <a:pt x="0" y="0"/>
                </a:moveTo>
                <a:lnTo>
                  <a:pt x="141036" y="0"/>
                </a:lnTo>
                <a:lnTo>
                  <a:pt x="141036" y="21600"/>
                </a:lnTo>
                <a:lnTo>
                  <a:pt x="0" y="21600"/>
                </a:lnTo>
                <a:close/>
              </a:path>
              <a:path fill="lightenLess" w="141036" h="21600">
                <a:moveTo>
                  <a:pt x="0" y="0"/>
                </a:moveTo>
                <a:lnTo>
                  <a:pt x="141036" y="0"/>
                </a:lnTo>
                <a:lnTo>
                  <a:pt x="138075" y="2961"/>
                </a:lnTo>
                <a:lnTo>
                  <a:pt x="2961" y="2961"/>
                </a:lnTo>
                <a:close/>
              </a:path>
              <a:path fill="darken" w="141036" h="21600">
                <a:moveTo>
                  <a:pt x="141036" y="0"/>
                </a:moveTo>
                <a:lnTo>
                  <a:pt x="141036" y="21600"/>
                </a:lnTo>
                <a:lnTo>
                  <a:pt x="138075" y="18639"/>
                </a:lnTo>
                <a:lnTo>
                  <a:pt x="138075" y="2961"/>
                </a:lnTo>
                <a:close/>
              </a:path>
              <a:path fill="darkenLess" w="141036" h="21600">
                <a:moveTo>
                  <a:pt x="141036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8075" y="18639"/>
                </a:lnTo>
                <a:close/>
              </a:path>
              <a:path fill="lighten" w="141036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1600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Где он устанавливае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2895480"/>
            <a:ext cx="7086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0" i="1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Двустороннее движение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Такой знак устанавливают на участке улицы или дороги со встречным движением, которому ранее предшествовал участок дороги с односторонним движением. Водители и велосипедисты должны проезжать этот опасный участок дороги с особой осторожностью, снизив скорост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390840" y="2833560"/>
            <a:ext cx="3589560" cy="3114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03" dur="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04" dur="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22222E-006 L -0.29791 -0.28611 E">
                                      <p:cBhvr>
                                        <p:cTn id="40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0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924680" y="304920"/>
            <a:ext cx="843120" cy="838080"/>
          </a:xfrm>
          <a:custGeom>
            <a:avLst/>
            <a:gdLst>
              <a:gd name="textAreaLeft" fmla="*/ 91440 w 843120"/>
              <a:gd name="textAreaRight" fmla="*/ 751680 w 843120"/>
              <a:gd name="textAreaTop" fmla="*/ 91440 h 838080"/>
              <a:gd name="textAreaBottom" fmla="*/ 746640 h 838080"/>
            </a:gdLst>
            <a:ahLst/>
            <a:rect l="textAreaLeft" t="textAreaTop" r="textAreaRight" b="textAreaBottom"/>
            <a:pathLst>
              <a:path w="21730" h="21600">
                <a:moveTo>
                  <a:pt x="0" y="0"/>
                </a:moveTo>
                <a:lnTo>
                  <a:pt x="21730" y="0"/>
                </a:lnTo>
                <a:lnTo>
                  <a:pt x="21730" y="21600"/>
                </a:lnTo>
                <a:lnTo>
                  <a:pt x="0" y="21600"/>
                </a:lnTo>
                <a:close/>
              </a:path>
              <a:path fill="lightenLess" w="21730" h="21600">
                <a:moveTo>
                  <a:pt x="0" y="0"/>
                </a:moveTo>
                <a:lnTo>
                  <a:pt x="21730" y="0"/>
                </a:lnTo>
                <a:lnTo>
                  <a:pt x="19372" y="2358"/>
                </a:lnTo>
                <a:lnTo>
                  <a:pt x="2358" y="2358"/>
                </a:lnTo>
                <a:close/>
              </a:path>
              <a:path fill="darken" w="21730" h="21600">
                <a:moveTo>
                  <a:pt x="21730" y="0"/>
                </a:moveTo>
                <a:lnTo>
                  <a:pt x="21730" y="21600"/>
                </a:lnTo>
                <a:lnTo>
                  <a:pt x="19372" y="19242"/>
                </a:lnTo>
                <a:lnTo>
                  <a:pt x="19372" y="2358"/>
                </a:lnTo>
                <a:close/>
              </a:path>
              <a:path fill="darkenLess" w="21730" h="21600">
                <a:moveTo>
                  <a:pt x="21730" y="21600"/>
                </a:moveTo>
                <a:lnTo>
                  <a:pt x="0" y="21600"/>
                </a:lnTo>
                <a:lnTo>
                  <a:pt x="2358" y="19242"/>
                </a:lnTo>
                <a:lnTo>
                  <a:pt x="19372" y="19242"/>
                </a:lnTo>
                <a:close/>
              </a:path>
              <a:path fill="lighten" w="21730" h="21600">
                <a:moveTo>
                  <a:pt x="0" y="21600"/>
                </a:moveTo>
                <a:lnTo>
                  <a:pt x="0" y="0"/>
                </a:lnTo>
                <a:lnTo>
                  <a:pt x="2358" y="2358"/>
                </a:lnTo>
                <a:lnTo>
                  <a:pt x="2358" y="1924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609480"/>
            <a:ext cx="6095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6070680" y="6172200"/>
            <a:ext cx="2844720" cy="433440"/>
          </a:xfrm>
          <a:custGeom>
            <a:avLst/>
            <a:gdLst>
              <a:gd name="textAreaLeft" fmla="*/ 59400 w 2844720"/>
              <a:gd name="textAreaRight" fmla="*/ 2785320 w 28447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1664" h="21600">
                <a:moveTo>
                  <a:pt x="0" y="0"/>
                </a:moveTo>
                <a:lnTo>
                  <a:pt x="141664" y="0"/>
                </a:lnTo>
                <a:lnTo>
                  <a:pt x="141664" y="21600"/>
                </a:lnTo>
                <a:lnTo>
                  <a:pt x="0" y="21600"/>
                </a:lnTo>
                <a:close/>
              </a:path>
              <a:path fill="lightenLess" w="141664" h="21600">
                <a:moveTo>
                  <a:pt x="0" y="0"/>
                </a:moveTo>
                <a:lnTo>
                  <a:pt x="141664" y="0"/>
                </a:lnTo>
                <a:lnTo>
                  <a:pt x="138703" y="2961"/>
                </a:lnTo>
                <a:lnTo>
                  <a:pt x="2961" y="2961"/>
                </a:lnTo>
                <a:close/>
              </a:path>
              <a:path fill="darken" w="141664" h="21600">
                <a:moveTo>
                  <a:pt x="141664" y="0"/>
                </a:moveTo>
                <a:lnTo>
                  <a:pt x="141664" y="21600"/>
                </a:lnTo>
                <a:lnTo>
                  <a:pt x="138703" y="18639"/>
                </a:lnTo>
                <a:lnTo>
                  <a:pt x="138703" y="2961"/>
                </a:lnTo>
                <a:close/>
              </a:path>
              <a:path fill="darkenLess" w="141664" h="21600">
                <a:moveTo>
                  <a:pt x="1416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8703" y="18639"/>
                </a:lnTo>
                <a:close/>
              </a:path>
              <a:path fill="lighten" w="1416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1523880"/>
            <a:ext cx="5257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О чём он гово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одителям и пешехода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124080"/>
            <a:ext cx="7391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0" i="1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Место стоянк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Это знак указывает на место стоянки транспортных средств. Пешеходам нельзя заходить на эту площадку, так как в любую минуту к стоянке может подъехать автомобил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862440" y="3076560"/>
            <a:ext cx="3000240" cy="3017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24" dur="50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25" dur="50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-0.31458 -0.30556 E">
                                      <p:cBhvr>
                                        <p:cTn id="429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6108840" y="6172200"/>
            <a:ext cx="2806560" cy="433440"/>
          </a:xfrm>
          <a:custGeom>
            <a:avLst/>
            <a:gdLst>
              <a:gd name="textAreaLeft" fmla="*/ 59400 w 2806560"/>
              <a:gd name="textAreaRight" fmla="*/ 2747160 w 280656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39764" h="21600">
                <a:moveTo>
                  <a:pt x="0" y="0"/>
                </a:moveTo>
                <a:lnTo>
                  <a:pt x="139764" y="0"/>
                </a:lnTo>
                <a:lnTo>
                  <a:pt x="139764" y="21600"/>
                </a:lnTo>
                <a:lnTo>
                  <a:pt x="0" y="21600"/>
                </a:lnTo>
                <a:close/>
              </a:path>
              <a:path fill="lightenLess" w="139764" h="21600">
                <a:moveTo>
                  <a:pt x="0" y="0"/>
                </a:moveTo>
                <a:lnTo>
                  <a:pt x="139764" y="0"/>
                </a:lnTo>
                <a:lnTo>
                  <a:pt x="136803" y="2961"/>
                </a:lnTo>
                <a:lnTo>
                  <a:pt x="2961" y="2961"/>
                </a:lnTo>
                <a:close/>
              </a:path>
              <a:path fill="darken" w="139764" h="21600">
                <a:moveTo>
                  <a:pt x="139764" y="0"/>
                </a:moveTo>
                <a:lnTo>
                  <a:pt x="139764" y="21600"/>
                </a:lnTo>
                <a:lnTo>
                  <a:pt x="136803" y="18639"/>
                </a:lnTo>
                <a:lnTo>
                  <a:pt x="136803" y="2961"/>
                </a:lnTo>
                <a:close/>
              </a:path>
              <a:path fill="darkenLess" w="139764" h="21600">
                <a:moveTo>
                  <a:pt x="1397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6803" y="18639"/>
                </a:lnTo>
                <a:close/>
              </a:path>
              <a:path fill="lighten" w="1397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160020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огда и где 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устанавливае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95480"/>
            <a:ext cx="7086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0" i="1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Проход закрыт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Этот знак запрещает движение пешеходов. Его устанавливают, как правило, в местах, где ведутся какие-либо дорожно-ремонтные работы, около строительных площадок, то есть там, где может возникнуть опасность для жизни пешеходов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581280" y="2852640"/>
            <a:ext cx="3154320" cy="3171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45" dur="50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46" dur="50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-0.28333 -0.28889 E">
                                      <p:cBhvr>
                                        <p:cTn id="45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609480"/>
            <a:ext cx="6095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6070680" y="6172200"/>
            <a:ext cx="2844720" cy="433440"/>
          </a:xfrm>
          <a:custGeom>
            <a:avLst/>
            <a:gdLst>
              <a:gd name="textAreaLeft" fmla="*/ 59400 w 2844720"/>
              <a:gd name="textAreaRight" fmla="*/ 2785320 w 28447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1664" h="21600">
                <a:moveTo>
                  <a:pt x="0" y="0"/>
                </a:moveTo>
                <a:lnTo>
                  <a:pt x="141664" y="0"/>
                </a:lnTo>
                <a:lnTo>
                  <a:pt x="141664" y="21600"/>
                </a:lnTo>
                <a:lnTo>
                  <a:pt x="0" y="21600"/>
                </a:lnTo>
                <a:close/>
              </a:path>
              <a:path fill="lightenLess" w="141664" h="21600">
                <a:moveTo>
                  <a:pt x="0" y="0"/>
                </a:moveTo>
                <a:lnTo>
                  <a:pt x="141664" y="0"/>
                </a:lnTo>
                <a:lnTo>
                  <a:pt x="138703" y="2961"/>
                </a:lnTo>
                <a:lnTo>
                  <a:pt x="2961" y="2961"/>
                </a:lnTo>
                <a:close/>
              </a:path>
              <a:path fill="darken" w="141664" h="21600">
                <a:moveTo>
                  <a:pt x="141664" y="0"/>
                </a:moveTo>
                <a:lnTo>
                  <a:pt x="141664" y="21600"/>
                </a:lnTo>
                <a:lnTo>
                  <a:pt x="138703" y="18639"/>
                </a:lnTo>
                <a:lnTo>
                  <a:pt x="138703" y="2961"/>
                </a:lnTo>
                <a:close/>
              </a:path>
              <a:path fill="darkenLess" w="141664" h="21600">
                <a:moveTo>
                  <a:pt x="1416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8703" y="18639"/>
                </a:lnTo>
                <a:close/>
              </a:path>
              <a:path fill="lighten" w="1416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1600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акие действия долж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редпринять водител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2743200"/>
            <a:ext cx="7086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Движение без остановки запрещено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Знак окрашен в красный цвет. Его устанавливают перед перекрёстками улиц и дорог с большим движение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Увидев этот знак , водители автомобилей и велосипедисты должны остановиться и пропустить транспортные средства в поперечном направлении. После этого можно начать движение через перекрёст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505320" y="28195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66" dur="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67" dur="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-0.30417 -0.29444 E">
                                      <p:cBhvr>
                                        <p:cTn id="473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6095880" y="6172200"/>
            <a:ext cx="2819520" cy="433440"/>
          </a:xfrm>
          <a:custGeom>
            <a:avLst/>
            <a:gdLst>
              <a:gd name="textAreaLeft" fmla="*/ 59400 w 2819520"/>
              <a:gd name="textAreaRight" fmla="*/ 2760120 w 28195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0409" h="21600">
                <a:moveTo>
                  <a:pt x="0" y="0"/>
                </a:moveTo>
                <a:lnTo>
                  <a:pt x="140409" y="0"/>
                </a:lnTo>
                <a:lnTo>
                  <a:pt x="140409" y="21600"/>
                </a:lnTo>
                <a:lnTo>
                  <a:pt x="0" y="21600"/>
                </a:lnTo>
                <a:close/>
              </a:path>
              <a:path fill="lightenLess" w="140409" h="21600">
                <a:moveTo>
                  <a:pt x="0" y="0"/>
                </a:moveTo>
                <a:lnTo>
                  <a:pt x="140409" y="0"/>
                </a:lnTo>
                <a:lnTo>
                  <a:pt x="137448" y="2961"/>
                </a:lnTo>
                <a:lnTo>
                  <a:pt x="2961" y="2961"/>
                </a:lnTo>
                <a:close/>
              </a:path>
              <a:path fill="darken" w="140409" h="21600">
                <a:moveTo>
                  <a:pt x="140409" y="0"/>
                </a:moveTo>
                <a:lnTo>
                  <a:pt x="140409" y="21600"/>
                </a:lnTo>
                <a:lnTo>
                  <a:pt x="137448" y="18639"/>
                </a:lnTo>
                <a:lnTo>
                  <a:pt x="137448" y="2961"/>
                </a:lnTo>
                <a:close/>
              </a:path>
              <a:path fill="darkenLess" w="140409" h="21600">
                <a:moveTo>
                  <a:pt x="140409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7448" y="18639"/>
                </a:lnTo>
                <a:close/>
              </a:path>
              <a:path fill="lighten" w="140409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1600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ак должен поступ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одитель и велосипедис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289548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ересечение с трамвайной линией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В некоторых городах дорогу часто пересекают трамвайные линии. Они опасны для водителей и пешеходов. Пешеходы, велосипедисты и водители автомашин должны полностью убедиться в том, что нет приближающегося трамвая, и только после этого можно пересекать трамвайные пу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200400" y="2752560"/>
            <a:ext cx="3809880" cy="3303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87" dur="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8" dur="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2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0.26666 -0.28657 E">
                                      <p:cBhvr>
                                        <p:cTn id="49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609480"/>
            <a:ext cx="6095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6095880" y="6172200"/>
            <a:ext cx="2819520" cy="433440"/>
          </a:xfrm>
          <a:custGeom>
            <a:avLst/>
            <a:gdLst>
              <a:gd name="textAreaLeft" fmla="*/ 59400 w 2819520"/>
              <a:gd name="textAreaRight" fmla="*/ 2760120 w 28195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0409" h="21600">
                <a:moveTo>
                  <a:pt x="0" y="0"/>
                </a:moveTo>
                <a:lnTo>
                  <a:pt x="140409" y="0"/>
                </a:lnTo>
                <a:lnTo>
                  <a:pt x="140409" y="21600"/>
                </a:lnTo>
                <a:lnTo>
                  <a:pt x="0" y="21600"/>
                </a:lnTo>
                <a:close/>
              </a:path>
              <a:path fill="lightenLess" w="140409" h="21600">
                <a:moveTo>
                  <a:pt x="0" y="0"/>
                </a:moveTo>
                <a:lnTo>
                  <a:pt x="140409" y="0"/>
                </a:lnTo>
                <a:lnTo>
                  <a:pt x="137448" y="2961"/>
                </a:lnTo>
                <a:lnTo>
                  <a:pt x="2961" y="2961"/>
                </a:lnTo>
                <a:close/>
              </a:path>
              <a:path fill="darken" w="140409" h="21600">
                <a:moveTo>
                  <a:pt x="140409" y="0"/>
                </a:moveTo>
                <a:lnTo>
                  <a:pt x="140409" y="21600"/>
                </a:lnTo>
                <a:lnTo>
                  <a:pt x="137448" y="18639"/>
                </a:lnTo>
                <a:lnTo>
                  <a:pt x="137448" y="2961"/>
                </a:lnTo>
                <a:close/>
              </a:path>
              <a:path fill="darkenLess" w="140409" h="21600">
                <a:moveTo>
                  <a:pt x="140409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7448" y="18639"/>
                </a:lnTo>
                <a:close/>
              </a:path>
              <a:path fill="lighten" w="140409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160020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ют эти знак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Где их можно встрет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181480" y="2514600"/>
            <a:ext cx="3733920" cy="3236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1523880" y="2600280"/>
            <a:ext cx="3657600" cy="31701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76720" y="2438280"/>
            <a:ext cx="56386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рутой подъём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рутой  спус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На дорогах встречаются крутые подъёмы и спуски. О их появлении на пути водителей автомобилей и велосипедистов устанавливают эти знаки. В этих местах надо ехать с особой осторожностью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08" dur="5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09" dur="5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-0.09167 -0.26575 E">
                                      <p:cBhvr>
                                        <p:cTn id="515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L -0.4875 0.05301 E">
                                      <p:cBhvr>
                                        <p:cTn id="51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609480"/>
            <a:ext cx="6095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6070680" y="6172200"/>
            <a:ext cx="2844720" cy="433440"/>
          </a:xfrm>
          <a:custGeom>
            <a:avLst/>
            <a:gdLst>
              <a:gd name="textAreaLeft" fmla="*/ 59400 w 2844720"/>
              <a:gd name="textAreaRight" fmla="*/ 2785320 w 28447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1664" h="21600">
                <a:moveTo>
                  <a:pt x="0" y="0"/>
                </a:moveTo>
                <a:lnTo>
                  <a:pt x="141664" y="0"/>
                </a:lnTo>
                <a:lnTo>
                  <a:pt x="141664" y="21600"/>
                </a:lnTo>
                <a:lnTo>
                  <a:pt x="0" y="21600"/>
                </a:lnTo>
                <a:close/>
              </a:path>
              <a:path fill="lightenLess" w="141664" h="21600">
                <a:moveTo>
                  <a:pt x="0" y="0"/>
                </a:moveTo>
                <a:lnTo>
                  <a:pt x="141664" y="0"/>
                </a:lnTo>
                <a:lnTo>
                  <a:pt x="138703" y="2961"/>
                </a:lnTo>
                <a:lnTo>
                  <a:pt x="2961" y="2961"/>
                </a:lnTo>
                <a:close/>
              </a:path>
              <a:path fill="darken" w="141664" h="21600">
                <a:moveTo>
                  <a:pt x="141664" y="0"/>
                </a:moveTo>
                <a:lnTo>
                  <a:pt x="141664" y="21600"/>
                </a:lnTo>
                <a:lnTo>
                  <a:pt x="138703" y="18639"/>
                </a:lnTo>
                <a:lnTo>
                  <a:pt x="138703" y="2961"/>
                </a:lnTo>
                <a:close/>
              </a:path>
              <a:path fill="darkenLess" w="141664" h="21600">
                <a:moveTo>
                  <a:pt x="1416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8703" y="18639"/>
                </a:lnTo>
                <a:close/>
              </a:path>
              <a:path fill="lighten" w="1416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1600200"/>
            <a:ext cx="525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акое название имеет эт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О чём он говори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2895480"/>
            <a:ext cx="7315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ункт пер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медицинской помощ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Это знак оповещает водителей и пассажиров о том, что неподалёку от дороги находится пункт неотложной помощ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3886200" y="2819520"/>
            <a:ext cx="2649600" cy="3276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3" dur="50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34" dur="50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8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L -0.26979 -0.23889 E">
                                      <p:cBhvr>
                                        <p:cTn id="54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876920" cy="46116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5790960"/>
            <a:ext cx="3809880" cy="685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33"/>
                </a:solidFill>
                <a:latin typeface="a_RubricaCn"/>
              </a:rPr>
              <a:t>Проезжая часть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4648320"/>
            <a:ext cx="2438280" cy="685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_PlakatTitulOtl"/>
              </a:rPr>
              <a:t> </a:t>
            </a:r>
            <a:r>
              <a:rPr b="1" lang="en-US" sz="3400" spc="-1" strike="noStrike">
                <a:solidFill>
                  <a:srgbClr val="660033"/>
                </a:solidFill>
                <a:latin typeface="a_RubricaCn"/>
              </a:rPr>
              <a:t>Тротуар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86200" y="6019560"/>
            <a:ext cx="914400" cy="152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971800" y="4495680"/>
            <a:ext cx="1676520" cy="4572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600200"/>
            <a:ext cx="3581280" cy="2514600"/>
          </a:xfrm>
          <a:prstGeom prst="rect">
            <a:avLst/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Пешеходы должны ходить по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тротуару, а не вдоль дороги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Тротуар всегда возвышаетс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над проезжей частью дорог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на 15—20 см, чтобы на него н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заезжали машин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600200"/>
            <a:ext cx="3581280" cy="2743200"/>
          </a:xfrm>
          <a:prstGeom prst="rect">
            <a:avLst/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На некоторых улицах, где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особенно многолюдно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тротуары отделяют от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проезжей части дорог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металлическим огражден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Через него ни в коем случае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нельзя перелезать 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123400">
            <a:off x="4038120" y="464796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980000">
            <a:off x="4724280" y="434340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573800">
            <a:off x="5333760" y="396216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266800">
            <a:off x="6004080" y="3659040"/>
            <a:ext cx="914400" cy="83844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980000">
            <a:off x="6705720" y="327672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980000">
            <a:off x="7391520" y="297180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980000">
            <a:off x="8075520" y="2665080"/>
            <a:ext cx="838440" cy="89676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2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70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3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6108840" y="6172200"/>
            <a:ext cx="2806560" cy="433440"/>
          </a:xfrm>
          <a:custGeom>
            <a:avLst/>
            <a:gdLst>
              <a:gd name="textAreaLeft" fmla="*/ 59400 w 2806560"/>
              <a:gd name="textAreaRight" fmla="*/ 2747160 w 280656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39764" h="21600">
                <a:moveTo>
                  <a:pt x="0" y="0"/>
                </a:moveTo>
                <a:lnTo>
                  <a:pt x="139764" y="0"/>
                </a:lnTo>
                <a:lnTo>
                  <a:pt x="139764" y="21600"/>
                </a:lnTo>
                <a:lnTo>
                  <a:pt x="0" y="21600"/>
                </a:lnTo>
                <a:close/>
              </a:path>
              <a:path fill="lightenLess" w="139764" h="21600">
                <a:moveTo>
                  <a:pt x="0" y="0"/>
                </a:moveTo>
                <a:lnTo>
                  <a:pt x="139764" y="0"/>
                </a:lnTo>
                <a:lnTo>
                  <a:pt x="136803" y="2961"/>
                </a:lnTo>
                <a:lnTo>
                  <a:pt x="2961" y="2961"/>
                </a:lnTo>
                <a:close/>
              </a:path>
              <a:path fill="darken" w="139764" h="21600">
                <a:moveTo>
                  <a:pt x="139764" y="0"/>
                </a:moveTo>
                <a:lnTo>
                  <a:pt x="139764" y="21600"/>
                </a:lnTo>
                <a:lnTo>
                  <a:pt x="136803" y="18639"/>
                </a:lnTo>
                <a:lnTo>
                  <a:pt x="136803" y="2961"/>
                </a:lnTo>
                <a:close/>
              </a:path>
              <a:path fill="darkenLess" w="139764" h="21600">
                <a:moveTo>
                  <a:pt x="1397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6803" y="18639"/>
                </a:lnTo>
                <a:close/>
              </a:path>
              <a:path fill="lighten" w="1397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1600200"/>
            <a:ext cx="4724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акое общее наз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имеют эти знак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ни показываю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251460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Обязательное направление движения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660066"/>
                </a:solidFill>
                <a:latin typeface="Arial"/>
              </a:rPr>
              <a:t>Знаки показывают направление движения автомобилям и велосипедистам. Они должны продолжать движение только в ту сторону, куда указывает стрелк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2590920" y="28954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2590920" y="4495680"/>
            <a:ext cx="1287360" cy="1295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4800600" y="287640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7"/>
          <a:stretch/>
        </p:blipFill>
        <p:spPr>
          <a:xfrm>
            <a:off x="7086600" y="2933640"/>
            <a:ext cx="1257480" cy="1257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"/>
          <a:stretch/>
        </p:blipFill>
        <p:spPr>
          <a:xfrm>
            <a:off x="4800600" y="4476600"/>
            <a:ext cx="1306440" cy="1314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9"/>
          <a:stretch/>
        </p:blipFill>
        <p:spPr>
          <a:xfrm>
            <a:off x="7086600" y="44956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54" dur="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55" dur="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125 -0.17778 E">
                                      <p:cBhvr>
                                        <p:cTn id="565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12448 -0.21112 E">
                                      <p:cBhvr>
                                        <p:cTn id="567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-0.2106 -0.17523 E">
                                      <p:cBhvr>
                                        <p:cTn id="569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21041 -0.21389 E">
                                      <p:cBhvr>
                                        <p:cTn id="57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-0.60833 0.24444 E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0.44791 0.00278 E">
                                      <p:cBhvr>
                                        <p:cTn id="57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838160" y="914400"/>
            <a:ext cx="6438960" cy="571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46748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4287960" cy="4876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76920" y="1676520"/>
            <a:ext cx="4038480" cy="457200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По дорогам движется много машин. Чтобы они не сталкивались и для безо­пасности водителей и пешеходов на проезжей части дороги делают дорожную разметку, т.е. рисуют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линии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стрелки</a:t>
            </a: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1676520"/>
            <a:ext cx="4114800" cy="4572000"/>
          </a:xfrm>
          <a:prstGeom prst="rect">
            <a:avLst/>
          </a:prstGeom>
          <a:blipFill rotWithShape="0">
            <a:blip r:embed="rId5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Сплошная белая линия (одна или две) разделяет проезжую часть дороги и нужна для того, чтобы одни машины ехали в одном направлении, а другие — в противоположном. Такое движение транспорта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ДВУСТОРОННИМ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Если машины едут только в одном направлении, то такое движение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ОДНОСТОРОННИМ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76520"/>
            <a:ext cx="4267440" cy="48765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352680"/>
            <a:ext cx="4191120" cy="160020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048120"/>
            <a:ext cx="4267440" cy="160020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 rot="1329600">
            <a:off x="498600" y="4173480"/>
            <a:ext cx="1925640" cy="743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 rot="991800">
            <a:off x="3025440" y="3324240"/>
            <a:ext cx="160020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92593E-006 C -0.12326 -0.05902 -0.24652 -0.11805 -0.29583 -0.14166 E">
                                      <p:cBhvr>
                                        <p:cTn id="157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96296E-006 L 0.28334 0.14445 E">
                                      <p:cBhvr>
                                        <p:cTn id="159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46748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943600" y="1905120"/>
            <a:ext cx="2971800" cy="4572000"/>
          </a:xfrm>
          <a:prstGeom prst="rect">
            <a:avLst/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На больших дорогах (шоссе) делают широкую разделительную полосу, иногда с газоном или кустами. Пешеходам находиться на ней запрещ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752480"/>
            <a:ext cx="5333760" cy="48769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352680"/>
            <a:ext cx="5334120" cy="205740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048120"/>
            <a:ext cx="5257800" cy="198108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 rot="1329600">
            <a:off x="380880" y="4724280"/>
            <a:ext cx="192564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 rot="991800">
            <a:off x="4184280" y="3087720"/>
            <a:ext cx="1523880" cy="59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04920" y="228600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914400" y="251460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1371600" y="274320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1981080" y="297180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2666880" y="327672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3352680" y="350532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3962520" y="373392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4572000" y="4038480"/>
            <a:ext cx="1089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92593E-006 C -0.12326 -0.05902 -0.24652 -0.11805 -0.29583 -0.14166 E">
                                      <p:cBhvr>
                                        <p:cTn id="185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96296E-006 L 0.28334 0.14445 E">
                                      <p:cBhvr>
                                        <p:cTn id="187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1.11111E-006 L -6.66667E-006 -0.08889 E">
                                      <p:cBhvr>
                                        <p:cTn id="189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-3.33333E-006 0.04444 E"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228600"/>
            <a:ext cx="7238880" cy="1143000"/>
          </a:xfrm>
          <a:prstGeom prst="rect">
            <a:avLst/>
          </a:prstGeom>
          <a:blipFill rotWithShape="0">
            <a:blip r:embed="rId2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Дети не должны выходить на проезжую часть больших дорог без сопровождения взрослых. Транспорт там движется в несколько рядов, и водители могут не заметить одиноко стоящего на проезжей части ребенка. Это может закончиться авар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95680" y="1828800"/>
            <a:ext cx="4343400" cy="449568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На больших, широких улицах с двусторонним движением бывают «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ОСТРОВКИ БЕЗОПАСНОСТ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». Это такое возвышение над проезжей частью дороги. Если пешеходы не успели перейти широкую дорогу, они могут остановиться на «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ОСТРОВКЕ БЕЗОПАСНОСТ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», чтобы пропустить машины. Водителям нельзя заезжать на «островок безопасности», даже если на нем нет пешех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228600" y="2133720"/>
            <a:ext cx="4191120" cy="3565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8120" y="175248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ИДЫ   ДОР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71440" y="2514600"/>
            <a:ext cx="762120" cy="609480"/>
          </a:xfrm>
          <a:prstGeom prst="line">
            <a:avLst/>
          </a:prstGeom>
          <a:ln w="95400">
            <a:solidFill>
              <a:srgbClr val="0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380880" y="3200400"/>
            <a:ext cx="304812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орога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односторонн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виж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2514600"/>
            <a:ext cx="609480" cy="609480"/>
          </a:xfrm>
          <a:prstGeom prst="line">
            <a:avLst/>
          </a:prstGeom>
          <a:ln w="95400">
            <a:solidFill>
              <a:srgbClr val="0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5867280" y="3200400"/>
            <a:ext cx="304812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орога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вусторон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виж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33560" y="2514600"/>
            <a:ext cx="533160" cy="2362320"/>
          </a:xfrm>
          <a:prstGeom prst="line">
            <a:avLst/>
          </a:prstGeom>
          <a:ln w="95400">
            <a:solidFill>
              <a:srgbClr val="0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5" action="ppaction://hlinksldjump"/>
          </p:cNvPr>
          <p:cNvSpPr/>
          <p:nvPr/>
        </p:nvSpPr>
        <p:spPr>
          <a:xfrm>
            <a:off x="762120" y="4952880"/>
            <a:ext cx="350496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орога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трамвайн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пут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2514600"/>
            <a:ext cx="457200" cy="2362320"/>
          </a:xfrm>
          <a:prstGeom prst="line">
            <a:avLst/>
          </a:prstGeom>
          <a:ln w="95400">
            <a:solidFill>
              <a:srgbClr val="0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4952880" y="4952880"/>
            <a:ext cx="358164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Загород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ор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990360" cy="609840"/>
          </a:xfrm>
          <a:custGeom>
            <a:avLst/>
            <a:gdLst>
              <a:gd name="textAreaLeft" fmla="*/ 83520 w 990360"/>
              <a:gd name="textAreaRight" fmla="*/ 906840 w 990360"/>
              <a:gd name="textAreaTop" fmla="*/ 83520 h 609840"/>
              <a:gd name="textAreaBottom" fmla="*/ 52632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2109" y="2961"/>
                </a:lnTo>
                <a:lnTo>
                  <a:pt x="2961" y="2961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2109" y="18639"/>
                </a:lnTo>
                <a:lnTo>
                  <a:pt x="32109" y="2961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32109" y="18639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008080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0880" y="3043080"/>
            <a:ext cx="4191120" cy="343404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752480"/>
            <a:ext cx="3048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орог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дносторонн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иж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1981080"/>
            <a:ext cx="4191120" cy="396252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Narrow"/>
              </a:rPr>
              <a:t>Несмотря на то, что на такой дороге движение транспорта в одну сторону, смотреть надо не только в эту сторону, но и в противоположную. Так как навстречу транспортному потоку могут ехать специаль-ные машины — «скорой помощи», милиции, пожарной охраны и другие машины аварийной служб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7696080" y="624852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33064" y="10800"/>
                </a:moveTo>
                <a:lnTo>
                  <a:pt x="22558" y="17806"/>
                </a:lnTo>
                <a:lnTo>
                  <a:pt x="22558" y="3794"/>
                </a:lnTo>
                <a:close/>
              </a:path>
              <a:path fill="darken" w="59130" h="21600">
                <a:moveTo>
                  <a:pt x="34909" y="3794"/>
                </a:moveTo>
                <a:lnTo>
                  <a:pt x="34909" y="17806"/>
                </a:lnTo>
                <a:lnTo>
                  <a:pt x="36571" y="17806"/>
                </a:lnTo>
                <a:lnTo>
                  <a:pt x="36571" y="3794"/>
                </a:lnTo>
                <a:close/>
              </a:path>
            </a:pathLst>
          </a:custGeom>
          <a:noFill/>
          <a:ln cap="rnd" w="15840">
            <a:solidFill>
              <a:srgbClr val="33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981080"/>
            <a:ext cx="25146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орог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усторонн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иж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3352680" cy="298764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3733920" y="1600200"/>
            <a:ext cx="5181480" cy="457200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Подойдя к проезжей части дороги, надо остановиться и посмотреть во все стороны, затем налево, направо, а дойдя до середины — еще раз направо, контролируя ситуацию слева. Если не удалось сразу перейти дорогу, следует остановиться посередине, на линии, разделяющей транспортные потоки противоположных направлений. При этом надо иметь в виду, что на дорогах с интенсивным движением нужно быть осторожным. Один шаг вперед или назад может стоить жизни. Машины едут слева и справа в 2—3 ряда. Из-за любого неосторожного движения можно попасть под колеса транспорта. Поэтому такие дороги детям следует переходить в сопровождении взрослых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7696080" y="624852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33064" y="10800"/>
                </a:moveTo>
                <a:lnTo>
                  <a:pt x="22558" y="17806"/>
                </a:lnTo>
                <a:lnTo>
                  <a:pt x="22558" y="3794"/>
                </a:lnTo>
                <a:close/>
              </a:path>
              <a:path fill="darken" w="59130" h="21600">
                <a:moveTo>
                  <a:pt x="34909" y="3794"/>
                </a:moveTo>
                <a:lnTo>
                  <a:pt x="34909" y="17806"/>
                </a:lnTo>
                <a:lnTo>
                  <a:pt x="36571" y="17806"/>
                </a:lnTo>
                <a:lnTo>
                  <a:pt x="36571" y="3794"/>
                </a:lnTo>
                <a:close/>
              </a:path>
            </a:pathLst>
          </a:custGeom>
          <a:noFill/>
          <a:ln cap="rnd" w="15840">
            <a:solidFill>
              <a:srgbClr val="33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81080"/>
            <a:ext cx="25146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орог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рамвай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ут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7696080" y="624852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33064" y="10800"/>
                </a:moveTo>
                <a:lnTo>
                  <a:pt x="22558" y="17806"/>
                </a:lnTo>
                <a:lnTo>
                  <a:pt x="22558" y="3794"/>
                </a:lnTo>
                <a:close/>
              </a:path>
              <a:path fill="darken" w="59130" h="21600">
                <a:moveTo>
                  <a:pt x="34909" y="3794"/>
                </a:moveTo>
                <a:lnTo>
                  <a:pt x="34909" y="17806"/>
                </a:lnTo>
                <a:lnTo>
                  <a:pt x="36571" y="17806"/>
                </a:lnTo>
                <a:lnTo>
                  <a:pt x="36571" y="3794"/>
                </a:lnTo>
                <a:close/>
              </a:path>
            </a:pathLst>
          </a:custGeom>
          <a:noFill/>
          <a:ln cap="rnd" w="15840">
            <a:solidFill>
              <a:srgbClr val="33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676520"/>
            <a:ext cx="5257800" cy="441936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Narrow"/>
              </a:rPr>
              <a:t>При переходе дороги с трамвайными путями нужно, подойдя к проезжей части, остановиться, посмотреть налево и направо. Если нет трамвая и машин — переходить. Перед трамвайными путями снова остановиться, посмотреть налево, направо. При отсутствии трамваев и машин перейти дорогу до конца. </a:t>
            </a:r>
            <a:r>
              <a:rPr b="1" lang="ru-RU" sz="2300" spc="-1" strike="noStrike">
                <a:solidFill>
                  <a:srgbClr val="ff0000"/>
                </a:solidFill>
                <a:latin typeface="Arial Narrow"/>
              </a:rPr>
              <a:t>Ни в коем случае нельзя останавливаться между трамвайными путями.</a:t>
            </a:r>
            <a:r>
              <a:rPr b="1" lang="ru-RU" sz="2300" spc="-1" strike="noStrike">
                <a:solidFill>
                  <a:srgbClr val="000000"/>
                </a:solidFill>
                <a:latin typeface="Arial Narrow"/>
              </a:rPr>
              <a:t> Это очень опасно, так как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 Narrow"/>
              </a:rPr>
              <a:t>движение трамваев может быть встречным</a:t>
            </a:r>
            <a:r>
              <a:rPr b="1" lang="ru-RU" sz="2300" spc="-1" strike="noStrike">
                <a:solidFill>
                  <a:srgbClr val="000000"/>
                </a:solidFill>
                <a:latin typeface="Arial Narrow"/>
              </a:rPr>
              <a:t>. Широкие дороги с  двусторонним движением и трамвай-ными путями следует переходить только со взрослыми.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04920" y="3429000"/>
            <a:ext cx="3200400" cy="311292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08T05:53:16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