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E2F5-8BA4-4F03-AF07-386911C2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ECA-8994-48C0-A688-65209760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34E1-89D2-4481-8D4C-4DD0BBCAB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C0B-5318-40B9-AB9B-F9DBF4D5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EE8B-29C9-4F1E-8C00-15D1C319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3A5-FA0F-4160-AF91-B666A3CA0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974-E840-4F39-92BF-2FD256CE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777-E84D-47AC-BA09-637E471B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4101-361B-42F0-980C-CEDEE6EA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82ED-02AC-4C8B-B1A6-85DB5EFB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CC9F-AB41-464F-BC55-737468EC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12B0-A388-4FA0-A36B-0370209C1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3CC41-5385-4699-9432-D95FE7B90C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Скорая помощ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3600360" cy="296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299736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5061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е правило нарушили весёлые человеч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763640" y="1413000"/>
            <a:ext cx="5543640" cy="434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5805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льзя переходить (перебегать) дорогу перед близко идущим транспо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551664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дти по обочине дороги навстречу движущемуся транспо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332000" y="1557360"/>
            <a:ext cx="6769080" cy="3595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должен вести себя Незнайка, шагая по загородной дорог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184720" cy="443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47640" y="6021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 островке без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де нужно остановиться, если вы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 успели перейти широкую улиц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равила для велосипедистов нарушили Карандаш и Самоделк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5113440" cy="374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5084640"/>
            <a:ext cx="871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Ездить на велосипеде по проезжей части разрешается только 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озрасте с 14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 Нельзя перевозить пассажиров на велосипеде, который для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е приспособ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го не должен делать Буратино как пассаж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91280" cy="417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5661000"/>
            <a:ext cx="81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совываться в открытое 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дразнить  прохож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е правило нарушила Дюймовоч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4824360" cy="4083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5661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роллейбус  и автобус после  выхода для перехода проезжей части обходят  сз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5256360" cy="4535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каком правиле забыли зайча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5805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начала выпусти пассажиров из транспорта, а потом входи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у одного из пассаж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623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товиться к выходу нужно зара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92360" y="1268280"/>
            <a:ext cx="56880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2:08:50Z</dcterms:created>
  <dc:creator>Алена</dc:creator>
  <dc:description/>
  <dc:language>en-US</dc:language>
  <cp:lastModifiedBy>Домашний</cp:lastModifiedBy>
  <dcterms:modified xsi:type="dcterms:W3CDTF">2010-11-09T19:24:30Z</dcterms:modified>
  <cp:revision>5</cp:revision>
  <dc:subject/>
  <dc:title>Какое правило нарушили весёлые человечки?</dc:title>
</cp:coreProperties>
</file>