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12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1C5A-4ABC-46B6-A1BA-9A660ED1F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5BDA-C435-4C12-BDFD-AF124453A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D589-3353-43E6-B5BC-D50F33B89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7BE0-CECC-4028-9DE7-C85F0020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89D4-7851-4451-A9DB-E94EFA25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0363-A132-47CA-9D99-D9B109C20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AE6F-4C77-46D6-8662-A5DCFDEA5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B96F-8E67-4A52-9510-1831A1B2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5F29-2BD9-4D3D-AEA2-03BED244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F0AD-6A20-4F72-8123-EF6E4E8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785B-0E82-4F13-8695-A2E8DEFB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3D15-155E-45A1-ADA8-73C43BB2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F896-73B0-4FB0-ABE5-037B3C352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99"/>
                </a:solidFill>
                <a:latin typeface="Arial"/>
              </a:rPr>
              <a:t>Скорая помощ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292720" y="3645000"/>
            <a:ext cx="3600360" cy="29606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9640" y="2852640"/>
            <a:ext cx="299736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50616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правило нарушили весёлые человечк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763640" y="1413000"/>
            <a:ext cx="5543640" cy="4346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39640" y="580536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ельзя переходить (перебегать) дорогу перед близко идущим транспо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42920" y="5516640"/>
            <a:ext cx="727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Идти по обочине дороги навстречу движущемуся транспор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1332000" y="1557360"/>
            <a:ext cx="6769080" cy="35956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 должен вести себя Незнайка, шагая по загородной дорог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835280" y="1268280"/>
            <a:ext cx="5184720" cy="4430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547640" y="6021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На островке безопас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0"/>
            <a:ext cx="8893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де нужно остановиться, если вы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е успели перейти широкую улиц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ие правила для велосипедистов нарушили Карандаш и Самоделкин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979640" y="1268280"/>
            <a:ext cx="5113440" cy="3745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50920" y="5084640"/>
            <a:ext cx="871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Ездить на велосипеде по проезжей части разрешается только в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возрасте с 14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Нельзя перевозить пассажиров на велосипеде, который для эт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е приспособл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го не должен делать Буратино как пассажир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68360" y="1484280"/>
            <a:ext cx="7991280" cy="4176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11280" y="5661000"/>
            <a:ext cx="813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ысовываться в открытое ок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и дразнить  прохожи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акое правило нарушила Дюймовоч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95640" y="1484280"/>
            <a:ext cx="4824360" cy="4083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50920" y="566100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Троллейбус  и автобус после  выхода для перехода проезжей части обходят  сзад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4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979640" y="981000"/>
            <a:ext cx="5256360" cy="4535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О каком правиле забыли зайчат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5805360"/>
            <a:ext cx="612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начала выпусти пассажиров из транспорта, а потом входи с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йдите ошибку одного из пассажир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16000" y="6237360"/>
            <a:ext cx="61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Готовиться к выходу нужно заране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692360" y="1268280"/>
            <a:ext cx="5688000" cy="46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2:08:50Z</dcterms:created>
  <dc:creator>Алена</dc:creator>
  <dc:description/>
  <dc:language>en-US</dc:language>
  <cp:lastModifiedBy>Домашний</cp:lastModifiedBy>
  <dcterms:modified xsi:type="dcterms:W3CDTF">2010-11-09T19:24:30Z</dcterms:modified>
  <cp:revision>5</cp:revision>
  <dc:subject/>
  <dc:title>Какое правило нарушили весёлые человечки?</dc:title>
</cp:coreProperties>
</file>