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19.jpeg" ContentType="image/jpeg"/>
  <Override PartName="/ppt/media/image11.png" ContentType="image/png"/>
  <Override PartName="/ppt/media/image29.wmf" ContentType="image/x-wmf"/>
  <Override PartName="/ppt/media/image2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drumroll.wav" ContentType="audio/x-wav"/>
  <Override PartName="/ppt/media/image24.jpeg" ContentType="image/jpeg"/>
  <Override PartName="/ppt/media/image1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14C5-9EDB-407A-AE0F-2A25C0C1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2C0A-A9F3-4EF5-800B-DECFC36D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B16C-7250-4C6C-9D83-48190435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64BA-2C4A-4003-9AB6-CDD7B1B6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9CAC-1F1E-4EF4-AE0A-554050634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E1DE-6756-46F5-A0A5-D6F0787F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3C99C-0F1B-43D4-BD38-D494D96D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3B46-66FE-4BA3-ABF1-53DEF10C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D521-B111-4F92-AE26-B8AB1F85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1FDE-00AA-416A-83AF-150AABD10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19DF-CE14-46D5-BFC9-A64BF6AB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4265-7C20-4F4B-B56D-CDBF78C0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306C-6A4E-4DA2-9C1D-E1DFE6D8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0E08-44A3-4EA5-A3BC-2D11FFA8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F982-73DB-4B01-97D9-CADBCFCC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AC02-AB96-40EF-BA41-EACC8EFA9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5EE1-9ACF-4C42-B0DB-3370B903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5E44-751E-4D55-B965-20CEAEBA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0BF-07EA-4A69-896E-9F8C7C44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1ACC-5828-4FDD-A08D-34F7BC40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B31-2F2F-422E-B30E-DAE7B227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F941-620F-4528-8B56-0B4C3CD64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63CD-D08A-4376-9125-B0355624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D2C-D3DF-473F-BF56-1BB4818E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2B8D-A92E-468B-9F4B-EC7D9607BB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BEEB-E0A2-41CA-8AE1-CC511770FCB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19280" y="9079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843280" y="549360"/>
            <a:ext cx="43178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ый журна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2060640"/>
            <a:ext cx="73771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unga"/>
              </a:rPr>
              <a:t>Огонь- на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unga"/>
              </a:rPr>
              <a:t>друг и вра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419640" y="189000"/>
            <a:ext cx="22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ица 5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836640"/>
            <a:ext cx="69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Когда огонь наш вр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198900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64000" y="1413000"/>
            <a:ext cx="532908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На площади базарной, на каланче пожарной    Круглые сутки дозорный у будки                        Поглядывал вокруг – на север, на юг,                  На запад, на восток, - не виден ли дымок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И если видел он пожар, плывущий дым угарный Он поднимал сигнальный шар                        Над каланчой пожар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И два шара, и три шара                                  Взвивались вверх бывало.                                  И  вот с пожарного двора команда выезж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Тревожный звон будил народ,                                    Дрожала мостовая.                                          И мчалась с грохотом вперёд команда удал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rcRect l="1187" t="10112" r="15372" b="3865"/>
          <a:stretch/>
        </p:blipFill>
        <p:spPr>
          <a:xfrm>
            <a:off x="179280" y="1916280"/>
            <a:ext cx="3306960" cy="4498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835280" y="1484280"/>
            <a:ext cx="661824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1280" y="2060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жары очень опасны. При пожаре могут сгореть вещи, квартира и даже целый дом. Но, главное, что при пожаре могут погибнуть лю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29040" y="200160"/>
            <a:ext cx="3386160" cy="1442880"/>
          </a:xfrm>
          <a:custGeom>
            <a:avLst/>
            <a:gdLst/>
            <a:ahLst/>
            <a:rect l="l" t="t" r="r" b="b"/>
            <a:pathLst>
              <a:path w="9407" h="4009">
                <a:moveTo>
                  <a:pt x="11450" y="1290"/>
                </a:moveTo>
                <a:cubicBezTo>
                  <a:pt x="11441" y="1253"/>
                  <a:pt x="11441" y="1225"/>
                  <a:pt x="11430" y="1191"/>
                </a:cubicBezTo>
                <a:cubicBezTo>
                  <a:pt x="11415" y="1145"/>
                  <a:pt x="11415" y="1115"/>
                  <a:pt x="11390" y="1072"/>
                </a:cubicBezTo>
                <a:cubicBezTo>
                  <a:pt x="11373" y="1043"/>
                  <a:pt x="11345" y="1006"/>
                  <a:pt x="11331" y="992"/>
                </a:cubicBezTo>
                <a:cubicBezTo>
                  <a:pt x="11309" y="970"/>
                  <a:pt x="11256" y="941"/>
                  <a:pt x="11232" y="913"/>
                </a:cubicBezTo>
                <a:cubicBezTo>
                  <a:pt x="11208" y="885"/>
                  <a:pt x="11205" y="859"/>
                  <a:pt x="11172" y="833"/>
                </a:cubicBezTo>
                <a:cubicBezTo>
                  <a:pt x="11146" y="813"/>
                  <a:pt x="11119" y="809"/>
                  <a:pt x="11093" y="794"/>
                </a:cubicBezTo>
                <a:cubicBezTo>
                  <a:pt x="11061" y="776"/>
                  <a:pt x="11026" y="768"/>
                  <a:pt x="10993" y="754"/>
                </a:cubicBezTo>
                <a:cubicBezTo>
                  <a:pt x="10955" y="738"/>
                  <a:pt x="10935" y="729"/>
                  <a:pt x="10894" y="714"/>
                </a:cubicBezTo>
                <a:cubicBezTo>
                  <a:pt x="10866" y="704"/>
                  <a:pt x="10846" y="702"/>
                  <a:pt x="10815" y="695"/>
                </a:cubicBezTo>
                <a:cubicBezTo>
                  <a:pt x="10740" y="679"/>
                  <a:pt x="10677" y="677"/>
                  <a:pt x="10597" y="675"/>
                </a:cubicBezTo>
                <a:cubicBezTo>
                  <a:pt x="10543" y="674"/>
                  <a:pt x="10501" y="688"/>
                  <a:pt x="10458" y="695"/>
                </a:cubicBezTo>
                <a:cubicBezTo>
                  <a:pt x="10420" y="702"/>
                  <a:pt x="10392" y="707"/>
                  <a:pt x="10358" y="714"/>
                </a:cubicBezTo>
                <a:cubicBezTo>
                  <a:pt x="10307" y="724"/>
                  <a:pt x="10269" y="737"/>
                  <a:pt x="10220" y="754"/>
                </a:cubicBezTo>
                <a:cubicBezTo>
                  <a:pt x="10165" y="773"/>
                  <a:pt x="10117" y="793"/>
                  <a:pt x="10061" y="814"/>
                </a:cubicBezTo>
                <a:cubicBezTo>
                  <a:pt x="10005" y="835"/>
                  <a:pt x="9998" y="835"/>
                  <a:pt x="9942" y="873"/>
                </a:cubicBezTo>
                <a:cubicBezTo>
                  <a:pt x="9915" y="891"/>
                  <a:pt x="9861" y="915"/>
                  <a:pt x="9842" y="933"/>
                </a:cubicBezTo>
                <a:cubicBezTo>
                  <a:pt x="9837" y="938"/>
                  <a:pt x="9792" y="1001"/>
                  <a:pt x="9783" y="1012"/>
                </a:cubicBezTo>
                <a:cubicBezTo>
                  <a:pt x="9737" y="1066"/>
                  <a:pt x="9671" y="1128"/>
                  <a:pt x="9644" y="1191"/>
                </a:cubicBezTo>
                <a:cubicBezTo>
                  <a:pt x="9627" y="1230"/>
                  <a:pt x="9620" y="1295"/>
                  <a:pt x="9604" y="1330"/>
                </a:cubicBezTo>
                <a:cubicBezTo>
                  <a:pt x="9588" y="1366"/>
                  <a:pt x="9539" y="1409"/>
                  <a:pt x="9525" y="1449"/>
                </a:cubicBezTo>
                <a:cubicBezTo>
                  <a:pt x="9504" y="1511"/>
                  <a:pt x="9482" y="1601"/>
                  <a:pt x="9465" y="1667"/>
                </a:cubicBezTo>
                <a:cubicBezTo>
                  <a:pt x="9443" y="1752"/>
                  <a:pt x="9438" y="1837"/>
                  <a:pt x="9426" y="1925"/>
                </a:cubicBezTo>
                <a:cubicBezTo>
                  <a:pt x="9415" y="2003"/>
                  <a:pt x="9392" y="2066"/>
                  <a:pt x="9386" y="2143"/>
                </a:cubicBezTo>
                <a:cubicBezTo>
                  <a:pt x="9377" y="2260"/>
                  <a:pt x="9372" y="2385"/>
                  <a:pt x="9366" y="2500"/>
                </a:cubicBezTo>
                <a:cubicBezTo>
                  <a:pt x="9358" y="2648"/>
                  <a:pt x="9377" y="2793"/>
                  <a:pt x="9386" y="2937"/>
                </a:cubicBezTo>
                <a:cubicBezTo>
                  <a:pt x="9389" y="2994"/>
                  <a:pt x="9403" y="3070"/>
                  <a:pt x="9406" y="3115"/>
                </a:cubicBezTo>
                <a:cubicBezTo>
                  <a:pt x="9411" y="3193"/>
                  <a:pt x="9422" y="3287"/>
                  <a:pt x="9426" y="3354"/>
                </a:cubicBezTo>
                <a:cubicBezTo>
                  <a:pt x="9429" y="3395"/>
                  <a:pt x="9443" y="3443"/>
                  <a:pt x="9446" y="3473"/>
                </a:cubicBezTo>
                <a:cubicBezTo>
                  <a:pt x="9455" y="3575"/>
                  <a:pt x="9448" y="3671"/>
                  <a:pt x="9465" y="3770"/>
                </a:cubicBezTo>
                <a:cubicBezTo>
                  <a:pt x="9473" y="3815"/>
                  <a:pt x="9496" y="3852"/>
                  <a:pt x="9505" y="3889"/>
                </a:cubicBezTo>
                <a:cubicBezTo>
                  <a:pt x="9512" y="3919"/>
                  <a:pt x="9514" y="3960"/>
                  <a:pt x="9525" y="3989"/>
                </a:cubicBezTo>
                <a:cubicBezTo>
                  <a:pt x="9526" y="3992"/>
                  <a:pt x="9565" y="4068"/>
                  <a:pt x="9565" y="4068"/>
                </a:cubicBezTo>
                <a:cubicBezTo>
                  <a:pt x="9584" y="4090"/>
                  <a:pt x="9639" y="4121"/>
                  <a:pt x="9664" y="4147"/>
                </a:cubicBezTo>
                <a:cubicBezTo>
                  <a:pt x="9690" y="4174"/>
                  <a:pt x="9733" y="4208"/>
                  <a:pt x="9763" y="4247"/>
                </a:cubicBezTo>
                <a:cubicBezTo>
                  <a:pt x="9796" y="4290"/>
                  <a:pt x="9778" y="4286"/>
                  <a:pt x="9803" y="4306"/>
                </a:cubicBezTo>
                <a:cubicBezTo>
                  <a:pt x="9819" y="4319"/>
                  <a:pt x="9874" y="4362"/>
                  <a:pt x="9882" y="4366"/>
                </a:cubicBezTo>
                <a:cubicBezTo>
                  <a:pt x="9925" y="4391"/>
                  <a:pt x="9971" y="4401"/>
                  <a:pt x="10021" y="4425"/>
                </a:cubicBezTo>
                <a:cubicBezTo>
                  <a:pt x="10042" y="4435"/>
                  <a:pt x="10073" y="4461"/>
                  <a:pt x="10081" y="4465"/>
                </a:cubicBezTo>
                <a:cubicBezTo>
                  <a:pt x="10108" y="4479"/>
                  <a:pt x="10151" y="4496"/>
                  <a:pt x="10180" y="4505"/>
                </a:cubicBezTo>
                <a:cubicBezTo>
                  <a:pt x="10207" y="4513"/>
                  <a:pt x="10233" y="4518"/>
                  <a:pt x="10259" y="4524"/>
                </a:cubicBezTo>
                <a:cubicBezTo>
                  <a:pt x="10290" y="4531"/>
                  <a:pt x="10310" y="4537"/>
                  <a:pt x="10339" y="4544"/>
                </a:cubicBezTo>
                <a:cubicBezTo>
                  <a:pt x="10370" y="4552"/>
                  <a:pt x="10410" y="4562"/>
                  <a:pt x="10438" y="4564"/>
                </a:cubicBezTo>
                <a:cubicBezTo>
                  <a:pt x="10544" y="4574"/>
                  <a:pt x="10661" y="4563"/>
                  <a:pt x="10755" y="4544"/>
                </a:cubicBezTo>
                <a:cubicBezTo>
                  <a:pt x="10795" y="4536"/>
                  <a:pt x="10815" y="4534"/>
                  <a:pt x="10835" y="4524"/>
                </a:cubicBezTo>
                <a:cubicBezTo>
                  <a:pt x="10847" y="4518"/>
                  <a:pt x="10882" y="4497"/>
                  <a:pt x="10894" y="4485"/>
                </a:cubicBezTo>
                <a:cubicBezTo>
                  <a:pt x="10927" y="4451"/>
                  <a:pt x="10934" y="4432"/>
                  <a:pt x="10954" y="4405"/>
                </a:cubicBezTo>
                <a:cubicBezTo>
                  <a:pt x="10961" y="4395"/>
                  <a:pt x="10963" y="4362"/>
                  <a:pt x="10974" y="4346"/>
                </a:cubicBezTo>
                <a:cubicBezTo>
                  <a:pt x="10985" y="4331"/>
                  <a:pt x="11002" y="4318"/>
                  <a:pt x="11013" y="4286"/>
                </a:cubicBezTo>
                <a:cubicBezTo>
                  <a:pt x="11014" y="4284"/>
                  <a:pt x="11027" y="4249"/>
                  <a:pt x="11033" y="4227"/>
                </a:cubicBezTo>
                <a:cubicBezTo>
                  <a:pt x="11038" y="4208"/>
                  <a:pt x="11040" y="4175"/>
                  <a:pt x="11053" y="4147"/>
                </a:cubicBezTo>
                <a:cubicBezTo>
                  <a:pt x="11064" y="4123"/>
                  <a:pt x="11059" y="4110"/>
                  <a:pt x="11073" y="4088"/>
                </a:cubicBezTo>
                <a:cubicBezTo>
                  <a:pt x="11082" y="4074"/>
                  <a:pt x="11100" y="4067"/>
                  <a:pt x="11112" y="4048"/>
                </a:cubicBezTo>
                <a:cubicBezTo>
                  <a:pt x="11112" y="4047"/>
                  <a:pt x="11126" y="3996"/>
                  <a:pt x="11132" y="3989"/>
                </a:cubicBezTo>
                <a:cubicBezTo>
                  <a:pt x="11144" y="3974"/>
                  <a:pt x="11159" y="3967"/>
                  <a:pt x="11172" y="3949"/>
                </a:cubicBezTo>
                <a:cubicBezTo>
                  <a:pt x="11182" y="3935"/>
                  <a:pt x="11199" y="3918"/>
                  <a:pt x="11212" y="3889"/>
                </a:cubicBezTo>
                <a:cubicBezTo>
                  <a:pt x="11226" y="3857"/>
                  <a:pt x="11240" y="3827"/>
                  <a:pt x="11251" y="3790"/>
                </a:cubicBezTo>
                <a:cubicBezTo>
                  <a:pt x="11257" y="3770"/>
                  <a:pt x="11262" y="3709"/>
                  <a:pt x="11271" y="3691"/>
                </a:cubicBezTo>
                <a:cubicBezTo>
                  <a:pt x="11296" y="3642"/>
                  <a:pt x="11337" y="3605"/>
                  <a:pt x="11351" y="3552"/>
                </a:cubicBezTo>
                <a:cubicBezTo>
                  <a:pt x="11368" y="3488"/>
                  <a:pt x="11375" y="3403"/>
                  <a:pt x="11410" y="3354"/>
                </a:cubicBezTo>
                <a:cubicBezTo>
                  <a:pt x="11451" y="3297"/>
                  <a:pt x="11460" y="3262"/>
                  <a:pt x="11490" y="3195"/>
                </a:cubicBezTo>
                <a:cubicBezTo>
                  <a:pt x="11504" y="3164"/>
                  <a:pt x="11514" y="3136"/>
                  <a:pt x="11529" y="3096"/>
                </a:cubicBezTo>
                <a:cubicBezTo>
                  <a:pt x="11547" y="3047"/>
                  <a:pt x="11561" y="3026"/>
                  <a:pt x="11569" y="2977"/>
                </a:cubicBezTo>
                <a:cubicBezTo>
                  <a:pt x="11576" y="2935"/>
                  <a:pt x="11582" y="2891"/>
                  <a:pt x="11589" y="2857"/>
                </a:cubicBezTo>
                <a:cubicBezTo>
                  <a:pt x="11596" y="2823"/>
                  <a:pt x="11602" y="2792"/>
                  <a:pt x="11609" y="2758"/>
                </a:cubicBezTo>
                <a:cubicBezTo>
                  <a:pt x="11615" y="2724"/>
                  <a:pt x="11625" y="2689"/>
                  <a:pt x="11628" y="2659"/>
                </a:cubicBezTo>
                <a:cubicBezTo>
                  <a:pt x="11635" y="2576"/>
                  <a:pt x="11643" y="2473"/>
                  <a:pt x="11648" y="2401"/>
                </a:cubicBezTo>
                <a:cubicBezTo>
                  <a:pt x="11655" y="2296"/>
                  <a:pt x="11661" y="2183"/>
                  <a:pt x="11668" y="2084"/>
                </a:cubicBezTo>
                <a:cubicBezTo>
                  <a:pt x="11673" y="2013"/>
                  <a:pt x="11684" y="1925"/>
                  <a:pt x="11688" y="1865"/>
                </a:cubicBezTo>
                <a:cubicBezTo>
                  <a:pt x="11691" y="1812"/>
                  <a:pt x="11704" y="1749"/>
                  <a:pt x="11708" y="1707"/>
                </a:cubicBezTo>
                <a:cubicBezTo>
                  <a:pt x="11713" y="1646"/>
                  <a:pt x="11698" y="1580"/>
                  <a:pt x="11688" y="1548"/>
                </a:cubicBezTo>
                <a:cubicBezTo>
                  <a:pt x="11674" y="1505"/>
                  <a:pt x="11664" y="1526"/>
                  <a:pt x="11648" y="1488"/>
                </a:cubicBezTo>
                <a:cubicBezTo>
                  <a:pt x="11638" y="1464"/>
                  <a:pt x="11637" y="1454"/>
                  <a:pt x="11628" y="1429"/>
                </a:cubicBezTo>
                <a:cubicBezTo>
                  <a:pt x="11616" y="1396"/>
                  <a:pt x="11619" y="1395"/>
                  <a:pt x="11609" y="1369"/>
                </a:cubicBezTo>
                <a:cubicBezTo>
                  <a:pt x="11600" y="1347"/>
                  <a:pt x="11602" y="1337"/>
                  <a:pt x="11589" y="1310"/>
                </a:cubicBezTo>
                <a:cubicBezTo>
                  <a:pt x="11576" y="1285"/>
                  <a:pt x="11583" y="1282"/>
                  <a:pt x="11569" y="1250"/>
                </a:cubicBezTo>
                <a:cubicBezTo>
                  <a:pt x="11566" y="1243"/>
                  <a:pt x="11537" y="1216"/>
                  <a:pt x="11529" y="1191"/>
                </a:cubicBezTo>
                <a:cubicBezTo>
                  <a:pt x="11518" y="1159"/>
                  <a:pt x="11517" y="1143"/>
                  <a:pt x="11509" y="1111"/>
                </a:cubicBezTo>
                <a:cubicBezTo>
                  <a:pt x="11509" y="1104"/>
                  <a:pt x="11509" y="1098"/>
                  <a:pt x="11509" y="1091"/>
                </a:cubicBezTo>
              </a:path>
              <a:path w="9407" h="4009">
                <a:moveTo>
                  <a:pt x="12760" y="2282"/>
                </a:moveTo>
                <a:cubicBezTo>
                  <a:pt x="12781" y="2268"/>
                  <a:pt x="12788" y="2262"/>
                  <a:pt x="12819" y="2242"/>
                </a:cubicBezTo>
                <a:cubicBezTo>
                  <a:pt x="12849" y="2222"/>
                  <a:pt x="12888" y="2206"/>
                  <a:pt x="12918" y="2183"/>
                </a:cubicBezTo>
                <a:cubicBezTo>
                  <a:pt x="12961" y="2151"/>
                  <a:pt x="12998" y="2092"/>
                  <a:pt x="13037" y="2064"/>
                </a:cubicBezTo>
                <a:cubicBezTo>
                  <a:pt x="13077" y="2035"/>
                  <a:pt x="13117" y="2014"/>
                  <a:pt x="13156" y="1984"/>
                </a:cubicBezTo>
                <a:cubicBezTo>
                  <a:pt x="13191" y="1958"/>
                  <a:pt x="13247" y="1930"/>
                  <a:pt x="13275" y="1905"/>
                </a:cubicBezTo>
                <a:cubicBezTo>
                  <a:pt x="13300" y="1883"/>
                  <a:pt x="13326" y="1856"/>
                  <a:pt x="13355" y="1826"/>
                </a:cubicBezTo>
                <a:cubicBezTo>
                  <a:pt x="13400" y="1779"/>
                  <a:pt x="13417" y="1739"/>
                  <a:pt x="13454" y="1687"/>
                </a:cubicBezTo>
                <a:cubicBezTo>
                  <a:pt x="13483" y="1646"/>
                  <a:pt x="13526" y="1610"/>
                  <a:pt x="13553" y="1568"/>
                </a:cubicBezTo>
                <a:cubicBezTo>
                  <a:pt x="13580" y="1526"/>
                  <a:pt x="13595" y="1494"/>
                  <a:pt x="13613" y="1449"/>
                </a:cubicBezTo>
                <a:cubicBezTo>
                  <a:pt x="13633" y="1400"/>
                  <a:pt x="13637" y="1357"/>
                  <a:pt x="13672" y="1310"/>
                </a:cubicBezTo>
                <a:cubicBezTo>
                  <a:pt x="13699" y="1273"/>
                  <a:pt x="13733" y="1246"/>
                  <a:pt x="13752" y="1210"/>
                </a:cubicBezTo>
                <a:cubicBezTo>
                  <a:pt x="13774" y="1168"/>
                  <a:pt x="13776" y="1135"/>
                  <a:pt x="13791" y="1091"/>
                </a:cubicBezTo>
                <a:cubicBezTo>
                  <a:pt x="13801" y="1063"/>
                  <a:pt x="13803" y="1042"/>
                  <a:pt x="13811" y="1012"/>
                </a:cubicBezTo>
                <a:cubicBezTo>
                  <a:pt x="13824" y="966"/>
                  <a:pt x="13836" y="940"/>
                  <a:pt x="13851" y="893"/>
                </a:cubicBezTo>
                <a:cubicBezTo>
                  <a:pt x="13872" y="824"/>
                  <a:pt x="13902" y="816"/>
                  <a:pt x="13930" y="754"/>
                </a:cubicBezTo>
                <a:cubicBezTo>
                  <a:pt x="13945" y="721"/>
                  <a:pt x="13940" y="670"/>
                  <a:pt x="13950" y="635"/>
                </a:cubicBezTo>
                <a:cubicBezTo>
                  <a:pt x="13961" y="597"/>
                  <a:pt x="13963" y="554"/>
                  <a:pt x="13970" y="575"/>
                </a:cubicBezTo>
                <a:cubicBezTo>
                  <a:pt x="13988" y="626"/>
                  <a:pt x="13978" y="701"/>
                  <a:pt x="13990" y="754"/>
                </a:cubicBezTo>
                <a:cubicBezTo>
                  <a:pt x="13999" y="794"/>
                  <a:pt x="14007" y="832"/>
                  <a:pt x="14010" y="873"/>
                </a:cubicBezTo>
                <a:cubicBezTo>
                  <a:pt x="14017" y="956"/>
                  <a:pt x="14024" y="1059"/>
                  <a:pt x="14030" y="1131"/>
                </a:cubicBezTo>
                <a:cubicBezTo>
                  <a:pt x="14106" y="2110"/>
                  <a:pt x="14097" y="3257"/>
                  <a:pt x="14010" y="4207"/>
                </a:cubicBezTo>
                <a:cubicBezTo>
                  <a:pt x="14007" y="4245"/>
                  <a:pt x="13995" y="4273"/>
                  <a:pt x="13990" y="4286"/>
                </a:cubicBezTo>
              </a:path>
              <a:path w="9407" h="4009">
                <a:moveTo>
                  <a:pt x="13752" y="4306"/>
                </a:moveTo>
                <a:cubicBezTo>
                  <a:pt x="13879" y="4306"/>
                  <a:pt x="14014" y="4301"/>
                  <a:pt x="14129" y="4326"/>
                </a:cubicBezTo>
                <a:cubicBezTo>
                  <a:pt x="14175" y="4336"/>
                  <a:pt x="14207" y="4332"/>
                  <a:pt x="14248" y="4346"/>
                </a:cubicBezTo>
                <a:cubicBezTo>
                  <a:pt x="14293" y="4361"/>
                  <a:pt x="14472" y="4346"/>
                  <a:pt x="14446" y="4346"/>
                </a:cubicBezTo>
                <a:cubicBezTo>
                  <a:pt x="14335" y="4346"/>
                  <a:pt x="14207" y="4359"/>
                  <a:pt x="14109" y="4326"/>
                </a:cubicBezTo>
                <a:cubicBezTo>
                  <a:pt x="14072" y="4314"/>
                  <a:pt x="14010" y="4316"/>
                  <a:pt x="13970" y="4306"/>
                </a:cubicBezTo>
                <a:cubicBezTo>
                  <a:pt x="13903" y="4289"/>
                  <a:pt x="13807" y="4308"/>
                  <a:pt x="13772" y="4326"/>
                </a:cubicBezTo>
                <a:cubicBezTo>
                  <a:pt x="13736" y="4344"/>
                  <a:pt x="13711" y="4335"/>
                  <a:pt x="13672" y="4346"/>
                </a:cubicBezTo>
                <a:cubicBezTo>
                  <a:pt x="13634" y="4357"/>
                  <a:pt x="13573" y="4346"/>
                  <a:pt x="13533" y="4346"/>
                </a:cubicBezTo>
              </a:path>
              <a:path w="9407" h="4009">
                <a:moveTo>
                  <a:pt x="8414" y="3810"/>
                </a:moveTo>
                <a:cubicBezTo>
                  <a:pt x="8543" y="3806"/>
                  <a:pt x="8666" y="3807"/>
                  <a:pt x="8791" y="3790"/>
                </a:cubicBezTo>
                <a:cubicBezTo>
                  <a:pt x="8823" y="3786"/>
                  <a:pt x="8808" y="3774"/>
                  <a:pt x="8850" y="3770"/>
                </a:cubicBezTo>
                <a:cubicBezTo>
                  <a:pt x="8883" y="3770"/>
                  <a:pt x="8890" y="3770"/>
                  <a:pt x="8910" y="3770"/>
                </a:cubicBezTo>
                <a:cubicBezTo>
                  <a:pt x="8910" y="3691"/>
                  <a:pt x="8830" y="3727"/>
                  <a:pt x="8890" y="3671"/>
                </a:cubicBezTo>
                <a:cubicBezTo>
                  <a:pt x="8911" y="3652"/>
                  <a:pt x="8920" y="3669"/>
                  <a:pt x="8950" y="3651"/>
                </a:cubicBezTo>
                <a:cubicBezTo>
                  <a:pt x="8975" y="3636"/>
                  <a:pt x="9000" y="3639"/>
                  <a:pt x="9029" y="3631"/>
                </a:cubicBezTo>
                <a:cubicBezTo>
                  <a:pt x="9064" y="3621"/>
                  <a:pt x="9062" y="3619"/>
                  <a:pt x="9088" y="3612"/>
                </a:cubicBezTo>
                <a:cubicBezTo>
                  <a:pt x="9114" y="3605"/>
                  <a:pt x="9122" y="3599"/>
                  <a:pt x="9148" y="3592"/>
                </a:cubicBezTo>
                <a:cubicBezTo>
                  <a:pt x="9191" y="3580"/>
                  <a:pt x="9186" y="3580"/>
                  <a:pt x="9148" y="3592"/>
                </a:cubicBezTo>
                <a:cubicBezTo>
                  <a:pt x="9126" y="3599"/>
                  <a:pt x="9071" y="3603"/>
                  <a:pt x="9049" y="3612"/>
                </a:cubicBezTo>
                <a:cubicBezTo>
                  <a:pt x="9035" y="3618"/>
                  <a:pt x="9033" y="3643"/>
                  <a:pt x="9009" y="3651"/>
                </a:cubicBezTo>
                <a:cubicBezTo>
                  <a:pt x="8986" y="3674"/>
                  <a:pt x="8976" y="3680"/>
                  <a:pt x="8950" y="3671"/>
                </a:cubicBezTo>
                <a:cubicBezTo>
                  <a:pt x="8937" y="3677"/>
                  <a:pt x="8950" y="3720"/>
                  <a:pt x="8910" y="3731"/>
                </a:cubicBezTo>
                <a:cubicBezTo>
                  <a:pt x="8886" y="3737"/>
                  <a:pt x="8833" y="3749"/>
                  <a:pt x="8830" y="3750"/>
                </a:cubicBezTo>
                <a:cubicBezTo>
                  <a:pt x="8801" y="3758"/>
                  <a:pt x="8735" y="3769"/>
                  <a:pt x="8731" y="3770"/>
                </a:cubicBezTo>
                <a:cubicBezTo>
                  <a:pt x="8704" y="3776"/>
                  <a:pt x="8599" y="3749"/>
                  <a:pt x="8592" y="3790"/>
                </a:cubicBezTo>
                <a:cubicBezTo>
                  <a:pt x="8592" y="3792"/>
                  <a:pt x="8582" y="3792"/>
                  <a:pt x="8632" y="3790"/>
                </a:cubicBezTo>
                <a:cubicBezTo>
                  <a:pt x="8674" y="3788"/>
                  <a:pt x="8695" y="3775"/>
                  <a:pt x="8731" y="3770"/>
                </a:cubicBezTo>
                <a:cubicBezTo>
                  <a:pt x="8770" y="3765"/>
                  <a:pt x="8796" y="3756"/>
                  <a:pt x="8830" y="3750"/>
                </a:cubicBezTo>
                <a:cubicBezTo>
                  <a:pt x="8850" y="3750"/>
                  <a:pt x="8857" y="3750"/>
                  <a:pt x="8870" y="3750"/>
                </a:cubicBezTo>
                <a:cubicBezTo>
                  <a:pt x="8896" y="3716"/>
                  <a:pt x="8852" y="3695"/>
                  <a:pt x="8890" y="3671"/>
                </a:cubicBezTo>
                <a:cubicBezTo>
                  <a:pt x="8904" y="3662"/>
                  <a:pt x="8925" y="3664"/>
                  <a:pt x="8950" y="3651"/>
                </a:cubicBezTo>
                <a:cubicBezTo>
                  <a:pt x="8977" y="3637"/>
                  <a:pt x="8971" y="3640"/>
                  <a:pt x="9009" y="3631"/>
                </a:cubicBezTo>
                <a:cubicBezTo>
                  <a:pt x="9045" y="3622"/>
                  <a:pt x="9071" y="3619"/>
                  <a:pt x="9108" y="3612"/>
                </a:cubicBezTo>
                <a:cubicBezTo>
                  <a:pt x="9157" y="3603"/>
                  <a:pt x="9136" y="3602"/>
                  <a:pt x="9188" y="3592"/>
                </a:cubicBezTo>
                <a:cubicBezTo>
                  <a:pt x="9218" y="3586"/>
                  <a:pt x="9284" y="3572"/>
                  <a:pt x="9287" y="3572"/>
                </a:cubicBezTo>
                <a:cubicBezTo>
                  <a:pt x="9325" y="3565"/>
                  <a:pt x="9393" y="3555"/>
                  <a:pt x="9406" y="3552"/>
                </a:cubicBezTo>
                <a:cubicBezTo>
                  <a:pt x="9448" y="3542"/>
                  <a:pt x="9468" y="3545"/>
                  <a:pt x="9505" y="3532"/>
                </a:cubicBezTo>
                <a:cubicBezTo>
                  <a:pt x="9553" y="3515"/>
                  <a:pt x="9599" y="3488"/>
                  <a:pt x="9644" y="3473"/>
                </a:cubicBezTo>
                <a:cubicBezTo>
                  <a:pt x="9701" y="3454"/>
                  <a:pt x="9768" y="3450"/>
                  <a:pt x="9823" y="3433"/>
                </a:cubicBezTo>
                <a:cubicBezTo>
                  <a:pt x="9878" y="3416"/>
                  <a:pt x="9938" y="3368"/>
                  <a:pt x="10001" y="3354"/>
                </a:cubicBezTo>
                <a:cubicBezTo>
                  <a:pt x="10058" y="3342"/>
                  <a:pt x="10122" y="3348"/>
                  <a:pt x="10180" y="3334"/>
                </a:cubicBezTo>
                <a:cubicBezTo>
                  <a:pt x="10227" y="3323"/>
                  <a:pt x="10271" y="3303"/>
                  <a:pt x="10319" y="3294"/>
                </a:cubicBezTo>
                <a:cubicBezTo>
                  <a:pt x="10359" y="3287"/>
                  <a:pt x="10398" y="3283"/>
                  <a:pt x="10438" y="3274"/>
                </a:cubicBezTo>
                <a:cubicBezTo>
                  <a:pt x="10500" y="3260"/>
                  <a:pt x="10581" y="3258"/>
                  <a:pt x="10656" y="3235"/>
                </a:cubicBezTo>
                <a:cubicBezTo>
                  <a:pt x="10740" y="3209"/>
                  <a:pt x="10833" y="3151"/>
                  <a:pt x="10914" y="3115"/>
                </a:cubicBezTo>
                <a:cubicBezTo>
                  <a:pt x="11012" y="3071"/>
                  <a:pt x="11109" y="3011"/>
                  <a:pt x="11212" y="2977"/>
                </a:cubicBezTo>
                <a:cubicBezTo>
                  <a:pt x="11291" y="2950"/>
                  <a:pt x="11348" y="2949"/>
                  <a:pt x="11430" y="2917"/>
                </a:cubicBezTo>
                <a:cubicBezTo>
                  <a:pt x="11473" y="2900"/>
                  <a:pt x="11524" y="2867"/>
                  <a:pt x="11569" y="2857"/>
                </a:cubicBezTo>
                <a:cubicBezTo>
                  <a:pt x="11692" y="2831"/>
                  <a:pt x="11808" y="2816"/>
                  <a:pt x="11926" y="2778"/>
                </a:cubicBezTo>
                <a:cubicBezTo>
                  <a:pt x="11998" y="2755"/>
                  <a:pt x="12067" y="2740"/>
                  <a:pt x="12144" y="2719"/>
                </a:cubicBezTo>
                <a:cubicBezTo>
                  <a:pt x="12204" y="2702"/>
                  <a:pt x="12263" y="2692"/>
                  <a:pt x="12323" y="2679"/>
                </a:cubicBezTo>
                <a:cubicBezTo>
                  <a:pt x="12358" y="2671"/>
                  <a:pt x="12401" y="2647"/>
                  <a:pt x="12442" y="2639"/>
                </a:cubicBezTo>
                <a:cubicBezTo>
                  <a:pt x="12496" y="2629"/>
                  <a:pt x="12549" y="2634"/>
                  <a:pt x="12601" y="2619"/>
                </a:cubicBezTo>
                <a:cubicBezTo>
                  <a:pt x="12646" y="2606"/>
                  <a:pt x="12671" y="2592"/>
                  <a:pt x="12720" y="2580"/>
                </a:cubicBezTo>
                <a:cubicBezTo>
                  <a:pt x="12773" y="2567"/>
                  <a:pt x="12825" y="2551"/>
                  <a:pt x="12879" y="2540"/>
                </a:cubicBezTo>
                <a:cubicBezTo>
                  <a:pt x="12968" y="2523"/>
                  <a:pt x="13021" y="2486"/>
                  <a:pt x="13097" y="2461"/>
                </a:cubicBezTo>
                <a:cubicBezTo>
                  <a:pt x="13165" y="2438"/>
                  <a:pt x="13229" y="2439"/>
                  <a:pt x="13295" y="2421"/>
                </a:cubicBezTo>
                <a:cubicBezTo>
                  <a:pt x="13361" y="2403"/>
                  <a:pt x="13429" y="2382"/>
                  <a:pt x="13494" y="2361"/>
                </a:cubicBezTo>
                <a:cubicBezTo>
                  <a:pt x="13549" y="2343"/>
                  <a:pt x="13596" y="2315"/>
                  <a:pt x="13652" y="2302"/>
                </a:cubicBezTo>
                <a:cubicBezTo>
                  <a:pt x="13692" y="2292"/>
                  <a:pt x="13732" y="2293"/>
                  <a:pt x="13772" y="2282"/>
                </a:cubicBezTo>
                <a:cubicBezTo>
                  <a:pt x="13822" y="2268"/>
                  <a:pt x="13881" y="2258"/>
                  <a:pt x="13930" y="2242"/>
                </a:cubicBezTo>
                <a:cubicBezTo>
                  <a:pt x="13986" y="2224"/>
                  <a:pt x="14031" y="2203"/>
                  <a:pt x="14089" y="2183"/>
                </a:cubicBezTo>
                <a:cubicBezTo>
                  <a:pt x="14149" y="2162"/>
                  <a:pt x="14206" y="2146"/>
                  <a:pt x="14268" y="2123"/>
                </a:cubicBezTo>
                <a:cubicBezTo>
                  <a:pt x="14316" y="2105"/>
                  <a:pt x="14364" y="2078"/>
                  <a:pt x="14407" y="2064"/>
                </a:cubicBezTo>
                <a:cubicBezTo>
                  <a:pt x="14465" y="2045"/>
                  <a:pt x="14485" y="2037"/>
                  <a:pt x="14545" y="2024"/>
                </a:cubicBezTo>
                <a:cubicBezTo>
                  <a:pt x="14595" y="2013"/>
                  <a:pt x="14637" y="2016"/>
                  <a:pt x="14684" y="2004"/>
                </a:cubicBezTo>
                <a:cubicBezTo>
                  <a:pt x="14738" y="1990"/>
                  <a:pt x="14743" y="1976"/>
                  <a:pt x="14803" y="1965"/>
                </a:cubicBezTo>
                <a:cubicBezTo>
                  <a:pt x="14869" y="1953"/>
                  <a:pt x="14941" y="1937"/>
                  <a:pt x="15002" y="1925"/>
                </a:cubicBezTo>
                <a:cubicBezTo>
                  <a:pt x="15028" y="1920"/>
                  <a:pt x="15035" y="1910"/>
                  <a:pt x="15061" y="1905"/>
                </a:cubicBezTo>
                <a:cubicBezTo>
                  <a:pt x="15087" y="1900"/>
                  <a:pt x="15095" y="1891"/>
                  <a:pt x="15121" y="1885"/>
                </a:cubicBezTo>
                <a:cubicBezTo>
                  <a:pt x="15146" y="1879"/>
                  <a:pt x="15199" y="1865"/>
                  <a:pt x="15200" y="1865"/>
                </a:cubicBezTo>
                <a:cubicBezTo>
                  <a:pt x="15232" y="1857"/>
                  <a:pt x="15247" y="1852"/>
                  <a:pt x="15280" y="1845"/>
                </a:cubicBezTo>
                <a:cubicBezTo>
                  <a:pt x="15322" y="1836"/>
                  <a:pt x="15359" y="1840"/>
                  <a:pt x="15399" y="1826"/>
                </a:cubicBezTo>
                <a:cubicBezTo>
                  <a:pt x="15418" y="1819"/>
                  <a:pt x="15419" y="1811"/>
                  <a:pt x="15438" y="1806"/>
                </a:cubicBezTo>
              </a:path>
              <a:path w="9407" h="4009">
                <a:moveTo>
                  <a:pt x="8453" y="3850"/>
                </a:moveTo>
                <a:cubicBezTo>
                  <a:pt x="8471" y="3868"/>
                  <a:pt x="8477" y="3871"/>
                  <a:pt x="8473" y="3889"/>
                </a:cubicBezTo>
                <a:cubicBezTo>
                  <a:pt x="8506" y="3892"/>
                  <a:pt x="8487" y="3913"/>
                  <a:pt x="8533" y="3909"/>
                </a:cubicBezTo>
                <a:cubicBezTo>
                  <a:pt x="8598" y="3903"/>
                  <a:pt x="8652" y="3896"/>
                  <a:pt x="8711" y="3889"/>
                </a:cubicBezTo>
                <a:cubicBezTo>
                  <a:pt x="8759" y="3883"/>
                  <a:pt x="8784" y="3878"/>
                  <a:pt x="8830" y="3870"/>
                </a:cubicBezTo>
                <a:cubicBezTo>
                  <a:pt x="8871" y="3863"/>
                  <a:pt x="8916" y="3853"/>
                  <a:pt x="8950" y="3850"/>
                </a:cubicBezTo>
                <a:cubicBezTo>
                  <a:pt x="8976" y="3848"/>
                  <a:pt x="9003" y="3854"/>
                  <a:pt x="9029" y="3850"/>
                </a:cubicBezTo>
                <a:cubicBezTo>
                  <a:pt x="9040" y="3846"/>
                  <a:pt x="9077" y="3816"/>
                  <a:pt x="9108" y="3810"/>
                </a:cubicBezTo>
                <a:cubicBezTo>
                  <a:pt x="9128" y="3810"/>
                  <a:pt x="9135" y="3810"/>
                  <a:pt x="9148" y="3810"/>
                </a:cubicBezTo>
                <a:cubicBezTo>
                  <a:pt x="9149" y="3810"/>
                  <a:pt x="9206" y="3796"/>
                  <a:pt x="9227" y="3790"/>
                </a:cubicBezTo>
                <a:cubicBezTo>
                  <a:pt x="9257" y="3782"/>
                  <a:pt x="9274" y="3776"/>
                  <a:pt x="9307" y="3770"/>
                </a:cubicBezTo>
                <a:cubicBezTo>
                  <a:pt x="9347" y="3763"/>
                  <a:pt x="9380" y="3756"/>
                  <a:pt x="9426" y="3750"/>
                </a:cubicBezTo>
                <a:cubicBezTo>
                  <a:pt x="9433" y="3750"/>
                  <a:pt x="9439" y="3750"/>
                  <a:pt x="9446" y="3750"/>
                </a:cubicBezTo>
                <a:cubicBezTo>
                  <a:pt x="9458" y="3746"/>
                  <a:pt x="9489" y="3736"/>
                  <a:pt x="9525" y="3731"/>
                </a:cubicBezTo>
                <a:cubicBezTo>
                  <a:pt x="9558" y="3726"/>
                  <a:pt x="9624" y="3721"/>
                  <a:pt x="9664" y="3711"/>
                </a:cubicBezTo>
                <a:cubicBezTo>
                  <a:pt x="9701" y="3702"/>
                  <a:pt x="9745" y="3682"/>
                  <a:pt x="9783" y="3671"/>
                </a:cubicBezTo>
                <a:cubicBezTo>
                  <a:pt x="9819" y="3661"/>
                  <a:pt x="9845" y="3657"/>
                  <a:pt x="9882" y="3651"/>
                </a:cubicBezTo>
                <a:cubicBezTo>
                  <a:pt x="9950" y="3639"/>
                  <a:pt x="10017" y="3624"/>
                  <a:pt x="10081" y="3612"/>
                </a:cubicBezTo>
                <a:cubicBezTo>
                  <a:pt x="10113" y="3606"/>
                  <a:pt x="10131" y="3597"/>
                  <a:pt x="10160" y="3592"/>
                </a:cubicBezTo>
                <a:cubicBezTo>
                  <a:pt x="10198" y="3586"/>
                  <a:pt x="10225" y="3578"/>
                  <a:pt x="10259" y="3572"/>
                </a:cubicBezTo>
                <a:cubicBezTo>
                  <a:pt x="10296" y="3565"/>
                  <a:pt x="10325" y="3558"/>
                  <a:pt x="10358" y="3552"/>
                </a:cubicBezTo>
                <a:cubicBezTo>
                  <a:pt x="10403" y="3544"/>
                  <a:pt x="10434" y="3543"/>
                  <a:pt x="10477" y="3532"/>
                </a:cubicBezTo>
                <a:cubicBezTo>
                  <a:pt x="10522" y="3520"/>
                  <a:pt x="10542" y="3500"/>
                  <a:pt x="10577" y="3492"/>
                </a:cubicBezTo>
                <a:cubicBezTo>
                  <a:pt x="10613" y="3484"/>
                  <a:pt x="10640" y="3483"/>
                  <a:pt x="10676" y="3473"/>
                </a:cubicBezTo>
                <a:cubicBezTo>
                  <a:pt x="10712" y="3463"/>
                  <a:pt x="10741" y="3441"/>
                  <a:pt x="10775" y="3433"/>
                </a:cubicBezTo>
                <a:cubicBezTo>
                  <a:pt x="10808" y="3425"/>
                  <a:pt x="10841" y="3423"/>
                  <a:pt x="10874" y="3413"/>
                </a:cubicBezTo>
                <a:cubicBezTo>
                  <a:pt x="10908" y="3402"/>
                  <a:pt x="10960" y="3380"/>
                  <a:pt x="10993" y="3373"/>
                </a:cubicBezTo>
                <a:cubicBezTo>
                  <a:pt x="11028" y="3366"/>
                  <a:pt x="11078" y="3364"/>
                  <a:pt x="11112" y="3354"/>
                </a:cubicBezTo>
                <a:cubicBezTo>
                  <a:pt x="11156" y="3341"/>
                  <a:pt x="11186" y="3329"/>
                  <a:pt x="11232" y="3314"/>
                </a:cubicBezTo>
                <a:cubicBezTo>
                  <a:pt x="11270" y="3302"/>
                  <a:pt x="11306" y="3283"/>
                  <a:pt x="11351" y="3274"/>
                </a:cubicBezTo>
                <a:cubicBezTo>
                  <a:pt x="11377" y="3274"/>
                  <a:pt x="11390" y="3274"/>
                  <a:pt x="11410" y="3274"/>
                </a:cubicBezTo>
                <a:cubicBezTo>
                  <a:pt x="11415" y="3272"/>
                  <a:pt x="11472" y="3244"/>
                  <a:pt x="11490" y="3235"/>
                </a:cubicBezTo>
                <a:cubicBezTo>
                  <a:pt x="11526" y="3218"/>
                  <a:pt x="11588" y="3168"/>
                  <a:pt x="11628" y="3155"/>
                </a:cubicBezTo>
                <a:cubicBezTo>
                  <a:pt x="11673" y="3141"/>
                  <a:pt x="11723" y="3148"/>
                  <a:pt x="11767" y="3135"/>
                </a:cubicBezTo>
                <a:cubicBezTo>
                  <a:pt x="11811" y="3122"/>
                  <a:pt x="11885" y="3091"/>
                  <a:pt x="11946" y="3076"/>
                </a:cubicBezTo>
                <a:cubicBezTo>
                  <a:pt x="11995" y="3064"/>
                  <a:pt x="12039" y="3049"/>
                  <a:pt x="12085" y="3036"/>
                </a:cubicBezTo>
                <a:cubicBezTo>
                  <a:pt x="12123" y="3025"/>
                  <a:pt x="12161" y="3005"/>
                  <a:pt x="12204" y="2996"/>
                </a:cubicBezTo>
                <a:cubicBezTo>
                  <a:pt x="12277" y="2980"/>
                  <a:pt x="12337" y="2975"/>
                  <a:pt x="12402" y="2957"/>
                </a:cubicBezTo>
                <a:cubicBezTo>
                  <a:pt x="12440" y="2946"/>
                  <a:pt x="12482" y="2949"/>
                  <a:pt x="12521" y="2937"/>
                </a:cubicBezTo>
                <a:cubicBezTo>
                  <a:pt x="12559" y="2926"/>
                  <a:pt x="12601" y="2909"/>
                  <a:pt x="12640" y="2897"/>
                </a:cubicBezTo>
                <a:cubicBezTo>
                  <a:pt x="12687" y="2883"/>
                  <a:pt x="12746" y="2866"/>
                  <a:pt x="12799" y="2857"/>
                </a:cubicBezTo>
                <a:cubicBezTo>
                  <a:pt x="12831" y="2851"/>
                  <a:pt x="12849" y="2844"/>
                  <a:pt x="12879" y="2838"/>
                </a:cubicBezTo>
                <a:cubicBezTo>
                  <a:pt x="12932" y="2828"/>
                  <a:pt x="12985" y="2831"/>
                  <a:pt x="13037" y="2818"/>
                </a:cubicBezTo>
                <a:cubicBezTo>
                  <a:pt x="13070" y="2810"/>
                  <a:pt x="13102" y="2786"/>
                  <a:pt x="13137" y="2778"/>
                </a:cubicBezTo>
                <a:cubicBezTo>
                  <a:pt x="13165" y="2772"/>
                  <a:pt x="13186" y="2765"/>
                  <a:pt x="13216" y="2758"/>
                </a:cubicBezTo>
                <a:cubicBezTo>
                  <a:pt x="13246" y="2751"/>
                  <a:pt x="13267" y="2743"/>
                  <a:pt x="13295" y="2738"/>
                </a:cubicBezTo>
                <a:cubicBezTo>
                  <a:pt x="13326" y="2732"/>
                  <a:pt x="13346" y="2724"/>
                  <a:pt x="13375" y="2719"/>
                </a:cubicBezTo>
                <a:cubicBezTo>
                  <a:pt x="13401" y="2715"/>
                  <a:pt x="13428" y="2723"/>
                  <a:pt x="13454" y="2719"/>
                </a:cubicBezTo>
                <a:cubicBezTo>
                  <a:pt x="13485" y="2708"/>
                  <a:pt x="13502" y="2711"/>
                  <a:pt x="13533" y="2699"/>
                </a:cubicBezTo>
                <a:cubicBezTo>
                  <a:pt x="13579" y="2680"/>
                  <a:pt x="13604" y="2652"/>
                  <a:pt x="13652" y="2639"/>
                </a:cubicBezTo>
                <a:cubicBezTo>
                  <a:pt x="13719" y="2621"/>
                  <a:pt x="13787" y="2618"/>
                  <a:pt x="13851" y="2600"/>
                </a:cubicBezTo>
                <a:cubicBezTo>
                  <a:pt x="13891" y="2589"/>
                  <a:pt x="13950" y="2568"/>
                  <a:pt x="13990" y="2560"/>
                </a:cubicBezTo>
                <a:cubicBezTo>
                  <a:pt x="14044" y="2550"/>
                  <a:pt x="14094" y="2549"/>
                  <a:pt x="14149" y="2540"/>
                </a:cubicBezTo>
                <a:cubicBezTo>
                  <a:pt x="14157" y="2538"/>
                  <a:pt x="14194" y="2525"/>
                  <a:pt x="14228" y="2520"/>
                </a:cubicBezTo>
                <a:cubicBezTo>
                  <a:pt x="14255" y="2516"/>
                  <a:pt x="14279" y="2507"/>
                  <a:pt x="14307" y="2500"/>
                </a:cubicBezTo>
                <a:cubicBezTo>
                  <a:pt x="14337" y="2492"/>
                  <a:pt x="14359" y="2487"/>
                  <a:pt x="14387" y="2480"/>
                </a:cubicBezTo>
                <a:cubicBezTo>
                  <a:pt x="14416" y="2473"/>
                  <a:pt x="14435" y="2468"/>
                  <a:pt x="14466" y="2461"/>
                </a:cubicBezTo>
                <a:cubicBezTo>
                  <a:pt x="14494" y="2455"/>
                  <a:pt x="14516" y="2449"/>
                  <a:pt x="14545" y="2441"/>
                </a:cubicBezTo>
                <a:cubicBezTo>
                  <a:pt x="14593" y="2429"/>
                  <a:pt x="14636" y="2415"/>
                  <a:pt x="14684" y="2401"/>
                </a:cubicBezTo>
                <a:cubicBezTo>
                  <a:pt x="14719" y="2390"/>
                  <a:pt x="14751" y="2368"/>
                  <a:pt x="14784" y="2361"/>
                </a:cubicBezTo>
                <a:cubicBezTo>
                  <a:pt x="14809" y="2356"/>
                  <a:pt x="14838" y="2366"/>
                  <a:pt x="14863" y="2361"/>
                </a:cubicBezTo>
                <a:cubicBezTo>
                  <a:pt x="14891" y="2353"/>
                  <a:pt x="14893" y="2325"/>
                  <a:pt x="14922" y="2322"/>
                </a:cubicBezTo>
                <a:cubicBezTo>
                  <a:pt x="14968" y="2318"/>
                  <a:pt x="15015" y="2326"/>
                  <a:pt x="15061" y="2322"/>
                </a:cubicBezTo>
                <a:cubicBezTo>
                  <a:pt x="15078" y="2314"/>
                  <a:pt x="15081" y="2305"/>
                  <a:pt x="15121" y="2302"/>
                </a:cubicBezTo>
                <a:cubicBezTo>
                  <a:pt x="15128" y="2302"/>
                  <a:pt x="15134" y="2302"/>
                  <a:pt x="15141" y="2302"/>
                </a:cubicBezTo>
                <a:cubicBezTo>
                  <a:pt x="15143" y="2300"/>
                  <a:pt x="15193" y="2288"/>
                  <a:pt x="15200" y="2282"/>
                </a:cubicBezTo>
                <a:cubicBezTo>
                  <a:pt x="15200" y="2275"/>
                  <a:pt x="15200" y="2269"/>
                  <a:pt x="15200" y="2262"/>
                </a:cubicBezTo>
              </a:path>
              <a:path w="9407" h="4009">
                <a:moveTo>
                  <a:pt x="15220" y="2282"/>
                </a:moveTo>
                <a:cubicBezTo>
                  <a:pt x="15231" y="2248"/>
                  <a:pt x="15267" y="2262"/>
                  <a:pt x="15300" y="2242"/>
                </a:cubicBezTo>
                <a:cubicBezTo>
                  <a:pt x="15327" y="2225"/>
                  <a:pt x="15345" y="2207"/>
                  <a:pt x="15379" y="2203"/>
                </a:cubicBezTo>
                <a:cubicBezTo>
                  <a:pt x="15418" y="2199"/>
                  <a:pt x="15444" y="2187"/>
                  <a:pt x="15478" y="2183"/>
                </a:cubicBezTo>
                <a:cubicBezTo>
                  <a:pt x="15521" y="2178"/>
                  <a:pt x="15532" y="2166"/>
                  <a:pt x="15557" y="2163"/>
                </a:cubicBezTo>
                <a:cubicBezTo>
                  <a:pt x="15590" y="2159"/>
                  <a:pt x="15607" y="2146"/>
                  <a:pt x="15637" y="2143"/>
                </a:cubicBezTo>
                <a:cubicBezTo>
                  <a:pt x="15676" y="2139"/>
                  <a:pt x="15679" y="2132"/>
                  <a:pt x="15696" y="2123"/>
                </a:cubicBezTo>
                <a:cubicBezTo>
                  <a:pt x="15735" y="2103"/>
                  <a:pt x="15712" y="2102"/>
                  <a:pt x="15736" y="2084"/>
                </a:cubicBezTo>
                <a:cubicBezTo>
                  <a:pt x="15767" y="2060"/>
                  <a:pt x="15776" y="2104"/>
                  <a:pt x="15776" y="2044"/>
                </a:cubicBezTo>
                <a:cubicBezTo>
                  <a:pt x="15776" y="2012"/>
                  <a:pt x="15796" y="2028"/>
                  <a:pt x="15796" y="1984"/>
                </a:cubicBezTo>
                <a:cubicBezTo>
                  <a:pt x="15796" y="1955"/>
                  <a:pt x="15790" y="1926"/>
                  <a:pt x="15776" y="1905"/>
                </a:cubicBezTo>
                <a:cubicBezTo>
                  <a:pt x="15766" y="1890"/>
                  <a:pt x="15718" y="1846"/>
                  <a:pt x="15716" y="1845"/>
                </a:cubicBezTo>
                <a:cubicBezTo>
                  <a:pt x="15657" y="1816"/>
                  <a:pt x="15505" y="1845"/>
                  <a:pt x="15438" y="1845"/>
                </a:cubicBezTo>
              </a:path>
              <a:path w="9407" h="4009">
                <a:moveTo>
                  <a:pt x="8969" y="3651"/>
                </a:moveTo>
                <a:cubicBezTo>
                  <a:pt x="8902" y="3651"/>
                  <a:pt x="8853" y="3655"/>
                  <a:pt x="8791" y="3671"/>
                </a:cubicBezTo>
                <a:cubicBezTo>
                  <a:pt x="8736" y="3685"/>
                  <a:pt x="8725" y="3686"/>
                  <a:pt x="8672" y="3711"/>
                </a:cubicBezTo>
                <a:cubicBezTo>
                  <a:pt x="8631" y="3730"/>
                  <a:pt x="8598" y="3701"/>
                  <a:pt x="8553" y="3731"/>
                </a:cubicBezTo>
                <a:cubicBezTo>
                  <a:pt x="8533" y="3744"/>
                  <a:pt x="8515" y="3775"/>
                  <a:pt x="8513" y="3790"/>
                </a:cubicBezTo>
                <a:cubicBezTo>
                  <a:pt x="8509" y="3824"/>
                  <a:pt x="8504" y="3798"/>
                  <a:pt x="8493" y="3830"/>
                </a:cubicBezTo>
                <a:cubicBezTo>
                  <a:pt x="8503" y="3860"/>
                  <a:pt x="8510" y="3854"/>
                  <a:pt x="8533" y="3870"/>
                </a:cubicBezTo>
                <a:cubicBezTo>
                  <a:pt x="8548" y="3881"/>
                  <a:pt x="8553" y="3900"/>
                  <a:pt x="8553" y="3929"/>
                </a:cubicBezTo>
                <a:cubicBezTo>
                  <a:pt x="8553" y="3962"/>
                  <a:pt x="8583" y="3952"/>
                  <a:pt x="8592" y="3969"/>
                </a:cubicBezTo>
                <a:cubicBezTo>
                  <a:pt x="8601" y="3987"/>
                  <a:pt x="8631" y="4006"/>
                  <a:pt x="8652" y="4008"/>
                </a:cubicBezTo>
                <a:cubicBezTo>
                  <a:pt x="8696" y="4013"/>
                  <a:pt x="8759" y="4017"/>
                  <a:pt x="8791" y="3989"/>
                </a:cubicBezTo>
                <a:cubicBezTo>
                  <a:pt x="8808" y="3975"/>
                  <a:pt x="8864" y="3977"/>
                  <a:pt x="8870" y="3969"/>
                </a:cubicBezTo>
                <a:cubicBezTo>
                  <a:pt x="8876" y="3961"/>
                  <a:pt x="8908" y="3933"/>
                  <a:pt x="8910" y="3929"/>
                </a:cubicBezTo>
                <a:cubicBezTo>
                  <a:pt x="8924" y="3901"/>
                  <a:pt x="8940" y="3908"/>
                  <a:pt x="8969" y="3889"/>
                </a:cubicBezTo>
                <a:cubicBezTo>
                  <a:pt x="8988" y="3877"/>
                  <a:pt x="8988" y="3870"/>
                  <a:pt x="9029" y="3870"/>
                </a:cubicBezTo>
                <a:cubicBezTo>
                  <a:pt x="9051" y="3870"/>
                  <a:pt x="9108" y="3861"/>
                  <a:pt x="9128" y="3850"/>
                </a:cubicBezTo>
                <a:cubicBezTo>
                  <a:pt x="9135" y="3843"/>
                  <a:pt x="9141" y="3837"/>
                  <a:pt x="9148" y="3830"/>
                </a:cubicBezTo>
                <a:cubicBezTo>
                  <a:pt x="9110" y="3853"/>
                  <a:pt x="9055" y="3859"/>
                  <a:pt x="9009" y="3870"/>
                </a:cubicBezTo>
                <a:cubicBezTo>
                  <a:pt x="8973" y="3878"/>
                  <a:pt x="8926" y="3886"/>
                  <a:pt x="8890" y="3889"/>
                </a:cubicBezTo>
                <a:cubicBezTo>
                  <a:pt x="8857" y="3892"/>
                  <a:pt x="8874" y="3926"/>
                  <a:pt x="8830" y="3929"/>
                </a:cubicBezTo>
                <a:cubicBezTo>
                  <a:pt x="8786" y="3932"/>
                  <a:pt x="8768" y="3937"/>
                  <a:pt x="8731" y="3949"/>
                </a:cubicBezTo>
                <a:cubicBezTo>
                  <a:pt x="8724" y="3951"/>
                  <a:pt x="8637" y="3949"/>
                  <a:pt x="8692" y="3949"/>
                </a:cubicBezTo>
                <a:cubicBezTo>
                  <a:pt x="8791" y="3949"/>
                  <a:pt x="8985" y="3986"/>
                  <a:pt x="9069" y="3929"/>
                </a:cubicBezTo>
                <a:cubicBezTo>
                  <a:pt x="9090" y="3914"/>
                  <a:pt x="9091" y="3909"/>
                  <a:pt x="9128" y="3909"/>
                </a:cubicBezTo>
                <a:cubicBezTo>
                  <a:pt x="9164" y="3909"/>
                  <a:pt x="9176" y="3897"/>
                  <a:pt x="9207" y="3889"/>
                </a:cubicBezTo>
                <a:cubicBezTo>
                  <a:pt x="9238" y="3881"/>
                  <a:pt x="9255" y="3856"/>
                  <a:pt x="9267" y="3850"/>
                </a:cubicBezTo>
                <a:cubicBezTo>
                  <a:pt x="9286" y="3840"/>
                  <a:pt x="9313" y="3831"/>
                  <a:pt x="9327" y="3830"/>
                </a:cubicBezTo>
                <a:cubicBezTo>
                  <a:pt x="9375" y="3826"/>
                  <a:pt x="9402" y="3822"/>
                  <a:pt x="9426" y="3810"/>
                </a:cubicBezTo>
                <a:cubicBezTo>
                  <a:pt x="9433" y="3810"/>
                  <a:pt x="9439" y="3810"/>
                  <a:pt x="9446" y="3810"/>
                </a:cubicBezTo>
              </a:path>
              <a:path w="9407" h="4009">
                <a:moveTo>
                  <a:pt x="9088" y="3731"/>
                </a:moveTo>
                <a:lnTo>
                  <a:pt x="9088" y="3731"/>
                </a:lnTo>
                <a:lnTo>
                  <a:pt x="9108" y="3731"/>
                </a:lnTo>
                <a:lnTo>
                  <a:pt x="9168" y="3731"/>
                </a:lnTo>
                <a:lnTo>
                  <a:pt x="9207" y="3711"/>
                </a:lnTo>
                <a:lnTo>
                  <a:pt x="9227" y="3711"/>
                </a:lnTo>
                <a:lnTo>
                  <a:pt x="9247" y="3711"/>
                </a:lnTo>
                <a:lnTo>
                  <a:pt x="9267" y="3711"/>
                </a:lnTo>
                <a:lnTo>
                  <a:pt x="9287" y="3711"/>
                </a:lnTo>
                <a:lnTo>
                  <a:pt x="9287" y="3691"/>
                </a:lnTo>
                <a:lnTo>
                  <a:pt x="9287" y="3691"/>
                </a:lnTo>
                <a:lnTo>
                  <a:pt x="9307" y="3691"/>
                </a:lnTo>
                <a:lnTo>
                  <a:pt x="9346" y="3691"/>
                </a:lnTo>
                <a:lnTo>
                  <a:pt x="9386" y="3671"/>
                </a:lnTo>
                <a:lnTo>
                  <a:pt x="9426" y="3671"/>
                </a:lnTo>
                <a:lnTo>
                  <a:pt x="9446" y="3671"/>
                </a:lnTo>
                <a:lnTo>
                  <a:pt x="9465" y="3651"/>
                </a:lnTo>
                <a:lnTo>
                  <a:pt x="9505" y="3631"/>
                </a:lnTo>
                <a:lnTo>
                  <a:pt x="9525" y="3631"/>
                </a:lnTo>
                <a:lnTo>
                  <a:pt x="9545" y="3631"/>
                </a:lnTo>
                <a:lnTo>
                  <a:pt x="9545" y="3631"/>
                </a:lnTo>
                <a:lnTo>
                  <a:pt x="9545" y="3631"/>
                </a:lnTo>
                <a:lnTo>
                  <a:pt x="9565" y="3631"/>
                </a:lnTo>
                <a:lnTo>
                  <a:pt x="9604" y="3612"/>
                </a:lnTo>
                <a:lnTo>
                  <a:pt x="9604" y="3612"/>
                </a:lnTo>
                <a:lnTo>
                  <a:pt x="9604" y="3612"/>
                </a:lnTo>
                <a:lnTo>
                  <a:pt x="9585" y="3612"/>
                </a:lnTo>
                <a:lnTo>
                  <a:pt x="9585" y="3612"/>
                </a:lnTo>
                <a:lnTo>
                  <a:pt x="9565" y="3612"/>
                </a:lnTo>
                <a:lnTo>
                  <a:pt x="9545" y="3612"/>
                </a:lnTo>
                <a:lnTo>
                  <a:pt x="9525" y="3612"/>
                </a:lnTo>
                <a:lnTo>
                  <a:pt x="9505" y="3612"/>
                </a:lnTo>
                <a:lnTo>
                  <a:pt x="9485" y="3631"/>
                </a:lnTo>
                <a:lnTo>
                  <a:pt x="9465" y="3631"/>
                </a:lnTo>
                <a:lnTo>
                  <a:pt x="9446" y="3631"/>
                </a:lnTo>
                <a:lnTo>
                  <a:pt x="9406" y="3631"/>
                </a:lnTo>
                <a:lnTo>
                  <a:pt x="9366" y="3631"/>
                </a:lnTo>
                <a:lnTo>
                  <a:pt x="9346" y="3651"/>
                </a:lnTo>
                <a:lnTo>
                  <a:pt x="9327" y="3671"/>
                </a:lnTo>
                <a:lnTo>
                  <a:pt x="9307" y="3671"/>
                </a:lnTo>
                <a:lnTo>
                  <a:pt x="9287" y="3671"/>
                </a:lnTo>
                <a:lnTo>
                  <a:pt x="9267" y="3671"/>
                </a:lnTo>
                <a:lnTo>
                  <a:pt x="9247" y="3671"/>
                </a:lnTo>
                <a:lnTo>
                  <a:pt x="9227" y="3691"/>
                </a:lnTo>
                <a:lnTo>
                  <a:pt x="9207" y="3691"/>
                </a:lnTo>
                <a:lnTo>
                  <a:pt x="9188" y="3691"/>
                </a:lnTo>
                <a:lnTo>
                  <a:pt x="9168" y="3691"/>
                </a:lnTo>
                <a:lnTo>
                  <a:pt x="9148" y="3691"/>
                </a:lnTo>
                <a:lnTo>
                  <a:pt x="9148" y="3711"/>
                </a:lnTo>
                <a:lnTo>
                  <a:pt x="9128" y="3731"/>
                </a:lnTo>
                <a:lnTo>
                  <a:pt x="9108" y="3731"/>
                </a:lnTo>
                <a:lnTo>
                  <a:pt x="9069" y="3731"/>
                </a:lnTo>
                <a:lnTo>
                  <a:pt x="9049" y="3731"/>
                </a:lnTo>
                <a:lnTo>
                  <a:pt x="9029" y="3750"/>
                </a:lnTo>
                <a:lnTo>
                  <a:pt x="8989" y="3750"/>
                </a:lnTo>
                <a:lnTo>
                  <a:pt x="8930" y="3770"/>
                </a:lnTo>
                <a:lnTo>
                  <a:pt x="8910" y="3770"/>
                </a:lnTo>
                <a:lnTo>
                  <a:pt x="8890" y="3770"/>
                </a:lnTo>
                <a:lnTo>
                  <a:pt x="8890" y="3770"/>
                </a:lnTo>
                <a:lnTo>
                  <a:pt x="8870" y="3770"/>
                </a:lnTo>
                <a:lnTo>
                  <a:pt x="8870" y="3770"/>
                </a:lnTo>
                <a:lnTo>
                  <a:pt x="8870" y="3770"/>
                </a:lnTo>
                <a:lnTo>
                  <a:pt x="8870" y="3770"/>
                </a:lnTo>
                <a:lnTo>
                  <a:pt x="8870" y="3790"/>
                </a:lnTo>
                <a:lnTo>
                  <a:pt x="8870" y="3790"/>
                </a:lnTo>
                <a:lnTo>
                  <a:pt x="8870" y="3790"/>
                </a:lnTo>
                <a:lnTo>
                  <a:pt x="8890" y="3770"/>
                </a:lnTo>
                <a:lnTo>
                  <a:pt x="8930" y="3770"/>
                </a:lnTo>
                <a:lnTo>
                  <a:pt x="8950" y="3770"/>
                </a:lnTo>
                <a:lnTo>
                  <a:pt x="9009" y="3770"/>
                </a:lnTo>
                <a:lnTo>
                  <a:pt x="9069" y="3770"/>
                </a:lnTo>
                <a:lnTo>
                  <a:pt x="9088" y="3770"/>
                </a:lnTo>
                <a:lnTo>
                  <a:pt x="9128" y="3750"/>
                </a:lnTo>
                <a:lnTo>
                  <a:pt x="9168" y="3731"/>
                </a:lnTo>
                <a:lnTo>
                  <a:pt x="9207" y="3731"/>
                </a:lnTo>
                <a:lnTo>
                  <a:pt x="9227" y="3711"/>
                </a:lnTo>
                <a:lnTo>
                  <a:pt x="9247" y="3711"/>
                </a:lnTo>
                <a:lnTo>
                  <a:pt x="9267" y="3711"/>
                </a:lnTo>
                <a:lnTo>
                  <a:pt x="9267" y="3711"/>
                </a:lnTo>
                <a:lnTo>
                  <a:pt x="9287" y="3711"/>
                </a:lnTo>
                <a:lnTo>
                  <a:pt x="9307" y="3691"/>
                </a:lnTo>
                <a:lnTo>
                  <a:pt x="9327" y="3691"/>
                </a:lnTo>
                <a:lnTo>
                  <a:pt x="9366" y="3691"/>
                </a:lnTo>
                <a:lnTo>
                  <a:pt x="9386" y="3691"/>
                </a:lnTo>
                <a:lnTo>
                  <a:pt x="9406" y="3691"/>
                </a:lnTo>
                <a:lnTo>
                  <a:pt x="9426" y="3671"/>
                </a:lnTo>
                <a:lnTo>
                  <a:pt x="9465" y="3671"/>
                </a:lnTo>
                <a:lnTo>
                  <a:pt x="9465" y="3671"/>
                </a:lnTo>
                <a:lnTo>
                  <a:pt x="9485" y="3671"/>
                </a:lnTo>
                <a:lnTo>
                  <a:pt x="9505" y="3671"/>
                </a:lnTo>
                <a:lnTo>
                  <a:pt x="9505" y="3671"/>
                </a:lnTo>
                <a:lnTo>
                  <a:pt x="9525" y="3671"/>
                </a:lnTo>
                <a:lnTo>
                  <a:pt x="9545" y="3671"/>
                </a:lnTo>
                <a:lnTo>
                  <a:pt x="9565" y="3651"/>
                </a:lnTo>
                <a:lnTo>
                  <a:pt x="9585" y="3651"/>
                </a:lnTo>
                <a:lnTo>
                  <a:pt x="9585" y="3651"/>
                </a:lnTo>
                <a:lnTo>
                  <a:pt x="9585" y="3651"/>
                </a:lnTo>
                <a:lnTo>
                  <a:pt x="9624" y="3651"/>
                </a:lnTo>
                <a:lnTo>
                  <a:pt x="9644" y="3631"/>
                </a:lnTo>
                <a:lnTo>
                  <a:pt x="9664" y="3631"/>
                </a:lnTo>
                <a:lnTo>
                  <a:pt x="9664" y="3631"/>
                </a:lnTo>
                <a:lnTo>
                  <a:pt x="9664" y="3631"/>
                </a:lnTo>
                <a:lnTo>
                  <a:pt x="9684" y="3631"/>
                </a:lnTo>
                <a:lnTo>
                  <a:pt x="9704" y="3631"/>
                </a:lnTo>
                <a:lnTo>
                  <a:pt x="9704" y="3612"/>
                </a:lnTo>
                <a:lnTo>
                  <a:pt x="9704" y="3612"/>
                </a:lnTo>
                <a:lnTo>
                  <a:pt x="9723" y="3612"/>
                </a:lnTo>
                <a:lnTo>
                  <a:pt x="9743" y="3612"/>
                </a:lnTo>
                <a:lnTo>
                  <a:pt x="9743" y="3612"/>
                </a:lnTo>
                <a:lnTo>
                  <a:pt x="9763" y="3592"/>
                </a:lnTo>
                <a:lnTo>
                  <a:pt x="9783" y="3592"/>
                </a:lnTo>
                <a:lnTo>
                  <a:pt x="9803" y="3592"/>
                </a:lnTo>
                <a:lnTo>
                  <a:pt x="9823" y="3592"/>
                </a:lnTo>
                <a:lnTo>
                  <a:pt x="9862" y="3552"/>
                </a:lnTo>
                <a:lnTo>
                  <a:pt x="9902" y="3552"/>
                </a:lnTo>
                <a:lnTo>
                  <a:pt x="9922" y="3552"/>
                </a:lnTo>
                <a:lnTo>
                  <a:pt x="9922" y="3552"/>
                </a:lnTo>
                <a:lnTo>
                  <a:pt x="9942" y="3532"/>
                </a:lnTo>
                <a:lnTo>
                  <a:pt x="9962" y="3532"/>
                </a:lnTo>
                <a:lnTo>
                  <a:pt x="10001" y="3532"/>
                </a:lnTo>
                <a:lnTo>
                  <a:pt x="10001" y="3532"/>
                </a:lnTo>
                <a:lnTo>
                  <a:pt x="10041" y="3512"/>
                </a:lnTo>
                <a:lnTo>
                  <a:pt x="10081" y="3512"/>
                </a:lnTo>
                <a:lnTo>
                  <a:pt x="10081" y="3512"/>
                </a:lnTo>
                <a:lnTo>
                  <a:pt x="10081" y="3512"/>
                </a:lnTo>
                <a:lnTo>
                  <a:pt x="10120" y="3512"/>
                </a:lnTo>
                <a:lnTo>
                  <a:pt x="10140" y="3492"/>
                </a:lnTo>
                <a:lnTo>
                  <a:pt x="10160" y="3492"/>
                </a:lnTo>
                <a:lnTo>
                  <a:pt x="10160" y="3492"/>
                </a:lnTo>
                <a:lnTo>
                  <a:pt x="10160" y="3492"/>
                </a:lnTo>
                <a:lnTo>
                  <a:pt x="10180" y="3492"/>
                </a:lnTo>
                <a:lnTo>
                  <a:pt x="10200" y="3492"/>
                </a:lnTo>
                <a:lnTo>
                  <a:pt x="10220" y="3473"/>
                </a:lnTo>
                <a:lnTo>
                  <a:pt x="10239" y="3473"/>
                </a:lnTo>
                <a:lnTo>
                  <a:pt x="10239" y="3473"/>
                </a:lnTo>
                <a:lnTo>
                  <a:pt x="10239" y="3473"/>
                </a:lnTo>
                <a:lnTo>
                  <a:pt x="10279" y="3473"/>
                </a:lnTo>
                <a:lnTo>
                  <a:pt x="10279" y="3473"/>
                </a:lnTo>
                <a:lnTo>
                  <a:pt x="10279" y="3473"/>
                </a:lnTo>
                <a:lnTo>
                  <a:pt x="10299" y="3473"/>
                </a:lnTo>
                <a:lnTo>
                  <a:pt x="10299" y="3453"/>
                </a:lnTo>
                <a:lnTo>
                  <a:pt x="10319" y="3453"/>
                </a:lnTo>
                <a:lnTo>
                  <a:pt x="10358" y="3453"/>
                </a:lnTo>
                <a:lnTo>
                  <a:pt x="10358" y="3453"/>
                </a:lnTo>
                <a:lnTo>
                  <a:pt x="10358" y="3453"/>
                </a:lnTo>
                <a:lnTo>
                  <a:pt x="10378" y="3453"/>
                </a:lnTo>
                <a:lnTo>
                  <a:pt x="10398" y="3433"/>
                </a:lnTo>
                <a:lnTo>
                  <a:pt x="10418" y="3433"/>
                </a:lnTo>
                <a:lnTo>
                  <a:pt x="10418" y="3433"/>
                </a:lnTo>
                <a:lnTo>
                  <a:pt x="10418" y="3433"/>
                </a:lnTo>
                <a:lnTo>
                  <a:pt x="10418" y="3433"/>
                </a:lnTo>
                <a:lnTo>
                  <a:pt x="10398" y="3433"/>
                </a:lnTo>
                <a:lnTo>
                  <a:pt x="10378" y="3433"/>
                </a:lnTo>
                <a:lnTo>
                  <a:pt x="10339" y="3433"/>
                </a:lnTo>
                <a:lnTo>
                  <a:pt x="10299" y="3433"/>
                </a:lnTo>
                <a:lnTo>
                  <a:pt x="10279" y="3433"/>
                </a:lnTo>
                <a:lnTo>
                  <a:pt x="10239" y="3453"/>
                </a:lnTo>
                <a:lnTo>
                  <a:pt x="10220" y="3453"/>
                </a:lnTo>
                <a:lnTo>
                  <a:pt x="10180" y="3453"/>
                </a:lnTo>
                <a:lnTo>
                  <a:pt x="10140" y="3453"/>
                </a:lnTo>
                <a:lnTo>
                  <a:pt x="10100" y="3453"/>
                </a:lnTo>
                <a:lnTo>
                  <a:pt x="10081" y="3453"/>
                </a:lnTo>
                <a:lnTo>
                  <a:pt x="10061" y="3453"/>
                </a:lnTo>
                <a:lnTo>
                  <a:pt x="10041" y="3473"/>
                </a:lnTo>
                <a:lnTo>
                  <a:pt x="10021" y="3473"/>
                </a:lnTo>
                <a:lnTo>
                  <a:pt x="10001" y="3492"/>
                </a:lnTo>
                <a:lnTo>
                  <a:pt x="9981" y="3492"/>
                </a:lnTo>
                <a:lnTo>
                  <a:pt x="9981" y="3492"/>
                </a:lnTo>
                <a:lnTo>
                  <a:pt x="9962" y="3492"/>
                </a:lnTo>
                <a:lnTo>
                  <a:pt x="9942" y="3492"/>
                </a:lnTo>
                <a:lnTo>
                  <a:pt x="9922" y="3512"/>
                </a:lnTo>
                <a:lnTo>
                  <a:pt x="9902" y="3512"/>
                </a:lnTo>
                <a:lnTo>
                  <a:pt x="9882" y="3512"/>
                </a:lnTo>
                <a:lnTo>
                  <a:pt x="9862" y="3512"/>
                </a:lnTo>
                <a:lnTo>
                  <a:pt x="9842" y="3512"/>
                </a:lnTo>
                <a:lnTo>
                  <a:pt x="9803" y="3532"/>
                </a:lnTo>
                <a:lnTo>
                  <a:pt x="9783" y="3532"/>
                </a:lnTo>
                <a:lnTo>
                  <a:pt x="9743" y="3532"/>
                </a:lnTo>
                <a:lnTo>
                  <a:pt x="9723" y="3532"/>
                </a:lnTo>
                <a:lnTo>
                  <a:pt x="9704" y="3552"/>
                </a:lnTo>
                <a:lnTo>
                  <a:pt x="9684" y="3552"/>
                </a:lnTo>
                <a:lnTo>
                  <a:pt x="9664" y="3552"/>
                </a:lnTo>
                <a:lnTo>
                  <a:pt x="9644" y="3552"/>
                </a:lnTo>
                <a:lnTo>
                  <a:pt x="9624" y="3572"/>
                </a:lnTo>
                <a:lnTo>
                  <a:pt x="9644" y="3572"/>
                </a:lnTo>
                <a:lnTo>
                  <a:pt x="9644" y="3572"/>
                </a:lnTo>
                <a:lnTo>
                  <a:pt x="9664" y="3552"/>
                </a:lnTo>
                <a:lnTo>
                  <a:pt x="9684" y="3552"/>
                </a:lnTo>
                <a:lnTo>
                  <a:pt x="9704" y="3552"/>
                </a:lnTo>
                <a:lnTo>
                  <a:pt x="9743" y="3552"/>
                </a:lnTo>
                <a:lnTo>
                  <a:pt x="9783" y="3512"/>
                </a:lnTo>
                <a:lnTo>
                  <a:pt x="9842" y="3492"/>
                </a:lnTo>
                <a:lnTo>
                  <a:pt x="9902" y="3473"/>
                </a:lnTo>
                <a:lnTo>
                  <a:pt x="9942" y="3473"/>
                </a:lnTo>
                <a:lnTo>
                  <a:pt x="10001" y="3453"/>
                </a:lnTo>
                <a:lnTo>
                  <a:pt x="10061" y="3433"/>
                </a:lnTo>
                <a:lnTo>
                  <a:pt x="10100" y="3413"/>
                </a:lnTo>
                <a:lnTo>
                  <a:pt x="10140" y="3373"/>
                </a:lnTo>
                <a:lnTo>
                  <a:pt x="10180" y="3373"/>
                </a:lnTo>
                <a:lnTo>
                  <a:pt x="10180" y="3373"/>
                </a:lnTo>
                <a:lnTo>
                  <a:pt x="10180" y="3373"/>
                </a:lnTo>
                <a:lnTo>
                  <a:pt x="10200" y="3373"/>
                </a:lnTo>
                <a:lnTo>
                  <a:pt x="10220" y="3373"/>
                </a:lnTo>
                <a:lnTo>
                  <a:pt x="10220" y="3373"/>
                </a:lnTo>
                <a:lnTo>
                  <a:pt x="10220" y="3373"/>
                </a:lnTo>
                <a:lnTo>
                  <a:pt x="10239" y="3354"/>
                </a:lnTo>
                <a:lnTo>
                  <a:pt x="10259" y="3354"/>
                </a:lnTo>
                <a:lnTo>
                  <a:pt x="10279" y="3354"/>
                </a:lnTo>
                <a:lnTo>
                  <a:pt x="10299" y="3354"/>
                </a:lnTo>
                <a:lnTo>
                  <a:pt x="10299" y="3354"/>
                </a:lnTo>
                <a:lnTo>
                  <a:pt x="10319" y="3334"/>
                </a:lnTo>
                <a:lnTo>
                  <a:pt x="10339" y="3334"/>
                </a:lnTo>
                <a:lnTo>
                  <a:pt x="10358" y="3334"/>
                </a:lnTo>
                <a:lnTo>
                  <a:pt x="10358" y="3334"/>
                </a:lnTo>
                <a:lnTo>
                  <a:pt x="10378" y="3334"/>
                </a:lnTo>
                <a:lnTo>
                  <a:pt x="10378" y="3314"/>
                </a:lnTo>
                <a:lnTo>
                  <a:pt x="10378" y="3314"/>
                </a:lnTo>
                <a:lnTo>
                  <a:pt x="10418" y="3314"/>
                </a:lnTo>
                <a:lnTo>
                  <a:pt x="10418" y="3314"/>
                </a:lnTo>
                <a:lnTo>
                  <a:pt x="10418" y="3314"/>
                </a:lnTo>
                <a:lnTo>
                  <a:pt x="10438" y="3314"/>
                </a:lnTo>
                <a:lnTo>
                  <a:pt x="10438" y="3294"/>
                </a:lnTo>
                <a:lnTo>
                  <a:pt x="10438" y="3294"/>
                </a:lnTo>
                <a:lnTo>
                  <a:pt x="10438" y="3294"/>
                </a:lnTo>
                <a:lnTo>
                  <a:pt x="10458" y="3294"/>
                </a:lnTo>
                <a:lnTo>
                  <a:pt x="10458" y="3294"/>
                </a:lnTo>
                <a:lnTo>
                  <a:pt x="10477" y="3294"/>
                </a:lnTo>
                <a:lnTo>
                  <a:pt x="10477" y="3294"/>
                </a:lnTo>
                <a:lnTo>
                  <a:pt x="10477" y="3294"/>
                </a:lnTo>
                <a:lnTo>
                  <a:pt x="10497" y="3294"/>
                </a:lnTo>
                <a:lnTo>
                  <a:pt x="10497" y="3294"/>
                </a:lnTo>
                <a:lnTo>
                  <a:pt x="10517" y="3294"/>
                </a:lnTo>
                <a:lnTo>
                  <a:pt x="10517" y="3274"/>
                </a:lnTo>
                <a:lnTo>
                  <a:pt x="10537" y="3274"/>
                </a:lnTo>
                <a:lnTo>
                  <a:pt x="10557" y="3274"/>
                </a:lnTo>
                <a:lnTo>
                  <a:pt x="10577" y="3274"/>
                </a:lnTo>
                <a:lnTo>
                  <a:pt x="10597" y="3274"/>
                </a:lnTo>
                <a:lnTo>
                  <a:pt x="10616" y="3274"/>
                </a:lnTo>
                <a:lnTo>
                  <a:pt x="10636" y="3274"/>
                </a:lnTo>
                <a:lnTo>
                  <a:pt x="10656" y="3254"/>
                </a:lnTo>
                <a:lnTo>
                  <a:pt x="10656" y="3254"/>
                </a:lnTo>
                <a:lnTo>
                  <a:pt x="10676" y="3254"/>
                </a:lnTo>
                <a:lnTo>
                  <a:pt x="10676" y="3254"/>
                </a:lnTo>
                <a:lnTo>
                  <a:pt x="10676" y="3254"/>
                </a:lnTo>
                <a:lnTo>
                  <a:pt x="10696" y="3254"/>
                </a:lnTo>
                <a:lnTo>
                  <a:pt x="10696" y="3235"/>
                </a:lnTo>
                <a:lnTo>
                  <a:pt x="10716" y="3235"/>
                </a:lnTo>
                <a:lnTo>
                  <a:pt x="10716" y="3235"/>
                </a:lnTo>
                <a:lnTo>
                  <a:pt x="10735" y="3235"/>
                </a:lnTo>
                <a:lnTo>
                  <a:pt x="10735" y="3235"/>
                </a:lnTo>
                <a:lnTo>
                  <a:pt x="10735" y="3235"/>
                </a:lnTo>
                <a:lnTo>
                  <a:pt x="10755" y="3235"/>
                </a:lnTo>
                <a:lnTo>
                  <a:pt x="10775" y="3215"/>
                </a:lnTo>
                <a:lnTo>
                  <a:pt x="10795" y="3215"/>
                </a:lnTo>
                <a:lnTo>
                  <a:pt x="10815" y="3215"/>
                </a:lnTo>
                <a:lnTo>
                  <a:pt x="10835" y="3215"/>
                </a:lnTo>
                <a:lnTo>
                  <a:pt x="10855" y="3215"/>
                </a:lnTo>
                <a:lnTo>
                  <a:pt x="10874" y="3215"/>
                </a:lnTo>
                <a:lnTo>
                  <a:pt x="10894" y="3195"/>
                </a:lnTo>
                <a:lnTo>
                  <a:pt x="10914" y="3195"/>
                </a:lnTo>
                <a:lnTo>
                  <a:pt x="10894" y="3195"/>
                </a:lnTo>
                <a:lnTo>
                  <a:pt x="10894" y="3215"/>
                </a:lnTo>
                <a:lnTo>
                  <a:pt x="10874" y="3215"/>
                </a:lnTo>
                <a:lnTo>
                  <a:pt x="10855" y="3215"/>
                </a:lnTo>
                <a:lnTo>
                  <a:pt x="10835" y="3235"/>
                </a:lnTo>
                <a:lnTo>
                  <a:pt x="10815" y="3235"/>
                </a:lnTo>
                <a:lnTo>
                  <a:pt x="10775" y="3254"/>
                </a:lnTo>
                <a:lnTo>
                  <a:pt x="10735" y="3274"/>
                </a:lnTo>
                <a:lnTo>
                  <a:pt x="10696" y="3274"/>
                </a:lnTo>
                <a:lnTo>
                  <a:pt x="10656" y="3294"/>
                </a:lnTo>
                <a:lnTo>
                  <a:pt x="10616" y="3314"/>
                </a:lnTo>
                <a:lnTo>
                  <a:pt x="10577" y="3314"/>
                </a:lnTo>
                <a:lnTo>
                  <a:pt x="10537" y="3314"/>
                </a:lnTo>
                <a:lnTo>
                  <a:pt x="10517" y="3314"/>
                </a:lnTo>
                <a:lnTo>
                  <a:pt x="10497" y="3334"/>
                </a:lnTo>
                <a:lnTo>
                  <a:pt x="10477" y="3334"/>
                </a:lnTo>
                <a:lnTo>
                  <a:pt x="10458" y="3334"/>
                </a:lnTo>
                <a:lnTo>
                  <a:pt x="10458" y="3334"/>
                </a:lnTo>
                <a:lnTo>
                  <a:pt x="10438" y="3334"/>
                </a:lnTo>
                <a:lnTo>
                  <a:pt x="10438" y="3354"/>
                </a:lnTo>
                <a:lnTo>
                  <a:pt x="10438" y="3354"/>
                </a:lnTo>
                <a:lnTo>
                  <a:pt x="10438" y="3354"/>
                </a:lnTo>
                <a:lnTo>
                  <a:pt x="10418" y="3354"/>
                </a:lnTo>
                <a:lnTo>
                  <a:pt x="10398" y="3354"/>
                </a:lnTo>
                <a:lnTo>
                  <a:pt x="10398" y="3373"/>
                </a:lnTo>
                <a:lnTo>
                  <a:pt x="10418" y="3373"/>
                </a:lnTo>
                <a:lnTo>
                  <a:pt x="10438" y="3373"/>
                </a:lnTo>
                <a:lnTo>
                  <a:pt x="10477" y="3373"/>
                </a:lnTo>
                <a:lnTo>
                  <a:pt x="10497" y="3373"/>
                </a:lnTo>
                <a:lnTo>
                  <a:pt x="10557" y="3373"/>
                </a:lnTo>
                <a:lnTo>
                  <a:pt x="10597" y="3354"/>
                </a:lnTo>
                <a:lnTo>
                  <a:pt x="10636" y="3354"/>
                </a:lnTo>
                <a:lnTo>
                  <a:pt x="10676" y="3354"/>
                </a:lnTo>
                <a:lnTo>
                  <a:pt x="10716" y="3354"/>
                </a:lnTo>
                <a:lnTo>
                  <a:pt x="10716" y="3354"/>
                </a:lnTo>
                <a:lnTo>
                  <a:pt x="10735" y="3354"/>
                </a:lnTo>
                <a:lnTo>
                  <a:pt x="10716" y="3354"/>
                </a:lnTo>
                <a:lnTo>
                  <a:pt x="10716" y="3354"/>
                </a:lnTo>
                <a:lnTo>
                  <a:pt x="10716" y="3354"/>
                </a:lnTo>
                <a:lnTo>
                  <a:pt x="10696" y="3354"/>
                </a:lnTo>
                <a:lnTo>
                  <a:pt x="10656" y="3373"/>
                </a:lnTo>
                <a:lnTo>
                  <a:pt x="10636" y="3373"/>
                </a:lnTo>
                <a:lnTo>
                  <a:pt x="10616" y="3393"/>
                </a:lnTo>
                <a:lnTo>
                  <a:pt x="10577" y="3393"/>
                </a:lnTo>
                <a:lnTo>
                  <a:pt x="10537" y="3393"/>
                </a:lnTo>
                <a:lnTo>
                  <a:pt x="10517" y="3393"/>
                </a:lnTo>
                <a:lnTo>
                  <a:pt x="10458" y="3413"/>
                </a:lnTo>
                <a:lnTo>
                  <a:pt x="10438" y="3413"/>
                </a:lnTo>
                <a:lnTo>
                  <a:pt x="10438" y="3413"/>
                </a:lnTo>
                <a:lnTo>
                  <a:pt x="10438" y="3413"/>
                </a:lnTo>
                <a:lnTo>
                  <a:pt x="10458" y="3413"/>
                </a:lnTo>
                <a:lnTo>
                  <a:pt x="10477" y="3413"/>
                </a:lnTo>
                <a:lnTo>
                  <a:pt x="10477" y="3413"/>
                </a:lnTo>
                <a:lnTo>
                  <a:pt x="10497" y="3413"/>
                </a:lnTo>
                <a:lnTo>
                  <a:pt x="10517" y="3413"/>
                </a:lnTo>
                <a:lnTo>
                  <a:pt x="10537" y="3413"/>
                </a:lnTo>
                <a:lnTo>
                  <a:pt x="10537" y="3413"/>
                </a:lnTo>
                <a:lnTo>
                  <a:pt x="10557" y="3413"/>
                </a:lnTo>
                <a:lnTo>
                  <a:pt x="10557" y="3413"/>
                </a:lnTo>
                <a:lnTo>
                  <a:pt x="10557" y="3413"/>
                </a:lnTo>
                <a:lnTo>
                  <a:pt x="10577" y="3413"/>
                </a:lnTo>
                <a:lnTo>
                  <a:pt x="10577" y="3413"/>
                </a:lnTo>
                <a:lnTo>
                  <a:pt x="10577" y="3393"/>
                </a:lnTo>
                <a:lnTo>
                  <a:pt x="10597" y="3393"/>
                </a:lnTo>
                <a:lnTo>
                  <a:pt x="10616" y="3393"/>
                </a:lnTo>
                <a:lnTo>
                  <a:pt x="10616" y="3393"/>
                </a:lnTo>
                <a:lnTo>
                  <a:pt x="10616" y="3393"/>
                </a:lnTo>
                <a:lnTo>
                  <a:pt x="10616" y="3373"/>
                </a:lnTo>
                <a:lnTo>
                  <a:pt x="10636" y="3373"/>
                </a:lnTo>
                <a:lnTo>
                  <a:pt x="10656" y="3373"/>
                </a:lnTo>
                <a:lnTo>
                  <a:pt x="10656" y="3373"/>
                </a:lnTo>
                <a:lnTo>
                  <a:pt x="10656" y="3373"/>
                </a:lnTo>
                <a:lnTo>
                  <a:pt x="10676" y="3373"/>
                </a:lnTo>
                <a:lnTo>
                  <a:pt x="10676" y="3373"/>
                </a:lnTo>
                <a:lnTo>
                  <a:pt x="10696" y="3373"/>
                </a:lnTo>
                <a:lnTo>
                  <a:pt x="10716" y="3373"/>
                </a:lnTo>
                <a:lnTo>
                  <a:pt x="10755" y="3354"/>
                </a:lnTo>
                <a:lnTo>
                  <a:pt x="10775" y="3354"/>
                </a:lnTo>
                <a:lnTo>
                  <a:pt x="10775" y="3354"/>
                </a:lnTo>
                <a:lnTo>
                  <a:pt x="10775" y="3354"/>
                </a:lnTo>
                <a:lnTo>
                  <a:pt x="10775" y="3334"/>
                </a:lnTo>
                <a:lnTo>
                  <a:pt x="10795" y="3334"/>
                </a:lnTo>
                <a:lnTo>
                  <a:pt x="10795" y="3334"/>
                </a:lnTo>
                <a:lnTo>
                  <a:pt x="10795" y="3314"/>
                </a:lnTo>
                <a:lnTo>
                  <a:pt x="10815" y="3314"/>
                </a:lnTo>
                <a:lnTo>
                  <a:pt x="10815" y="3314"/>
                </a:lnTo>
                <a:lnTo>
                  <a:pt x="10815" y="3314"/>
                </a:lnTo>
                <a:lnTo>
                  <a:pt x="10835" y="3314"/>
                </a:lnTo>
                <a:lnTo>
                  <a:pt x="10855" y="3294"/>
                </a:lnTo>
                <a:lnTo>
                  <a:pt x="10855" y="3294"/>
                </a:lnTo>
                <a:lnTo>
                  <a:pt x="10855" y="3294"/>
                </a:lnTo>
                <a:lnTo>
                  <a:pt x="10874" y="3294"/>
                </a:lnTo>
                <a:lnTo>
                  <a:pt x="10894" y="3294"/>
                </a:lnTo>
                <a:lnTo>
                  <a:pt x="10914" y="3294"/>
                </a:lnTo>
                <a:lnTo>
                  <a:pt x="10914" y="3274"/>
                </a:lnTo>
                <a:lnTo>
                  <a:pt x="10914" y="3274"/>
                </a:lnTo>
                <a:lnTo>
                  <a:pt x="10914" y="3274"/>
                </a:lnTo>
                <a:lnTo>
                  <a:pt x="10934" y="3274"/>
                </a:lnTo>
                <a:lnTo>
                  <a:pt x="10934" y="3254"/>
                </a:lnTo>
                <a:lnTo>
                  <a:pt x="10934" y="3254"/>
                </a:lnTo>
                <a:lnTo>
                  <a:pt x="10954" y="3254"/>
                </a:lnTo>
                <a:lnTo>
                  <a:pt x="10974" y="3254"/>
                </a:lnTo>
                <a:lnTo>
                  <a:pt x="10993" y="3254"/>
                </a:lnTo>
                <a:lnTo>
                  <a:pt x="11013" y="3235"/>
                </a:lnTo>
                <a:lnTo>
                  <a:pt x="11033" y="3215"/>
                </a:lnTo>
                <a:lnTo>
                  <a:pt x="11053" y="3215"/>
                </a:lnTo>
                <a:lnTo>
                  <a:pt x="11073" y="3215"/>
                </a:lnTo>
                <a:lnTo>
                  <a:pt x="11093" y="3215"/>
                </a:lnTo>
                <a:lnTo>
                  <a:pt x="11132" y="3215"/>
                </a:lnTo>
                <a:lnTo>
                  <a:pt x="11172" y="3195"/>
                </a:lnTo>
                <a:lnTo>
                  <a:pt x="11192" y="3175"/>
                </a:lnTo>
                <a:lnTo>
                  <a:pt x="11212" y="3175"/>
                </a:lnTo>
                <a:lnTo>
                  <a:pt x="11271" y="3155"/>
                </a:lnTo>
                <a:lnTo>
                  <a:pt x="11291" y="3155"/>
                </a:lnTo>
                <a:lnTo>
                  <a:pt x="11311" y="3155"/>
                </a:lnTo>
                <a:lnTo>
                  <a:pt x="11351" y="3135"/>
                </a:lnTo>
                <a:lnTo>
                  <a:pt x="11370" y="3135"/>
                </a:lnTo>
                <a:lnTo>
                  <a:pt x="11390" y="3135"/>
                </a:lnTo>
                <a:lnTo>
                  <a:pt x="11410" y="3115"/>
                </a:lnTo>
                <a:lnTo>
                  <a:pt x="11430" y="3115"/>
                </a:lnTo>
                <a:lnTo>
                  <a:pt x="11450" y="3115"/>
                </a:lnTo>
                <a:lnTo>
                  <a:pt x="11470" y="3115"/>
                </a:lnTo>
                <a:lnTo>
                  <a:pt x="11490" y="3096"/>
                </a:lnTo>
                <a:lnTo>
                  <a:pt x="11509" y="3096"/>
                </a:lnTo>
                <a:lnTo>
                  <a:pt x="11549" y="3096"/>
                </a:lnTo>
                <a:lnTo>
                  <a:pt x="11569" y="3076"/>
                </a:lnTo>
                <a:lnTo>
                  <a:pt x="11589" y="3076"/>
                </a:lnTo>
                <a:lnTo>
                  <a:pt x="11589" y="3076"/>
                </a:lnTo>
                <a:lnTo>
                  <a:pt x="11609" y="3076"/>
                </a:lnTo>
                <a:lnTo>
                  <a:pt x="11609" y="3076"/>
                </a:lnTo>
                <a:lnTo>
                  <a:pt x="11609" y="3076"/>
                </a:lnTo>
                <a:lnTo>
                  <a:pt x="11609" y="3096"/>
                </a:lnTo>
                <a:lnTo>
                  <a:pt x="11589" y="3096"/>
                </a:lnTo>
                <a:lnTo>
                  <a:pt x="11569" y="3096"/>
                </a:lnTo>
                <a:lnTo>
                  <a:pt x="11549" y="3115"/>
                </a:lnTo>
                <a:lnTo>
                  <a:pt x="11529" y="3135"/>
                </a:lnTo>
                <a:lnTo>
                  <a:pt x="11509" y="3135"/>
                </a:lnTo>
                <a:lnTo>
                  <a:pt x="11470" y="3155"/>
                </a:lnTo>
                <a:lnTo>
                  <a:pt x="11450" y="3175"/>
                </a:lnTo>
                <a:lnTo>
                  <a:pt x="11410" y="3195"/>
                </a:lnTo>
                <a:lnTo>
                  <a:pt x="11351" y="3235"/>
                </a:lnTo>
                <a:lnTo>
                  <a:pt x="11291" y="3274"/>
                </a:lnTo>
                <a:lnTo>
                  <a:pt x="11251" y="3274"/>
                </a:lnTo>
                <a:lnTo>
                  <a:pt x="11192" y="3294"/>
                </a:lnTo>
                <a:lnTo>
                  <a:pt x="11132" y="3314"/>
                </a:lnTo>
                <a:lnTo>
                  <a:pt x="11093" y="3334"/>
                </a:lnTo>
                <a:lnTo>
                  <a:pt x="11053" y="3334"/>
                </a:lnTo>
                <a:lnTo>
                  <a:pt x="11013" y="3354"/>
                </a:lnTo>
                <a:lnTo>
                  <a:pt x="10974" y="3354"/>
                </a:lnTo>
                <a:lnTo>
                  <a:pt x="10954" y="3373"/>
                </a:lnTo>
                <a:lnTo>
                  <a:pt x="10934" y="3373"/>
                </a:lnTo>
                <a:lnTo>
                  <a:pt x="10934" y="3373"/>
                </a:lnTo>
                <a:lnTo>
                  <a:pt x="10934" y="3373"/>
                </a:lnTo>
                <a:lnTo>
                  <a:pt x="10934" y="3373"/>
                </a:lnTo>
                <a:lnTo>
                  <a:pt x="10914" y="3373"/>
                </a:lnTo>
                <a:lnTo>
                  <a:pt x="10914" y="3393"/>
                </a:lnTo>
                <a:lnTo>
                  <a:pt x="10914" y="3393"/>
                </a:lnTo>
                <a:lnTo>
                  <a:pt x="10914" y="3393"/>
                </a:lnTo>
                <a:lnTo>
                  <a:pt x="10894" y="3393"/>
                </a:lnTo>
                <a:lnTo>
                  <a:pt x="10874" y="3393"/>
                </a:lnTo>
                <a:lnTo>
                  <a:pt x="10874" y="3413"/>
                </a:lnTo>
                <a:lnTo>
                  <a:pt x="10874" y="3413"/>
                </a:lnTo>
                <a:lnTo>
                  <a:pt x="10874" y="3413"/>
                </a:lnTo>
                <a:lnTo>
                  <a:pt x="10855" y="3413"/>
                </a:lnTo>
                <a:lnTo>
                  <a:pt x="10855" y="3413"/>
                </a:lnTo>
                <a:lnTo>
                  <a:pt x="10835" y="3433"/>
                </a:lnTo>
                <a:lnTo>
                  <a:pt x="10815" y="3433"/>
                </a:lnTo>
                <a:lnTo>
                  <a:pt x="10815" y="3433"/>
                </a:lnTo>
                <a:lnTo>
                  <a:pt x="10795" y="3433"/>
                </a:lnTo>
                <a:lnTo>
                  <a:pt x="10775" y="3433"/>
                </a:lnTo>
                <a:lnTo>
                  <a:pt x="10755" y="3453"/>
                </a:lnTo>
                <a:lnTo>
                  <a:pt x="10716" y="3473"/>
                </a:lnTo>
                <a:lnTo>
                  <a:pt x="10716" y="3473"/>
                </a:lnTo>
                <a:lnTo>
                  <a:pt x="10696" y="3473"/>
                </a:lnTo>
                <a:lnTo>
                  <a:pt x="10676" y="3473"/>
                </a:lnTo>
                <a:lnTo>
                  <a:pt x="10656" y="3473"/>
                </a:lnTo>
                <a:lnTo>
                  <a:pt x="10636" y="3492"/>
                </a:lnTo>
                <a:lnTo>
                  <a:pt x="10597" y="3492"/>
                </a:lnTo>
                <a:lnTo>
                  <a:pt x="10577" y="3512"/>
                </a:lnTo>
                <a:lnTo>
                  <a:pt x="10557" y="3512"/>
                </a:lnTo>
                <a:lnTo>
                  <a:pt x="10517" y="3512"/>
                </a:lnTo>
                <a:lnTo>
                  <a:pt x="10497" y="3512"/>
                </a:lnTo>
                <a:lnTo>
                  <a:pt x="10477" y="3512"/>
                </a:lnTo>
                <a:lnTo>
                  <a:pt x="10458" y="3532"/>
                </a:lnTo>
                <a:lnTo>
                  <a:pt x="10438" y="3532"/>
                </a:lnTo>
                <a:lnTo>
                  <a:pt x="10418" y="3532"/>
                </a:lnTo>
                <a:lnTo>
                  <a:pt x="10398" y="3532"/>
                </a:lnTo>
                <a:lnTo>
                  <a:pt x="10398" y="3532"/>
                </a:lnTo>
                <a:lnTo>
                  <a:pt x="10398" y="3552"/>
                </a:lnTo>
                <a:lnTo>
                  <a:pt x="10398" y="3552"/>
                </a:lnTo>
                <a:lnTo>
                  <a:pt x="10398" y="3532"/>
                </a:lnTo>
                <a:lnTo>
                  <a:pt x="10418" y="3512"/>
                </a:lnTo>
                <a:lnTo>
                  <a:pt x="10458" y="3492"/>
                </a:lnTo>
                <a:lnTo>
                  <a:pt x="10477" y="3473"/>
                </a:lnTo>
                <a:lnTo>
                  <a:pt x="10537" y="3473"/>
                </a:lnTo>
                <a:lnTo>
                  <a:pt x="10597" y="3453"/>
                </a:lnTo>
                <a:lnTo>
                  <a:pt x="10676" y="3433"/>
                </a:lnTo>
                <a:lnTo>
                  <a:pt x="10716" y="3393"/>
                </a:lnTo>
                <a:lnTo>
                  <a:pt x="10755" y="3373"/>
                </a:lnTo>
                <a:lnTo>
                  <a:pt x="10815" y="3354"/>
                </a:lnTo>
                <a:lnTo>
                  <a:pt x="10855" y="3334"/>
                </a:lnTo>
                <a:lnTo>
                  <a:pt x="10894" y="3334"/>
                </a:lnTo>
                <a:lnTo>
                  <a:pt x="10914" y="3314"/>
                </a:lnTo>
                <a:lnTo>
                  <a:pt x="10954" y="3314"/>
                </a:lnTo>
                <a:lnTo>
                  <a:pt x="10993" y="3294"/>
                </a:lnTo>
                <a:lnTo>
                  <a:pt x="11033" y="3294"/>
                </a:lnTo>
                <a:lnTo>
                  <a:pt x="11053" y="3274"/>
                </a:lnTo>
                <a:lnTo>
                  <a:pt x="11073" y="3254"/>
                </a:lnTo>
                <a:lnTo>
                  <a:pt x="11112" y="3235"/>
                </a:lnTo>
                <a:lnTo>
                  <a:pt x="11132" y="3235"/>
                </a:lnTo>
                <a:lnTo>
                  <a:pt x="11172" y="3215"/>
                </a:lnTo>
                <a:lnTo>
                  <a:pt x="11232" y="3195"/>
                </a:lnTo>
                <a:lnTo>
                  <a:pt x="11251" y="3195"/>
                </a:lnTo>
                <a:lnTo>
                  <a:pt x="11291" y="3195"/>
                </a:lnTo>
                <a:lnTo>
                  <a:pt x="11331" y="3195"/>
                </a:lnTo>
                <a:lnTo>
                  <a:pt x="11351" y="3175"/>
                </a:lnTo>
                <a:lnTo>
                  <a:pt x="11370" y="3175"/>
                </a:lnTo>
                <a:lnTo>
                  <a:pt x="11370" y="3175"/>
                </a:lnTo>
                <a:lnTo>
                  <a:pt x="11370" y="3175"/>
                </a:lnTo>
                <a:lnTo>
                  <a:pt x="11390" y="3175"/>
                </a:lnTo>
                <a:lnTo>
                  <a:pt x="11410" y="3175"/>
                </a:lnTo>
                <a:lnTo>
                  <a:pt x="11430" y="3155"/>
                </a:lnTo>
                <a:lnTo>
                  <a:pt x="11450" y="3155"/>
                </a:lnTo>
                <a:lnTo>
                  <a:pt x="11450" y="3155"/>
                </a:lnTo>
                <a:lnTo>
                  <a:pt x="11470" y="3155"/>
                </a:lnTo>
                <a:lnTo>
                  <a:pt x="11470" y="3155"/>
                </a:lnTo>
                <a:lnTo>
                  <a:pt x="11490" y="3155"/>
                </a:lnTo>
                <a:lnTo>
                  <a:pt x="11490" y="3135"/>
                </a:lnTo>
                <a:lnTo>
                  <a:pt x="11470" y="3135"/>
                </a:lnTo>
                <a:lnTo>
                  <a:pt x="11450" y="3135"/>
                </a:lnTo>
                <a:lnTo>
                  <a:pt x="11430" y="3135"/>
                </a:lnTo>
                <a:lnTo>
                  <a:pt x="11390" y="3135"/>
                </a:lnTo>
                <a:lnTo>
                  <a:pt x="11331" y="3135"/>
                </a:lnTo>
                <a:lnTo>
                  <a:pt x="11271" y="3135"/>
                </a:lnTo>
                <a:lnTo>
                  <a:pt x="11232" y="3155"/>
                </a:lnTo>
                <a:lnTo>
                  <a:pt x="11172" y="3155"/>
                </a:lnTo>
                <a:lnTo>
                  <a:pt x="11152" y="3155"/>
                </a:lnTo>
                <a:lnTo>
                  <a:pt x="11152" y="3155"/>
                </a:lnTo>
                <a:lnTo>
                  <a:pt x="11152" y="3155"/>
                </a:lnTo>
                <a:lnTo>
                  <a:pt x="11172" y="3155"/>
                </a:lnTo>
                <a:lnTo>
                  <a:pt x="11192" y="3155"/>
                </a:lnTo>
                <a:lnTo>
                  <a:pt x="11212" y="3135"/>
                </a:lnTo>
                <a:lnTo>
                  <a:pt x="11251" y="3135"/>
                </a:lnTo>
                <a:lnTo>
                  <a:pt x="11311" y="3135"/>
                </a:lnTo>
                <a:lnTo>
                  <a:pt x="11311" y="3135"/>
                </a:lnTo>
                <a:lnTo>
                  <a:pt x="11331" y="3115"/>
                </a:lnTo>
                <a:lnTo>
                  <a:pt x="11331" y="3115"/>
                </a:lnTo>
                <a:lnTo>
                  <a:pt x="11311" y="3115"/>
                </a:lnTo>
                <a:lnTo>
                  <a:pt x="11311" y="3115"/>
                </a:lnTo>
                <a:lnTo>
                  <a:pt x="11311" y="3135"/>
                </a:lnTo>
              </a:path>
              <a:path w="9407" h="4009">
                <a:moveTo>
                  <a:pt x="11033" y="3155"/>
                </a:moveTo>
                <a:cubicBezTo>
                  <a:pt x="11057" y="3143"/>
                  <a:pt x="11029" y="3148"/>
                  <a:pt x="11053" y="3135"/>
                </a:cubicBezTo>
                <a:cubicBezTo>
                  <a:pt x="11077" y="3122"/>
                  <a:pt x="11079" y="3113"/>
                  <a:pt x="11112" y="3096"/>
                </a:cubicBezTo>
                <a:cubicBezTo>
                  <a:pt x="11138" y="3082"/>
                  <a:pt x="11165" y="3071"/>
                  <a:pt x="11192" y="3056"/>
                </a:cubicBezTo>
                <a:cubicBezTo>
                  <a:pt x="11211" y="3046"/>
                  <a:pt x="11237" y="3038"/>
                  <a:pt x="11251" y="3036"/>
                </a:cubicBezTo>
                <a:cubicBezTo>
                  <a:pt x="11284" y="3030"/>
                  <a:pt x="11298" y="3020"/>
                  <a:pt x="11331" y="3016"/>
                </a:cubicBezTo>
                <a:cubicBezTo>
                  <a:pt x="11366" y="3012"/>
                  <a:pt x="11403" y="3000"/>
                  <a:pt x="11430" y="2996"/>
                </a:cubicBezTo>
                <a:cubicBezTo>
                  <a:pt x="11467" y="2990"/>
                  <a:pt x="11521" y="2980"/>
                  <a:pt x="11549" y="2977"/>
                </a:cubicBezTo>
                <a:cubicBezTo>
                  <a:pt x="11595" y="2972"/>
                  <a:pt x="11609" y="2970"/>
                  <a:pt x="11648" y="2957"/>
                </a:cubicBezTo>
                <a:cubicBezTo>
                  <a:pt x="11673" y="2949"/>
                  <a:pt x="11704" y="2947"/>
                  <a:pt x="11728" y="2937"/>
                </a:cubicBezTo>
                <a:cubicBezTo>
                  <a:pt x="11741" y="2932"/>
                  <a:pt x="11773" y="2928"/>
                  <a:pt x="11787" y="2917"/>
                </a:cubicBezTo>
                <a:cubicBezTo>
                  <a:pt x="11780" y="2917"/>
                  <a:pt x="11774" y="2917"/>
                  <a:pt x="11767" y="2917"/>
                </a:cubicBezTo>
                <a:cubicBezTo>
                  <a:pt x="11742" y="2937"/>
                  <a:pt x="11746" y="2942"/>
                  <a:pt x="11708" y="2957"/>
                </a:cubicBezTo>
                <a:cubicBezTo>
                  <a:pt x="11681" y="2967"/>
                  <a:pt x="11660" y="2989"/>
                  <a:pt x="11648" y="2996"/>
                </a:cubicBezTo>
                <a:cubicBezTo>
                  <a:pt x="11625" y="3009"/>
                  <a:pt x="11616" y="3010"/>
                  <a:pt x="11589" y="3036"/>
                </a:cubicBezTo>
                <a:cubicBezTo>
                  <a:pt x="11569" y="3036"/>
                  <a:pt x="11562" y="3036"/>
                  <a:pt x="11569" y="3056"/>
                </a:cubicBezTo>
                <a:cubicBezTo>
                  <a:pt x="11644" y="3052"/>
                  <a:pt x="11713" y="3038"/>
                  <a:pt x="11787" y="3036"/>
                </a:cubicBezTo>
                <a:cubicBezTo>
                  <a:pt x="11850" y="3034"/>
                  <a:pt x="11924" y="3029"/>
                  <a:pt x="11986" y="3016"/>
                </a:cubicBezTo>
                <a:cubicBezTo>
                  <a:pt x="12022" y="3008"/>
                  <a:pt x="12018" y="2999"/>
                  <a:pt x="12045" y="2996"/>
                </a:cubicBezTo>
                <a:cubicBezTo>
                  <a:pt x="12074" y="2992"/>
                  <a:pt x="12099" y="2979"/>
                  <a:pt x="12105" y="2977"/>
                </a:cubicBezTo>
                <a:cubicBezTo>
                  <a:pt x="12112" y="2977"/>
                  <a:pt x="12118" y="2977"/>
                  <a:pt x="12125" y="2977"/>
                </a:cubicBezTo>
                <a:cubicBezTo>
                  <a:pt x="12091" y="2980"/>
                  <a:pt x="12050" y="2994"/>
                  <a:pt x="12025" y="2996"/>
                </a:cubicBezTo>
                <a:cubicBezTo>
                  <a:pt x="11992" y="2999"/>
                  <a:pt x="11959" y="2993"/>
                  <a:pt x="11926" y="2996"/>
                </a:cubicBezTo>
                <a:cubicBezTo>
                  <a:pt x="11940" y="2986"/>
                  <a:pt x="11979" y="2959"/>
                  <a:pt x="12005" y="2937"/>
                </a:cubicBezTo>
                <a:cubicBezTo>
                  <a:pt x="12040" y="2907"/>
                  <a:pt x="12070" y="2878"/>
                  <a:pt x="12105" y="2857"/>
                </a:cubicBezTo>
                <a:cubicBezTo>
                  <a:pt x="12170" y="2817"/>
                  <a:pt x="12106" y="2852"/>
                  <a:pt x="12144" y="2818"/>
                </a:cubicBezTo>
                <a:cubicBezTo>
                  <a:pt x="12071" y="2818"/>
                  <a:pt x="11968" y="2833"/>
                  <a:pt x="11926" y="2838"/>
                </a:cubicBezTo>
                <a:cubicBezTo>
                  <a:pt x="11892" y="2842"/>
                  <a:pt x="11854" y="2853"/>
                  <a:pt x="11827" y="2857"/>
                </a:cubicBezTo>
                <a:cubicBezTo>
                  <a:pt x="11800" y="2861"/>
                  <a:pt x="11771" y="2876"/>
                  <a:pt x="11767" y="2877"/>
                </a:cubicBezTo>
                <a:cubicBezTo>
                  <a:pt x="11760" y="2877"/>
                  <a:pt x="11754" y="2877"/>
                  <a:pt x="11747" y="2877"/>
                </a:cubicBezTo>
                <a:cubicBezTo>
                  <a:pt x="11764" y="2882"/>
                  <a:pt x="11777" y="2904"/>
                  <a:pt x="11827" y="2897"/>
                </a:cubicBezTo>
                <a:cubicBezTo>
                  <a:pt x="11888" y="2889"/>
                  <a:pt x="11940" y="2879"/>
                  <a:pt x="12005" y="2877"/>
                </a:cubicBezTo>
                <a:cubicBezTo>
                  <a:pt x="12084" y="2875"/>
                  <a:pt x="12062" y="2862"/>
                  <a:pt x="12105" y="2857"/>
                </a:cubicBezTo>
                <a:cubicBezTo>
                  <a:pt x="12203" y="2845"/>
                  <a:pt x="12305" y="2853"/>
                  <a:pt x="12402" y="2838"/>
                </a:cubicBezTo>
                <a:cubicBezTo>
                  <a:pt x="12472" y="2827"/>
                  <a:pt x="12542" y="2816"/>
                  <a:pt x="12601" y="2798"/>
                </a:cubicBezTo>
                <a:cubicBezTo>
                  <a:pt x="12636" y="2788"/>
                  <a:pt x="12664" y="2785"/>
                  <a:pt x="12700" y="2778"/>
                </a:cubicBezTo>
                <a:cubicBezTo>
                  <a:pt x="12713" y="2778"/>
                  <a:pt x="12727" y="2778"/>
                  <a:pt x="12740" y="2778"/>
                </a:cubicBezTo>
                <a:cubicBezTo>
                  <a:pt x="12713" y="2789"/>
                  <a:pt x="12728" y="2788"/>
                  <a:pt x="12700" y="2798"/>
                </a:cubicBezTo>
                <a:cubicBezTo>
                  <a:pt x="12682" y="2804"/>
                  <a:pt x="12640" y="2809"/>
                  <a:pt x="12621" y="2818"/>
                </a:cubicBezTo>
                <a:cubicBezTo>
                  <a:pt x="12569" y="2842"/>
                  <a:pt x="12536" y="2859"/>
                  <a:pt x="12482" y="2877"/>
                </a:cubicBezTo>
                <a:cubicBezTo>
                  <a:pt x="12444" y="2890"/>
                  <a:pt x="12406" y="2887"/>
                  <a:pt x="12363" y="2897"/>
                </a:cubicBezTo>
                <a:cubicBezTo>
                  <a:pt x="12329" y="2905"/>
                  <a:pt x="12291" y="2932"/>
                  <a:pt x="12263" y="2937"/>
                </a:cubicBezTo>
                <a:cubicBezTo>
                  <a:pt x="12222" y="2945"/>
                  <a:pt x="12163" y="2953"/>
                  <a:pt x="12125" y="2957"/>
                </a:cubicBezTo>
                <a:cubicBezTo>
                  <a:pt x="12074" y="2962"/>
                  <a:pt x="12006" y="2974"/>
                  <a:pt x="11966" y="2977"/>
                </a:cubicBezTo>
                <a:cubicBezTo>
                  <a:pt x="11927" y="2980"/>
                  <a:pt x="11886" y="2974"/>
                  <a:pt x="11847" y="2977"/>
                </a:cubicBezTo>
                <a:cubicBezTo>
                  <a:pt x="11845" y="2937"/>
                  <a:pt x="11771" y="3034"/>
                  <a:pt x="11867" y="2977"/>
                </a:cubicBezTo>
                <a:cubicBezTo>
                  <a:pt x="11910" y="2951"/>
                  <a:pt x="11942" y="2936"/>
                  <a:pt x="11986" y="2917"/>
                </a:cubicBezTo>
                <a:cubicBezTo>
                  <a:pt x="12042" y="2892"/>
                  <a:pt x="12087" y="2872"/>
                  <a:pt x="12144" y="2857"/>
                </a:cubicBezTo>
                <a:cubicBezTo>
                  <a:pt x="12184" y="2846"/>
                  <a:pt x="12203" y="2824"/>
                  <a:pt x="12244" y="2818"/>
                </a:cubicBezTo>
                <a:cubicBezTo>
                  <a:pt x="12286" y="2812"/>
                  <a:pt x="12307" y="2811"/>
                  <a:pt x="12343" y="2798"/>
                </a:cubicBezTo>
                <a:cubicBezTo>
                  <a:pt x="12371" y="2788"/>
                  <a:pt x="12391" y="2786"/>
                  <a:pt x="12422" y="2778"/>
                </a:cubicBezTo>
                <a:cubicBezTo>
                  <a:pt x="12452" y="2770"/>
                  <a:pt x="12474" y="2768"/>
                  <a:pt x="12502" y="2758"/>
                </a:cubicBezTo>
                <a:cubicBezTo>
                  <a:pt x="12527" y="2749"/>
                  <a:pt x="12528" y="2750"/>
                  <a:pt x="12561" y="2738"/>
                </a:cubicBezTo>
                <a:cubicBezTo>
                  <a:pt x="12588" y="2728"/>
                  <a:pt x="12612" y="2727"/>
                  <a:pt x="12640" y="2719"/>
                </a:cubicBezTo>
                <a:cubicBezTo>
                  <a:pt x="12682" y="2707"/>
                  <a:pt x="12736" y="2685"/>
                  <a:pt x="12779" y="2679"/>
                </a:cubicBezTo>
                <a:cubicBezTo>
                  <a:pt x="12805" y="2675"/>
                  <a:pt x="12833" y="2681"/>
                  <a:pt x="12859" y="2679"/>
                </a:cubicBezTo>
                <a:cubicBezTo>
                  <a:pt x="12833" y="2683"/>
                  <a:pt x="12845" y="2674"/>
                  <a:pt x="12819" y="2679"/>
                </a:cubicBezTo>
                <a:cubicBezTo>
                  <a:pt x="12761" y="2689"/>
                  <a:pt x="12700" y="2705"/>
                  <a:pt x="12640" y="2719"/>
                </a:cubicBezTo>
                <a:cubicBezTo>
                  <a:pt x="12583" y="2733"/>
                  <a:pt x="12519" y="2743"/>
                  <a:pt x="12462" y="2758"/>
                </a:cubicBezTo>
                <a:cubicBezTo>
                  <a:pt x="12430" y="2767"/>
                  <a:pt x="12395" y="2769"/>
                  <a:pt x="12363" y="2778"/>
                </a:cubicBezTo>
                <a:cubicBezTo>
                  <a:pt x="12337" y="2785"/>
                  <a:pt x="12285" y="2815"/>
                  <a:pt x="12263" y="2818"/>
                </a:cubicBezTo>
                <a:cubicBezTo>
                  <a:pt x="12220" y="2823"/>
                  <a:pt x="12179" y="2831"/>
                  <a:pt x="12144" y="2838"/>
                </a:cubicBezTo>
                <a:cubicBezTo>
                  <a:pt x="12138" y="2838"/>
                  <a:pt x="12131" y="2838"/>
                  <a:pt x="12125" y="2838"/>
                </a:cubicBezTo>
                <a:cubicBezTo>
                  <a:pt x="12153" y="2829"/>
                  <a:pt x="12178" y="2829"/>
                  <a:pt x="12204" y="2818"/>
                </a:cubicBezTo>
                <a:cubicBezTo>
                  <a:pt x="12267" y="2791"/>
                  <a:pt x="12322" y="2751"/>
                  <a:pt x="12382" y="2719"/>
                </a:cubicBezTo>
                <a:cubicBezTo>
                  <a:pt x="12409" y="2705"/>
                  <a:pt x="12492" y="2661"/>
                  <a:pt x="12502" y="2659"/>
                </a:cubicBezTo>
                <a:cubicBezTo>
                  <a:pt x="12534" y="2654"/>
                  <a:pt x="12576" y="2643"/>
                  <a:pt x="12601" y="2639"/>
                </a:cubicBezTo>
                <a:cubicBezTo>
                  <a:pt x="12634" y="2634"/>
                  <a:pt x="12647" y="2624"/>
                  <a:pt x="12680" y="2619"/>
                </a:cubicBezTo>
                <a:cubicBezTo>
                  <a:pt x="12713" y="2614"/>
                  <a:pt x="12792" y="2601"/>
                  <a:pt x="12799" y="2600"/>
                </a:cubicBezTo>
                <a:cubicBezTo>
                  <a:pt x="12839" y="2595"/>
                  <a:pt x="12929" y="2589"/>
                  <a:pt x="12938" y="2619"/>
                </a:cubicBezTo>
                <a:cubicBezTo>
                  <a:pt x="12947" y="2647"/>
                  <a:pt x="12906" y="2647"/>
                  <a:pt x="12898" y="2659"/>
                </a:cubicBezTo>
                <a:cubicBezTo>
                  <a:pt x="12893" y="2667"/>
                  <a:pt x="12864" y="2692"/>
                  <a:pt x="12859" y="2699"/>
                </a:cubicBezTo>
                <a:cubicBezTo>
                  <a:pt x="12930" y="2699"/>
                  <a:pt x="12988" y="2694"/>
                  <a:pt x="13057" y="2679"/>
                </a:cubicBezTo>
                <a:cubicBezTo>
                  <a:pt x="13114" y="2667"/>
                  <a:pt x="13205" y="2679"/>
                  <a:pt x="13256" y="2659"/>
                </a:cubicBezTo>
                <a:cubicBezTo>
                  <a:pt x="13282" y="2649"/>
                  <a:pt x="13275" y="2630"/>
                  <a:pt x="13295" y="2619"/>
                </a:cubicBezTo>
                <a:cubicBezTo>
                  <a:pt x="13269" y="2623"/>
                  <a:pt x="13281" y="2612"/>
                  <a:pt x="13256" y="2619"/>
                </a:cubicBezTo>
                <a:cubicBezTo>
                  <a:pt x="13197" y="2635"/>
                  <a:pt x="13121" y="2680"/>
                  <a:pt x="13057" y="2699"/>
                </a:cubicBezTo>
                <a:cubicBezTo>
                  <a:pt x="12967" y="2726"/>
                  <a:pt x="12887" y="2741"/>
                  <a:pt x="12799" y="2758"/>
                </a:cubicBezTo>
                <a:cubicBezTo>
                  <a:pt x="12761" y="2765"/>
                  <a:pt x="12694" y="2792"/>
                  <a:pt x="12680" y="2798"/>
                </a:cubicBezTo>
                <a:cubicBezTo>
                  <a:pt x="12816" y="2798"/>
                  <a:pt x="12911" y="2766"/>
                  <a:pt x="13037" y="2719"/>
                </a:cubicBezTo>
                <a:cubicBezTo>
                  <a:pt x="13117" y="2689"/>
                  <a:pt x="13181" y="2673"/>
                  <a:pt x="13256" y="2639"/>
                </a:cubicBezTo>
                <a:cubicBezTo>
                  <a:pt x="13296" y="2621"/>
                  <a:pt x="13295" y="2633"/>
                  <a:pt x="13335" y="2619"/>
                </a:cubicBezTo>
                <a:cubicBezTo>
                  <a:pt x="13366" y="2608"/>
                  <a:pt x="13401" y="2603"/>
                  <a:pt x="13434" y="2600"/>
                </a:cubicBezTo>
                <a:cubicBezTo>
                  <a:pt x="13477" y="2595"/>
                  <a:pt x="13513" y="2595"/>
                  <a:pt x="13553" y="2580"/>
                </a:cubicBezTo>
                <a:cubicBezTo>
                  <a:pt x="13582" y="2569"/>
                  <a:pt x="13575" y="2570"/>
                  <a:pt x="13613" y="2560"/>
                </a:cubicBezTo>
                <a:cubicBezTo>
                  <a:pt x="13632" y="2555"/>
                  <a:pt x="13614" y="2564"/>
                  <a:pt x="13633" y="2560"/>
                </a:cubicBezTo>
                <a:cubicBezTo>
                  <a:pt x="13539" y="2560"/>
                  <a:pt x="13445" y="2550"/>
                  <a:pt x="13355" y="2580"/>
                </a:cubicBezTo>
                <a:cubicBezTo>
                  <a:pt x="13259" y="2613"/>
                  <a:pt x="13196" y="2619"/>
                  <a:pt x="13097" y="2619"/>
                </a:cubicBezTo>
                <a:cubicBezTo>
                  <a:pt x="13090" y="2619"/>
                  <a:pt x="13084" y="2619"/>
                  <a:pt x="13077" y="2619"/>
                </a:cubicBezTo>
                <a:cubicBezTo>
                  <a:pt x="13143" y="2608"/>
                  <a:pt x="13189" y="2570"/>
                  <a:pt x="13256" y="2560"/>
                </a:cubicBezTo>
                <a:cubicBezTo>
                  <a:pt x="13330" y="2548"/>
                  <a:pt x="13369" y="2557"/>
                  <a:pt x="13434" y="2520"/>
                </a:cubicBezTo>
                <a:cubicBezTo>
                  <a:pt x="13390" y="2523"/>
                  <a:pt x="13357" y="2532"/>
                  <a:pt x="13315" y="2540"/>
                </a:cubicBezTo>
                <a:cubicBezTo>
                  <a:pt x="13249" y="2552"/>
                  <a:pt x="13184" y="2558"/>
                  <a:pt x="13117" y="2560"/>
                </a:cubicBezTo>
                <a:cubicBezTo>
                  <a:pt x="13077" y="2561"/>
                  <a:pt x="13094" y="2564"/>
                  <a:pt x="13057" y="2580"/>
                </a:cubicBezTo>
              </a:path>
              <a:path w="9407" h="4009">
                <a:moveTo>
                  <a:pt x="13553" y="2520"/>
                </a:moveTo>
                <a:cubicBezTo>
                  <a:pt x="13579" y="2509"/>
                  <a:pt x="13579" y="2512"/>
                  <a:pt x="13613" y="2500"/>
                </a:cubicBezTo>
                <a:cubicBezTo>
                  <a:pt x="13661" y="2482"/>
                  <a:pt x="13716" y="2456"/>
                  <a:pt x="13772" y="2441"/>
                </a:cubicBezTo>
                <a:cubicBezTo>
                  <a:pt x="13845" y="2421"/>
                  <a:pt x="13921" y="2423"/>
                  <a:pt x="13990" y="2401"/>
                </a:cubicBezTo>
                <a:cubicBezTo>
                  <a:pt x="13998" y="2398"/>
                  <a:pt x="14039" y="2388"/>
                  <a:pt x="14069" y="2381"/>
                </a:cubicBezTo>
                <a:cubicBezTo>
                  <a:pt x="14127" y="2368"/>
                  <a:pt x="14193" y="2345"/>
                  <a:pt x="14248" y="2322"/>
                </a:cubicBezTo>
                <a:cubicBezTo>
                  <a:pt x="14285" y="2307"/>
                  <a:pt x="14335" y="2297"/>
                  <a:pt x="14367" y="2282"/>
                </a:cubicBezTo>
                <a:cubicBezTo>
                  <a:pt x="14374" y="2275"/>
                  <a:pt x="14380" y="2269"/>
                  <a:pt x="14387" y="2262"/>
                </a:cubicBezTo>
                <a:cubicBezTo>
                  <a:pt x="14341" y="2271"/>
                  <a:pt x="14294" y="2272"/>
                  <a:pt x="14248" y="2282"/>
                </a:cubicBezTo>
                <a:cubicBezTo>
                  <a:pt x="14178" y="2298"/>
                  <a:pt x="14121" y="2302"/>
                  <a:pt x="14049" y="2302"/>
                </a:cubicBezTo>
                <a:cubicBezTo>
                  <a:pt x="14013" y="2302"/>
                  <a:pt x="13935" y="2321"/>
                  <a:pt x="13930" y="2322"/>
                </a:cubicBezTo>
                <a:cubicBezTo>
                  <a:pt x="13883" y="2327"/>
                  <a:pt x="13834" y="2326"/>
                  <a:pt x="13791" y="2342"/>
                </a:cubicBezTo>
                <a:cubicBezTo>
                  <a:pt x="13724" y="2367"/>
                  <a:pt x="13682" y="2364"/>
                  <a:pt x="13613" y="2381"/>
                </a:cubicBezTo>
                <a:cubicBezTo>
                  <a:pt x="13579" y="2389"/>
                  <a:pt x="13557" y="2413"/>
                  <a:pt x="13533" y="2421"/>
                </a:cubicBezTo>
                <a:cubicBezTo>
                  <a:pt x="13506" y="2430"/>
                  <a:pt x="13483" y="2433"/>
                  <a:pt x="13454" y="2441"/>
                </a:cubicBezTo>
                <a:cubicBezTo>
                  <a:pt x="13421" y="2451"/>
                  <a:pt x="13394" y="2454"/>
                  <a:pt x="13355" y="2461"/>
                </a:cubicBezTo>
                <a:cubicBezTo>
                  <a:pt x="13294" y="2472"/>
                  <a:pt x="13235" y="2499"/>
                  <a:pt x="13176" y="2520"/>
                </a:cubicBezTo>
                <a:cubicBezTo>
                  <a:pt x="13143" y="2532"/>
                  <a:pt x="13149" y="2526"/>
                  <a:pt x="13117" y="2540"/>
                </a:cubicBezTo>
                <a:cubicBezTo>
                  <a:pt x="13201" y="2534"/>
                  <a:pt x="13272" y="2510"/>
                  <a:pt x="13355" y="2500"/>
                </a:cubicBezTo>
                <a:cubicBezTo>
                  <a:pt x="13473" y="2486"/>
                  <a:pt x="13594" y="2471"/>
                  <a:pt x="13712" y="2461"/>
                </a:cubicBezTo>
                <a:cubicBezTo>
                  <a:pt x="13758" y="2457"/>
                  <a:pt x="13788" y="2454"/>
                  <a:pt x="13831" y="2441"/>
                </a:cubicBezTo>
                <a:cubicBezTo>
                  <a:pt x="13866" y="2431"/>
                  <a:pt x="13920" y="2405"/>
                  <a:pt x="13950" y="2401"/>
                </a:cubicBezTo>
                <a:cubicBezTo>
                  <a:pt x="13976" y="2397"/>
                  <a:pt x="14004" y="2403"/>
                  <a:pt x="14030" y="2401"/>
                </a:cubicBezTo>
                <a:cubicBezTo>
                  <a:pt x="14002" y="2418"/>
                  <a:pt x="13980" y="2446"/>
                  <a:pt x="13950" y="2461"/>
                </a:cubicBezTo>
                <a:cubicBezTo>
                  <a:pt x="13917" y="2478"/>
                  <a:pt x="13850" y="2490"/>
                  <a:pt x="13811" y="2500"/>
                </a:cubicBezTo>
                <a:cubicBezTo>
                  <a:pt x="13760" y="2513"/>
                  <a:pt x="13726" y="2517"/>
                  <a:pt x="13672" y="2520"/>
                </a:cubicBezTo>
                <a:cubicBezTo>
                  <a:pt x="13665" y="2520"/>
                  <a:pt x="13659" y="2520"/>
                  <a:pt x="13652" y="2520"/>
                </a:cubicBezTo>
                <a:cubicBezTo>
                  <a:pt x="13670" y="2525"/>
                  <a:pt x="13682" y="2545"/>
                  <a:pt x="13732" y="2540"/>
                </a:cubicBezTo>
                <a:cubicBezTo>
                  <a:pt x="13794" y="2534"/>
                  <a:pt x="13852" y="2508"/>
                  <a:pt x="13910" y="2500"/>
                </a:cubicBezTo>
                <a:cubicBezTo>
                  <a:pt x="13946" y="2495"/>
                  <a:pt x="13938" y="2497"/>
                  <a:pt x="13970" y="2480"/>
                </a:cubicBezTo>
                <a:cubicBezTo>
                  <a:pt x="14002" y="2464"/>
                  <a:pt x="14020" y="2479"/>
                  <a:pt x="14049" y="2461"/>
                </a:cubicBezTo>
                <a:cubicBezTo>
                  <a:pt x="14091" y="2435"/>
                  <a:pt x="14105" y="2428"/>
                  <a:pt x="14149" y="2421"/>
                </a:cubicBezTo>
                <a:cubicBezTo>
                  <a:pt x="14175" y="2417"/>
                  <a:pt x="14182" y="2404"/>
                  <a:pt x="14208" y="2401"/>
                </a:cubicBezTo>
                <a:cubicBezTo>
                  <a:pt x="14255" y="2396"/>
                  <a:pt x="14288" y="2393"/>
                  <a:pt x="14327" y="2381"/>
                </a:cubicBezTo>
                <a:cubicBezTo>
                  <a:pt x="14357" y="2372"/>
                  <a:pt x="14374" y="2366"/>
                  <a:pt x="14407" y="2361"/>
                </a:cubicBezTo>
                <a:cubicBezTo>
                  <a:pt x="14441" y="2356"/>
                  <a:pt x="14457" y="2350"/>
                  <a:pt x="14486" y="2342"/>
                </a:cubicBezTo>
                <a:cubicBezTo>
                  <a:pt x="14516" y="2333"/>
                  <a:pt x="14531" y="2326"/>
                  <a:pt x="14565" y="2322"/>
                </a:cubicBezTo>
                <a:cubicBezTo>
                  <a:pt x="14609" y="2317"/>
                  <a:pt x="14647" y="2306"/>
                  <a:pt x="14684" y="2302"/>
                </a:cubicBezTo>
                <a:cubicBezTo>
                  <a:pt x="14757" y="2295"/>
                  <a:pt x="14819" y="2264"/>
                  <a:pt x="14883" y="2222"/>
                </a:cubicBezTo>
                <a:cubicBezTo>
                  <a:pt x="14924" y="2195"/>
                  <a:pt x="14963" y="2163"/>
                  <a:pt x="15002" y="2143"/>
                </a:cubicBezTo>
                <a:cubicBezTo>
                  <a:pt x="15028" y="2130"/>
                  <a:pt x="15054" y="2117"/>
                  <a:pt x="15081" y="2103"/>
                </a:cubicBezTo>
                <a:cubicBezTo>
                  <a:pt x="15107" y="2089"/>
                  <a:pt x="15108" y="2096"/>
                  <a:pt x="15141" y="2084"/>
                </a:cubicBezTo>
                <a:cubicBezTo>
                  <a:pt x="15170" y="2073"/>
                  <a:pt x="15188" y="2073"/>
                  <a:pt x="15220" y="2064"/>
                </a:cubicBezTo>
                <a:cubicBezTo>
                  <a:pt x="15246" y="2057"/>
                  <a:pt x="15254" y="2050"/>
                  <a:pt x="15280" y="2044"/>
                </a:cubicBezTo>
                <a:cubicBezTo>
                  <a:pt x="15309" y="2037"/>
                  <a:pt x="15332" y="2027"/>
                  <a:pt x="15359" y="2024"/>
                </a:cubicBezTo>
                <a:cubicBezTo>
                  <a:pt x="15390" y="2021"/>
                  <a:pt x="15434" y="2005"/>
                  <a:pt x="15438" y="2004"/>
                </a:cubicBezTo>
                <a:cubicBezTo>
                  <a:pt x="15445" y="2004"/>
                  <a:pt x="15451" y="2004"/>
                  <a:pt x="15458" y="2004"/>
                </a:cubicBezTo>
                <a:cubicBezTo>
                  <a:pt x="15445" y="2026"/>
                  <a:pt x="15444" y="2037"/>
                  <a:pt x="15419" y="2064"/>
                </a:cubicBezTo>
                <a:cubicBezTo>
                  <a:pt x="15387" y="2097"/>
                  <a:pt x="15360" y="2122"/>
                  <a:pt x="15319" y="2143"/>
                </a:cubicBezTo>
                <a:cubicBezTo>
                  <a:pt x="15263" y="2171"/>
                  <a:pt x="15241" y="2209"/>
                  <a:pt x="15180" y="2222"/>
                </a:cubicBezTo>
                <a:cubicBezTo>
                  <a:pt x="15126" y="2233"/>
                  <a:pt x="15107" y="2225"/>
                  <a:pt x="15061" y="2242"/>
                </a:cubicBezTo>
                <a:cubicBezTo>
                  <a:pt x="15027" y="2254"/>
                  <a:pt x="15028" y="2250"/>
                  <a:pt x="15002" y="2262"/>
                </a:cubicBezTo>
                <a:cubicBezTo>
                  <a:pt x="14988" y="2268"/>
                  <a:pt x="14975" y="2274"/>
                  <a:pt x="14942" y="2282"/>
                </a:cubicBezTo>
                <a:cubicBezTo>
                  <a:pt x="14907" y="2290"/>
                  <a:pt x="14918" y="2296"/>
                  <a:pt x="14883" y="2302"/>
                </a:cubicBezTo>
                <a:cubicBezTo>
                  <a:pt x="14933" y="2257"/>
                  <a:pt x="14977" y="2209"/>
                  <a:pt x="15042" y="2183"/>
                </a:cubicBezTo>
                <a:cubicBezTo>
                  <a:pt x="15124" y="2150"/>
                  <a:pt x="15183" y="2122"/>
                  <a:pt x="15260" y="2084"/>
                </a:cubicBezTo>
                <a:cubicBezTo>
                  <a:pt x="15360" y="2035"/>
                  <a:pt x="15252" y="2090"/>
                  <a:pt x="15260" y="2084"/>
                </a:cubicBezTo>
                <a:cubicBezTo>
                  <a:pt x="15185" y="2084"/>
                  <a:pt x="15111" y="2098"/>
                  <a:pt x="15042" y="2103"/>
                </a:cubicBezTo>
                <a:cubicBezTo>
                  <a:pt x="14972" y="2108"/>
                  <a:pt x="14909" y="2116"/>
                  <a:pt x="14843" y="2123"/>
                </a:cubicBezTo>
                <a:cubicBezTo>
                  <a:pt x="14800" y="2128"/>
                  <a:pt x="14805" y="2128"/>
                  <a:pt x="14784" y="2143"/>
                </a:cubicBezTo>
                <a:cubicBezTo>
                  <a:pt x="14743" y="2172"/>
                  <a:pt x="14730" y="2162"/>
                  <a:pt x="14684" y="2183"/>
                </a:cubicBezTo>
                <a:cubicBezTo>
                  <a:pt x="14650" y="2198"/>
                  <a:pt x="14641" y="2232"/>
                  <a:pt x="14605" y="2242"/>
                </a:cubicBezTo>
                <a:cubicBezTo>
                  <a:pt x="14579" y="2249"/>
                  <a:pt x="14521" y="2274"/>
                  <a:pt x="14545" y="2262"/>
                </a:cubicBezTo>
                <a:cubicBezTo>
                  <a:pt x="14564" y="2253"/>
                  <a:pt x="14628" y="2243"/>
                  <a:pt x="14665" y="2222"/>
                </a:cubicBezTo>
                <a:cubicBezTo>
                  <a:pt x="14724" y="2188"/>
                  <a:pt x="14766" y="2167"/>
                  <a:pt x="14823" y="2143"/>
                </a:cubicBezTo>
                <a:cubicBezTo>
                  <a:pt x="14856" y="2127"/>
                  <a:pt x="14877" y="2120"/>
                  <a:pt x="14843" y="2123"/>
                </a:cubicBezTo>
                <a:cubicBezTo>
                  <a:pt x="14716" y="2123"/>
                  <a:pt x="14580" y="2116"/>
                  <a:pt x="14466" y="2143"/>
                </a:cubicBezTo>
                <a:cubicBezTo>
                  <a:pt x="14417" y="2155"/>
                  <a:pt x="14370" y="2169"/>
                  <a:pt x="14327" y="2183"/>
                </a:cubicBezTo>
                <a:cubicBezTo>
                  <a:pt x="14300" y="2192"/>
                  <a:pt x="14275" y="2196"/>
                  <a:pt x="14248" y="2203"/>
                </a:cubicBezTo>
                <a:cubicBezTo>
                  <a:pt x="14228" y="2208"/>
                  <a:pt x="14166" y="2213"/>
                  <a:pt x="14149" y="2222"/>
                </a:cubicBezTo>
                <a:cubicBezTo>
                  <a:pt x="14131" y="2231"/>
                  <a:pt x="14163" y="2228"/>
                  <a:pt x="14149" y="2242"/>
                </a:cubicBezTo>
                <a:cubicBezTo>
                  <a:pt x="14219" y="2207"/>
                  <a:pt x="14303" y="2173"/>
                  <a:pt x="14387" y="2163"/>
                </a:cubicBezTo>
                <a:cubicBezTo>
                  <a:pt x="14495" y="2150"/>
                  <a:pt x="14599" y="2142"/>
                  <a:pt x="14704" y="2123"/>
                </a:cubicBezTo>
                <a:cubicBezTo>
                  <a:pt x="14697" y="2123"/>
                  <a:pt x="14691" y="2123"/>
                  <a:pt x="14684" y="2123"/>
                </a:cubicBezTo>
                <a:cubicBezTo>
                  <a:pt x="14637" y="2139"/>
                  <a:pt x="14577" y="2157"/>
                  <a:pt x="14526" y="2183"/>
                </a:cubicBezTo>
                <a:cubicBezTo>
                  <a:pt x="14485" y="2204"/>
                  <a:pt x="14400" y="2221"/>
                  <a:pt x="14367" y="2242"/>
                </a:cubicBezTo>
                <a:cubicBezTo>
                  <a:pt x="14341" y="2259"/>
                  <a:pt x="14366" y="2265"/>
                  <a:pt x="14347" y="2282"/>
                </a:cubicBezTo>
                <a:cubicBezTo>
                  <a:pt x="14357" y="2285"/>
                  <a:pt x="14372" y="2301"/>
                  <a:pt x="14407" y="2302"/>
                </a:cubicBezTo>
                <a:cubicBezTo>
                  <a:pt x="14499" y="2305"/>
                  <a:pt x="14592" y="2302"/>
                  <a:pt x="14684" y="2302"/>
                </a:cubicBezTo>
                <a:cubicBezTo>
                  <a:pt x="14658" y="2302"/>
                  <a:pt x="14671" y="2296"/>
                  <a:pt x="14645" y="2302"/>
                </a:cubicBezTo>
                <a:cubicBezTo>
                  <a:pt x="14611" y="2310"/>
                  <a:pt x="14593" y="2335"/>
                  <a:pt x="14565" y="2342"/>
                </a:cubicBezTo>
                <a:cubicBezTo>
                  <a:pt x="14521" y="2353"/>
                  <a:pt x="14471" y="2350"/>
                  <a:pt x="14426" y="2361"/>
                </a:cubicBezTo>
                <a:cubicBezTo>
                  <a:pt x="14402" y="2367"/>
                  <a:pt x="14354" y="2396"/>
                  <a:pt x="14347" y="2401"/>
                </a:cubicBezTo>
                <a:cubicBezTo>
                  <a:pt x="14327" y="2401"/>
                  <a:pt x="14320" y="2401"/>
                  <a:pt x="14327" y="2421"/>
                </a:cubicBezTo>
                <a:cubicBezTo>
                  <a:pt x="14354" y="2419"/>
                  <a:pt x="14389" y="2403"/>
                  <a:pt x="14407" y="2401"/>
                </a:cubicBezTo>
                <a:cubicBezTo>
                  <a:pt x="14487" y="2394"/>
                  <a:pt x="14522" y="2356"/>
                  <a:pt x="14585" y="2342"/>
                </a:cubicBezTo>
                <a:cubicBezTo>
                  <a:pt x="14628" y="2332"/>
                  <a:pt x="14683" y="2330"/>
                  <a:pt x="14704" y="2322"/>
                </a:cubicBezTo>
                <a:cubicBezTo>
                  <a:pt x="14715" y="2317"/>
                  <a:pt x="14751" y="2286"/>
                  <a:pt x="14764" y="2262"/>
                </a:cubicBezTo>
                <a:cubicBezTo>
                  <a:pt x="14777" y="2237"/>
                  <a:pt x="14797" y="2231"/>
                  <a:pt x="14803" y="2203"/>
                </a:cubicBezTo>
                <a:cubicBezTo>
                  <a:pt x="14812" y="2160"/>
                  <a:pt x="14798" y="2166"/>
                  <a:pt x="14823" y="2143"/>
                </a:cubicBezTo>
                <a:cubicBezTo>
                  <a:pt x="14834" y="2132"/>
                  <a:pt x="14852" y="2111"/>
                  <a:pt x="14863" y="2103"/>
                </a:cubicBezTo>
                <a:cubicBezTo>
                  <a:pt x="14882" y="2088"/>
                  <a:pt x="14906" y="2101"/>
                  <a:pt x="14922" y="2084"/>
                </a:cubicBezTo>
                <a:cubicBezTo>
                  <a:pt x="14941" y="2064"/>
                  <a:pt x="14936" y="2059"/>
                  <a:pt x="14962" y="2044"/>
                </a:cubicBezTo>
                <a:cubicBezTo>
                  <a:pt x="14971" y="2039"/>
                  <a:pt x="15014" y="2032"/>
                  <a:pt x="15022" y="2024"/>
                </a:cubicBezTo>
                <a:cubicBezTo>
                  <a:pt x="15038" y="2006"/>
                  <a:pt x="15030" y="1989"/>
                  <a:pt x="15061" y="1984"/>
                </a:cubicBezTo>
                <a:cubicBezTo>
                  <a:pt x="15092" y="1979"/>
                  <a:pt x="15137" y="1968"/>
                  <a:pt x="15161" y="1965"/>
                </a:cubicBezTo>
                <a:cubicBezTo>
                  <a:pt x="15189" y="1961"/>
                  <a:pt x="15220" y="1948"/>
                  <a:pt x="15240" y="1945"/>
                </a:cubicBezTo>
                <a:cubicBezTo>
                  <a:pt x="15294" y="1937"/>
                  <a:pt x="15326" y="1942"/>
                  <a:pt x="15379" y="1925"/>
                </a:cubicBezTo>
                <a:cubicBezTo>
                  <a:pt x="15404" y="1917"/>
                  <a:pt x="15413" y="1913"/>
                  <a:pt x="15438" y="1905"/>
                </a:cubicBezTo>
                <a:cubicBezTo>
                  <a:pt x="15465" y="1896"/>
                  <a:pt x="15464" y="1897"/>
                  <a:pt x="15498" y="1885"/>
                </a:cubicBezTo>
                <a:cubicBezTo>
                  <a:pt x="15548" y="1868"/>
                  <a:pt x="15533" y="1875"/>
                  <a:pt x="15577" y="1885"/>
                </a:cubicBezTo>
                <a:cubicBezTo>
                  <a:pt x="15605" y="1891"/>
                  <a:pt x="15605" y="1902"/>
                  <a:pt x="15617" y="1925"/>
                </a:cubicBezTo>
                <a:cubicBezTo>
                  <a:pt x="15627" y="1946"/>
                  <a:pt x="15652" y="1974"/>
                  <a:pt x="15637" y="2004"/>
                </a:cubicBezTo>
                <a:cubicBezTo>
                  <a:pt x="15624" y="2029"/>
                  <a:pt x="15600" y="2030"/>
                  <a:pt x="15577" y="2044"/>
                </a:cubicBezTo>
                <a:cubicBezTo>
                  <a:pt x="15554" y="2058"/>
                  <a:pt x="15547" y="2049"/>
                  <a:pt x="15518" y="2064"/>
                </a:cubicBezTo>
                <a:cubicBezTo>
                  <a:pt x="15522" y="2017"/>
                  <a:pt x="15515" y="2007"/>
                  <a:pt x="15538" y="1984"/>
                </a:cubicBezTo>
                <a:cubicBezTo>
                  <a:pt x="15551" y="1971"/>
                  <a:pt x="15568" y="1956"/>
                  <a:pt x="15597" y="1945"/>
                </a:cubicBezTo>
                <a:cubicBezTo>
                  <a:pt x="15645" y="1926"/>
                  <a:pt x="15636" y="1943"/>
                  <a:pt x="15657" y="1945"/>
                </a:cubicBezTo>
                <a:cubicBezTo>
                  <a:pt x="15664" y="1945"/>
                  <a:pt x="15670" y="1945"/>
                  <a:pt x="15677" y="1945"/>
                </a:cubicBezTo>
                <a:cubicBezTo>
                  <a:pt x="15684" y="1976"/>
                  <a:pt x="15700" y="1961"/>
                  <a:pt x="15696" y="2004"/>
                </a:cubicBezTo>
                <a:cubicBezTo>
                  <a:pt x="15693" y="2041"/>
                  <a:pt x="15676" y="2051"/>
                  <a:pt x="15657" y="2064"/>
                </a:cubicBezTo>
                <a:cubicBezTo>
                  <a:pt x="15634" y="2079"/>
                  <a:pt x="15602" y="2073"/>
                  <a:pt x="15577" y="2084"/>
                </a:cubicBezTo>
                <a:cubicBezTo>
                  <a:pt x="15546" y="2097"/>
                  <a:pt x="15543" y="2092"/>
                  <a:pt x="15518" y="2103"/>
                </a:cubicBezTo>
                <a:cubicBezTo>
                  <a:pt x="15489" y="2116"/>
                  <a:pt x="15449" y="2136"/>
                  <a:pt x="15419" y="2143"/>
                </a:cubicBezTo>
                <a:cubicBezTo>
                  <a:pt x="15364" y="2155"/>
                  <a:pt x="15270" y="2159"/>
                  <a:pt x="15220" y="2183"/>
                </a:cubicBezTo>
                <a:cubicBezTo>
                  <a:pt x="15170" y="2207"/>
                  <a:pt x="15128" y="2239"/>
                  <a:pt x="15081" y="2262"/>
                </a:cubicBezTo>
                <a:cubicBezTo>
                  <a:pt x="15056" y="2274"/>
                  <a:pt x="15042" y="2276"/>
                  <a:pt x="15022" y="2282"/>
                </a:cubicBezTo>
                <a:cubicBezTo>
                  <a:pt x="15015" y="2282"/>
                  <a:pt x="15009" y="2282"/>
                  <a:pt x="15002" y="2282"/>
                </a:cubicBezTo>
                <a:cubicBezTo>
                  <a:pt x="15012" y="2252"/>
                  <a:pt x="15019" y="2245"/>
                  <a:pt x="15022" y="2222"/>
                </a:cubicBezTo>
                <a:cubicBezTo>
                  <a:pt x="15027" y="2185"/>
                  <a:pt x="15034" y="2179"/>
                  <a:pt x="15042" y="2163"/>
                </a:cubicBezTo>
                <a:cubicBezTo>
                  <a:pt x="15054" y="2138"/>
                  <a:pt x="15055" y="2123"/>
                  <a:pt x="15061" y="2103"/>
                </a:cubicBezTo>
                <a:cubicBezTo>
                  <a:pt x="15061" y="2097"/>
                  <a:pt x="15061" y="2090"/>
                  <a:pt x="15061" y="2084"/>
                </a:cubicBezTo>
                <a:cubicBezTo>
                  <a:pt x="15034" y="2066"/>
                  <a:pt x="15051" y="2051"/>
                  <a:pt x="15002" y="2044"/>
                </a:cubicBezTo>
                <a:cubicBezTo>
                  <a:pt x="14948" y="2036"/>
                  <a:pt x="14912" y="2059"/>
                  <a:pt x="14863" y="2064"/>
                </a:cubicBezTo>
                <a:cubicBezTo>
                  <a:pt x="14815" y="2069"/>
                  <a:pt x="14784" y="2072"/>
                  <a:pt x="14744" y="2084"/>
                </a:cubicBezTo>
                <a:cubicBezTo>
                  <a:pt x="14711" y="2093"/>
                  <a:pt x="14684" y="2099"/>
                  <a:pt x="14645" y="2103"/>
                </a:cubicBezTo>
                <a:cubicBezTo>
                  <a:pt x="14638" y="2103"/>
                  <a:pt x="14632" y="2103"/>
                  <a:pt x="14625" y="2103"/>
                </a:cubicBezTo>
                <a:cubicBezTo>
                  <a:pt x="14648" y="2098"/>
                  <a:pt x="14682" y="2093"/>
                  <a:pt x="14704" y="2084"/>
                </a:cubicBezTo>
                <a:cubicBezTo>
                  <a:pt x="14756" y="2062"/>
                  <a:pt x="14802" y="2035"/>
                  <a:pt x="14863" y="2024"/>
                </a:cubicBezTo>
                <a:cubicBezTo>
                  <a:pt x="14896" y="2024"/>
                  <a:pt x="14902" y="2024"/>
                  <a:pt x="14922" y="2024"/>
                </a:cubicBezTo>
              </a:path>
              <a:path w="9407" h="4009">
                <a:moveTo>
                  <a:pt x="15280" y="1865"/>
                </a:moveTo>
                <a:cubicBezTo>
                  <a:pt x="15306" y="1845"/>
                  <a:pt x="15315" y="1829"/>
                  <a:pt x="15339" y="1826"/>
                </a:cubicBezTo>
                <a:cubicBezTo>
                  <a:pt x="15372" y="1822"/>
                  <a:pt x="15354" y="1806"/>
                  <a:pt x="15399" y="1806"/>
                </a:cubicBezTo>
                <a:cubicBezTo>
                  <a:pt x="15431" y="1806"/>
                  <a:pt x="15414" y="1786"/>
                  <a:pt x="15458" y="1786"/>
                </a:cubicBezTo>
                <a:cubicBezTo>
                  <a:pt x="15490" y="1786"/>
                  <a:pt x="15474" y="1766"/>
                  <a:pt x="15518" y="1766"/>
                </a:cubicBezTo>
                <a:cubicBezTo>
                  <a:pt x="15550" y="1766"/>
                  <a:pt x="15533" y="1746"/>
                  <a:pt x="15577" y="1746"/>
                </a:cubicBezTo>
                <a:cubicBezTo>
                  <a:pt x="15614" y="1746"/>
                  <a:pt x="15624" y="1730"/>
                  <a:pt x="15657" y="1726"/>
                </a:cubicBezTo>
                <a:cubicBezTo>
                  <a:pt x="15705" y="1721"/>
                  <a:pt x="15735" y="1735"/>
                  <a:pt x="15756" y="1746"/>
                </a:cubicBezTo>
                <a:cubicBezTo>
                  <a:pt x="15776" y="1756"/>
                  <a:pt x="15801" y="1764"/>
                  <a:pt x="15815" y="1766"/>
                </a:cubicBezTo>
                <a:cubicBezTo>
                  <a:pt x="15852" y="1771"/>
                  <a:pt x="15870" y="1761"/>
                  <a:pt x="15875" y="1806"/>
                </a:cubicBezTo>
                <a:cubicBezTo>
                  <a:pt x="15880" y="1848"/>
                  <a:pt x="15891" y="1834"/>
                  <a:pt x="15895" y="1865"/>
                </a:cubicBezTo>
                <a:cubicBezTo>
                  <a:pt x="15903" y="1930"/>
                  <a:pt x="15893" y="1991"/>
                  <a:pt x="15875" y="2044"/>
                </a:cubicBezTo>
                <a:cubicBezTo>
                  <a:pt x="15873" y="2051"/>
                  <a:pt x="15842" y="2099"/>
                  <a:pt x="15835" y="2103"/>
                </a:cubicBezTo>
                <a:cubicBezTo>
                  <a:pt x="15815" y="2116"/>
                  <a:pt x="15798" y="2132"/>
                  <a:pt x="15776" y="2143"/>
                </a:cubicBezTo>
                <a:cubicBezTo>
                  <a:pt x="15750" y="2156"/>
                  <a:pt x="15756" y="2163"/>
                  <a:pt x="15716" y="2163"/>
                </a:cubicBezTo>
                <a:cubicBezTo>
                  <a:pt x="15684" y="2163"/>
                  <a:pt x="15701" y="2183"/>
                  <a:pt x="15657" y="2183"/>
                </a:cubicBezTo>
                <a:cubicBezTo>
                  <a:pt x="15620" y="2183"/>
                  <a:pt x="15610" y="2199"/>
                  <a:pt x="15577" y="2203"/>
                </a:cubicBezTo>
                <a:cubicBezTo>
                  <a:pt x="15538" y="2207"/>
                  <a:pt x="15512" y="2218"/>
                  <a:pt x="15478" y="2222"/>
                </a:cubicBezTo>
                <a:cubicBezTo>
                  <a:pt x="15457" y="2224"/>
                  <a:pt x="15440" y="2201"/>
                  <a:pt x="15438" y="2183"/>
                </a:cubicBezTo>
                <a:cubicBezTo>
                  <a:pt x="15433" y="2143"/>
                  <a:pt x="15423" y="2153"/>
                  <a:pt x="15419" y="2123"/>
                </a:cubicBezTo>
                <a:cubicBezTo>
                  <a:pt x="15414" y="2082"/>
                  <a:pt x="15403" y="2095"/>
                  <a:pt x="15399" y="2064"/>
                </a:cubicBezTo>
                <a:cubicBezTo>
                  <a:pt x="15394" y="2021"/>
                  <a:pt x="15390" y="2005"/>
                  <a:pt x="15379" y="1984"/>
                </a:cubicBezTo>
                <a:cubicBezTo>
                  <a:pt x="15368" y="1962"/>
                  <a:pt x="15378" y="1935"/>
                  <a:pt x="15359" y="1925"/>
                </a:cubicBezTo>
                <a:cubicBezTo>
                  <a:pt x="15339" y="1925"/>
                  <a:pt x="15332" y="1925"/>
                  <a:pt x="15339" y="1905"/>
                </a:cubicBezTo>
                <a:cubicBezTo>
                  <a:pt x="15349" y="1875"/>
                  <a:pt x="15363" y="1885"/>
                  <a:pt x="15399" y="1885"/>
                </a:cubicBezTo>
                <a:cubicBezTo>
                  <a:pt x="15425" y="1885"/>
                  <a:pt x="15442" y="1884"/>
                  <a:pt x="15458" y="1905"/>
                </a:cubicBezTo>
                <a:cubicBezTo>
                  <a:pt x="15465" y="1914"/>
                  <a:pt x="15477" y="1959"/>
                  <a:pt x="15478" y="1965"/>
                </a:cubicBezTo>
                <a:cubicBezTo>
                  <a:pt x="15482" y="1997"/>
                  <a:pt x="15498" y="1979"/>
                  <a:pt x="15498" y="2024"/>
                </a:cubicBezTo>
                <a:cubicBezTo>
                  <a:pt x="15498" y="2042"/>
                  <a:pt x="15498" y="2150"/>
                  <a:pt x="15498" y="2103"/>
                </a:cubicBezTo>
                <a:cubicBezTo>
                  <a:pt x="15498" y="2026"/>
                  <a:pt x="15502" y="1933"/>
                  <a:pt x="15478" y="1885"/>
                </a:cubicBezTo>
                <a:cubicBezTo>
                  <a:pt x="15472" y="1873"/>
                  <a:pt x="15478" y="1839"/>
                  <a:pt x="15478" y="1826"/>
                </a:cubicBezTo>
                <a:cubicBezTo>
                  <a:pt x="15510" y="1826"/>
                  <a:pt x="15531" y="1843"/>
                  <a:pt x="15538" y="1845"/>
                </a:cubicBezTo>
                <a:cubicBezTo>
                  <a:pt x="15549" y="1848"/>
                  <a:pt x="15610" y="1856"/>
                  <a:pt x="15617" y="1865"/>
                </a:cubicBezTo>
                <a:cubicBezTo>
                  <a:pt x="15648" y="1904"/>
                  <a:pt x="15604" y="2050"/>
                  <a:pt x="15597" y="2064"/>
                </a:cubicBezTo>
                <a:cubicBezTo>
                  <a:pt x="15597" y="2084"/>
                  <a:pt x="15597" y="2091"/>
                  <a:pt x="15577" y="2084"/>
                </a:cubicBezTo>
                <a:cubicBezTo>
                  <a:pt x="15577" y="2135"/>
                  <a:pt x="15577" y="2053"/>
                  <a:pt x="15577" y="2044"/>
                </a:cubicBezTo>
                <a:cubicBezTo>
                  <a:pt x="15577" y="1963"/>
                  <a:pt x="15571" y="1857"/>
                  <a:pt x="15597" y="1806"/>
                </a:cubicBezTo>
                <a:cubicBezTo>
                  <a:pt x="15615" y="1770"/>
                  <a:pt x="15611" y="1766"/>
                  <a:pt x="15657" y="1766"/>
                </a:cubicBezTo>
                <a:cubicBezTo>
                  <a:pt x="15682" y="1766"/>
                  <a:pt x="15709" y="1773"/>
                  <a:pt x="15716" y="1786"/>
                </a:cubicBezTo>
                <a:cubicBezTo>
                  <a:pt x="15729" y="1812"/>
                  <a:pt x="15736" y="1806"/>
                  <a:pt x="15736" y="1845"/>
                </a:cubicBezTo>
                <a:cubicBezTo>
                  <a:pt x="15736" y="1899"/>
                  <a:pt x="15730" y="1937"/>
                  <a:pt x="15716" y="1965"/>
                </a:cubicBezTo>
                <a:cubicBezTo>
                  <a:pt x="15705" y="1987"/>
                  <a:pt x="15715" y="2014"/>
                  <a:pt x="15696" y="2024"/>
                </a:cubicBezTo>
                <a:cubicBezTo>
                  <a:pt x="15672" y="2036"/>
                  <a:pt x="15679" y="2034"/>
                  <a:pt x="15657" y="2064"/>
                </a:cubicBezTo>
                <a:cubicBezTo>
                  <a:pt x="15627" y="2054"/>
                  <a:pt x="15637" y="2040"/>
                  <a:pt x="15637" y="2004"/>
                </a:cubicBezTo>
                <a:cubicBezTo>
                  <a:pt x="15637" y="1935"/>
                  <a:pt x="15637" y="1866"/>
                  <a:pt x="15657" y="1826"/>
                </a:cubicBezTo>
                <a:cubicBezTo>
                  <a:pt x="15670" y="1801"/>
                  <a:pt x="15670" y="1787"/>
                  <a:pt x="15677" y="1766"/>
                </a:cubicBezTo>
                <a:cubicBezTo>
                  <a:pt x="15714" y="1766"/>
                  <a:pt x="15727" y="1780"/>
                  <a:pt x="15756" y="1786"/>
                </a:cubicBezTo>
                <a:cubicBezTo>
                  <a:pt x="15790" y="1793"/>
                  <a:pt x="15823" y="1782"/>
                  <a:pt x="15835" y="1806"/>
                </a:cubicBezTo>
                <a:cubicBezTo>
                  <a:pt x="15854" y="1845"/>
                  <a:pt x="15821" y="1894"/>
                  <a:pt x="15815" y="1905"/>
                </a:cubicBezTo>
                <a:cubicBezTo>
                  <a:pt x="15801" y="1933"/>
                  <a:pt x="15835" y="1965"/>
                  <a:pt x="15796" y="1984"/>
                </a:cubicBezTo>
                <a:cubicBezTo>
                  <a:pt x="15775" y="1994"/>
                  <a:pt x="15759" y="1996"/>
                  <a:pt x="15756" y="2024"/>
                </a:cubicBezTo>
                <a:cubicBezTo>
                  <a:pt x="15753" y="2046"/>
                  <a:pt x="15738" y="2061"/>
                  <a:pt x="15716" y="2064"/>
                </a:cubicBezTo>
                <a:cubicBezTo>
                  <a:pt x="15691" y="2067"/>
                  <a:pt x="15665" y="2069"/>
                  <a:pt x="15657" y="2084"/>
                </a:cubicBezTo>
                <a:cubicBezTo>
                  <a:pt x="15639" y="2118"/>
                  <a:pt x="15616" y="2080"/>
                  <a:pt x="15597" y="2103"/>
                </a:cubicBezTo>
                <a:cubicBezTo>
                  <a:pt x="15597" y="2123"/>
                  <a:pt x="15597" y="2130"/>
                  <a:pt x="15577" y="2123"/>
                </a:cubicBezTo>
              </a:path>
              <a:path w="9407" h="4009">
                <a:moveTo>
                  <a:pt x="15359" y="1707"/>
                </a:moveTo>
                <a:cubicBezTo>
                  <a:pt x="15381" y="1693"/>
                  <a:pt x="15382" y="1680"/>
                  <a:pt x="15399" y="1667"/>
                </a:cubicBezTo>
                <a:cubicBezTo>
                  <a:pt x="15418" y="1652"/>
                  <a:pt x="15443" y="1637"/>
                  <a:pt x="15458" y="1627"/>
                </a:cubicBezTo>
                <a:cubicBezTo>
                  <a:pt x="15476" y="1615"/>
                  <a:pt x="15513" y="1590"/>
                  <a:pt x="15518" y="1587"/>
                </a:cubicBezTo>
                <a:cubicBezTo>
                  <a:pt x="15543" y="1574"/>
                  <a:pt x="15544" y="1567"/>
                  <a:pt x="15577" y="1548"/>
                </a:cubicBezTo>
                <a:cubicBezTo>
                  <a:pt x="15593" y="1538"/>
                  <a:pt x="15620" y="1541"/>
                  <a:pt x="15637" y="1528"/>
                </a:cubicBezTo>
                <a:cubicBezTo>
                  <a:pt x="15652" y="1516"/>
                  <a:pt x="15665" y="1500"/>
                  <a:pt x="15696" y="1488"/>
                </a:cubicBezTo>
                <a:cubicBezTo>
                  <a:pt x="15730" y="1475"/>
                  <a:pt x="15758" y="1477"/>
                  <a:pt x="15796" y="1468"/>
                </a:cubicBezTo>
                <a:cubicBezTo>
                  <a:pt x="15830" y="1460"/>
                  <a:pt x="15879" y="1445"/>
                  <a:pt x="15915" y="1429"/>
                </a:cubicBezTo>
                <a:cubicBezTo>
                  <a:pt x="15946" y="1416"/>
                  <a:pt x="15949" y="1421"/>
                  <a:pt x="15974" y="1409"/>
                </a:cubicBezTo>
                <a:cubicBezTo>
                  <a:pt x="16002" y="1396"/>
                  <a:pt x="16011" y="1398"/>
                  <a:pt x="16034" y="1389"/>
                </a:cubicBezTo>
                <a:cubicBezTo>
                  <a:pt x="16060" y="1379"/>
                  <a:pt x="16088" y="1380"/>
                  <a:pt x="16113" y="1369"/>
                </a:cubicBezTo>
                <a:cubicBezTo>
                  <a:pt x="16138" y="1358"/>
                  <a:pt x="16167" y="1359"/>
                  <a:pt x="16192" y="1349"/>
                </a:cubicBezTo>
                <a:cubicBezTo>
                  <a:pt x="16220" y="1338"/>
                  <a:pt x="16239" y="1333"/>
                  <a:pt x="16272" y="1330"/>
                </a:cubicBezTo>
                <a:cubicBezTo>
                  <a:pt x="16403" y="1316"/>
                  <a:pt x="16609" y="1316"/>
                  <a:pt x="16708" y="1349"/>
                </a:cubicBezTo>
                <a:cubicBezTo>
                  <a:pt x="16736" y="1358"/>
                  <a:pt x="16762" y="1356"/>
                  <a:pt x="16788" y="1369"/>
                </a:cubicBezTo>
                <a:cubicBezTo>
                  <a:pt x="16817" y="1384"/>
                  <a:pt x="16831" y="1394"/>
                  <a:pt x="16847" y="1409"/>
                </a:cubicBezTo>
                <a:cubicBezTo>
                  <a:pt x="16876" y="1435"/>
                  <a:pt x="16895" y="1450"/>
                  <a:pt x="16927" y="1468"/>
                </a:cubicBezTo>
                <a:cubicBezTo>
                  <a:pt x="16954" y="1483"/>
                  <a:pt x="16947" y="1482"/>
                  <a:pt x="16986" y="1488"/>
                </a:cubicBezTo>
                <a:cubicBezTo>
                  <a:pt x="17064" y="1499"/>
                  <a:pt x="17140" y="1476"/>
                  <a:pt x="17205" y="1468"/>
                </a:cubicBezTo>
                <a:cubicBezTo>
                  <a:pt x="17243" y="1463"/>
                  <a:pt x="17285" y="1468"/>
                  <a:pt x="17324" y="1468"/>
                </a:cubicBezTo>
                <a:cubicBezTo>
                  <a:pt x="17307" y="1491"/>
                  <a:pt x="17304" y="1490"/>
                  <a:pt x="17284" y="1508"/>
                </a:cubicBezTo>
                <a:cubicBezTo>
                  <a:pt x="17276" y="1515"/>
                  <a:pt x="17254" y="1560"/>
                  <a:pt x="17244" y="1568"/>
                </a:cubicBezTo>
                <a:cubicBezTo>
                  <a:pt x="17221" y="1587"/>
                  <a:pt x="17220" y="1579"/>
                  <a:pt x="17205" y="1607"/>
                </a:cubicBezTo>
                <a:cubicBezTo>
                  <a:pt x="17189" y="1635"/>
                  <a:pt x="17174" y="1665"/>
                  <a:pt x="17145" y="1687"/>
                </a:cubicBezTo>
                <a:cubicBezTo>
                  <a:pt x="17127" y="1701"/>
                  <a:pt x="17114" y="1710"/>
                  <a:pt x="17085" y="1726"/>
                </a:cubicBezTo>
                <a:cubicBezTo>
                  <a:pt x="17051" y="1745"/>
                  <a:pt x="17035" y="1788"/>
                  <a:pt x="17006" y="1806"/>
                </a:cubicBezTo>
                <a:cubicBezTo>
                  <a:pt x="16982" y="1820"/>
                  <a:pt x="16932" y="1827"/>
                  <a:pt x="16907" y="1845"/>
                </a:cubicBezTo>
                <a:cubicBezTo>
                  <a:pt x="16879" y="1866"/>
                  <a:pt x="16849" y="1870"/>
                  <a:pt x="16827" y="1885"/>
                </a:cubicBezTo>
                <a:cubicBezTo>
                  <a:pt x="16813" y="1895"/>
                  <a:pt x="16763" y="1932"/>
                  <a:pt x="16748" y="1945"/>
                </a:cubicBezTo>
                <a:cubicBezTo>
                  <a:pt x="16726" y="1963"/>
                  <a:pt x="16697" y="1988"/>
                  <a:pt x="16669" y="2004"/>
                </a:cubicBezTo>
                <a:cubicBezTo>
                  <a:pt x="16647" y="2016"/>
                  <a:pt x="16619" y="2038"/>
                  <a:pt x="16609" y="2044"/>
                </a:cubicBezTo>
                <a:cubicBezTo>
                  <a:pt x="16582" y="2062"/>
                  <a:pt x="16566" y="2070"/>
                  <a:pt x="16550" y="2084"/>
                </a:cubicBezTo>
                <a:cubicBezTo>
                  <a:pt x="16540" y="2093"/>
                  <a:pt x="16521" y="2134"/>
                  <a:pt x="16510" y="2143"/>
                </a:cubicBezTo>
                <a:cubicBezTo>
                  <a:pt x="16480" y="2167"/>
                  <a:pt x="16473" y="2169"/>
                  <a:pt x="16450" y="2183"/>
                </a:cubicBezTo>
                <a:cubicBezTo>
                  <a:pt x="16415" y="2204"/>
                  <a:pt x="16389" y="2218"/>
                  <a:pt x="16351" y="2242"/>
                </a:cubicBezTo>
                <a:cubicBezTo>
                  <a:pt x="16318" y="2263"/>
                  <a:pt x="16291" y="2251"/>
                  <a:pt x="16252" y="2262"/>
                </a:cubicBezTo>
                <a:cubicBezTo>
                  <a:pt x="16222" y="2271"/>
                  <a:pt x="16207" y="2278"/>
                  <a:pt x="16173" y="2282"/>
                </a:cubicBezTo>
                <a:cubicBezTo>
                  <a:pt x="16145" y="2285"/>
                  <a:pt x="16113" y="2300"/>
                  <a:pt x="16093" y="2302"/>
                </a:cubicBezTo>
                <a:cubicBezTo>
                  <a:pt x="16060" y="2306"/>
                  <a:pt x="16047" y="2317"/>
                  <a:pt x="16014" y="2322"/>
                </a:cubicBezTo>
                <a:cubicBezTo>
                  <a:pt x="15953" y="2332"/>
                  <a:pt x="15884" y="2323"/>
                  <a:pt x="15835" y="2302"/>
                </a:cubicBezTo>
                <a:cubicBezTo>
                  <a:pt x="15803" y="2288"/>
                  <a:pt x="15798" y="2274"/>
                  <a:pt x="15776" y="2262"/>
                </a:cubicBezTo>
                <a:cubicBezTo>
                  <a:pt x="15759" y="2252"/>
                  <a:pt x="15754" y="2251"/>
                  <a:pt x="15736" y="2242"/>
                </a:cubicBezTo>
              </a:path>
              <a:path w="9407" h="4009">
                <a:moveTo>
                  <a:pt x="16113" y="1647"/>
                </a:moveTo>
                <a:cubicBezTo>
                  <a:pt x="16162" y="1632"/>
                  <a:pt x="16170" y="1630"/>
                  <a:pt x="16232" y="1627"/>
                </a:cubicBezTo>
                <a:cubicBezTo>
                  <a:pt x="16299" y="1624"/>
                  <a:pt x="16384" y="1621"/>
                  <a:pt x="16450" y="1607"/>
                </a:cubicBezTo>
                <a:cubicBezTo>
                  <a:pt x="16495" y="1598"/>
                  <a:pt x="16485" y="1598"/>
                  <a:pt x="16530" y="1587"/>
                </a:cubicBezTo>
                <a:cubicBezTo>
                  <a:pt x="16507" y="1600"/>
                  <a:pt x="16457" y="1642"/>
                  <a:pt x="16431" y="1647"/>
                </a:cubicBezTo>
                <a:cubicBezTo>
                  <a:pt x="16368" y="1659"/>
                  <a:pt x="16393" y="1649"/>
                  <a:pt x="16351" y="1687"/>
                </a:cubicBezTo>
                <a:cubicBezTo>
                  <a:pt x="16342" y="1695"/>
                  <a:pt x="16319" y="1722"/>
                  <a:pt x="16312" y="1726"/>
                </a:cubicBezTo>
                <a:cubicBezTo>
                  <a:pt x="16274" y="1751"/>
                  <a:pt x="16212" y="1725"/>
                  <a:pt x="16192" y="1766"/>
                </a:cubicBezTo>
                <a:cubicBezTo>
                  <a:pt x="16192" y="1786"/>
                  <a:pt x="16192" y="1793"/>
                  <a:pt x="16212" y="1786"/>
                </a:cubicBezTo>
                <a:cubicBezTo>
                  <a:pt x="16277" y="1777"/>
                  <a:pt x="16339" y="1752"/>
                  <a:pt x="16411" y="1746"/>
                </a:cubicBezTo>
                <a:cubicBezTo>
                  <a:pt x="16512" y="1737"/>
                  <a:pt x="16608" y="1738"/>
                  <a:pt x="16708" y="1726"/>
                </a:cubicBezTo>
                <a:cubicBezTo>
                  <a:pt x="16728" y="1726"/>
                  <a:pt x="16735" y="1726"/>
                  <a:pt x="16748" y="1726"/>
                </a:cubicBezTo>
                <a:cubicBezTo>
                  <a:pt x="16725" y="1750"/>
                  <a:pt x="16694" y="1776"/>
                  <a:pt x="16669" y="1786"/>
                </a:cubicBezTo>
                <a:cubicBezTo>
                  <a:pt x="16613" y="1808"/>
                  <a:pt x="16549" y="1816"/>
                  <a:pt x="16490" y="1845"/>
                </a:cubicBezTo>
                <a:cubicBezTo>
                  <a:pt x="16448" y="1866"/>
                  <a:pt x="16366" y="1893"/>
                  <a:pt x="16312" y="1905"/>
                </a:cubicBezTo>
                <a:cubicBezTo>
                  <a:pt x="16258" y="1917"/>
                  <a:pt x="16220" y="1934"/>
                  <a:pt x="16173" y="1945"/>
                </a:cubicBezTo>
                <a:cubicBezTo>
                  <a:pt x="16148" y="1951"/>
                  <a:pt x="16118" y="1945"/>
                  <a:pt x="16093" y="1945"/>
                </a:cubicBezTo>
                <a:cubicBezTo>
                  <a:pt x="16117" y="1959"/>
                  <a:pt x="16139" y="1965"/>
                  <a:pt x="16192" y="1965"/>
                </a:cubicBezTo>
                <a:cubicBezTo>
                  <a:pt x="16249" y="1965"/>
                  <a:pt x="16298" y="1956"/>
                  <a:pt x="16292" y="1965"/>
                </a:cubicBezTo>
                <a:cubicBezTo>
                  <a:pt x="16276" y="1990"/>
                  <a:pt x="16248" y="1985"/>
                  <a:pt x="16212" y="2004"/>
                </a:cubicBezTo>
                <a:cubicBezTo>
                  <a:pt x="16185" y="2019"/>
                  <a:pt x="16143" y="2056"/>
                  <a:pt x="16113" y="2064"/>
                </a:cubicBezTo>
                <a:cubicBezTo>
                  <a:pt x="16057" y="2079"/>
                  <a:pt x="16099" y="2062"/>
                  <a:pt x="16073" y="2103"/>
                </a:cubicBezTo>
                <a:cubicBezTo>
                  <a:pt x="16061" y="2122"/>
                  <a:pt x="16031" y="2108"/>
                  <a:pt x="16014" y="2123"/>
                </a:cubicBezTo>
                <a:cubicBezTo>
                  <a:pt x="16014" y="2130"/>
                  <a:pt x="16014" y="2136"/>
                  <a:pt x="16014" y="2143"/>
                </a:cubicBezTo>
                <a:cubicBezTo>
                  <a:pt x="16121" y="2143"/>
                  <a:pt x="16253" y="2162"/>
                  <a:pt x="16351" y="2123"/>
                </a:cubicBezTo>
                <a:cubicBezTo>
                  <a:pt x="16413" y="2098"/>
                  <a:pt x="16443" y="2068"/>
                  <a:pt x="16490" y="2024"/>
                </a:cubicBezTo>
                <a:cubicBezTo>
                  <a:pt x="16523" y="1993"/>
                  <a:pt x="16554" y="1986"/>
                  <a:pt x="16589" y="1965"/>
                </a:cubicBezTo>
                <a:cubicBezTo>
                  <a:pt x="16617" y="1948"/>
                  <a:pt x="16617" y="1926"/>
                  <a:pt x="16629" y="1905"/>
                </a:cubicBezTo>
                <a:cubicBezTo>
                  <a:pt x="16574" y="1905"/>
                  <a:pt x="16336" y="1929"/>
                  <a:pt x="16331" y="1885"/>
                </a:cubicBezTo>
                <a:cubicBezTo>
                  <a:pt x="16331" y="1884"/>
                  <a:pt x="16346" y="1820"/>
                  <a:pt x="16351" y="1806"/>
                </a:cubicBezTo>
                <a:cubicBezTo>
                  <a:pt x="16378" y="1731"/>
                  <a:pt x="16428" y="1718"/>
                  <a:pt x="16490" y="1687"/>
                </a:cubicBezTo>
                <a:cubicBezTo>
                  <a:pt x="16533" y="1665"/>
                  <a:pt x="16541" y="1643"/>
                  <a:pt x="16570" y="1607"/>
                </a:cubicBezTo>
                <a:cubicBezTo>
                  <a:pt x="16546" y="1595"/>
                  <a:pt x="16487" y="1574"/>
                  <a:pt x="16431" y="1587"/>
                </a:cubicBezTo>
                <a:cubicBezTo>
                  <a:pt x="16368" y="1601"/>
                  <a:pt x="16288" y="1617"/>
                  <a:pt x="16232" y="1627"/>
                </a:cubicBezTo>
                <a:cubicBezTo>
                  <a:pt x="16212" y="1627"/>
                  <a:pt x="16205" y="1627"/>
                  <a:pt x="16192" y="1627"/>
                </a:cubicBezTo>
                <a:cubicBezTo>
                  <a:pt x="16200" y="1597"/>
                  <a:pt x="16191" y="1563"/>
                  <a:pt x="16232" y="1548"/>
                </a:cubicBezTo>
                <a:cubicBezTo>
                  <a:pt x="16282" y="1530"/>
                  <a:pt x="16290" y="1530"/>
                  <a:pt x="16331" y="1488"/>
                </a:cubicBezTo>
                <a:cubicBezTo>
                  <a:pt x="16342" y="1477"/>
                  <a:pt x="16341" y="1461"/>
                  <a:pt x="16351" y="1449"/>
                </a:cubicBezTo>
                <a:cubicBezTo>
                  <a:pt x="16332" y="1437"/>
                  <a:pt x="16334" y="1431"/>
                  <a:pt x="16292" y="1429"/>
                </a:cubicBezTo>
                <a:cubicBezTo>
                  <a:pt x="16241" y="1426"/>
                  <a:pt x="16193" y="1441"/>
                  <a:pt x="16153" y="1449"/>
                </a:cubicBezTo>
                <a:cubicBezTo>
                  <a:pt x="16092" y="1461"/>
                  <a:pt x="16050" y="1495"/>
                  <a:pt x="15994" y="1508"/>
                </a:cubicBezTo>
                <a:cubicBezTo>
                  <a:pt x="15945" y="1520"/>
                  <a:pt x="15920" y="1536"/>
                  <a:pt x="15875" y="1548"/>
                </a:cubicBezTo>
                <a:cubicBezTo>
                  <a:pt x="15864" y="1551"/>
                  <a:pt x="15778" y="1573"/>
                  <a:pt x="15776" y="1587"/>
                </a:cubicBezTo>
                <a:cubicBezTo>
                  <a:pt x="15783" y="1600"/>
                  <a:pt x="15789" y="1614"/>
                  <a:pt x="15796" y="1627"/>
                </a:cubicBezTo>
                <a:cubicBezTo>
                  <a:pt x="15766" y="1619"/>
                  <a:pt x="15742" y="1614"/>
                  <a:pt x="15796" y="1607"/>
                </a:cubicBezTo>
                <a:cubicBezTo>
                  <a:pt x="15860" y="1599"/>
                  <a:pt x="15932" y="1593"/>
                  <a:pt x="15994" y="1587"/>
                </a:cubicBezTo>
                <a:cubicBezTo>
                  <a:pt x="16068" y="1580"/>
                  <a:pt x="16137" y="1568"/>
                  <a:pt x="16212" y="1568"/>
                </a:cubicBezTo>
                <a:cubicBezTo>
                  <a:pt x="16200" y="1582"/>
                  <a:pt x="16188" y="1607"/>
                  <a:pt x="16173" y="1627"/>
                </a:cubicBezTo>
                <a:cubicBezTo>
                  <a:pt x="16159" y="1647"/>
                  <a:pt x="16141" y="1637"/>
                  <a:pt x="16113" y="1647"/>
                </a:cubicBezTo>
                <a:cubicBezTo>
                  <a:pt x="16109" y="1648"/>
                  <a:pt x="16064" y="1679"/>
                  <a:pt x="16054" y="1687"/>
                </a:cubicBezTo>
                <a:cubicBezTo>
                  <a:pt x="16035" y="1703"/>
                  <a:pt x="16033" y="1714"/>
                  <a:pt x="16014" y="1746"/>
                </a:cubicBezTo>
                <a:cubicBezTo>
                  <a:pt x="16038" y="1758"/>
                  <a:pt x="16039" y="1766"/>
                  <a:pt x="16093" y="1766"/>
                </a:cubicBezTo>
                <a:cubicBezTo>
                  <a:pt x="16196" y="1766"/>
                  <a:pt x="16292" y="1755"/>
                  <a:pt x="16391" y="1746"/>
                </a:cubicBezTo>
                <a:cubicBezTo>
                  <a:pt x="16463" y="1739"/>
                  <a:pt x="16562" y="1735"/>
                  <a:pt x="16629" y="1707"/>
                </a:cubicBezTo>
                <a:cubicBezTo>
                  <a:pt x="16659" y="1694"/>
                  <a:pt x="16669" y="1672"/>
                  <a:pt x="16689" y="1647"/>
                </a:cubicBezTo>
                <a:cubicBezTo>
                  <a:pt x="16710" y="1620"/>
                  <a:pt x="16729" y="1603"/>
                  <a:pt x="16748" y="1587"/>
                </a:cubicBezTo>
                <a:cubicBezTo>
                  <a:pt x="16771" y="1569"/>
                  <a:pt x="16766" y="1577"/>
                  <a:pt x="16768" y="1548"/>
                </a:cubicBezTo>
                <a:cubicBezTo>
                  <a:pt x="16771" y="1503"/>
                  <a:pt x="16762" y="1504"/>
                  <a:pt x="16728" y="1488"/>
                </a:cubicBezTo>
                <a:cubicBezTo>
                  <a:pt x="16685" y="1468"/>
                  <a:pt x="16637" y="1468"/>
                  <a:pt x="16589" y="1468"/>
                </a:cubicBezTo>
                <a:cubicBezTo>
                  <a:pt x="16556" y="1468"/>
                  <a:pt x="16523" y="1468"/>
                  <a:pt x="16490" y="1468"/>
                </a:cubicBezTo>
                <a:cubicBezTo>
                  <a:pt x="16478" y="1492"/>
                  <a:pt x="16454" y="1496"/>
                  <a:pt x="16490" y="1508"/>
                </a:cubicBezTo>
                <a:cubicBezTo>
                  <a:pt x="16574" y="1536"/>
                  <a:pt x="16706" y="1511"/>
                  <a:pt x="16788" y="1528"/>
                </a:cubicBezTo>
                <a:cubicBezTo>
                  <a:pt x="16839" y="1538"/>
                  <a:pt x="16812" y="1522"/>
                  <a:pt x="16827" y="1568"/>
                </a:cubicBezTo>
                <a:cubicBezTo>
                  <a:pt x="16812" y="1595"/>
                  <a:pt x="16787" y="1618"/>
                  <a:pt x="16768" y="1647"/>
                </a:cubicBezTo>
                <a:cubicBezTo>
                  <a:pt x="16742" y="1688"/>
                  <a:pt x="16693" y="1668"/>
                  <a:pt x="16669" y="1707"/>
                </a:cubicBezTo>
                <a:cubicBezTo>
                  <a:pt x="16647" y="1743"/>
                  <a:pt x="16652" y="1721"/>
                  <a:pt x="16629" y="1746"/>
                </a:cubicBezTo>
                <a:cubicBezTo>
                  <a:pt x="16547" y="1835"/>
                  <a:pt x="16665" y="1761"/>
                  <a:pt x="16669" y="1786"/>
                </a:cubicBezTo>
                <a:cubicBezTo>
                  <a:pt x="16675" y="1825"/>
                  <a:pt x="16663" y="1844"/>
                  <a:pt x="16629" y="1865"/>
                </a:cubicBezTo>
                <a:cubicBezTo>
                  <a:pt x="16585" y="1893"/>
                  <a:pt x="16504" y="1855"/>
                  <a:pt x="16450" y="1885"/>
                </a:cubicBezTo>
                <a:cubicBezTo>
                  <a:pt x="16363" y="1932"/>
                  <a:pt x="16390" y="1903"/>
                  <a:pt x="16312" y="1925"/>
                </a:cubicBezTo>
                <a:cubicBezTo>
                  <a:pt x="16273" y="1936"/>
                  <a:pt x="16245" y="1967"/>
                  <a:pt x="16212" y="1984"/>
                </a:cubicBezTo>
                <a:cubicBezTo>
                  <a:pt x="16188" y="1997"/>
                  <a:pt x="16157" y="1993"/>
                  <a:pt x="16133" y="2004"/>
                </a:cubicBezTo>
                <a:cubicBezTo>
                  <a:pt x="16133" y="2024"/>
                  <a:pt x="16133" y="2031"/>
                  <a:pt x="16113" y="2024"/>
                </a:cubicBezTo>
                <a:cubicBezTo>
                  <a:pt x="16166" y="2024"/>
                  <a:pt x="16208" y="2013"/>
                  <a:pt x="16252" y="2004"/>
                </a:cubicBezTo>
                <a:cubicBezTo>
                  <a:pt x="16303" y="1994"/>
                  <a:pt x="16342" y="1999"/>
                  <a:pt x="16371" y="1984"/>
                </a:cubicBezTo>
                <a:cubicBezTo>
                  <a:pt x="16391" y="1974"/>
                  <a:pt x="16431" y="1946"/>
                  <a:pt x="16431" y="1984"/>
                </a:cubicBezTo>
                <a:cubicBezTo>
                  <a:pt x="16431" y="1988"/>
                  <a:pt x="16380" y="2017"/>
                  <a:pt x="16371" y="2024"/>
                </a:cubicBezTo>
                <a:cubicBezTo>
                  <a:pt x="16326" y="2058"/>
                  <a:pt x="16331" y="2037"/>
                  <a:pt x="16292" y="2084"/>
                </a:cubicBezTo>
                <a:cubicBezTo>
                  <a:pt x="16264" y="2089"/>
                  <a:pt x="16232" y="2116"/>
                  <a:pt x="16272" y="2103"/>
                </a:cubicBezTo>
                <a:cubicBezTo>
                  <a:pt x="16274" y="2102"/>
                  <a:pt x="16318" y="2057"/>
                  <a:pt x="16331" y="2044"/>
                </a:cubicBezTo>
                <a:cubicBezTo>
                  <a:pt x="16372" y="2003"/>
                  <a:pt x="16404" y="1957"/>
                  <a:pt x="16431" y="1905"/>
                </a:cubicBezTo>
                <a:cubicBezTo>
                  <a:pt x="16457" y="1855"/>
                  <a:pt x="16500" y="1836"/>
                  <a:pt x="16530" y="1786"/>
                </a:cubicBezTo>
                <a:cubicBezTo>
                  <a:pt x="16562" y="1732"/>
                  <a:pt x="16617" y="1714"/>
                  <a:pt x="16649" y="1667"/>
                </a:cubicBezTo>
                <a:cubicBezTo>
                  <a:pt x="16667" y="1641"/>
                  <a:pt x="16701" y="1609"/>
                  <a:pt x="16708" y="1587"/>
                </a:cubicBezTo>
                <a:cubicBezTo>
                  <a:pt x="16726" y="1533"/>
                  <a:pt x="16721" y="1579"/>
                  <a:pt x="16748" y="1548"/>
                </a:cubicBezTo>
                <a:cubicBezTo>
                  <a:pt x="16748" y="1541"/>
                  <a:pt x="16748" y="1535"/>
                  <a:pt x="16748" y="1528"/>
                </a:cubicBezTo>
                <a:cubicBezTo>
                  <a:pt x="16728" y="1541"/>
                  <a:pt x="16708" y="1559"/>
                  <a:pt x="16669" y="1568"/>
                </a:cubicBezTo>
                <a:cubicBezTo>
                  <a:pt x="16581" y="1589"/>
                  <a:pt x="16513" y="1604"/>
                  <a:pt x="16431" y="1647"/>
                </a:cubicBezTo>
                <a:cubicBezTo>
                  <a:pt x="16372" y="1678"/>
                  <a:pt x="16306" y="1675"/>
                  <a:pt x="16252" y="1707"/>
                </a:cubicBezTo>
                <a:cubicBezTo>
                  <a:pt x="16239" y="1715"/>
                  <a:pt x="16206" y="1735"/>
                  <a:pt x="16192" y="1746"/>
                </a:cubicBezTo>
                <a:cubicBezTo>
                  <a:pt x="16182" y="1754"/>
                  <a:pt x="16163" y="1776"/>
                  <a:pt x="16153" y="1786"/>
                </a:cubicBezTo>
                <a:cubicBezTo>
                  <a:pt x="16140" y="1799"/>
                  <a:pt x="16126" y="1813"/>
                  <a:pt x="16113" y="1826"/>
                </a:cubicBezTo>
                <a:cubicBezTo>
                  <a:pt x="16172" y="1826"/>
                  <a:pt x="16217" y="1815"/>
                  <a:pt x="16272" y="1806"/>
                </a:cubicBezTo>
                <a:cubicBezTo>
                  <a:pt x="16335" y="1795"/>
                  <a:pt x="16373" y="1773"/>
                  <a:pt x="16431" y="1766"/>
                </a:cubicBezTo>
                <a:cubicBezTo>
                  <a:pt x="16473" y="1761"/>
                  <a:pt x="16459" y="1752"/>
                  <a:pt x="16490" y="1746"/>
                </a:cubicBezTo>
                <a:cubicBezTo>
                  <a:pt x="16517" y="1741"/>
                  <a:pt x="16549" y="1730"/>
                  <a:pt x="16570" y="1726"/>
                </a:cubicBezTo>
                <a:cubicBezTo>
                  <a:pt x="16593" y="1721"/>
                  <a:pt x="16651" y="1709"/>
                  <a:pt x="16669" y="1707"/>
                </a:cubicBezTo>
                <a:cubicBezTo>
                  <a:pt x="16713" y="1702"/>
                  <a:pt x="16720" y="1693"/>
                  <a:pt x="16748" y="1687"/>
                </a:cubicBezTo>
                <a:cubicBezTo>
                  <a:pt x="16774" y="1682"/>
                  <a:pt x="16782" y="1672"/>
                  <a:pt x="16808" y="1667"/>
                </a:cubicBezTo>
                <a:cubicBezTo>
                  <a:pt x="16851" y="1658"/>
                  <a:pt x="16865" y="1660"/>
                  <a:pt x="16887" y="1647"/>
                </a:cubicBezTo>
                <a:cubicBezTo>
                  <a:pt x="16907" y="1647"/>
                  <a:pt x="16914" y="1647"/>
                  <a:pt x="16887" y="1647"/>
                </a:cubicBezTo>
                <a:cubicBezTo>
                  <a:pt x="16881" y="1692"/>
                  <a:pt x="16878" y="1690"/>
                  <a:pt x="16847" y="1726"/>
                </a:cubicBezTo>
                <a:cubicBezTo>
                  <a:pt x="16831" y="1745"/>
                  <a:pt x="16779" y="1820"/>
                  <a:pt x="16768" y="1826"/>
                </a:cubicBezTo>
                <a:cubicBezTo>
                  <a:pt x="16739" y="1842"/>
                  <a:pt x="16715" y="1843"/>
                  <a:pt x="16689" y="1865"/>
                </a:cubicBezTo>
                <a:cubicBezTo>
                  <a:pt x="16668" y="1883"/>
                  <a:pt x="16691" y="1879"/>
                  <a:pt x="16649" y="1885"/>
                </a:cubicBezTo>
              </a:path>
              <a:path w="9407" h="4009">
                <a:moveTo>
                  <a:pt x="15696" y="1468"/>
                </a:moveTo>
                <a:cubicBezTo>
                  <a:pt x="15720" y="1460"/>
                  <a:pt x="15748" y="1433"/>
                  <a:pt x="15756" y="1429"/>
                </a:cubicBezTo>
                <a:cubicBezTo>
                  <a:pt x="15783" y="1415"/>
                  <a:pt x="15793" y="1420"/>
                  <a:pt x="15815" y="1409"/>
                </a:cubicBezTo>
                <a:cubicBezTo>
                  <a:pt x="15841" y="1396"/>
                  <a:pt x="15836" y="1384"/>
                  <a:pt x="15855" y="1369"/>
                </a:cubicBezTo>
                <a:cubicBezTo>
                  <a:pt x="15864" y="1362"/>
                  <a:pt x="15908" y="1350"/>
                  <a:pt x="15915" y="1349"/>
                </a:cubicBezTo>
                <a:cubicBezTo>
                  <a:pt x="15950" y="1343"/>
                  <a:pt x="15964" y="1340"/>
                  <a:pt x="15994" y="1330"/>
                </a:cubicBezTo>
                <a:cubicBezTo>
                  <a:pt x="16026" y="1319"/>
                  <a:pt x="16059" y="1315"/>
                  <a:pt x="16093" y="1310"/>
                </a:cubicBezTo>
                <a:cubicBezTo>
                  <a:pt x="16119" y="1306"/>
                  <a:pt x="16156" y="1292"/>
                  <a:pt x="16173" y="1290"/>
                </a:cubicBezTo>
                <a:cubicBezTo>
                  <a:pt x="16199" y="1287"/>
                  <a:pt x="16206" y="1274"/>
                  <a:pt x="16232" y="1270"/>
                </a:cubicBezTo>
                <a:cubicBezTo>
                  <a:pt x="16260" y="1265"/>
                  <a:pt x="16291" y="1254"/>
                  <a:pt x="16312" y="1250"/>
                </a:cubicBezTo>
                <a:cubicBezTo>
                  <a:pt x="16347" y="1244"/>
                  <a:pt x="16405" y="1233"/>
                  <a:pt x="16431" y="1230"/>
                </a:cubicBezTo>
                <a:cubicBezTo>
                  <a:pt x="16509" y="1222"/>
                  <a:pt x="16595" y="1217"/>
                  <a:pt x="16669" y="1210"/>
                </a:cubicBezTo>
                <a:cubicBezTo>
                  <a:pt x="16734" y="1204"/>
                  <a:pt x="16806" y="1196"/>
                  <a:pt x="16867" y="1191"/>
                </a:cubicBezTo>
                <a:cubicBezTo>
                  <a:pt x="16922" y="1187"/>
                  <a:pt x="16982" y="1176"/>
                  <a:pt x="17026" y="1171"/>
                </a:cubicBezTo>
                <a:cubicBezTo>
                  <a:pt x="17109" y="1161"/>
                  <a:pt x="17204" y="1159"/>
                  <a:pt x="17284" y="1151"/>
                </a:cubicBezTo>
                <a:cubicBezTo>
                  <a:pt x="17433" y="1137"/>
                  <a:pt x="17591" y="1151"/>
                  <a:pt x="17740" y="1151"/>
                </a:cubicBezTo>
                <a:cubicBezTo>
                  <a:pt x="17733" y="1165"/>
                  <a:pt x="17702" y="1186"/>
                  <a:pt x="17701" y="1191"/>
                </a:cubicBezTo>
                <a:cubicBezTo>
                  <a:pt x="17690" y="1227"/>
                  <a:pt x="17716" y="1241"/>
                  <a:pt x="17720" y="1250"/>
                </a:cubicBezTo>
                <a:cubicBezTo>
                  <a:pt x="17731" y="1279"/>
                  <a:pt x="17735" y="1275"/>
                  <a:pt x="17760" y="1290"/>
                </a:cubicBezTo>
                <a:cubicBezTo>
                  <a:pt x="17791" y="1308"/>
                  <a:pt x="17789" y="1299"/>
                  <a:pt x="17820" y="1310"/>
                </a:cubicBezTo>
                <a:cubicBezTo>
                  <a:pt x="17783" y="1346"/>
                  <a:pt x="17802" y="1325"/>
                  <a:pt x="17780" y="1389"/>
                </a:cubicBezTo>
                <a:cubicBezTo>
                  <a:pt x="17769" y="1421"/>
                  <a:pt x="17741" y="1440"/>
                  <a:pt x="17720" y="1468"/>
                </a:cubicBezTo>
                <a:cubicBezTo>
                  <a:pt x="17699" y="1497"/>
                  <a:pt x="17684" y="1518"/>
                  <a:pt x="17661" y="1548"/>
                </a:cubicBezTo>
                <a:cubicBezTo>
                  <a:pt x="17639" y="1578"/>
                  <a:pt x="17620" y="1623"/>
                  <a:pt x="17601" y="1647"/>
                </a:cubicBezTo>
                <a:cubicBezTo>
                  <a:pt x="17565" y="1693"/>
                  <a:pt x="17546" y="1687"/>
                  <a:pt x="17502" y="1707"/>
                </a:cubicBezTo>
                <a:cubicBezTo>
                  <a:pt x="17487" y="1737"/>
                  <a:pt x="17475" y="1758"/>
                  <a:pt x="17462" y="1786"/>
                </a:cubicBezTo>
                <a:cubicBezTo>
                  <a:pt x="17448" y="1815"/>
                  <a:pt x="17436" y="1826"/>
                  <a:pt x="17423" y="1845"/>
                </a:cubicBezTo>
                <a:cubicBezTo>
                  <a:pt x="17393" y="1889"/>
                  <a:pt x="17394" y="1861"/>
                  <a:pt x="17363" y="1885"/>
                </a:cubicBezTo>
                <a:cubicBezTo>
                  <a:pt x="17310" y="1927"/>
                  <a:pt x="17291" y="1934"/>
                  <a:pt x="17205" y="1965"/>
                </a:cubicBezTo>
                <a:cubicBezTo>
                  <a:pt x="17144" y="1987"/>
                  <a:pt x="17080" y="2004"/>
                  <a:pt x="17026" y="2024"/>
                </a:cubicBezTo>
                <a:cubicBezTo>
                  <a:pt x="16993" y="2036"/>
                  <a:pt x="16989" y="2026"/>
                  <a:pt x="16966" y="2044"/>
                </a:cubicBezTo>
                <a:cubicBezTo>
                  <a:pt x="16951" y="2056"/>
                  <a:pt x="16935" y="2070"/>
                  <a:pt x="16907" y="2084"/>
                </a:cubicBezTo>
                <a:cubicBezTo>
                  <a:pt x="16892" y="2091"/>
                  <a:pt x="16882" y="2097"/>
                  <a:pt x="16847" y="2103"/>
                </a:cubicBezTo>
                <a:cubicBezTo>
                  <a:pt x="16818" y="2144"/>
                  <a:pt x="16854" y="2117"/>
                  <a:pt x="16808" y="2143"/>
                </a:cubicBezTo>
                <a:cubicBezTo>
                  <a:pt x="16782" y="2158"/>
                  <a:pt x="16787" y="2158"/>
                  <a:pt x="16748" y="2163"/>
                </a:cubicBezTo>
                <a:cubicBezTo>
                  <a:pt x="16715" y="2167"/>
                  <a:pt x="16673" y="2180"/>
                  <a:pt x="16649" y="2183"/>
                </a:cubicBezTo>
                <a:cubicBezTo>
                  <a:pt x="16623" y="2186"/>
                  <a:pt x="16615" y="2198"/>
                  <a:pt x="16589" y="2203"/>
                </a:cubicBezTo>
                <a:cubicBezTo>
                  <a:pt x="16557" y="2209"/>
                  <a:pt x="16542" y="2226"/>
                  <a:pt x="16510" y="2222"/>
                </a:cubicBezTo>
                <a:cubicBezTo>
                  <a:pt x="16510" y="2216"/>
                  <a:pt x="16510" y="2209"/>
                  <a:pt x="16510" y="2203"/>
                </a:cubicBezTo>
              </a:path>
              <a:path w="9407" h="4009">
                <a:moveTo>
                  <a:pt x="16788" y="2084"/>
                </a:moveTo>
                <a:cubicBezTo>
                  <a:pt x="16814" y="2084"/>
                  <a:pt x="16805" y="2090"/>
                  <a:pt x="16808" y="2064"/>
                </a:cubicBezTo>
                <a:cubicBezTo>
                  <a:pt x="16812" y="2035"/>
                  <a:pt x="16846" y="2036"/>
                  <a:pt x="16867" y="2004"/>
                </a:cubicBezTo>
                <a:cubicBezTo>
                  <a:pt x="16903" y="1949"/>
                  <a:pt x="16905" y="1984"/>
                  <a:pt x="16947" y="1945"/>
                </a:cubicBezTo>
                <a:cubicBezTo>
                  <a:pt x="16974" y="1920"/>
                  <a:pt x="17000" y="1902"/>
                  <a:pt x="17026" y="1885"/>
                </a:cubicBezTo>
                <a:cubicBezTo>
                  <a:pt x="17059" y="1863"/>
                  <a:pt x="17097" y="1825"/>
                  <a:pt x="17125" y="1806"/>
                </a:cubicBezTo>
                <a:cubicBezTo>
                  <a:pt x="17158" y="1783"/>
                  <a:pt x="17148" y="1760"/>
                  <a:pt x="17165" y="1746"/>
                </a:cubicBezTo>
                <a:cubicBezTo>
                  <a:pt x="17186" y="1730"/>
                  <a:pt x="17182" y="1720"/>
                  <a:pt x="17205" y="1707"/>
                </a:cubicBezTo>
                <a:cubicBezTo>
                  <a:pt x="17232" y="1692"/>
                  <a:pt x="17242" y="1703"/>
                  <a:pt x="17264" y="1687"/>
                </a:cubicBezTo>
                <a:cubicBezTo>
                  <a:pt x="17296" y="1663"/>
                  <a:pt x="17307" y="1670"/>
                  <a:pt x="17324" y="1647"/>
                </a:cubicBezTo>
                <a:cubicBezTo>
                  <a:pt x="17327" y="1642"/>
                  <a:pt x="17367" y="1612"/>
                  <a:pt x="17383" y="1607"/>
                </a:cubicBezTo>
                <a:cubicBezTo>
                  <a:pt x="17390" y="1607"/>
                  <a:pt x="17396" y="1607"/>
                  <a:pt x="17403" y="1607"/>
                </a:cubicBezTo>
                <a:cubicBezTo>
                  <a:pt x="17340" y="1623"/>
                  <a:pt x="17383" y="1639"/>
                  <a:pt x="17363" y="1687"/>
                </a:cubicBezTo>
                <a:cubicBezTo>
                  <a:pt x="17351" y="1716"/>
                  <a:pt x="17289" y="1741"/>
                  <a:pt x="17264" y="1766"/>
                </a:cubicBezTo>
                <a:cubicBezTo>
                  <a:pt x="17241" y="1789"/>
                  <a:pt x="17212" y="1855"/>
                  <a:pt x="17185" y="1865"/>
                </a:cubicBezTo>
                <a:cubicBezTo>
                  <a:pt x="17118" y="1889"/>
                  <a:pt x="17139" y="1878"/>
                  <a:pt x="17105" y="1905"/>
                </a:cubicBezTo>
                <a:cubicBezTo>
                  <a:pt x="17076" y="1928"/>
                  <a:pt x="17088" y="1892"/>
                  <a:pt x="17066" y="1925"/>
                </a:cubicBezTo>
                <a:cubicBezTo>
                  <a:pt x="17085" y="1945"/>
                  <a:pt x="17098" y="1942"/>
                  <a:pt x="17145" y="1925"/>
                </a:cubicBezTo>
                <a:cubicBezTo>
                  <a:pt x="17181" y="1912"/>
                  <a:pt x="17302" y="1899"/>
                  <a:pt x="17324" y="1885"/>
                </a:cubicBezTo>
                <a:cubicBezTo>
                  <a:pt x="17368" y="1857"/>
                  <a:pt x="17394" y="1869"/>
                  <a:pt x="17443" y="1845"/>
                </a:cubicBezTo>
                <a:cubicBezTo>
                  <a:pt x="17449" y="1839"/>
                  <a:pt x="17456" y="1832"/>
                  <a:pt x="17462" y="1826"/>
                </a:cubicBezTo>
                <a:cubicBezTo>
                  <a:pt x="17418" y="1832"/>
                  <a:pt x="17421" y="1848"/>
                  <a:pt x="17383" y="1865"/>
                </a:cubicBezTo>
                <a:cubicBezTo>
                  <a:pt x="17338" y="1885"/>
                  <a:pt x="17290" y="1872"/>
                  <a:pt x="17244" y="1885"/>
                </a:cubicBezTo>
                <a:cubicBezTo>
                  <a:pt x="17192" y="1900"/>
                  <a:pt x="17152" y="1926"/>
                  <a:pt x="17105" y="1945"/>
                </a:cubicBezTo>
                <a:cubicBezTo>
                  <a:pt x="17069" y="1959"/>
                  <a:pt x="17060" y="1936"/>
                  <a:pt x="17026" y="1965"/>
                </a:cubicBezTo>
                <a:cubicBezTo>
                  <a:pt x="16990" y="1996"/>
                  <a:pt x="16980" y="2005"/>
                  <a:pt x="16947" y="2024"/>
                </a:cubicBezTo>
                <a:cubicBezTo>
                  <a:pt x="16909" y="2047"/>
                  <a:pt x="16927" y="2068"/>
                  <a:pt x="16907" y="2084"/>
                </a:cubicBezTo>
                <a:cubicBezTo>
                  <a:pt x="16886" y="2101"/>
                  <a:pt x="16874" y="2088"/>
                  <a:pt x="16847" y="2103"/>
                </a:cubicBezTo>
                <a:cubicBezTo>
                  <a:pt x="16817" y="2120"/>
                  <a:pt x="16782" y="2139"/>
                  <a:pt x="16748" y="2143"/>
                </a:cubicBezTo>
                <a:cubicBezTo>
                  <a:pt x="16728" y="2143"/>
                  <a:pt x="16721" y="2143"/>
                  <a:pt x="16708" y="2143"/>
                </a:cubicBezTo>
              </a:path>
              <a:path w="9407" h="4009">
                <a:moveTo>
                  <a:pt x="16788" y="1230"/>
                </a:moveTo>
                <a:cubicBezTo>
                  <a:pt x="16801" y="1243"/>
                  <a:pt x="16814" y="1257"/>
                  <a:pt x="16827" y="1270"/>
                </a:cubicBezTo>
                <a:cubicBezTo>
                  <a:pt x="16846" y="1289"/>
                  <a:pt x="16859" y="1276"/>
                  <a:pt x="16887" y="1290"/>
                </a:cubicBezTo>
                <a:cubicBezTo>
                  <a:pt x="16887" y="1290"/>
                  <a:pt x="16923" y="1326"/>
                  <a:pt x="16927" y="1330"/>
                </a:cubicBezTo>
                <a:cubicBezTo>
                  <a:pt x="16949" y="1352"/>
                  <a:pt x="16953" y="1332"/>
                  <a:pt x="16986" y="1349"/>
                </a:cubicBezTo>
                <a:cubicBezTo>
                  <a:pt x="17011" y="1361"/>
                  <a:pt x="17011" y="1369"/>
                  <a:pt x="17066" y="1369"/>
                </a:cubicBezTo>
                <a:cubicBezTo>
                  <a:pt x="17142" y="1369"/>
                  <a:pt x="17238" y="1380"/>
                  <a:pt x="17284" y="1389"/>
                </a:cubicBezTo>
                <a:cubicBezTo>
                  <a:pt x="17334" y="1399"/>
                  <a:pt x="17355" y="1386"/>
                  <a:pt x="17383" y="1409"/>
                </a:cubicBezTo>
                <a:cubicBezTo>
                  <a:pt x="17400" y="1423"/>
                  <a:pt x="17418" y="1444"/>
                  <a:pt x="17423" y="1468"/>
                </a:cubicBezTo>
                <a:cubicBezTo>
                  <a:pt x="17433" y="1516"/>
                  <a:pt x="17406" y="1570"/>
                  <a:pt x="17403" y="1587"/>
                </a:cubicBezTo>
                <a:cubicBezTo>
                  <a:pt x="17397" y="1619"/>
                  <a:pt x="17394" y="1638"/>
                  <a:pt x="17383" y="1667"/>
                </a:cubicBezTo>
                <a:cubicBezTo>
                  <a:pt x="17404" y="1646"/>
                  <a:pt x="17411" y="1674"/>
                  <a:pt x="17423" y="1647"/>
                </a:cubicBezTo>
                <a:cubicBezTo>
                  <a:pt x="17436" y="1619"/>
                  <a:pt x="17457" y="1616"/>
                  <a:pt x="17462" y="1607"/>
                </a:cubicBezTo>
                <a:cubicBezTo>
                  <a:pt x="17476" y="1578"/>
                  <a:pt x="17464" y="1570"/>
                  <a:pt x="17482" y="1548"/>
                </a:cubicBezTo>
                <a:cubicBezTo>
                  <a:pt x="17492" y="1536"/>
                  <a:pt x="17516" y="1517"/>
                  <a:pt x="17522" y="1508"/>
                </a:cubicBezTo>
                <a:cubicBezTo>
                  <a:pt x="17539" y="1482"/>
                  <a:pt x="17534" y="1484"/>
                  <a:pt x="17562" y="1468"/>
                </a:cubicBezTo>
                <a:cubicBezTo>
                  <a:pt x="17562" y="1494"/>
                  <a:pt x="17570" y="1483"/>
                  <a:pt x="17562" y="1508"/>
                </a:cubicBezTo>
                <a:cubicBezTo>
                  <a:pt x="17552" y="1541"/>
                  <a:pt x="17509" y="1553"/>
                  <a:pt x="17502" y="1568"/>
                </a:cubicBezTo>
                <a:cubicBezTo>
                  <a:pt x="17487" y="1598"/>
                  <a:pt x="17498" y="1607"/>
                  <a:pt x="17482" y="1627"/>
                </a:cubicBezTo>
                <a:cubicBezTo>
                  <a:pt x="17467" y="1645"/>
                  <a:pt x="17451" y="1664"/>
                  <a:pt x="17443" y="1707"/>
                </a:cubicBezTo>
                <a:cubicBezTo>
                  <a:pt x="17437" y="1736"/>
                  <a:pt x="17438" y="1762"/>
                  <a:pt x="17423" y="1786"/>
                </a:cubicBezTo>
                <a:cubicBezTo>
                  <a:pt x="17409" y="1809"/>
                  <a:pt x="17422" y="1787"/>
                  <a:pt x="17403" y="1806"/>
                </a:cubicBezTo>
                <a:cubicBezTo>
                  <a:pt x="17403" y="1744"/>
                  <a:pt x="17425" y="1739"/>
                  <a:pt x="17443" y="1687"/>
                </a:cubicBezTo>
                <a:cubicBezTo>
                  <a:pt x="17450" y="1667"/>
                  <a:pt x="17459" y="1605"/>
                  <a:pt x="17462" y="1587"/>
                </a:cubicBezTo>
                <a:cubicBezTo>
                  <a:pt x="17473" y="1521"/>
                  <a:pt x="17497" y="1504"/>
                  <a:pt x="17502" y="1449"/>
                </a:cubicBezTo>
                <a:cubicBezTo>
                  <a:pt x="17506" y="1406"/>
                  <a:pt x="17516" y="1371"/>
                  <a:pt x="17522" y="1330"/>
                </a:cubicBezTo>
                <a:cubicBezTo>
                  <a:pt x="17527" y="1297"/>
                  <a:pt x="17537" y="1280"/>
                  <a:pt x="17542" y="1250"/>
                </a:cubicBezTo>
                <a:cubicBezTo>
                  <a:pt x="17542" y="1230"/>
                  <a:pt x="17542" y="1223"/>
                  <a:pt x="17542" y="1210"/>
                </a:cubicBezTo>
                <a:cubicBezTo>
                  <a:pt x="17508" y="1227"/>
                  <a:pt x="17519" y="1227"/>
                  <a:pt x="17462" y="1230"/>
                </a:cubicBezTo>
                <a:cubicBezTo>
                  <a:pt x="17430" y="1232"/>
                  <a:pt x="17371" y="1236"/>
                  <a:pt x="17343" y="1250"/>
                </a:cubicBezTo>
                <a:cubicBezTo>
                  <a:pt x="17268" y="1286"/>
                  <a:pt x="17291" y="1283"/>
                  <a:pt x="17224" y="1290"/>
                </a:cubicBezTo>
                <a:cubicBezTo>
                  <a:pt x="17152" y="1297"/>
                  <a:pt x="16948" y="1290"/>
                  <a:pt x="16947" y="1290"/>
                </a:cubicBezTo>
                <a:cubicBezTo>
                  <a:pt x="16984" y="1309"/>
                  <a:pt x="16998" y="1308"/>
                  <a:pt x="17046" y="1310"/>
                </a:cubicBezTo>
                <a:cubicBezTo>
                  <a:pt x="17209" y="1318"/>
                  <a:pt x="17410" y="1304"/>
                  <a:pt x="17542" y="1330"/>
                </a:cubicBezTo>
                <a:cubicBezTo>
                  <a:pt x="17583" y="1338"/>
                  <a:pt x="17579" y="1332"/>
                  <a:pt x="17601" y="1349"/>
                </a:cubicBezTo>
                <a:cubicBezTo>
                  <a:pt x="17625" y="1368"/>
                  <a:pt x="17618" y="1366"/>
                  <a:pt x="17621" y="1409"/>
                </a:cubicBezTo>
                <a:cubicBezTo>
                  <a:pt x="17624" y="1455"/>
                  <a:pt x="17617" y="1467"/>
                  <a:pt x="17601" y="1488"/>
                </a:cubicBezTo>
                <a:cubicBezTo>
                  <a:pt x="17590" y="1502"/>
                  <a:pt x="17595" y="1534"/>
                  <a:pt x="17582" y="1548"/>
                </a:cubicBezTo>
                <a:cubicBezTo>
                  <a:pt x="17561" y="1571"/>
                  <a:pt x="17527" y="1594"/>
                  <a:pt x="17502" y="1627"/>
                </a:cubicBezTo>
                <a:cubicBezTo>
                  <a:pt x="17465" y="1677"/>
                  <a:pt x="17433" y="1731"/>
                  <a:pt x="17403" y="17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789360"/>
            <a:ext cx="849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Запомни правила противопожарной безопаснос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11280" y="333360"/>
            <a:ext cx="214956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ило 1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9079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 балуйся дома спичками и зажиг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11280" y="1989000"/>
            <a:ext cx="214956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ило 2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2637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ходя из комнаты или дома, не забывай выключать электроприб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4360" y="3789360"/>
            <a:ext cx="21492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ило 3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4437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и в коем случае не зажигай фейерверки, свечи или бенгальские огни дома (и вообще лучше это делать только со взрослы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499572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55640" y="404640"/>
            <a:ext cx="214956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ило 4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907920"/>
            <a:ext cx="7489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 суши над газом штаны после стирки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 то от штанов останутся дыр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15158" t="0" r="0" b="12778"/>
          <a:stretch/>
        </p:blipFill>
        <p:spPr>
          <a:xfrm>
            <a:off x="1943280" y="2205000"/>
            <a:ext cx="56149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755640" y="404640"/>
            <a:ext cx="214956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ило 5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907920"/>
            <a:ext cx="75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 отключив электроприбор,                            Можно остаться без новеньких штор.                 Шторы сперва задымят, а потом                    Вместе со шторами вспыхнет весь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14704" t="25691" r="19144" b="3670"/>
          <a:stretch/>
        </p:blipFill>
        <p:spPr>
          <a:xfrm>
            <a:off x="2195640" y="2421000"/>
            <a:ext cx="45482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835280" y="620640"/>
            <a:ext cx="5524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сли в доме начался пожа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15766" t="30999" r="12180" b="2141"/>
          <a:stretch/>
        </p:blipFill>
        <p:spPr>
          <a:xfrm>
            <a:off x="2340000" y="1268280"/>
            <a:ext cx="4210200" cy="5391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55640" y="1916280"/>
            <a:ext cx="82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равило 1: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Если огонь небольшой, можно попробовать сразу затушить его, набросив на него плотную ткань или одеяло или вылив кастрюлю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3068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равило 2: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Если огонь сразу не погас, немедленно убегай из дома в безопасное место. И только после этого звони в пожарную охрану по телефону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или попроси об этом сос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4508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равило 3: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Если не можешь убежать из горящей квартиры, сразу же позвони по телефону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и сообщи точный адрес пожарным. После этого зови из окна на помощь соседей и прохож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9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71640" y="333360"/>
            <a:ext cx="79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равило 4: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При пожаре дым гораздо опаснее огня. Если чувствуешь, что задыхаешься, опустись на корточки или продвигайся к выходу ползком – внизу дыма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2205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равило 5: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При пожаре в подъезде никогда не садись в лифт. Он может отключиться, и ты задохнёш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321300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равило 6: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Ожидая приезда пожарных, не теряй головы и не выпрыгивай из окна. Тебя обязательно спас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458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равило 7: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Когда приедут пожарные, во всём их слушайся и не бойся. Они лучше знают, как тебя сп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4869000"/>
            <a:ext cx="955800" cy="1076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rcRect l="20204" t="7545" r="10879" b="43407"/>
          <a:stretch/>
        </p:blipFill>
        <p:spPr>
          <a:xfrm>
            <a:off x="0" y="1484280"/>
            <a:ext cx="904716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492360" y="260280"/>
            <a:ext cx="220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ица 6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907920"/>
            <a:ext cx="76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«Игров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19890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оскажи словечк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249228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Раз, два, три, четыре – у кого пожар…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2360" y="2492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кварти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2997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ыма столб поднялся вдруг               Кто не выключил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76720" y="32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тю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07664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расный отблеск побежал,   Кто со спичкам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2360" y="422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гр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5229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олб огня чердак объял   Кто там спич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03640" y="551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жиг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2565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249228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093080" y="3068640"/>
            <a:ext cx="1085760" cy="1608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619280" y="476280"/>
            <a:ext cx="114768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16000" y="18900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ол и шкаф сгорели разом, Кто сушил бельё на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620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аз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119700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бежал пожар во двор     Это кто там жёг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51640" y="1557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стё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220500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мя прыгнуло в листву Кто у дома жёг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51640" y="2421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рав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76360" y="3284640"/>
            <a:ext cx="43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то бросал в огонь при этом Незнакомы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357336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ме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58920" y="443700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мни каждый гражданин Этот номе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80000" y="443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03280" y="566100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Дым увидел – не зевай       И пожарных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5950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зыв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51640" y="4221000"/>
            <a:ext cx="1474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6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63640" y="1057320"/>
            <a:ext cx="5880240" cy="5800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692360" y="62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Найди на рисунке все негорящие предм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605" t="0" r="0" b="0"/>
          <a:stretch/>
        </p:blipFill>
        <p:spPr>
          <a:xfrm>
            <a:off x="2700360" y="1908000"/>
            <a:ext cx="3282840" cy="4950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116000" y="260280"/>
            <a:ext cx="524052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oudy Stout"/>
              </a:rPr>
              <a:t>Огонь в нашей речи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205000"/>
            <a:ext cx="640584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916280"/>
            <a:ext cx="647856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В старину огонь был судьёй в сложных и запутанных де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Подозреваемый должен был пройти между двумя распол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женными близко друг к другу кострами. Если его одежда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загоралась, он считался невиновным. С тех пор о человек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которому с двух сторон угрожает опасность, говорят, что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находится 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Tahoma"/>
              </a:rPr>
              <a:t>между двух огней</a:t>
            </a: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Огонь стал для нас символом всего доброго и прекрас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Про никчёмного, мелкого человека, думающего только о с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бе, говорят, что 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Tahoma"/>
              </a:rPr>
              <a:t>он светит и не греет</a:t>
            </a: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Про добросовестного, хорошего работника говорят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cc"/>
                </a:solidFill>
                <a:uFillTx/>
                <a:latin typeface="Tahoma"/>
              </a:rPr>
              <a:t>трудится с огоньком</a:t>
            </a: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15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115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Знаешь ли ты, где в твоем доме и школе находятся элек­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трощиты, огнетушители, пожарные краны, как ими пользоваться при пожаре?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ассмотри внимательно рисунок и определи, какими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средствами пожаротушения ты воспользовался бы в каждом конкретном случае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9315" t="4179" r="17541" b="19010"/>
          <a:stretch/>
        </p:blipFill>
        <p:spPr>
          <a:xfrm>
            <a:off x="2124000" y="2133720"/>
            <a:ext cx="51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26920" y="404640"/>
            <a:ext cx="792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Пусть помнит каждый гражданин пожарный но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19280" y="22050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47640" y="2133720"/>
            <a:ext cx="56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2205000"/>
            <a:ext cx="3671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0" spc="-1" strike="noStrike">
                <a:solidFill>
                  <a:srgbClr val="ff0000"/>
                </a:solidFill>
                <a:latin typeface="Tahoma"/>
              </a:rPr>
              <a:t>0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3204" t="0" r="28038" b="35282"/>
          <a:stretch/>
        </p:blipFill>
        <p:spPr>
          <a:xfrm>
            <a:off x="1692360" y="2060640"/>
            <a:ext cx="534024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9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1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3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8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сточники информаци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842920" y="1988640"/>
            <a:ext cx="60102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ровая Л.Н., Жиренко О.Е., Барылкина Л.П., Обухова Л.А. Внеклассные мероприятия. 3 класс. – М.: ВАКО, 2004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ифология: в 2 кн. Саратов, изд-во Саратовского университета, 1993., под ред. Н.И. Девятайкин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Я познаю мир: Детская энциклопедия.:Изоб-ретения/ Ар.А.Леонович – М.: ООО «Издатель ство АСТ, 200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Основы безопасности жизнедеятельности 1 кл.: учебник – Усачёв А.А., Березин А.И. – 1-е издание – М.: Изд. АСТ, 199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ЭКМ – М.: 2007 (электронное издание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2602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8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3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58920" y="1125360"/>
            <a:ext cx="76658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ranti Solid LET"/>
              </a:rPr>
              <a:t>Появление огня в жизни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419640" y="189000"/>
            <a:ext cx="2133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ица 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95280" y="2276640"/>
            <a:ext cx="1771560" cy="1971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68360" y="2060640"/>
            <a:ext cx="65502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060640"/>
            <a:ext cx="65502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Rockwell Condensed"/>
              </a:rPr>
              <a:t>  </a:t>
            </a:r>
            <a:r>
              <a:rPr b="0" lang="ru-RU" sz="3200" spc="-1" strike="noStrike">
                <a:solidFill>
                  <a:srgbClr val="292929"/>
                </a:solidFill>
                <a:latin typeface="augie"/>
              </a:rPr>
              <a:t>Древнейшие следы применения огня найдены при раскопках стоянок синантропов и ниандертальцев. Вначале использовали природный огонь, возникший от молнии или самовозгорания органических остат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Rockwell Condense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Rockwell Condense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26247" t="27894" r="22497" b="24407"/>
          <a:stretch/>
        </p:blipFill>
        <p:spPr>
          <a:xfrm>
            <a:off x="108000" y="404640"/>
            <a:ext cx="3098880" cy="3102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2349360"/>
            <a:ext cx="48578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189000"/>
            <a:ext cx="543384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остоятельно добывать огонь человек научился около 100 тысяч лет назад. Способ добычи огня был примитивен: палочку тёрли о дощечку. Позже наловчились вращать палочку руками или тетивой лука. В углублениях образовывались нагретые опилки. Подкладывая сухой мох, раздували тлевшие опилки и получали пламя.                                                  Научившись получать огонь по своему желанию, человек смог развести костёр, приготовить пищу, обогреться, защитить своё жильё от хищ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22201" t="0" r="37009" b="27497"/>
          <a:stretch/>
        </p:blipFill>
        <p:spPr>
          <a:xfrm>
            <a:off x="611280" y="3933720"/>
            <a:ext cx="1984320" cy="2247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333360"/>
            <a:ext cx="88599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77929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гонь – учитель и дру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38512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Человек обмазал глиной плетёный сосуд и поставил поближе к огню, чтобы просох. Огонь сжёг прутья, но человек не расстроилась, потому что сосуд из глины был лучше. Он крепкий, лёгкий, и в нём можно хранить всё, что нужно. Так огонь научил человека делать керами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132000" y="260280"/>
            <a:ext cx="2187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ица 2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7197840" cy="41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771280" y="1989000"/>
            <a:ext cx="62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днажды человек развёл большой костёр и уснул возле него. А когда проснулся, увидел, как в огне какой-то камень раскалился, будто уголь, и вдруг потёк. Из него вытек огненный ручеёк, потом застыл и превратился в тяжёлую тёмную полосу. Человек попробовал сломать её, но она не поддавалась. А вот под каменным молотком полоса плющилась и меняла форму. Человек стал плавить в огне камни, которые ему встречались. «Растаявшими» камнями он заполнял углубления в земле в форме топоров и наконечников копий. Так огонь человек научил человека делать оруж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2548080" cy="2835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0" t="49512" r="55501" b="0"/>
          <a:stretch/>
        </p:blipFill>
        <p:spPr>
          <a:xfrm>
            <a:off x="395280" y="2565360"/>
            <a:ext cx="26701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771280" y="189000"/>
            <a:ext cx="62262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к-то раз человек ловил рыбу с плота и увидел дерево с выжженной серединой. У дерева осталась от ствола только полая колода с загнутыми краями. Она держалась на воде. Человек  сел в неё и стал разгребать руками воду. Колода поплыла туда, куда было нужно. Улов в этот день был особенно хорош.                                Вот так огонь научил человека делать лодк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24360" y="4869000"/>
            <a:ext cx="4227480" cy="1098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60000" t="52301" r="0" b="0"/>
          <a:stretch/>
        </p:blipFill>
        <p:spPr>
          <a:xfrm>
            <a:off x="250920" y="2421000"/>
            <a:ext cx="28177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419640" y="189000"/>
            <a:ext cx="22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ица 3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98100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90792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Огонь в древних миф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0920" y="2205000"/>
            <a:ext cx="3552840" cy="3954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65440" y="1700280"/>
            <a:ext cx="557856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ного даров преподнёс людям Прометей, но Зевс не хотел, чтобы люди были могущественны и независимы, боялся, что перестанут они приносить дары (жертвы) богам-олимпийцам. А тут ещё  и Прометей провёл его. Возник однажды спор, какие части тушки быка люди должны приносить в жертву богам. Рассудить попросили Прометея. Разделал он бычью тушу и разложил по двум мешкам: в один – всю мякоть, прикрыв сверху требухой, в другой – кости, спрятав их под толстым слоем жира. Соблазнился Зевс жиром и выбрал второй мешок. А как понял, что Прометей обманул его – пришёл в ярость. «Так пускай люди едят мясо сырым!» - воскликнул он и лишил их огня. Страшным было такое наказание, стали многие гибнуть от холода. Но не мог Прометей спокойно на это смот-реть и решил дать им огонь вопреки воле Зевса. Явился он на Олимп, опираясь на дорожный посох. Никто не обратил внимания на этот посох, и напрасно: был он изнутри пустым. Прометей незаметно наложил в него угольков и отнёс на землю. Вновь у людей был огон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4000" y="189000"/>
            <a:ext cx="2187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ица 4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98100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«Загадоч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rcRect l="57285" t="0" r="8858" b="41184"/>
          <a:stretch/>
        </p:blipFill>
        <p:spPr>
          <a:xfrm>
            <a:off x="6804000" y="0"/>
            <a:ext cx="2065320" cy="287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36674" t="44896" r="37059" b="0"/>
          <a:stretch/>
        </p:blipFill>
        <p:spPr>
          <a:xfrm>
            <a:off x="179280" y="2133720"/>
            <a:ext cx="18972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635280" y="4605480"/>
            <a:ext cx="1517760" cy="2252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323120" y="6014880"/>
            <a:ext cx="663480" cy="285840"/>
          </a:xfrm>
          <a:custGeom>
            <a:avLst/>
            <a:gdLst/>
            <a:ahLst/>
            <a:rect l="l" t="t" r="r" b="b"/>
            <a:pathLst>
              <a:path w="1846" h="795">
                <a:moveTo>
                  <a:pt x="22185" y="17423"/>
                </a:moveTo>
                <a:cubicBezTo>
                  <a:pt x="22051" y="17431"/>
                  <a:pt x="21938" y="17484"/>
                  <a:pt x="21808" y="17502"/>
                </a:cubicBezTo>
                <a:cubicBezTo>
                  <a:pt x="21669" y="17521"/>
                  <a:pt x="21343" y="17546"/>
                  <a:pt x="21213" y="17482"/>
                </a:cubicBezTo>
                <a:cubicBezTo>
                  <a:pt x="21179" y="17466"/>
                  <a:pt x="21146" y="17439"/>
                  <a:pt x="21114" y="17423"/>
                </a:cubicBezTo>
                <a:cubicBezTo>
                  <a:pt x="21066" y="17399"/>
                  <a:pt x="21094" y="17398"/>
                  <a:pt x="21074" y="17363"/>
                </a:cubicBezTo>
                <a:cubicBezTo>
                  <a:pt x="21059" y="17337"/>
                  <a:pt x="21059" y="17343"/>
                  <a:pt x="21054" y="17304"/>
                </a:cubicBezTo>
                <a:cubicBezTo>
                  <a:pt x="21048" y="17262"/>
                  <a:pt x="21040" y="17226"/>
                  <a:pt x="21034" y="17185"/>
                </a:cubicBezTo>
                <a:cubicBezTo>
                  <a:pt x="21022" y="17101"/>
                  <a:pt x="21027" y="17003"/>
                  <a:pt x="21015" y="16927"/>
                </a:cubicBezTo>
                <a:cubicBezTo>
                  <a:pt x="21004" y="16858"/>
                  <a:pt x="21015" y="16778"/>
                  <a:pt x="21015" y="16708"/>
                </a:cubicBezTo>
                <a:cubicBezTo>
                  <a:pt x="21002" y="16746"/>
                  <a:pt x="21010" y="16769"/>
                  <a:pt x="20975" y="16788"/>
                </a:cubicBezTo>
                <a:cubicBezTo>
                  <a:pt x="20957" y="16798"/>
                  <a:pt x="20878" y="16822"/>
                  <a:pt x="20856" y="16827"/>
                </a:cubicBezTo>
                <a:cubicBezTo>
                  <a:pt x="20746" y="16851"/>
                  <a:pt x="20604" y="16821"/>
                  <a:pt x="20499" y="16808"/>
                </a:cubicBezTo>
                <a:cubicBezTo>
                  <a:pt x="20464" y="16804"/>
                  <a:pt x="20408" y="16811"/>
                  <a:pt x="20380" y="16788"/>
                </a:cubicBezTo>
                <a:cubicBezTo>
                  <a:pt x="20373" y="16782"/>
                  <a:pt x="20355" y="16741"/>
                  <a:pt x="20340" y="16728"/>
                </a:cubicBezTo>
              </a:path>
            </a:pathLst>
          </a:custGeom>
          <a:noFill/>
          <a:ln cap="rnd" w="34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72280" y="4729320"/>
            <a:ext cx="1622520" cy="1836720"/>
          </a:xfrm>
          <a:custGeom>
            <a:avLst/>
            <a:gdLst/>
            <a:ahLst/>
            <a:rect l="l" t="t" r="r" b="b"/>
            <a:pathLst>
              <a:path w="4506" h="5100">
                <a:moveTo>
                  <a:pt x="20439" y="16788"/>
                </a:moveTo>
                <a:cubicBezTo>
                  <a:pt x="20385" y="16754"/>
                  <a:pt x="20331" y="16725"/>
                  <a:pt x="20280" y="16689"/>
                </a:cubicBezTo>
                <a:cubicBezTo>
                  <a:pt x="20223" y="16649"/>
                  <a:pt x="20152" y="16617"/>
                  <a:pt x="20102" y="16570"/>
                </a:cubicBezTo>
                <a:cubicBezTo>
                  <a:pt x="20068" y="16539"/>
                  <a:pt x="20046" y="16498"/>
                  <a:pt x="20022" y="16470"/>
                </a:cubicBezTo>
                <a:cubicBezTo>
                  <a:pt x="19991" y="16433"/>
                  <a:pt x="19958" y="16394"/>
                  <a:pt x="19943" y="16351"/>
                </a:cubicBezTo>
                <a:cubicBezTo>
                  <a:pt x="19931" y="16319"/>
                  <a:pt x="19926" y="16221"/>
                  <a:pt x="19923" y="16192"/>
                </a:cubicBezTo>
                <a:cubicBezTo>
                  <a:pt x="19909" y="16053"/>
                  <a:pt x="19905" y="15857"/>
                  <a:pt x="19963" y="15756"/>
                </a:cubicBezTo>
                <a:cubicBezTo>
                  <a:pt x="20011" y="15672"/>
                  <a:pt x="20098" y="15624"/>
                  <a:pt x="20181" y="15597"/>
                </a:cubicBezTo>
                <a:cubicBezTo>
                  <a:pt x="20188" y="15595"/>
                  <a:pt x="20211" y="15581"/>
                  <a:pt x="20241" y="15577"/>
                </a:cubicBezTo>
                <a:cubicBezTo>
                  <a:pt x="20340" y="15563"/>
                  <a:pt x="20452" y="15584"/>
                  <a:pt x="20538" y="15597"/>
                </a:cubicBezTo>
                <a:cubicBezTo>
                  <a:pt x="20576" y="15603"/>
                  <a:pt x="20580" y="15608"/>
                  <a:pt x="20618" y="15617"/>
                </a:cubicBezTo>
                <a:cubicBezTo>
                  <a:pt x="20607" y="15592"/>
                  <a:pt x="20591" y="15539"/>
                  <a:pt x="20578" y="15518"/>
                </a:cubicBezTo>
                <a:cubicBezTo>
                  <a:pt x="20541" y="15459"/>
                  <a:pt x="20497" y="15402"/>
                  <a:pt x="20479" y="15339"/>
                </a:cubicBezTo>
                <a:cubicBezTo>
                  <a:pt x="20459" y="15269"/>
                  <a:pt x="20464" y="15195"/>
                  <a:pt x="20459" y="15121"/>
                </a:cubicBezTo>
                <a:cubicBezTo>
                  <a:pt x="20448" y="14965"/>
                  <a:pt x="20441" y="14774"/>
                  <a:pt x="20479" y="14625"/>
                </a:cubicBezTo>
                <a:cubicBezTo>
                  <a:pt x="20502" y="14535"/>
                  <a:pt x="20547" y="14427"/>
                  <a:pt x="20598" y="14347"/>
                </a:cubicBezTo>
                <a:cubicBezTo>
                  <a:pt x="20654" y="14259"/>
                  <a:pt x="20713" y="14150"/>
                  <a:pt x="20776" y="14069"/>
                </a:cubicBezTo>
                <a:cubicBezTo>
                  <a:pt x="20841" y="13986"/>
                  <a:pt x="20928" y="13927"/>
                  <a:pt x="21015" y="13871"/>
                </a:cubicBezTo>
                <a:cubicBezTo>
                  <a:pt x="21086" y="13825"/>
                  <a:pt x="21180" y="13745"/>
                  <a:pt x="21253" y="13712"/>
                </a:cubicBezTo>
                <a:cubicBezTo>
                  <a:pt x="21313" y="13685"/>
                  <a:pt x="21387" y="13682"/>
                  <a:pt x="21451" y="13672"/>
                </a:cubicBezTo>
                <a:cubicBezTo>
                  <a:pt x="21543" y="13658"/>
                  <a:pt x="21657" y="13676"/>
                  <a:pt x="21709" y="13732"/>
                </a:cubicBezTo>
                <a:cubicBezTo>
                  <a:pt x="21749" y="13775"/>
                  <a:pt x="21718" y="13833"/>
                  <a:pt x="21729" y="13831"/>
                </a:cubicBezTo>
                <a:cubicBezTo>
                  <a:pt x="21765" y="13825"/>
                  <a:pt x="21837" y="13752"/>
                  <a:pt x="21868" y="13732"/>
                </a:cubicBezTo>
                <a:cubicBezTo>
                  <a:pt x="21983" y="13656"/>
                  <a:pt x="22084" y="13545"/>
                  <a:pt x="22205" y="13474"/>
                </a:cubicBezTo>
                <a:cubicBezTo>
                  <a:pt x="22326" y="13403"/>
                  <a:pt x="22468" y="13360"/>
                  <a:pt x="22602" y="13315"/>
                </a:cubicBezTo>
                <a:cubicBezTo>
                  <a:pt x="22757" y="13262"/>
                  <a:pt x="22937" y="13162"/>
                  <a:pt x="23098" y="13137"/>
                </a:cubicBezTo>
                <a:cubicBezTo>
                  <a:pt x="23266" y="13111"/>
                  <a:pt x="23666" y="13080"/>
                  <a:pt x="23812" y="13156"/>
                </a:cubicBezTo>
                <a:cubicBezTo>
                  <a:pt x="23853" y="13177"/>
                  <a:pt x="23918" y="13298"/>
                  <a:pt x="23932" y="13335"/>
                </a:cubicBezTo>
                <a:cubicBezTo>
                  <a:pt x="23965" y="13421"/>
                  <a:pt x="23960" y="13524"/>
                  <a:pt x="23971" y="13613"/>
                </a:cubicBezTo>
                <a:cubicBezTo>
                  <a:pt x="23981" y="13698"/>
                  <a:pt x="23984" y="13750"/>
                  <a:pt x="23971" y="13831"/>
                </a:cubicBezTo>
                <a:cubicBezTo>
                  <a:pt x="23958" y="13912"/>
                  <a:pt x="23935" y="13975"/>
                  <a:pt x="23892" y="14049"/>
                </a:cubicBezTo>
                <a:cubicBezTo>
                  <a:pt x="23855" y="14113"/>
                  <a:pt x="23813" y="14148"/>
                  <a:pt x="23753" y="14188"/>
                </a:cubicBezTo>
                <a:cubicBezTo>
                  <a:pt x="23717" y="14212"/>
                  <a:pt x="23684" y="14211"/>
                  <a:pt x="23654" y="14228"/>
                </a:cubicBezTo>
                <a:cubicBezTo>
                  <a:pt x="23631" y="14228"/>
                  <a:pt x="23623" y="14230"/>
                  <a:pt x="23614" y="14248"/>
                </a:cubicBezTo>
                <a:cubicBezTo>
                  <a:pt x="23641" y="14249"/>
                  <a:pt x="23627" y="14248"/>
                  <a:pt x="23654" y="14248"/>
                </a:cubicBezTo>
                <a:cubicBezTo>
                  <a:pt x="23752" y="14248"/>
                  <a:pt x="23857" y="14246"/>
                  <a:pt x="23951" y="14268"/>
                </a:cubicBezTo>
                <a:cubicBezTo>
                  <a:pt x="24053" y="14291"/>
                  <a:pt x="24197" y="14345"/>
                  <a:pt x="24269" y="14426"/>
                </a:cubicBezTo>
                <a:cubicBezTo>
                  <a:pt x="24302" y="14462"/>
                  <a:pt x="24320" y="14540"/>
                  <a:pt x="24348" y="14585"/>
                </a:cubicBezTo>
                <a:cubicBezTo>
                  <a:pt x="24378" y="14633"/>
                  <a:pt x="24417" y="14715"/>
                  <a:pt x="24428" y="14764"/>
                </a:cubicBezTo>
                <a:cubicBezTo>
                  <a:pt x="24462" y="14920"/>
                  <a:pt x="24446" y="15180"/>
                  <a:pt x="24388" y="15319"/>
                </a:cubicBezTo>
                <a:cubicBezTo>
                  <a:pt x="24353" y="15403"/>
                  <a:pt x="24284" y="15484"/>
                  <a:pt x="24229" y="15557"/>
                </a:cubicBezTo>
                <a:cubicBezTo>
                  <a:pt x="24176" y="15627"/>
                  <a:pt x="24117" y="15682"/>
                  <a:pt x="24051" y="15736"/>
                </a:cubicBezTo>
                <a:cubicBezTo>
                  <a:pt x="24038" y="15747"/>
                  <a:pt x="23928" y="15798"/>
                  <a:pt x="23932" y="15815"/>
                </a:cubicBezTo>
                <a:cubicBezTo>
                  <a:pt x="23944" y="15863"/>
                  <a:pt x="24007" y="15846"/>
                  <a:pt x="24031" y="15875"/>
                </a:cubicBezTo>
                <a:cubicBezTo>
                  <a:pt x="24067" y="15918"/>
                  <a:pt x="24114" y="15932"/>
                  <a:pt x="24150" y="15974"/>
                </a:cubicBezTo>
                <a:cubicBezTo>
                  <a:pt x="24174" y="16002"/>
                  <a:pt x="24216" y="16049"/>
                  <a:pt x="24229" y="16073"/>
                </a:cubicBezTo>
                <a:cubicBezTo>
                  <a:pt x="24243" y="16099"/>
                  <a:pt x="24252" y="16126"/>
                  <a:pt x="24269" y="16153"/>
                </a:cubicBezTo>
                <a:cubicBezTo>
                  <a:pt x="24279" y="16170"/>
                  <a:pt x="24325" y="16254"/>
                  <a:pt x="24328" y="16272"/>
                </a:cubicBezTo>
                <a:cubicBezTo>
                  <a:pt x="24345" y="16363"/>
                  <a:pt x="24338" y="16528"/>
                  <a:pt x="24309" y="16609"/>
                </a:cubicBezTo>
                <a:cubicBezTo>
                  <a:pt x="24291" y="16657"/>
                  <a:pt x="24223" y="16743"/>
                  <a:pt x="24190" y="16788"/>
                </a:cubicBezTo>
                <a:cubicBezTo>
                  <a:pt x="24145" y="16851"/>
                  <a:pt x="24079" y="16906"/>
                  <a:pt x="24031" y="16966"/>
                </a:cubicBezTo>
                <a:cubicBezTo>
                  <a:pt x="24001" y="17002"/>
                  <a:pt x="24002" y="17019"/>
                  <a:pt x="23971" y="17046"/>
                </a:cubicBezTo>
                <a:cubicBezTo>
                  <a:pt x="23936" y="17077"/>
                  <a:pt x="23907" y="17105"/>
                  <a:pt x="23872" y="17125"/>
                </a:cubicBezTo>
                <a:cubicBezTo>
                  <a:pt x="23822" y="17154"/>
                  <a:pt x="23749" y="17130"/>
                  <a:pt x="23733" y="17185"/>
                </a:cubicBezTo>
                <a:cubicBezTo>
                  <a:pt x="23723" y="17220"/>
                  <a:pt x="23750" y="17233"/>
                  <a:pt x="23753" y="17264"/>
                </a:cubicBezTo>
                <a:cubicBezTo>
                  <a:pt x="23756" y="17298"/>
                  <a:pt x="23807" y="17330"/>
                  <a:pt x="23812" y="17343"/>
                </a:cubicBezTo>
                <a:cubicBezTo>
                  <a:pt x="23826" y="17375"/>
                  <a:pt x="23838" y="17411"/>
                  <a:pt x="23852" y="17443"/>
                </a:cubicBezTo>
                <a:cubicBezTo>
                  <a:pt x="23857" y="17454"/>
                  <a:pt x="23886" y="17471"/>
                  <a:pt x="23892" y="17502"/>
                </a:cubicBezTo>
                <a:cubicBezTo>
                  <a:pt x="23912" y="17599"/>
                  <a:pt x="23909" y="17689"/>
                  <a:pt x="23932" y="17780"/>
                </a:cubicBezTo>
                <a:cubicBezTo>
                  <a:pt x="23946" y="17835"/>
                  <a:pt x="23953" y="17890"/>
                  <a:pt x="23971" y="17939"/>
                </a:cubicBezTo>
                <a:cubicBezTo>
                  <a:pt x="23989" y="17986"/>
                  <a:pt x="24014" y="18002"/>
                  <a:pt x="24031" y="18038"/>
                </a:cubicBezTo>
                <a:cubicBezTo>
                  <a:pt x="24046" y="18070"/>
                  <a:pt x="24059" y="18093"/>
                  <a:pt x="24070" y="18117"/>
                </a:cubicBezTo>
                <a:cubicBezTo>
                  <a:pt x="24082" y="18143"/>
                  <a:pt x="24137" y="18210"/>
                  <a:pt x="24130" y="18236"/>
                </a:cubicBezTo>
                <a:cubicBezTo>
                  <a:pt x="24129" y="18241"/>
                  <a:pt x="24052" y="18231"/>
                  <a:pt x="24051" y="18236"/>
                </a:cubicBezTo>
                <a:cubicBezTo>
                  <a:pt x="24047" y="18235"/>
                  <a:pt x="24013" y="18224"/>
                  <a:pt x="23991" y="18217"/>
                </a:cubicBezTo>
                <a:cubicBezTo>
                  <a:pt x="23966" y="18209"/>
                  <a:pt x="23956" y="18207"/>
                  <a:pt x="23932" y="18197"/>
                </a:cubicBezTo>
                <a:cubicBezTo>
                  <a:pt x="23882" y="18177"/>
                  <a:pt x="23842" y="18162"/>
                  <a:pt x="23793" y="18137"/>
                </a:cubicBezTo>
                <a:cubicBezTo>
                  <a:pt x="23746" y="18114"/>
                  <a:pt x="23703" y="18081"/>
                  <a:pt x="23654" y="18058"/>
                </a:cubicBezTo>
                <a:cubicBezTo>
                  <a:pt x="23623" y="18043"/>
                  <a:pt x="23584" y="18062"/>
                  <a:pt x="23555" y="18038"/>
                </a:cubicBezTo>
                <a:cubicBezTo>
                  <a:pt x="23533" y="18020"/>
                  <a:pt x="23616" y="18037"/>
                  <a:pt x="23594" y="18018"/>
                </a:cubicBezTo>
                <a:cubicBezTo>
                  <a:pt x="23548" y="17980"/>
                  <a:pt x="23489" y="17924"/>
                  <a:pt x="23455" y="17899"/>
                </a:cubicBezTo>
                <a:cubicBezTo>
                  <a:pt x="23438" y="17887"/>
                  <a:pt x="23439" y="17872"/>
                  <a:pt x="23416" y="17859"/>
                </a:cubicBezTo>
                <a:cubicBezTo>
                  <a:pt x="23392" y="17845"/>
                  <a:pt x="23377" y="17850"/>
                  <a:pt x="23356" y="17840"/>
                </a:cubicBezTo>
                <a:cubicBezTo>
                  <a:pt x="23331" y="17828"/>
                  <a:pt x="23303" y="17830"/>
                  <a:pt x="23277" y="17820"/>
                </a:cubicBezTo>
                <a:cubicBezTo>
                  <a:pt x="23233" y="17803"/>
                  <a:pt x="23241" y="17809"/>
                  <a:pt x="23197" y="17800"/>
                </a:cubicBezTo>
                <a:cubicBezTo>
                  <a:pt x="23165" y="17793"/>
                  <a:pt x="23181" y="17785"/>
                  <a:pt x="23138" y="17780"/>
                </a:cubicBezTo>
                <a:cubicBezTo>
                  <a:pt x="22989" y="17763"/>
                  <a:pt x="22861" y="17769"/>
                  <a:pt x="22721" y="17740"/>
                </a:cubicBezTo>
                <a:cubicBezTo>
                  <a:pt x="22681" y="17732"/>
                  <a:pt x="22657" y="17728"/>
                  <a:pt x="22622" y="17720"/>
                </a:cubicBezTo>
                <a:cubicBezTo>
                  <a:pt x="22583" y="17711"/>
                  <a:pt x="22473" y="17698"/>
                  <a:pt x="22443" y="17681"/>
                </a:cubicBezTo>
                <a:cubicBezTo>
                  <a:pt x="22407" y="17661"/>
                  <a:pt x="22345" y="17604"/>
                  <a:pt x="22324" y="17582"/>
                </a:cubicBezTo>
                <a:cubicBezTo>
                  <a:pt x="22316" y="17574"/>
                  <a:pt x="22292" y="17543"/>
                  <a:pt x="22285" y="17522"/>
                </a:cubicBezTo>
                <a:cubicBezTo>
                  <a:pt x="22276" y="17493"/>
                  <a:pt x="22261" y="17504"/>
                  <a:pt x="22265" y="17462"/>
                </a:cubicBezTo>
                <a:cubicBezTo>
                  <a:pt x="22270" y="17415"/>
                  <a:pt x="22353" y="17325"/>
                  <a:pt x="22384" y="17284"/>
                </a:cubicBezTo>
                <a:cubicBezTo>
                  <a:pt x="22449" y="17199"/>
                  <a:pt x="22546" y="17137"/>
                  <a:pt x="22602" y="17046"/>
                </a:cubicBezTo>
                <a:cubicBezTo>
                  <a:pt x="22633" y="16995"/>
                  <a:pt x="22665" y="16920"/>
                  <a:pt x="22681" y="16867"/>
                </a:cubicBezTo>
                <a:cubicBezTo>
                  <a:pt x="22686" y="16849"/>
                  <a:pt x="22675" y="16826"/>
                  <a:pt x="22681" y="16808"/>
                </a:cubicBezTo>
                <a:cubicBezTo>
                  <a:pt x="22659" y="16804"/>
                  <a:pt x="22694" y="16772"/>
                  <a:pt x="22602" y="16768"/>
                </a:cubicBezTo>
                <a:cubicBezTo>
                  <a:pt x="22489" y="16764"/>
                  <a:pt x="22038" y="16792"/>
                  <a:pt x="22027" y="16768"/>
                </a:cubicBezTo>
                <a:cubicBezTo>
                  <a:pt x="22014" y="16739"/>
                  <a:pt x="22123" y="16651"/>
                  <a:pt x="22126" y="16649"/>
                </a:cubicBezTo>
                <a:cubicBezTo>
                  <a:pt x="22356" y="16527"/>
                  <a:pt x="22635" y="16449"/>
                  <a:pt x="22880" y="16351"/>
                </a:cubicBezTo>
                <a:cubicBezTo>
                  <a:pt x="22988" y="16308"/>
                  <a:pt x="23313" y="16210"/>
                  <a:pt x="23197" y="16212"/>
                </a:cubicBezTo>
                <a:cubicBezTo>
                  <a:pt x="23129" y="16235"/>
                  <a:pt x="23102" y="16246"/>
                  <a:pt x="23058" y="16272"/>
                </a:cubicBezTo>
                <a:cubicBezTo>
                  <a:pt x="22912" y="16323"/>
                  <a:pt x="22770" y="16380"/>
                  <a:pt x="22622" y="16431"/>
                </a:cubicBezTo>
                <a:cubicBezTo>
                  <a:pt x="22466" y="16485"/>
                  <a:pt x="22106" y="16588"/>
                  <a:pt x="21987" y="16708"/>
                </a:cubicBezTo>
                <a:cubicBezTo>
                  <a:pt x="21952" y="16744"/>
                  <a:pt x="22056" y="16682"/>
                  <a:pt x="22106" y="16689"/>
                </a:cubicBezTo>
                <a:cubicBezTo>
                  <a:pt x="22279" y="16580"/>
                  <a:pt x="22449" y="16496"/>
                  <a:pt x="22642" y="16411"/>
                </a:cubicBezTo>
                <a:cubicBezTo>
                  <a:pt x="22858" y="16316"/>
                  <a:pt x="23070" y="16219"/>
                  <a:pt x="23277" y="16113"/>
                </a:cubicBezTo>
                <a:cubicBezTo>
                  <a:pt x="23165" y="16136"/>
                  <a:pt x="23164" y="16148"/>
                  <a:pt x="23058" y="16192"/>
                </a:cubicBezTo>
                <a:cubicBezTo>
                  <a:pt x="22834" y="16286"/>
                  <a:pt x="22612" y="16385"/>
                  <a:pt x="22384" y="16470"/>
                </a:cubicBezTo>
                <a:cubicBezTo>
                  <a:pt x="22236" y="16525"/>
                  <a:pt x="22041" y="16580"/>
                  <a:pt x="21907" y="16649"/>
                </a:cubicBezTo>
                <a:cubicBezTo>
                  <a:pt x="21907" y="16656"/>
                  <a:pt x="21907" y="16662"/>
                  <a:pt x="21907" y="16669"/>
                </a:cubicBezTo>
                <a:cubicBezTo>
                  <a:pt x="21947" y="16641"/>
                  <a:pt x="22000" y="16601"/>
                  <a:pt x="22046" y="16570"/>
                </a:cubicBezTo>
                <a:cubicBezTo>
                  <a:pt x="22225" y="16449"/>
                  <a:pt x="22411" y="16301"/>
                  <a:pt x="22602" y="16192"/>
                </a:cubicBezTo>
                <a:cubicBezTo>
                  <a:pt x="22960" y="15988"/>
                  <a:pt x="23393" y="15792"/>
                  <a:pt x="23773" y="15637"/>
                </a:cubicBezTo>
                <a:cubicBezTo>
                  <a:pt x="23832" y="15622"/>
                  <a:pt x="23838" y="15615"/>
                  <a:pt x="23872" y="15617"/>
                </a:cubicBezTo>
                <a:cubicBezTo>
                  <a:pt x="23677" y="15659"/>
                  <a:pt x="23487" y="15705"/>
                  <a:pt x="23297" y="15776"/>
                </a:cubicBezTo>
                <a:cubicBezTo>
                  <a:pt x="23030" y="15875"/>
                  <a:pt x="22747" y="15947"/>
                  <a:pt x="22483" y="16054"/>
                </a:cubicBezTo>
                <a:cubicBezTo>
                  <a:pt x="22444" y="16070"/>
                  <a:pt x="22267" y="16205"/>
                  <a:pt x="22384" y="16113"/>
                </a:cubicBezTo>
                <a:cubicBezTo>
                  <a:pt x="22504" y="16018"/>
                  <a:pt x="22658" y="15912"/>
                  <a:pt x="22800" y="15855"/>
                </a:cubicBezTo>
                <a:cubicBezTo>
                  <a:pt x="23012" y="15770"/>
                  <a:pt x="23228" y="15698"/>
                  <a:pt x="23435" y="15597"/>
                </a:cubicBezTo>
                <a:cubicBezTo>
                  <a:pt x="23435" y="15577"/>
                  <a:pt x="23435" y="15570"/>
                  <a:pt x="23455" y="15577"/>
                </a:cubicBezTo>
                <a:cubicBezTo>
                  <a:pt x="23391" y="15600"/>
                  <a:pt x="23325" y="15605"/>
                  <a:pt x="23257" y="15637"/>
                </a:cubicBezTo>
                <a:cubicBezTo>
                  <a:pt x="23036" y="15742"/>
                  <a:pt x="22809" y="15822"/>
                  <a:pt x="22582" y="15915"/>
                </a:cubicBezTo>
                <a:cubicBezTo>
                  <a:pt x="22375" y="15999"/>
                  <a:pt x="22160" y="16081"/>
                  <a:pt x="21947" y="16133"/>
                </a:cubicBezTo>
                <a:cubicBezTo>
                  <a:pt x="21934" y="16133"/>
                  <a:pt x="21920" y="16133"/>
                  <a:pt x="21907" y="16133"/>
                </a:cubicBezTo>
                <a:cubicBezTo>
                  <a:pt x="22036" y="16081"/>
                  <a:pt x="22173" y="16009"/>
                  <a:pt x="22304" y="15954"/>
                </a:cubicBezTo>
                <a:cubicBezTo>
                  <a:pt x="22629" y="15817"/>
                  <a:pt x="22966" y="15699"/>
                  <a:pt x="23297" y="15577"/>
                </a:cubicBezTo>
                <a:cubicBezTo>
                  <a:pt x="23313" y="15571"/>
                  <a:pt x="23441" y="15504"/>
                  <a:pt x="23455" y="15498"/>
                </a:cubicBezTo>
                <a:cubicBezTo>
                  <a:pt x="23299" y="15535"/>
                  <a:pt x="23141" y="15569"/>
                  <a:pt x="22979" y="15597"/>
                </a:cubicBezTo>
                <a:cubicBezTo>
                  <a:pt x="22156" y="15740"/>
                  <a:pt x="21264" y="15814"/>
                  <a:pt x="20479" y="16113"/>
                </a:cubicBezTo>
                <a:cubicBezTo>
                  <a:pt x="20314" y="16195"/>
                  <a:pt x="20284" y="16213"/>
                  <a:pt x="20181" y="16252"/>
                </a:cubicBezTo>
                <a:cubicBezTo>
                  <a:pt x="20343" y="16226"/>
                  <a:pt x="20514" y="16205"/>
                  <a:pt x="20677" y="16173"/>
                </a:cubicBezTo>
                <a:cubicBezTo>
                  <a:pt x="21487" y="16015"/>
                  <a:pt x="22308" y="15929"/>
                  <a:pt x="23118" y="15776"/>
                </a:cubicBezTo>
                <a:cubicBezTo>
                  <a:pt x="23366" y="15729"/>
                  <a:pt x="23552" y="15641"/>
                  <a:pt x="23753" y="15557"/>
                </a:cubicBezTo>
                <a:cubicBezTo>
                  <a:pt x="23616" y="15584"/>
                  <a:pt x="23475" y="15614"/>
                  <a:pt x="23336" y="15637"/>
                </a:cubicBezTo>
                <a:cubicBezTo>
                  <a:pt x="23020" y="15688"/>
                  <a:pt x="22747" y="15782"/>
                  <a:pt x="22443" y="15875"/>
                </a:cubicBezTo>
                <a:cubicBezTo>
                  <a:pt x="22205" y="15948"/>
                  <a:pt x="21975" y="15984"/>
                  <a:pt x="21749" y="16093"/>
                </a:cubicBezTo>
                <a:cubicBezTo>
                  <a:pt x="21736" y="16106"/>
                  <a:pt x="21722" y="16120"/>
                  <a:pt x="21709" y="16133"/>
                </a:cubicBezTo>
                <a:cubicBezTo>
                  <a:pt x="21801" y="16106"/>
                  <a:pt x="21891" y="16089"/>
                  <a:pt x="21987" y="16054"/>
                </a:cubicBezTo>
                <a:cubicBezTo>
                  <a:pt x="22262" y="15954"/>
                  <a:pt x="22528" y="15845"/>
                  <a:pt x="22800" y="15736"/>
                </a:cubicBezTo>
                <a:cubicBezTo>
                  <a:pt x="22853" y="15716"/>
                  <a:pt x="22906" y="15697"/>
                  <a:pt x="22959" y="15677"/>
                </a:cubicBezTo>
                <a:cubicBezTo>
                  <a:pt x="23321" y="15495"/>
                  <a:pt x="22769" y="15719"/>
                  <a:pt x="22721" y="15736"/>
                </a:cubicBezTo>
                <a:cubicBezTo>
                  <a:pt x="22313" y="15877"/>
                  <a:pt x="21885" y="15951"/>
                  <a:pt x="21471" y="16073"/>
                </a:cubicBezTo>
                <a:cubicBezTo>
                  <a:pt x="21447" y="16080"/>
                  <a:pt x="21135" y="16158"/>
                  <a:pt x="21193" y="16192"/>
                </a:cubicBezTo>
                <a:cubicBezTo>
                  <a:pt x="21285" y="16247"/>
                  <a:pt x="21593" y="16144"/>
                  <a:pt x="21669" y="16133"/>
                </a:cubicBezTo>
                <a:cubicBezTo>
                  <a:pt x="22020" y="16080"/>
                  <a:pt x="22369" y="16018"/>
                  <a:pt x="22721" y="15994"/>
                </a:cubicBezTo>
                <a:cubicBezTo>
                  <a:pt x="22800" y="15978"/>
                  <a:pt x="22853" y="15971"/>
                  <a:pt x="22781" y="15974"/>
                </a:cubicBezTo>
                <a:cubicBezTo>
                  <a:pt x="22561" y="15992"/>
                  <a:pt x="22345" y="16016"/>
                  <a:pt x="22126" y="16054"/>
                </a:cubicBezTo>
                <a:cubicBezTo>
                  <a:pt x="21902" y="16093"/>
                  <a:pt x="21671" y="16111"/>
                  <a:pt x="21451" y="16153"/>
                </a:cubicBezTo>
                <a:cubicBezTo>
                  <a:pt x="21425" y="16158"/>
                  <a:pt x="21296" y="16208"/>
                  <a:pt x="21392" y="16173"/>
                </a:cubicBezTo>
                <a:cubicBezTo>
                  <a:pt x="21611" y="16094"/>
                  <a:pt x="21887" y="16078"/>
                  <a:pt x="22086" y="15954"/>
                </a:cubicBezTo>
                <a:cubicBezTo>
                  <a:pt x="22243" y="15856"/>
                  <a:pt x="22168" y="15906"/>
                  <a:pt x="22027" y="15895"/>
                </a:cubicBezTo>
                <a:cubicBezTo>
                  <a:pt x="21629" y="15863"/>
                  <a:pt x="21216" y="15895"/>
                  <a:pt x="20816" y="15895"/>
                </a:cubicBezTo>
                <a:cubicBezTo>
                  <a:pt x="20793" y="15898"/>
                  <a:pt x="20473" y="15904"/>
                  <a:pt x="20677" y="15915"/>
                </a:cubicBezTo>
                <a:cubicBezTo>
                  <a:pt x="20710" y="15915"/>
                  <a:pt x="20743" y="15915"/>
                  <a:pt x="20776" y="15915"/>
                </a:cubicBezTo>
                <a:cubicBezTo>
                  <a:pt x="21071" y="15873"/>
                  <a:pt x="21378" y="15857"/>
                  <a:pt x="21669" y="15796"/>
                </a:cubicBezTo>
                <a:cubicBezTo>
                  <a:pt x="21914" y="15745"/>
                  <a:pt x="22561" y="15523"/>
                  <a:pt x="22364" y="15677"/>
                </a:cubicBezTo>
                <a:cubicBezTo>
                  <a:pt x="22286" y="15702"/>
                  <a:pt x="22247" y="15711"/>
                  <a:pt x="22185" y="15716"/>
                </a:cubicBezTo>
                <a:cubicBezTo>
                  <a:pt x="21627" y="15838"/>
                  <a:pt x="20992" y="15838"/>
                  <a:pt x="20479" y="16054"/>
                </a:cubicBezTo>
                <a:cubicBezTo>
                  <a:pt x="20472" y="16054"/>
                  <a:pt x="20466" y="16054"/>
                  <a:pt x="20459" y="16054"/>
                </a:cubicBezTo>
                <a:cubicBezTo>
                  <a:pt x="20555" y="16060"/>
                  <a:pt x="20641" y="16074"/>
                  <a:pt x="20757" y="16054"/>
                </a:cubicBezTo>
                <a:cubicBezTo>
                  <a:pt x="20989" y="16015"/>
                  <a:pt x="21219" y="15957"/>
                  <a:pt x="21451" y="15915"/>
                </a:cubicBezTo>
                <a:cubicBezTo>
                  <a:pt x="21518" y="15903"/>
                  <a:pt x="21678" y="15895"/>
                  <a:pt x="21610" y="15895"/>
                </a:cubicBezTo>
                <a:cubicBezTo>
                  <a:pt x="21482" y="15895"/>
                  <a:pt x="21394" y="15939"/>
                  <a:pt x="21272" y="15974"/>
                </a:cubicBezTo>
                <a:cubicBezTo>
                  <a:pt x="21126" y="16016"/>
                  <a:pt x="20947" y="16055"/>
                  <a:pt x="20816" y="16133"/>
                </a:cubicBezTo>
                <a:cubicBezTo>
                  <a:pt x="20804" y="16140"/>
                  <a:pt x="20682" y="16179"/>
                  <a:pt x="20717" y="16232"/>
                </a:cubicBezTo>
                <a:cubicBezTo>
                  <a:pt x="20774" y="16319"/>
                  <a:pt x="21358" y="16143"/>
                  <a:pt x="21431" y="16133"/>
                </a:cubicBezTo>
                <a:cubicBezTo>
                  <a:pt x="21497" y="16126"/>
                  <a:pt x="21564" y="16120"/>
                  <a:pt x="21630" y="16113"/>
                </a:cubicBezTo>
                <a:cubicBezTo>
                  <a:pt x="21734" y="16078"/>
                  <a:pt x="21758" y="16065"/>
                  <a:pt x="21828" y="16073"/>
                </a:cubicBezTo>
                <a:cubicBezTo>
                  <a:pt x="21573" y="16080"/>
                  <a:pt x="21326" y="16114"/>
                  <a:pt x="21074" y="16153"/>
                </a:cubicBezTo>
                <a:cubicBezTo>
                  <a:pt x="20867" y="16185"/>
                  <a:pt x="20281" y="16162"/>
                  <a:pt x="20459" y="16272"/>
                </a:cubicBezTo>
                <a:cubicBezTo>
                  <a:pt x="20493" y="16293"/>
                  <a:pt x="20498" y="16274"/>
                  <a:pt x="20538" y="16272"/>
                </a:cubicBezTo>
                <a:cubicBezTo>
                  <a:pt x="20683" y="16264"/>
                  <a:pt x="21063" y="16299"/>
                  <a:pt x="21173" y="16212"/>
                </a:cubicBezTo>
                <a:cubicBezTo>
                  <a:pt x="21241" y="16158"/>
                  <a:pt x="21121" y="16194"/>
                  <a:pt x="21054" y="16192"/>
                </a:cubicBezTo>
                <a:cubicBezTo>
                  <a:pt x="20781" y="16182"/>
                  <a:pt x="20506" y="16179"/>
                  <a:pt x="20241" y="16232"/>
                </a:cubicBezTo>
                <a:cubicBezTo>
                  <a:pt x="20169" y="16251"/>
                  <a:pt x="20128" y="16257"/>
                  <a:pt x="20062" y="16272"/>
                </a:cubicBezTo>
                <a:cubicBezTo>
                  <a:pt x="20167" y="16261"/>
                  <a:pt x="20276" y="16266"/>
                  <a:pt x="20380" y="16252"/>
                </a:cubicBezTo>
                <a:cubicBezTo>
                  <a:pt x="20502" y="16235"/>
                  <a:pt x="20630" y="16222"/>
                  <a:pt x="20737" y="16173"/>
                </a:cubicBezTo>
                <a:cubicBezTo>
                  <a:pt x="20767" y="16159"/>
                  <a:pt x="20650" y="16192"/>
                  <a:pt x="20677" y="16173"/>
                </a:cubicBezTo>
                <a:cubicBezTo>
                  <a:pt x="20712" y="16149"/>
                  <a:pt x="20623" y="16252"/>
                  <a:pt x="20637" y="16212"/>
                </a:cubicBezTo>
                <a:cubicBezTo>
                  <a:pt x="20650" y="16199"/>
                  <a:pt x="20664" y="16186"/>
                  <a:pt x="20677" y="16173"/>
                </a:cubicBezTo>
                <a:cubicBezTo>
                  <a:pt x="20728" y="16149"/>
                  <a:pt x="20890" y="16149"/>
                  <a:pt x="20836" y="16133"/>
                </a:cubicBezTo>
                <a:cubicBezTo>
                  <a:pt x="20739" y="16105"/>
                  <a:pt x="20241" y="16152"/>
                  <a:pt x="20241" y="16133"/>
                </a:cubicBezTo>
                <a:cubicBezTo>
                  <a:pt x="20241" y="16059"/>
                  <a:pt x="20330" y="16095"/>
                  <a:pt x="20360" y="16054"/>
                </a:cubicBezTo>
                <a:cubicBezTo>
                  <a:pt x="20376" y="16032"/>
                  <a:pt x="20316" y="16045"/>
                  <a:pt x="20340" y="16034"/>
                </a:cubicBezTo>
                <a:cubicBezTo>
                  <a:pt x="20379" y="16016"/>
                  <a:pt x="20379" y="16010"/>
                  <a:pt x="20419" y="15994"/>
                </a:cubicBezTo>
                <a:cubicBezTo>
                  <a:pt x="20425" y="15992"/>
                  <a:pt x="20690" y="15908"/>
                  <a:pt x="20677" y="15895"/>
                </a:cubicBezTo>
                <a:cubicBezTo>
                  <a:pt x="20603" y="15820"/>
                  <a:pt x="20291" y="15933"/>
                  <a:pt x="20201" y="15915"/>
                </a:cubicBezTo>
                <a:cubicBezTo>
                  <a:pt x="20151" y="15905"/>
                  <a:pt x="20249" y="15921"/>
                  <a:pt x="20260" y="15915"/>
                </a:cubicBezTo>
                <a:cubicBezTo>
                  <a:pt x="20418" y="15836"/>
                  <a:pt x="20586" y="15857"/>
                  <a:pt x="20757" y="15835"/>
                </a:cubicBezTo>
                <a:cubicBezTo>
                  <a:pt x="20797" y="15828"/>
                  <a:pt x="20836" y="15822"/>
                  <a:pt x="20876" y="15815"/>
                </a:cubicBezTo>
                <a:cubicBezTo>
                  <a:pt x="20830" y="15822"/>
                  <a:pt x="20981" y="15815"/>
                  <a:pt x="20935" y="15815"/>
                </a:cubicBezTo>
                <a:cubicBezTo>
                  <a:pt x="20890" y="15815"/>
                  <a:pt x="20768" y="15835"/>
                  <a:pt x="20757" y="15835"/>
                </a:cubicBezTo>
                <a:cubicBezTo>
                  <a:pt x="20713" y="15833"/>
                  <a:pt x="20672" y="15815"/>
                  <a:pt x="20637" y="15815"/>
                </a:cubicBezTo>
                <a:cubicBezTo>
                  <a:pt x="20559" y="15815"/>
                  <a:pt x="20424" y="15834"/>
                  <a:pt x="20380" y="15796"/>
                </a:cubicBezTo>
                <a:cubicBezTo>
                  <a:pt x="20358" y="15777"/>
                  <a:pt x="20458" y="15778"/>
                  <a:pt x="20439" y="15756"/>
                </a:cubicBezTo>
                <a:cubicBezTo>
                  <a:pt x="20550" y="15735"/>
                  <a:pt x="20644" y="15726"/>
                  <a:pt x="20757" y="15716"/>
                </a:cubicBezTo>
                <a:cubicBezTo>
                  <a:pt x="20859" y="15707"/>
                  <a:pt x="21034" y="15642"/>
                  <a:pt x="21134" y="15677"/>
                </a:cubicBezTo>
                <a:cubicBezTo>
                  <a:pt x="21164" y="15688"/>
                  <a:pt x="21071" y="15673"/>
                  <a:pt x="21094" y="15696"/>
                </a:cubicBezTo>
                <a:cubicBezTo>
                  <a:pt x="21115" y="15717"/>
                  <a:pt x="21026" y="15746"/>
                  <a:pt x="21054" y="15756"/>
                </a:cubicBezTo>
                <a:cubicBezTo>
                  <a:pt x="21099" y="15772"/>
                  <a:pt x="21106" y="15769"/>
                  <a:pt x="21153" y="15776"/>
                </a:cubicBezTo>
                <a:cubicBezTo>
                  <a:pt x="21462" y="15822"/>
                  <a:pt x="21946" y="15776"/>
                  <a:pt x="22185" y="15776"/>
                </a:cubicBezTo>
                <a:cubicBezTo>
                  <a:pt x="22098" y="15762"/>
                  <a:pt x="22019" y="15741"/>
                  <a:pt x="21927" y="15736"/>
                </a:cubicBezTo>
                <a:cubicBezTo>
                  <a:pt x="21755" y="15726"/>
                  <a:pt x="21279" y="15736"/>
                  <a:pt x="21451" y="15736"/>
                </a:cubicBezTo>
                <a:cubicBezTo>
                  <a:pt x="21998" y="15736"/>
                  <a:pt x="22536" y="15700"/>
                  <a:pt x="23078" y="15617"/>
                </a:cubicBezTo>
                <a:cubicBezTo>
                  <a:pt x="23384" y="15570"/>
                  <a:pt x="23689" y="15505"/>
                  <a:pt x="23991" y="15438"/>
                </a:cubicBezTo>
                <a:cubicBezTo>
                  <a:pt x="23849" y="15381"/>
                  <a:pt x="23877" y="15366"/>
                  <a:pt x="23674" y="15359"/>
                </a:cubicBezTo>
                <a:cubicBezTo>
                  <a:pt x="22819" y="15330"/>
                  <a:pt x="21923" y="15304"/>
                  <a:pt x="21074" y="15419"/>
                </a:cubicBezTo>
                <a:cubicBezTo>
                  <a:pt x="20886" y="15444"/>
                  <a:pt x="20842" y="15491"/>
                  <a:pt x="20717" y="15557"/>
                </a:cubicBezTo>
                <a:cubicBezTo>
                  <a:pt x="20731" y="15559"/>
                  <a:pt x="20883" y="15595"/>
                  <a:pt x="20955" y="15597"/>
                </a:cubicBezTo>
                <a:cubicBezTo>
                  <a:pt x="21516" y="15612"/>
                  <a:pt x="22102" y="15630"/>
                  <a:pt x="22642" y="15518"/>
                </a:cubicBezTo>
                <a:cubicBezTo>
                  <a:pt x="22402" y="15523"/>
                  <a:pt x="22184" y="15574"/>
                  <a:pt x="21947" y="15597"/>
                </a:cubicBezTo>
                <a:cubicBezTo>
                  <a:pt x="21725" y="15618"/>
                  <a:pt x="21516" y="15621"/>
                  <a:pt x="21332" y="15776"/>
                </a:cubicBezTo>
                <a:cubicBezTo>
                  <a:pt x="21202" y="15885"/>
                  <a:pt x="21267" y="15848"/>
                  <a:pt x="21352" y="15875"/>
                </a:cubicBezTo>
                <a:cubicBezTo>
                  <a:pt x="21701" y="15985"/>
                  <a:pt x="22276" y="15854"/>
                  <a:pt x="22622" y="15796"/>
                </a:cubicBezTo>
                <a:cubicBezTo>
                  <a:pt x="22688" y="15783"/>
                  <a:pt x="22754" y="15769"/>
                  <a:pt x="22820" y="15756"/>
                </a:cubicBezTo>
                <a:cubicBezTo>
                  <a:pt x="22860" y="15743"/>
                  <a:pt x="22899" y="15729"/>
                  <a:pt x="22939" y="15716"/>
                </a:cubicBezTo>
                <a:cubicBezTo>
                  <a:pt x="22884" y="15710"/>
                  <a:pt x="22876" y="15699"/>
                  <a:pt x="22820" y="15696"/>
                </a:cubicBezTo>
                <a:cubicBezTo>
                  <a:pt x="22208" y="15667"/>
                  <a:pt x="21570" y="15677"/>
                  <a:pt x="20975" y="15835"/>
                </a:cubicBezTo>
                <a:cubicBezTo>
                  <a:pt x="20866" y="15864"/>
                  <a:pt x="20775" y="15936"/>
                  <a:pt x="20717" y="15974"/>
                </a:cubicBezTo>
                <a:cubicBezTo>
                  <a:pt x="20815" y="15983"/>
                  <a:pt x="20944" y="15993"/>
                  <a:pt x="21054" y="15994"/>
                </a:cubicBezTo>
                <a:cubicBezTo>
                  <a:pt x="21667" y="16000"/>
                  <a:pt x="22242" y="15953"/>
                  <a:pt x="22840" y="15815"/>
                </a:cubicBezTo>
                <a:cubicBezTo>
                  <a:pt x="23042" y="15768"/>
                  <a:pt x="23003" y="15732"/>
                  <a:pt x="23058" y="15677"/>
                </a:cubicBezTo>
                <a:cubicBezTo>
                  <a:pt x="22929" y="15659"/>
                  <a:pt x="22779" y="15637"/>
                  <a:pt x="22622" y="15637"/>
                </a:cubicBezTo>
                <a:cubicBezTo>
                  <a:pt x="22230" y="15637"/>
                  <a:pt x="21857" y="15626"/>
                  <a:pt x="21471" y="15696"/>
                </a:cubicBezTo>
                <a:cubicBezTo>
                  <a:pt x="21229" y="15740"/>
                  <a:pt x="20832" y="15740"/>
                  <a:pt x="20618" y="15875"/>
                </a:cubicBezTo>
                <a:cubicBezTo>
                  <a:pt x="20587" y="15906"/>
                  <a:pt x="20573" y="15908"/>
                  <a:pt x="20578" y="15935"/>
                </a:cubicBezTo>
                <a:cubicBezTo>
                  <a:pt x="20675" y="15949"/>
                  <a:pt x="20841" y="15974"/>
                  <a:pt x="20975" y="15974"/>
                </a:cubicBezTo>
                <a:cubicBezTo>
                  <a:pt x="21423" y="15974"/>
                  <a:pt x="21842" y="15927"/>
                  <a:pt x="22285" y="15855"/>
                </a:cubicBezTo>
                <a:cubicBezTo>
                  <a:pt x="22686" y="15790"/>
                  <a:pt x="23066" y="15717"/>
                  <a:pt x="23435" y="15577"/>
                </a:cubicBezTo>
                <a:cubicBezTo>
                  <a:pt x="23429" y="15577"/>
                  <a:pt x="23422" y="15577"/>
                  <a:pt x="23416" y="15577"/>
                </a:cubicBezTo>
                <a:cubicBezTo>
                  <a:pt x="23048" y="15523"/>
                  <a:pt x="22678" y="15538"/>
                  <a:pt x="22304" y="15538"/>
                </a:cubicBezTo>
                <a:cubicBezTo>
                  <a:pt x="21860" y="15538"/>
                  <a:pt x="21431" y="15549"/>
                  <a:pt x="20995" y="15637"/>
                </a:cubicBezTo>
                <a:cubicBezTo>
                  <a:pt x="20837" y="15669"/>
                  <a:pt x="20800" y="15725"/>
                  <a:pt x="20697" y="15796"/>
                </a:cubicBezTo>
                <a:cubicBezTo>
                  <a:pt x="20765" y="15806"/>
                  <a:pt x="20832" y="15831"/>
                  <a:pt x="20915" y="15835"/>
                </a:cubicBezTo>
                <a:cubicBezTo>
                  <a:pt x="21429" y="15863"/>
                  <a:pt x="21938" y="15802"/>
                  <a:pt x="22443" y="15716"/>
                </a:cubicBezTo>
                <a:cubicBezTo>
                  <a:pt x="22660" y="15679"/>
                  <a:pt x="22822" y="15619"/>
                  <a:pt x="23019" y="15557"/>
                </a:cubicBezTo>
                <a:cubicBezTo>
                  <a:pt x="22457" y="15557"/>
                  <a:pt x="21899" y="15559"/>
                  <a:pt x="21352" y="15677"/>
                </a:cubicBezTo>
                <a:cubicBezTo>
                  <a:pt x="21233" y="15703"/>
                  <a:pt x="21098" y="15719"/>
                  <a:pt x="21272" y="15736"/>
                </a:cubicBezTo>
                <a:cubicBezTo>
                  <a:pt x="21506" y="15758"/>
                  <a:pt x="21759" y="15746"/>
                  <a:pt x="21987" y="15696"/>
                </a:cubicBezTo>
                <a:cubicBezTo>
                  <a:pt x="22216" y="15634"/>
                  <a:pt x="22301" y="15612"/>
                  <a:pt x="22463" y="15597"/>
                </a:cubicBezTo>
              </a:path>
            </a:pathLst>
          </a:custGeom>
          <a:noFill/>
          <a:ln cap="rnd" w="34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07160" y="4653000"/>
            <a:ext cx="1536840" cy="550800"/>
          </a:xfrm>
          <a:custGeom>
            <a:avLst/>
            <a:gdLst/>
            <a:ahLst/>
            <a:rect l="l" t="t" r="r" b="b"/>
            <a:pathLst>
              <a:path w="4268" h="1529">
                <a:moveTo>
                  <a:pt x="22582" y="15835"/>
                </a:moveTo>
                <a:cubicBezTo>
                  <a:pt x="22616" y="15824"/>
                  <a:pt x="22616" y="15821"/>
                  <a:pt x="22642" y="15815"/>
                </a:cubicBezTo>
                <a:cubicBezTo>
                  <a:pt x="22672" y="15808"/>
                  <a:pt x="22711" y="15807"/>
                  <a:pt x="22741" y="15796"/>
                </a:cubicBezTo>
                <a:cubicBezTo>
                  <a:pt x="22843" y="15759"/>
                  <a:pt x="22954" y="15716"/>
                  <a:pt x="23058" y="15677"/>
                </a:cubicBezTo>
                <a:cubicBezTo>
                  <a:pt x="23089" y="15666"/>
                  <a:pt x="23172" y="15638"/>
                  <a:pt x="23197" y="15617"/>
                </a:cubicBezTo>
                <a:cubicBezTo>
                  <a:pt x="23213" y="15603"/>
                  <a:pt x="23236" y="15539"/>
                  <a:pt x="23237" y="15538"/>
                </a:cubicBezTo>
                <a:cubicBezTo>
                  <a:pt x="23254" y="15528"/>
                  <a:pt x="23296" y="15525"/>
                  <a:pt x="23316" y="15518"/>
                </a:cubicBezTo>
                <a:cubicBezTo>
                  <a:pt x="23339" y="15510"/>
                  <a:pt x="23369" y="15501"/>
                  <a:pt x="23376" y="15498"/>
                </a:cubicBezTo>
                <a:cubicBezTo>
                  <a:pt x="23403" y="15486"/>
                  <a:pt x="23401" y="15490"/>
                  <a:pt x="23435" y="15478"/>
                </a:cubicBezTo>
                <a:cubicBezTo>
                  <a:pt x="23460" y="15469"/>
                  <a:pt x="23535" y="15464"/>
                  <a:pt x="23535" y="15438"/>
                </a:cubicBezTo>
                <a:cubicBezTo>
                  <a:pt x="23535" y="15433"/>
                  <a:pt x="23545" y="15444"/>
                  <a:pt x="23495" y="15438"/>
                </a:cubicBezTo>
                <a:cubicBezTo>
                  <a:pt x="23306" y="15413"/>
                  <a:pt x="23080" y="15430"/>
                  <a:pt x="22900" y="15419"/>
                </a:cubicBezTo>
                <a:cubicBezTo>
                  <a:pt x="22576" y="15400"/>
                  <a:pt x="22200" y="15418"/>
                  <a:pt x="21907" y="15438"/>
                </a:cubicBezTo>
                <a:cubicBezTo>
                  <a:pt x="21809" y="15445"/>
                  <a:pt x="21720" y="15441"/>
                  <a:pt x="21630" y="15458"/>
                </a:cubicBezTo>
                <a:cubicBezTo>
                  <a:pt x="21584" y="15467"/>
                  <a:pt x="21538" y="15475"/>
                  <a:pt x="21491" y="15478"/>
                </a:cubicBezTo>
                <a:cubicBezTo>
                  <a:pt x="21434" y="15482"/>
                  <a:pt x="21359" y="15495"/>
                  <a:pt x="21312" y="15498"/>
                </a:cubicBezTo>
                <a:cubicBezTo>
                  <a:pt x="21265" y="15501"/>
                  <a:pt x="21209" y="15515"/>
                  <a:pt x="21173" y="15518"/>
                </a:cubicBezTo>
                <a:cubicBezTo>
                  <a:pt x="21120" y="15523"/>
                  <a:pt x="21083" y="15529"/>
                  <a:pt x="21034" y="15538"/>
                </a:cubicBezTo>
                <a:cubicBezTo>
                  <a:pt x="21008" y="15557"/>
                  <a:pt x="20923" y="15554"/>
                  <a:pt x="20955" y="15557"/>
                </a:cubicBezTo>
                <a:cubicBezTo>
                  <a:pt x="21568" y="15620"/>
                  <a:pt x="22206" y="15538"/>
                  <a:pt x="22820" y="15577"/>
                </a:cubicBezTo>
                <a:cubicBezTo>
                  <a:pt x="22839" y="15578"/>
                  <a:pt x="23005" y="15573"/>
                  <a:pt x="22959" y="15577"/>
                </a:cubicBezTo>
                <a:cubicBezTo>
                  <a:pt x="22658" y="15604"/>
                  <a:pt x="22341" y="15542"/>
                  <a:pt x="22046" y="15498"/>
                </a:cubicBezTo>
                <a:cubicBezTo>
                  <a:pt x="21820" y="15464"/>
                  <a:pt x="21600" y="15388"/>
                  <a:pt x="21372" y="15379"/>
                </a:cubicBezTo>
                <a:cubicBezTo>
                  <a:pt x="21223" y="15373"/>
                  <a:pt x="21288" y="15379"/>
                  <a:pt x="21372" y="15379"/>
                </a:cubicBezTo>
                <a:cubicBezTo>
                  <a:pt x="21595" y="15379"/>
                  <a:pt x="21805" y="15408"/>
                  <a:pt x="22027" y="15419"/>
                </a:cubicBezTo>
                <a:cubicBezTo>
                  <a:pt x="22238" y="15449"/>
                  <a:pt x="22455" y="15448"/>
                  <a:pt x="22662" y="15498"/>
                </a:cubicBezTo>
                <a:cubicBezTo>
                  <a:pt x="22762" y="15522"/>
                  <a:pt x="22481" y="15498"/>
                  <a:pt x="22463" y="15498"/>
                </a:cubicBezTo>
                <a:cubicBezTo>
                  <a:pt x="22163" y="15498"/>
                  <a:pt x="21795" y="15500"/>
                  <a:pt x="21530" y="15518"/>
                </a:cubicBezTo>
                <a:cubicBezTo>
                  <a:pt x="21400" y="15527"/>
                  <a:pt x="21252" y="15530"/>
                  <a:pt x="21134" y="15538"/>
                </a:cubicBezTo>
                <a:cubicBezTo>
                  <a:pt x="21074" y="15542"/>
                  <a:pt x="21007" y="15547"/>
                  <a:pt x="20975" y="15557"/>
                </a:cubicBezTo>
                <a:cubicBezTo>
                  <a:pt x="20955" y="15563"/>
                  <a:pt x="20938" y="15576"/>
                  <a:pt x="20935" y="15577"/>
                </a:cubicBezTo>
                <a:cubicBezTo>
                  <a:pt x="20945" y="15573"/>
                  <a:pt x="21006" y="15524"/>
                  <a:pt x="21034" y="15518"/>
                </a:cubicBezTo>
                <a:cubicBezTo>
                  <a:pt x="21170" y="15487"/>
                  <a:pt x="21310" y="15498"/>
                  <a:pt x="21451" y="15498"/>
                </a:cubicBezTo>
                <a:cubicBezTo>
                  <a:pt x="21743" y="15498"/>
                  <a:pt x="22035" y="15502"/>
                  <a:pt x="22324" y="15518"/>
                </a:cubicBezTo>
                <a:cubicBezTo>
                  <a:pt x="22471" y="15526"/>
                  <a:pt x="22615" y="15520"/>
                  <a:pt x="22761" y="15538"/>
                </a:cubicBezTo>
                <a:cubicBezTo>
                  <a:pt x="22860" y="15550"/>
                  <a:pt x="22987" y="15571"/>
                  <a:pt x="23078" y="15577"/>
                </a:cubicBezTo>
                <a:cubicBezTo>
                  <a:pt x="23192" y="15585"/>
                  <a:pt x="23315" y="15564"/>
                  <a:pt x="23416" y="15557"/>
                </a:cubicBezTo>
                <a:cubicBezTo>
                  <a:pt x="23456" y="15554"/>
                  <a:pt x="23504" y="15541"/>
                  <a:pt x="23535" y="15538"/>
                </a:cubicBezTo>
                <a:cubicBezTo>
                  <a:pt x="23603" y="15532"/>
                  <a:pt x="24072" y="15522"/>
                  <a:pt x="24070" y="15518"/>
                </a:cubicBezTo>
                <a:cubicBezTo>
                  <a:pt x="24043" y="15475"/>
                  <a:pt x="24008" y="15516"/>
                  <a:pt x="23971" y="15498"/>
                </a:cubicBezTo>
                <a:cubicBezTo>
                  <a:pt x="23906" y="15465"/>
                  <a:pt x="23896" y="15452"/>
                  <a:pt x="23852" y="15458"/>
                </a:cubicBezTo>
                <a:cubicBezTo>
                  <a:pt x="23581" y="15458"/>
                  <a:pt x="22847" y="15458"/>
                  <a:pt x="23118" y="15458"/>
                </a:cubicBezTo>
                <a:cubicBezTo>
                  <a:pt x="23370" y="15458"/>
                  <a:pt x="23620" y="15475"/>
                  <a:pt x="23872" y="15478"/>
                </a:cubicBezTo>
                <a:cubicBezTo>
                  <a:pt x="23978" y="15479"/>
                  <a:pt x="24429" y="15482"/>
                  <a:pt x="24408" y="15478"/>
                </a:cubicBezTo>
                <a:cubicBezTo>
                  <a:pt x="24196" y="15435"/>
                  <a:pt x="23968" y="15442"/>
                  <a:pt x="23753" y="15399"/>
                </a:cubicBezTo>
                <a:cubicBezTo>
                  <a:pt x="23209" y="15289"/>
                  <a:pt x="22675" y="15235"/>
                  <a:pt x="22126" y="15161"/>
                </a:cubicBezTo>
                <a:cubicBezTo>
                  <a:pt x="21789" y="15115"/>
                  <a:pt x="21474" y="15061"/>
                  <a:pt x="21134" y="15061"/>
                </a:cubicBezTo>
                <a:cubicBezTo>
                  <a:pt x="20784" y="15061"/>
                  <a:pt x="22465" y="14917"/>
                  <a:pt x="22146" y="15061"/>
                </a:cubicBezTo>
                <a:cubicBezTo>
                  <a:pt x="22086" y="15088"/>
                  <a:pt x="22032" y="15078"/>
                  <a:pt x="21967" y="15081"/>
                </a:cubicBezTo>
                <a:cubicBezTo>
                  <a:pt x="21839" y="15086"/>
                  <a:pt x="21988" y="15081"/>
                  <a:pt x="22027" y="15081"/>
                </a:cubicBezTo>
                <a:cubicBezTo>
                  <a:pt x="22153" y="15081"/>
                  <a:pt x="22278" y="15081"/>
                  <a:pt x="22404" y="15081"/>
                </a:cubicBezTo>
                <a:cubicBezTo>
                  <a:pt x="22490" y="15081"/>
                  <a:pt x="22509" y="15081"/>
                  <a:pt x="22562" y="15081"/>
                </a:cubicBezTo>
                <a:cubicBezTo>
                  <a:pt x="22483" y="15081"/>
                  <a:pt x="22443" y="15081"/>
                  <a:pt x="22364" y="15081"/>
                </a:cubicBezTo>
                <a:cubicBezTo>
                  <a:pt x="22118" y="15081"/>
                  <a:pt x="21875" y="15071"/>
                  <a:pt x="21630" y="15061"/>
                </a:cubicBezTo>
                <a:cubicBezTo>
                  <a:pt x="21619" y="15061"/>
                  <a:pt x="21314" y="15061"/>
                  <a:pt x="21352" y="15061"/>
                </a:cubicBezTo>
                <a:cubicBezTo>
                  <a:pt x="21961" y="15061"/>
                  <a:pt x="23691" y="15200"/>
                  <a:pt x="23098" y="15061"/>
                </a:cubicBezTo>
                <a:cubicBezTo>
                  <a:pt x="22909" y="15017"/>
                  <a:pt x="22715" y="15031"/>
                  <a:pt x="22523" y="15002"/>
                </a:cubicBezTo>
                <a:cubicBezTo>
                  <a:pt x="22256" y="14961"/>
                  <a:pt x="22000" y="14962"/>
                  <a:pt x="21729" y="14962"/>
                </a:cubicBezTo>
                <a:cubicBezTo>
                  <a:pt x="21616" y="14962"/>
                  <a:pt x="21596" y="14962"/>
                  <a:pt x="21530" y="14962"/>
                </a:cubicBezTo>
                <a:cubicBezTo>
                  <a:pt x="21967" y="14962"/>
                  <a:pt x="23177" y="15233"/>
                  <a:pt x="22820" y="14982"/>
                </a:cubicBezTo>
                <a:cubicBezTo>
                  <a:pt x="22752" y="14934"/>
                  <a:pt x="22530" y="14952"/>
                  <a:pt x="22463" y="14942"/>
                </a:cubicBezTo>
                <a:cubicBezTo>
                  <a:pt x="22263" y="14911"/>
                  <a:pt x="22090" y="14888"/>
                  <a:pt x="21888" y="14883"/>
                </a:cubicBezTo>
                <a:cubicBezTo>
                  <a:pt x="21749" y="14883"/>
                  <a:pt x="21372" y="14883"/>
                  <a:pt x="21511" y="14883"/>
                </a:cubicBezTo>
                <a:cubicBezTo>
                  <a:pt x="21815" y="14883"/>
                  <a:pt x="22103" y="14943"/>
                  <a:pt x="22404" y="14982"/>
                </a:cubicBezTo>
                <a:cubicBezTo>
                  <a:pt x="22532" y="14999"/>
                  <a:pt x="23276" y="14996"/>
                  <a:pt x="23356" y="15101"/>
                </a:cubicBezTo>
                <a:cubicBezTo>
                  <a:pt x="23793" y="15675"/>
                  <a:pt x="21912" y="15057"/>
                  <a:pt x="21193" y="15121"/>
                </a:cubicBezTo>
                <a:cubicBezTo>
                  <a:pt x="21147" y="15128"/>
                  <a:pt x="21100" y="15134"/>
                  <a:pt x="21054" y="15141"/>
                </a:cubicBezTo>
                <a:cubicBezTo>
                  <a:pt x="21058" y="15142"/>
                  <a:pt x="21142" y="15157"/>
                  <a:pt x="21173" y="15161"/>
                </a:cubicBezTo>
                <a:cubicBezTo>
                  <a:pt x="21391" y="15186"/>
                  <a:pt x="21609" y="15198"/>
                  <a:pt x="21828" y="15200"/>
                </a:cubicBezTo>
                <a:cubicBezTo>
                  <a:pt x="21872" y="15200"/>
                  <a:pt x="22303" y="15200"/>
                  <a:pt x="22225" y="15200"/>
                </a:cubicBezTo>
                <a:cubicBezTo>
                  <a:pt x="21729" y="15200"/>
                  <a:pt x="20351" y="14945"/>
                  <a:pt x="20776" y="15200"/>
                </a:cubicBezTo>
                <a:cubicBezTo>
                  <a:pt x="20917" y="15285"/>
                  <a:pt x="21117" y="15260"/>
                  <a:pt x="21272" y="15260"/>
                </a:cubicBezTo>
                <a:cubicBezTo>
                  <a:pt x="21497" y="15260"/>
                  <a:pt x="21722" y="15260"/>
                  <a:pt x="21947" y="15260"/>
                </a:cubicBezTo>
                <a:cubicBezTo>
                  <a:pt x="22079" y="15260"/>
                  <a:pt x="22212" y="15260"/>
                  <a:pt x="22344" y="15260"/>
                </a:cubicBezTo>
                <a:cubicBezTo>
                  <a:pt x="22124" y="15260"/>
                  <a:pt x="21908" y="15243"/>
                  <a:pt x="21689" y="15240"/>
                </a:cubicBezTo>
                <a:cubicBezTo>
                  <a:pt x="21543" y="15238"/>
                  <a:pt x="21159" y="15182"/>
                  <a:pt x="21292" y="15240"/>
                </a:cubicBezTo>
                <a:cubicBezTo>
                  <a:pt x="21376" y="15277"/>
                  <a:pt x="21499" y="15271"/>
                  <a:pt x="21590" y="15280"/>
                </a:cubicBezTo>
                <a:cubicBezTo>
                  <a:pt x="21850" y="15307"/>
                  <a:pt x="22102" y="15348"/>
                  <a:pt x="22364" y="15359"/>
                </a:cubicBezTo>
                <a:cubicBezTo>
                  <a:pt x="22569" y="15367"/>
                  <a:pt x="22605" y="15359"/>
                  <a:pt x="22384" y="15359"/>
                </a:cubicBezTo>
                <a:cubicBezTo>
                  <a:pt x="21901" y="15359"/>
                  <a:pt x="20479" y="15295"/>
                  <a:pt x="20955" y="15379"/>
                </a:cubicBezTo>
                <a:cubicBezTo>
                  <a:pt x="21072" y="15400"/>
                  <a:pt x="21215" y="15379"/>
                  <a:pt x="21332" y="15379"/>
                </a:cubicBezTo>
                <a:cubicBezTo>
                  <a:pt x="21685" y="15379"/>
                  <a:pt x="22280" y="15480"/>
                  <a:pt x="22582" y="15359"/>
                </a:cubicBezTo>
                <a:cubicBezTo>
                  <a:pt x="22677" y="15321"/>
                  <a:pt x="22387" y="15321"/>
                  <a:pt x="22285" y="15319"/>
                </a:cubicBezTo>
                <a:cubicBezTo>
                  <a:pt x="22083" y="15316"/>
                  <a:pt x="21893" y="15280"/>
                  <a:pt x="21689" y="15280"/>
                </a:cubicBezTo>
                <a:cubicBezTo>
                  <a:pt x="21623" y="15280"/>
                  <a:pt x="21504" y="15280"/>
                  <a:pt x="21570" y="15280"/>
                </a:cubicBezTo>
                <a:cubicBezTo>
                  <a:pt x="22238" y="15280"/>
                  <a:pt x="22906" y="15280"/>
                  <a:pt x="23574" y="15280"/>
                </a:cubicBezTo>
                <a:cubicBezTo>
                  <a:pt x="23594" y="15280"/>
                  <a:pt x="23614" y="15280"/>
                  <a:pt x="23634" y="15280"/>
                </a:cubicBezTo>
                <a:cubicBezTo>
                  <a:pt x="23617" y="15277"/>
                  <a:pt x="23498" y="15264"/>
                  <a:pt x="23455" y="15260"/>
                </a:cubicBezTo>
                <a:cubicBezTo>
                  <a:pt x="23157" y="15234"/>
                  <a:pt x="22861" y="15240"/>
                  <a:pt x="22562" y="15240"/>
                </a:cubicBezTo>
                <a:cubicBezTo>
                  <a:pt x="22285" y="15240"/>
                  <a:pt x="21537" y="15181"/>
                  <a:pt x="21808" y="15240"/>
                </a:cubicBezTo>
                <a:cubicBezTo>
                  <a:pt x="21997" y="15281"/>
                  <a:pt x="22211" y="15309"/>
                  <a:pt x="22404" y="15319"/>
                </a:cubicBezTo>
                <a:cubicBezTo>
                  <a:pt x="22853" y="15341"/>
                  <a:pt x="24151" y="15506"/>
                  <a:pt x="23733" y="15339"/>
                </a:cubicBezTo>
                <a:cubicBezTo>
                  <a:pt x="23640" y="15302"/>
                  <a:pt x="23499" y="15316"/>
                  <a:pt x="23396" y="15300"/>
                </a:cubicBezTo>
                <a:cubicBezTo>
                  <a:pt x="23011" y="15241"/>
                  <a:pt x="22656" y="15220"/>
                  <a:pt x="22265" y="15220"/>
                </a:cubicBezTo>
                <a:cubicBezTo>
                  <a:pt x="22106" y="15220"/>
                  <a:pt x="21854" y="15224"/>
                  <a:pt x="21729" y="15240"/>
                </a:cubicBezTo>
                <a:cubicBezTo>
                  <a:pt x="21736" y="15240"/>
                  <a:pt x="21742" y="15240"/>
                  <a:pt x="21749" y="15240"/>
                </a:cubicBezTo>
                <a:cubicBezTo>
                  <a:pt x="22000" y="15291"/>
                  <a:pt x="22226" y="15300"/>
                  <a:pt x="22483" y="15300"/>
                </a:cubicBezTo>
                <a:cubicBezTo>
                  <a:pt x="22880" y="15300"/>
                  <a:pt x="23699" y="15469"/>
                  <a:pt x="24051" y="15280"/>
                </a:cubicBezTo>
                <a:cubicBezTo>
                  <a:pt x="24154" y="15225"/>
                  <a:pt x="24032" y="15230"/>
                  <a:pt x="23991" y="15220"/>
                </a:cubicBezTo>
                <a:cubicBezTo>
                  <a:pt x="23706" y="15153"/>
                  <a:pt x="23388" y="15146"/>
                  <a:pt x="23098" y="15141"/>
                </a:cubicBezTo>
                <a:cubicBezTo>
                  <a:pt x="22880" y="15141"/>
                  <a:pt x="22807" y="15141"/>
                  <a:pt x="22662" y="15141"/>
                </a:cubicBezTo>
                <a:cubicBezTo>
                  <a:pt x="22523" y="15141"/>
                  <a:pt x="22490" y="15141"/>
                  <a:pt x="22404" y="15141"/>
                </a:cubicBezTo>
                <a:cubicBezTo>
                  <a:pt x="22450" y="15149"/>
                  <a:pt x="22437" y="15160"/>
                  <a:pt x="22483" y="15161"/>
                </a:cubicBezTo>
                <a:cubicBezTo>
                  <a:pt x="22660" y="15165"/>
                  <a:pt x="23572" y="15230"/>
                  <a:pt x="23614" y="15161"/>
                </a:cubicBezTo>
                <a:cubicBezTo>
                  <a:pt x="23684" y="15045"/>
                  <a:pt x="23352" y="15114"/>
                  <a:pt x="23217" y="15101"/>
                </a:cubicBezTo>
                <a:cubicBezTo>
                  <a:pt x="22946" y="15075"/>
                  <a:pt x="22676" y="15081"/>
                  <a:pt x="22404" y="15081"/>
                </a:cubicBezTo>
                <a:cubicBezTo>
                  <a:pt x="22305" y="15081"/>
                  <a:pt x="22047" y="15041"/>
                  <a:pt x="22126" y="15101"/>
                </a:cubicBezTo>
                <a:cubicBezTo>
                  <a:pt x="22193" y="15152"/>
                  <a:pt x="22585" y="15166"/>
                  <a:pt x="22662" y="15180"/>
                </a:cubicBezTo>
                <a:cubicBezTo>
                  <a:pt x="23080" y="15254"/>
                  <a:pt x="23488" y="15240"/>
                  <a:pt x="23912" y="15240"/>
                </a:cubicBezTo>
                <a:cubicBezTo>
                  <a:pt x="24067" y="15240"/>
                  <a:pt x="24461" y="15300"/>
                  <a:pt x="24328" y="15220"/>
                </a:cubicBezTo>
                <a:cubicBezTo>
                  <a:pt x="24260" y="15179"/>
                  <a:pt x="24131" y="15166"/>
                  <a:pt x="24051" y="15161"/>
                </a:cubicBezTo>
                <a:cubicBezTo>
                  <a:pt x="23840" y="15147"/>
                  <a:pt x="23225" y="15151"/>
                  <a:pt x="23435" y="15180"/>
                </a:cubicBezTo>
                <a:cubicBezTo>
                  <a:pt x="23588" y="15201"/>
                  <a:pt x="23757" y="15198"/>
                  <a:pt x="23912" y="15200"/>
                </a:cubicBezTo>
                <a:cubicBezTo>
                  <a:pt x="24084" y="15200"/>
                  <a:pt x="24137" y="15200"/>
                  <a:pt x="24249" y="15200"/>
                </a:cubicBezTo>
                <a:cubicBezTo>
                  <a:pt x="24304" y="15198"/>
                  <a:pt x="24523" y="15241"/>
                  <a:pt x="24428" y="15180"/>
                </a:cubicBezTo>
                <a:cubicBezTo>
                  <a:pt x="24296" y="15095"/>
                  <a:pt x="23887" y="15124"/>
                  <a:pt x="23733" y="15101"/>
                </a:cubicBezTo>
                <a:cubicBezTo>
                  <a:pt x="23419" y="15055"/>
                  <a:pt x="23117" y="15011"/>
                  <a:pt x="22800" y="15002"/>
                </a:cubicBezTo>
                <a:cubicBezTo>
                  <a:pt x="22741" y="15000"/>
                  <a:pt x="22841" y="15002"/>
                  <a:pt x="22900" y="15002"/>
                </a:cubicBezTo>
                <a:cubicBezTo>
                  <a:pt x="23058" y="15002"/>
                  <a:pt x="23330" y="15055"/>
                  <a:pt x="23475" y="14982"/>
                </a:cubicBezTo>
                <a:cubicBezTo>
                  <a:pt x="23526" y="14956"/>
                  <a:pt x="23514" y="14968"/>
                  <a:pt x="23455" y="14962"/>
                </a:cubicBezTo>
                <a:cubicBezTo>
                  <a:pt x="23198" y="14936"/>
                  <a:pt x="22503" y="14962"/>
                  <a:pt x="22761" y="14962"/>
                </a:cubicBezTo>
                <a:cubicBezTo>
                  <a:pt x="23026" y="14962"/>
                  <a:pt x="23289" y="14982"/>
                  <a:pt x="23555" y="14982"/>
                </a:cubicBezTo>
                <a:cubicBezTo>
                  <a:pt x="23737" y="14982"/>
                  <a:pt x="24019" y="14975"/>
                  <a:pt x="24170" y="14962"/>
                </a:cubicBezTo>
                <a:cubicBezTo>
                  <a:pt x="23977" y="14962"/>
                  <a:pt x="23787" y="14945"/>
                  <a:pt x="23594" y="14942"/>
                </a:cubicBezTo>
                <a:cubicBezTo>
                  <a:pt x="23369" y="14939"/>
                  <a:pt x="22734" y="14942"/>
                  <a:pt x="22959" y="14942"/>
                </a:cubicBezTo>
                <a:cubicBezTo>
                  <a:pt x="23084" y="14942"/>
                  <a:pt x="23376" y="15039"/>
                  <a:pt x="23297" y="14942"/>
                </a:cubicBezTo>
                <a:cubicBezTo>
                  <a:pt x="23249" y="14883"/>
                  <a:pt x="22985" y="14922"/>
                  <a:pt x="22920" y="14922"/>
                </a:cubicBezTo>
                <a:cubicBezTo>
                  <a:pt x="22823" y="14922"/>
                  <a:pt x="22538" y="14922"/>
                  <a:pt x="22503" y="14922"/>
                </a:cubicBezTo>
                <a:cubicBezTo>
                  <a:pt x="22529" y="14922"/>
                  <a:pt x="22556" y="14922"/>
                  <a:pt x="22582" y="14922"/>
                </a:cubicBezTo>
                <a:cubicBezTo>
                  <a:pt x="22968" y="14971"/>
                  <a:pt x="23343" y="15017"/>
                  <a:pt x="23733" y="15022"/>
                </a:cubicBezTo>
                <a:cubicBezTo>
                  <a:pt x="24090" y="15026"/>
                  <a:pt x="25094" y="15160"/>
                  <a:pt x="24765" y="15022"/>
                </a:cubicBezTo>
                <a:cubicBezTo>
                  <a:pt x="24372" y="14857"/>
                  <a:pt x="23813" y="14821"/>
                  <a:pt x="23396" y="14764"/>
                </a:cubicBezTo>
                <a:cubicBezTo>
                  <a:pt x="22981" y="14707"/>
                  <a:pt x="22564" y="14724"/>
                  <a:pt x="22146" y="14724"/>
                </a:cubicBezTo>
                <a:cubicBezTo>
                  <a:pt x="22114" y="14724"/>
                  <a:pt x="21680" y="14724"/>
                  <a:pt x="21769" y="14724"/>
                </a:cubicBezTo>
                <a:cubicBezTo>
                  <a:pt x="21795" y="14724"/>
                  <a:pt x="21822" y="14724"/>
                  <a:pt x="21848" y="14724"/>
                </a:cubicBezTo>
                <a:cubicBezTo>
                  <a:pt x="22113" y="14724"/>
                  <a:pt x="22867" y="14724"/>
                  <a:pt x="22602" y="14724"/>
                </a:cubicBezTo>
                <a:cubicBezTo>
                  <a:pt x="22212" y="14724"/>
                  <a:pt x="21160" y="14724"/>
                  <a:pt x="21550" y="14724"/>
                </a:cubicBezTo>
                <a:cubicBezTo>
                  <a:pt x="21722" y="14724"/>
                  <a:pt x="21788" y="14724"/>
                  <a:pt x="21907" y="14724"/>
                </a:cubicBezTo>
                <a:cubicBezTo>
                  <a:pt x="22238" y="14746"/>
                  <a:pt x="22568" y="14744"/>
                  <a:pt x="22900" y="14744"/>
                </a:cubicBezTo>
                <a:cubicBezTo>
                  <a:pt x="23264" y="14744"/>
                  <a:pt x="22819" y="14725"/>
                  <a:pt x="22800" y="14724"/>
                </a:cubicBezTo>
                <a:cubicBezTo>
                  <a:pt x="22082" y="14699"/>
                  <a:pt x="21238" y="14662"/>
                  <a:pt x="20558" y="14744"/>
                </a:cubicBezTo>
                <a:cubicBezTo>
                  <a:pt x="20839" y="14753"/>
                  <a:pt x="21110" y="14799"/>
                  <a:pt x="21392" y="14803"/>
                </a:cubicBezTo>
                <a:cubicBezTo>
                  <a:pt x="21915" y="14810"/>
                  <a:pt x="23403" y="14803"/>
                  <a:pt x="22880" y="14803"/>
                </a:cubicBezTo>
                <a:cubicBezTo>
                  <a:pt x="22600" y="14803"/>
                  <a:pt x="22327" y="14703"/>
                  <a:pt x="22046" y="14684"/>
                </a:cubicBezTo>
                <a:cubicBezTo>
                  <a:pt x="21773" y="14666"/>
                  <a:pt x="21018" y="14602"/>
                  <a:pt x="21272" y="14704"/>
                </a:cubicBezTo>
                <a:cubicBezTo>
                  <a:pt x="21369" y="14743"/>
                  <a:pt x="21506" y="14706"/>
                  <a:pt x="21570" y="14704"/>
                </a:cubicBezTo>
                <a:cubicBezTo>
                  <a:pt x="21828" y="14695"/>
                  <a:pt x="22324" y="14982"/>
                  <a:pt x="22324" y="14724"/>
                </a:cubicBezTo>
                <a:cubicBezTo>
                  <a:pt x="22324" y="14642"/>
                  <a:pt x="22168" y="14707"/>
                  <a:pt x="22086" y="14704"/>
                </a:cubicBezTo>
                <a:cubicBezTo>
                  <a:pt x="21762" y="14683"/>
                  <a:pt x="21439" y="14684"/>
                  <a:pt x="21114" y="14684"/>
                </a:cubicBezTo>
                <a:cubicBezTo>
                  <a:pt x="21001" y="14684"/>
                  <a:pt x="20948" y="14690"/>
                  <a:pt x="20836" y="14704"/>
                </a:cubicBezTo>
                <a:cubicBezTo>
                  <a:pt x="21010" y="14704"/>
                  <a:pt x="21178" y="14722"/>
                  <a:pt x="21352" y="14724"/>
                </a:cubicBezTo>
                <a:cubicBezTo>
                  <a:pt x="21663" y="14728"/>
                  <a:pt x="22516" y="14724"/>
                  <a:pt x="22205" y="14724"/>
                </a:cubicBezTo>
                <a:cubicBezTo>
                  <a:pt x="22082" y="14724"/>
                  <a:pt x="20933" y="14733"/>
                  <a:pt x="20935" y="14744"/>
                </a:cubicBezTo>
                <a:cubicBezTo>
                  <a:pt x="20946" y="14805"/>
                  <a:pt x="20943" y="14754"/>
                  <a:pt x="20975" y="14784"/>
                </a:cubicBezTo>
                <a:cubicBezTo>
                  <a:pt x="21059" y="14864"/>
                  <a:pt x="21231" y="14814"/>
                  <a:pt x="21332" y="14823"/>
                </a:cubicBezTo>
                <a:cubicBezTo>
                  <a:pt x="21348" y="14824"/>
                  <a:pt x="21509" y="14835"/>
                  <a:pt x="21411" y="14843"/>
                </a:cubicBezTo>
                <a:cubicBezTo>
                  <a:pt x="21160" y="14864"/>
                  <a:pt x="20905" y="14827"/>
                  <a:pt x="20657" y="14863"/>
                </a:cubicBezTo>
                <a:cubicBezTo>
                  <a:pt x="20664" y="14863"/>
                  <a:pt x="20670" y="14863"/>
                  <a:pt x="20677" y="14863"/>
                </a:cubicBezTo>
                <a:cubicBezTo>
                  <a:pt x="20736" y="14873"/>
                  <a:pt x="20796" y="14896"/>
                  <a:pt x="20856" y="14903"/>
                </a:cubicBezTo>
                <a:cubicBezTo>
                  <a:pt x="20999" y="14919"/>
                  <a:pt x="21155" y="14917"/>
                  <a:pt x="21292" y="14962"/>
                </a:cubicBezTo>
                <a:cubicBezTo>
                  <a:pt x="21364" y="14986"/>
                  <a:pt x="21277" y="14962"/>
                  <a:pt x="21233" y="14962"/>
                </a:cubicBezTo>
                <a:cubicBezTo>
                  <a:pt x="21178" y="14962"/>
                  <a:pt x="20870" y="14970"/>
                  <a:pt x="20955" y="14982"/>
                </a:cubicBezTo>
                <a:cubicBezTo>
                  <a:pt x="21023" y="14992"/>
                  <a:pt x="21234" y="14982"/>
                  <a:pt x="21233" y="14982"/>
                </a:cubicBezTo>
                <a:cubicBezTo>
                  <a:pt x="20988" y="14982"/>
                  <a:pt x="20277" y="14957"/>
                  <a:pt x="20518" y="15002"/>
                </a:cubicBezTo>
                <a:cubicBezTo>
                  <a:pt x="20626" y="15022"/>
                  <a:pt x="20747" y="15010"/>
                  <a:pt x="20856" y="15022"/>
                </a:cubicBezTo>
                <a:cubicBezTo>
                  <a:pt x="20975" y="15036"/>
                  <a:pt x="21293" y="15051"/>
                  <a:pt x="21173" y="15061"/>
                </a:cubicBezTo>
                <a:cubicBezTo>
                  <a:pt x="21026" y="15073"/>
                  <a:pt x="20745" y="14998"/>
                  <a:pt x="20618" y="15081"/>
                </a:cubicBezTo>
                <a:cubicBezTo>
                  <a:pt x="20577" y="15108"/>
                  <a:pt x="20572" y="15105"/>
                  <a:pt x="20618" y="15121"/>
                </a:cubicBezTo>
                <a:cubicBezTo>
                  <a:pt x="20681" y="15143"/>
                  <a:pt x="20772" y="15125"/>
                  <a:pt x="20836" y="15141"/>
                </a:cubicBezTo>
                <a:cubicBezTo>
                  <a:pt x="20887" y="15154"/>
                  <a:pt x="20854" y="15126"/>
                  <a:pt x="20876" y="15161"/>
                </a:cubicBezTo>
                <a:cubicBezTo>
                  <a:pt x="20905" y="15207"/>
                  <a:pt x="20923" y="15183"/>
                  <a:pt x="20876" y="15220"/>
                </a:cubicBezTo>
                <a:cubicBezTo>
                  <a:pt x="20858" y="15234"/>
                  <a:pt x="20801" y="15252"/>
                  <a:pt x="20776" y="15260"/>
                </a:cubicBezTo>
                <a:cubicBezTo>
                  <a:pt x="20695" y="15288"/>
                  <a:pt x="20691" y="15272"/>
                  <a:pt x="20637" y="15319"/>
                </a:cubicBezTo>
                <a:cubicBezTo>
                  <a:pt x="20634" y="15321"/>
                  <a:pt x="20563" y="15353"/>
                  <a:pt x="20598" y="15379"/>
                </a:cubicBezTo>
                <a:cubicBezTo>
                  <a:pt x="20609" y="15387"/>
                  <a:pt x="20730" y="15418"/>
                  <a:pt x="20737" y="15419"/>
                </a:cubicBezTo>
                <a:cubicBezTo>
                  <a:pt x="20769" y="15426"/>
                  <a:pt x="20911" y="15438"/>
                  <a:pt x="20915" y="15438"/>
                </a:cubicBezTo>
                <a:cubicBezTo>
                  <a:pt x="20944" y="15436"/>
                  <a:pt x="21024" y="15423"/>
                  <a:pt x="20995" y="15419"/>
                </a:cubicBezTo>
                <a:cubicBezTo>
                  <a:pt x="20963" y="15415"/>
                  <a:pt x="20749" y="15432"/>
                  <a:pt x="20757" y="15399"/>
                </a:cubicBezTo>
                <a:cubicBezTo>
                  <a:pt x="20782" y="15295"/>
                  <a:pt x="20968" y="15372"/>
                  <a:pt x="21074" y="15359"/>
                </a:cubicBezTo>
                <a:cubicBezTo>
                  <a:pt x="21254" y="15339"/>
                  <a:pt x="21314" y="15332"/>
                  <a:pt x="21431" y="15300"/>
                </a:cubicBezTo>
                <a:cubicBezTo>
                  <a:pt x="21455" y="15295"/>
                  <a:pt x="21888" y="15217"/>
                  <a:pt x="21788" y="15200"/>
                </a:cubicBezTo>
                <a:cubicBezTo>
                  <a:pt x="21462" y="15145"/>
                  <a:pt x="20612" y="15444"/>
                  <a:pt x="20836" y="15200"/>
                </a:cubicBezTo>
                <a:cubicBezTo>
                  <a:pt x="20888" y="15144"/>
                  <a:pt x="20945" y="15167"/>
                  <a:pt x="21015" y="15141"/>
                </a:cubicBezTo>
                <a:cubicBezTo>
                  <a:pt x="21041" y="15131"/>
                  <a:pt x="21261" y="15068"/>
                  <a:pt x="21253" y="15061"/>
                </a:cubicBezTo>
                <a:cubicBezTo>
                  <a:pt x="21233" y="15044"/>
                  <a:pt x="20996" y="15061"/>
                  <a:pt x="21034" y="15061"/>
                </a:cubicBezTo>
                <a:cubicBezTo>
                  <a:pt x="21266" y="15061"/>
                  <a:pt x="21483" y="15038"/>
                  <a:pt x="21709" y="14982"/>
                </a:cubicBezTo>
                <a:cubicBezTo>
                  <a:pt x="21755" y="14969"/>
                  <a:pt x="21802" y="14955"/>
                  <a:pt x="21848" y="14942"/>
                </a:cubicBezTo>
                <a:cubicBezTo>
                  <a:pt x="21927" y="14939"/>
                  <a:pt x="22145" y="14931"/>
                  <a:pt x="22066" y="14922"/>
                </a:cubicBezTo>
                <a:cubicBezTo>
                  <a:pt x="21757" y="14886"/>
                  <a:pt x="20904" y="14961"/>
                  <a:pt x="21213" y="14922"/>
                </a:cubicBezTo>
                <a:cubicBezTo>
                  <a:pt x="21390" y="14900"/>
                  <a:pt x="21570" y="14903"/>
                  <a:pt x="21749" y="14903"/>
                </a:cubicBezTo>
                <a:cubicBezTo>
                  <a:pt x="22000" y="14903"/>
                  <a:pt x="22252" y="14903"/>
                  <a:pt x="22503" y="14903"/>
                </a:cubicBezTo>
                <a:cubicBezTo>
                  <a:pt x="22676" y="14903"/>
                  <a:pt x="23167" y="14973"/>
                  <a:pt x="23019" y="14883"/>
                </a:cubicBezTo>
                <a:cubicBezTo>
                  <a:pt x="22804" y="14753"/>
                  <a:pt x="22073" y="14785"/>
                  <a:pt x="22304" y="14883"/>
                </a:cubicBezTo>
                <a:cubicBezTo>
                  <a:pt x="22485" y="14960"/>
                  <a:pt x="22727" y="14987"/>
                  <a:pt x="22920" y="15002"/>
                </a:cubicBezTo>
                <a:cubicBezTo>
                  <a:pt x="23176" y="15021"/>
                  <a:pt x="23436" y="15022"/>
                  <a:pt x="23693" y="15022"/>
                </a:cubicBezTo>
                <a:cubicBezTo>
                  <a:pt x="23701" y="15011"/>
                  <a:pt x="23855" y="15006"/>
                  <a:pt x="23614" y="14962"/>
                </a:cubicBezTo>
                <a:cubicBezTo>
                  <a:pt x="23424" y="14928"/>
                  <a:pt x="23212" y="14924"/>
                  <a:pt x="23019" y="14922"/>
                </a:cubicBezTo>
                <a:cubicBezTo>
                  <a:pt x="22814" y="14919"/>
                  <a:pt x="22238" y="14922"/>
                  <a:pt x="22443" y="14922"/>
                </a:cubicBezTo>
                <a:cubicBezTo>
                  <a:pt x="22660" y="14922"/>
                  <a:pt x="23216" y="15033"/>
                  <a:pt x="23376" y="14903"/>
                </a:cubicBezTo>
                <a:cubicBezTo>
                  <a:pt x="23417" y="14870"/>
                  <a:pt x="23347" y="14867"/>
                  <a:pt x="23316" y="14863"/>
                </a:cubicBezTo>
                <a:cubicBezTo>
                  <a:pt x="23165" y="14846"/>
                  <a:pt x="22748" y="14863"/>
                  <a:pt x="22900" y="14863"/>
                </a:cubicBezTo>
                <a:cubicBezTo>
                  <a:pt x="23039" y="14863"/>
                  <a:pt x="23177" y="14863"/>
                  <a:pt x="23316" y="14863"/>
                </a:cubicBezTo>
                <a:cubicBezTo>
                  <a:pt x="23476" y="14863"/>
                  <a:pt x="23616" y="14841"/>
                  <a:pt x="23773" y="14823"/>
                </a:cubicBezTo>
                <a:cubicBezTo>
                  <a:pt x="23842" y="14815"/>
                  <a:pt x="23878" y="14828"/>
                  <a:pt x="23793" y="14823"/>
                </a:cubicBezTo>
                <a:cubicBezTo>
                  <a:pt x="23555" y="14809"/>
                  <a:pt x="22880" y="14823"/>
                  <a:pt x="23118" y="14823"/>
                </a:cubicBezTo>
                <a:cubicBezTo>
                  <a:pt x="23236" y="14823"/>
                  <a:pt x="23358" y="14815"/>
                  <a:pt x="23475" y="14803"/>
                </a:cubicBezTo>
                <a:cubicBezTo>
                  <a:pt x="23627" y="14787"/>
                  <a:pt x="23825" y="14777"/>
                  <a:pt x="23971" y="14744"/>
                </a:cubicBezTo>
                <a:cubicBezTo>
                  <a:pt x="23990" y="14740"/>
                  <a:pt x="24168" y="14710"/>
                  <a:pt x="24070" y="14704"/>
                </a:cubicBezTo>
                <a:cubicBezTo>
                  <a:pt x="23963" y="14697"/>
                  <a:pt x="23574" y="14704"/>
                  <a:pt x="23614" y="14704"/>
                </a:cubicBezTo>
                <a:cubicBezTo>
                  <a:pt x="23754" y="14704"/>
                  <a:pt x="23893" y="14700"/>
                  <a:pt x="24031" y="14684"/>
                </a:cubicBezTo>
                <a:cubicBezTo>
                  <a:pt x="24080" y="14678"/>
                  <a:pt x="24210" y="14671"/>
                  <a:pt x="24090" y="14665"/>
                </a:cubicBezTo>
                <a:cubicBezTo>
                  <a:pt x="24044" y="14663"/>
                  <a:pt x="24035" y="14678"/>
                  <a:pt x="23991" y="14665"/>
                </a:cubicBezTo>
                <a:cubicBezTo>
                  <a:pt x="23989" y="14664"/>
                  <a:pt x="23935" y="14631"/>
                  <a:pt x="23912" y="14625"/>
                </a:cubicBezTo>
                <a:cubicBezTo>
                  <a:pt x="23867" y="14614"/>
                  <a:pt x="23814" y="14599"/>
                  <a:pt x="23793" y="14585"/>
                </a:cubicBezTo>
                <a:cubicBezTo>
                  <a:pt x="23765" y="14566"/>
                  <a:pt x="23854" y="14563"/>
                  <a:pt x="23793" y="14545"/>
                </a:cubicBezTo>
                <a:cubicBezTo>
                  <a:pt x="23723" y="14525"/>
                  <a:pt x="23629" y="14533"/>
                  <a:pt x="23555" y="14526"/>
                </a:cubicBezTo>
                <a:cubicBezTo>
                  <a:pt x="23409" y="14511"/>
                  <a:pt x="23588" y="14526"/>
                  <a:pt x="23614" y="14526"/>
                </a:cubicBezTo>
                <a:cubicBezTo>
                  <a:pt x="23712" y="14526"/>
                  <a:pt x="23847" y="14531"/>
                  <a:pt x="23912" y="14506"/>
                </a:cubicBezTo>
                <a:cubicBezTo>
                  <a:pt x="23943" y="14494"/>
                  <a:pt x="23877" y="14527"/>
                  <a:pt x="23852" y="14506"/>
                </a:cubicBezTo>
                <a:cubicBezTo>
                  <a:pt x="23814" y="14474"/>
                  <a:pt x="23821" y="14439"/>
                  <a:pt x="23773" y="14426"/>
                </a:cubicBezTo>
                <a:cubicBezTo>
                  <a:pt x="23693" y="14404"/>
                  <a:pt x="23651" y="14421"/>
                  <a:pt x="23574" y="14367"/>
                </a:cubicBezTo>
                <a:cubicBezTo>
                  <a:pt x="23505" y="14319"/>
                  <a:pt x="23591" y="14368"/>
                  <a:pt x="23574" y="14347"/>
                </a:cubicBezTo>
                <a:cubicBezTo>
                  <a:pt x="23649" y="14344"/>
                  <a:pt x="23719" y="14332"/>
                  <a:pt x="23793" y="14327"/>
                </a:cubicBezTo>
                <a:cubicBezTo>
                  <a:pt x="23833" y="14324"/>
                  <a:pt x="23942" y="14308"/>
                  <a:pt x="23951" y="14307"/>
                </a:cubicBezTo>
                <a:cubicBezTo>
                  <a:pt x="24076" y="14299"/>
                  <a:pt x="24442" y="14265"/>
                  <a:pt x="24527" y="14327"/>
                </a:cubicBezTo>
                <a:cubicBezTo>
                  <a:pt x="24531" y="14330"/>
                  <a:pt x="24541" y="14416"/>
                  <a:pt x="24547" y="14426"/>
                </a:cubicBezTo>
                <a:cubicBezTo>
                  <a:pt x="24558" y="14444"/>
                  <a:pt x="24576" y="14438"/>
                  <a:pt x="24586" y="14466"/>
                </a:cubicBezTo>
                <a:cubicBezTo>
                  <a:pt x="24598" y="14499"/>
                  <a:pt x="24598" y="14500"/>
                  <a:pt x="24606" y="14526"/>
                </a:cubicBezTo>
                <a:cubicBezTo>
                  <a:pt x="24617" y="14560"/>
                  <a:pt x="24618" y="14558"/>
                  <a:pt x="24626" y="14585"/>
                </a:cubicBezTo>
                <a:cubicBezTo>
                  <a:pt x="24633" y="14611"/>
                  <a:pt x="24643" y="14619"/>
                  <a:pt x="24646" y="14645"/>
                </a:cubicBezTo>
                <a:cubicBezTo>
                  <a:pt x="24650" y="14679"/>
                  <a:pt x="24665" y="14759"/>
                  <a:pt x="24666" y="14764"/>
                </a:cubicBezTo>
                <a:cubicBezTo>
                  <a:pt x="24672" y="14820"/>
                  <a:pt x="24679" y="14893"/>
                  <a:pt x="24686" y="14922"/>
                </a:cubicBezTo>
                <a:cubicBezTo>
                  <a:pt x="24692" y="14948"/>
                  <a:pt x="24701" y="14956"/>
                  <a:pt x="24705" y="14982"/>
                </a:cubicBezTo>
                <a:cubicBezTo>
                  <a:pt x="24715" y="15045"/>
                  <a:pt x="24693" y="15127"/>
                  <a:pt x="24686" y="15161"/>
                </a:cubicBezTo>
                <a:cubicBezTo>
                  <a:pt x="24680" y="15187"/>
                  <a:pt x="24667" y="15237"/>
                  <a:pt x="24666" y="15240"/>
                </a:cubicBezTo>
                <a:cubicBezTo>
                  <a:pt x="24656" y="15278"/>
                  <a:pt x="24655" y="15271"/>
                  <a:pt x="24646" y="15300"/>
                </a:cubicBezTo>
                <a:cubicBezTo>
                  <a:pt x="24638" y="15326"/>
                  <a:pt x="24629" y="15351"/>
                  <a:pt x="24626" y="15359"/>
                </a:cubicBezTo>
                <a:cubicBezTo>
                  <a:pt x="24602" y="15413"/>
                  <a:pt x="24599" y="15406"/>
                  <a:pt x="24567" y="15458"/>
                </a:cubicBezTo>
                <a:cubicBezTo>
                  <a:pt x="24541" y="15501"/>
                  <a:pt x="24555" y="15497"/>
                  <a:pt x="24527" y="15538"/>
                </a:cubicBezTo>
                <a:cubicBezTo>
                  <a:pt x="24502" y="15574"/>
                  <a:pt x="24509" y="15594"/>
                  <a:pt x="24467" y="15617"/>
                </a:cubicBezTo>
                <a:cubicBezTo>
                  <a:pt x="24441" y="15631"/>
                  <a:pt x="24442" y="15624"/>
                  <a:pt x="24408" y="15637"/>
                </a:cubicBezTo>
                <a:cubicBezTo>
                  <a:pt x="24380" y="15648"/>
                  <a:pt x="24385" y="15646"/>
                  <a:pt x="24348" y="15657"/>
                </a:cubicBezTo>
                <a:cubicBezTo>
                  <a:pt x="24316" y="15666"/>
                  <a:pt x="24279" y="15671"/>
                  <a:pt x="24249" y="15677"/>
                </a:cubicBezTo>
                <a:cubicBezTo>
                  <a:pt x="24232" y="15680"/>
                  <a:pt x="24170" y="15688"/>
                  <a:pt x="24150" y="15696"/>
                </a:cubicBezTo>
                <a:cubicBezTo>
                  <a:pt x="24136" y="15702"/>
                  <a:pt x="24092" y="15728"/>
                  <a:pt x="24070" y="15736"/>
                </a:cubicBezTo>
                <a:cubicBezTo>
                  <a:pt x="24045" y="15745"/>
                  <a:pt x="24028" y="15756"/>
                  <a:pt x="24011" y="15756"/>
                </a:cubicBezTo>
                <a:cubicBezTo>
                  <a:pt x="23988" y="15756"/>
                  <a:pt x="24049" y="15743"/>
                  <a:pt x="24070" y="15736"/>
                </a:cubicBezTo>
                <a:cubicBezTo>
                  <a:pt x="24115" y="15731"/>
                  <a:pt x="24150" y="15724"/>
                  <a:pt x="24170" y="15716"/>
                </a:cubicBezTo>
                <a:cubicBezTo>
                  <a:pt x="24203" y="15703"/>
                  <a:pt x="24203" y="15710"/>
                  <a:pt x="24229" y="15696"/>
                </a:cubicBezTo>
                <a:cubicBezTo>
                  <a:pt x="24260" y="15679"/>
                  <a:pt x="24268" y="15671"/>
                  <a:pt x="24289" y="15657"/>
                </a:cubicBezTo>
                <a:cubicBezTo>
                  <a:pt x="24309" y="15644"/>
                  <a:pt x="24326" y="15652"/>
                  <a:pt x="24348" y="15637"/>
                </a:cubicBezTo>
                <a:cubicBezTo>
                  <a:pt x="24364" y="15627"/>
                  <a:pt x="24366" y="15609"/>
                  <a:pt x="24388" y="15597"/>
                </a:cubicBezTo>
                <a:cubicBezTo>
                  <a:pt x="24420" y="15579"/>
                  <a:pt x="24453" y="15553"/>
                  <a:pt x="24487" y="15538"/>
                </a:cubicBezTo>
                <a:cubicBezTo>
                  <a:pt x="24518" y="15524"/>
                  <a:pt x="24553" y="15519"/>
                  <a:pt x="24586" y="15498"/>
                </a:cubicBezTo>
                <a:cubicBezTo>
                  <a:pt x="24617" y="15478"/>
                  <a:pt x="24636" y="15463"/>
                  <a:pt x="24666" y="15438"/>
                </a:cubicBezTo>
                <a:cubicBezTo>
                  <a:pt x="24684" y="15423"/>
                  <a:pt x="24687" y="15402"/>
                  <a:pt x="24705" y="15379"/>
                </a:cubicBezTo>
                <a:cubicBezTo>
                  <a:pt x="24720" y="15360"/>
                  <a:pt x="24733" y="15367"/>
                  <a:pt x="24745" y="15339"/>
                </a:cubicBezTo>
                <a:cubicBezTo>
                  <a:pt x="24758" y="15309"/>
                  <a:pt x="24757" y="15292"/>
                  <a:pt x="24765" y="15260"/>
                </a:cubicBezTo>
                <a:cubicBezTo>
                  <a:pt x="24774" y="15225"/>
                  <a:pt x="24782" y="15171"/>
                  <a:pt x="24785" y="15141"/>
                </a:cubicBezTo>
                <a:cubicBezTo>
                  <a:pt x="24791" y="15080"/>
                  <a:pt x="24767" y="14990"/>
                  <a:pt x="24765" y="14962"/>
                </a:cubicBezTo>
                <a:cubicBezTo>
                  <a:pt x="24761" y="14906"/>
                  <a:pt x="24767" y="14870"/>
                  <a:pt x="24745" y="14823"/>
                </a:cubicBezTo>
                <a:cubicBezTo>
                  <a:pt x="24733" y="14797"/>
                  <a:pt x="24728" y="14795"/>
                  <a:pt x="24705" y="14764"/>
                </a:cubicBezTo>
                <a:cubicBezTo>
                  <a:pt x="24686" y="14744"/>
                  <a:pt x="24679" y="14737"/>
                  <a:pt x="24666" y="14724"/>
                </a:cubicBezTo>
              </a:path>
            </a:pathLst>
          </a:custGeom>
          <a:noFill/>
          <a:ln cap="rnd" w="34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93080" y="5157720"/>
            <a:ext cx="958680" cy="1457280"/>
          </a:xfrm>
          <a:custGeom>
            <a:avLst/>
            <a:gdLst/>
            <a:ahLst/>
            <a:rect l="l" t="t" r="r" b="b"/>
            <a:pathLst>
              <a:path w="2660" h="4049">
                <a:moveTo>
                  <a:pt x="24646" y="14724"/>
                </a:moveTo>
                <a:cubicBezTo>
                  <a:pt x="24636" y="14699"/>
                  <a:pt x="24599" y="14710"/>
                  <a:pt x="24606" y="14684"/>
                </a:cubicBezTo>
                <a:cubicBezTo>
                  <a:pt x="24612" y="14662"/>
                  <a:pt x="24555" y="14638"/>
                  <a:pt x="24626" y="14645"/>
                </a:cubicBezTo>
                <a:cubicBezTo>
                  <a:pt x="24659" y="14648"/>
                  <a:pt x="24673" y="14673"/>
                  <a:pt x="24705" y="14665"/>
                </a:cubicBezTo>
                <a:cubicBezTo>
                  <a:pt x="24722" y="14661"/>
                  <a:pt x="24712" y="14729"/>
                  <a:pt x="24725" y="14684"/>
                </a:cubicBezTo>
                <a:cubicBezTo>
                  <a:pt x="24738" y="14640"/>
                  <a:pt x="24710" y="14600"/>
                  <a:pt x="24705" y="14585"/>
                </a:cubicBezTo>
                <a:cubicBezTo>
                  <a:pt x="24694" y="14551"/>
                  <a:pt x="24702" y="14550"/>
                  <a:pt x="24686" y="14526"/>
                </a:cubicBezTo>
                <a:cubicBezTo>
                  <a:pt x="24684" y="14524"/>
                  <a:pt x="24649" y="14488"/>
                  <a:pt x="24646" y="14486"/>
                </a:cubicBezTo>
                <a:cubicBezTo>
                  <a:pt x="24625" y="14469"/>
                  <a:pt x="24612" y="14481"/>
                  <a:pt x="24586" y="14466"/>
                </a:cubicBezTo>
                <a:cubicBezTo>
                  <a:pt x="24577" y="14461"/>
                  <a:pt x="24548" y="14437"/>
                  <a:pt x="24527" y="14426"/>
                </a:cubicBezTo>
                <a:cubicBezTo>
                  <a:pt x="24504" y="14414"/>
                  <a:pt x="24512" y="14397"/>
                  <a:pt x="24487" y="14387"/>
                </a:cubicBezTo>
                <a:cubicBezTo>
                  <a:pt x="24456" y="14375"/>
                  <a:pt x="24452" y="14375"/>
                  <a:pt x="24428" y="14367"/>
                </a:cubicBezTo>
                <a:cubicBezTo>
                  <a:pt x="24384" y="14352"/>
                  <a:pt x="24316" y="14350"/>
                  <a:pt x="24269" y="14347"/>
                </a:cubicBezTo>
                <a:cubicBezTo>
                  <a:pt x="24210" y="14343"/>
                  <a:pt x="24137" y="14330"/>
                  <a:pt x="24090" y="14327"/>
                </a:cubicBezTo>
                <a:cubicBezTo>
                  <a:pt x="24007" y="14321"/>
                  <a:pt x="23903" y="14334"/>
                  <a:pt x="23852" y="14347"/>
                </a:cubicBezTo>
                <a:cubicBezTo>
                  <a:pt x="23832" y="14352"/>
                  <a:pt x="23759" y="14330"/>
                  <a:pt x="23773" y="14367"/>
                </a:cubicBezTo>
                <a:cubicBezTo>
                  <a:pt x="23791" y="14415"/>
                  <a:pt x="24107" y="14498"/>
                  <a:pt x="24150" y="14506"/>
                </a:cubicBezTo>
                <a:cubicBezTo>
                  <a:pt x="24373" y="14548"/>
                  <a:pt x="24601" y="14565"/>
                  <a:pt x="24825" y="14585"/>
                </a:cubicBezTo>
                <a:cubicBezTo>
                  <a:pt x="24838" y="14585"/>
                  <a:pt x="24851" y="14585"/>
                  <a:pt x="24864" y="14585"/>
                </a:cubicBezTo>
                <a:cubicBezTo>
                  <a:pt x="24718" y="14585"/>
                  <a:pt x="24572" y="14585"/>
                  <a:pt x="24428" y="14605"/>
                </a:cubicBezTo>
                <a:cubicBezTo>
                  <a:pt x="24381" y="14612"/>
                  <a:pt x="24394" y="14632"/>
                  <a:pt x="24348" y="14625"/>
                </a:cubicBezTo>
                <a:cubicBezTo>
                  <a:pt x="24284" y="14616"/>
                  <a:pt x="24320" y="14631"/>
                  <a:pt x="24269" y="14585"/>
                </a:cubicBezTo>
                <a:cubicBezTo>
                  <a:pt x="24220" y="14541"/>
                  <a:pt x="24245" y="14573"/>
                  <a:pt x="24249" y="14545"/>
                </a:cubicBezTo>
                <a:cubicBezTo>
                  <a:pt x="24256" y="14503"/>
                  <a:pt x="24247" y="14501"/>
                  <a:pt x="24289" y="14486"/>
                </a:cubicBezTo>
                <a:cubicBezTo>
                  <a:pt x="24330" y="14471"/>
                  <a:pt x="24415" y="14482"/>
                  <a:pt x="24428" y="14506"/>
                </a:cubicBezTo>
                <a:cubicBezTo>
                  <a:pt x="24454" y="14553"/>
                  <a:pt x="24401" y="14563"/>
                  <a:pt x="24388" y="14585"/>
                </a:cubicBezTo>
                <a:cubicBezTo>
                  <a:pt x="24341" y="14662"/>
                  <a:pt x="24232" y="14703"/>
                  <a:pt x="24150" y="14724"/>
                </a:cubicBezTo>
                <a:cubicBezTo>
                  <a:pt x="24073" y="14744"/>
                  <a:pt x="24011" y="14737"/>
                  <a:pt x="23932" y="14744"/>
                </a:cubicBezTo>
                <a:cubicBezTo>
                  <a:pt x="23868" y="14742"/>
                  <a:pt x="23747" y="14760"/>
                  <a:pt x="23693" y="14724"/>
                </a:cubicBezTo>
                <a:cubicBezTo>
                  <a:pt x="23655" y="14699"/>
                  <a:pt x="23661" y="14707"/>
                  <a:pt x="23654" y="14665"/>
                </a:cubicBezTo>
                <a:cubicBezTo>
                  <a:pt x="23649" y="14636"/>
                  <a:pt x="23667" y="14618"/>
                  <a:pt x="23693" y="14605"/>
                </a:cubicBezTo>
                <a:cubicBezTo>
                  <a:pt x="23738" y="14582"/>
                  <a:pt x="23782" y="14590"/>
                  <a:pt x="23832" y="14585"/>
                </a:cubicBezTo>
                <a:cubicBezTo>
                  <a:pt x="23953" y="14572"/>
                  <a:pt x="24199" y="14546"/>
                  <a:pt x="24309" y="14605"/>
                </a:cubicBezTo>
                <a:cubicBezTo>
                  <a:pt x="24382" y="14644"/>
                  <a:pt x="24313" y="14603"/>
                  <a:pt x="24348" y="14665"/>
                </a:cubicBezTo>
                <a:cubicBezTo>
                  <a:pt x="24362" y="14690"/>
                  <a:pt x="24338" y="14781"/>
                  <a:pt x="24328" y="14803"/>
                </a:cubicBezTo>
                <a:cubicBezTo>
                  <a:pt x="24304" y="14858"/>
                  <a:pt x="24317" y="14845"/>
                  <a:pt x="24269" y="14863"/>
                </a:cubicBezTo>
                <a:cubicBezTo>
                  <a:pt x="24226" y="14879"/>
                  <a:pt x="24126" y="14861"/>
                  <a:pt x="24090" y="14843"/>
                </a:cubicBezTo>
                <a:cubicBezTo>
                  <a:pt x="24051" y="14824"/>
                  <a:pt x="24006" y="14779"/>
                  <a:pt x="23991" y="14744"/>
                </a:cubicBezTo>
                <a:cubicBezTo>
                  <a:pt x="23959" y="14670"/>
                  <a:pt x="24010" y="14628"/>
                  <a:pt x="24031" y="14605"/>
                </a:cubicBezTo>
                <a:cubicBezTo>
                  <a:pt x="24038" y="14598"/>
                  <a:pt x="24132" y="14536"/>
                  <a:pt x="24150" y="14526"/>
                </a:cubicBezTo>
                <a:cubicBezTo>
                  <a:pt x="24194" y="14500"/>
                  <a:pt x="24241" y="14493"/>
                  <a:pt x="24289" y="14486"/>
                </a:cubicBezTo>
                <a:cubicBezTo>
                  <a:pt x="24345" y="14478"/>
                  <a:pt x="24504" y="14466"/>
                  <a:pt x="24547" y="14506"/>
                </a:cubicBezTo>
                <a:cubicBezTo>
                  <a:pt x="24571" y="14528"/>
                  <a:pt x="24561" y="14522"/>
                  <a:pt x="24567" y="14565"/>
                </a:cubicBezTo>
                <a:cubicBezTo>
                  <a:pt x="24577" y="14633"/>
                  <a:pt x="24565" y="14644"/>
                  <a:pt x="24527" y="14684"/>
                </a:cubicBezTo>
                <a:cubicBezTo>
                  <a:pt x="24502" y="14710"/>
                  <a:pt x="24438" y="14740"/>
                  <a:pt x="24408" y="14764"/>
                </a:cubicBezTo>
                <a:cubicBezTo>
                  <a:pt x="24307" y="14775"/>
                  <a:pt x="24215" y="14790"/>
                  <a:pt x="24110" y="14784"/>
                </a:cubicBezTo>
                <a:cubicBezTo>
                  <a:pt x="24019" y="14779"/>
                  <a:pt x="23860" y="14780"/>
                  <a:pt x="23793" y="14704"/>
                </a:cubicBezTo>
                <a:cubicBezTo>
                  <a:pt x="23747" y="14652"/>
                  <a:pt x="23795" y="14585"/>
                  <a:pt x="23793" y="14565"/>
                </a:cubicBezTo>
                <a:cubicBezTo>
                  <a:pt x="23793" y="14558"/>
                  <a:pt x="23793" y="14552"/>
                  <a:pt x="23793" y="14545"/>
                </a:cubicBezTo>
                <a:cubicBezTo>
                  <a:pt x="23821" y="14531"/>
                  <a:pt x="23841" y="14493"/>
                  <a:pt x="23872" y="14486"/>
                </a:cubicBezTo>
                <a:cubicBezTo>
                  <a:pt x="23961" y="14467"/>
                  <a:pt x="24254" y="14453"/>
                  <a:pt x="24328" y="14506"/>
                </a:cubicBezTo>
                <a:cubicBezTo>
                  <a:pt x="24345" y="14518"/>
                  <a:pt x="24368" y="14517"/>
                  <a:pt x="24368" y="14545"/>
                </a:cubicBezTo>
                <a:cubicBezTo>
                  <a:pt x="24368" y="14599"/>
                  <a:pt x="24355" y="14596"/>
                  <a:pt x="24309" y="14625"/>
                </a:cubicBezTo>
                <a:cubicBezTo>
                  <a:pt x="24277" y="14645"/>
                  <a:pt x="24249" y="14640"/>
                  <a:pt x="24209" y="14645"/>
                </a:cubicBezTo>
                <a:cubicBezTo>
                  <a:pt x="24147" y="14653"/>
                  <a:pt x="24082" y="14644"/>
                  <a:pt x="24031" y="14625"/>
                </a:cubicBezTo>
                <a:cubicBezTo>
                  <a:pt x="23985" y="14608"/>
                  <a:pt x="23933" y="14558"/>
                  <a:pt x="23912" y="14545"/>
                </a:cubicBezTo>
                <a:cubicBezTo>
                  <a:pt x="23924" y="14530"/>
                  <a:pt x="23858" y="14506"/>
                  <a:pt x="23912" y="14486"/>
                </a:cubicBezTo>
                <a:cubicBezTo>
                  <a:pt x="23940" y="14476"/>
                  <a:pt x="23961" y="14474"/>
                  <a:pt x="23991" y="14466"/>
                </a:cubicBezTo>
                <a:cubicBezTo>
                  <a:pt x="24017" y="14459"/>
                  <a:pt x="24046" y="14449"/>
                  <a:pt x="24070" y="14446"/>
                </a:cubicBezTo>
                <a:cubicBezTo>
                  <a:pt x="24129" y="14440"/>
                  <a:pt x="24299" y="14446"/>
                  <a:pt x="24289" y="14446"/>
                </a:cubicBezTo>
                <a:cubicBezTo>
                  <a:pt x="24228" y="14446"/>
                  <a:pt x="24038" y="14429"/>
                  <a:pt x="24051" y="14426"/>
                </a:cubicBezTo>
                <a:cubicBezTo>
                  <a:pt x="24135" y="14409"/>
                  <a:pt x="24488" y="14388"/>
                  <a:pt x="24527" y="14446"/>
                </a:cubicBezTo>
                <a:cubicBezTo>
                  <a:pt x="24554" y="14487"/>
                  <a:pt x="24509" y="14615"/>
                  <a:pt x="24507" y="14625"/>
                </a:cubicBezTo>
                <a:cubicBezTo>
                  <a:pt x="24502" y="14655"/>
                  <a:pt x="24489" y="14698"/>
                  <a:pt x="24487" y="14704"/>
                </a:cubicBezTo>
                <a:cubicBezTo>
                  <a:pt x="24479" y="14734"/>
                  <a:pt x="24472" y="14753"/>
                  <a:pt x="24467" y="14764"/>
                </a:cubicBezTo>
                <a:cubicBezTo>
                  <a:pt x="24451" y="14801"/>
                  <a:pt x="24440" y="14836"/>
                  <a:pt x="24428" y="14863"/>
                </a:cubicBezTo>
                <a:cubicBezTo>
                  <a:pt x="24414" y="14896"/>
                  <a:pt x="24392" y="14930"/>
                  <a:pt x="24388" y="14962"/>
                </a:cubicBezTo>
                <a:cubicBezTo>
                  <a:pt x="24378" y="15039"/>
                  <a:pt x="24373" y="15008"/>
                  <a:pt x="24388" y="14982"/>
                </a:cubicBezTo>
                <a:cubicBezTo>
                  <a:pt x="24393" y="14973"/>
                  <a:pt x="24417" y="14946"/>
                  <a:pt x="24428" y="14922"/>
                </a:cubicBezTo>
                <a:cubicBezTo>
                  <a:pt x="24453" y="14867"/>
                  <a:pt x="24442" y="14818"/>
                  <a:pt x="24467" y="14764"/>
                </a:cubicBezTo>
                <a:cubicBezTo>
                  <a:pt x="24472" y="14754"/>
                  <a:pt x="24503" y="14663"/>
                  <a:pt x="24527" y="14665"/>
                </a:cubicBezTo>
                <a:cubicBezTo>
                  <a:pt x="24530" y="14665"/>
                  <a:pt x="24518" y="14667"/>
                  <a:pt x="24527" y="14724"/>
                </a:cubicBezTo>
                <a:cubicBezTo>
                  <a:pt x="24543" y="14822"/>
                  <a:pt x="24513" y="14913"/>
                  <a:pt x="24487" y="15002"/>
                </a:cubicBezTo>
                <a:cubicBezTo>
                  <a:pt x="24472" y="15055"/>
                  <a:pt x="24465" y="15107"/>
                  <a:pt x="24447" y="15161"/>
                </a:cubicBezTo>
                <a:cubicBezTo>
                  <a:pt x="24432" y="15205"/>
                  <a:pt x="24400" y="15242"/>
                  <a:pt x="24388" y="15280"/>
                </a:cubicBezTo>
                <a:cubicBezTo>
                  <a:pt x="24379" y="15307"/>
                  <a:pt x="24372" y="15353"/>
                  <a:pt x="24368" y="15379"/>
                </a:cubicBezTo>
                <a:cubicBezTo>
                  <a:pt x="24359" y="15434"/>
                  <a:pt x="24388" y="15321"/>
                  <a:pt x="24388" y="15319"/>
                </a:cubicBezTo>
                <a:cubicBezTo>
                  <a:pt x="24411" y="15245"/>
                  <a:pt x="24416" y="15174"/>
                  <a:pt x="24467" y="15101"/>
                </a:cubicBezTo>
                <a:cubicBezTo>
                  <a:pt x="24526" y="15016"/>
                  <a:pt x="24633" y="14953"/>
                  <a:pt x="24686" y="14863"/>
                </a:cubicBezTo>
                <a:cubicBezTo>
                  <a:pt x="24700" y="14839"/>
                  <a:pt x="24735" y="14744"/>
                  <a:pt x="24745" y="14744"/>
                </a:cubicBezTo>
                <a:cubicBezTo>
                  <a:pt x="24801" y="14744"/>
                  <a:pt x="24734" y="14848"/>
                  <a:pt x="24725" y="14903"/>
                </a:cubicBezTo>
                <a:cubicBezTo>
                  <a:pt x="24713" y="14972"/>
                  <a:pt x="24664" y="15023"/>
                  <a:pt x="24646" y="15081"/>
                </a:cubicBezTo>
                <a:cubicBezTo>
                  <a:pt x="24619" y="15168"/>
                  <a:pt x="24600" y="15222"/>
                  <a:pt x="24567" y="15300"/>
                </a:cubicBezTo>
                <a:cubicBezTo>
                  <a:pt x="24564" y="15340"/>
                  <a:pt x="24515" y="15376"/>
                  <a:pt x="24547" y="15399"/>
                </a:cubicBezTo>
                <a:cubicBezTo>
                  <a:pt x="24577" y="15421"/>
                  <a:pt x="24518" y="15455"/>
                  <a:pt x="24547" y="15399"/>
                </a:cubicBezTo>
                <a:cubicBezTo>
                  <a:pt x="24571" y="15353"/>
                  <a:pt x="24568" y="15336"/>
                  <a:pt x="24586" y="15280"/>
                </a:cubicBezTo>
                <a:cubicBezTo>
                  <a:pt x="24606" y="15219"/>
                  <a:pt x="24623" y="15163"/>
                  <a:pt x="24646" y="15101"/>
                </a:cubicBezTo>
                <a:cubicBezTo>
                  <a:pt x="24666" y="15047"/>
                  <a:pt x="24704" y="15002"/>
                  <a:pt x="24686" y="15002"/>
                </a:cubicBezTo>
                <a:cubicBezTo>
                  <a:pt x="24619" y="15002"/>
                  <a:pt x="24575" y="15141"/>
                  <a:pt x="24547" y="15180"/>
                </a:cubicBezTo>
                <a:cubicBezTo>
                  <a:pt x="24513" y="15228"/>
                  <a:pt x="24468" y="15284"/>
                  <a:pt x="24428" y="15339"/>
                </a:cubicBezTo>
                <a:cubicBezTo>
                  <a:pt x="24411" y="15363"/>
                  <a:pt x="24408" y="15421"/>
                  <a:pt x="24388" y="15399"/>
                </a:cubicBezTo>
                <a:cubicBezTo>
                  <a:pt x="24384" y="15395"/>
                  <a:pt x="24406" y="15334"/>
                  <a:pt x="24408" y="15319"/>
                </a:cubicBezTo>
                <a:cubicBezTo>
                  <a:pt x="24416" y="15252"/>
                  <a:pt x="24433" y="15189"/>
                  <a:pt x="24447" y="15121"/>
                </a:cubicBezTo>
                <a:cubicBezTo>
                  <a:pt x="24470" y="15009"/>
                  <a:pt x="24546" y="14887"/>
                  <a:pt x="24567" y="14784"/>
                </a:cubicBezTo>
                <a:cubicBezTo>
                  <a:pt x="24585" y="14697"/>
                  <a:pt x="24600" y="14643"/>
                  <a:pt x="24626" y="14565"/>
                </a:cubicBezTo>
                <a:cubicBezTo>
                  <a:pt x="24626" y="14558"/>
                  <a:pt x="24626" y="14552"/>
                  <a:pt x="24626" y="14545"/>
                </a:cubicBezTo>
                <a:cubicBezTo>
                  <a:pt x="24617" y="14582"/>
                  <a:pt x="24620" y="14630"/>
                  <a:pt x="24606" y="14665"/>
                </a:cubicBezTo>
                <a:cubicBezTo>
                  <a:pt x="24573" y="14750"/>
                  <a:pt x="24547" y="14814"/>
                  <a:pt x="24527" y="14903"/>
                </a:cubicBezTo>
                <a:cubicBezTo>
                  <a:pt x="24516" y="14950"/>
                  <a:pt x="24509" y="15041"/>
                  <a:pt x="24487" y="15081"/>
                </a:cubicBezTo>
                <a:cubicBezTo>
                  <a:pt x="24474" y="15104"/>
                  <a:pt x="24480" y="15139"/>
                  <a:pt x="24487" y="15081"/>
                </a:cubicBezTo>
                <a:cubicBezTo>
                  <a:pt x="24494" y="15026"/>
                  <a:pt x="24497" y="14976"/>
                  <a:pt x="24507" y="14922"/>
                </a:cubicBezTo>
                <a:cubicBezTo>
                  <a:pt x="24516" y="14875"/>
                  <a:pt x="24506" y="14742"/>
                  <a:pt x="24527" y="14784"/>
                </a:cubicBezTo>
                <a:cubicBezTo>
                  <a:pt x="24634" y="14998"/>
                  <a:pt x="24663" y="15581"/>
                  <a:pt x="24447" y="15478"/>
                </a:cubicBezTo>
                <a:cubicBezTo>
                  <a:pt x="24430" y="15470"/>
                  <a:pt x="24465" y="15407"/>
                  <a:pt x="24467" y="15399"/>
                </a:cubicBezTo>
                <a:cubicBezTo>
                  <a:pt x="24478" y="15345"/>
                  <a:pt x="24485" y="15294"/>
                  <a:pt x="24507" y="15240"/>
                </a:cubicBezTo>
                <a:cubicBezTo>
                  <a:pt x="24546" y="15147"/>
                  <a:pt x="24594" y="15058"/>
                  <a:pt x="24626" y="14962"/>
                </a:cubicBezTo>
                <a:cubicBezTo>
                  <a:pt x="24651" y="14890"/>
                  <a:pt x="24657" y="14792"/>
                  <a:pt x="24686" y="14724"/>
                </a:cubicBezTo>
                <a:cubicBezTo>
                  <a:pt x="24705" y="14679"/>
                  <a:pt x="24728" y="14645"/>
                  <a:pt x="24745" y="14605"/>
                </a:cubicBezTo>
                <a:cubicBezTo>
                  <a:pt x="24737" y="14630"/>
                  <a:pt x="24749" y="14619"/>
                  <a:pt x="24745" y="14645"/>
                </a:cubicBezTo>
                <a:cubicBezTo>
                  <a:pt x="24742" y="14666"/>
                  <a:pt x="24735" y="14740"/>
                  <a:pt x="24725" y="14764"/>
                </a:cubicBezTo>
                <a:cubicBezTo>
                  <a:pt x="24710" y="14801"/>
                  <a:pt x="24681" y="14811"/>
                  <a:pt x="24666" y="14863"/>
                </a:cubicBezTo>
                <a:cubicBezTo>
                  <a:pt x="24654" y="14904"/>
                  <a:pt x="24662" y="15021"/>
                  <a:pt x="24646" y="14982"/>
                </a:cubicBezTo>
                <a:cubicBezTo>
                  <a:pt x="24627" y="14934"/>
                  <a:pt x="24658" y="14747"/>
                  <a:pt x="24646" y="14764"/>
                </a:cubicBezTo>
                <a:cubicBezTo>
                  <a:pt x="24640" y="14772"/>
                  <a:pt x="24627" y="14855"/>
                  <a:pt x="24626" y="14863"/>
                </a:cubicBezTo>
                <a:cubicBezTo>
                  <a:pt x="24616" y="14992"/>
                  <a:pt x="24623" y="15115"/>
                  <a:pt x="24606" y="15240"/>
                </a:cubicBezTo>
                <a:cubicBezTo>
                  <a:pt x="24598" y="15297"/>
                  <a:pt x="24600" y="15344"/>
                  <a:pt x="24586" y="15399"/>
                </a:cubicBezTo>
                <a:cubicBezTo>
                  <a:pt x="24576" y="15437"/>
                  <a:pt x="24557" y="15479"/>
                  <a:pt x="24547" y="15518"/>
                </a:cubicBezTo>
                <a:cubicBezTo>
                  <a:pt x="24532" y="15543"/>
                  <a:pt x="24545" y="15557"/>
                  <a:pt x="24527" y="15577"/>
                </a:cubicBezTo>
                <a:cubicBezTo>
                  <a:pt x="24515" y="15590"/>
                  <a:pt x="24500" y="15603"/>
                  <a:pt x="24487" y="15617"/>
                </a:cubicBezTo>
                <a:cubicBezTo>
                  <a:pt x="24453" y="15655"/>
                  <a:pt x="24462" y="15634"/>
                  <a:pt x="24428" y="15657"/>
                </a:cubicBezTo>
                <a:cubicBezTo>
                  <a:pt x="24407" y="15671"/>
                  <a:pt x="24406" y="15666"/>
                  <a:pt x="24368" y="15677"/>
                </a:cubicBezTo>
                <a:cubicBezTo>
                  <a:pt x="24334" y="15687"/>
                  <a:pt x="24269" y="15732"/>
                  <a:pt x="24269" y="15696"/>
                </a:cubicBezTo>
                <a:cubicBezTo>
                  <a:pt x="24269" y="15631"/>
                  <a:pt x="24320" y="15630"/>
                  <a:pt x="24348" y="15577"/>
                </a:cubicBezTo>
                <a:cubicBezTo>
                  <a:pt x="24380" y="15515"/>
                  <a:pt x="24447" y="15459"/>
                  <a:pt x="24467" y="15399"/>
                </a:cubicBezTo>
                <a:cubicBezTo>
                  <a:pt x="24477" y="15367"/>
                  <a:pt x="24500" y="15344"/>
                  <a:pt x="24467" y="15339"/>
                </a:cubicBezTo>
                <a:cubicBezTo>
                  <a:pt x="24409" y="15330"/>
                  <a:pt x="24310" y="15448"/>
                  <a:pt x="24269" y="15478"/>
                </a:cubicBezTo>
                <a:cubicBezTo>
                  <a:pt x="24211" y="15520"/>
                  <a:pt x="24151" y="15562"/>
                  <a:pt x="24090" y="15597"/>
                </a:cubicBezTo>
                <a:cubicBezTo>
                  <a:pt x="24050" y="15620"/>
                  <a:pt x="24080" y="15611"/>
                  <a:pt x="24090" y="15597"/>
                </a:cubicBezTo>
                <a:cubicBezTo>
                  <a:pt x="24118" y="15558"/>
                  <a:pt x="24163" y="15531"/>
                  <a:pt x="24190" y="15498"/>
                </a:cubicBezTo>
                <a:cubicBezTo>
                  <a:pt x="24287" y="15379"/>
                  <a:pt x="24360" y="15247"/>
                  <a:pt x="24447" y="15121"/>
                </a:cubicBezTo>
                <a:cubicBezTo>
                  <a:pt x="24480" y="15073"/>
                  <a:pt x="24623" y="14899"/>
                  <a:pt x="24547" y="14903"/>
                </a:cubicBezTo>
                <a:cubicBezTo>
                  <a:pt x="24439" y="14908"/>
                  <a:pt x="24212" y="15154"/>
                  <a:pt x="24130" y="15220"/>
                </a:cubicBezTo>
                <a:cubicBezTo>
                  <a:pt x="24107" y="15239"/>
                  <a:pt x="23847" y="15486"/>
                  <a:pt x="23812" y="15458"/>
                </a:cubicBezTo>
                <a:cubicBezTo>
                  <a:pt x="23779" y="15431"/>
                  <a:pt x="23868" y="15414"/>
                  <a:pt x="23892" y="15379"/>
                </a:cubicBezTo>
                <a:cubicBezTo>
                  <a:pt x="23946" y="15300"/>
                  <a:pt x="24006" y="15214"/>
                  <a:pt x="24070" y="15141"/>
                </a:cubicBezTo>
                <a:cubicBezTo>
                  <a:pt x="24130" y="15061"/>
                  <a:pt x="24149" y="15035"/>
                  <a:pt x="24209" y="15002"/>
                </a:cubicBezTo>
                <a:cubicBezTo>
                  <a:pt x="24237" y="14945"/>
                  <a:pt x="24265" y="14879"/>
                  <a:pt x="24289" y="14823"/>
                </a:cubicBezTo>
                <a:cubicBezTo>
                  <a:pt x="24247" y="14908"/>
                  <a:pt x="24226" y="14982"/>
                  <a:pt x="24170" y="15061"/>
                </a:cubicBezTo>
                <a:cubicBezTo>
                  <a:pt x="24060" y="15215"/>
                  <a:pt x="23929" y="15367"/>
                  <a:pt x="23812" y="15518"/>
                </a:cubicBezTo>
                <a:cubicBezTo>
                  <a:pt x="23784" y="15554"/>
                  <a:pt x="23729" y="15617"/>
                  <a:pt x="23713" y="15657"/>
                </a:cubicBezTo>
                <a:cubicBezTo>
                  <a:pt x="23733" y="15657"/>
                  <a:pt x="23740" y="15657"/>
                  <a:pt x="23753" y="15657"/>
                </a:cubicBezTo>
                <a:cubicBezTo>
                  <a:pt x="23799" y="15573"/>
                  <a:pt x="23831" y="15534"/>
                  <a:pt x="23892" y="15458"/>
                </a:cubicBezTo>
                <a:cubicBezTo>
                  <a:pt x="23992" y="15333"/>
                  <a:pt x="24068" y="15181"/>
                  <a:pt x="24170" y="15061"/>
                </a:cubicBezTo>
                <a:cubicBezTo>
                  <a:pt x="24253" y="14963"/>
                  <a:pt x="24209" y="15002"/>
                  <a:pt x="24209" y="15042"/>
                </a:cubicBezTo>
                <a:cubicBezTo>
                  <a:pt x="24210" y="15129"/>
                  <a:pt x="24099" y="15237"/>
                  <a:pt x="24051" y="15300"/>
                </a:cubicBezTo>
                <a:cubicBezTo>
                  <a:pt x="23986" y="15385"/>
                  <a:pt x="23923" y="15462"/>
                  <a:pt x="23872" y="15557"/>
                </a:cubicBezTo>
                <a:cubicBezTo>
                  <a:pt x="23864" y="15572"/>
                  <a:pt x="23827" y="15628"/>
                  <a:pt x="23852" y="15597"/>
                </a:cubicBezTo>
                <a:cubicBezTo>
                  <a:pt x="23882" y="15559"/>
                  <a:pt x="23903" y="15516"/>
                  <a:pt x="23932" y="15478"/>
                </a:cubicBezTo>
                <a:cubicBezTo>
                  <a:pt x="24003" y="15387"/>
                  <a:pt x="24067" y="15298"/>
                  <a:pt x="24130" y="15200"/>
                </a:cubicBezTo>
                <a:cubicBezTo>
                  <a:pt x="24193" y="15103"/>
                  <a:pt x="24246" y="15006"/>
                  <a:pt x="24328" y="14922"/>
                </a:cubicBezTo>
                <a:cubicBezTo>
                  <a:pt x="24385" y="14863"/>
                  <a:pt x="24374" y="14871"/>
                  <a:pt x="24368" y="14903"/>
                </a:cubicBezTo>
                <a:cubicBezTo>
                  <a:pt x="24357" y="14961"/>
                  <a:pt x="24301" y="15076"/>
                  <a:pt x="24269" y="15121"/>
                </a:cubicBezTo>
                <a:cubicBezTo>
                  <a:pt x="24187" y="15237"/>
                  <a:pt x="24095" y="15343"/>
                  <a:pt x="24011" y="15458"/>
                </a:cubicBezTo>
                <a:cubicBezTo>
                  <a:pt x="23968" y="15517"/>
                  <a:pt x="23852" y="15698"/>
                  <a:pt x="23892" y="15637"/>
                </a:cubicBezTo>
                <a:cubicBezTo>
                  <a:pt x="23914" y="15604"/>
                  <a:pt x="23948" y="15569"/>
                  <a:pt x="23971" y="15518"/>
                </a:cubicBezTo>
                <a:cubicBezTo>
                  <a:pt x="24021" y="15406"/>
                  <a:pt x="24083" y="15290"/>
                  <a:pt x="24130" y="15180"/>
                </a:cubicBezTo>
                <a:cubicBezTo>
                  <a:pt x="24168" y="15092"/>
                  <a:pt x="24193" y="14993"/>
                  <a:pt x="24229" y="14903"/>
                </a:cubicBezTo>
                <a:cubicBezTo>
                  <a:pt x="24229" y="14883"/>
                  <a:pt x="24229" y="14876"/>
                  <a:pt x="24229" y="14903"/>
                </a:cubicBezTo>
                <a:cubicBezTo>
                  <a:pt x="24193" y="14989"/>
                  <a:pt x="24189" y="15041"/>
                  <a:pt x="24130" y="15121"/>
                </a:cubicBezTo>
                <a:cubicBezTo>
                  <a:pt x="24054" y="15224"/>
                  <a:pt x="23993" y="15335"/>
                  <a:pt x="23912" y="15438"/>
                </a:cubicBezTo>
                <a:cubicBezTo>
                  <a:pt x="23892" y="15458"/>
                  <a:pt x="23872" y="15478"/>
                  <a:pt x="23852" y="15498"/>
                </a:cubicBezTo>
                <a:cubicBezTo>
                  <a:pt x="23883" y="15476"/>
                  <a:pt x="23882" y="15481"/>
                  <a:pt x="23912" y="15458"/>
                </a:cubicBezTo>
                <a:cubicBezTo>
                  <a:pt x="24019" y="15376"/>
                  <a:pt x="24067" y="15266"/>
                  <a:pt x="24150" y="15161"/>
                </a:cubicBezTo>
                <a:cubicBezTo>
                  <a:pt x="24163" y="15144"/>
                  <a:pt x="24351" y="14949"/>
                  <a:pt x="24309" y="14922"/>
                </a:cubicBezTo>
                <a:cubicBezTo>
                  <a:pt x="24305" y="14920"/>
                  <a:pt x="24299" y="14920"/>
                  <a:pt x="24269" y="14962"/>
                </a:cubicBezTo>
                <a:cubicBezTo>
                  <a:pt x="24222" y="15028"/>
                  <a:pt x="24199" y="15107"/>
                  <a:pt x="24170" y="15180"/>
                </a:cubicBezTo>
                <a:cubicBezTo>
                  <a:pt x="24162" y="15201"/>
                  <a:pt x="24105" y="15411"/>
                  <a:pt x="24130" y="15399"/>
                </a:cubicBezTo>
                <a:cubicBezTo>
                  <a:pt x="24164" y="15383"/>
                  <a:pt x="24150" y="15331"/>
                  <a:pt x="24170" y="15300"/>
                </a:cubicBezTo>
                <a:cubicBezTo>
                  <a:pt x="24209" y="15240"/>
                  <a:pt x="24248" y="15181"/>
                  <a:pt x="24289" y="15121"/>
                </a:cubicBezTo>
                <a:cubicBezTo>
                  <a:pt x="24303" y="15100"/>
                  <a:pt x="24367" y="15013"/>
                  <a:pt x="24388" y="15002"/>
                </a:cubicBezTo>
                <a:cubicBezTo>
                  <a:pt x="24419" y="14986"/>
                  <a:pt x="24364" y="15050"/>
                  <a:pt x="24348" y="15081"/>
                </a:cubicBezTo>
                <a:cubicBezTo>
                  <a:pt x="24311" y="15153"/>
                  <a:pt x="24254" y="15222"/>
                  <a:pt x="24229" y="15300"/>
                </a:cubicBezTo>
                <a:cubicBezTo>
                  <a:pt x="24217" y="15338"/>
                  <a:pt x="24163" y="15481"/>
                  <a:pt x="24170" y="15518"/>
                </a:cubicBezTo>
                <a:cubicBezTo>
                  <a:pt x="24182" y="15583"/>
                  <a:pt x="24165" y="15532"/>
                  <a:pt x="24190" y="15518"/>
                </a:cubicBezTo>
                <a:cubicBezTo>
                  <a:pt x="24242" y="15488"/>
                  <a:pt x="24261" y="15427"/>
                  <a:pt x="24289" y="15379"/>
                </a:cubicBezTo>
                <a:cubicBezTo>
                  <a:pt x="24334" y="15303"/>
                  <a:pt x="24370" y="15230"/>
                  <a:pt x="24428" y="15161"/>
                </a:cubicBezTo>
                <a:cubicBezTo>
                  <a:pt x="24442" y="15144"/>
                  <a:pt x="24491" y="15073"/>
                  <a:pt x="24467" y="15101"/>
                </a:cubicBezTo>
                <a:cubicBezTo>
                  <a:pt x="24455" y="15115"/>
                  <a:pt x="24421" y="15163"/>
                  <a:pt x="24408" y="15180"/>
                </a:cubicBezTo>
                <a:cubicBezTo>
                  <a:pt x="24336" y="15267"/>
                  <a:pt x="24262" y="15352"/>
                  <a:pt x="24190" y="15438"/>
                </a:cubicBezTo>
                <a:cubicBezTo>
                  <a:pt x="24097" y="15549"/>
                  <a:pt x="24062" y="15890"/>
                  <a:pt x="23951" y="15796"/>
                </a:cubicBezTo>
                <a:cubicBezTo>
                  <a:pt x="23920" y="15770"/>
                  <a:pt x="23945" y="15769"/>
                  <a:pt x="23932" y="15716"/>
                </a:cubicBezTo>
                <a:cubicBezTo>
                  <a:pt x="23916" y="15651"/>
                  <a:pt x="23951" y="15470"/>
                  <a:pt x="23951" y="15399"/>
                </a:cubicBezTo>
                <a:cubicBezTo>
                  <a:pt x="23951" y="15179"/>
                  <a:pt x="23958" y="14962"/>
                  <a:pt x="23971" y="14744"/>
                </a:cubicBezTo>
                <a:cubicBezTo>
                  <a:pt x="23975" y="14682"/>
                  <a:pt x="23977" y="14643"/>
                  <a:pt x="23971" y="14645"/>
                </a:cubicBezTo>
                <a:cubicBezTo>
                  <a:pt x="23906" y="14669"/>
                  <a:pt x="23926" y="14757"/>
                  <a:pt x="23912" y="14803"/>
                </a:cubicBezTo>
                <a:cubicBezTo>
                  <a:pt x="23886" y="14887"/>
                  <a:pt x="23859" y="14975"/>
                  <a:pt x="23852" y="15061"/>
                </a:cubicBezTo>
                <a:cubicBezTo>
                  <a:pt x="23847" y="15123"/>
                  <a:pt x="23850" y="15200"/>
                  <a:pt x="23852" y="15200"/>
                </a:cubicBezTo>
                <a:cubicBezTo>
                  <a:pt x="23966" y="15176"/>
                  <a:pt x="24075" y="14826"/>
                  <a:pt x="24070" y="14942"/>
                </a:cubicBezTo>
                <a:cubicBezTo>
                  <a:pt x="24067" y="15006"/>
                  <a:pt x="24000" y="15160"/>
                  <a:pt x="23971" y="15220"/>
                </a:cubicBezTo>
                <a:cubicBezTo>
                  <a:pt x="23896" y="15374"/>
                  <a:pt x="23818" y="15518"/>
                  <a:pt x="23753" y="15677"/>
                </a:cubicBezTo>
                <a:cubicBezTo>
                  <a:pt x="23718" y="15761"/>
                  <a:pt x="23712" y="15812"/>
                  <a:pt x="23693" y="15895"/>
                </a:cubicBezTo>
                <a:cubicBezTo>
                  <a:pt x="23701" y="15876"/>
                  <a:pt x="23731" y="15820"/>
                  <a:pt x="23733" y="15815"/>
                </a:cubicBezTo>
                <a:cubicBezTo>
                  <a:pt x="23773" y="15700"/>
                  <a:pt x="23819" y="15608"/>
                  <a:pt x="23872" y="15498"/>
                </a:cubicBezTo>
                <a:cubicBezTo>
                  <a:pt x="23913" y="15413"/>
                  <a:pt x="23929" y="15351"/>
                  <a:pt x="23951" y="15260"/>
                </a:cubicBezTo>
                <a:cubicBezTo>
                  <a:pt x="23938" y="15290"/>
                  <a:pt x="23965" y="15250"/>
                  <a:pt x="23951" y="15280"/>
                </a:cubicBezTo>
                <a:cubicBezTo>
                  <a:pt x="23852" y="15486"/>
                  <a:pt x="23702" y="15631"/>
                  <a:pt x="23574" y="15815"/>
                </a:cubicBezTo>
                <a:cubicBezTo>
                  <a:pt x="23488" y="15939"/>
                  <a:pt x="23363" y="16055"/>
                  <a:pt x="23297" y="16192"/>
                </a:cubicBezTo>
                <a:cubicBezTo>
                  <a:pt x="23276" y="16236"/>
                  <a:pt x="23244" y="16381"/>
                  <a:pt x="23257" y="16371"/>
                </a:cubicBezTo>
                <a:cubicBezTo>
                  <a:pt x="23314" y="16324"/>
                  <a:pt x="23329" y="16253"/>
                  <a:pt x="23376" y="16192"/>
                </a:cubicBezTo>
                <a:cubicBezTo>
                  <a:pt x="23389" y="16175"/>
                  <a:pt x="23483" y="16039"/>
                  <a:pt x="23495" y="16034"/>
                </a:cubicBezTo>
                <a:cubicBezTo>
                  <a:pt x="23535" y="16019"/>
                  <a:pt x="23521" y="16081"/>
                  <a:pt x="23515" y="16133"/>
                </a:cubicBezTo>
                <a:cubicBezTo>
                  <a:pt x="23501" y="16255"/>
                  <a:pt x="23462" y="16408"/>
                  <a:pt x="23416" y="16530"/>
                </a:cubicBezTo>
                <a:cubicBezTo>
                  <a:pt x="23415" y="16532"/>
                  <a:pt x="23306" y="16792"/>
                  <a:pt x="23336" y="16788"/>
                </a:cubicBezTo>
                <a:cubicBezTo>
                  <a:pt x="23342" y="16787"/>
                  <a:pt x="23387" y="16681"/>
                  <a:pt x="23396" y="16669"/>
                </a:cubicBezTo>
                <a:cubicBezTo>
                  <a:pt x="23510" y="16516"/>
                  <a:pt x="23604" y="16342"/>
                  <a:pt x="23713" y="16192"/>
                </a:cubicBezTo>
                <a:cubicBezTo>
                  <a:pt x="23788" y="16088"/>
                  <a:pt x="23872" y="16022"/>
                  <a:pt x="23912" y="15895"/>
                </a:cubicBezTo>
                <a:cubicBezTo>
                  <a:pt x="23936" y="15820"/>
                  <a:pt x="23946" y="15752"/>
                  <a:pt x="23971" y="15677"/>
                </a:cubicBezTo>
                <a:cubicBezTo>
                  <a:pt x="23971" y="15641"/>
                  <a:pt x="23968" y="15630"/>
                  <a:pt x="23991" y="15617"/>
                </a:cubicBezTo>
                <a:cubicBezTo>
                  <a:pt x="23991" y="15610"/>
                  <a:pt x="23991" y="15604"/>
                  <a:pt x="23991" y="15597"/>
                </a:cubicBezTo>
                <a:cubicBezTo>
                  <a:pt x="23970" y="15618"/>
                  <a:pt x="23986" y="15572"/>
                  <a:pt x="23971" y="15597"/>
                </a:cubicBezTo>
                <a:cubicBezTo>
                  <a:pt x="23933" y="15661"/>
                  <a:pt x="23898" y="15735"/>
                  <a:pt x="23852" y="15796"/>
                </a:cubicBezTo>
                <a:cubicBezTo>
                  <a:pt x="23787" y="15883"/>
                  <a:pt x="23720" y="15967"/>
                  <a:pt x="23654" y="16054"/>
                </a:cubicBezTo>
                <a:cubicBezTo>
                  <a:pt x="23622" y="16095"/>
                  <a:pt x="23596" y="16132"/>
                  <a:pt x="23574" y="16173"/>
                </a:cubicBezTo>
                <a:cubicBezTo>
                  <a:pt x="23568" y="16184"/>
                  <a:pt x="23545" y="16282"/>
                  <a:pt x="23555" y="16232"/>
                </a:cubicBezTo>
                <a:cubicBezTo>
                  <a:pt x="23565" y="16183"/>
                  <a:pt x="23592" y="16089"/>
                  <a:pt x="23614" y="16034"/>
                </a:cubicBezTo>
                <a:cubicBezTo>
                  <a:pt x="23662" y="15912"/>
                  <a:pt x="23715" y="15793"/>
                  <a:pt x="23773" y="15677"/>
                </a:cubicBezTo>
                <a:cubicBezTo>
                  <a:pt x="23805" y="15613"/>
                  <a:pt x="23884" y="15430"/>
                  <a:pt x="23832" y="15478"/>
                </a:cubicBezTo>
                <a:cubicBezTo>
                  <a:pt x="23762" y="15543"/>
                  <a:pt x="23680" y="15749"/>
                  <a:pt x="23614" y="15835"/>
                </a:cubicBezTo>
                <a:cubicBezTo>
                  <a:pt x="23482" y="16007"/>
                  <a:pt x="23337" y="16170"/>
                  <a:pt x="23217" y="16351"/>
                </a:cubicBezTo>
                <a:cubicBezTo>
                  <a:pt x="23195" y="16384"/>
                  <a:pt x="23107" y="16560"/>
                  <a:pt x="23138" y="16609"/>
                </a:cubicBezTo>
                <a:cubicBezTo>
                  <a:pt x="23154" y="16635"/>
                  <a:pt x="23167" y="16546"/>
                  <a:pt x="23197" y="16550"/>
                </a:cubicBezTo>
                <a:cubicBezTo>
                  <a:pt x="23251" y="16428"/>
                  <a:pt x="23294" y="16298"/>
                  <a:pt x="23376" y="16192"/>
                </a:cubicBezTo>
                <a:cubicBezTo>
                  <a:pt x="23465" y="16077"/>
                  <a:pt x="23588" y="15980"/>
                  <a:pt x="23674" y="15855"/>
                </a:cubicBezTo>
                <a:cubicBezTo>
                  <a:pt x="23710" y="15802"/>
                  <a:pt x="23733" y="15732"/>
                  <a:pt x="23753" y="15736"/>
                </a:cubicBezTo>
                <a:cubicBezTo>
                  <a:pt x="23811" y="15746"/>
                  <a:pt x="23716" y="15841"/>
                  <a:pt x="23693" y="15895"/>
                </a:cubicBezTo>
                <a:cubicBezTo>
                  <a:pt x="23635" y="16032"/>
                  <a:pt x="23590" y="16174"/>
                  <a:pt x="23535" y="16312"/>
                </a:cubicBezTo>
                <a:cubicBezTo>
                  <a:pt x="23512" y="16370"/>
                  <a:pt x="23441" y="16490"/>
                  <a:pt x="23435" y="16550"/>
                </a:cubicBezTo>
                <a:cubicBezTo>
                  <a:pt x="23431" y="16595"/>
                  <a:pt x="23463" y="16506"/>
                  <a:pt x="23475" y="16490"/>
                </a:cubicBezTo>
                <a:cubicBezTo>
                  <a:pt x="23551" y="16385"/>
                  <a:pt x="23569" y="16290"/>
                  <a:pt x="23614" y="16173"/>
                </a:cubicBezTo>
                <a:cubicBezTo>
                  <a:pt x="23661" y="16050"/>
                  <a:pt x="23726" y="15936"/>
                  <a:pt x="23773" y="15815"/>
                </a:cubicBezTo>
                <a:cubicBezTo>
                  <a:pt x="23795" y="15757"/>
                  <a:pt x="23767" y="15720"/>
                  <a:pt x="23812" y="15677"/>
                </a:cubicBezTo>
                <a:cubicBezTo>
                  <a:pt x="23812" y="15724"/>
                  <a:pt x="23810" y="15745"/>
                  <a:pt x="23793" y="15776"/>
                </a:cubicBezTo>
                <a:cubicBezTo>
                  <a:pt x="23736" y="15893"/>
                  <a:pt x="23683" y="16011"/>
                  <a:pt x="23634" y="16133"/>
                </a:cubicBezTo>
                <a:cubicBezTo>
                  <a:pt x="23599" y="16219"/>
                  <a:pt x="23558" y="16290"/>
                  <a:pt x="23515" y="16371"/>
                </a:cubicBezTo>
                <a:cubicBezTo>
                  <a:pt x="23528" y="16415"/>
                  <a:pt x="23497" y="16473"/>
                  <a:pt x="23515" y="16450"/>
                </a:cubicBezTo>
                <a:cubicBezTo>
                  <a:pt x="23546" y="16410"/>
                  <a:pt x="23540" y="16360"/>
                  <a:pt x="23555" y="16312"/>
                </a:cubicBezTo>
                <a:cubicBezTo>
                  <a:pt x="23589" y="16201"/>
                  <a:pt x="23625" y="16078"/>
                  <a:pt x="23674" y="15974"/>
                </a:cubicBezTo>
                <a:cubicBezTo>
                  <a:pt x="23702" y="15914"/>
                  <a:pt x="23767" y="15731"/>
                  <a:pt x="23753" y="15796"/>
                </a:cubicBezTo>
                <a:cubicBezTo>
                  <a:pt x="23744" y="15840"/>
                  <a:pt x="23731" y="15871"/>
                  <a:pt x="23713" y="15915"/>
                </a:cubicBezTo>
                <a:cubicBezTo>
                  <a:pt x="23682" y="15991"/>
                  <a:pt x="23677" y="16054"/>
                  <a:pt x="23654" y="16133"/>
                </a:cubicBezTo>
                <a:cubicBezTo>
                  <a:pt x="23653" y="16138"/>
                  <a:pt x="23587" y="16272"/>
                  <a:pt x="23614" y="16272"/>
                </a:cubicBezTo>
                <a:cubicBezTo>
                  <a:pt x="23627" y="16272"/>
                  <a:pt x="23662" y="16209"/>
                  <a:pt x="23674" y="16192"/>
                </a:cubicBezTo>
                <a:cubicBezTo>
                  <a:pt x="23712" y="16137"/>
                  <a:pt x="23752" y="16087"/>
                  <a:pt x="23793" y="16034"/>
                </a:cubicBezTo>
                <a:cubicBezTo>
                  <a:pt x="23815" y="16005"/>
                  <a:pt x="23831" y="15939"/>
                  <a:pt x="23852" y="15974"/>
                </a:cubicBezTo>
                <a:cubicBezTo>
                  <a:pt x="23879" y="16019"/>
                  <a:pt x="23826" y="16114"/>
                  <a:pt x="23812" y="16153"/>
                </a:cubicBezTo>
                <a:cubicBezTo>
                  <a:pt x="23783" y="16232"/>
                  <a:pt x="23720" y="16310"/>
                  <a:pt x="23713" y="16391"/>
                </a:cubicBezTo>
                <a:cubicBezTo>
                  <a:pt x="23711" y="16410"/>
                  <a:pt x="23697" y="16497"/>
                  <a:pt x="23733" y="16490"/>
                </a:cubicBezTo>
                <a:cubicBezTo>
                  <a:pt x="23750" y="16487"/>
                  <a:pt x="23858" y="16349"/>
                  <a:pt x="23872" y="16331"/>
                </a:cubicBezTo>
                <a:cubicBezTo>
                  <a:pt x="23921" y="16266"/>
                  <a:pt x="23960" y="16199"/>
                  <a:pt x="24011" y="16133"/>
                </a:cubicBezTo>
                <a:cubicBezTo>
                  <a:pt x="24040" y="16095"/>
                  <a:pt x="24073" y="16032"/>
                  <a:pt x="24090" y="16054"/>
                </a:cubicBezTo>
                <a:cubicBezTo>
                  <a:pt x="24129" y="16105"/>
                  <a:pt x="24048" y="16170"/>
                  <a:pt x="24031" y="16232"/>
                </a:cubicBezTo>
                <a:cubicBezTo>
                  <a:pt x="24012" y="16301"/>
                  <a:pt x="23968" y="16362"/>
                  <a:pt x="23951" y="16431"/>
                </a:cubicBezTo>
                <a:cubicBezTo>
                  <a:pt x="23945" y="16456"/>
                  <a:pt x="23909" y="16478"/>
                  <a:pt x="23932" y="16490"/>
                </a:cubicBezTo>
                <a:cubicBezTo>
                  <a:pt x="23966" y="16508"/>
                  <a:pt x="23947" y="16445"/>
                  <a:pt x="23951" y="16431"/>
                </a:cubicBezTo>
                <a:cubicBezTo>
                  <a:pt x="23966" y="16384"/>
                  <a:pt x="24021" y="16313"/>
                  <a:pt x="24051" y="16252"/>
                </a:cubicBezTo>
                <a:cubicBezTo>
                  <a:pt x="24062" y="16230"/>
                  <a:pt x="24048" y="16178"/>
                  <a:pt x="24070" y="16173"/>
                </a:cubicBezTo>
                <a:cubicBezTo>
                  <a:pt x="24129" y="16161"/>
                  <a:pt x="24054" y="16223"/>
                  <a:pt x="24051" y="16232"/>
                </a:cubicBezTo>
                <a:cubicBezTo>
                  <a:pt x="24023" y="16306"/>
                  <a:pt x="23976" y="16392"/>
                  <a:pt x="23951" y="16470"/>
                </a:cubicBezTo>
                <a:cubicBezTo>
                  <a:pt x="23922" y="16561"/>
                  <a:pt x="23789" y="16777"/>
                  <a:pt x="23872" y="16728"/>
                </a:cubicBezTo>
                <a:cubicBezTo>
                  <a:pt x="23888" y="16719"/>
                  <a:pt x="23916" y="16697"/>
                  <a:pt x="23932" y="16669"/>
                </a:cubicBezTo>
                <a:cubicBezTo>
                  <a:pt x="23970" y="16604"/>
                  <a:pt x="24010" y="16477"/>
                  <a:pt x="24090" y="16450"/>
                </a:cubicBezTo>
                <a:cubicBezTo>
                  <a:pt x="24141" y="16433"/>
                  <a:pt x="24096" y="16465"/>
                  <a:pt x="24090" y="16510"/>
                </a:cubicBezTo>
                <a:cubicBezTo>
                  <a:pt x="24083" y="16558"/>
                  <a:pt x="24048" y="16643"/>
                  <a:pt x="24031" y="16689"/>
                </a:cubicBezTo>
                <a:cubicBezTo>
                  <a:pt x="24017" y="16726"/>
                  <a:pt x="24005" y="16709"/>
                  <a:pt x="24011" y="16708"/>
                </a:cubicBezTo>
                <a:cubicBezTo>
                  <a:pt x="24056" y="16703"/>
                  <a:pt x="24084" y="16666"/>
                  <a:pt x="24110" y="16629"/>
                </a:cubicBezTo>
                <a:cubicBezTo>
                  <a:pt x="24150" y="16570"/>
                  <a:pt x="24167" y="16507"/>
                  <a:pt x="24209" y="16450"/>
                </a:cubicBezTo>
                <a:cubicBezTo>
                  <a:pt x="24227" y="16425"/>
                  <a:pt x="24289" y="16343"/>
                  <a:pt x="24289" y="16371"/>
                </a:cubicBezTo>
                <a:cubicBezTo>
                  <a:pt x="24289" y="16449"/>
                  <a:pt x="24230" y="16505"/>
                  <a:pt x="24190" y="16570"/>
                </a:cubicBezTo>
                <a:cubicBezTo>
                  <a:pt x="24160" y="16618"/>
                  <a:pt x="24107" y="16718"/>
                  <a:pt x="24070" y="16748"/>
                </a:cubicBezTo>
                <a:cubicBezTo>
                  <a:pt x="24038" y="16774"/>
                  <a:pt x="24088" y="16691"/>
                  <a:pt x="24090" y="16689"/>
                </a:cubicBezTo>
                <a:cubicBezTo>
                  <a:pt x="24103" y="16682"/>
                  <a:pt x="24117" y="16676"/>
                  <a:pt x="24130" y="16669"/>
                </a:cubicBezTo>
                <a:cubicBezTo>
                  <a:pt x="24143" y="16628"/>
                  <a:pt x="24160" y="16595"/>
                  <a:pt x="24170" y="16550"/>
                </a:cubicBezTo>
                <a:cubicBezTo>
                  <a:pt x="24183" y="16491"/>
                  <a:pt x="24269" y="16391"/>
                  <a:pt x="24209" y="16391"/>
                </a:cubicBezTo>
                <a:cubicBezTo>
                  <a:pt x="24161" y="16391"/>
                  <a:pt x="24157" y="16442"/>
                  <a:pt x="24130" y="16470"/>
                </a:cubicBezTo>
                <a:cubicBezTo>
                  <a:pt x="24074" y="16528"/>
                  <a:pt x="24093" y="16548"/>
                  <a:pt x="24090" y="16530"/>
                </a:cubicBezTo>
                <a:cubicBezTo>
                  <a:pt x="24081" y="16468"/>
                  <a:pt x="24104" y="16376"/>
                  <a:pt x="24110" y="16312"/>
                </a:cubicBezTo>
                <a:cubicBezTo>
                  <a:pt x="24118" y="16232"/>
                  <a:pt x="24125" y="16153"/>
                  <a:pt x="24130" y="16073"/>
                </a:cubicBezTo>
                <a:cubicBezTo>
                  <a:pt x="24133" y="16033"/>
                  <a:pt x="24170" y="16034"/>
                  <a:pt x="24130" y="16034"/>
                </a:cubicBezTo>
                <a:cubicBezTo>
                  <a:pt x="24091" y="16034"/>
                  <a:pt x="24113" y="16062"/>
                  <a:pt x="24090" y="16093"/>
                </a:cubicBezTo>
                <a:cubicBezTo>
                  <a:pt x="24067" y="16124"/>
                  <a:pt x="24070" y="16119"/>
                  <a:pt x="24051" y="16153"/>
                </a:cubicBezTo>
                <a:cubicBezTo>
                  <a:pt x="24015" y="16218"/>
                  <a:pt x="24019" y="16274"/>
                  <a:pt x="23991" y="16331"/>
                </a:cubicBezTo>
                <a:cubicBezTo>
                  <a:pt x="23965" y="16383"/>
                  <a:pt x="23933" y="16412"/>
                  <a:pt x="23932" y="16411"/>
                </a:cubicBezTo>
                <a:cubicBezTo>
                  <a:pt x="23815" y="16295"/>
                  <a:pt x="24103" y="15870"/>
                  <a:pt x="23951" y="15935"/>
                </a:cubicBezTo>
                <a:cubicBezTo>
                  <a:pt x="23915" y="15950"/>
                  <a:pt x="23941" y="15992"/>
                  <a:pt x="23912" y="16034"/>
                </a:cubicBezTo>
                <a:cubicBezTo>
                  <a:pt x="23848" y="16124"/>
                  <a:pt x="23635" y="16370"/>
                  <a:pt x="23713" y="16292"/>
                </a:cubicBezTo>
                <a:cubicBezTo>
                  <a:pt x="23758" y="16247"/>
                  <a:pt x="23763" y="16208"/>
                  <a:pt x="23793" y="16153"/>
                </a:cubicBezTo>
                <a:cubicBezTo>
                  <a:pt x="23834" y="16079"/>
                  <a:pt x="23847" y="16032"/>
                  <a:pt x="23872" y="15954"/>
                </a:cubicBezTo>
                <a:cubicBezTo>
                  <a:pt x="23881" y="15925"/>
                  <a:pt x="23916" y="15839"/>
                  <a:pt x="23892" y="15915"/>
                </a:cubicBezTo>
                <a:cubicBezTo>
                  <a:pt x="23880" y="15953"/>
                  <a:pt x="23866" y="15995"/>
                  <a:pt x="23852" y="16034"/>
                </a:cubicBezTo>
                <a:cubicBezTo>
                  <a:pt x="23838" y="16090"/>
                  <a:pt x="23773" y="16137"/>
                  <a:pt x="23793" y="16192"/>
                </a:cubicBezTo>
                <a:cubicBezTo>
                  <a:pt x="23810" y="16238"/>
                  <a:pt x="23785" y="16233"/>
                  <a:pt x="23812" y="16192"/>
                </a:cubicBezTo>
                <a:cubicBezTo>
                  <a:pt x="23849" y="16135"/>
                  <a:pt x="23870" y="16069"/>
                  <a:pt x="23892" y="16014"/>
                </a:cubicBezTo>
                <a:cubicBezTo>
                  <a:pt x="23916" y="15955"/>
                  <a:pt x="23898" y="15967"/>
                  <a:pt x="23892" y="16014"/>
                </a:cubicBezTo>
                <a:cubicBezTo>
                  <a:pt x="23883" y="16086"/>
                  <a:pt x="23874" y="16109"/>
                  <a:pt x="23852" y="16173"/>
                </a:cubicBezTo>
                <a:cubicBezTo>
                  <a:pt x="23844" y="16197"/>
                  <a:pt x="23809" y="16270"/>
                  <a:pt x="23812" y="16292"/>
                </a:cubicBezTo>
                <a:cubicBezTo>
                  <a:pt x="23821" y="16355"/>
                  <a:pt x="23809" y="16310"/>
                  <a:pt x="23832" y="16292"/>
                </a:cubicBezTo>
                <a:cubicBezTo>
                  <a:pt x="23894" y="16246"/>
                  <a:pt x="23933" y="16138"/>
                  <a:pt x="23971" y="16073"/>
                </a:cubicBezTo>
                <a:cubicBezTo>
                  <a:pt x="23995" y="16032"/>
                  <a:pt x="24042" y="15927"/>
                  <a:pt x="24051" y="15974"/>
                </a:cubicBezTo>
                <a:cubicBezTo>
                  <a:pt x="24060" y="16021"/>
                  <a:pt x="24026" y="16071"/>
                  <a:pt x="24011" y="16113"/>
                </a:cubicBezTo>
                <a:cubicBezTo>
                  <a:pt x="23991" y="16172"/>
                  <a:pt x="23963" y="16196"/>
                  <a:pt x="23971" y="16272"/>
                </a:cubicBezTo>
                <a:cubicBezTo>
                  <a:pt x="23974" y="16303"/>
                  <a:pt x="23948" y="16324"/>
                  <a:pt x="23991" y="16252"/>
                </a:cubicBezTo>
                <a:cubicBezTo>
                  <a:pt x="23997" y="16243"/>
                  <a:pt x="24022" y="16154"/>
                  <a:pt x="24031" y="16153"/>
                </a:cubicBezTo>
                <a:cubicBezTo>
                  <a:pt x="24045" y="16151"/>
                  <a:pt x="24021" y="16091"/>
                  <a:pt x="24031" y="16173"/>
                </a:cubicBezTo>
                <a:cubicBezTo>
                  <a:pt x="24034" y="16201"/>
                  <a:pt x="24015" y="16402"/>
                  <a:pt x="24051" y="16391"/>
                </a:cubicBezTo>
                <a:cubicBezTo>
                  <a:pt x="24093" y="16378"/>
                  <a:pt x="24061" y="16305"/>
                  <a:pt x="24090" y="16272"/>
                </a:cubicBezTo>
                <a:cubicBezTo>
                  <a:pt x="24120" y="16238"/>
                  <a:pt x="24126" y="16185"/>
                  <a:pt x="24170" y="16173"/>
                </a:cubicBezTo>
                <a:cubicBezTo>
                  <a:pt x="24247" y="16152"/>
                  <a:pt x="24145" y="16186"/>
                  <a:pt x="24190" y="16212"/>
                </a:cubicBezTo>
                <a:cubicBezTo>
                  <a:pt x="24190" y="16219"/>
                  <a:pt x="24190" y="16225"/>
                  <a:pt x="24190" y="16232"/>
                </a:cubicBezTo>
                <a:cubicBezTo>
                  <a:pt x="24183" y="16258"/>
                  <a:pt x="24177" y="16266"/>
                  <a:pt x="24170" y="16292"/>
                </a:cubicBezTo>
                <a:cubicBezTo>
                  <a:pt x="24160" y="16329"/>
                  <a:pt x="24163" y="16357"/>
                  <a:pt x="24150" y="16391"/>
                </a:cubicBezTo>
                <a:cubicBezTo>
                  <a:pt x="24145" y="16404"/>
                  <a:pt x="24141" y="16436"/>
                  <a:pt x="24130" y="16450"/>
                </a:cubicBezTo>
                <a:cubicBezTo>
                  <a:pt x="24124" y="16458"/>
                  <a:pt x="24078" y="16480"/>
                  <a:pt x="24070" y="16490"/>
                </a:cubicBezTo>
                <a:cubicBezTo>
                  <a:pt x="24053" y="16512"/>
                  <a:pt x="24021" y="16542"/>
                  <a:pt x="24011" y="16550"/>
                </a:cubicBezTo>
                <a:cubicBezTo>
                  <a:pt x="23999" y="16560"/>
                  <a:pt x="23946" y="16585"/>
                  <a:pt x="23932" y="16609"/>
                </a:cubicBezTo>
                <a:cubicBezTo>
                  <a:pt x="23907" y="16653"/>
                  <a:pt x="23929" y="16697"/>
                  <a:pt x="23892" y="16748"/>
                </a:cubicBezTo>
                <a:cubicBezTo>
                  <a:pt x="23869" y="16780"/>
                  <a:pt x="23832" y="16819"/>
                  <a:pt x="23812" y="16847"/>
                </a:cubicBezTo>
                <a:cubicBezTo>
                  <a:pt x="23789" y="16879"/>
                  <a:pt x="23766" y="16892"/>
                  <a:pt x="23753" y="16927"/>
                </a:cubicBezTo>
                <a:cubicBezTo>
                  <a:pt x="23742" y="16957"/>
                  <a:pt x="23773" y="16915"/>
                  <a:pt x="23773" y="16947"/>
                </a:cubicBezTo>
                <a:cubicBezTo>
                  <a:pt x="23796" y="16916"/>
                  <a:pt x="23820" y="16851"/>
                  <a:pt x="23812" y="16867"/>
                </a:cubicBezTo>
                <a:cubicBezTo>
                  <a:pt x="23791" y="16910"/>
                  <a:pt x="23777" y="16924"/>
                  <a:pt x="23753" y="16966"/>
                </a:cubicBezTo>
                <a:cubicBezTo>
                  <a:pt x="23733" y="17001"/>
                  <a:pt x="23670" y="17088"/>
                  <a:pt x="23674" y="17125"/>
                </a:cubicBezTo>
                <a:cubicBezTo>
                  <a:pt x="23682" y="17194"/>
                  <a:pt x="23716" y="17127"/>
                  <a:pt x="23773" y="17066"/>
                </a:cubicBezTo>
                <a:cubicBezTo>
                  <a:pt x="23817" y="17019"/>
                  <a:pt x="23835" y="16978"/>
                  <a:pt x="23872" y="16927"/>
                </a:cubicBezTo>
                <a:cubicBezTo>
                  <a:pt x="23894" y="16896"/>
                  <a:pt x="23906" y="16854"/>
                  <a:pt x="23932" y="16847"/>
                </a:cubicBezTo>
                <a:cubicBezTo>
                  <a:pt x="23939" y="16845"/>
                  <a:pt x="23929" y="16844"/>
                  <a:pt x="23912" y="16887"/>
                </a:cubicBezTo>
                <a:cubicBezTo>
                  <a:pt x="23891" y="16939"/>
                  <a:pt x="23860" y="17010"/>
                  <a:pt x="23832" y="17066"/>
                </a:cubicBezTo>
                <a:cubicBezTo>
                  <a:pt x="23828" y="17075"/>
                  <a:pt x="23735" y="17197"/>
                  <a:pt x="23753" y="17205"/>
                </a:cubicBezTo>
                <a:cubicBezTo>
                  <a:pt x="23777" y="17216"/>
                  <a:pt x="23820" y="17162"/>
                  <a:pt x="23832" y="17145"/>
                </a:cubicBezTo>
                <a:cubicBezTo>
                  <a:pt x="23873" y="17085"/>
                  <a:pt x="23909" y="17026"/>
                  <a:pt x="23951" y="16966"/>
                </a:cubicBezTo>
                <a:cubicBezTo>
                  <a:pt x="23989" y="16912"/>
                  <a:pt x="24026" y="16845"/>
                  <a:pt x="24070" y="16788"/>
                </a:cubicBezTo>
                <a:cubicBezTo>
                  <a:pt x="24112" y="16733"/>
                  <a:pt x="24131" y="16662"/>
                  <a:pt x="24170" y="16609"/>
                </a:cubicBezTo>
                <a:cubicBezTo>
                  <a:pt x="24198" y="16572"/>
                  <a:pt x="24249" y="16557"/>
                  <a:pt x="24269" y="16510"/>
                </a:cubicBezTo>
                <a:cubicBezTo>
                  <a:pt x="24281" y="16481"/>
                  <a:pt x="24280" y="16489"/>
                  <a:pt x="24289" y="16450"/>
                </a:cubicBezTo>
                <a:cubicBezTo>
                  <a:pt x="24296" y="16418"/>
                  <a:pt x="24315" y="16219"/>
                  <a:pt x="24309" y="16212"/>
                </a:cubicBezTo>
                <a:cubicBezTo>
                  <a:pt x="24275" y="16173"/>
                  <a:pt x="24297" y="16252"/>
                  <a:pt x="24249" y="16252"/>
                </a:cubicBezTo>
                <a:cubicBezTo>
                  <a:pt x="24180" y="16332"/>
                  <a:pt x="24125" y="16399"/>
                  <a:pt x="24070" y="16490"/>
                </a:cubicBezTo>
                <a:cubicBezTo>
                  <a:pt x="24022" y="16569"/>
                  <a:pt x="23977" y="16645"/>
                  <a:pt x="23951" y="16728"/>
                </a:cubicBezTo>
                <a:cubicBezTo>
                  <a:pt x="23936" y="16777"/>
                  <a:pt x="23908" y="16827"/>
                  <a:pt x="23951" y="16808"/>
                </a:cubicBezTo>
                <a:cubicBezTo>
                  <a:pt x="23992" y="16790"/>
                  <a:pt x="24032" y="16701"/>
                  <a:pt x="24070" y="16669"/>
                </a:cubicBezTo>
                <a:cubicBezTo>
                  <a:pt x="24091" y="16651"/>
                  <a:pt x="24163" y="16568"/>
                  <a:pt x="24110" y="16649"/>
                </a:cubicBezTo>
                <a:cubicBezTo>
                  <a:pt x="24059" y="16727"/>
                  <a:pt x="23992" y="16795"/>
                  <a:pt x="23932" y="16867"/>
                </a:cubicBezTo>
                <a:cubicBezTo>
                  <a:pt x="23905" y="16973"/>
                  <a:pt x="23834" y="17085"/>
                  <a:pt x="23812" y="17185"/>
                </a:cubicBezTo>
                <a:cubicBezTo>
                  <a:pt x="23804" y="17223"/>
                  <a:pt x="23839" y="17274"/>
                  <a:pt x="23832" y="17224"/>
                </a:cubicBezTo>
                <a:cubicBezTo>
                  <a:pt x="23826" y="17186"/>
                  <a:pt x="23840" y="17138"/>
                  <a:pt x="23852" y="17105"/>
                </a:cubicBezTo>
                <a:cubicBezTo>
                  <a:pt x="23876" y="17038"/>
                  <a:pt x="23937" y="16940"/>
                  <a:pt x="23951" y="16867"/>
                </a:cubicBezTo>
                <a:cubicBezTo>
                  <a:pt x="23961" y="16818"/>
                  <a:pt x="23958" y="16763"/>
                  <a:pt x="23951" y="16768"/>
                </a:cubicBezTo>
                <a:cubicBezTo>
                  <a:pt x="23895" y="16811"/>
                  <a:pt x="23856" y="16949"/>
                  <a:pt x="23812" y="17006"/>
                </a:cubicBezTo>
                <a:cubicBezTo>
                  <a:pt x="23725" y="17118"/>
                  <a:pt x="23626" y="17197"/>
                  <a:pt x="23555" y="17324"/>
                </a:cubicBezTo>
                <a:cubicBezTo>
                  <a:pt x="23540" y="17350"/>
                  <a:pt x="23519" y="17417"/>
                  <a:pt x="23535" y="17363"/>
                </a:cubicBezTo>
                <a:cubicBezTo>
                  <a:pt x="23535" y="17326"/>
                  <a:pt x="23544" y="17305"/>
                  <a:pt x="23574" y="17284"/>
                </a:cubicBezTo>
                <a:cubicBezTo>
                  <a:pt x="23612" y="17197"/>
                  <a:pt x="23654" y="17113"/>
                  <a:pt x="23693" y="17026"/>
                </a:cubicBezTo>
                <a:cubicBezTo>
                  <a:pt x="23756" y="16884"/>
                  <a:pt x="23853" y="16748"/>
                  <a:pt x="23912" y="16609"/>
                </a:cubicBezTo>
                <a:cubicBezTo>
                  <a:pt x="23954" y="16510"/>
                  <a:pt x="24011" y="16356"/>
                  <a:pt x="24031" y="16252"/>
                </a:cubicBezTo>
                <a:cubicBezTo>
                  <a:pt x="24041" y="16201"/>
                  <a:pt x="24064" y="16204"/>
                  <a:pt x="24011" y="16252"/>
                </a:cubicBezTo>
                <a:cubicBezTo>
                  <a:pt x="23778" y="16462"/>
                  <a:pt x="23641" y="16760"/>
                  <a:pt x="23455" y="17006"/>
                </a:cubicBezTo>
                <a:cubicBezTo>
                  <a:pt x="23371" y="17117"/>
                  <a:pt x="23154" y="17467"/>
                  <a:pt x="23217" y="17343"/>
                </a:cubicBezTo>
                <a:cubicBezTo>
                  <a:pt x="23249" y="17280"/>
                  <a:pt x="23300" y="17226"/>
                  <a:pt x="23336" y="17165"/>
                </a:cubicBezTo>
                <a:cubicBezTo>
                  <a:pt x="23491" y="16901"/>
                  <a:pt x="23519" y="16573"/>
                  <a:pt x="23674" y="16312"/>
                </a:cubicBezTo>
                <a:cubicBezTo>
                  <a:pt x="23750" y="16216"/>
                  <a:pt x="23772" y="16186"/>
                  <a:pt x="23832" y="16133"/>
                </a:cubicBezTo>
                <a:cubicBezTo>
                  <a:pt x="23866" y="16082"/>
                  <a:pt x="23879" y="16073"/>
                  <a:pt x="23872" y="16034"/>
                </a:cubicBezTo>
                <a:cubicBezTo>
                  <a:pt x="23851" y="16094"/>
                  <a:pt x="23839" y="16171"/>
                  <a:pt x="23812" y="16232"/>
                </a:cubicBezTo>
                <a:cubicBezTo>
                  <a:pt x="23708" y="16467"/>
                  <a:pt x="23612" y="16718"/>
                  <a:pt x="23495" y="16947"/>
                </a:cubicBezTo>
                <a:cubicBezTo>
                  <a:pt x="23420" y="17093"/>
                  <a:pt x="23274" y="17313"/>
                  <a:pt x="23257" y="17482"/>
                </a:cubicBezTo>
                <a:cubicBezTo>
                  <a:pt x="23243" y="17621"/>
                  <a:pt x="23291" y="17500"/>
                  <a:pt x="23316" y="17482"/>
                </a:cubicBezTo>
                <a:cubicBezTo>
                  <a:pt x="23380" y="17434"/>
                  <a:pt x="23392" y="17307"/>
                  <a:pt x="23435" y="17244"/>
                </a:cubicBezTo>
                <a:cubicBezTo>
                  <a:pt x="23498" y="17152"/>
                  <a:pt x="23604" y="16996"/>
                  <a:pt x="23693" y="16927"/>
                </a:cubicBezTo>
                <a:cubicBezTo>
                  <a:pt x="23737" y="16892"/>
                  <a:pt x="23741" y="16864"/>
                  <a:pt x="23713" y="16947"/>
                </a:cubicBezTo>
                <a:cubicBezTo>
                  <a:pt x="23659" y="17106"/>
                  <a:pt x="23563" y="17234"/>
                  <a:pt x="23515" y="17403"/>
                </a:cubicBezTo>
                <a:cubicBezTo>
                  <a:pt x="23497" y="17467"/>
                  <a:pt x="23466" y="17534"/>
                  <a:pt x="23475" y="17542"/>
                </a:cubicBezTo>
                <a:cubicBezTo>
                  <a:pt x="23519" y="17579"/>
                  <a:pt x="23538" y="17448"/>
                  <a:pt x="23574" y="17403"/>
                </a:cubicBezTo>
                <a:cubicBezTo>
                  <a:pt x="23614" y="17292"/>
                  <a:pt x="23655" y="17180"/>
                  <a:pt x="23693" y="17066"/>
                </a:cubicBezTo>
                <a:cubicBezTo>
                  <a:pt x="23728" y="16961"/>
                  <a:pt x="23791" y="16858"/>
                  <a:pt x="23812" y="16748"/>
                </a:cubicBezTo>
                <a:cubicBezTo>
                  <a:pt x="23827" y="16671"/>
                  <a:pt x="23820" y="16703"/>
                  <a:pt x="23793" y="16728"/>
                </a:cubicBezTo>
                <a:cubicBezTo>
                  <a:pt x="23709" y="16805"/>
                  <a:pt x="23620" y="16970"/>
                  <a:pt x="23555" y="17066"/>
                </a:cubicBezTo>
                <a:cubicBezTo>
                  <a:pt x="23487" y="17165"/>
                  <a:pt x="23417" y="17265"/>
                  <a:pt x="23356" y="17363"/>
                </a:cubicBezTo>
                <a:cubicBezTo>
                  <a:pt x="23341" y="17387"/>
                  <a:pt x="23350" y="17378"/>
                  <a:pt x="23336" y="17403"/>
                </a:cubicBezTo>
                <a:cubicBezTo>
                  <a:pt x="23360" y="17351"/>
                  <a:pt x="23386" y="17319"/>
                  <a:pt x="23416" y="17264"/>
                </a:cubicBezTo>
                <a:cubicBezTo>
                  <a:pt x="23482" y="17144"/>
                  <a:pt x="23532" y="17058"/>
                  <a:pt x="23614" y="16947"/>
                </a:cubicBezTo>
                <a:cubicBezTo>
                  <a:pt x="23689" y="16845"/>
                  <a:pt x="23745" y="16753"/>
                  <a:pt x="23793" y="16649"/>
                </a:cubicBezTo>
                <a:cubicBezTo>
                  <a:pt x="23814" y="16603"/>
                  <a:pt x="23845" y="16543"/>
                  <a:pt x="23832" y="16550"/>
                </a:cubicBezTo>
                <a:cubicBezTo>
                  <a:pt x="23619" y="16656"/>
                  <a:pt x="23378" y="17131"/>
                  <a:pt x="23237" y="17324"/>
                </a:cubicBezTo>
                <a:cubicBezTo>
                  <a:pt x="23164" y="17416"/>
                  <a:pt x="23143" y="17442"/>
                  <a:pt x="23098" y="17502"/>
                </a:cubicBezTo>
                <a:cubicBezTo>
                  <a:pt x="23114" y="17552"/>
                  <a:pt x="23042" y="17619"/>
                  <a:pt x="23118" y="17502"/>
                </a:cubicBezTo>
                <a:cubicBezTo>
                  <a:pt x="23196" y="17383"/>
                  <a:pt x="23263" y="17254"/>
                  <a:pt x="23356" y="17145"/>
                </a:cubicBezTo>
                <a:cubicBezTo>
                  <a:pt x="23489" y="16989"/>
                  <a:pt x="23593" y="16835"/>
                  <a:pt x="23713" y="16669"/>
                </a:cubicBezTo>
                <a:cubicBezTo>
                  <a:pt x="23778" y="16579"/>
                  <a:pt x="23869" y="16485"/>
                  <a:pt x="23892" y="16371"/>
                </a:cubicBezTo>
                <a:cubicBezTo>
                  <a:pt x="23892" y="16348"/>
                  <a:pt x="23890" y="16344"/>
                  <a:pt x="23872" y="16371"/>
                </a:cubicBezTo>
                <a:cubicBezTo>
                  <a:pt x="23799" y="16471"/>
                  <a:pt x="23726" y="16582"/>
                  <a:pt x="23634" y="16669"/>
                </a:cubicBezTo>
                <a:cubicBezTo>
                  <a:pt x="23451" y="16844"/>
                  <a:pt x="23365" y="17127"/>
                  <a:pt x="23177" y="17284"/>
                </a:cubicBezTo>
                <a:cubicBezTo>
                  <a:pt x="23145" y="17311"/>
                  <a:pt x="23230" y="17164"/>
                  <a:pt x="23237" y="17145"/>
                </a:cubicBezTo>
                <a:cubicBezTo>
                  <a:pt x="23300" y="16977"/>
                  <a:pt x="23395" y="16816"/>
                  <a:pt x="23455" y="16649"/>
                </a:cubicBezTo>
                <a:cubicBezTo>
                  <a:pt x="23513" y="16488"/>
                  <a:pt x="23575" y="16335"/>
                  <a:pt x="23634" y="16173"/>
                </a:cubicBezTo>
                <a:cubicBezTo>
                  <a:pt x="23667" y="16083"/>
                  <a:pt x="23692" y="16081"/>
                  <a:pt x="23614" y="16173"/>
                </a:cubicBezTo>
                <a:cubicBezTo>
                  <a:pt x="23464" y="16349"/>
                  <a:pt x="23342" y="16549"/>
                  <a:pt x="23197" y="16728"/>
                </a:cubicBezTo>
                <a:cubicBezTo>
                  <a:pt x="23085" y="16867"/>
                  <a:pt x="22980" y="16997"/>
                  <a:pt x="22880" y="17145"/>
                </a:cubicBezTo>
                <a:cubicBezTo>
                  <a:pt x="22818" y="17221"/>
                  <a:pt x="22652" y="17453"/>
                  <a:pt x="22721" y="17383"/>
                </a:cubicBezTo>
                <a:cubicBezTo>
                  <a:pt x="22740" y="17364"/>
                  <a:pt x="22783" y="17290"/>
                  <a:pt x="22800" y="17264"/>
                </a:cubicBezTo>
                <a:cubicBezTo>
                  <a:pt x="22813" y="17238"/>
                  <a:pt x="22827" y="17211"/>
                  <a:pt x="22840" y="17185"/>
                </a:cubicBezTo>
                <a:cubicBezTo>
                  <a:pt x="23006" y="16966"/>
                  <a:pt x="23177" y="16753"/>
                  <a:pt x="23336" y="16530"/>
                </a:cubicBezTo>
                <a:cubicBezTo>
                  <a:pt x="23356" y="16502"/>
                  <a:pt x="23717" y="16097"/>
                  <a:pt x="23674" y="16054"/>
                </a:cubicBezTo>
                <a:cubicBezTo>
                  <a:pt x="23619" y="15999"/>
                  <a:pt x="23616" y="16166"/>
                  <a:pt x="23574" y="16232"/>
                </a:cubicBezTo>
                <a:cubicBezTo>
                  <a:pt x="23375" y="16546"/>
                  <a:pt x="23118" y="16807"/>
                  <a:pt x="22900" y="17105"/>
                </a:cubicBezTo>
                <a:cubicBezTo>
                  <a:pt x="22841" y="17186"/>
                  <a:pt x="22722" y="17379"/>
                  <a:pt x="22701" y="17423"/>
                </a:cubicBezTo>
                <a:cubicBezTo>
                  <a:pt x="22708" y="17416"/>
                  <a:pt x="22714" y="17410"/>
                  <a:pt x="22721" y="17403"/>
                </a:cubicBezTo>
                <a:cubicBezTo>
                  <a:pt x="22766" y="17283"/>
                  <a:pt x="22821" y="17164"/>
                  <a:pt x="22860" y="17046"/>
                </a:cubicBezTo>
                <a:cubicBezTo>
                  <a:pt x="22931" y="16831"/>
                  <a:pt x="23008" y="16637"/>
                  <a:pt x="23098" y="16431"/>
                </a:cubicBezTo>
                <a:cubicBezTo>
                  <a:pt x="23109" y="16405"/>
                  <a:pt x="23237" y="15974"/>
                  <a:pt x="23237" y="15974"/>
                </a:cubicBezTo>
                <a:cubicBezTo>
                  <a:pt x="23171" y="15999"/>
                  <a:pt x="23163" y="16079"/>
                  <a:pt x="23118" y="16133"/>
                </a:cubicBezTo>
                <a:cubicBezTo>
                  <a:pt x="22973" y="16308"/>
                  <a:pt x="22866" y="16507"/>
                  <a:pt x="22701" y="16669"/>
                </a:cubicBezTo>
                <a:cubicBezTo>
                  <a:pt x="22568" y="16783"/>
                  <a:pt x="22528" y="16819"/>
                  <a:pt x="22423" y="16867"/>
                </a:cubicBezTo>
                <a:cubicBezTo>
                  <a:pt x="22403" y="16894"/>
                  <a:pt x="22181" y="17219"/>
                  <a:pt x="22285" y="17105"/>
                </a:cubicBezTo>
                <a:cubicBezTo>
                  <a:pt x="22381" y="17000"/>
                  <a:pt x="22485" y="16887"/>
                  <a:pt x="22562" y="16768"/>
                </a:cubicBezTo>
                <a:cubicBezTo>
                  <a:pt x="22704" y="16549"/>
                  <a:pt x="22871" y="16350"/>
                  <a:pt x="23019" y="16133"/>
                </a:cubicBezTo>
                <a:cubicBezTo>
                  <a:pt x="23023" y="16128"/>
                  <a:pt x="23118" y="15972"/>
                  <a:pt x="23098" y="16014"/>
                </a:cubicBezTo>
                <a:cubicBezTo>
                  <a:pt x="23023" y="16169"/>
                  <a:pt x="22900" y="16290"/>
                  <a:pt x="22800" y="16431"/>
                </a:cubicBezTo>
                <a:cubicBezTo>
                  <a:pt x="22646" y="16650"/>
                  <a:pt x="22436" y="16856"/>
                  <a:pt x="22304" y="17085"/>
                </a:cubicBezTo>
                <a:cubicBezTo>
                  <a:pt x="22283" y="17121"/>
                  <a:pt x="22194" y="17253"/>
                  <a:pt x="22285" y="17165"/>
                </a:cubicBezTo>
                <a:cubicBezTo>
                  <a:pt x="22349" y="17078"/>
                  <a:pt x="22375" y="17044"/>
                  <a:pt x="22423" y="16986"/>
                </a:cubicBezTo>
                <a:cubicBezTo>
                  <a:pt x="22565" y="16831"/>
                  <a:pt x="22671" y="16656"/>
                  <a:pt x="22800" y="16490"/>
                </a:cubicBezTo>
                <a:cubicBezTo>
                  <a:pt x="22878" y="16390"/>
                  <a:pt x="23070" y="16081"/>
                  <a:pt x="23217" y="16093"/>
                </a:cubicBezTo>
                <a:cubicBezTo>
                  <a:pt x="23243" y="16095"/>
                  <a:pt x="23153" y="16195"/>
                  <a:pt x="23138" y="16232"/>
                </a:cubicBezTo>
                <a:cubicBezTo>
                  <a:pt x="23048" y="16462"/>
                  <a:pt x="22894" y="16679"/>
                  <a:pt x="22761" y="16887"/>
                </a:cubicBezTo>
                <a:cubicBezTo>
                  <a:pt x="22680" y="17014"/>
                  <a:pt x="22618" y="17121"/>
                  <a:pt x="22562" y="17244"/>
                </a:cubicBezTo>
                <a:cubicBezTo>
                  <a:pt x="22516" y="17346"/>
                  <a:pt x="22600" y="17188"/>
                  <a:pt x="22622" y="17165"/>
                </a:cubicBezTo>
                <a:cubicBezTo>
                  <a:pt x="22736" y="17047"/>
                  <a:pt x="22820" y="16917"/>
                  <a:pt x="22920" y="16788"/>
                </a:cubicBezTo>
                <a:cubicBezTo>
                  <a:pt x="23016" y="16665"/>
                  <a:pt x="23089" y="16551"/>
                  <a:pt x="23158" y="16411"/>
                </a:cubicBezTo>
                <a:cubicBezTo>
                  <a:pt x="23174" y="16378"/>
                  <a:pt x="23180" y="16373"/>
                  <a:pt x="23177" y="16351"/>
                </a:cubicBezTo>
                <a:cubicBezTo>
                  <a:pt x="23125" y="16414"/>
                  <a:pt x="23053" y="16500"/>
                  <a:pt x="22999" y="16570"/>
                </a:cubicBezTo>
                <a:cubicBezTo>
                  <a:pt x="22870" y="16739"/>
                  <a:pt x="22744" y="16912"/>
                  <a:pt x="22622" y="17085"/>
                </a:cubicBezTo>
                <a:cubicBezTo>
                  <a:pt x="22604" y="17109"/>
                  <a:pt x="22465" y="17347"/>
                  <a:pt x="22443" y="17363"/>
                </a:cubicBezTo>
                <a:cubicBezTo>
                  <a:pt x="22356" y="17425"/>
                  <a:pt x="22559" y="17192"/>
                  <a:pt x="22622" y="17105"/>
                </a:cubicBezTo>
                <a:cubicBezTo>
                  <a:pt x="22784" y="16884"/>
                  <a:pt x="22958" y="16672"/>
                  <a:pt x="23118" y="16450"/>
                </a:cubicBezTo>
                <a:cubicBezTo>
                  <a:pt x="23282" y="16223"/>
                  <a:pt x="23123" y="16407"/>
                  <a:pt x="23118" y="16391"/>
                </a:cubicBezTo>
                <a:cubicBezTo>
                  <a:pt x="23019" y="16549"/>
                  <a:pt x="22902" y="16693"/>
                  <a:pt x="22800" y="16847"/>
                </a:cubicBezTo>
                <a:cubicBezTo>
                  <a:pt x="22754" y="16917"/>
                  <a:pt x="22574" y="17138"/>
                  <a:pt x="22562" y="17224"/>
                </a:cubicBezTo>
                <a:cubicBezTo>
                  <a:pt x="22549" y="17320"/>
                  <a:pt x="22666" y="17164"/>
                  <a:pt x="22681" y="17145"/>
                </a:cubicBezTo>
                <a:cubicBezTo>
                  <a:pt x="22766" y="17036"/>
                  <a:pt x="22831" y="16915"/>
                  <a:pt x="22920" y="16808"/>
                </a:cubicBezTo>
                <a:cubicBezTo>
                  <a:pt x="23004" y="16708"/>
                  <a:pt x="23249" y="16421"/>
                  <a:pt x="23138" y="16490"/>
                </a:cubicBezTo>
                <a:cubicBezTo>
                  <a:pt x="23036" y="16553"/>
                  <a:pt x="22949" y="16676"/>
                  <a:pt x="22840" y="16748"/>
                </a:cubicBezTo>
                <a:cubicBezTo>
                  <a:pt x="22664" y="16864"/>
                  <a:pt x="22503" y="16989"/>
                  <a:pt x="22344" y="17125"/>
                </a:cubicBezTo>
                <a:cubicBezTo>
                  <a:pt x="22338" y="17130"/>
                  <a:pt x="22143" y="17325"/>
                  <a:pt x="22225" y="17185"/>
                </a:cubicBezTo>
                <a:cubicBezTo>
                  <a:pt x="22320" y="17022"/>
                  <a:pt x="22466" y="16858"/>
                  <a:pt x="22582" y="16708"/>
                </a:cubicBezTo>
                <a:cubicBezTo>
                  <a:pt x="22675" y="16596"/>
                  <a:pt x="22702" y="16564"/>
                  <a:pt x="22761" y="16490"/>
                </a:cubicBezTo>
                <a:cubicBezTo>
                  <a:pt x="22837" y="16375"/>
                  <a:pt x="22860" y="16340"/>
                  <a:pt x="22920" y="16272"/>
                </a:cubicBezTo>
                <a:cubicBezTo>
                  <a:pt x="22920" y="16248"/>
                  <a:pt x="22975" y="16148"/>
                  <a:pt x="22939" y="16212"/>
                </a:cubicBezTo>
                <a:cubicBezTo>
                  <a:pt x="22880" y="16316"/>
                  <a:pt x="22838" y="16412"/>
                  <a:pt x="22761" y="16510"/>
                </a:cubicBezTo>
                <a:cubicBezTo>
                  <a:pt x="22659" y="16639"/>
                  <a:pt x="22319" y="16917"/>
                  <a:pt x="22483" y="16907"/>
                </a:cubicBezTo>
                <a:cubicBezTo>
                  <a:pt x="22553" y="16903"/>
                  <a:pt x="22621" y="16774"/>
                  <a:pt x="22662" y="16728"/>
                </a:cubicBezTo>
                <a:cubicBezTo>
                  <a:pt x="22807" y="16566"/>
                  <a:pt x="22927" y="16383"/>
                  <a:pt x="23058" y="16212"/>
                </a:cubicBezTo>
                <a:cubicBezTo>
                  <a:pt x="23109" y="16144"/>
                  <a:pt x="23119" y="16128"/>
                  <a:pt x="23158" y="16093"/>
                </a:cubicBezTo>
                <a:cubicBezTo>
                  <a:pt x="23091" y="16184"/>
                  <a:pt x="23027" y="16281"/>
                  <a:pt x="22959" y="16371"/>
                </a:cubicBezTo>
                <a:cubicBezTo>
                  <a:pt x="22807" y="16570"/>
                  <a:pt x="22643" y="16758"/>
                  <a:pt x="22503" y="16966"/>
                </a:cubicBezTo>
                <a:cubicBezTo>
                  <a:pt x="22480" y="17000"/>
                  <a:pt x="22422" y="17075"/>
                  <a:pt x="22443" y="17066"/>
                </a:cubicBezTo>
                <a:cubicBezTo>
                  <a:pt x="22493" y="17044"/>
                  <a:pt x="22546" y="16971"/>
                  <a:pt x="22582" y="16927"/>
                </a:cubicBezTo>
                <a:cubicBezTo>
                  <a:pt x="22685" y="16802"/>
                  <a:pt x="22748" y="16645"/>
                  <a:pt x="22860" y="16530"/>
                </a:cubicBezTo>
                <a:cubicBezTo>
                  <a:pt x="22971" y="16415"/>
                  <a:pt x="23036" y="16375"/>
                  <a:pt x="23158" y="16272"/>
                </a:cubicBezTo>
                <a:cubicBezTo>
                  <a:pt x="23048" y="16401"/>
                  <a:pt x="22935" y="16527"/>
                  <a:pt x="22840" y="16669"/>
                </a:cubicBezTo>
                <a:cubicBezTo>
                  <a:pt x="22707" y="16866"/>
                  <a:pt x="22557" y="17041"/>
                  <a:pt x="22404" y="17224"/>
                </a:cubicBezTo>
                <a:cubicBezTo>
                  <a:pt x="22390" y="17267"/>
                  <a:pt x="22322" y="17371"/>
                  <a:pt x="22344" y="17363"/>
                </a:cubicBezTo>
                <a:cubicBezTo>
                  <a:pt x="22406" y="17341"/>
                  <a:pt x="22528" y="17152"/>
                  <a:pt x="22562" y="17105"/>
                </a:cubicBezTo>
                <a:cubicBezTo>
                  <a:pt x="22684" y="16937"/>
                  <a:pt x="22779" y="16805"/>
                  <a:pt x="22939" y="16669"/>
                </a:cubicBezTo>
                <a:cubicBezTo>
                  <a:pt x="22977" y="16637"/>
                  <a:pt x="23235" y="16389"/>
                  <a:pt x="23277" y="16391"/>
                </a:cubicBezTo>
                <a:cubicBezTo>
                  <a:pt x="23361" y="16396"/>
                  <a:pt x="23208" y="16503"/>
                  <a:pt x="23158" y="16570"/>
                </a:cubicBezTo>
                <a:cubicBezTo>
                  <a:pt x="23040" y="16731"/>
                  <a:pt x="22921" y="16887"/>
                  <a:pt x="22800" y="17046"/>
                </a:cubicBezTo>
                <a:cubicBezTo>
                  <a:pt x="22696" y="17183"/>
                  <a:pt x="22675" y="17468"/>
                  <a:pt x="22503" y="17462"/>
                </a:cubicBezTo>
                <a:cubicBezTo>
                  <a:pt x="22397" y="17459"/>
                  <a:pt x="22618" y="17290"/>
                  <a:pt x="22681" y="17205"/>
                </a:cubicBezTo>
                <a:cubicBezTo>
                  <a:pt x="22756" y="17104"/>
                  <a:pt x="22806" y="17022"/>
                  <a:pt x="22900" y="16947"/>
                </a:cubicBezTo>
                <a:cubicBezTo>
                  <a:pt x="22943" y="16913"/>
                  <a:pt x="22887" y="16980"/>
                  <a:pt x="22939" y="16966"/>
                </a:cubicBezTo>
                <a:cubicBezTo>
                  <a:pt x="22883" y="17034"/>
                  <a:pt x="22792" y="17125"/>
                  <a:pt x="22741" y="17205"/>
                </a:cubicBezTo>
                <a:cubicBezTo>
                  <a:pt x="22693" y="17280"/>
                  <a:pt x="22663" y="17488"/>
                  <a:pt x="22602" y="17423"/>
                </a:cubicBezTo>
                <a:cubicBezTo>
                  <a:pt x="22592" y="17413"/>
                  <a:pt x="22656" y="17332"/>
                  <a:pt x="22662" y="17324"/>
                </a:cubicBezTo>
                <a:cubicBezTo>
                  <a:pt x="22726" y="17237"/>
                  <a:pt x="22782" y="17139"/>
                  <a:pt x="22860" y="17066"/>
                </a:cubicBezTo>
                <a:cubicBezTo>
                  <a:pt x="22902" y="17027"/>
                  <a:pt x="23084" y="16864"/>
                  <a:pt x="23138" y="16847"/>
                </a:cubicBezTo>
                <a:cubicBezTo>
                  <a:pt x="23193" y="16830"/>
                  <a:pt x="23168" y="16817"/>
                  <a:pt x="23158" y="16867"/>
                </a:cubicBezTo>
                <a:cubicBezTo>
                  <a:pt x="23139" y="16963"/>
                  <a:pt x="22977" y="17088"/>
                  <a:pt x="22920" y="17165"/>
                </a:cubicBezTo>
                <a:cubicBezTo>
                  <a:pt x="22842" y="17271"/>
                  <a:pt x="22721" y="17385"/>
                  <a:pt x="22662" y="17502"/>
                </a:cubicBezTo>
                <a:cubicBezTo>
                  <a:pt x="22636" y="17554"/>
                  <a:pt x="22645" y="17549"/>
                  <a:pt x="22681" y="17522"/>
                </a:cubicBezTo>
                <a:cubicBezTo>
                  <a:pt x="22799" y="17434"/>
                  <a:pt x="22855" y="17300"/>
                  <a:pt x="22939" y="17185"/>
                </a:cubicBezTo>
                <a:cubicBezTo>
                  <a:pt x="23019" y="17075"/>
                  <a:pt x="23108" y="16969"/>
                  <a:pt x="23197" y="16867"/>
                </a:cubicBezTo>
                <a:cubicBezTo>
                  <a:pt x="23227" y="16822"/>
                  <a:pt x="23241" y="16785"/>
                  <a:pt x="23237" y="16827"/>
                </a:cubicBezTo>
                <a:cubicBezTo>
                  <a:pt x="23185" y="16895"/>
                  <a:pt x="23131" y="16958"/>
                  <a:pt x="23078" y="17026"/>
                </a:cubicBezTo>
                <a:cubicBezTo>
                  <a:pt x="22977" y="17156"/>
                  <a:pt x="22875" y="17288"/>
                  <a:pt x="22781" y="17423"/>
                </a:cubicBezTo>
                <a:cubicBezTo>
                  <a:pt x="22750" y="17468"/>
                  <a:pt x="22753" y="17429"/>
                  <a:pt x="22741" y="17482"/>
                </a:cubicBezTo>
                <a:cubicBezTo>
                  <a:pt x="22754" y="17475"/>
                  <a:pt x="22768" y="17469"/>
                  <a:pt x="22781" y="17462"/>
                </a:cubicBezTo>
                <a:cubicBezTo>
                  <a:pt x="22834" y="17392"/>
                  <a:pt x="22883" y="17314"/>
                  <a:pt x="22939" y="17244"/>
                </a:cubicBezTo>
                <a:cubicBezTo>
                  <a:pt x="23017" y="17147"/>
                  <a:pt x="23086" y="17047"/>
                  <a:pt x="23158" y="16947"/>
                </a:cubicBezTo>
                <a:cubicBezTo>
                  <a:pt x="23194" y="16897"/>
                  <a:pt x="23202" y="16898"/>
                  <a:pt x="23177" y="16927"/>
                </a:cubicBezTo>
                <a:cubicBezTo>
                  <a:pt x="23115" y="16999"/>
                  <a:pt x="23031" y="17085"/>
                  <a:pt x="22979" y="17165"/>
                </a:cubicBezTo>
                <a:cubicBezTo>
                  <a:pt x="22935" y="17232"/>
                  <a:pt x="22927" y="17295"/>
                  <a:pt x="22900" y="17363"/>
                </a:cubicBezTo>
                <a:cubicBezTo>
                  <a:pt x="22936" y="17327"/>
                  <a:pt x="22943" y="17320"/>
                  <a:pt x="22979" y="17284"/>
                </a:cubicBezTo>
                <a:cubicBezTo>
                  <a:pt x="23099" y="17164"/>
                  <a:pt x="23200" y="17027"/>
                  <a:pt x="23316" y="16907"/>
                </a:cubicBezTo>
                <a:cubicBezTo>
                  <a:pt x="23331" y="16892"/>
                  <a:pt x="23372" y="16804"/>
                  <a:pt x="23336" y="16907"/>
                </a:cubicBezTo>
                <a:cubicBezTo>
                  <a:pt x="23310" y="16983"/>
                  <a:pt x="23264" y="17073"/>
                  <a:pt x="23237" y="17145"/>
                </a:cubicBezTo>
                <a:cubicBezTo>
                  <a:pt x="23233" y="17157"/>
                  <a:pt x="23175" y="17302"/>
                  <a:pt x="23177" y="17304"/>
                </a:cubicBezTo>
                <a:cubicBezTo>
                  <a:pt x="23208" y="17346"/>
                  <a:pt x="23176" y="17304"/>
                  <a:pt x="23217" y="17284"/>
                </a:cubicBezTo>
                <a:cubicBezTo>
                  <a:pt x="23272" y="17257"/>
                  <a:pt x="23351" y="17104"/>
                  <a:pt x="23356" y="17165"/>
                </a:cubicBezTo>
                <a:cubicBezTo>
                  <a:pt x="23358" y="17195"/>
                  <a:pt x="23313" y="17257"/>
                  <a:pt x="23297" y="17284"/>
                </a:cubicBezTo>
                <a:cubicBezTo>
                  <a:pt x="23242" y="17376"/>
                  <a:pt x="23193" y="17441"/>
                  <a:pt x="23158" y="17542"/>
                </a:cubicBezTo>
                <a:cubicBezTo>
                  <a:pt x="23155" y="17551"/>
                  <a:pt x="23133" y="17681"/>
                  <a:pt x="23138" y="17681"/>
                </a:cubicBezTo>
                <a:cubicBezTo>
                  <a:pt x="23194" y="17685"/>
                  <a:pt x="23210" y="17632"/>
                  <a:pt x="23257" y="17601"/>
                </a:cubicBezTo>
                <a:cubicBezTo>
                  <a:pt x="23275" y="17589"/>
                  <a:pt x="23349" y="17498"/>
                  <a:pt x="23376" y="17522"/>
                </a:cubicBezTo>
                <a:cubicBezTo>
                  <a:pt x="23385" y="17530"/>
                  <a:pt x="23380" y="17574"/>
                  <a:pt x="23376" y="17621"/>
                </a:cubicBezTo>
                <a:cubicBezTo>
                  <a:pt x="23369" y="17708"/>
                  <a:pt x="23310" y="17781"/>
                  <a:pt x="23297" y="17859"/>
                </a:cubicBezTo>
                <a:cubicBezTo>
                  <a:pt x="23285" y="17931"/>
                  <a:pt x="23225" y="18050"/>
                  <a:pt x="23297" y="18038"/>
                </a:cubicBezTo>
                <a:cubicBezTo>
                  <a:pt x="23369" y="18026"/>
                  <a:pt x="23332" y="17998"/>
                  <a:pt x="23376" y="17939"/>
                </a:cubicBezTo>
                <a:cubicBezTo>
                  <a:pt x="23410" y="17893"/>
                  <a:pt x="23445" y="17849"/>
                  <a:pt x="23475" y="17800"/>
                </a:cubicBezTo>
                <a:cubicBezTo>
                  <a:pt x="23512" y="17739"/>
                  <a:pt x="23521" y="17724"/>
                  <a:pt x="23574" y="17681"/>
                </a:cubicBezTo>
                <a:cubicBezTo>
                  <a:pt x="23574" y="17688"/>
                  <a:pt x="23574" y="17694"/>
                  <a:pt x="23574" y="17701"/>
                </a:cubicBezTo>
                <a:cubicBezTo>
                  <a:pt x="23560" y="17734"/>
                  <a:pt x="23519" y="17780"/>
                  <a:pt x="23515" y="17820"/>
                </a:cubicBezTo>
                <a:cubicBezTo>
                  <a:pt x="23512" y="17853"/>
                  <a:pt x="23482" y="17882"/>
                  <a:pt x="23515" y="17879"/>
                </a:cubicBezTo>
                <a:cubicBezTo>
                  <a:pt x="23537" y="17836"/>
                  <a:pt x="23546" y="17821"/>
                  <a:pt x="23574" y="17800"/>
                </a:cubicBezTo>
                <a:cubicBezTo>
                  <a:pt x="23592" y="17731"/>
                  <a:pt x="23625" y="17675"/>
                  <a:pt x="23634" y="17601"/>
                </a:cubicBezTo>
                <a:cubicBezTo>
                  <a:pt x="23641" y="17545"/>
                  <a:pt x="23640" y="17519"/>
                  <a:pt x="23634" y="17522"/>
                </a:cubicBezTo>
                <a:cubicBezTo>
                  <a:pt x="23589" y="17544"/>
                  <a:pt x="23526" y="17658"/>
                  <a:pt x="23495" y="17701"/>
                </a:cubicBezTo>
                <a:cubicBezTo>
                  <a:pt x="23468" y="17739"/>
                  <a:pt x="23402" y="17788"/>
                  <a:pt x="23435" y="17820"/>
                </a:cubicBezTo>
                <a:cubicBezTo>
                  <a:pt x="23440" y="17825"/>
                  <a:pt x="23532" y="17723"/>
                  <a:pt x="23535" y="17720"/>
                </a:cubicBezTo>
                <a:cubicBezTo>
                  <a:pt x="23595" y="17652"/>
                  <a:pt x="23647" y="17568"/>
                  <a:pt x="23674" y="17482"/>
                </a:cubicBezTo>
                <a:cubicBezTo>
                  <a:pt x="23682" y="17456"/>
                  <a:pt x="23727" y="17303"/>
                  <a:pt x="23713" y="17284"/>
                </a:cubicBezTo>
                <a:cubicBezTo>
                  <a:pt x="23691" y="17254"/>
                  <a:pt x="23678" y="17309"/>
                  <a:pt x="23654" y="17343"/>
                </a:cubicBezTo>
                <a:cubicBezTo>
                  <a:pt x="23592" y="17429"/>
                  <a:pt x="23558" y="17544"/>
                  <a:pt x="23535" y="17641"/>
                </a:cubicBezTo>
                <a:cubicBezTo>
                  <a:pt x="23535" y="17661"/>
                  <a:pt x="23535" y="17668"/>
                  <a:pt x="23535" y="17681"/>
                </a:cubicBezTo>
                <a:cubicBezTo>
                  <a:pt x="23559" y="17657"/>
                  <a:pt x="23608" y="17639"/>
                  <a:pt x="23634" y="17601"/>
                </a:cubicBezTo>
                <a:cubicBezTo>
                  <a:pt x="23690" y="17521"/>
                  <a:pt x="23746" y="17429"/>
                  <a:pt x="23793" y="17343"/>
                </a:cubicBezTo>
                <a:cubicBezTo>
                  <a:pt x="23805" y="17321"/>
                  <a:pt x="23824" y="17216"/>
                  <a:pt x="23793" y="17324"/>
                </a:cubicBezTo>
                <a:cubicBezTo>
                  <a:pt x="23747" y="17484"/>
                  <a:pt x="23646" y="17610"/>
                  <a:pt x="23594" y="17760"/>
                </a:cubicBezTo>
                <a:cubicBezTo>
                  <a:pt x="23582" y="17794"/>
                  <a:pt x="23559" y="17901"/>
                  <a:pt x="23574" y="17939"/>
                </a:cubicBezTo>
                <a:cubicBezTo>
                  <a:pt x="23596" y="17994"/>
                  <a:pt x="23559" y="17966"/>
                  <a:pt x="23614" y="17959"/>
                </a:cubicBezTo>
                <a:cubicBezTo>
                  <a:pt x="23624" y="17958"/>
                  <a:pt x="23705" y="17906"/>
                  <a:pt x="23713" y="17899"/>
                </a:cubicBezTo>
                <a:cubicBezTo>
                  <a:pt x="23729" y="17883"/>
                  <a:pt x="23751" y="17825"/>
                  <a:pt x="23753" y="17820"/>
                </a:cubicBezTo>
                <a:cubicBezTo>
                  <a:pt x="23763" y="17795"/>
                  <a:pt x="23765" y="17765"/>
                  <a:pt x="23773" y="17740"/>
                </a:cubicBezTo>
                <a:cubicBezTo>
                  <a:pt x="23784" y="17705"/>
                  <a:pt x="23787" y="17653"/>
                  <a:pt x="23793" y="17621"/>
                </a:cubicBezTo>
                <a:cubicBezTo>
                  <a:pt x="23800" y="17583"/>
                  <a:pt x="23803" y="17556"/>
                  <a:pt x="23812" y="17522"/>
                </a:cubicBezTo>
                <a:cubicBezTo>
                  <a:pt x="23815" y="17510"/>
                  <a:pt x="23842" y="17464"/>
                  <a:pt x="23832" y="17502"/>
                </a:cubicBezTo>
                <a:cubicBezTo>
                  <a:pt x="23818" y="17552"/>
                  <a:pt x="23772" y="17595"/>
                  <a:pt x="23753" y="17641"/>
                </a:cubicBezTo>
                <a:cubicBezTo>
                  <a:pt x="23723" y="17715"/>
                  <a:pt x="23711" y="17785"/>
                  <a:pt x="23693" y="17859"/>
                </a:cubicBezTo>
                <a:cubicBezTo>
                  <a:pt x="23686" y="17898"/>
                  <a:pt x="23680" y="17950"/>
                  <a:pt x="23674" y="17998"/>
                </a:cubicBezTo>
                <a:cubicBezTo>
                  <a:pt x="23669" y="18035"/>
                  <a:pt x="23636" y="18071"/>
                  <a:pt x="23654" y="18117"/>
                </a:cubicBezTo>
                <a:cubicBezTo>
                  <a:pt x="23675" y="18168"/>
                  <a:pt x="23625" y="18148"/>
                  <a:pt x="23674" y="18117"/>
                </a:cubicBezTo>
                <a:cubicBezTo>
                  <a:pt x="23719" y="18088"/>
                  <a:pt x="23765" y="18019"/>
                  <a:pt x="23793" y="17978"/>
                </a:cubicBezTo>
                <a:cubicBezTo>
                  <a:pt x="23819" y="17940"/>
                  <a:pt x="23821" y="17826"/>
                  <a:pt x="23852" y="17859"/>
                </a:cubicBezTo>
                <a:cubicBezTo>
                  <a:pt x="23917" y="17929"/>
                  <a:pt x="23780" y="18101"/>
                  <a:pt x="23773" y="18157"/>
                </a:cubicBezTo>
                <a:cubicBezTo>
                  <a:pt x="23769" y="18189"/>
                  <a:pt x="23771" y="18264"/>
                  <a:pt x="23793" y="18217"/>
                </a:cubicBezTo>
                <a:cubicBezTo>
                  <a:pt x="23809" y="18183"/>
                  <a:pt x="23816" y="18119"/>
                  <a:pt x="23832" y="18078"/>
                </a:cubicBezTo>
                <a:cubicBezTo>
                  <a:pt x="23835" y="18069"/>
                  <a:pt x="23852" y="17998"/>
                  <a:pt x="23852" y="17998"/>
                </a:cubicBezTo>
                <a:cubicBezTo>
                  <a:pt x="23869" y="18015"/>
                  <a:pt x="23835" y="18142"/>
                  <a:pt x="23852" y="18097"/>
                </a:cubicBezTo>
                <a:cubicBezTo>
                  <a:pt x="23862" y="18069"/>
                  <a:pt x="23865" y="18027"/>
                  <a:pt x="23872" y="17998"/>
                </a:cubicBezTo>
                <a:cubicBezTo>
                  <a:pt x="23883" y="17949"/>
                  <a:pt x="23906" y="17763"/>
                  <a:pt x="23912" y="17780"/>
                </a:cubicBezTo>
                <a:cubicBezTo>
                  <a:pt x="23945" y="17870"/>
                  <a:pt x="23930" y="18022"/>
                  <a:pt x="23951" y="18117"/>
                </a:cubicBezTo>
                <a:cubicBezTo>
                  <a:pt x="23954" y="18131"/>
                  <a:pt x="23952" y="18213"/>
                  <a:pt x="23971" y="18217"/>
                </a:cubicBezTo>
                <a:cubicBezTo>
                  <a:pt x="23981" y="18219"/>
                  <a:pt x="23964" y="18224"/>
                  <a:pt x="23971" y="18177"/>
                </a:cubicBezTo>
                <a:cubicBezTo>
                  <a:pt x="23990" y="18056"/>
                  <a:pt x="23968" y="17915"/>
                  <a:pt x="23951" y="17800"/>
                </a:cubicBezTo>
                <a:cubicBezTo>
                  <a:pt x="23951" y="17681"/>
                  <a:pt x="23959" y="17353"/>
                  <a:pt x="23951" y="17363"/>
                </a:cubicBezTo>
                <a:cubicBezTo>
                  <a:pt x="23901" y="17429"/>
                  <a:pt x="23843" y="17567"/>
                  <a:pt x="23812" y="17641"/>
                </a:cubicBezTo>
                <a:cubicBezTo>
                  <a:pt x="23738" y="17816"/>
                  <a:pt x="23660" y="17986"/>
                  <a:pt x="23574" y="18157"/>
                </a:cubicBezTo>
                <a:cubicBezTo>
                  <a:pt x="23564" y="18174"/>
                  <a:pt x="23499" y="18317"/>
                  <a:pt x="23515" y="18276"/>
                </a:cubicBezTo>
                <a:cubicBezTo>
                  <a:pt x="23527" y="18244"/>
                  <a:pt x="23548" y="18208"/>
                  <a:pt x="23555" y="18177"/>
                </a:cubicBezTo>
                <a:cubicBezTo>
                  <a:pt x="23570" y="18111"/>
                  <a:pt x="23571" y="18067"/>
                  <a:pt x="23594" y="17998"/>
                </a:cubicBezTo>
                <a:cubicBezTo>
                  <a:pt x="23615" y="17935"/>
                  <a:pt x="23622" y="17860"/>
                  <a:pt x="23654" y="17800"/>
                </a:cubicBezTo>
                <a:cubicBezTo>
                  <a:pt x="23673" y="17766"/>
                  <a:pt x="23640" y="17749"/>
                  <a:pt x="23654" y="17800"/>
                </a:cubicBezTo>
                <a:cubicBezTo>
                  <a:pt x="23665" y="17840"/>
                  <a:pt x="23667" y="17900"/>
                  <a:pt x="23674" y="17919"/>
                </a:cubicBezTo>
                <a:cubicBezTo>
                  <a:pt x="23684" y="17946"/>
                  <a:pt x="23705" y="17973"/>
                  <a:pt x="23713" y="17998"/>
                </a:cubicBezTo>
                <a:cubicBezTo>
                  <a:pt x="23725" y="18033"/>
                  <a:pt x="23717" y="18064"/>
                  <a:pt x="23733" y="18097"/>
                </a:cubicBezTo>
                <a:cubicBezTo>
                  <a:pt x="23749" y="18131"/>
                  <a:pt x="23769" y="18166"/>
                  <a:pt x="23793" y="18197"/>
                </a:cubicBezTo>
                <a:cubicBezTo>
                  <a:pt x="23811" y="18220"/>
                  <a:pt x="23809" y="18218"/>
                  <a:pt x="23832" y="18236"/>
                </a:cubicBezTo>
                <a:cubicBezTo>
                  <a:pt x="23854" y="18253"/>
                  <a:pt x="23856" y="18242"/>
                  <a:pt x="23892" y="18256"/>
                </a:cubicBezTo>
                <a:cubicBezTo>
                  <a:pt x="23904" y="18261"/>
                  <a:pt x="23914" y="18275"/>
                  <a:pt x="23951" y="18276"/>
                </a:cubicBezTo>
                <a:cubicBezTo>
                  <a:pt x="23997" y="18277"/>
                  <a:pt x="24010" y="18278"/>
                  <a:pt x="24031" y="18256"/>
                </a:cubicBezTo>
                <a:cubicBezTo>
                  <a:pt x="24053" y="18232"/>
                  <a:pt x="24036" y="18235"/>
                  <a:pt x="24051" y="18197"/>
                </a:cubicBezTo>
                <a:cubicBezTo>
                  <a:pt x="24058" y="18179"/>
                  <a:pt x="24069" y="18091"/>
                  <a:pt x="24070" y="18078"/>
                </a:cubicBezTo>
                <a:cubicBezTo>
                  <a:pt x="24076" y="18000"/>
                  <a:pt x="24086" y="17912"/>
                  <a:pt x="24090" y="17840"/>
                </a:cubicBezTo>
                <a:cubicBezTo>
                  <a:pt x="24095" y="17755"/>
                  <a:pt x="24106" y="17662"/>
                  <a:pt x="24110" y="17582"/>
                </a:cubicBezTo>
                <a:cubicBezTo>
                  <a:pt x="24112" y="17544"/>
                  <a:pt x="24129" y="17469"/>
                  <a:pt x="24130" y="17462"/>
                </a:cubicBezTo>
                <a:cubicBezTo>
                  <a:pt x="24138" y="17366"/>
                  <a:pt x="24145" y="17249"/>
                  <a:pt x="24150" y="17165"/>
                </a:cubicBezTo>
                <a:cubicBezTo>
                  <a:pt x="24155" y="17086"/>
                  <a:pt x="24150" y="17045"/>
                  <a:pt x="24150" y="16966"/>
                </a:cubicBezTo>
                <a:cubicBezTo>
                  <a:pt x="24133" y="17032"/>
                  <a:pt x="24108" y="17097"/>
                  <a:pt x="24090" y="17165"/>
                </a:cubicBezTo>
                <a:cubicBezTo>
                  <a:pt x="24060" y="17277"/>
                  <a:pt x="23996" y="17337"/>
                  <a:pt x="23951" y="17443"/>
                </a:cubicBezTo>
                <a:cubicBezTo>
                  <a:pt x="23895" y="17575"/>
                  <a:pt x="23866" y="17725"/>
                  <a:pt x="23832" y="17859"/>
                </a:cubicBezTo>
                <a:cubicBezTo>
                  <a:pt x="23813" y="17941"/>
                  <a:pt x="23805" y="18016"/>
                  <a:pt x="23793" y="18097"/>
                </a:cubicBezTo>
                <a:cubicBezTo>
                  <a:pt x="23787" y="18139"/>
                  <a:pt x="23762" y="18258"/>
                  <a:pt x="23773" y="18217"/>
                </a:cubicBezTo>
                <a:cubicBezTo>
                  <a:pt x="23783" y="18179"/>
                  <a:pt x="23778" y="18132"/>
                  <a:pt x="23793" y="18097"/>
                </a:cubicBezTo>
                <a:cubicBezTo>
                  <a:pt x="23843" y="17982"/>
                  <a:pt x="23842" y="17902"/>
                  <a:pt x="23872" y="17780"/>
                </a:cubicBezTo>
                <a:cubicBezTo>
                  <a:pt x="23913" y="17616"/>
                  <a:pt x="23983" y="17475"/>
                  <a:pt x="24051" y="17324"/>
                </a:cubicBezTo>
                <a:cubicBezTo>
                  <a:pt x="24102" y="17210"/>
                  <a:pt x="24133" y="17104"/>
                  <a:pt x="24209" y="17006"/>
                </a:cubicBezTo>
                <a:cubicBezTo>
                  <a:pt x="24221" y="16990"/>
                  <a:pt x="24196" y="17041"/>
                  <a:pt x="24209" y="17026"/>
                </a:cubicBezTo>
                <a:cubicBezTo>
                  <a:pt x="24196" y="17065"/>
                  <a:pt x="24186" y="17128"/>
                  <a:pt x="24170" y="17165"/>
                </a:cubicBezTo>
                <a:cubicBezTo>
                  <a:pt x="24132" y="17252"/>
                  <a:pt x="24088" y="17335"/>
                  <a:pt x="24051" y="17423"/>
                </a:cubicBezTo>
                <a:cubicBezTo>
                  <a:pt x="24016" y="17507"/>
                  <a:pt x="23984" y="17572"/>
                  <a:pt x="23971" y="17661"/>
                </a:cubicBezTo>
                <a:cubicBezTo>
                  <a:pt x="23963" y="17715"/>
                  <a:pt x="23968" y="17659"/>
                  <a:pt x="23971" y="17641"/>
                </a:cubicBezTo>
                <a:cubicBezTo>
                  <a:pt x="23981" y="17573"/>
                  <a:pt x="24016" y="17510"/>
                  <a:pt x="24031" y="17443"/>
                </a:cubicBezTo>
                <a:cubicBezTo>
                  <a:pt x="24056" y="17331"/>
                  <a:pt x="24068" y="17212"/>
                  <a:pt x="24110" y="17105"/>
                </a:cubicBezTo>
                <a:cubicBezTo>
                  <a:pt x="24124" y="17069"/>
                  <a:pt x="24147" y="17060"/>
                  <a:pt x="24130" y="17066"/>
                </a:cubicBezTo>
                <a:cubicBezTo>
                  <a:pt x="24078" y="17085"/>
                  <a:pt x="24085" y="17158"/>
                  <a:pt x="24070" y="17205"/>
                </a:cubicBezTo>
                <a:cubicBezTo>
                  <a:pt x="24046" y="17281"/>
                  <a:pt x="24051" y="17351"/>
                  <a:pt x="24031" y="17423"/>
                </a:cubicBezTo>
                <a:cubicBezTo>
                  <a:pt x="24004" y="17522"/>
                  <a:pt x="24010" y="17464"/>
                  <a:pt x="24011" y="17443"/>
                </a:cubicBezTo>
                <a:cubicBezTo>
                  <a:pt x="24016" y="17346"/>
                  <a:pt x="24060" y="17255"/>
                  <a:pt x="24070" y="17165"/>
                </a:cubicBezTo>
                <a:cubicBezTo>
                  <a:pt x="24080" y="17074"/>
                  <a:pt x="24105" y="17008"/>
                  <a:pt x="24110" y="16927"/>
                </a:cubicBezTo>
                <a:cubicBezTo>
                  <a:pt x="24114" y="16853"/>
                  <a:pt x="24116" y="16924"/>
                  <a:pt x="24110" y="16927"/>
                </a:cubicBezTo>
                <a:cubicBezTo>
                  <a:pt x="24071" y="16949"/>
                  <a:pt x="24061" y="16996"/>
                  <a:pt x="24031" y="17026"/>
                </a:cubicBezTo>
                <a:cubicBezTo>
                  <a:pt x="23984" y="17073"/>
                  <a:pt x="23962" y="17121"/>
                  <a:pt x="23932" y="17165"/>
                </a:cubicBezTo>
                <a:cubicBezTo>
                  <a:pt x="23924" y="17177"/>
                  <a:pt x="23901" y="17249"/>
                  <a:pt x="23932" y="17185"/>
                </a:cubicBezTo>
                <a:cubicBezTo>
                  <a:pt x="23949" y="17151"/>
                  <a:pt x="23965" y="17108"/>
                  <a:pt x="23971" y="17066"/>
                </a:cubicBezTo>
                <a:cubicBezTo>
                  <a:pt x="23977" y="17021"/>
                  <a:pt x="23968" y="16973"/>
                  <a:pt x="23971" y="16927"/>
                </a:cubicBezTo>
                <a:cubicBezTo>
                  <a:pt x="23963" y="16957"/>
                  <a:pt x="23963" y="17014"/>
                  <a:pt x="23951" y="17046"/>
                </a:cubicBezTo>
                <a:cubicBezTo>
                  <a:pt x="23920" y="17129"/>
                  <a:pt x="23859" y="17182"/>
                  <a:pt x="23832" y="17264"/>
                </a:cubicBezTo>
                <a:cubicBezTo>
                  <a:pt x="23830" y="17269"/>
                  <a:pt x="23810" y="17423"/>
                  <a:pt x="23812" y="17423"/>
                </a:cubicBezTo>
                <a:cubicBezTo>
                  <a:pt x="23828" y="17425"/>
                  <a:pt x="23856" y="17350"/>
                  <a:pt x="23872" y="17324"/>
                </a:cubicBezTo>
                <a:cubicBezTo>
                  <a:pt x="23890" y="17294"/>
                  <a:pt x="23949" y="17189"/>
                  <a:pt x="23971" y="17185"/>
                </a:cubicBezTo>
                <a:cubicBezTo>
                  <a:pt x="24005" y="17179"/>
                  <a:pt x="23963" y="17154"/>
                  <a:pt x="23991" y="17205"/>
                </a:cubicBezTo>
                <a:cubicBezTo>
                  <a:pt x="24047" y="17309"/>
                  <a:pt x="23976" y="17560"/>
                  <a:pt x="23971" y="17661"/>
                </a:cubicBezTo>
                <a:cubicBezTo>
                  <a:pt x="23966" y="17763"/>
                  <a:pt x="23986" y="17871"/>
                  <a:pt x="23991" y="17959"/>
                </a:cubicBezTo>
                <a:cubicBezTo>
                  <a:pt x="23993" y="17996"/>
                  <a:pt x="24018" y="18228"/>
                  <a:pt x="24011" y="18236"/>
                </a:cubicBezTo>
                <a:cubicBezTo>
                  <a:pt x="24009" y="18239"/>
                  <a:pt x="23939" y="18254"/>
                  <a:pt x="23932" y="18256"/>
                </a:cubicBezTo>
                <a:cubicBezTo>
                  <a:pt x="23861" y="18275"/>
                  <a:pt x="23812" y="18226"/>
                  <a:pt x="23773" y="18217"/>
                </a:cubicBezTo>
                <a:cubicBezTo>
                  <a:pt x="23741" y="18210"/>
                  <a:pt x="23702" y="18200"/>
                  <a:pt x="23674" y="18197"/>
                </a:cubicBezTo>
                <a:cubicBezTo>
                  <a:pt x="23549" y="18184"/>
                  <a:pt x="23419" y="18184"/>
                  <a:pt x="23297" y="18177"/>
                </a:cubicBezTo>
                <a:cubicBezTo>
                  <a:pt x="23248" y="18174"/>
                  <a:pt x="23178" y="18160"/>
                  <a:pt x="23158" y="18157"/>
                </a:cubicBezTo>
                <a:cubicBezTo>
                  <a:pt x="23128" y="18152"/>
                  <a:pt x="23102" y="18152"/>
                  <a:pt x="23078" y="18137"/>
                </a:cubicBezTo>
                <a:cubicBezTo>
                  <a:pt x="23053" y="18121"/>
                  <a:pt x="23058" y="18118"/>
                  <a:pt x="23039" y="18097"/>
                </a:cubicBezTo>
                <a:cubicBezTo>
                  <a:pt x="23028" y="18085"/>
                  <a:pt x="23013" y="18057"/>
                  <a:pt x="22999" y="18038"/>
                </a:cubicBezTo>
                <a:cubicBezTo>
                  <a:pt x="22973" y="18004"/>
                  <a:pt x="22946" y="17955"/>
                  <a:pt x="22920" y="17919"/>
                </a:cubicBezTo>
                <a:cubicBezTo>
                  <a:pt x="22881" y="17864"/>
                  <a:pt x="22881" y="17838"/>
                  <a:pt x="22860" y="17780"/>
                </a:cubicBezTo>
                <a:cubicBezTo>
                  <a:pt x="22853" y="17760"/>
                  <a:pt x="22846" y="17703"/>
                  <a:pt x="22840" y="17681"/>
                </a:cubicBezTo>
                <a:cubicBezTo>
                  <a:pt x="22824" y="17642"/>
                  <a:pt x="22817" y="17600"/>
                  <a:pt x="22800" y="17562"/>
                </a:cubicBezTo>
                <a:cubicBezTo>
                  <a:pt x="22791" y="17541"/>
                  <a:pt x="22767" y="17534"/>
                  <a:pt x="22761" y="17522"/>
                </a:cubicBezTo>
                <a:cubicBezTo>
                  <a:pt x="22761" y="17515"/>
                  <a:pt x="22761" y="17509"/>
                  <a:pt x="22761" y="17502"/>
                </a:cubicBezTo>
                <a:cubicBezTo>
                  <a:pt x="22675" y="17510"/>
                  <a:pt x="22636" y="17491"/>
                  <a:pt x="22582" y="17542"/>
                </a:cubicBezTo>
                <a:cubicBezTo>
                  <a:pt x="22557" y="17566"/>
                  <a:pt x="22578" y="17563"/>
                  <a:pt x="22562" y="17601"/>
                </a:cubicBezTo>
                <a:cubicBezTo>
                  <a:pt x="22551" y="17627"/>
                  <a:pt x="22538" y="17621"/>
                  <a:pt x="22542" y="17661"/>
                </a:cubicBezTo>
                <a:cubicBezTo>
                  <a:pt x="22546" y="17697"/>
                  <a:pt x="22557" y="17707"/>
                  <a:pt x="22562" y="17720"/>
                </a:cubicBezTo>
                <a:cubicBezTo>
                  <a:pt x="22570" y="17738"/>
                  <a:pt x="22608" y="17787"/>
                  <a:pt x="22622" y="17800"/>
                </a:cubicBezTo>
                <a:cubicBezTo>
                  <a:pt x="22633" y="17810"/>
                  <a:pt x="22700" y="17839"/>
                  <a:pt x="22701" y="17840"/>
                </a:cubicBezTo>
                <a:cubicBezTo>
                  <a:pt x="22725" y="17853"/>
                  <a:pt x="22729" y="17859"/>
                  <a:pt x="22761" y="17879"/>
                </a:cubicBezTo>
                <a:cubicBezTo>
                  <a:pt x="22780" y="17891"/>
                  <a:pt x="22823" y="17888"/>
                  <a:pt x="22840" y="17899"/>
                </a:cubicBezTo>
                <a:cubicBezTo>
                  <a:pt x="22844" y="17902"/>
                  <a:pt x="22875" y="17934"/>
                  <a:pt x="22880" y="17939"/>
                </a:cubicBezTo>
                <a:cubicBezTo>
                  <a:pt x="22896" y="17956"/>
                  <a:pt x="22915" y="17990"/>
                  <a:pt x="22920" y="17998"/>
                </a:cubicBezTo>
                <a:cubicBezTo>
                  <a:pt x="22938" y="18027"/>
                  <a:pt x="22927" y="18046"/>
                  <a:pt x="22959" y="18078"/>
                </a:cubicBezTo>
                <a:cubicBezTo>
                  <a:pt x="22978" y="18097"/>
                  <a:pt x="22972" y="18103"/>
                  <a:pt x="22999" y="18117"/>
                </a:cubicBezTo>
                <a:cubicBezTo>
                  <a:pt x="23024" y="18129"/>
                  <a:pt x="23052" y="18127"/>
                  <a:pt x="23078" y="18137"/>
                </a:cubicBezTo>
                <a:cubicBezTo>
                  <a:pt x="23108" y="18149"/>
                  <a:pt x="23144" y="18167"/>
                  <a:pt x="23177" y="18177"/>
                </a:cubicBezTo>
                <a:cubicBezTo>
                  <a:pt x="23205" y="18186"/>
                  <a:pt x="23302" y="18215"/>
                  <a:pt x="23316" y="18217"/>
                </a:cubicBezTo>
                <a:cubicBezTo>
                  <a:pt x="23381" y="18228"/>
                  <a:pt x="23487" y="18131"/>
                  <a:pt x="23495" y="18197"/>
                </a:cubicBezTo>
                <a:cubicBezTo>
                  <a:pt x="23499" y="18230"/>
                  <a:pt x="23413" y="18212"/>
                  <a:pt x="23435" y="18236"/>
                </a:cubicBezTo>
                <a:cubicBezTo>
                  <a:pt x="23453" y="18255"/>
                  <a:pt x="23434" y="18241"/>
                  <a:pt x="23455" y="18256"/>
                </a:cubicBezTo>
                <a:cubicBezTo>
                  <a:pt x="23482" y="18275"/>
                  <a:pt x="23538" y="18303"/>
                  <a:pt x="23574" y="18316"/>
                </a:cubicBezTo>
                <a:cubicBezTo>
                  <a:pt x="23605" y="18327"/>
                  <a:pt x="23708" y="18376"/>
                  <a:pt x="23733" y="18375"/>
                </a:cubicBezTo>
                <a:cubicBezTo>
                  <a:pt x="23812" y="18373"/>
                  <a:pt x="23762" y="18347"/>
                  <a:pt x="23812" y="18336"/>
                </a:cubicBezTo>
                <a:cubicBezTo>
                  <a:pt x="23804" y="18311"/>
                  <a:pt x="23858" y="18284"/>
                  <a:pt x="23832" y="18276"/>
                </a:cubicBezTo>
                <a:cubicBezTo>
                  <a:pt x="23800" y="18267"/>
                  <a:pt x="23806" y="18280"/>
                  <a:pt x="23773" y="18276"/>
                </a:cubicBezTo>
                <a:cubicBezTo>
                  <a:pt x="23598" y="18255"/>
                  <a:pt x="23430" y="18248"/>
                  <a:pt x="23257" y="18217"/>
                </a:cubicBezTo>
                <a:cubicBezTo>
                  <a:pt x="23223" y="18211"/>
                  <a:pt x="23131" y="18201"/>
                  <a:pt x="23098" y="18177"/>
                </a:cubicBezTo>
                <a:cubicBezTo>
                  <a:pt x="23072" y="18158"/>
                  <a:pt x="23071" y="18126"/>
                  <a:pt x="23058" y="18097"/>
                </a:cubicBezTo>
                <a:cubicBezTo>
                  <a:pt x="23041" y="18059"/>
                  <a:pt x="23042" y="17959"/>
                  <a:pt x="23039" y="17919"/>
                </a:cubicBezTo>
                <a:cubicBezTo>
                  <a:pt x="23035" y="17871"/>
                  <a:pt x="23034" y="17822"/>
                  <a:pt x="23058" y="17800"/>
                </a:cubicBezTo>
                <a:cubicBezTo>
                  <a:pt x="23066" y="17793"/>
                  <a:pt x="23085" y="17761"/>
                  <a:pt x="23118" y="17780"/>
                </a:cubicBezTo>
                <a:cubicBezTo>
                  <a:pt x="23159" y="17804"/>
                  <a:pt x="23147" y="17825"/>
                  <a:pt x="23158" y="17859"/>
                </a:cubicBezTo>
                <a:cubicBezTo>
                  <a:pt x="23173" y="17908"/>
                  <a:pt x="23159" y="18020"/>
                  <a:pt x="23138" y="18038"/>
                </a:cubicBezTo>
                <a:cubicBezTo>
                  <a:pt x="23118" y="18056"/>
                  <a:pt x="23090" y="18082"/>
                  <a:pt x="23078" y="18058"/>
                </a:cubicBezTo>
                <a:cubicBezTo>
                  <a:pt x="23024" y="17956"/>
                  <a:pt x="23085" y="17688"/>
                  <a:pt x="23158" y="17621"/>
                </a:cubicBezTo>
                <a:cubicBezTo>
                  <a:pt x="23223" y="17561"/>
                  <a:pt x="23292" y="17536"/>
                  <a:pt x="23376" y="17522"/>
                </a:cubicBezTo>
                <a:cubicBezTo>
                  <a:pt x="23517" y="17499"/>
                  <a:pt x="23658" y="17513"/>
                  <a:pt x="23773" y="17582"/>
                </a:cubicBezTo>
                <a:cubicBezTo>
                  <a:pt x="23868" y="17639"/>
                  <a:pt x="23808" y="17638"/>
                  <a:pt x="23832" y="17720"/>
                </a:cubicBezTo>
                <a:cubicBezTo>
                  <a:pt x="23846" y="17770"/>
                  <a:pt x="23832" y="17841"/>
                  <a:pt x="23812" y="17879"/>
                </a:cubicBezTo>
                <a:cubicBezTo>
                  <a:pt x="23788" y="17927"/>
                  <a:pt x="23715" y="17962"/>
                  <a:pt x="23693" y="17978"/>
                </a:cubicBezTo>
                <a:cubicBezTo>
                  <a:pt x="23687" y="17978"/>
                  <a:pt x="23680" y="17978"/>
                  <a:pt x="23674" y="17978"/>
                </a:cubicBezTo>
                <a:cubicBezTo>
                  <a:pt x="23554" y="17935"/>
                  <a:pt x="23554" y="17956"/>
                  <a:pt x="23435" y="17859"/>
                </a:cubicBezTo>
                <a:cubicBezTo>
                  <a:pt x="23361" y="17799"/>
                  <a:pt x="23252" y="17734"/>
                  <a:pt x="23217" y="17641"/>
                </a:cubicBezTo>
                <a:cubicBezTo>
                  <a:pt x="23196" y="17586"/>
                  <a:pt x="23207" y="17430"/>
                  <a:pt x="23237" y="17383"/>
                </a:cubicBezTo>
                <a:cubicBezTo>
                  <a:pt x="23246" y="17369"/>
                  <a:pt x="23268" y="17320"/>
                  <a:pt x="23297" y="17324"/>
                </a:cubicBezTo>
                <a:cubicBezTo>
                  <a:pt x="23353" y="17332"/>
                  <a:pt x="23380" y="17369"/>
                  <a:pt x="23396" y="17423"/>
                </a:cubicBezTo>
                <a:cubicBezTo>
                  <a:pt x="23424" y="17514"/>
                  <a:pt x="23439" y="17648"/>
                  <a:pt x="23455" y="17740"/>
                </a:cubicBezTo>
                <a:cubicBezTo>
                  <a:pt x="23455" y="17760"/>
                  <a:pt x="23455" y="17780"/>
                  <a:pt x="23455" y="17800"/>
                </a:cubicBezTo>
                <a:cubicBezTo>
                  <a:pt x="23446" y="17834"/>
                  <a:pt x="23480" y="17923"/>
                  <a:pt x="23435" y="17939"/>
                </a:cubicBezTo>
                <a:cubicBezTo>
                  <a:pt x="23338" y="17974"/>
                  <a:pt x="23254" y="17853"/>
                  <a:pt x="23197" y="17800"/>
                </a:cubicBezTo>
                <a:cubicBezTo>
                  <a:pt x="23007" y="17624"/>
                  <a:pt x="22782" y="17397"/>
                  <a:pt x="22662" y="17165"/>
                </a:cubicBezTo>
                <a:cubicBezTo>
                  <a:pt x="22610" y="17096"/>
                  <a:pt x="22590" y="17083"/>
                  <a:pt x="22602" y="17026"/>
                </a:cubicBezTo>
                <a:cubicBezTo>
                  <a:pt x="22617" y="17002"/>
                  <a:pt x="22576" y="16917"/>
                  <a:pt x="22622" y="16907"/>
                </a:cubicBezTo>
                <a:cubicBezTo>
                  <a:pt x="22686" y="16894"/>
                  <a:pt x="22713" y="16915"/>
                  <a:pt x="22761" y="16947"/>
                </a:cubicBezTo>
                <a:cubicBezTo>
                  <a:pt x="22834" y="16996"/>
                  <a:pt x="22924" y="17103"/>
                  <a:pt x="22959" y="17185"/>
                </a:cubicBezTo>
                <a:cubicBezTo>
                  <a:pt x="22980" y="17235"/>
                  <a:pt x="22984" y="17366"/>
                  <a:pt x="22979" y="17423"/>
                </a:cubicBezTo>
                <a:cubicBezTo>
                  <a:pt x="22974" y="17488"/>
                  <a:pt x="22974" y="17506"/>
                  <a:pt x="22939" y="17562"/>
                </a:cubicBezTo>
                <a:cubicBezTo>
                  <a:pt x="22905" y="17616"/>
                  <a:pt x="22871" y="17656"/>
                  <a:pt x="22800" y="17641"/>
                </a:cubicBezTo>
                <a:cubicBezTo>
                  <a:pt x="22753" y="17631"/>
                  <a:pt x="22762" y="17641"/>
                  <a:pt x="22741" y="17582"/>
                </a:cubicBezTo>
                <a:cubicBezTo>
                  <a:pt x="22724" y="17536"/>
                  <a:pt x="22736" y="17421"/>
                  <a:pt x="22761" y="17383"/>
                </a:cubicBezTo>
                <a:cubicBezTo>
                  <a:pt x="22822" y="17289"/>
                  <a:pt x="22904" y="17309"/>
                  <a:pt x="22999" y="17304"/>
                </a:cubicBezTo>
                <a:cubicBezTo>
                  <a:pt x="23064" y="17300"/>
                  <a:pt x="23187" y="17284"/>
                  <a:pt x="23217" y="17324"/>
                </a:cubicBezTo>
                <a:cubicBezTo>
                  <a:pt x="23237" y="17352"/>
                  <a:pt x="23181" y="17357"/>
                  <a:pt x="23158" y="17383"/>
                </a:cubicBezTo>
                <a:cubicBezTo>
                  <a:pt x="23150" y="17392"/>
                  <a:pt x="23095" y="17430"/>
                  <a:pt x="23078" y="17443"/>
                </a:cubicBezTo>
                <a:cubicBezTo>
                  <a:pt x="23059" y="17457"/>
                  <a:pt x="23034" y="17472"/>
                  <a:pt x="23019" y="17482"/>
                </a:cubicBezTo>
              </a:path>
            </a:pathLst>
          </a:custGeom>
          <a:noFill/>
          <a:ln cap="rnd" w="34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72440" y="4437000"/>
            <a:ext cx="1771560" cy="2244960"/>
          </a:xfrm>
          <a:custGeom>
            <a:avLst/>
            <a:gdLst/>
            <a:ahLst/>
            <a:rect l="l" t="t" r="r" b="b"/>
            <a:pathLst>
              <a:path w="4922" h="6232">
                <a:moveTo>
                  <a:pt x="24110" y="18276"/>
                </a:moveTo>
                <a:cubicBezTo>
                  <a:pt x="24110" y="18243"/>
                  <a:pt x="24131" y="18230"/>
                  <a:pt x="24130" y="18197"/>
                </a:cubicBezTo>
                <a:cubicBezTo>
                  <a:pt x="24129" y="18166"/>
                  <a:pt x="24111" y="18181"/>
                  <a:pt x="24110" y="18137"/>
                </a:cubicBezTo>
                <a:cubicBezTo>
                  <a:pt x="24102" y="17898"/>
                  <a:pt x="24098" y="17652"/>
                  <a:pt x="24130" y="17423"/>
                </a:cubicBezTo>
                <a:cubicBezTo>
                  <a:pt x="24135" y="17390"/>
                  <a:pt x="24142" y="17325"/>
                  <a:pt x="24150" y="17284"/>
                </a:cubicBezTo>
                <a:cubicBezTo>
                  <a:pt x="24154" y="17261"/>
                  <a:pt x="24190" y="17186"/>
                  <a:pt x="24190" y="17185"/>
                </a:cubicBezTo>
                <a:cubicBezTo>
                  <a:pt x="24199" y="17135"/>
                  <a:pt x="24224" y="17050"/>
                  <a:pt x="24229" y="17026"/>
                </a:cubicBezTo>
                <a:cubicBezTo>
                  <a:pt x="24240" y="16969"/>
                  <a:pt x="24236" y="16921"/>
                  <a:pt x="24249" y="16867"/>
                </a:cubicBezTo>
                <a:cubicBezTo>
                  <a:pt x="24250" y="16863"/>
                  <a:pt x="24264" y="16816"/>
                  <a:pt x="24269" y="16788"/>
                </a:cubicBezTo>
                <a:cubicBezTo>
                  <a:pt x="24277" y="16748"/>
                  <a:pt x="24282" y="16758"/>
                  <a:pt x="24289" y="16728"/>
                </a:cubicBezTo>
                <a:cubicBezTo>
                  <a:pt x="24308" y="16647"/>
                  <a:pt x="24300" y="16643"/>
                  <a:pt x="24348" y="16570"/>
                </a:cubicBezTo>
                <a:cubicBezTo>
                  <a:pt x="24364" y="16545"/>
                  <a:pt x="24412" y="16531"/>
                  <a:pt x="24428" y="16490"/>
                </a:cubicBezTo>
                <a:cubicBezTo>
                  <a:pt x="24439" y="16461"/>
                  <a:pt x="24439" y="16469"/>
                  <a:pt x="24447" y="16431"/>
                </a:cubicBezTo>
                <a:cubicBezTo>
                  <a:pt x="24472" y="16317"/>
                  <a:pt x="24441" y="16187"/>
                  <a:pt x="24408" y="16093"/>
                </a:cubicBezTo>
                <a:cubicBezTo>
                  <a:pt x="24396" y="16059"/>
                  <a:pt x="24384" y="16012"/>
                  <a:pt x="24368" y="15994"/>
                </a:cubicBezTo>
                <a:cubicBezTo>
                  <a:pt x="24357" y="15982"/>
                  <a:pt x="24327" y="15967"/>
                  <a:pt x="24309" y="15954"/>
                </a:cubicBezTo>
                <a:cubicBezTo>
                  <a:pt x="24276" y="15930"/>
                  <a:pt x="24259" y="15931"/>
                  <a:pt x="24229" y="15915"/>
                </a:cubicBezTo>
                <a:cubicBezTo>
                  <a:pt x="24191" y="15895"/>
                  <a:pt x="24117" y="15866"/>
                  <a:pt x="24070" y="15855"/>
                </a:cubicBezTo>
                <a:cubicBezTo>
                  <a:pt x="24025" y="15844"/>
                  <a:pt x="24017" y="15863"/>
                  <a:pt x="23971" y="15855"/>
                </a:cubicBezTo>
                <a:cubicBezTo>
                  <a:pt x="24018" y="15845"/>
                  <a:pt x="24067" y="15819"/>
                  <a:pt x="24110" y="15815"/>
                </a:cubicBezTo>
                <a:cubicBezTo>
                  <a:pt x="24174" y="15809"/>
                  <a:pt x="24250" y="15802"/>
                  <a:pt x="24289" y="15796"/>
                </a:cubicBezTo>
                <a:cubicBezTo>
                  <a:pt x="24338" y="15789"/>
                  <a:pt x="24366" y="15790"/>
                  <a:pt x="24408" y="15776"/>
                </a:cubicBezTo>
                <a:cubicBezTo>
                  <a:pt x="24501" y="15746"/>
                  <a:pt x="24520" y="15738"/>
                  <a:pt x="24567" y="15677"/>
                </a:cubicBezTo>
                <a:cubicBezTo>
                  <a:pt x="24581" y="15659"/>
                  <a:pt x="24597" y="15642"/>
                  <a:pt x="24606" y="15617"/>
                </a:cubicBezTo>
                <a:cubicBezTo>
                  <a:pt x="24620" y="15578"/>
                  <a:pt x="24614" y="15536"/>
                  <a:pt x="24626" y="15498"/>
                </a:cubicBezTo>
                <a:cubicBezTo>
                  <a:pt x="24635" y="15471"/>
                  <a:pt x="24630" y="15442"/>
                  <a:pt x="24646" y="15419"/>
                </a:cubicBezTo>
                <a:cubicBezTo>
                  <a:pt x="24653" y="15409"/>
                  <a:pt x="24657" y="15367"/>
                  <a:pt x="24666" y="15359"/>
                </a:cubicBezTo>
                <a:cubicBezTo>
                  <a:pt x="24683" y="15344"/>
                  <a:pt x="24772" y="15359"/>
                  <a:pt x="24785" y="15339"/>
                </a:cubicBezTo>
                <a:cubicBezTo>
                  <a:pt x="24798" y="15320"/>
                  <a:pt x="24815" y="15284"/>
                  <a:pt x="24825" y="15260"/>
                </a:cubicBezTo>
                <a:cubicBezTo>
                  <a:pt x="24843" y="15218"/>
                  <a:pt x="24842" y="15111"/>
                  <a:pt x="24844" y="15081"/>
                </a:cubicBezTo>
                <a:cubicBezTo>
                  <a:pt x="24853" y="14963"/>
                  <a:pt x="24852" y="14791"/>
                  <a:pt x="24825" y="14704"/>
                </a:cubicBezTo>
                <a:cubicBezTo>
                  <a:pt x="24814" y="14668"/>
                  <a:pt x="24816" y="14673"/>
                  <a:pt x="24805" y="14645"/>
                </a:cubicBezTo>
                <a:cubicBezTo>
                  <a:pt x="24795" y="14618"/>
                  <a:pt x="24780" y="14620"/>
                  <a:pt x="24765" y="14585"/>
                </a:cubicBezTo>
                <a:cubicBezTo>
                  <a:pt x="24755" y="14561"/>
                  <a:pt x="24758" y="14556"/>
                  <a:pt x="24745" y="14526"/>
                </a:cubicBezTo>
                <a:cubicBezTo>
                  <a:pt x="24731" y="14494"/>
                  <a:pt x="24721" y="14456"/>
                  <a:pt x="24705" y="14426"/>
                </a:cubicBezTo>
                <a:cubicBezTo>
                  <a:pt x="24686" y="14390"/>
                  <a:pt x="24671" y="14345"/>
                  <a:pt x="24646" y="14327"/>
                </a:cubicBezTo>
                <a:cubicBezTo>
                  <a:pt x="24616" y="14305"/>
                  <a:pt x="24612" y="14296"/>
                  <a:pt x="24586" y="14287"/>
                </a:cubicBezTo>
                <a:cubicBezTo>
                  <a:pt x="24483" y="14253"/>
                  <a:pt x="24292" y="14272"/>
                  <a:pt x="24190" y="14268"/>
                </a:cubicBezTo>
                <a:cubicBezTo>
                  <a:pt x="24031" y="14262"/>
                  <a:pt x="23872" y="14268"/>
                  <a:pt x="23713" y="14268"/>
                </a:cubicBezTo>
                <a:cubicBezTo>
                  <a:pt x="23726" y="14195"/>
                  <a:pt x="23714" y="14143"/>
                  <a:pt x="23733" y="14089"/>
                </a:cubicBezTo>
                <a:cubicBezTo>
                  <a:pt x="23740" y="14067"/>
                  <a:pt x="23772" y="14034"/>
                  <a:pt x="23773" y="14030"/>
                </a:cubicBezTo>
                <a:cubicBezTo>
                  <a:pt x="23787" y="13990"/>
                  <a:pt x="23776" y="13978"/>
                  <a:pt x="23793" y="13950"/>
                </a:cubicBezTo>
                <a:cubicBezTo>
                  <a:pt x="23800" y="13939"/>
                  <a:pt x="23802" y="13901"/>
                  <a:pt x="23812" y="13891"/>
                </a:cubicBezTo>
                <a:cubicBezTo>
                  <a:pt x="23822" y="13881"/>
                  <a:pt x="23881" y="13866"/>
                  <a:pt x="23892" y="13851"/>
                </a:cubicBezTo>
                <a:cubicBezTo>
                  <a:pt x="23905" y="13833"/>
                  <a:pt x="23919" y="13837"/>
                  <a:pt x="23932" y="13811"/>
                </a:cubicBezTo>
                <a:cubicBezTo>
                  <a:pt x="23946" y="13784"/>
                  <a:pt x="23942" y="13789"/>
                  <a:pt x="23951" y="13752"/>
                </a:cubicBezTo>
                <a:cubicBezTo>
                  <a:pt x="23964" y="13696"/>
                  <a:pt x="23946" y="13631"/>
                  <a:pt x="23951" y="13573"/>
                </a:cubicBezTo>
                <a:cubicBezTo>
                  <a:pt x="23936" y="13671"/>
                  <a:pt x="23933" y="13760"/>
                  <a:pt x="23912" y="13851"/>
                </a:cubicBezTo>
                <a:cubicBezTo>
                  <a:pt x="23906" y="13876"/>
                  <a:pt x="23901" y="13905"/>
                  <a:pt x="23892" y="13930"/>
                </a:cubicBezTo>
                <a:cubicBezTo>
                  <a:pt x="23877" y="13971"/>
                  <a:pt x="23861" y="14003"/>
                  <a:pt x="23852" y="14030"/>
                </a:cubicBezTo>
                <a:cubicBezTo>
                  <a:pt x="23843" y="14055"/>
                  <a:pt x="23842" y="14065"/>
                  <a:pt x="23832" y="14089"/>
                </a:cubicBezTo>
                <a:cubicBezTo>
                  <a:pt x="23831" y="14091"/>
                  <a:pt x="23818" y="14111"/>
                  <a:pt x="23812" y="14129"/>
                </a:cubicBezTo>
                <a:cubicBezTo>
                  <a:pt x="23826" y="14103"/>
                  <a:pt x="23839" y="14135"/>
                  <a:pt x="23852" y="14109"/>
                </a:cubicBezTo>
                <a:cubicBezTo>
                  <a:pt x="23866" y="14081"/>
                  <a:pt x="23858" y="14039"/>
                  <a:pt x="23872" y="14010"/>
                </a:cubicBezTo>
                <a:cubicBezTo>
                  <a:pt x="23903" y="13947"/>
                  <a:pt x="23927" y="13924"/>
                  <a:pt x="23951" y="13851"/>
                </a:cubicBezTo>
                <a:cubicBezTo>
                  <a:pt x="23965" y="13810"/>
                  <a:pt x="23981" y="13774"/>
                  <a:pt x="23991" y="13732"/>
                </a:cubicBezTo>
                <a:cubicBezTo>
                  <a:pt x="23997" y="13707"/>
                  <a:pt x="24007" y="13653"/>
                  <a:pt x="24011" y="13633"/>
                </a:cubicBezTo>
                <a:cubicBezTo>
                  <a:pt x="24018" y="13593"/>
                  <a:pt x="24027" y="13548"/>
                  <a:pt x="24031" y="13514"/>
                </a:cubicBezTo>
                <a:cubicBezTo>
                  <a:pt x="24035" y="13479"/>
                  <a:pt x="24054" y="13477"/>
                  <a:pt x="24051" y="13454"/>
                </a:cubicBezTo>
                <a:cubicBezTo>
                  <a:pt x="24047" y="13422"/>
                  <a:pt x="24044" y="13402"/>
                  <a:pt x="24031" y="13375"/>
                </a:cubicBezTo>
                <a:cubicBezTo>
                  <a:pt x="24027" y="13367"/>
                  <a:pt x="23979" y="13344"/>
                  <a:pt x="23971" y="13335"/>
                </a:cubicBezTo>
                <a:cubicBezTo>
                  <a:pt x="23942" y="13300"/>
                  <a:pt x="23935" y="13316"/>
                  <a:pt x="23912" y="13295"/>
                </a:cubicBezTo>
                <a:cubicBezTo>
                  <a:pt x="23894" y="13279"/>
                  <a:pt x="23895" y="13271"/>
                  <a:pt x="23872" y="13256"/>
                </a:cubicBezTo>
                <a:cubicBezTo>
                  <a:pt x="23852" y="13243"/>
                  <a:pt x="23841" y="13230"/>
                  <a:pt x="23812" y="13216"/>
                </a:cubicBezTo>
                <a:cubicBezTo>
                  <a:pt x="23784" y="13203"/>
                  <a:pt x="23776" y="13205"/>
                  <a:pt x="23753" y="13196"/>
                </a:cubicBezTo>
                <a:cubicBezTo>
                  <a:pt x="23730" y="13187"/>
                  <a:pt x="23698" y="13182"/>
                  <a:pt x="23674" y="13176"/>
                </a:cubicBezTo>
                <a:cubicBezTo>
                  <a:pt x="23643" y="13168"/>
                  <a:pt x="23656" y="13162"/>
                  <a:pt x="23614" y="13156"/>
                </a:cubicBezTo>
                <a:cubicBezTo>
                  <a:pt x="23394" y="13126"/>
                  <a:pt x="23110" y="13154"/>
                  <a:pt x="22920" y="13176"/>
                </a:cubicBezTo>
                <a:cubicBezTo>
                  <a:pt x="22852" y="13184"/>
                  <a:pt x="22787" y="13183"/>
                  <a:pt x="22721" y="13196"/>
                </a:cubicBezTo>
                <a:cubicBezTo>
                  <a:pt x="22682" y="13204"/>
                  <a:pt x="22661" y="13208"/>
                  <a:pt x="22622" y="13216"/>
                </a:cubicBezTo>
                <a:cubicBezTo>
                  <a:pt x="22590" y="13223"/>
                  <a:pt x="22571" y="13228"/>
                  <a:pt x="22542" y="13236"/>
                </a:cubicBezTo>
                <a:cubicBezTo>
                  <a:pt x="22506" y="13245"/>
                  <a:pt x="22461" y="13264"/>
                  <a:pt x="22423" y="13275"/>
                </a:cubicBezTo>
                <a:cubicBezTo>
                  <a:pt x="22396" y="13283"/>
                  <a:pt x="22373" y="13287"/>
                  <a:pt x="22344" y="13295"/>
                </a:cubicBezTo>
                <a:cubicBezTo>
                  <a:pt x="22315" y="13303"/>
                  <a:pt x="22293" y="13306"/>
                  <a:pt x="22265" y="13315"/>
                </a:cubicBezTo>
                <a:cubicBezTo>
                  <a:pt x="22226" y="13327"/>
                  <a:pt x="22212" y="13325"/>
                  <a:pt x="22185" y="13335"/>
                </a:cubicBezTo>
                <a:cubicBezTo>
                  <a:pt x="22151" y="13347"/>
                  <a:pt x="22153" y="13344"/>
                  <a:pt x="22126" y="13355"/>
                </a:cubicBezTo>
                <a:cubicBezTo>
                  <a:pt x="22097" y="13367"/>
                  <a:pt x="22054" y="13379"/>
                  <a:pt x="22027" y="13395"/>
                </a:cubicBezTo>
                <a:cubicBezTo>
                  <a:pt x="22019" y="13400"/>
                  <a:pt x="21986" y="13437"/>
                  <a:pt x="21967" y="13454"/>
                </a:cubicBezTo>
                <a:cubicBezTo>
                  <a:pt x="21937" y="13482"/>
                  <a:pt x="21937" y="13474"/>
                  <a:pt x="21907" y="13514"/>
                </a:cubicBezTo>
                <a:cubicBezTo>
                  <a:pt x="21896" y="13528"/>
                  <a:pt x="21873" y="13566"/>
                  <a:pt x="21868" y="13573"/>
                </a:cubicBezTo>
                <a:cubicBezTo>
                  <a:pt x="21854" y="13594"/>
                  <a:pt x="21859" y="13614"/>
                  <a:pt x="21848" y="13633"/>
                </a:cubicBezTo>
                <a:cubicBezTo>
                  <a:pt x="21842" y="13642"/>
                  <a:pt x="21800" y="13667"/>
                  <a:pt x="21788" y="13692"/>
                </a:cubicBezTo>
                <a:cubicBezTo>
                  <a:pt x="21788" y="13712"/>
                  <a:pt x="21788" y="13719"/>
                  <a:pt x="21788" y="13732"/>
                </a:cubicBezTo>
                <a:cubicBezTo>
                  <a:pt x="21813" y="13712"/>
                  <a:pt x="21804" y="13712"/>
                  <a:pt x="21828" y="13692"/>
                </a:cubicBezTo>
                <a:cubicBezTo>
                  <a:pt x="21844" y="13679"/>
                  <a:pt x="21863" y="13666"/>
                  <a:pt x="21888" y="13652"/>
                </a:cubicBezTo>
                <a:cubicBezTo>
                  <a:pt x="21907" y="13641"/>
                  <a:pt x="21943" y="13628"/>
                  <a:pt x="21967" y="13613"/>
                </a:cubicBezTo>
                <a:cubicBezTo>
                  <a:pt x="21996" y="13595"/>
                  <a:pt x="22034" y="13569"/>
                  <a:pt x="22066" y="13553"/>
                </a:cubicBezTo>
                <a:cubicBezTo>
                  <a:pt x="22087" y="13542"/>
                  <a:pt x="22120" y="13497"/>
                  <a:pt x="22126" y="13494"/>
                </a:cubicBezTo>
                <a:cubicBezTo>
                  <a:pt x="22158" y="13480"/>
                  <a:pt x="22182" y="13483"/>
                  <a:pt x="22205" y="13474"/>
                </a:cubicBezTo>
                <a:cubicBezTo>
                  <a:pt x="22248" y="13457"/>
                  <a:pt x="22300" y="13445"/>
                  <a:pt x="22344" y="13434"/>
                </a:cubicBezTo>
                <a:cubicBezTo>
                  <a:pt x="22396" y="13420"/>
                  <a:pt x="22434" y="13409"/>
                  <a:pt x="22483" y="13395"/>
                </a:cubicBezTo>
                <a:cubicBezTo>
                  <a:pt x="22526" y="13383"/>
                  <a:pt x="22557" y="13386"/>
                  <a:pt x="22602" y="13375"/>
                </a:cubicBezTo>
                <a:cubicBezTo>
                  <a:pt x="22629" y="13368"/>
                  <a:pt x="22626" y="13365"/>
                  <a:pt x="22662" y="13355"/>
                </a:cubicBezTo>
                <a:cubicBezTo>
                  <a:pt x="22707" y="13343"/>
                  <a:pt x="22693" y="13348"/>
                  <a:pt x="22741" y="13335"/>
                </a:cubicBezTo>
                <a:cubicBezTo>
                  <a:pt x="22770" y="13327"/>
                  <a:pt x="22789" y="13322"/>
                  <a:pt x="22820" y="13315"/>
                </a:cubicBezTo>
                <a:cubicBezTo>
                  <a:pt x="22851" y="13308"/>
                  <a:pt x="22871" y="13302"/>
                  <a:pt x="22900" y="13295"/>
                </a:cubicBezTo>
                <a:cubicBezTo>
                  <a:pt x="22953" y="13282"/>
                  <a:pt x="23005" y="13270"/>
                  <a:pt x="23058" y="13256"/>
                </a:cubicBezTo>
                <a:cubicBezTo>
                  <a:pt x="23099" y="13245"/>
                  <a:pt x="23133" y="13228"/>
                  <a:pt x="23177" y="13216"/>
                </a:cubicBezTo>
                <a:cubicBezTo>
                  <a:pt x="23219" y="13204"/>
                  <a:pt x="23254" y="13203"/>
                  <a:pt x="23297" y="13196"/>
                </a:cubicBezTo>
                <a:cubicBezTo>
                  <a:pt x="23327" y="13191"/>
                  <a:pt x="23314" y="13181"/>
                  <a:pt x="23356" y="13176"/>
                </a:cubicBezTo>
                <a:cubicBezTo>
                  <a:pt x="23478" y="13162"/>
                  <a:pt x="23690" y="13161"/>
                  <a:pt x="23773" y="13196"/>
                </a:cubicBezTo>
                <a:cubicBezTo>
                  <a:pt x="23860" y="13233"/>
                  <a:pt x="23834" y="13183"/>
                  <a:pt x="23872" y="13275"/>
                </a:cubicBezTo>
                <a:cubicBezTo>
                  <a:pt x="23913" y="13375"/>
                  <a:pt x="23834" y="13507"/>
                  <a:pt x="23852" y="13553"/>
                </a:cubicBezTo>
                <a:cubicBezTo>
                  <a:pt x="23856" y="13562"/>
                  <a:pt x="23910" y="13569"/>
                  <a:pt x="23912" y="13573"/>
                </a:cubicBezTo>
                <a:cubicBezTo>
                  <a:pt x="23914" y="13547"/>
                  <a:pt x="23933" y="13540"/>
                  <a:pt x="23932" y="13514"/>
                </a:cubicBezTo>
                <a:cubicBezTo>
                  <a:pt x="23929" y="13454"/>
                  <a:pt x="23914" y="13409"/>
                  <a:pt x="23912" y="13355"/>
                </a:cubicBezTo>
                <a:cubicBezTo>
                  <a:pt x="23911" y="13322"/>
                  <a:pt x="23914" y="13289"/>
                  <a:pt x="23912" y="13256"/>
                </a:cubicBezTo>
                <a:cubicBezTo>
                  <a:pt x="23858" y="13251"/>
                  <a:pt x="23828" y="13239"/>
                  <a:pt x="23773" y="13236"/>
                </a:cubicBezTo>
                <a:cubicBezTo>
                  <a:pt x="23581" y="13225"/>
                  <a:pt x="23337" y="13238"/>
                  <a:pt x="23177" y="13256"/>
                </a:cubicBezTo>
                <a:cubicBezTo>
                  <a:pt x="23112" y="13263"/>
                  <a:pt x="23059" y="13263"/>
                  <a:pt x="22999" y="13275"/>
                </a:cubicBezTo>
                <a:cubicBezTo>
                  <a:pt x="22954" y="13284"/>
                  <a:pt x="22889" y="13303"/>
                  <a:pt x="22840" y="13315"/>
                </a:cubicBezTo>
                <a:cubicBezTo>
                  <a:pt x="22800" y="13325"/>
                  <a:pt x="22777" y="13347"/>
                  <a:pt x="22741" y="13355"/>
                </a:cubicBezTo>
                <a:cubicBezTo>
                  <a:pt x="22698" y="13364"/>
                  <a:pt x="22667" y="13370"/>
                  <a:pt x="22642" y="13375"/>
                </a:cubicBezTo>
                <a:cubicBezTo>
                  <a:pt x="22596" y="13384"/>
                  <a:pt x="22571" y="13387"/>
                  <a:pt x="22542" y="13395"/>
                </a:cubicBezTo>
                <a:cubicBezTo>
                  <a:pt x="22514" y="13403"/>
                  <a:pt x="22490" y="13407"/>
                  <a:pt x="22463" y="13414"/>
                </a:cubicBezTo>
                <a:cubicBezTo>
                  <a:pt x="22460" y="13415"/>
                  <a:pt x="22409" y="13428"/>
                  <a:pt x="22384" y="13434"/>
                </a:cubicBezTo>
                <a:cubicBezTo>
                  <a:pt x="22340" y="13445"/>
                  <a:pt x="22271" y="13458"/>
                  <a:pt x="22225" y="13474"/>
                </a:cubicBezTo>
                <a:cubicBezTo>
                  <a:pt x="22187" y="13487"/>
                  <a:pt x="22146" y="13499"/>
                  <a:pt x="22106" y="13514"/>
                </a:cubicBezTo>
                <a:cubicBezTo>
                  <a:pt x="22087" y="13521"/>
                  <a:pt x="22042" y="13542"/>
                  <a:pt x="22027" y="13553"/>
                </a:cubicBezTo>
                <a:cubicBezTo>
                  <a:pt x="22008" y="13567"/>
                  <a:pt x="21992" y="13583"/>
                  <a:pt x="21967" y="13613"/>
                </a:cubicBezTo>
                <a:cubicBezTo>
                  <a:pt x="21950" y="13634"/>
                  <a:pt x="21949" y="13669"/>
                  <a:pt x="21927" y="13692"/>
                </a:cubicBezTo>
                <a:cubicBezTo>
                  <a:pt x="21903" y="13717"/>
                  <a:pt x="21878" y="13750"/>
                  <a:pt x="21848" y="13772"/>
                </a:cubicBezTo>
                <a:cubicBezTo>
                  <a:pt x="21802" y="13806"/>
                  <a:pt x="21774" y="13825"/>
                  <a:pt x="21729" y="13851"/>
                </a:cubicBezTo>
                <a:cubicBezTo>
                  <a:pt x="21713" y="13860"/>
                  <a:pt x="21685" y="13863"/>
                  <a:pt x="21669" y="13871"/>
                </a:cubicBezTo>
                <a:cubicBezTo>
                  <a:pt x="21659" y="13856"/>
                  <a:pt x="21660" y="13801"/>
                  <a:pt x="21650" y="13791"/>
                </a:cubicBezTo>
                <a:cubicBezTo>
                  <a:pt x="21634" y="13774"/>
                  <a:pt x="21628" y="13767"/>
                  <a:pt x="21610" y="13752"/>
                </a:cubicBezTo>
                <a:cubicBezTo>
                  <a:pt x="21596" y="13740"/>
                  <a:pt x="21550" y="13692"/>
                  <a:pt x="21550" y="13692"/>
                </a:cubicBezTo>
                <a:cubicBezTo>
                  <a:pt x="21422" y="13656"/>
                  <a:pt x="21224" y="13698"/>
                  <a:pt x="21134" y="13732"/>
                </a:cubicBezTo>
                <a:cubicBezTo>
                  <a:pt x="21123" y="13736"/>
                  <a:pt x="21091" y="13764"/>
                  <a:pt x="21074" y="13772"/>
                </a:cubicBezTo>
                <a:cubicBezTo>
                  <a:pt x="21062" y="13778"/>
                  <a:pt x="21030" y="13801"/>
                  <a:pt x="21015" y="13811"/>
                </a:cubicBezTo>
                <a:cubicBezTo>
                  <a:pt x="20988" y="13828"/>
                  <a:pt x="20969" y="13861"/>
                  <a:pt x="20955" y="13871"/>
                </a:cubicBezTo>
                <a:cubicBezTo>
                  <a:pt x="20930" y="13889"/>
                  <a:pt x="20889" y="13907"/>
                  <a:pt x="20856" y="13930"/>
                </a:cubicBezTo>
                <a:cubicBezTo>
                  <a:pt x="20822" y="13954"/>
                  <a:pt x="20788" y="13968"/>
                  <a:pt x="20757" y="13990"/>
                </a:cubicBezTo>
                <a:cubicBezTo>
                  <a:pt x="20718" y="14018"/>
                  <a:pt x="20679" y="14044"/>
                  <a:pt x="20637" y="14069"/>
                </a:cubicBezTo>
                <a:cubicBezTo>
                  <a:pt x="20599" y="14092"/>
                  <a:pt x="20568" y="14097"/>
                  <a:pt x="20538" y="14129"/>
                </a:cubicBezTo>
                <a:cubicBezTo>
                  <a:pt x="20519" y="14150"/>
                  <a:pt x="20527" y="14172"/>
                  <a:pt x="20499" y="14208"/>
                </a:cubicBezTo>
                <a:cubicBezTo>
                  <a:pt x="20477" y="14237"/>
                  <a:pt x="20431" y="14320"/>
                  <a:pt x="20419" y="14347"/>
                </a:cubicBezTo>
                <a:cubicBezTo>
                  <a:pt x="20402" y="14384"/>
                  <a:pt x="20410" y="14400"/>
                  <a:pt x="20399" y="14426"/>
                </a:cubicBezTo>
                <a:cubicBezTo>
                  <a:pt x="20387" y="14454"/>
                  <a:pt x="20389" y="14448"/>
                  <a:pt x="20380" y="14486"/>
                </a:cubicBezTo>
                <a:cubicBezTo>
                  <a:pt x="20379" y="14490"/>
                  <a:pt x="20364" y="14536"/>
                  <a:pt x="20360" y="14565"/>
                </a:cubicBezTo>
                <a:cubicBezTo>
                  <a:pt x="20328" y="14794"/>
                  <a:pt x="20377" y="15035"/>
                  <a:pt x="20380" y="15260"/>
                </a:cubicBezTo>
                <a:cubicBezTo>
                  <a:pt x="20381" y="15319"/>
                  <a:pt x="20397" y="15391"/>
                  <a:pt x="20399" y="15438"/>
                </a:cubicBezTo>
                <a:cubicBezTo>
                  <a:pt x="20403" y="15535"/>
                  <a:pt x="20408" y="15630"/>
                  <a:pt x="20419" y="15716"/>
                </a:cubicBezTo>
                <a:cubicBezTo>
                  <a:pt x="20424" y="15757"/>
                  <a:pt x="20436" y="15820"/>
                  <a:pt x="20439" y="15835"/>
                </a:cubicBezTo>
                <a:cubicBezTo>
                  <a:pt x="20439" y="15858"/>
                  <a:pt x="20441" y="15866"/>
                  <a:pt x="20459" y="15875"/>
                </a:cubicBezTo>
                <a:cubicBezTo>
                  <a:pt x="20463" y="15829"/>
                  <a:pt x="20472" y="15825"/>
                  <a:pt x="20479" y="15796"/>
                </a:cubicBezTo>
                <a:cubicBezTo>
                  <a:pt x="20479" y="15789"/>
                  <a:pt x="20479" y="15783"/>
                  <a:pt x="20479" y="15776"/>
                </a:cubicBezTo>
                <a:cubicBezTo>
                  <a:pt x="20446" y="15773"/>
                  <a:pt x="20432" y="15757"/>
                  <a:pt x="20399" y="15756"/>
                </a:cubicBezTo>
                <a:cubicBezTo>
                  <a:pt x="20267" y="15754"/>
                  <a:pt x="20134" y="15756"/>
                  <a:pt x="20002" y="15756"/>
                </a:cubicBezTo>
                <a:cubicBezTo>
                  <a:pt x="19997" y="15782"/>
                  <a:pt x="19988" y="15789"/>
                  <a:pt x="19983" y="15815"/>
                </a:cubicBezTo>
                <a:cubicBezTo>
                  <a:pt x="19976" y="15850"/>
                  <a:pt x="19963" y="15850"/>
                  <a:pt x="19963" y="15875"/>
                </a:cubicBezTo>
                <a:cubicBezTo>
                  <a:pt x="19962" y="15916"/>
                  <a:pt x="19982" y="15984"/>
                  <a:pt x="19983" y="15994"/>
                </a:cubicBezTo>
                <a:cubicBezTo>
                  <a:pt x="19991" y="16082"/>
                  <a:pt x="20001" y="16131"/>
                  <a:pt x="20022" y="16212"/>
                </a:cubicBezTo>
                <a:cubicBezTo>
                  <a:pt x="20032" y="16251"/>
                  <a:pt x="20047" y="16309"/>
                  <a:pt x="20062" y="16351"/>
                </a:cubicBezTo>
                <a:cubicBezTo>
                  <a:pt x="20072" y="16378"/>
                  <a:pt x="20092" y="16403"/>
                  <a:pt x="20102" y="16431"/>
                </a:cubicBezTo>
                <a:cubicBezTo>
                  <a:pt x="20120" y="16479"/>
                  <a:pt x="20135" y="16521"/>
                  <a:pt x="20161" y="16570"/>
                </a:cubicBezTo>
                <a:cubicBezTo>
                  <a:pt x="20167" y="16581"/>
                  <a:pt x="20210" y="16653"/>
                  <a:pt x="20221" y="16669"/>
                </a:cubicBezTo>
                <a:cubicBezTo>
                  <a:pt x="20246" y="16706"/>
                  <a:pt x="20290" y="16747"/>
                  <a:pt x="20320" y="16788"/>
                </a:cubicBezTo>
                <a:cubicBezTo>
                  <a:pt x="20356" y="16838"/>
                  <a:pt x="20384" y="16879"/>
                  <a:pt x="20419" y="16927"/>
                </a:cubicBezTo>
                <a:cubicBezTo>
                  <a:pt x="20442" y="16959"/>
                  <a:pt x="20453" y="17000"/>
                  <a:pt x="20479" y="17026"/>
                </a:cubicBezTo>
                <a:cubicBezTo>
                  <a:pt x="20499" y="17046"/>
                  <a:pt x="20549" y="17102"/>
                  <a:pt x="20558" y="17105"/>
                </a:cubicBezTo>
                <a:cubicBezTo>
                  <a:pt x="20637" y="17134"/>
                  <a:pt x="20715" y="17083"/>
                  <a:pt x="20757" y="17066"/>
                </a:cubicBezTo>
                <a:cubicBezTo>
                  <a:pt x="20803" y="17047"/>
                  <a:pt x="20832" y="17037"/>
                  <a:pt x="20876" y="17006"/>
                </a:cubicBezTo>
                <a:cubicBezTo>
                  <a:pt x="20876" y="16999"/>
                  <a:pt x="20876" y="16993"/>
                  <a:pt x="20876" y="16986"/>
                </a:cubicBezTo>
                <a:cubicBezTo>
                  <a:pt x="20851" y="16997"/>
                  <a:pt x="20847" y="16993"/>
                  <a:pt x="20816" y="17006"/>
                </a:cubicBezTo>
                <a:cubicBezTo>
                  <a:pt x="20789" y="17018"/>
                  <a:pt x="20771" y="17018"/>
                  <a:pt x="20757" y="17026"/>
                </a:cubicBezTo>
                <a:cubicBezTo>
                  <a:pt x="20734" y="17040"/>
                  <a:pt x="20726" y="17041"/>
                  <a:pt x="20697" y="17066"/>
                </a:cubicBezTo>
                <a:cubicBezTo>
                  <a:pt x="20655" y="17102"/>
                  <a:pt x="20679" y="17084"/>
                  <a:pt x="20657" y="17125"/>
                </a:cubicBezTo>
                <a:cubicBezTo>
                  <a:pt x="20632" y="17172"/>
                  <a:pt x="20618" y="17187"/>
                  <a:pt x="20618" y="17264"/>
                </a:cubicBezTo>
                <a:cubicBezTo>
                  <a:pt x="20618" y="17308"/>
                  <a:pt x="20624" y="17344"/>
                  <a:pt x="20637" y="17383"/>
                </a:cubicBezTo>
                <a:cubicBezTo>
                  <a:pt x="20649" y="17421"/>
                  <a:pt x="20679" y="17447"/>
                  <a:pt x="20697" y="17482"/>
                </a:cubicBezTo>
                <a:cubicBezTo>
                  <a:pt x="20711" y="17509"/>
                  <a:pt x="20734" y="17578"/>
                  <a:pt x="20757" y="17601"/>
                </a:cubicBezTo>
                <a:cubicBezTo>
                  <a:pt x="20809" y="17652"/>
                  <a:pt x="20864" y="17659"/>
                  <a:pt x="20915" y="17701"/>
                </a:cubicBezTo>
                <a:cubicBezTo>
                  <a:pt x="20979" y="17753"/>
                  <a:pt x="21022" y="17794"/>
                  <a:pt x="21094" y="17840"/>
                </a:cubicBezTo>
                <a:cubicBezTo>
                  <a:pt x="21133" y="17865"/>
                  <a:pt x="21208" y="17919"/>
                  <a:pt x="21253" y="17939"/>
                </a:cubicBezTo>
                <a:cubicBezTo>
                  <a:pt x="21303" y="17961"/>
                  <a:pt x="21359" y="17970"/>
                  <a:pt x="21411" y="17978"/>
                </a:cubicBezTo>
                <a:cubicBezTo>
                  <a:pt x="21523" y="17995"/>
                  <a:pt x="21611" y="17958"/>
                  <a:pt x="21689" y="17939"/>
                </a:cubicBezTo>
                <a:cubicBezTo>
                  <a:pt x="21771" y="17919"/>
                  <a:pt x="21857" y="17909"/>
                  <a:pt x="21927" y="17859"/>
                </a:cubicBezTo>
                <a:cubicBezTo>
                  <a:pt x="21967" y="17831"/>
                  <a:pt x="22013" y="17759"/>
                  <a:pt x="22046" y="17740"/>
                </a:cubicBezTo>
                <a:cubicBezTo>
                  <a:pt x="22083" y="17718"/>
                  <a:pt x="22133" y="17730"/>
                  <a:pt x="22165" y="17701"/>
                </a:cubicBezTo>
                <a:cubicBezTo>
                  <a:pt x="22253" y="17622"/>
                  <a:pt x="22309" y="17516"/>
                  <a:pt x="22404" y="17443"/>
                </a:cubicBezTo>
                <a:cubicBezTo>
                  <a:pt x="22442" y="17413"/>
                  <a:pt x="22509" y="17397"/>
                  <a:pt x="22542" y="17363"/>
                </a:cubicBezTo>
                <a:cubicBezTo>
                  <a:pt x="22542" y="17343"/>
                  <a:pt x="22542" y="17337"/>
                  <a:pt x="22542" y="17324"/>
                </a:cubicBezTo>
                <a:cubicBezTo>
                  <a:pt x="22534" y="17344"/>
                  <a:pt x="22536" y="17358"/>
                  <a:pt x="22523" y="17383"/>
                </a:cubicBezTo>
                <a:cubicBezTo>
                  <a:pt x="22515" y="17400"/>
                  <a:pt x="22490" y="17440"/>
                  <a:pt x="22483" y="17462"/>
                </a:cubicBezTo>
                <a:cubicBezTo>
                  <a:pt x="22480" y="17471"/>
                  <a:pt x="22449" y="17512"/>
                  <a:pt x="22443" y="17542"/>
                </a:cubicBezTo>
                <a:cubicBezTo>
                  <a:pt x="22438" y="17568"/>
                  <a:pt x="22424" y="17575"/>
                  <a:pt x="22423" y="17601"/>
                </a:cubicBezTo>
                <a:cubicBezTo>
                  <a:pt x="22421" y="17638"/>
                  <a:pt x="22440" y="17648"/>
                  <a:pt x="22443" y="17681"/>
                </a:cubicBezTo>
                <a:cubicBezTo>
                  <a:pt x="22451" y="17759"/>
                  <a:pt x="22448" y="17814"/>
                  <a:pt x="22483" y="17879"/>
                </a:cubicBezTo>
                <a:cubicBezTo>
                  <a:pt x="22504" y="17918"/>
                  <a:pt x="22533" y="17962"/>
                  <a:pt x="22562" y="17998"/>
                </a:cubicBezTo>
                <a:cubicBezTo>
                  <a:pt x="22576" y="18015"/>
                  <a:pt x="22600" y="18038"/>
                  <a:pt x="22622" y="18058"/>
                </a:cubicBezTo>
                <a:cubicBezTo>
                  <a:pt x="22646" y="18079"/>
                  <a:pt x="22710" y="18113"/>
                  <a:pt x="22721" y="18117"/>
                </a:cubicBezTo>
                <a:cubicBezTo>
                  <a:pt x="22772" y="18136"/>
                  <a:pt x="22802" y="18125"/>
                  <a:pt x="22860" y="18137"/>
                </a:cubicBezTo>
                <a:cubicBezTo>
                  <a:pt x="22999" y="18166"/>
                  <a:pt x="23124" y="18132"/>
                  <a:pt x="23257" y="18137"/>
                </a:cubicBezTo>
                <a:cubicBezTo>
                  <a:pt x="23283" y="18138"/>
                  <a:pt x="23292" y="18107"/>
                  <a:pt x="23316" y="18117"/>
                </a:cubicBezTo>
                <a:cubicBezTo>
                  <a:pt x="23345" y="18129"/>
                  <a:pt x="23334" y="18165"/>
                  <a:pt x="23356" y="18177"/>
                </a:cubicBezTo>
                <a:cubicBezTo>
                  <a:pt x="23365" y="18182"/>
                  <a:pt x="23383" y="18208"/>
                  <a:pt x="23396" y="18217"/>
                </a:cubicBezTo>
                <a:cubicBezTo>
                  <a:pt x="23426" y="18238"/>
                  <a:pt x="23443" y="18262"/>
                  <a:pt x="23475" y="18276"/>
                </a:cubicBezTo>
                <a:cubicBezTo>
                  <a:pt x="23502" y="18288"/>
                  <a:pt x="23501" y="18284"/>
                  <a:pt x="23535" y="18296"/>
                </a:cubicBezTo>
                <a:cubicBezTo>
                  <a:pt x="23560" y="18305"/>
                  <a:pt x="23589" y="18310"/>
                  <a:pt x="23614" y="18316"/>
                </a:cubicBezTo>
                <a:cubicBezTo>
                  <a:pt x="23652" y="18325"/>
                  <a:pt x="23695" y="18329"/>
                  <a:pt x="23733" y="18336"/>
                </a:cubicBezTo>
                <a:cubicBezTo>
                  <a:pt x="23773" y="18343"/>
                  <a:pt x="23793" y="18351"/>
                  <a:pt x="23832" y="18355"/>
                </a:cubicBezTo>
                <a:cubicBezTo>
                  <a:pt x="23865" y="18358"/>
                  <a:pt x="23906" y="18377"/>
                  <a:pt x="23932" y="18375"/>
                </a:cubicBezTo>
                <a:cubicBezTo>
                  <a:pt x="23958" y="18373"/>
                  <a:pt x="23945" y="18337"/>
                  <a:pt x="23971" y="18336"/>
                </a:cubicBezTo>
                <a:cubicBezTo>
                  <a:pt x="23991" y="18335"/>
                  <a:pt x="23971" y="18340"/>
                  <a:pt x="23991" y="18336"/>
                </a:cubicBezTo>
                <a:cubicBezTo>
                  <a:pt x="23979" y="18319"/>
                  <a:pt x="23966" y="18300"/>
                  <a:pt x="23951" y="18276"/>
                </a:cubicBezTo>
                <a:cubicBezTo>
                  <a:pt x="23949" y="18272"/>
                  <a:pt x="23919" y="18226"/>
                  <a:pt x="23912" y="18217"/>
                </a:cubicBezTo>
              </a:path>
              <a:path w="4922" h="6232">
                <a:moveTo>
                  <a:pt x="23158" y="14526"/>
                </a:moveTo>
                <a:cubicBezTo>
                  <a:pt x="23050" y="14529"/>
                  <a:pt x="22941" y="14520"/>
                  <a:pt x="22840" y="14545"/>
                </a:cubicBezTo>
                <a:cubicBezTo>
                  <a:pt x="22770" y="14562"/>
                  <a:pt x="22724" y="14588"/>
                  <a:pt x="22662" y="14625"/>
                </a:cubicBezTo>
                <a:cubicBezTo>
                  <a:pt x="22602" y="14661"/>
                  <a:pt x="22571" y="14693"/>
                  <a:pt x="22523" y="14724"/>
                </a:cubicBezTo>
                <a:cubicBezTo>
                  <a:pt x="22491" y="14745"/>
                  <a:pt x="22453" y="14761"/>
                  <a:pt x="22423" y="14784"/>
                </a:cubicBezTo>
                <a:cubicBezTo>
                  <a:pt x="22400" y="14812"/>
                  <a:pt x="22166" y="15044"/>
                  <a:pt x="22245" y="15042"/>
                </a:cubicBezTo>
                <a:cubicBezTo>
                  <a:pt x="22277" y="15041"/>
                  <a:pt x="22415" y="14959"/>
                  <a:pt x="22463" y="14942"/>
                </a:cubicBezTo>
                <a:cubicBezTo>
                  <a:pt x="22667" y="14867"/>
                  <a:pt x="22858" y="14789"/>
                  <a:pt x="23039" y="14665"/>
                </a:cubicBezTo>
                <a:cubicBezTo>
                  <a:pt x="23099" y="14624"/>
                  <a:pt x="23225" y="14542"/>
                  <a:pt x="23257" y="14466"/>
                </a:cubicBezTo>
                <a:cubicBezTo>
                  <a:pt x="23291" y="14387"/>
                  <a:pt x="23258" y="14227"/>
                  <a:pt x="23217" y="14168"/>
                </a:cubicBezTo>
                <a:cubicBezTo>
                  <a:pt x="23152" y="14075"/>
                  <a:pt x="23064" y="14048"/>
                  <a:pt x="22959" y="14030"/>
                </a:cubicBezTo>
                <a:cubicBezTo>
                  <a:pt x="22672" y="13981"/>
                  <a:pt x="22337" y="14054"/>
                  <a:pt x="22086" y="14188"/>
                </a:cubicBezTo>
                <a:cubicBezTo>
                  <a:pt x="21923" y="14275"/>
                  <a:pt x="21770" y="14408"/>
                  <a:pt x="21630" y="14526"/>
                </a:cubicBezTo>
                <a:cubicBezTo>
                  <a:pt x="21491" y="14643"/>
                  <a:pt x="21371" y="14764"/>
                  <a:pt x="21253" y="14903"/>
                </a:cubicBezTo>
                <a:cubicBezTo>
                  <a:pt x="21231" y="14929"/>
                  <a:pt x="21083" y="15074"/>
                  <a:pt x="21094" y="15121"/>
                </a:cubicBezTo>
                <a:cubicBezTo>
                  <a:pt x="21115" y="15214"/>
                  <a:pt x="21043" y="15135"/>
                  <a:pt x="21114" y="15180"/>
                </a:cubicBezTo>
                <a:cubicBezTo>
                  <a:pt x="21344" y="15326"/>
                  <a:pt x="22032" y="15098"/>
                  <a:pt x="22245" y="15002"/>
                </a:cubicBezTo>
                <a:cubicBezTo>
                  <a:pt x="22404" y="14930"/>
                  <a:pt x="22709" y="14829"/>
                  <a:pt x="22800" y="14665"/>
                </a:cubicBezTo>
                <a:cubicBezTo>
                  <a:pt x="22862" y="14553"/>
                  <a:pt x="22836" y="14430"/>
                  <a:pt x="22840" y="14307"/>
                </a:cubicBezTo>
                <a:cubicBezTo>
                  <a:pt x="22823" y="14294"/>
                  <a:pt x="22869" y="14168"/>
                  <a:pt x="22800" y="14188"/>
                </a:cubicBezTo>
                <a:cubicBezTo>
                  <a:pt x="22707" y="14215"/>
                  <a:pt x="22595" y="14286"/>
                  <a:pt x="22503" y="14327"/>
                </a:cubicBezTo>
                <a:cubicBezTo>
                  <a:pt x="22228" y="14449"/>
                  <a:pt x="21935" y="14537"/>
                  <a:pt x="21669" y="14684"/>
                </a:cubicBezTo>
                <a:cubicBezTo>
                  <a:pt x="21451" y="14804"/>
                  <a:pt x="21242" y="14977"/>
                  <a:pt x="21074" y="15161"/>
                </a:cubicBezTo>
                <a:cubicBezTo>
                  <a:pt x="21047" y="15191"/>
                  <a:pt x="20955" y="15285"/>
                  <a:pt x="20975" y="15339"/>
                </a:cubicBezTo>
                <a:cubicBezTo>
                  <a:pt x="20994" y="15390"/>
                  <a:pt x="20965" y="15358"/>
                  <a:pt x="21015" y="15379"/>
                </a:cubicBezTo>
                <a:cubicBezTo>
                  <a:pt x="21449" y="15560"/>
                  <a:pt x="22266" y="15266"/>
                  <a:pt x="22681" y="15200"/>
                </a:cubicBezTo>
                <a:cubicBezTo>
                  <a:pt x="22820" y="15180"/>
                  <a:pt x="22959" y="15161"/>
                  <a:pt x="23098" y="15141"/>
                </a:cubicBezTo>
                <a:cubicBezTo>
                  <a:pt x="23200" y="15108"/>
                  <a:pt x="23574" y="15053"/>
                  <a:pt x="23594" y="14883"/>
                </a:cubicBezTo>
                <a:cubicBezTo>
                  <a:pt x="23603" y="14808"/>
                  <a:pt x="23602" y="14735"/>
                  <a:pt x="23515" y="14724"/>
                </a:cubicBezTo>
                <a:cubicBezTo>
                  <a:pt x="23484" y="14720"/>
                  <a:pt x="23378" y="14792"/>
                  <a:pt x="23356" y="14803"/>
                </a:cubicBezTo>
                <a:cubicBezTo>
                  <a:pt x="23173" y="14896"/>
                  <a:pt x="23049" y="15049"/>
                  <a:pt x="22880" y="15161"/>
                </a:cubicBezTo>
                <a:cubicBezTo>
                  <a:pt x="22817" y="15203"/>
                  <a:pt x="22447" y="15300"/>
                  <a:pt x="22423" y="15359"/>
                </a:cubicBezTo>
                <a:cubicBezTo>
                  <a:pt x="22397" y="15423"/>
                  <a:pt x="22360" y="15366"/>
                  <a:pt x="22423" y="15399"/>
                </a:cubicBezTo>
                <a:cubicBezTo>
                  <a:pt x="22628" y="15505"/>
                  <a:pt x="23107" y="15309"/>
                  <a:pt x="23277" y="15220"/>
                </a:cubicBezTo>
                <a:cubicBezTo>
                  <a:pt x="23356" y="15178"/>
                  <a:pt x="23430" y="15094"/>
                  <a:pt x="23475" y="15061"/>
                </a:cubicBezTo>
                <a:cubicBezTo>
                  <a:pt x="23446" y="15060"/>
                  <a:pt x="23445" y="15020"/>
                  <a:pt x="23416" y="15022"/>
                </a:cubicBezTo>
                <a:cubicBezTo>
                  <a:pt x="23262" y="15034"/>
                  <a:pt x="23132" y="15064"/>
                  <a:pt x="22979" y="15101"/>
                </a:cubicBezTo>
                <a:cubicBezTo>
                  <a:pt x="22721" y="15163"/>
                  <a:pt x="22476" y="15305"/>
                  <a:pt x="22225" y="15399"/>
                </a:cubicBezTo>
                <a:cubicBezTo>
                  <a:pt x="22111" y="15442"/>
                  <a:pt x="21911" y="15497"/>
                  <a:pt x="21828" y="15597"/>
                </a:cubicBezTo>
                <a:cubicBezTo>
                  <a:pt x="21791" y="15642"/>
                  <a:pt x="21834" y="15695"/>
                  <a:pt x="21808" y="15736"/>
                </a:cubicBezTo>
                <a:cubicBezTo>
                  <a:pt x="21839" y="15738"/>
                  <a:pt x="21884" y="15755"/>
                  <a:pt x="21927" y="15756"/>
                </a:cubicBezTo>
                <a:cubicBezTo>
                  <a:pt x="22438" y="15763"/>
                  <a:pt x="23035" y="15797"/>
                  <a:pt x="23515" y="15597"/>
                </a:cubicBezTo>
                <a:cubicBezTo>
                  <a:pt x="23704" y="15518"/>
                  <a:pt x="23542" y="15614"/>
                  <a:pt x="23574" y="15518"/>
                </a:cubicBezTo>
                <a:cubicBezTo>
                  <a:pt x="23583" y="15490"/>
                  <a:pt x="23503" y="15526"/>
                  <a:pt x="23495" y="15498"/>
                </a:cubicBezTo>
                <a:cubicBezTo>
                  <a:pt x="23083" y="15498"/>
                  <a:pt x="22589" y="15473"/>
                  <a:pt x="22205" y="15637"/>
                </a:cubicBezTo>
                <a:cubicBezTo>
                  <a:pt x="22096" y="15683"/>
                  <a:pt x="21921" y="15763"/>
                  <a:pt x="21828" y="15835"/>
                </a:cubicBezTo>
                <a:cubicBezTo>
                  <a:pt x="21772" y="15879"/>
                  <a:pt x="21758" y="15891"/>
                  <a:pt x="21729" y="15954"/>
                </a:cubicBezTo>
                <a:cubicBezTo>
                  <a:pt x="21709" y="15996"/>
                  <a:pt x="21689" y="16090"/>
                  <a:pt x="21729" y="16113"/>
                </a:cubicBezTo>
                <a:cubicBezTo>
                  <a:pt x="21759" y="16130"/>
                  <a:pt x="21788" y="16125"/>
                  <a:pt x="21848" y="16133"/>
                </a:cubicBezTo>
                <a:cubicBezTo>
                  <a:pt x="22034" y="16157"/>
                  <a:pt x="22768" y="16232"/>
                  <a:pt x="22900" y="16113"/>
                </a:cubicBezTo>
                <a:cubicBezTo>
                  <a:pt x="22911" y="16103"/>
                  <a:pt x="22903" y="16102"/>
                  <a:pt x="22860" y="16093"/>
                </a:cubicBezTo>
                <a:cubicBezTo>
                  <a:pt x="22517" y="16019"/>
                  <a:pt x="22142" y="16162"/>
                  <a:pt x="21808" y="16212"/>
                </a:cubicBezTo>
                <a:cubicBezTo>
                  <a:pt x="21757" y="16220"/>
                  <a:pt x="21436" y="16238"/>
                  <a:pt x="21411" y="16331"/>
                </a:cubicBezTo>
                <a:cubicBezTo>
                  <a:pt x="21402" y="16366"/>
                  <a:pt x="21447" y="16382"/>
                  <a:pt x="21451" y="16391"/>
                </a:cubicBezTo>
                <a:cubicBezTo>
                  <a:pt x="21492" y="16478"/>
                  <a:pt x="21666" y="16480"/>
                  <a:pt x="21749" y="16510"/>
                </a:cubicBezTo>
                <a:cubicBezTo>
                  <a:pt x="21808" y="16510"/>
                  <a:pt x="21868" y="16510"/>
                  <a:pt x="21927" y="16510"/>
                </a:cubicBezTo>
                <a:cubicBezTo>
                  <a:pt x="22022" y="16510"/>
                  <a:pt x="22475" y="16579"/>
                  <a:pt x="22542" y="16490"/>
                </a:cubicBezTo>
                <a:cubicBezTo>
                  <a:pt x="22579" y="16441"/>
                  <a:pt x="22425" y="16474"/>
                  <a:pt x="22364" y="16470"/>
                </a:cubicBezTo>
                <a:cubicBezTo>
                  <a:pt x="22188" y="16460"/>
                  <a:pt x="22003" y="16476"/>
                  <a:pt x="21828" y="16490"/>
                </a:cubicBezTo>
                <a:cubicBezTo>
                  <a:pt x="21714" y="16499"/>
                  <a:pt x="21467" y="16505"/>
                  <a:pt x="21372" y="16589"/>
                </a:cubicBezTo>
                <a:cubicBezTo>
                  <a:pt x="21333" y="16623"/>
                  <a:pt x="21364" y="16588"/>
                  <a:pt x="21392" y="16609"/>
                </a:cubicBezTo>
                <a:cubicBezTo>
                  <a:pt x="21455" y="16655"/>
                  <a:pt x="21618" y="16627"/>
                  <a:pt x="21689" y="16629"/>
                </a:cubicBezTo>
                <a:cubicBezTo>
                  <a:pt x="21934" y="16635"/>
                  <a:pt x="22511" y="16419"/>
                  <a:pt x="22384" y="16629"/>
                </a:cubicBezTo>
                <a:cubicBezTo>
                  <a:pt x="22333" y="16714"/>
                  <a:pt x="22265" y="16692"/>
                  <a:pt x="22185" y="16728"/>
                </a:cubicBezTo>
                <a:cubicBezTo>
                  <a:pt x="22074" y="16778"/>
                  <a:pt x="21856" y="16791"/>
                  <a:pt x="21769" y="16847"/>
                </a:cubicBezTo>
                <a:cubicBezTo>
                  <a:pt x="21633" y="16934"/>
                  <a:pt x="21702" y="16843"/>
                  <a:pt x="21749" y="16887"/>
                </a:cubicBezTo>
                <a:cubicBezTo>
                  <a:pt x="21761" y="16898"/>
                  <a:pt x="22110" y="16884"/>
                  <a:pt x="22106" y="16907"/>
                </a:cubicBezTo>
                <a:cubicBezTo>
                  <a:pt x="22095" y="16977"/>
                  <a:pt x="21998" y="16929"/>
                  <a:pt x="21927" y="16927"/>
                </a:cubicBezTo>
                <a:cubicBezTo>
                  <a:pt x="21890" y="16926"/>
                  <a:pt x="21925" y="16910"/>
                  <a:pt x="21888" y="16907"/>
                </a:cubicBezTo>
                <a:cubicBezTo>
                  <a:pt x="21773" y="16899"/>
                  <a:pt x="21754" y="16940"/>
                  <a:pt x="21669" y="16966"/>
                </a:cubicBezTo>
                <a:cubicBezTo>
                  <a:pt x="21656" y="16970"/>
                  <a:pt x="21513" y="16993"/>
                  <a:pt x="21530" y="17006"/>
                </a:cubicBezTo>
                <a:cubicBezTo>
                  <a:pt x="21573" y="17038"/>
                  <a:pt x="21715" y="16988"/>
                  <a:pt x="21729" y="16986"/>
                </a:cubicBezTo>
                <a:cubicBezTo>
                  <a:pt x="21771" y="16981"/>
                  <a:pt x="21828" y="16979"/>
                  <a:pt x="21868" y="16966"/>
                </a:cubicBezTo>
                <a:cubicBezTo>
                  <a:pt x="21899" y="16956"/>
                  <a:pt x="21889" y="16923"/>
                  <a:pt x="21868" y="16947"/>
                </a:cubicBezTo>
                <a:cubicBezTo>
                  <a:pt x="21846" y="16971"/>
                  <a:pt x="21837" y="16946"/>
                  <a:pt x="21808" y="16966"/>
                </a:cubicBezTo>
                <a:cubicBezTo>
                  <a:pt x="21793" y="16976"/>
                  <a:pt x="21766" y="17001"/>
                  <a:pt x="21729" y="17026"/>
                </a:cubicBezTo>
                <a:cubicBezTo>
                  <a:pt x="21706" y="17041"/>
                  <a:pt x="21679" y="17079"/>
                  <a:pt x="21669" y="17085"/>
                </a:cubicBezTo>
                <a:cubicBezTo>
                  <a:pt x="21643" y="17100"/>
                  <a:pt x="21631" y="17090"/>
                  <a:pt x="21610" y="17105"/>
                </a:cubicBezTo>
                <a:cubicBezTo>
                  <a:pt x="21580" y="17127"/>
                  <a:pt x="21591" y="17126"/>
                  <a:pt x="21550" y="17145"/>
                </a:cubicBezTo>
                <a:cubicBezTo>
                  <a:pt x="21504" y="17166"/>
                  <a:pt x="21478" y="17188"/>
                  <a:pt x="21431" y="17205"/>
                </a:cubicBezTo>
                <a:cubicBezTo>
                  <a:pt x="21397" y="17217"/>
                  <a:pt x="21367" y="17216"/>
                  <a:pt x="21332" y="17224"/>
                </a:cubicBezTo>
                <a:cubicBezTo>
                  <a:pt x="21328" y="17225"/>
                  <a:pt x="21283" y="17240"/>
                  <a:pt x="21253" y="17244"/>
                </a:cubicBezTo>
                <a:cubicBezTo>
                  <a:pt x="21190" y="17252"/>
                  <a:pt x="21112" y="17259"/>
                  <a:pt x="21074" y="17264"/>
                </a:cubicBezTo>
                <a:cubicBezTo>
                  <a:pt x="21028" y="17270"/>
                  <a:pt x="20999" y="17281"/>
                  <a:pt x="20955" y="17284"/>
                </a:cubicBezTo>
                <a:cubicBezTo>
                  <a:pt x="20889" y="17288"/>
                  <a:pt x="20811" y="17361"/>
                  <a:pt x="20776" y="17304"/>
                </a:cubicBezTo>
                <a:cubicBezTo>
                  <a:pt x="20771" y="17295"/>
                  <a:pt x="20795" y="17270"/>
                  <a:pt x="20796" y="17244"/>
                </a:cubicBezTo>
                <a:cubicBezTo>
                  <a:pt x="20797" y="17211"/>
                  <a:pt x="20816" y="17198"/>
                  <a:pt x="20816" y="17165"/>
                </a:cubicBezTo>
                <a:cubicBezTo>
                  <a:pt x="20816" y="17113"/>
                  <a:pt x="20915" y="17179"/>
                  <a:pt x="20856" y="17105"/>
                </a:cubicBezTo>
                <a:cubicBezTo>
                  <a:pt x="20790" y="17022"/>
                  <a:pt x="20716" y="17092"/>
                  <a:pt x="20657" y="17046"/>
                </a:cubicBezTo>
                <a:cubicBezTo>
                  <a:pt x="20617" y="17014"/>
                  <a:pt x="20611" y="17039"/>
                  <a:pt x="20657" y="17046"/>
                </a:cubicBezTo>
                <a:cubicBezTo>
                  <a:pt x="20775" y="17064"/>
                  <a:pt x="20894" y="17091"/>
                  <a:pt x="21015" y="17105"/>
                </a:cubicBezTo>
                <a:cubicBezTo>
                  <a:pt x="21180" y="17125"/>
                  <a:pt x="21326" y="17129"/>
                  <a:pt x="21491" y="17165"/>
                </a:cubicBezTo>
                <a:cubicBezTo>
                  <a:pt x="21577" y="17165"/>
                  <a:pt x="21597" y="17165"/>
                  <a:pt x="21650" y="17165"/>
                </a:cubicBezTo>
                <a:cubicBezTo>
                  <a:pt x="21617" y="17165"/>
                  <a:pt x="21623" y="17165"/>
                  <a:pt x="21590" y="17165"/>
                </a:cubicBezTo>
                <a:cubicBezTo>
                  <a:pt x="21394" y="17165"/>
                  <a:pt x="21177" y="17178"/>
                  <a:pt x="20995" y="17185"/>
                </a:cubicBezTo>
                <a:cubicBezTo>
                  <a:pt x="20933" y="17187"/>
                  <a:pt x="20773" y="17155"/>
                  <a:pt x="20737" y="17205"/>
                </a:cubicBezTo>
                <a:cubicBezTo>
                  <a:pt x="20727" y="17219"/>
                  <a:pt x="20749" y="17207"/>
                  <a:pt x="20796" y="17244"/>
                </a:cubicBezTo>
                <a:cubicBezTo>
                  <a:pt x="20797" y="17245"/>
                  <a:pt x="20950" y="17239"/>
                  <a:pt x="20935" y="17264"/>
                </a:cubicBezTo>
                <a:cubicBezTo>
                  <a:pt x="20932" y="17268"/>
                  <a:pt x="20861" y="17273"/>
                  <a:pt x="20856" y="17284"/>
                </a:cubicBezTo>
                <a:cubicBezTo>
                  <a:pt x="20855" y="17286"/>
                  <a:pt x="20795" y="17294"/>
                  <a:pt x="20796" y="17304"/>
                </a:cubicBezTo>
                <a:cubicBezTo>
                  <a:pt x="20798" y="17331"/>
                  <a:pt x="20769" y="17355"/>
                  <a:pt x="20776" y="17363"/>
                </a:cubicBezTo>
                <a:cubicBezTo>
                  <a:pt x="20795" y="17386"/>
                  <a:pt x="20817" y="17389"/>
                  <a:pt x="20856" y="17423"/>
                </a:cubicBezTo>
                <a:cubicBezTo>
                  <a:pt x="20891" y="17454"/>
                  <a:pt x="21011" y="17414"/>
                  <a:pt x="20975" y="17443"/>
                </a:cubicBezTo>
                <a:cubicBezTo>
                  <a:pt x="20943" y="17469"/>
                  <a:pt x="20748" y="17424"/>
                  <a:pt x="20776" y="17443"/>
                </a:cubicBezTo>
                <a:cubicBezTo>
                  <a:pt x="20783" y="17448"/>
                  <a:pt x="20855" y="17460"/>
                  <a:pt x="20856" y="17462"/>
                </a:cubicBezTo>
                <a:cubicBezTo>
                  <a:pt x="20880" y="17501"/>
                  <a:pt x="20901" y="17456"/>
                  <a:pt x="20935" y="17482"/>
                </a:cubicBezTo>
                <a:cubicBezTo>
                  <a:pt x="20962" y="17503"/>
                  <a:pt x="20846" y="17487"/>
                  <a:pt x="20935" y="17522"/>
                </a:cubicBezTo>
                <a:cubicBezTo>
                  <a:pt x="20960" y="17532"/>
                  <a:pt x="21107" y="17559"/>
                  <a:pt x="21114" y="17582"/>
                </a:cubicBezTo>
                <a:cubicBezTo>
                  <a:pt x="21122" y="17607"/>
                  <a:pt x="21050" y="17569"/>
                  <a:pt x="21074" y="17582"/>
                </a:cubicBezTo>
                <a:cubicBezTo>
                  <a:pt x="21097" y="17594"/>
                  <a:pt x="20995" y="17585"/>
                  <a:pt x="21015" y="17601"/>
                </a:cubicBezTo>
                <a:cubicBezTo>
                  <a:pt x="21020" y="17605"/>
                  <a:pt x="21183" y="17603"/>
                  <a:pt x="21114" y="17621"/>
                </a:cubicBezTo>
                <a:cubicBezTo>
                  <a:pt x="21106" y="17623"/>
                  <a:pt x="20930" y="17621"/>
                  <a:pt x="20955" y="17641"/>
                </a:cubicBezTo>
                <a:cubicBezTo>
                  <a:pt x="20982" y="17662"/>
                  <a:pt x="21046" y="17629"/>
                  <a:pt x="21074" y="17661"/>
                </a:cubicBezTo>
                <a:cubicBezTo>
                  <a:pt x="21124" y="17719"/>
                  <a:pt x="21082" y="17711"/>
                  <a:pt x="21153" y="17760"/>
                </a:cubicBezTo>
                <a:cubicBezTo>
                  <a:pt x="21185" y="17782"/>
                  <a:pt x="21235" y="17812"/>
                  <a:pt x="21253" y="17820"/>
                </a:cubicBezTo>
                <a:cubicBezTo>
                  <a:pt x="21273" y="17829"/>
                  <a:pt x="21282" y="17852"/>
                  <a:pt x="21312" y="17859"/>
                </a:cubicBezTo>
                <a:cubicBezTo>
                  <a:pt x="21398" y="17878"/>
                  <a:pt x="21533" y="17852"/>
                  <a:pt x="21590" y="17840"/>
                </a:cubicBezTo>
                <a:cubicBezTo>
                  <a:pt x="21630" y="17832"/>
                  <a:pt x="21620" y="17829"/>
                  <a:pt x="21650" y="17820"/>
                </a:cubicBezTo>
                <a:cubicBezTo>
                  <a:pt x="21686" y="17810"/>
                  <a:pt x="21682" y="17815"/>
                  <a:pt x="21709" y="17800"/>
                </a:cubicBezTo>
                <a:cubicBezTo>
                  <a:pt x="21731" y="17788"/>
                  <a:pt x="21759" y="17756"/>
                  <a:pt x="21788" y="17740"/>
                </a:cubicBezTo>
                <a:cubicBezTo>
                  <a:pt x="21812" y="17726"/>
                  <a:pt x="21816" y="17722"/>
                  <a:pt x="21848" y="17701"/>
                </a:cubicBezTo>
                <a:cubicBezTo>
                  <a:pt x="21868" y="17687"/>
                  <a:pt x="21883" y="17696"/>
                  <a:pt x="21907" y="17681"/>
                </a:cubicBezTo>
                <a:cubicBezTo>
                  <a:pt x="21915" y="17676"/>
                  <a:pt x="21952" y="17629"/>
                  <a:pt x="21967" y="17621"/>
                </a:cubicBezTo>
                <a:cubicBezTo>
                  <a:pt x="22000" y="17604"/>
                  <a:pt x="22029" y="17610"/>
                  <a:pt x="22066" y="17582"/>
                </a:cubicBezTo>
                <a:cubicBezTo>
                  <a:pt x="22117" y="17543"/>
                  <a:pt x="22150" y="17505"/>
                  <a:pt x="22205" y="17462"/>
                </a:cubicBezTo>
                <a:cubicBezTo>
                  <a:pt x="22259" y="17420"/>
                  <a:pt x="22320" y="17398"/>
                  <a:pt x="22364" y="17343"/>
                </a:cubicBezTo>
                <a:cubicBezTo>
                  <a:pt x="22388" y="17314"/>
                  <a:pt x="22387" y="17271"/>
                  <a:pt x="22404" y="17244"/>
                </a:cubicBezTo>
                <a:cubicBezTo>
                  <a:pt x="22407" y="17238"/>
                  <a:pt x="22440" y="17202"/>
                  <a:pt x="22423" y="17185"/>
                </a:cubicBezTo>
                <a:cubicBezTo>
                  <a:pt x="22392" y="17154"/>
                  <a:pt x="22401" y="17241"/>
                  <a:pt x="22364" y="17264"/>
                </a:cubicBezTo>
                <a:cubicBezTo>
                  <a:pt x="22305" y="17301"/>
                  <a:pt x="22241" y="17341"/>
                  <a:pt x="22185" y="17383"/>
                </a:cubicBezTo>
                <a:cubicBezTo>
                  <a:pt x="22098" y="17449"/>
                  <a:pt x="22015" y="17515"/>
                  <a:pt x="21927" y="17582"/>
                </a:cubicBezTo>
                <a:cubicBezTo>
                  <a:pt x="21868" y="17627"/>
                  <a:pt x="21831" y="17679"/>
                  <a:pt x="21769" y="17720"/>
                </a:cubicBezTo>
                <a:cubicBezTo>
                  <a:pt x="21744" y="17737"/>
                  <a:pt x="21708" y="17747"/>
                  <a:pt x="21689" y="17760"/>
                </a:cubicBezTo>
                <a:cubicBezTo>
                  <a:pt x="21668" y="17774"/>
                  <a:pt x="21661" y="17781"/>
                  <a:pt x="21630" y="17800"/>
                </a:cubicBezTo>
                <a:cubicBezTo>
                  <a:pt x="21656" y="17805"/>
                  <a:pt x="21583" y="17818"/>
                  <a:pt x="21610" y="17820"/>
                </a:cubicBezTo>
                <a:cubicBezTo>
                  <a:pt x="21697" y="17826"/>
                  <a:pt x="21813" y="17811"/>
                  <a:pt x="21868" y="17800"/>
                </a:cubicBezTo>
                <a:cubicBezTo>
                  <a:pt x="21896" y="17794"/>
                  <a:pt x="21890" y="17789"/>
                  <a:pt x="21927" y="17780"/>
                </a:cubicBezTo>
                <a:cubicBezTo>
                  <a:pt x="21959" y="17772"/>
                  <a:pt x="21978" y="17776"/>
                  <a:pt x="22007" y="17760"/>
                </a:cubicBezTo>
                <a:cubicBezTo>
                  <a:pt x="22042" y="17741"/>
                  <a:pt x="22062" y="17734"/>
                  <a:pt x="22086" y="17720"/>
                </a:cubicBezTo>
                <a:cubicBezTo>
                  <a:pt x="22091" y="17717"/>
                  <a:pt x="22122" y="17663"/>
                  <a:pt x="22126" y="17661"/>
                </a:cubicBezTo>
                <a:cubicBezTo>
                  <a:pt x="22159" y="17643"/>
                  <a:pt x="22181" y="17664"/>
                  <a:pt x="22205" y="17641"/>
                </a:cubicBezTo>
                <a:cubicBezTo>
                  <a:pt x="22236" y="17611"/>
                  <a:pt x="22241" y="17571"/>
                  <a:pt x="22265" y="17542"/>
                </a:cubicBezTo>
                <a:cubicBezTo>
                  <a:pt x="22278" y="17527"/>
                  <a:pt x="22293" y="17515"/>
                  <a:pt x="22304" y="17502"/>
                </a:cubicBezTo>
                <a:cubicBezTo>
                  <a:pt x="22321" y="17481"/>
                  <a:pt x="22329" y="17438"/>
                  <a:pt x="22344" y="17423"/>
                </a:cubicBezTo>
                <a:cubicBezTo>
                  <a:pt x="22351" y="17423"/>
                  <a:pt x="22357" y="17423"/>
                  <a:pt x="22364" y="17423"/>
                </a:cubicBezTo>
                <a:cubicBezTo>
                  <a:pt x="22350" y="17390"/>
                  <a:pt x="22438" y="17331"/>
                  <a:pt x="22404" y="17343"/>
                </a:cubicBezTo>
                <a:cubicBezTo>
                  <a:pt x="22372" y="17355"/>
                  <a:pt x="22373" y="17344"/>
                  <a:pt x="22344" y="17363"/>
                </a:cubicBezTo>
                <a:cubicBezTo>
                  <a:pt x="22291" y="17398"/>
                  <a:pt x="22204" y="17474"/>
                  <a:pt x="22165" y="17522"/>
                </a:cubicBezTo>
                <a:cubicBezTo>
                  <a:pt x="22143" y="17548"/>
                  <a:pt x="22135" y="17613"/>
                  <a:pt x="22106" y="17641"/>
                </a:cubicBezTo>
                <a:cubicBezTo>
                  <a:pt x="22060" y="17686"/>
                  <a:pt x="22011" y="17698"/>
                  <a:pt x="21967" y="17740"/>
                </a:cubicBezTo>
                <a:cubicBezTo>
                  <a:pt x="21957" y="17749"/>
                  <a:pt x="21956" y="17793"/>
                  <a:pt x="21947" y="17800"/>
                </a:cubicBezTo>
                <a:cubicBezTo>
                  <a:pt x="21929" y="17814"/>
                  <a:pt x="21905" y="17809"/>
                  <a:pt x="21888" y="17820"/>
                </a:cubicBezTo>
                <a:cubicBezTo>
                  <a:pt x="21886" y="17822"/>
                  <a:pt x="21830" y="17878"/>
                  <a:pt x="21828" y="17879"/>
                </a:cubicBezTo>
                <a:cubicBezTo>
                  <a:pt x="21804" y="17889"/>
                  <a:pt x="21795" y="17894"/>
                  <a:pt x="21769" y="17899"/>
                </a:cubicBezTo>
                <a:cubicBezTo>
                  <a:pt x="21620" y="17930"/>
                  <a:pt x="21459" y="17880"/>
                  <a:pt x="21332" y="17859"/>
                </a:cubicBezTo>
                <a:cubicBezTo>
                  <a:pt x="21283" y="17851"/>
                  <a:pt x="21265" y="17855"/>
                  <a:pt x="21233" y="17840"/>
                </a:cubicBezTo>
                <a:cubicBezTo>
                  <a:pt x="21201" y="17825"/>
                  <a:pt x="21187" y="17822"/>
                  <a:pt x="21153" y="17800"/>
                </a:cubicBezTo>
                <a:cubicBezTo>
                  <a:pt x="21144" y="17794"/>
                  <a:pt x="21115" y="17757"/>
                  <a:pt x="21094" y="17740"/>
                </a:cubicBezTo>
                <a:cubicBezTo>
                  <a:pt x="21050" y="17705"/>
                  <a:pt x="21010" y="17652"/>
                  <a:pt x="20975" y="17621"/>
                </a:cubicBezTo>
                <a:cubicBezTo>
                  <a:pt x="20960" y="17608"/>
                  <a:pt x="20949" y="17594"/>
                  <a:pt x="20935" y="17582"/>
                </a:cubicBezTo>
                <a:cubicBezTo>
                  <a:pt x="20918" y="17566"/>
                  <a:pt x="20888" y="17552"/>
                  <a:pt x="20876" y="17542"/>
                </a:cubicBezTo>
                <a:cubicBezTo>
                  <a:pt x="20838" y="17506"/>
                  <a:pt x="20789" y="17481"/>
                  <a:pt x="20757" y="17443"/>
                </a:cubicBezTo>
                <a:cubicBezTo>
                  <a:pt x="20723" y="17403"/>
                  <a:pt x="20700" y="17354"/>
                  <a:pt x="20677" y="17324"/>
                </a:cubicBezTo>
                <a:cubicBezTo>
                  <a:pt x="20658" y="17300"/>
                  <a:pt x="20701" y="17228"/>
                  <a:pt x="20677" y="17264"/>
                </a:cubicBezTo>
                <a:cubicBezTo>
                  <a:pt x="20623" y="17343"/>
                  <a:pt x="20674" y="17688"/>
                  <a:pt x="20776" y="17681"/>
                </a:cubicBezTo>
                <a:cubicBezTo>
                  <a:pt x="20802" y="17679"/>
                  <a:pt x="20822" y="17632"/>
                  <a:pt x="20836" y="17621"/>
                </a:cubicBezTo>
                <a:cubicBezTo>
                  <a:pt x="20871" y="17593"/>
                  <a:pt x="20818" y="17546"/>
                  <a:pt x="20836" y="17542"/>
                </a:cubicBezTo>
                <a:cubicBezTo>
                  <a:pt x="20898" y="17529"/>
                  <a:pt x="20973" y="17558"/>
                  <a:pt x="21034" y="17562"/>
                </a:cubicBezTo>
                <a:cubicBezTo>
                  <a:pt x="21165" y="17570"/>
                  <a:pt x="21298" y="17596"/>
                  <a:pt x="21431" y="17582"/>
                </a:cubicBezTo>
                <a:cubicBezTo>
                  <a:pt x="21569" y="17568"/>
                  <a:pt x="21577" y="17497"/>
                  <a:pt x="21650" y="17462"/>
                </a:cubicBezTo>
                <a:cubicBezTo>
                  <a:pt x="21674" y="17451"/>
                  <a:pt x="21617" y="17466"/>
                  <a:pt x="21630" y="17443"/>
                </a:cubicBezTo>
                <a:cubicBezTo>
                  <a:pt x="21643" y="17420"/>
                  <a:pt x="21655" y="17490"/>
                  <a:pt x="21630" y="17482"/>
                </a:cubicBezTo>
                <a:cubicBezTo>
                  <a:pt x="21605" y="17474"/>
                  <a:pt x="21637" y="17463"/>
                  <a:pt x="21610" y="17462"/>
                </a:cubicBezTo>
                <a:cubicBezTo>
                  <a:pt x="21476" y="17456"/>
                  <a:pt x="21152" y="17433"/>
                  <a:pt x="21054" y="17542"/>
                </a:cubicBezTo>
                <a:cubicBezTo>
                  <a:pt x="21019" y="17581"/>
                  <a:pt x="20984" y="17583"/>
                  <a:pt x="21054" y="17621"/>
                </a:cubicBezTo>
                <a:cubicBezTo>
                  <a:pt x="21153" y="17675"/>
                  <a:pt x="21297" y="17517"/>
                  <a:pt x="21372" y="17601"/>
                </a:cubicBezTo>
                <a:cubicBezTo>
                  <a:pt x="21380" y="17610"/>
                  <a:pt x="21332" y="17641"/>
                  <a:pt x="21332" y="17641"/>
                </a:cubicBezTo>
                <a:cubicBezTo>
                  <a:pt x="21336" y="17645"/>
                  <a:pt x="21288" y="17701"/>
                  <a:pt x="21332" y="17720"/>
                </a:cubicBezTo>
                <a:cubicBezTo>
                  <a:pt x="21409" y="17754"/>
                  <a:pt x="21569" y="17759"/>
                  <a:pt x="21650" y="17760"/>
                </a:cubicBezTo>
                <a:cubicBezTo>
                  <a:pt x="21703" y="17761"/>
                  <a:pt x="21735" y="17743"/>
                  <a:pt x="21788" y="17740"/>
                </a:cubicBezTo>
                <a:cubicBezTo>
                  <a:pt x="21711" y="17742"/>
                  <a:pt x="21514" y="17760"/>
                  <a:pt x="21511" y="17760"/>
                </a:cubicBezTo>
                <a:cubicBezTo>
                  <a:pt x="21471" y="17757"/>
                  <a:pt x="21610" y="17740"/>
                  <a:pt x="21570" y="17740"/>
                </a:cubicBezTo>
                <a:cubicBezTo>
                  <a:pt x="21469" y="17740"/>
                  <a:pt x="21273" y="17861"/>
                  <a:pt x="21272" y="17760"/>
                </a:cubicBezTo>
                <a:cubicBezTo>
                  <a:pt x="21272" y="17752"/>
                  <a:pt x="21393" y="17734"/>
                  <a:pt x="21392" y="17740"/>
                </a:cubicBezTo>
                <a:cubicBezTo>
                  <a:pt x="21389" y="17769"/>
                  <a:pt x="21382" y="17742"/>
                  <a:pt x="21411" y="17740"/>
                </a:cubicBezTo>
                <a:cubicBezTo>
                  <a:pt x="21440" y="17738"/>
                  <a:pt x="21365" y="17791"/>
                  <a:pt x="21392" y="17780"/>
                </a:cubicBezTo>
                <a:cubicBezTo>
                  <a:pt x="21427" y="17766"/>
                  <a:pt x="21477" y="17745"/>
                  <a:pt x="21511" y="17720"/>
                </a:cubicBezTo>
                <a:cubicBezTo>
                  <a:pt x="21564" y="17681"/>
                  <a:pt x="21623" y="17664"/>
                  <a:pt x="21630" y="17601"/>
                </a:cubicBezTo>
                <a:cubicBezTo>
                  <a:pt x="21636" y="17543"/>
                  <a:pt x="21632" y="17531"/>
                  <a:pt x="21590" y="17502"/>
                </a:cubicBezTo>
                <a:cubicBezTo>
                  <a:pt x="21484" y="17430"/>
                  <a:pt x="21087" y="17547"/>
                  <a:pt x="21213" y="17522"/>
                </a:cubicBezTo>
                <a:cubicBezTo>
                  <a:pt x="21286" y="17507"/>
                  <a:pt x="21318" y="17504"/>
                  <a:pt x="21392" y="17502"/>
                </a:cubicBezTo>
                <a:cubicBezTo>
                  <a:pt x="21670" y="17493"/>
                  <a:pt x="22118" y="17598"/>
                  <a:pt x="22364" y="17462"/>
                </a:cubicBezTo>
                <a:cubicBezTo>
                  <a:pt x="22395" y="17445"/>
                  <a:pt x="22335" y="17467"/>
                  <a:pt x="22304" y="17462"/>
                </a:cubicBezTo>
                <a:cubicBezTo>
                  <a:pt x="21879" y="17398"/>
                  <a:pt x="20624" y="17462"/>
                  <a:pt x="21054" y="17462"/>
                </a:cubicBezTo>
                <a:cubicBezTo>
                  <a:pt x="21206" y="17462"/>
                  <a:pt x="21359" y="17462"/>
                  <a:pt x="21511" y="17462"/>
                </a:cubicBezTo>
                <a:cubicBezTo>
                  <a:pt x="21759" y="17462"/>
                  <a:pt x="22063" y="17511"/>
                  <a:pt x="22304" y="17443"/>
                </a:cubicBezTo>
                <a:cubicBezTo>
                  <a:pt x="22357" y="17428"/>
                  <a:pt x="22395" y="17426"/>
                  <a:pt x="22324" y="17423"/>
                </a:cubicBezTo>
                <a:cubicBezTo>
                  <a:pt x="22199" y="17419"/>
                  <a:pt x="22073" y="17439"/>
                  <a:pt x="21947" y="17443"/>
                </a:cubicBezTo>
                <a:cubicBezTo>
                  <a:pt x="21668" y="17476"/>
                  <a:pt x="21394" y="17499"/>
                  <a:pt x="21114" y="17522"/>
                </a:cubicBezTo>
                <a:cubicBezTo>
                  <a:pt x="21021" y="17529"/>
                  <a:pt x="20826" y="17569"/>
                  <a:pt x="20915" y="17542"/>
                </a:cubicBezTo>
                <a:cubicBezTo>
                  <a:pt x="21038" y="17505"/>
                  <a:pt x="21185" y="17493"/>
                  <a:pt x="21312" y="17462"/>
                </a:cubicBezTo>
                <a:cubicBezTo>
                  <a:pt x="21533" y="17409"/>
                  <a:pt x="21775" y="17448"/>
                  <a:pt x="21987" y="17383"/>
                </a:cubicBezTo>
                <a:cubicBezTo>
                  <a:pt x="22041" y="17366"/>
                  <a:pt x="22111" y="17334"/>
                  <a:pt x="22066" y="17304"/>
                </a:cubicBezTo>
                <a:cubicBezTo>
                  <a:pt x="22045" y="17290"/>
                  <a:pt x="21869" y="17323"/>
                  <a:pt x="21828" y="17324"/>
                </a:cubicBezTo>
                <a:cubicBezTo>
                  <a:pt x="21693" y="17327"/>
                  <a:pt x="21324" y="17465"/>
                  <a:pt x="21431" y="17383"/>
                </a:cubicBezTo>
                <a:cubicBezTo>
                  <a:pt x="21464" y="17358"/>
                  <a:pt x="21472" y="17376"/>
                  <a:pt x="21511" y="17363"/>
                </a:cubicBezTo>
                <a:cubicBezTo>
                  <a:pt x="21685" y="17304"/>
                  <a:pt x="21846" y="17307"/>
                  <a:pt x="22027" y="17284"/>
                </a:cubicBezTo>
                <a:cubicBezTo>
                  <a:pt x="22162" y="17267"/>
                  <a:pt x="22524" y="17296"/>
                  <a:pt x="22423" y="17205"/>
                </a:cubicBezTo>
                <a:cubicBezTo>
                  <a:pt x="22292" y="17087"/>
                  <a:pt x="21495" y="17205"/>
                  <a:pt x="21332" y="17205"/>
                </a:cubicBezTo>
                <a:cubicBezTo>
                  <a:pt x="21321" y="17205"/>
                  <a:pt x="20969" y="17205"/>
                  <a:pt x="20995" y="17205"/>
                </a:cubicBezTo>
                <a:cubicBezTo>
                  <a:pt x="21266" y="17205"/>
                  <a:pt x="22040" y="17205"/>
                  <a:pt x="21769" y="17205"/>
                </a:cubicBezTo>
                <a:cubicBezTo>
                  <a:pt x="21621" y="17205"/>
                  <a:pt x="21170" y="17147"/>
                  <a:pt x="21074" y="17284"/>
                </a:cubicBezTo>
                <a:cubicBezTo>
                  <a:pt x="21050" y="17318"/>
                  <a:pt x="21162" y="17302"/>
                  <a:pt x="21173" y="17304"/>
                </a:cubicBezTo>
                <a:cubicBezTo>
                  <a:pt x="21192" y="17308"/>
                  <a:pt x="21412" y="17307"/>
                  <a:pt x="21292" y="17324"/>
                </a:cubicBezTo>
                <a:cubicBezTo>
                  <a:pt x="21224" y="17333"/>
                  <a:pt x="20935" y="17294"/>
                  <a:pt x="20895" y="17343"/>
                </a:cubicBezTo>
                <a:cubicBezTo>
                  <a:pt x="20864" y="17381"/>
                  <a:pt x="20844" y="17379"/>
                  <a:pt x="20876" y="17403"/>
                </a:cubicBezTo>
                <a:cubicBezTo>
                  <a:pt x="20914" y="17433"/>
                  <a:pt x="21026" y="17436"/>
                  <a:pt x="21074" y="17443"/>
                </a:cubicBezTo>
                <a:cubicBezTo>
                  <a:pt x="21217" y="17464"/>
                  <a:pt x="21366" y="17461"/>
                  <a:pt x="21511" y="17462"/>
                </a:cubicBezTo>
                <a:cubicBezTo>
                  <a:pt x="21671" y="17464"/>
                  <a:pt x="22065" y="17445"/>
                  <a:pt x="22086" y="17443"/>
                </a:cubicBezTo>
                <a:cubicBezTo>
                  <a:pt x="21890" y="17443"/>
                  <a:pt x="21541" y="17507"/>
                  <a:pt x="21372" y="17403"/>
                </a:cubicBezTo>
                <a:cubicBezTo>
                  <a:pt x="21335" y="17380"/>
                  <a:pt x="21389" y="17420"/>
                  <a:pt x="21411" y="17403"/>
                </a:cubicBezTo>
                <a:cubicBezTo>
                  <a:pt x="21477" y="17354"/>
                  <a:pt x="21612" y="17371"/>
                  <a:pt x="21689" y="17363"/>
                </a:cubicBezTo>
                <a:cubicBezTo>
                  <a:pt x="21729" y="17359"/>
                  <a:pt x="21825" y="17385"/>
                  <a:pt x="21749" y="17363"/>
                </a:cubicBezTo>
                <a:cubicBezTo>
                  <a:pt x="21710" y="17352"/>
                  <a:pt x="21418" y="17363"/>
                  <a:pt x="21511" y="17363"/>
                </a:cubicBezTo>
                <a:cubicBezTo>
                  <a:pt x="21815" y="17363"/>
                  <a:pt x="22683" y="17464"/>
                  <a:pt x="22404" y="17343"/>
                </a:cubicBezTo>
                <a:cubicBezTo>
                  <a:pt x="22162" y="17239"/>
                  <a:pt x="21682" y="17271"/>
                  <a:pt x="21411" y="17224"/>
                </a:cubicBezTo>
                <a:cubicBezTo>
                  <a:pt x="21152" y="17179"/>
                  <a:pt x="20917" y="17158"/>
                  <a:pt x="20657" y="17145"/>
                </a:cubicBezTo>
                <a:cubicBezTo>
                  <a:pt x="20519" y="17138"/>
                  <a:pt x="20654" y="17145"/>
                  <a:pt x="20677" y="17145"/>
                </a:cubicBezTo>
                <a:cubicBezTo>
                  <a:pt x="20757" y="17145"/>
                  <a:pt x="20796" y="17145"/>
                  <a:pt x="20856" y="17145"/>
                </a:cubicBezTo>
                <a:cubicBezTo>
                  <a:pt x="21127" y="17149"/>
                  <a:pt x="21398" y="17150"/>
                  <a:pt x="21669" y="17165"/>
                </a:cubicBezTo>
                <a:cubicBezTo>
                  <a:pt x="21843" y="17175"/>
                  <a:pt x="22011" y="17182"/>
                  <a:pt x="22185" y="17185"/>
                </a:cubicBezTo>
                <a:cubicBezTo>
                  <a:pt x="22135" y="17192"/>
                  <a:pt x="22097" y="17217"/>
                  <a:pt x="22046" y="17224"/>
                </a:cubicBezTo>
                <a:cubicBezTo>
                  <a:pt x="21876" y="17248"/>
                  <a:pt x="21701" y="17242"/>
                  <a:pt x="21530" y="17264"/>
                </a:cubicBezTo>
                <a:cubicBezTo>
                  <a:pt x="21430" y="17277"/>
                  <a:pt x="21153" y="17314"/>
                  <a:pt x="21253" y="17324"/>
                </a:cubicBezTo>
                <a:cubicBezTo>
                  <a:pt x="21309" y="17330"/>
                  <a:pt x="21376" y="17311"/>
                  <a:pt x="21431" y="17304"/>
                </a:cubicBezTo>
                <a:cubicBezTo>
                  <a:pt x="21524" y="17293"/>
                  <a:pt x="21777" y="17220"/>
                  <a:pt x="21709" y="17284"/>
                </a:cubicBezTo>
                <a:cubicBezTo>
                  <a:pt x="21685" y="17306"/>
                  <a:pt x="21642" y="17296"/>
                  <a:pt x="21610" y="17304"/>
                </a:cubicBezTo>
                <a:cubicBezTo>
                  <a:pt x="21531" y="17323"/>
                  <a:pt x="21454" y="17314"/>
                  <a:pt x="21372" y="17324"/>
                </a:cubicBezTo>
                <a:cubicBezTo>
                  <a:pt x="21349" y="17327"/>
                  <a:pt x="21189" y="17346"/>
                  <a:pt x="21233" y="17343"/>
                </a:cubicBezTo>
                <a:cubicBezTo>
                  <a:pt x="21282" y="17340"/>
                  <a:pt x="21296" y="17326"/>
                  <a:pt x="21352" y="17324"/>
                </a:cubicBezTo>
                <a:cubicBezTo>
                  <a:pt x="21412" y="17322"/>
                  <a:pt x="21579" y="17314"/>
                  <a:pt x="21570" y="17324"/>
                </a:cubicBezTo>
                <a:cubicBezTo>
                  <a:pt x="21526" y="17372"/>
                  <a:pt x="21372" y="17360"/>
                  <a:pt x="21312" y="17363"/>
                </a:cubicBezTo>
                <a:cubicBezTo>
                  <a:pt x="21180" y="17369"/>
                  <a:pt x="20828" y="17327"/>
                  <a:pt x="20955" y="17363"/>
                </a:cubicBezTo>
                <a:cubicBezTo>
                  <a:pt x="21064" y="17394"/>
                  <a:pt x="21202" y="17373"/>
                  <a:pt x="21312" y="17403"/>
                </a:cubicBezTo>
                <a:cubicBezTo>
                  <a:pt x="21463" y="17444"/>
                  <a:pt x="21613" y="17535"/>
                  <a:pt x="21769" y="17562"/>
                </a:cubicBezTo>
                <a:cubicBezTo>
                  <a:pt x="21976" y="17598"/>
                  <a:pt x="22233" y="17595"/>
                  <a:pt x="22443" y="17601"/>
                </a:cubicBezTo>
                <a:cubicBezTo>
                  <a:pt x="22445" y="17601"/>
                  <a:pt x="22622" y="17615"/>
                  <a:pt x="22602" y="17582"/>
                </a:cubicBezTo>
                <a:cubicBezTo>
                  <a:pt x="22572" y="17534"/>
                  <a:pt x="22495" y="17565"/>
                  <a:pt x="22443" y="17542"/>
                </a:cubicBezTo>
                <a:cubicBezTo>
                  <a:pt x="21991" y="17450"/>
                  <a:pt x="21534" y="17376"/>
                  <a:pt x="21074" y="17324"/>
                </a:cubicBezTo>
                <a:cubicBezTo>
                  <a:pt x="21021" y="17318"/>
                  <a:pt x="21047" y="17333"/>
                  <a:pt x="20995" y="17324"/>
                </a:cubicBezTo>
                <a:cubicBezTo>
                  <a:pt x="21015" y="17324"/>
                  <a:pt x="21034" y="17324"/>
                  <a:pt x="21054" y="17324"/>
                </a:cubicBezTo>
                <a:cubicBezTo>
                  <a:pt x="21339" y="17332"/>
                  <a:pt x="21621" y="17343"/>
                  <a:pt x="21907" y="17343"/>
                </a:cubicBezTo>
                <a:cubicBezTo>
                  <a:pt x="22044" y="17343"/>
                  <a:pt x="22570" y="17425"/>
                  <a:pt x="22681" y="17324"/>
                </a:cubicBezTo>
                <a:cubicBezTo>
                  <a:pt x="22706" y="17301"/>
                  <a:pt x="22663" y="17265"/>
                  <a:pt x="22662" y="17264"/>
                </a:cubicBezTo>
                <a:cubicBezTo>
                  <a:pt x="22607" y="17196"/>
                  <a:pt x="22382" y="17209"/>
                  <a:pt x="22304" y="17205"/>
                </a:cubicBezTo>
                <a:cubicBezTo>
                  <a:pt x="22185" y="17199"/>
                  <a:pt x="21873" y="17238"/>
                  <a:pt x="21987" y="17205"/>
                </a:cubicBezTo>
                <a:cubicBezTo>
                  <a:pt x="22148" y="17159"/>
                  <a:pt x="22377" y="17149"/>
                  <a:pt x="22542" y="17145"/>
                </a:cubicBezTo>
                <a:cubicBezTo>
                  <a:pt x="22639" y="17142"/>
                  <a:pt x="22858" y="17190"/>
                  <a:pt x="22939" y="17125"/>
                </a:cubicBezTo>
                <a:cubicBezTo>
                  <a:pt x="22988" y="17086"/>
                  <a:pt x="22823" y="17107"/>
                  <a:pt x="22761" y="17105"/>
                </a:cubicBezTo>
                <a:cubicBezTo>
                  <a:pt x="22467" y="17098"/>
                  <a:pt x="22181" y="17053"/>
                  <a:pt x="21888" y="17046"/>
                </a:cubicBezTo>
                <a:cubicBezTo>
                  <a:pt x="21729" y="17042"/>
                  <a:pt x="21689" y="17046"/>
                  <a:pt x="21530" y="17046"/>
                </a:cubicBezTo>
                <a:cubicBezTo>
                  <a:pt x="22013" y="17046"/>
                  <a:pt x="23430" y="17174"/>
                  <a:pt x="22959" y="17066"/>
                </a:cubicBezTo>
                <a:cubicBezTo>
                  <a:pt x="22863" y="17044"/>
                  <a:pt x="22727" y="17035"/>
                  <a:pt x="22622" y="17026"/>
                </a:cubicBezTo>
                <a:cubicBezTo>
                  <a:pt x="22225" y="16993"/>
                  <a:pt x="21852" y="16947"/>
                  <a:pt x="21451" y="16947"/>
                </a:cubicBezTo>
                <a:cubicBezTo>
                  <a:pt x="21327" y="16947"/>
                  <a:pt x="21130" y="16951"/>
                  <a:pt x="21034" y="16966"/>
                </a:cubicBezTo>
                <a:cubicBezTo>
                  <a:pt x="21001" y="16971"/>
                  <a:pt x="21167" y="16959"/>
                  <a:pt x="21134" y="16966"/>
                </a:cubicBezTo>
                <a:cubicBezTo>
                  <a:pt x="21921" y="16966"/>
                  <a:pt x="24205" y="17204"/>
                  <a:pt x="23455" y="16966"/>
                </a:cubicBezTo>
                <a:cubicBezTo>
                  <a:pt x="23142" y="16867"/>
                  <a:pt x="22744" y="16839"/>
                  <a:pt x="22423" y="16788"/>
                </a:cubicBezTo>
                <a:cubicBezTo>
                  <a:pt x="21883" y="16702"/>
                  <a:pt x="21343" y="16600"/>
                  <a:pt x="20796" y="16589"/>
                </a:cubicBezTo>
                <a:cubicBezTo>
                  <a:pt x="20690" y="16587"/>
                  <a:pt x="20492" y="16589"/>
                  <a:pt x="20598" y="16589"/>
                </a:cubicBezTo>
                <a:cubicBezTo>
                  <a:pt x="20770" y="16589"/>
                  <a:pt x="22185" y="16626"/>
                  <a:pt x="22185" y="16550"/>
                </a:cubicBezTo>
                <a:cubicBezTo>
                  <a:pt x="22185" y="16511"/>
                  <a:pt x="22176" y="16559"/>
                  <a:pt x="22106" y="16530"/>
                </a:cubicBezTo>
                <a:cubicBezTo>
                  <a:pt x="21904" y="16446"/>
                  <a:pt x="21666" y="16415"/>
                  <a:pt x="21451" y="16411"/>
                </a:cubicBezTo>
                <a:cubicBezTo>
                  <a:pt x="21407" y="16410"/>
                  <a:pt x="21096" y="16420"/>
                  <a:pt x="21134" y="16431"/>
                </a:cubicBezTo>
                <a:cubicBezTo>
                  <a:pt x="21187" y="16447"/>
                  <a:pt x="21385" y="16447"/>
                  <a:pt x="21411" y="16450"/>
                </a:cubicBezTo>
                <a:cubicBezTo>
                  <a:pt x="21834" y="16532"/>
                  <a:pt x="22255" y="16586"/>
                  <a:pt x="22681" y="16649"/>
                </a:cubicBezTo>
                <a:cubicBezTo>
                  <a:pt x="22975" y="16693"/>
                  <a:pt x="23246" y="16724"/>
                  <a:pt x="23535" y="16748"/>
                </a:cubicBezTo>
                <a:cubicBezTo>
                  <a:pt x="23388" y="16722"/>
                  <a:pt x="23228" y="16694"/>
                  <a:pt x="23078" y="16669"/>
                </a:cubicBezTo>
                <a:cubicBezTo>
                  <a:pt x="22217" y="16527"/>
                  <a:pt x="21329" y="16328"/>
                  <a:pt x="20459" y="16292"/>
                </a:cubicBezTo>
                <a:cubicBezTo>
                  <a:pt x="20416" y="16290"/>
                  <a:pt x="20097" y="16295"/>
                  <a:pt x="20340" y="16312"/>
                </a:cubicBezTo>
                <a:cubicBezTo>
                  <a:pt x="20808" y="16345"/>
                  <a:pt x="21220" y="16397"/>
                  <a:pt x="21689" y="16490"/>
                </a:cubicBezTo>
                <a:cubicBezTo>
                  <a:pt x="22168" y="16585"/>
                  <a:pt x="22615" y="16675"/>
                  <a:pt x="23098" y="16708"/>
                </a:cubicBezTo>
                <a:cubicBezTo>
                  <a:pt x="22952" y="16677"/>
                  <a:pt x="23006" y="16680"/>
                  <a:pt x="22860" y="16649"/>
                </a:cubicBezTo>
                <a:cubicBezTo>
                  <a:pt x="22355" y="16543"/>
                  <a:pt x="21823" y="16461"/>
                  <a:pt x="21312" y="16391"/>
                </a:cubicBezTo>
                <a:cubicBezTo>
                  <a:pt x="21068" y="16357"/>
                  <a:pt x="20715" y="16352"/>
                  <a:pt x="20499" y="16371"/>
                </a:cubicBezTo>
                <a:cubicBezTo>
                  <a:pt x="20624" y="16402"/>
                  <a:pt x="20748" y="16427"/>
                  <a:pt x="20876" y="16450"/>
                </a:cubicBezTo>
                <a:cubicBezTo>
                  <a:pt x="21210" y="16510"/>
                  <a:pt x="21509" y="16530"/>
                  <a:pt x="21848" y="16530"/>
                </a:cubicBezTo>
                <a:cubicBezTo>
                  <a:pt x="22200" y="16530"/>
                  <a:pt x="23126" y="16684"/>
                  <a:pt x="22820" y="16510"/>
                </a:cubicBezTo>
                <a:cubicBezTo>
                  <a:pt x="22353" y="16245"/>
                  <a:pt x="21514" y="16265"/>
                  <a:pt x="20995" y="16252"/>
                </a:cubicBezTo>
                <a:cubicBezTo>
                  <a:pt x="20968" y="16252"/>
                  <a:pt x="20942" y="16252"/>
                  <a:pt x="20915" y="16252"/>
                </a:cubicBezTo>
                <a:cubicBezTo>
                  <a:pt x="21035" y="16269"/>
                  <a:pt x="21152" y="16291"/>
                  <a:pt x="21272" y="16312"/>
                </a:cubicBezTo>
                <a:cubicBezTo>
                  <a:pt x="21737" y="16394"/>
                  <a:pt x="22230" y="16469"/>
                  <a:pt x="22701" y="16490"/>
                </a:cubicBezTo>
                <a:cubicBezTo>
                  <a:pt x="22815" y="16495"/>
                  <a:pt x="23893" y="16474"/>
                  <a:pt x="23892" y="16470"/>
                </a:cubicBezTo>
                <a:cubicBezTo>
                  <a:pt x="23841" y="16316"/>
                  <a:pt x="22292" y="16177"/>
                  <a:pt x="22126" y="16153"/>
                </a:cubicBezTo>
                <a:cubicBezTo>
                  <a:pt x="21563" y="16077"/>
                  <a:pt x="21397" y="16056"/>
                  <a:pt x="21034" y="15994"/>
                </a:cubicBezTo>
                <a:cubicBezTo>
                  <a:pt x="20948" y="15994"/>
                  <a:pt x="20862" y="15994"/>
                  <a:pt x="20776" y="15994"/>
                </a:cubicBezTo>
                <a:cubicBezTo>
                  <a:pt x="20919" y="16026"/>
                  <a:pt x="20871" y="16009"/>
                  <a:pt x="21015" y="16034"/>
                </a:cubicBezTo>
                <a:cubicBezTo>
                  <a:pt x="21309" y="16085"/>
                  <a:pt x="21568" y="16113"/>
                  <a:pt x="21868" y="16113"/>
                </a:cubicBezTo>
                <a:cubicBezTo>
                  <a:pt x="22100" y="16113"/>
                  <a:pt x="22452" y="16343"/>
                  <a:pt x="22483" y="16113"/>
                </a:cubicBezTo>
                <a:cubicBezTo>
                  <a:pt x="22496" y="16016"/>
                  <a:pt x="21588" y="15921"/>
                  <a:pt x="21550" y="15915"/>
                </a:cubicBezTo>
                <a:cubicBezTo>
                  <a:pt x="21353" y="15883"/>
                  <a:pt x="20764" y="15795"/>
                  <a:pt x="20955" y="15855"/>
                </a:cubicBezTo>
                <a:cubicBezTo>
                  <a:pt x="21032" y="15879"/>
                  <a:pt x="21132" y="15874"/>
                  <a:pt x="21213" y="15895"/>
                </a:cubicBezTo>
                <a:cubicBezTo>
                  <a:pt x="21680" y="15907"/>
                  <a:pt x="22133" y="15994"/>
                  <a:pt x="22602" y="15994"/>
                </a:cubicBezTo>
                <a:cubicBezTo>
                  <a:pt x="22535" y="15861"/>
                  <a:pt x="22550" y="15947"/>
                  <a:pt x="22404" y="15915"/>
                </a:cubicBezTo>
                <a:cubicBezTo>
                  <a:pt x="22141" y="15858"/>
                  <a:pt x="21878" y="15827"/>
                  <a:pt x="21610" y="15815"/>
                </a:cubicBezTo>
                <a:cubicBezTo>
                  <a:pt x="21550" y="15812"/>
                  <a:pt x="21451" y="15817"/>
                  <a:pt x="21511" y="15815"/>
                </a:cubicBezTo>
                <a:cubicBezTo>
                  <a:pt x="21799" y="15806"/>
                  <a:pt x="22076" y="15870"/>
                  <a:pt x="22364" y="15875"/>
                </a:cubicBezTo>
                <a:cubicBezTo>
                  <a:pt x="22721" y="15881"/>
                  <a:pt x="23725" y="16034"/>
                  <a:pt x="23416" y="15855"/>
                </a:cubicBezTo>
                <a:cubicBezTo>
                  <a:pt x="23146" y="15699"/>
                  <a:pt x="22655" y="15703"/>
                  <a:pt x="22364" y="15657"/>
                </a:cubicBezTo>
                <a:cubicBezTo>
                  <a:pt x="21843" y="15575"/>
                  <a:pt x="21243" y="15375"/>
                  <a:pt x="20717" y="15379"/>
                </a:cubicBezTo>
                <a:cubicBezTo>
                  <a:pt x="20623" y="15380"/>
                  <a:pt x="20821" y="15415"/>
                  <a:pt x="20915" y="15419"/>
                </a:cubicBezTo>
                <a:cubicBezTo>
                  <a:pt x="21183" y="15429"/>
                  <a:pt x="21441" y="15473"/>
                  <a:pt x="21709" y="15478"/>
                </a:cubicBezTo>
                <a:cubicBezTo>
                  <a:pt x="22000" y="15483"/>
                  <a:pt x="22788" y="15536"/>
                  <a:pt x="22503" y="15478"/>
                </a:cubicBezTo>
                <a:cubicBezTo>
                  <a:pt x="22038" y="15383"/>
                  <a:pt x="21563" y="15308"/>
                  <a:pt x="21094" y="15240"/>
                </a:cubicBezTo>
                <a:cubicBezTo>
                  <a:pt x="20954" y="15218"/>
                  <a:pt x="20899" y="15211"/>
                  <a:pt x="20757" y="15220"/>
                </a:cubicBezTo>
                <a:cubicBezTo>
                  <a:pt x="20777" y="15220"/>
                  <a:pt x="20796" y="15220"/>
                  <a:pt x="20816" y="15220"/>
                </a:cubicBezTo>
                <a:cubicBezTo>
                  <a:pt x="21081" y="15262"/>
                  <a:pt x="21345" y="15298"/>
                  <a:pt x="21610" y="15339"/>
                </a:cubicBezTo>
                <a:cubicBezTo>
                  <a:pt x="21985" y="15397"/>
                  <a:pt x="22362" y="15379"/>
                  <a:pt x="22741" y="15379"/>
                </a:cubicBezTo>
                <a:cubicBezTo>
                  <a:pt x="23048" y="15379"/>
                  <a:pt x="22715" y="15322"/>
                  <a:pt x="22622" y="15300"/>
                </a:cubicBezTo>
                <a:cubicBezTo>
                  <a:pt x="22048" y="15162"/>
                  <a:pt x="21439" y="15116"/>
                  <a:pt x="20856" y="15022"/>
                </a:cubicBezTo>
                <a:cubicBezTo>
                  <a:pt x="20524" y="14969"/>
                  <a:pt x="20314" y="14921"/>
                  <a:pt x="19983" y="14863"/>
                </a:cubicBezTo>
                <a:cubicBezTo>
                  <a:pt x="20393" y="14942"/>
                  <a:pt x="20802" y="15009"/>
                  <a:pt x="21213" y="15081"/>
                </a:cubicBezTo>
                <a:cubicBezTo>
                  <a:pt x="21659" y="15159"/>
                  <a:pt x="22206" y="15286"/>
                  <a:pt x="22662" y="15200"/>
                </a:cubicBezTo>
                <a:cubicBezTo>
                  <a:pt x="22866" y="15161"/>
                  <a:pt x="22568" y="15131"/>
                  <a:pt x="22503" y="15121"/>
                </a:cubicBezTo>
                <a:cubicBezTo>
                  <a:pt x="22146" y="15063"/>
                  <a:pt x="21787" y="15026"/>
                  <a:pt x="21431" y="14962"/>
                </a:cubicBezTo>
                <a:cubicBezTo>
                  <a:pt x="21400" y="14959"/>
                  <a:pt x="21036" y="14903"/>
                  <a:pt x="21134" y="14942"/>
                </a:cubicBezTo>
                <a:cubicBezTo>
                  <a:pt x="21469" y="15074"/>
                  <a:pt x="21829" y="15090"/>
                  <a:pt x="22185" y="15141"/>
                </a:cubicBezTo>
                <a:cubicBezTo>
                  <a:pt x="22623" y="15203"/>
                  <a:pt x="23873" y="15569"/>
                  <a:pt x="23495" y="15339"/>
                </a:cubicBezTo>
                <a:cubicBezTo>
                  <a:pt x="23413" y="15289"/>
                  <a:pt x="23213" y="15280"/>
                  <a:pt x="23118" y="15260"/>
                </a:cubicBezTo>
                <a:cubicBezTo>
                  <a:pt x="22964" y="15256"/>
                  <a:pt x="22816" y="15242"/>
                  <a:pt x="22662" y="15240"/>
                </a:cubicBezTo>
                <a:cubicBezTo>
                  <a:pt x="22501" y="15238"/>
                  <a:pt x="22323" y="15246"/>
                  <a:pt x="22165" y="15220"/>
                </a:cubicBezTo>
                <a:cubicBezTo>
                  <a:pt x="22112" y="15211"/>
                  <a:pt x="21980" y="15206"/>
                  <a:pt x="22027" y="15180"/>
                </a:cubicBezTo>
                <a:cubicBezTo>
                  <a:pt x="22128" y="15124"/>
                  <a:pt x="22920" y="15205"/>
                  <a:pt x="22920" y="15200"/>
                </a:cubicBezTo>
                <a:cubicBezTo>
                  <a:pt x="22920" y="15111"/>
                  <a:pt x="22792" y="15119"/>
                  <a:pt x="22721" y="15101"/>
                </a:cubicBezTo>
                <a:cubicBezTo>
                  <a:pt x="22435" y="15028"/>
                  <a:pt x="22137" y="14960"/>
                  <a:pt x="21848" y="14903"/>
                </a:cubicBezTo>
                <a:cubicBezTo>
                  <a:pt x="21821" y="14898"/>
                  <a:pt x="21485" y="14863"/>
                  <a:pt x="21590" y="14863"/>
                </a:cubicBezTo>
                <a:cubicBezTo>
                  <a:pt x="21737" y="14863"/>
                  <a:pt x="21880" y="14881"/>
                  <a:pt x="22027" y="14883"/>
                </a:cubicBezTo>
                <a:cubicBezTo>
                  <a:pt x="22222" y="14885"/>
                  <a:pt x="22796" y="14973"/>
                  <a:pt x="22602" y="14962"/>
                </a:cubicBezTo>
                <a:cubicBezTo>
                  <a:pt x="22488" y="14955"/>
                  <a:pt x="22445" y="14943"/>
                  <a:pt x="22304" y="14922"/>
                </a:cubicBezTo>
                <a:cubicBezTo>
                  <a:pt x="21967" y="14860"/>
                  <a:pt x="21629" y="14807"/>
                  <a:pt x="21292" y="14744"/>
                </a:cubicBezTo>
                <a:cubicBezTo>
                  <a:pt x="21285" y="14745"/>
                  <a:pt x="20991" y="14719"/>
                  <a:pt x="21153" y="14764"/>
                </a:cubicBezTo>
                <a:cubicBezTo>
                  <a:pt x="21324" y="14811"/>
                  <a:pt x="21532" y="14799"/>
                  <a:pt x="21709" y="14803"/>
                </a:cubicBezTo>
                <a:cubicBezTo>
                  <a:pt x="21749" y="14804"/>
                  <a:pt x="22021" y="14807"/>
                  <a:pt x="22007" y="14803"/>
                </a:cubicBezTo>
                <a:cubicBezTo>
                  <a:pt x="21859" y="14763"/>
                  <a:pt x="21667" y="14753"/>
                  <a:pt x="21511" y="14744"/>
                </a:cubicBezTo>
                <a:cubicBezTo>
                  <a:pt x="21508" y="14744"/>
                  <a:pt x="21313" y="14749"/>
                  <a:pt x="21372" y="14744"/>
                </a:cubicBezTo>
                <a:cubicBezTo>
                  <a:pt x="21586" y="14726"/>
                  <a:pt x="22192" y="14751"/>
                  <a:pt x="22185" y="14744"/>
                </a:cubicBezTo>
                <a:cubicBezTo>
                  <a:pt x="22028" y="14582"/>
                  <a:pt x="21280" y="14630"/>
                  <a:pt x="21054" y="14585"/>
                </a:cubicBezTo>
                <a:cubicBezTo>
                  <a:pt x="20929" y="14549"/>
                  <a:pt x="20897" y="14538"/>
                  <a:pt x="20816" y="14526"/>
                </a:cubicBezTo>
                <a:cubicBezTo>
                  <a:pt x="20942" y="14526"/>
                  <a:pt x="21027" y="14521"/>
                  <a:pt x="21153" y="14526"/>
                </a:cubicBezTo>
                <a:cubicBezTo>
                  <a:pt x="21404" y="14536"/>
                  <a:pt x="21654" y="14545"/>
                  <a:pt x="21907" y="14545"/>
                </a:cubicBezTo>
                <a:cubicBezTo>
                  <a:pt x="21997" y="14545"/>
                  <a:pt x="22187" y="14546"/>
                  <a:pt x="22205" y="14526"/>
                </a:cubicBezTo>
                <a:cubicBezTo>
                  <a:pt x="22215" y="14515"/>
                  <a:pt x="21849" y="14451"/>
                  <a:pt x="21828" y="14446"/>
                </a:cubicBezTo>
                <a:cubicBezTo>
                  <a:pt x="21690" y="14414"/>
                  <a:pt x="21921" y="14447"/>
                  <a:pt x="21967" y="14446"/>
                </a:cubicBezTo>
                <a:cubicBezTo>
                  <a:pt x="22225" y="14443"/>
                  <a:pt x="22910" y="14517"/>
                  <a:pt x="22662" y="14446"/>
                </a:cubicBezTo>
                <a:cubicBezTo>
                  <a:pt x="22373" y="14363"/>
                  <a:pt x="22046" y="14356"/>
                  <a:pt x="21749" y="14307"/>
                </a:cubicBezTo>
                <a:cubicBezTo>
                  <a:pt x="21393" y="14248"/>
                  <a:pt x="21048" y="14151"/>
                  <a:pt x="20697" y="14069"/>
                </a:cubicBezTo>
                <a:cubicBezTo>
                  <a:pt x="20570" y="14069"/>
                  <a:pt x="20272" y="14056"/>
                  <a:pt x="20399" y="14069"/>
                </a:cubicBezTo>
                <a:cubicBezTo>
                  <a:pt x="20648" y="14094"/>
                  <a:pt x="20884" y="14142"/>
                  <a:pt x="21134" y="14149"/>
                </a:cubicBezTo>
                <a:cubicBezTo>
                  <a:pt x="21433" y="14158"/>
                  <a:pt x="21727" y="14179"/>
                  <a:pt x="22027" y="14188"/>
                </a:cubicBezTo>
                <a:cubicBezTo>
                  <a:pt x="22254" y="14195"/>
                  <a:pt x="21851" y="14188"/>
                  <a:pt x="21848" y="14188"/>
                </a:cubicBezTo>
                <a:cubicBezTo>
                  <a:pt x="21730" y="14188"/>
                  <a:pt x="21398" y="14175"/>
                  <a:pt x="21411" y="14188"/>
                </a:cubicBezTo>
                <a:cubicBezTo>
                  <a:pt x="21485" y="14262"/>
                  <a:pt x="21879" y="14234"/>
                  <a:pt x="21987" y="14248"/>
                </a:cubicBezTo>
                <a:cubicBezTo>
                  <a:pt x="22031" y="14254"/>
                  <a:pt x="22315" y="14273"/>
                  <a:pt x="22225" y="14287"/>
                </a:cubicBezTo>
                <a:cubicBezTo>
                  <a:pt x="22064" y="14312"/>
                  <a:pt x="21922" y="14256"/>
                  <a:pt x="21769" y="14228"/>
                </a:cubicBezTo>
                <a:cubicBezTo>
                  <a:pt x="21722" y="14228"/>
                  <a:pt x="21379" y="14228"/>
                  <a:pt x="21630" y="14228"/>
                </a:cubicBezTo>
                <a:cubicBezTo>
                  <a:pt x="21848" y="14228"/>
                  <a:pt x="22423" y="14228"/>
                  <a:pt x="22205" y="14228"/>
                </a:cubicBezTo>
                <a:cubicBezTo>
                  <a:pt x="22132" y="14228"/>
                  <a:pt x="21734" y="14268"/>
                  <a:pt x="21689" y="14208"/>
                </a:cubicBezTo>
                <a:cubicBezTo>
                  <a:pt x="21665" y="14176"/>
                  <a:pt x="21821" y="14210"/>
                  <a:pt x="21788" y="14188"/>
                </a:cubicBezTo>
                <a:cubicBezTo>
                  <a:pt x="21760" y="14170"/>
                  <a:pt x="21860" y="14178"/>
                  <a:pt x="21828" y="14168"/>
                </a:cubicBezTo>
                <a:cubicBezTo>
                  <a:pt x="21749" y="14143"/>
                  <a:pt x="21708" y="14168"/>
                  <a:pt x="21689" y="14129"/>
                </a:cubicBezTo>
                <a:cubicBezTo>
                  <a:pt x="21673" y="14097"/>
                  <a:pt x="21697" y="14084"/>
                  <a:pt x="21689" y="14049"/>
                </a:cubicBezTo>
                <a:cubicBezTo>
                  <a:pt x="21682" y="14021"/>
                  <a:pt x="21676" y="14000"/>
                  <a:pt x="21669" y="13970"/>
                </a:cubicBezTo>
                <a:cubicBezTo>
                  <a:pt x="21657" y="13918"/>
                  <a:pt x="21677" y="13857"/>
                  <a:pt x="21650" y="13811"/>
                </a:cubicBezTo>
                <a:cubicBezTo>
                  <a:pt x="21648" y="13807"/>
                  <a:pt x="21616" y="13778"/>
                  <a:pt x="21610" y="13772"/>
                </a:cubicBezTo>
                <a:cubicBezTo>
                  <a:pt x="21597" y="13759"/>
                  <a:pt x="21561" y="13741"/>
                  <a:pt x="21550" y="13732"/>
                </a:cubicBezTo>
                <a:cubicBezTo>
                  <a:pt x="21528" y="13715"/>
                  <a:pt x="21512" y="13710"/>
                  <a:pt x="21471" y="13692"/>
                </a:cubicBezTo>
                <a:cubicBezTo>
                  <a:pt x="21422" y="13671"/>
                  <a:pt x="21367" y="13669"/>
                  <a:pt x="21312" y="13652"/>
                </a:cubicBezTo>
                <a:cubicBezTo>
                  <a:pt x="21259" y="13636"/>
                  <a:pt x="21253" y="13625"/>
                  <a:pt x="21193" y="13613"/>
                </a:cubicBezTo>
                <a:cubicBezTo>
                  <a:pt x="21162" y="13607"/>
                  <a:pt x="21143" y="13597"/>
                  <a:pt x="21114" y="13593"/>
                </a:cubicBezTo>
                <a:cubicBezTo>
                  <a:pt x="20966" y="13574"/>
                  <a:pt x="20752" y="13591"/>
                  <a:pt x="20637" y="13613"/>
                </a:cubicBezTo>
                <a:cubicBezTo>
                  <a:pt x="20606" y="13619"/>
                  <a:pt x="20585" y="13620"/>
                  <a:pt x="20558" y="13633"/>
                </a:cubicBezTo>
                <a:cubicBezTo>
                  <a:pt x="20540" y="13642"/>
                  <a:pt x="20519" y="13639"/>
                  <a:pt x="20499" y="13652"/>
                </a:cubicBezTo>
                <a:cubicBezTo>
                  <a:pt x="20469" y="13672"/>
                  <a:pt x="20462" y="13684"/>
                  <a:pt x="20439" y="13712"/>
                </a:cubicBezTo>
                <a:cubicBezTo>
                  <a:pt x="20424" y="13730"/>
                  <a:pt x="20435" y="13756"/>
                  <a:pt x="20419" y="13772"/>
                </a:cubicBezTo>
                <a:cubicBezTo>
                  <a:pt x="20406" y="13785"/>
                  <a:pt x="20394" y="13812"/>
                  <a:pt x="20380" y="13831"/>
                </a:cubicBezTo>
                <a:cubicBezTo>
                  <a:pt x="20367" y="13848"/>
                  <a:pt x="20340" y="13869"/>
                  <a:pt x="20320" y="13891"/>
                </a:cubicBezTo>
                <a:cubicBezTo>
                  <a:pt x="20306" y="13906"/>
                  <a:pt x="20314" y="13936"/>
                  <a:pt x="20300" y="13950"/>
                </a:cubicBezTo>
                <a:cubicBezTo>
                  <a:pt x="20287" y="13964"/>
                  <a:pt x="20253" y="13954"/>
                  <a:pt x="20241" y="13970"/>
                </a:cubicBezTo>
                <a:cubicBezTo>
                  <a:pt x="20231" y="13983"/>
                  <a:pt x="20205" y="14025"/>
                  <a:pt x="20201" y="14030"/>
                </a:cubicBezTo>
                <a:cubicBezTo>
                  <a:pt x="20185" y="14054"/>
                  <a:pt x="20177" y="14085"/>
                  <a:pt x="20161" y="14109"/>
                </a:cubicBezTo>
                <a:cubicBezTo>
                  <a:pt x="20135" y="14147"/>
                  <a:pt x="20101" y="14193"/>
                  <a:pt x="20082" y="14228"/>
                </a:cubicBezTo>
                <a:cubicBezTo>
                  <a:pt x="20069" y="14253"/>
                  <a:pt x="20056" y="14281"/>
                  <a:pt x="20042" y="14307"/>
                </a:cubicBezTo>
                <a:cubicBezTo>
                  <a:pt x="20023" y="14342"/>
                  <a:pt x="20015" y="14374"/>
                  <a:pt x="20002" y="14407"/>
                </a:cubicBezTo>
                <a:cubicBezTo>
                  <a:pt x="19992" y="14434"/>
                  <a:pt x="19970" y="14438"/>
                  <a:pt x="19963" y="14466"/>
                </a:cubicBezTo>
                <a:cubicBezTo>
                  <a:pt x="19957" y="14489"/>
                  <a:pt x="19943" y="14585"/>
                  <a:pt x="19943" y="14585"/>
                </a:cubicBezTo>
                <a:cubicBezTo>
                  <a:pt x="19924" y="14725"/>
                  <a:pt x="19951" y="14914"/>
                  <a:pt x="19963" y="15022"/>
                </a:cubicBezTo>
                <a:cubicBezTo>
                  <a:pt x="19973" y="15113"/>
                  <a:pt x="19975" y="15170"/>
                  <a:pt x="20002" y="15240"/>
                </a:cubicBezTo>
                <a:cubicBezTo>
                  <a:pt x="20011" y="15264"/>
                  <a:pt x="20009" y="15270"/>
                  <a:pt x="20022" y="15300"/>
                </a:cubicBezTo>
                <a:cubicBezTo>
                  <a:pt x="20031" y="15322"/>
                  <a:pt x="20050" y="15360"/>
                  <a:pt x="20062" y="15379"/>
                </a:cubicBezTo>
                <a:cubicBezTo>
                  <a:pt x="20076" y="15402"/>
                  <a:pt x="20082" y="15407"/>
                  <a:pt x="20102" y="15438"/>
                </a:cubicBezTo>
                <a:cubicBezTo>
                  <a:pt x="20118" y="15463"/>
                  <a:pt x="20126" y="15478"/>
                  <a:pt x="20141" y="15498"/>
                </a:cubicBezTo>
                <a:cubicBezTo>
                  <a:pt x="20169" y="15536"/>
                  <a:pt x="20169" y="15537"/>
                  <a:pt x="20201" y="15577"/>
                </a:cubicBezTo>
                <a:cubicBezTo>
                  <a:pt x="20213" y="15593"/>
                  <a:pt x="20238" y="15593"/>
                  <a:pt x="20260" y="15617"/>
                </a:cubicBezTo>
                <a:cubicBezTo>
                  <a:pt x="20289" y="15648"/>
                  <a:pt x="20312" y="15683"/>
                  <a:pt x="20340" y="15716"/>
                </a:cubicBezTo>
                <a:cubicBezTo>
                  <a:pt x="20368" y="15749"/>
                  <a:pt x="20360" y="15747"/>
                  <a:pt x="20380" y="15776"/>
                </a:cubicBezTo>
                <a:cubicBezTo>
                  <a:pt x="20396" y="15799"/>
                  <a:pt x="20426" y="15860"/>
                  <a:pt x="20439" y="15875"/>
                </a:cubicBezTo>
                <a:cubicBezTo>
                  <a:pt x="20455" y="15894"/>
                  <a:pt x="20483" y="15914"/>
                  <a:pt x="20499" y="15915"/>
                </a:cubicBezTo>
                <a:cubicBezTo>
                  <a:pt x="20535" y="15917"/>
                  <a:pt x="20483" y="15978"/>
                  <a:pt x="20518" y="15915"/>
                </a:cubicBezTo>
                <a:cubicBezTo>
                  <a:pt x="20554" y="15850"/>
                  <a:pt x="20501" y="15720"/>
                  <a:pt x="20499" y="15657"/>
                </a:cubicBezTo>
                <a:cubicBezTo>
                  <a:pt x="20497" y="15579"/>
                  <a:pt x="20483" y="15485"/>
                  <a:pt x="20479" y="15419"/>
                </a:cubicBezTo>
                <a:cubicBezTo>
                  <a:pt x="20469" y="15240"/>
                  <a:pt x="20456" y="15011"/>
                  <a:pt x="20499" y="14843"/>
                </a:cubicBezTo>
                <a:cubicBezTo>
                  <a:pt x="20511" y="14795"/>
                  <a:pt x="20551" y="14752"/>
                  <a:pt x="20558" y="14704"/>
                </a:cubicBezTo>
                <a:cubicBezTo>
                  <a:pt x="20566" y="14650"/>
                  <a:pt x="20574" y="14570"/>
                  <a:pt x="20578" y="14526"/>
                </a:cubicBezTo>
                <a:cubicBezTo>
                  <a:pt x="20582" y="14487"/>
                  <a:pt x="20573" y="14446"/>
                  <a:pt x="20578" y="14407"/>
                </a:cubicBezTo>
                <a:cubicBezTo>
                  <a:pt x="20587" y="14376"/>
                  <a:pt x="20592" y="14389"/>
                  <a:pt x="20598" y="14347"/>
                </a:cubicBezTo>
                <a:cubicBezTo>
                  <a:pt x="20602" y="14319"/>
                  <a:pt x="20610" y="14325"/>
                  <a:pt x="20618" y="14287"/>
                </a:cubicBezTo>
                <a:cubicBezTo>
                  <a:pt x="20627" y="14243"/>
                  <a:pt x="20625" y="14211"/>
                  <a:pt x="20637" y="14188"/>
                </a:cubicBezTo>
                <a:cubicBezTo>
                  <a:pt x="20651" y="14160"/>
                  <a:pt x="20638" y="14148"/>
                  <a:pt x="20657" y="14129"/>
                </a:cubicBezTo>
                <a:cubicBezTo>
                  <a:pt x="20678" y="14109"/>
                  <a:pt x="20711" y="14085"/>
                  <a:pt x="20737" y="14069"/>
                </a:cubicBezTo>
                <a:cubicBezTo>
                  <a:pt x="20764" y="14052"/>
                  <a:pt x="20794" y="14063"/>
                  <a:pt x="20816" y="14049"/>
                </a:cubicBezTo>
                <a:cubicBezTo>
                  <a:pt x="20831" y="14039"/>
                  <a:pt x="20898" y="13985"/>
                  <a:pt x="20856" y="14010"/>
                </a:cubicBezTo>
                <a:cubicBezTo>
                  <a:pt x="20831" y="14025"/>
                  <a:pt x="20814" y="14026"/>
                  <a:pt x="20796" y="14049"/>
                </a:cubicBezTo>
                <a:cubicBezTo>
                  <a:pt x="20784" y="14064"/>
                  <a:pt x="20754" y="14061"/>
                  <a:pt x="20737" y="14089"/>
                </a:cubicBezTo>
                <a:cubicBezTo>
                  <a:pt x="20717" y="14122"/>
                  <a:pt x="20719" y="14130"/>
                  <a:pt x="20697" y="14168"/>
                </a:cubicBezTo>
                <a:cubicBezTo>
                  <a:pt x="20683" y="14192"/>
                  <a:pt x="20684" y="14255"/>
                  <a:pt x="20677" y="14268"/>
                </a:cubicBezTo>
                <a:cubicBezTo>
                  <a:pt x="20671" y="14279"/>
                  <a:pt x="20667" y="14300"/>
                  <a:pt x="20657" y="14327"/>
                </a:cubicBezTo>
                <a:cubicBezTo>
                  <a:pt x="20650" y="14345"/>
                  <a:pt x="20620" y="14359"/>
                  <a:pt x="20618" y="14367"/>
                </a:cubicBezTo>
                <a:cubicBezTo>
                  <a:pt x="20613" y="14385"/>
                  <a:pt x="20624" y="14408"/>
                  <a:pt x="20618" y="14426"/>
                </a:cubicBezTo>
                <a:cubicBezTo>
                  <a:pt x="20606" y="14456"/>
                  <a:pt x="20564" y="14495"/>
                  <a:pt x="20558" y="14526"/>
                </a:cubicBezTo>
                <a:cubicBezTo>
                  <a:pt x="20549" y="14570"/>
                  <a:pt x="20551" y="14603"/>
                  <a:pt x="20538" y="14645"/>
                </a:cubicBezTo>
                <a:cubicBezTo>
                  <a:pt x="20527" y="14682"/>
                  <a:pt x="20526" y="14726"/>
                  <a:pt x="20518" y="14764"/>
                </a:cubicBezTo>
                <a:cubicBezTo>
                  <a:pt x="20506" y="14823"/>
                  <a:pt x="20488" y="14898"/>
                  <a:pt x="20479" y="14962"/>
                </a:cubicBezTo>
                <a:cubicBezTo>
                  <a:pt x="20473" y="15005"/>
                  <a:pt x="20472" y="15041"/>
                  <a:pt x="20459" y="15081"/>
                </a:cubicBezTo>
                <a:cubicBezTo>
                  <a:pt x="20452" y="15101"/>
                  <a:pt x="20474" y="15163"/>
                  <a:pt x="20459" y="15121"/>
                </a:cubicBezTo>
                <a:cubicBezTo>
                  <a:pt x="20369" y="14876"/>
                  <a:pt x="20462" y="14325"/>
                  <a:pt x="20518" y="14089"/>
                </a:cubicBezTo>
                <a:cubicBezTo>
                  <a:pt x="20529" y="14041"/>
                  <a:pt x="20609" y="13992"/>
                  <a:pt x="20578" y="13930"/>
                </a:cubicBezTo>
                <a:cubicBezTo>
                  <a:pt x="20559" y="13893"/>
                  <a:pt x="20626" y="13881"/>
                  <a:pt x="20558" y="13930"/>
                </a:cubicBezTo>
                <a:cubicBezTo>
                  <a:pt x="20529" y="13951"/>
                  <a:pt x="20480" y="14038"/>
                  <a:pt x="20459" y="14069"/>
                </a:cubicBezTo>
                <a:cubicBezTo>
                  <a:pt x="20426" y="14117"/>
                  <a:pt x="20409" y="14183"/>
                  <a:pt x="20380" y="14228"/>
                </a:cubicBezTo>
                <a:cubicBezTo>
                  <a:pt x="20357" y="14265"/>
                  <a:pt x="20325" y="14313"/>
                  <a:pt x="20300" y="14347"/>
                </a:cubicBezTo>
                <a:cubicBezTo>
                  <a:pt x="20263" y="14397"/>
                  <a:pt x="20207" y="14434"/>
                  <a:pt x="20181" y="14486"/>
                </a:cubicBezTo>
                <a:cubicBezTo>
                  <a:pt x="20167" y="14514"/>
                  <a:pt x="20150" y="14556"/>
                  <a:pt x="20141" y="14585"/>
                </a:cubicBezTo>
                <a:cubicBezTo>
                  <a:pt x="20124" y="14642"/>
                  <a:pt x="20131" y="14705"/>
                  <a:pt x="20122" y="14764"/>
                </a:cubicBezTo>
                <a:cubicBezTo>
                  <a:pt x="20120" y="14777"/>
                  <a:pt x="20082" y="14802"/>
                  <a:pt x="20102" y="14823"/>
                </a:cubicBezTo>
                <a:cubicBezTo>
                  <a:pt x="20104" y="14825"/>
                  <a:pt x="20116" y="14826"/>
                  <a:pt x="20122" y="14784"/>
                </a:cubicBezTo>
                <a:cubicBezTo>
                  <a:pt x="20129" y="14731"/>
                  <a:pt x="20134" y="14680"/>
                  <a:pt x="20141" y="14625"/>
                </a:cubicBezTo>
                <a:cubicBezTo>
                  <a:pt x="20150" y="14549"/>
                  <a:pt x="20146" y="14463"/>
                  <a:pt x="20161" y="14387"/>
                </a:cubicBezTo>
                <a:cubicBezTo>
                  <a:pt x="20179" y="14293"/>
                  <a:pt x="20221" y="14219"/>
                  <a:pt x="20260" y="14129"/>
                </a:cubicBezTo>
                <a:cubicBezTo>
                  <a:pt x="20283" y="14077"/>
                  <a:pt x="20318" y="13950"/>
                  <a:pt x="20360" y="13910"/>
                </a:cubicBezTo>
                <a:cubicBezTo>
                  <a:pt x="20402" y="13870"/>
                  <a:pt x="20369" y="13938"/>
                  <a:pt x="20360" y="13950"/>
                </a:cubicBezTo>
                <a:cubicBezTo>
                  <a:pt x="20338" y="13982"/>
                  <a:pt x="20318" y="14011"/>
                  <a:pt x="20300" y="14049"/>
                </a:cubicBezTo>
                <a:cubicBezTo>
                  <a:pt x="20288" y="14075"/>
                  <a:pt x="20282" y="14110"/>
                  <a:pt x="20260" y="14149"/>
                </a:cubicBezTo>
                <a:cubicBezTo>
                  <a:pt x="20241" y="14184"/>
                  <a:pt x="20232" y="14203"/>
                  <a:pt x="20221" y="14228"/>
                </a:cubicBezTo>
                <a:cubicBezTo>
                  <a:pt x="20211" y="14252"/>
                  <a:pt x="20194" y="14255"/>
                  <a:pt x="20181" y="14287"/>
                </a:cubicBezTo>
                <a:cubicBezTo>
                  <a:pt x="20172" y="14309"/>
                  <a:pt x="20174" y="14320"/>
                  <a:pt x="20161" y="14347"/>
                </a:cubicBezTo>
                <a:cubicBezTo>
                  <a:pt x="20158" y="14354"/>
                  <a:pt x="20126" y="14400"/>
                  <a:pt x="20122" y="14407"/>
                </a:cubicBezTo>
                <a:cubicBezTo>
                  <a:pt x="20117" y="14450"/>
                  <a:pt x="20103" y="14484"/>
                  <a:pt x="20102" y="14506"/>
                </a:cubicBezTo>
                <a:cubicBezTo>
                  <a:pt x="20096" y="14610"/>
                  <a:pt x="20086" y="14705"/>
                  <a:pt x="20082" y="14803"/>
                </a:cubicBezTo>
                <a:cubicBezTo>
                  <a:pt x="20077" y="14916"/>
                  <a:pt x="20090" y="15018"/>
                  <a:pt x="20102" y="15121"/>
                </a:cubicBezTo>
                <a:cubicBezTo>
                  <a:pt x="20110" y="15193"/>
                  <a:pt x="20103" y="15254"/>
                  <a:pt x="20122" y="15319"/>
                </a:cubicBezTo>
                <a:cubicBezTo>
                  <a:pt x="20124" y="15324"/>
                  <a:pt x="20114" y="15407"/>
                  <a:pt x="20141" y="15379"/>
                </a:cubicBezTo>
                <a:cubicBezTo>
                  <a:pt x="20160" y="15359"/>
                  <a:pt x="20177" y="15178"/>
                  <a:pt x="20181" y="15141"/>
                </a:cubicBezTo>
                <a:cubicBezTo>
                  <a:pt x="20192" y="15033"/>
                  <a:pt x="20202" y="14945"/>
                  <a:pt x="20221" y="14843"/>
                </a:cubicBezTo>
                <a:cubicBezTo>
                  <a:pt x="20230" y="14798"/>
                  <a:pt x="20247" y="14748"/>
                  <a:pt x="20260" y="14704"/>
                </a:cubicBezTo>
                <a:cubicBezTo>
                  <a:pt x="20278" y="14640"/>
                  <a:pt x="20282" y="14591"/>
                  <a:pt x="20300" y="14526"/>
                </a:cubicBezTo>
                <a:cubicBezTo>
                  <a:pt x="20315" y="14469"/>
                  <a:pt x="20340" y="14387"/>
                  <a:pt x="20360" y="14327"/>
                </a:cubicBezTo>
                <a:cubicBezTo>
                  <a:pt x="20374" y="14284"/>
                  <a:pt x="20385" y="14243"/>
                  <a:pt x="20419" y="14208"/>
                </a:cubicBezTo>
                <a:cubicBezTo>
                  <a:pt x="20444" y="14183"/>
                  <a:pt x="20398" y="14151"/>
                  <a:pt x="20419" y="14208"/>
                </a:cubicBezTo>
                <a:cubicBezTo>
                  <a:pt x="20424" y="14221"/>
                  <a:pt x="20399" y="14283"/>
                  <a:pt x="20399" y="14307"/>
                </a:cubicBezTo>
                <a:cubicBezTo>
                  <a:pt x="20384" y="14380"/>
                  <a:pt x="20349" y="14450"/>
                  <a:pt x="20340" y="14526"/>
                </a:cubicBezTo>
                <a:cubicBezTo>
                  <a:pt x="20324" y="14664"/>
                  <a:pt x="20333" y="14804"/>
                  <a:pt x="20320" y="14942"/>
                </a:cubicBezTo>
                <a:cubicBezTo>
                  <a:pt x="20311" y="15035"/>
                  <a:pt x="20286" y="15155"/>
                  <a:pt x="20280" y="15240"/>
                </a:cubicBezTo>
                <a:cubicBezTo>
                  <a:pt x="20278" y="15266"/>
                  <a:pt x="20282" y="15293"/>
                  <a:pt x="20280" y="15319"/>
                </a:cubicBezTo>
                <a:cubicBezTo>
                  <a:pt x="20279" y="15323"/>
                  <a:pt x="20263" y="15369"/>
                  <a:pt x="20260" y="15399"/>
                </a:cubicBezTo>
                <a:cubicBezTo>
                  <a:pt x="20259" y="15412"/>
                  <a:pt x="20262" y="15509"/>
                  <a:pt x="20260" y="15458"/>
                </a:cubicBezTo>
                <a:cubicBezTo>
                  <a:pt x="20254" y="15336"/>
                  <a:pt x="20267" y="15219"/>
                  <a:pt x="20280" y="15101"/>
                </a:cubicBezTo>
                <a:cubicBezTo>
                  <a:pt x="20286" y="15045"/>
                  <a:pt x="20293" y="14997"/>
                  <a:pt x="20300" y="14942"/>
                </a:cubicBezTo>
                <a:cubicBezTo>
                  <a:pt x="20308" y="14882"/>
                  <a:pt x="20328" y="14800"/>
                  <a:pt x="20320" y="14744"/>
                </a:cubicBezTo>
                <a:cubicBezTo>
                  <a:pt x="20314" y="14702"/>
                  <a:pt x="20323" y="14699"/>
                  <a:pt x="20320" y="14744"/>
                </a:cubicBezTo>
                <a:cubicBezTo>
                  <a:pt x="20317" y="14795"/>
                  <a:pt x="20305" y="14880"/>
                  <a:pt x="20300" y="14942"/>
                </a:cubicBezTo>
                <a:cubicBezTo>
                  <a:pt x="20296" y="14997"/>
                  <a:pt x="20279" y="15049"/>
                  <a:pt x="20280" y="15101"/>
                </a:cubicBezTo>
                <a:cubicBezTo>
                  <a:pt x="20282" y="15157"/>
                  <a:pt x="20298" y="15202"/>
                  <a:pt x="20300" y="15260"/>
                </a:cubicBezTo>
                <a:cubicBezTo>
                  <a:pt x="20303" y="15365"/>
                  <a:pt x="20225" y="15612"/>
                  <a:pt x="20300" y="15538"/>
                </a:cubicBezTo>
                <a:cubicBezTo>
                  <a:pt x="20333" y="15505"/>
                  <a:pt x="20327" y="15461"/>
                  <a:pt x="20340" y="15419"/>
                </a:cubicBezTo>
                <a:cubicBezTo>
                  <a:pt x="20355" y="15368"/>
                  <a:pt x="20367" y="15311"/>
                  <a:pt x="20380" y="15260"/>
                </a:cubicBezTo>
                <a:cubicBezTo>
                  <a:pt x="20399" y="15185"/>
                  <a:pt x="20398" y="15096"/>
                  <a:pt x="20419" y="15022"/>
                </a:cubicBezTo>
                <a:cubicBezTo>
                  <a:pt x="20432" y="14976"/>
                  <a:pt x="20462" y="14894"/>
                  <a:pt x="20479" y="14843"/>
                </a:cubicBezTo>
                <a:cubicBezTo>
                  <a:pt x="20507" y="14760"/>
                  <a:pt x="20530" y="14663"/>
                  <a:pt x="20558" y="14585"/>
                </a:cubicBezTo>
                <a:cubicBezTo>
                  <a:pt x="20578" y="14529"/>
                  <a:pt x="20626" y="14455"/>
                  <a:pt x="20637" y="14407"/>
                </a:cubicBezTo>
                <a:cubicBezTo>
                  <a:pt x="20661" y="14307"/>
                  <a:pt x="20669" y="14218"/>
                  <a:pt x="20697" y="14129"/>
                </a:cubicBezTo>
                <a:cubicBezTo>
                  <a:pt x="20709" y="14089"/>
                  <a:pt x="20706" y="14077"/>
                  <a:pt x="20717" y="14049"/>
                </a:cubicBezTo>
                <a:cubicBezTo>
                  <a:pt x="20727" y="14024"/>
                  <a:pt x="20724" y="13994"/>
                  <a:pt x="20737" y="13970"/>
                </a:cubicBezTo>
                <a:cubicBezTo>
                  <a:pt x="20742" y="13960"/>
                  <a:pt x="20766" y="13947"/>
                  <a:pt x="20776" y="13930"/>
                </a:cubicBezTo>
                <a:cubicBezTo>
                  <a:pt x="20783" y="13917"/>
                  <a:pt x="20816" y="13871"/>
                  <a:pt x="20816" y="13871"/>
                </a:cubicBezTo>
                <a:cubicBezTo>
                  <a:pt x="20823" y="13853"/>
                  <a:pt x="20853" y="13837"/>
                  <a:pt x="20856" y="13811"/>
                </a:cubicBezTo>
                <a:cubicBezTo>
                  <a:pt x="20861" y="13769"/>
                  <a:pt x="20863" y="13726"/>
                  <a:pt x="20836" y="13712"/>
                </a:cubicBezTo>
                <a:cubicBezTo>
                  <a:pt x="20807" y="13697"/>
                  <a:pt x="20787" y="13719"/>
                  <a:pt x="20757" y="13732"/>
                </a:cubicBezTo>
                <a:cubicBezTo>
                  <a:pt x="20747" y="13736"/>
                  <a:pt x="20735" y="13763"/>
                  <a:pt x="20717" y="13772"/>
                </a:cubicBezTo>
                <a:cubicBezTo>
                  <a:pt x="20712" y="13774"/>
                  <a:pt x="20674" y="13820"/>
                  <a:pt x="20657" y="13831"/>
                </a:cubicBezTo>
                <a:cubicBezTo>
                  <a:pt x="20638" y="13843"/>
                  <a:pt x="20614" y="13846"/>
                  <a:pt x="20598" y="13851"/>
                </a:cubicBezTo>
                <a:cubicBezTo>
                  <a:pt x="20572" y="13859"/>
                  <a:pt x="20552" y="13917"/>
                  <a:pt x="20558" y="13891"/>
                </a:cubicBezTo>
                <a:cubicBezTo>
                  <a:pt x="20569" y="13840"/>
                  <a:pt x="20596" y="13856"/>
                  <a:pt x="20618" y="13811"/>
                </a:cubicBezTo>
                <a:cubicBezTo>
                  <a:pt x="20638" y="13770"/>
                  <a:pt x="20674" y="13709"/>
                  <a:pt x="20697" y="13672"/>
                </a:cubicBezTo>
                <a:cubicBezTo>
                  <a:pt x="20704" y="13661"/>
                  <a:pt x="20786" y="13602"/>
                  <a:pt x="20776" y="13593"/>
                </a:cubicBezTo>
                <a:cubicBezTo>
                  <a:pt x="20764" y="13582"/>
                  <a:pt x="20723" y="13620"/>
                  <a:pt x="20697" y="13613"/>
                </a:cubicBezTo>
                <a:cubicBezTo>
                  <a:pt x="20656" y="13613"/>
                  <a:pt x="20641" y="13614"/>
                  <a:pt x="20618" y="13633"/>
                </a:cubicBezTo>
                <a:cubicBezTo>
                  <a:pt x="20588" y="13677"/>
                  <a:pt x="20465" y="13691"/>
                  <a:pt x="20499" y="13732"/>
                </a:cubicBezTo>
                <a:cubicBezTo>
                  <a:pt x="20520" y="13757"/>
                  <a:pt x="20506" y="13742"/>
                  <a:pt x="20538" y="13752"/>
                </a:cubicBezTo>
                <a:cubicBezTo>
                  <a:pt x="20686" y="13798"/>
                  <a:pt x="20904" y="13704"/>
                  <a:pt x="21034" y="13732"/>
                </a:cubicBezTo>
                <a:cubicBezTo>
                  <a:pt x="21095" y="13745"/>
                  <a:pt x="21115" y="13708"/>
                  <a:pt x="21114" y="13752"/>
                </a:cubicBezTo>
                <a:cubicBezTo>
                  <a:pt x="21113" y="13787"/>
                  <a:pt x="21038" y="13852"/>
                  <a:pt x="21015" y="13891"/>
                </a:cubicBezTo>
                <a:cubicBezTo>
                  <a:pt x="20985" y="13942"/>
                  <a:pt x="20951" y="14002"/>
                  <a:pt x="20915" y="14049"/>
                </a:cubicBezTo>
                <a:cubicBezTo>
                  <a:pt x="20837" y="14150"/>
                  <a:pt x="20755" y="14245"/>
                  <a:pt x="20677" y="14347"/>
                </a:cubicBezTo>
                <a:cubicBezTo>
                  <a:pt x="20597" y="14453"/>
                  <a:pt x="20469" y="14583"/>
                  <a:pt x="20419" y="14704"/>
                </a:cubicBezTo>
                <a:cubicBezTo>
                  <a:pt x="20386" y="14784"/>
                  <a:pt x="20385" y="14862"/>
                  <a:pt x="20360" y="14942"/>
                </a:cubicBezTo>
                <a:cubicBezTo>
                  <a:pt x="20357" y="14951"/>
                  <a:pt x="20309" y="15079"/>
                  <a:pt x="20320" y="15081"/>
                </a:cubicBezTo>
                <a:cubicBezTo>
                  <a:pt x="20376" y="15092"/>
                  <a:pt x="20413" y="15016"/>
                  <a:pt x="20459" y="14982"/>
                </a:cubicBezTo>
                <a:cubicBezTo>
                  <a:pt x="20578" y="14896"/>
                  <a:pt x="20632" y="14798"/>
                  <a:pt x="20717" y="14684"/>
                </a:cubicBezTo>
                <a:cubicBezTo>
                  <a:pt x="20951" y="14371"/>
                  <a:pt x="21192" y="14073"/>
                  <a:pt x="21411" y="13752"/>
                </a:cubicBezTo>
                <a:cubicBezTo>
                  <a:pt x="21464" y="13675"/>
                  <a:pt x="21514" y="13607"/>
                  <a:pt x="21570" y="13533"/>
                </a:cubicBezTo>
                <a:cubicBezTo>
                  <a:pt x="21540" y="13571"/>
                  <a:pt x="21599" y="13494"/>
                  <a:pt x="21570" y="13533"/>
                </a:cubicBezTo>
                <a:cubicBezTo>
                  <a:pt x="21519" y="13602"/>
                  <a:pt x="21479" y="13686"/>
                  <a:pt x="21431" y="13752"/>
                </a:cubicBezTo>
                <a:cubicBezTo>
                  <a:pt x="21379" y="13823"/>
                  <a:pt x="21356" y="13881"/>
                  <a:pt x="21312" y="13950"/>
                </a:cubicBezTo>
                <a:cubicBezTo>
                  <a:pt x="21282" y="13998"/>
                  <a:pt x="21241" y="14036"/>
                  <a:pt x="21213" y="14089"/>
                </a:cubicBezTo>
                <a:cubicBezTo>
                  <a:pt x="21190" y="14133"/>
                  <a:pt x="21173" y="14188"/>
                  <a:pt x="21153" y="14228"/>
                </a:cubicBezTo>
                <a:cubicBezTo>
                  <a:pt x="21125" y="14284"/>
                  <a:pt x="21119" y="14328"/>
                  <a:pt x="21094" y="14367"/>
                </a:cubicBezTo>
                <a:cubicBezTo>
                  <a:pt x="21087" y="14377"/>
                  <a:pt x="21048" y="14406"/>
                  <a:pt x="21034" y="14426"/>
                </a:cubicBezTo>
                <a:cubicBezTo>
                  <a:pt x="21017" y="14450"/>
                  <a:pt x="21011" y="14461"/>
                  <a:pt x="20995" y="14486"/>
                </a:cubicBezTo>
                <a:cubicBezTo>
                  <a:pt x="20962" y="14533"/>
                  <a:pt x="20926" y="14576"/>
                  <a:pt x="20895" y="14625"/>
                </a:cubicBezTo>
                <a:cubicBezTo>
                  <a:pt x="20880" y="14649"/>
                  <a:pt x="20838" y="14707"/>
                  <a:pt x="20856" y="14684"/>
                </a:cubicBezTo>
                <a:cubicBezTo>
                  <a:pt x="20885" y="14646"/>
                  <a:pt x="20921" y="14586"/>
                  <a:pt x="20955" y="14545"/>
                </a:cubicBezTo>
                <a:cubicBezTo>
                  <a:pt x="21040" y="14443"/>
                  <a:pt x="21116" y="14337"/>
                  <a:pt x="21193" y="14228"/>
                </a:cubicBezTo>
                <a:cubicBezTo>
                  <a:pt x="21357" y="13997"/>
                  <a:pt x="21525" y="13725"/>
                  <a:pt x="21610" y="13454"/>
                </a:cubicBezTo>
                <a:cubicBezTo>
                  <a:pt x="21620" y="13422"/>
                  <a:pt x="21653" y="13313"/>
                  <a:pt x="21630" y="13315"/>
                </a:cubicBezTo>
                <a:cubicBezTo>
                  <a:pt x="21603" y="13318"/>
                  <a:pt x="21612" y="13340"/>
                  <a:pt x="21590" y="13355"/>
                </a:cubicBezTo>
                <a:cubicBezTo>
                  <a:pt x="21546" y="13387"/>
                  <a:pt x="21508" y="13471"/>
                  <a:pt x="21471" y="13514"/>
                </a:cubicBezTo>
                <a:cubicBezTo>
                  <a:pt x="21436" y="13554"/>
                  <a:pt x="21403" y="13587"/>
                  <a:pt x="21372" y="13633"/>
                </a:cubicBezTo>
                <a:cubicBezTo>
                  <a:pt x="21350" y="13666"/>
                  <a:pt x="21329" y="13701"/>
                  <a:pt x="21312" y="13732"/>
                </a:cubicBezTo>
                <a:cubicBezTo>
                  <a:pt x="21294" y="13766"/>
                  <a:pt x="21288" y="13801"/>
                  <a:pt x="21272" y="13831"/>
                </a:cubicBezTo>
                <a:cubicBezTo>
                  <a:pt x="21254" y="13865"/>
                  <a:pt x="21242" y="13885"/>
                  <a:pt x="21233" y="13910"/>
                </a:cubicBezTo>
                <a:cubicBezTo>
                  <a:pt x="21223" y="13938"/>
                  <a:pt x="21203" y="13962"/>
                  <a:pt x="21193" y="13990"/>
                </a:cubicBezTo>
                <a:cubicBezTo>
                  <a:pt x="21178" y="14030"/>
                  <a:pt x="21185" y="14067"/>
                  <a:pt x="21173" y="14089"/>
                </a:cubicBezTo>
                <a:cubicBezTo>
                  <a:pt x="21156" y="14120"/>
                  <a:pt x="21147" y="14127"/>
                  <a:pt x="21134" y="14149"/>
                </a:cubicBezTo>
                <a:cubicBezTo>
                  <a:pt x="21130" y="14155"/>
                  <a:pt x="21077" y="14183"/>
                  <a:pt x="21074" y="14188"/>
                </a:cubicBezTo>
                <a:cubicBezTo>
                  <a:pt x="21059" y="14212"/>
                  <a:pt x="21058" y="14238"/>
                  <a:pt x="21054" y="14268"/>
                </a:cubicBezTo>
                <a:cubicBezTo>
                  <a:pt x="21051" y="14294"/>
                  <a:pt x="20989" y="14302"/>
                  <a:pt x="21015" y="14307"/>
                </a:cubicBezTo>
                <a:cubicBezTo>
                  <a:pt x="21052" y="14314"/>
                  <a:pt x="21061" y="14265"/>
                  <a:pt x="21094" y="14248"/>
                </a:cubicBezTo>
                <a:cubicBezTo>
                  <a:pt x="21120" y="14235"/>
                  <a:pt x="21149" y="14221"/>
                  <a:pt x="21173" y="14208"/>
                </a:cubicBezTo>
                <a:cubicBezTo>
                  <a:pt x="21202" y="14192"/>
                  <a:pt x="21226" y="14187"/>
                  <a:pt x="21253" y="14168"/>
                </a:cubicBezTo>
                <a:cubicBezTo>
                  <a:pt x="21307" y="14130"/>
                  <a:pt x="21357" y="14088"/>
                  <a:pt x="21411" y="14049"/>
                </a:cubicBezTo>
                <a:cubicBezTo>
                  <a:pt x="21457" y="14017"/>
                  <a:pt x="21504" y="13981"/>
                  <a:pt x="21550" y="13950"/>
                </a:cubicBezTo>
                <a:cubicBezTo>
                  <a:pt x="21575" y="13933"/>
                  <a:pt x="21613" y="13923"/>
                  <a:pt x="21630" y="13910"/>
                </a:cubicBezTo>
                <a:cubicBezTo>
                  <a:pt x="21645" y="13899"/>
                  <a:pt x="21678" y="13859"/>
                  <a:pt x="21689" y="13851"/>
                </a:cubicBezTo>
                <a:cubicBezTo>
                  <a:pt x="21704" y="13840"/>
                  <a:pt x="21734" y="13844"/>
                  <a:pt x="21749" y="13831"/>
                </a:cubicBezTo>
                <a:cubicBezTo>
                  <a:pt x="21761" y="13820"/>
                  <a:pt x="21775" y="13791"/>
                  <a:pt x="21788" y="13772"/>
                </a:cubicBezTo>
                <a:cubicBezTo>
                  <a:pt x="21810" y="13741"/>
                  <a:pt x="21818" y="13738"/>
                  <a:pt x="21828" y="13712"/>
                </a:cubicBezTo>
                <a:cubicBezTo>
                  <a:pt x="21841" y="13677"/>
                  <a:pt x="21842" y="13630"/>
                  <a:pt x="21848" y="13593"/>
                </a:cubicBezTo>
                <a:cubicBezTo>
                  <a:pt x="21858" y="13526"/>
                  <a:pt x="21844" y="13453"/>
                  <a:pt x="21828" y="13414"/>
                </a:cubicBezTo>
                <a:cubicBezTo>
                  <a:pt x="21816" y="13383"/>
                  <a:pt x="21826" y="13376"/>
                  <a:pt x="21808" y="13355"/>
                </a:cubicBezTo>
                <a:cubicBezTo>
                  <a:pt x="21778" y="13320"/>
                  <a:pt x="21802" y="13339"/>
                  <a:pt x="21749" y="13315"/>
                </a:cubicBezTo>
                <a:cubicBezTo>
                  <a:pt x="21729" y="13306"/>
                  <a:pt x="21690" y="13299"/>
                  <a:pt x="21669" y="13295"/>
                </a:cubicBezTo>
                <a:cubicBezTo>
                  <a:pt x="21473" y="13257"/>
                  <a:pt x="21185" y="13282"/>
                  <a:pt x="20995" y="13315"/>
                </a:cubicBezTo>
                <a:cubicBezTo>
                  <a:pt x="20976" y="13318"/>
                  <a:pt x="20960" y="13324"/>
                  <a:pt x="20935" y="13335"/>
                </a:cubicBezTo>
                <a:cubicBezTo>
                  <a:pt x="20906" y="13348"/>
                  <a:pt x="20894" y="13335"/>
                  <a:pt x="20876" y="13355"/>
                </a:cubicBezTo>
                <a:cubicBezTo>
                  <a:pt x="20832" y="13405"/>
                  <a:pt x="20845" y="13416"/>
                  <a:pt x="20836" y="13494"/>
                </a:cubicBezTo>
                <a:cubicBezTo>
                  <a:pt x="20828" y="13562"/>
                  <a:pt x="20836" y="13635"/>
                  <a:pt x="20856" y="13692"/>
                </a:cubicBezTo>
                <a:cubicBezTo>
                  <a:pt x="20889" y="13692"/>
                  <a:pt x="20902" y="13686"/>
                  <a:pt x="20895" y="13712"/>
                </a:cubicBezTo>
                <a:cubicBezTo>
                  <a:pt x="20899" y="13713"/>
                  <a:pt x="20948" y="13750"/>
                  <a:pt x="20975" y="13752"/>
                </a:cubicBezTo>
                <a:cubicBezTo>
                  <a:pt x="21059" y="13759"/>
                  <a:pt x="21156" y="13757"/>
                  <a:pt x="21233" y="13732"/>
                </a:cubicBezTo>
                <a:cubicBezTo>
                  <a:pt x="21265" y="13722"/>
                  <a:pt x="21282" y="13707"/>
                  <a:pt x="21312" y="13692"/>
                </a:cubicBezTo>
                <a:cubicBezTo>
                  <a:pt x="21348" y="13674"/>
                  <a:pt x="21350" y="13661"/>
                  <a:pt x="21372" y="13633"/>
                </a:cubicBezTo>
                <a:cubicBezTo>
                  <a:pt x="21396" y="13602"/>
                  <a:pt x="21396" y="13649"/>
                  <a:pt x="21411" y="13593"/>
                </a:cubicBezTo>
                <a:cubicBezTo>
                  <a:pt x="21432" y="13515"/>
                  <a:pt x="21399" y="13483"/>
                  <a:pt x="21372" y="13454"/>
                </a:cubicBezTo>
                <a:cubicBezTo>
                  <a:pt x="21363" y="13444"/>
                  <a:pt x="21243" y="13396"/>
                  <a:pt x="21233" y="13395"/>
                </a:cubicBezTo>
                <a:cubicBezTo>
                  <a:pt x="21179" y="13390"/>
                  <a:pt x="21137" y="13413"/>
                  <a:pt x="21094" y="13434"/>
                </a:cubicBezTo>
                <a:cubicBezTo>
                  <a:pt x="21014" y="13472"/>
                  <a:pt x="21077" y="13420"/>
                  <a:pt x="21034" y="13474"/>
                </a:cubicBezTo>
                <a:cubicBezTo>
                  <a:pt x="21017" y="13496"/>
                  <a:pt x="21028" y="13503"/>
                  <a:pt x="21015" y="13533"/>
                </a:cubicBezTo>
                <a:cubicBezTo>
                  <a:pt x="21003" y="13563"/>
                  <a:pt x="20986" y="13636"/>
                  <a:pt x="20995" y="13672"/>
                </a:cubicBezTo>
                <a:cubicBezTo>
                  <a:pt x="21016" y="13760"/>
                  <a:pt x="20983" y="13731"/>
                  <a:pt x="21074" y="13772"/>
                </a:cubicBezTo>
                <a:cubicBezTo>
                  <a:pt x="21156" y="13809"/>
                  <a:pt x="21321" y="13762"/>
                  <a:pt x="21392" y="13732"/>
                </a:cubicBezTo>
                <a:cubicBezTo>
                  <a:pt x="21434" y="13714"/>
                  <a:pt x="21448" y="13680"/>
                  <a:pt x="21491" y="13652"/>
                </a:cubicBezTo>
                <a:cubicBezTo>
                  <a:pt x="21514" y="13637"/>
                  <a:pt x="21534" y="13652"/>
                  <a:pt x="21550" y="13633"/>
                </a:cubicBezTo>
                <a:cubicBezTo>
                  <a:pt x="21573" y="13607"/>
                  <a:pt x="21575" y="13581"/>
                  <a:pt x="21590" y="13553"/>
                </a:cubicBezTo>
                <a:cubicBezTo>
                  <a:pt x="21603" y="13527"/>
                  <a:pt x="21609" y="13506"/>
                  <a:pt x="21610" y="13474"/>
                </a:cubicBezTo>
                <a:cubicBezTo>
                  <a:pt x="21611" y="13456"/>
                  <a:pt x="21649" y="13415"/>
                  <a:pt x="21630" y="13395"/>
                </a:cubicBezTo>
                <a:cubicBezTo>
                  <a:pt x="21624" y="13389"/>
                  <a:pt x="21561" y="13379"/>
                  <a:pt x="21550" y="13375"/>
                </a:cubicBezTo>
                <a:cubicBezTo>
                  <a:pt x="21460" y="13338"/>
                  <a:pt x="21368" y="13396"/>
                  <a:pt x="21312" y="13414"/>
                </a:cubicBezTo>
                <a:cubicBezTo>
                  <a:pt x="21282" y="13424"/>
                  <a:pt x="21238" y="13418"/>
                  <a:pt x="21213" y="13434"/>
                </a:cubicBezTo>
                <a:cubicBezTo>
                  <a:pt x="21190" y="13448"/>
                  <a:pt x="21190" y="13453"/>
                  <a:pt x="21173" y="13474"/>
                </a:cubicBezTo>
                <a:cubicBezTo>
                  <a:pt x="21156" y="13494"/>
                  <a:pt x="21123" y="13490"/>
                  <a:pt x="21134" y="13514"/>
                </a:cubicBezTo>
                <a:cubicBezTo>
                  <a:pt x="21157" y="13563"/>
                  <a:pt x="21139" y="13523"/>
                  <a:pt x="21173" y="13553"/>
                </a:cubicBezTo>
                <a:cubicBezTo>
                  <a:pt x="21209" y="13585"/>
                  <a:pt x="21289" y="13593"/>
                  <a:pt x="21332" y="13613"/>
                </a:cubicBezTo>
                <a:cubicBezTo>
                  <a:pt x="21359" y="13626"/>
                  <a:pt x="21401" y="13640"/>
                  <a:pt x="21431" y="13652"/>
                </a:cubicBezTo>
                <a:cubicBezTo>
                  <a:pt x="21458" y="13643"/>
                  <a:pt x="21485" y="13641"/>
                  <a:pt x="21511" y="13633"/>
                </a:cubicBezTo>
                <a:cubicBezTo>
                  <a:pt x="21549" y="13622"/>
                  <a:pt x="21576" y="13632"/>
                  <a:pt x="21610" y="13613"/>
                </a:cubicBezTo>
                <a:cubicBezTo>
                  <a:pt x="21633" y="13600"/>
                  <a:pt x="21674" y="13556"/>
                  <a:pt x="21689" y="13553"/>
                </a:cubicBezTo>
                <a:cubicBezTo>
                  <a:pt x="21717" y="13547"/>
                  <a:pt x="21714" y="13469"/>
                  <a:pt x="21729" y="13494"/>
                </a:cubicBezTo>
                <a:cubicBezTo>
                  <a:pt x="21787" y="13589"/>
                  <a:pt x="21637" y="13763"/>
                  <a:pt x="21590" y="13831"/>
                </a:cubicBezTo>
                <a:cubicBezTo>
                  <a:pt x="21566" y="13866"/>
                  <a:pt x="21524" y="13909"/>
                  <a:pt x="21491" y="13950"/>
                </a:cubicBezTo>
                <a:cubicBezTo>
                  <a:pt x="21434" y="14021"/>
                  <a:pt x="21384" y="14076"/>
                  <a:pt x="21332" y="14149"/>
                </a:cubicBezTo>
                <a:cubicBezTo>
                  <a:pt x="21305" y="14186"/>
                  <a:pt x="21289" y="14226"/>
                  <a:pt x="21253" y="14268"/>
                </a:cubicBezTo>
                <a:cubicBezTo>
                  <a:pt x="21218" y="14309"/>
                  <a:pt x="21165" y="14340"/>
                  <a:pt x="21134" y="14387"/>
                </a:cubicBezTo>
                <a:cubicBezTo>
                  <a:pt x="21111" y="14422"/>
                  <a:pt x="21095" y="14477"/>
                  <a:pt x="21074" y="14506"/>
                </a:cubicBezTo>
                <a:cubicBezTo>
                  <a:pt x="21048" y="14541"/>
                  <a:pt x="21035" y="14547"/>
                  <a:pt x="21015" y="14565"/>
                </a:cubicBezTo>
                <a:cubicBezTo>
                  <a:pt x="20987" y="14590"/>
                  <a:pt x="20978" y="14597"/>
                  <a:pt x="20935" y="14625"/>
                </a:cubicBezTo>
                <a:cubicBezTo>
                  <a:pt x="20908" y="14642"/>
                  <a:pt x="20900" y="14704"/>
                  <a:pt x="20876" y="14684"/>
                </a:cubicBezTo>
                <a:cubicBezTo>
                  <a:pt x="20808" y="14628"/>
                  <a:pt x="20874" y="14687"/>
                  <a:pt x="20876" y="14585"/>
                </a:cubicBezTo>
                <a:cubicBezTo>
                  <a:pt x="20878" y="14478"/>
                  <a:pt x="20919" y="14425"/>
                  <a:pt x="20955" y="14327"/>
                </a:cubicBezTo>
                <a:cubicBezTo>
                  <a:pt x="21011" y="14174"/>
                  <a:pt x="21078" y="14015"/>
                  <a:pt x="21134" y="13871"/>
                </a:cubicBezTo>
                <a:cubicBezTo>
                  <a:pt x="21158" y="13809"/>
                  <a:pt x="21240" y="13739"/>
                  <a:pt x="21193" y="13692"/>
                </a:cubicBezTo>
                <a:cubicBezTo>
                  <a:pt x="21188" y="13686"/>
                  <a:pt x="21174" y="13751"/>
                  <a:pt x="21173" y="13752"/>
                </a:cubicBezTo>
                <a:cubicBezTo>
                  <a:pt x="21137" y="13779"/>
                  <a:pt x="21116" y="13813"/>
                  <a:pt x="21094" y="13851"/>
                </a:cubicBezTo>
                <a:cubicBezTo>
                  <a:pt x="21015" y="13944"/>
                  <a:pt x="20933" y="14032"/>
                  <a:pt x="20876" y="14129"/>
                </a:cubicBezTo>
                <a:cubicBezTo>
                  <a:pt x="20846" y="14180"/>
                  <a:pt x="20836" y="14242"/>
                  <a:pt x="20796" y="14287"/>
                </a:cubicBezTo>
                <a:cubicBezTo>
                  <a:pt x="20776" y="14310"/>
                  <a:pt x="20717" y="14346"/>
                  <a:pt x="20717" y="14367"/>
                </a:cubicBezTo>
                <a:cubicBezTo>
                  <a:pt x="20717" y="14372"/>
                  <a:pt x="20632" y="14363"/>
                  <a:pt x="20697" y="14387"/>
                </a:cubicBezTo>
                <a:cubicBezTo>
                  <a:pt x="20746" y="14406"/>
                  <a:pt x="20822" y="14359"/>
                  <a:pt x="20856" y="14327"/>
                </a:cubicBezTo>
                <a:cubicBezTo>
                  <a:pt x="20886" y="14299"/>
                  <a:pt x="20877" y="14212"/>
                  <a:pt x="20915" y="14228"/>
                </a:cubicBezTo>
                <a:cubicBezTo>
                  <a:pt x="20940" y="14238"/>
                  <a:pt x="20914" y="14241"/>
                  <a:pt x="20915" y="14268"/>
                </a:cubicBezTo>
                <a:cubicBezTo>
                  <a:pt x="20916" y="14286"/>
                  <a:pt x="20851" y="14365"/>
                  <a:pt x="20856" y="14387"/>
                </a:cubicBezTo>
                <a:cubicBezTo>
                  <a:pt x="20859" y="14400"/>
                  <a:pt x="20815" y="14456"/>
                  <a:pt x="20836" y="14466"/>
                </a:cubicBezTo>
                <a:cubicBezTo>
                  <a:pt x="20913" y="14504"/>
                  <a:pt x="21007" y="14422"/>
                  <a:pt x="21074" y="14407"/>
                </a:cubicBezTo>
                <a:cubicBezTo>
                  <a:pt x="21252" y="14366"/>
                  <a:pt x="21401" y="14293"/>
                  <a:pt x="21570" y="14228"/>
                </a:cubicBezTo>
                <a:cubicBezTo>
                  <a:pt x="21651" y="14197"/>
                  <a:pt x="21843" y="14073"/>
                  <a:pt x="21927" y="14069"/>
                </a:cubicBezTo>
                <a:cubicBezTo>
                  <a:pt x="21973" y="14067"/>
                  <a:pt x="21960" y="13986"/>
                  <a:pt x="21907" y="14089"/>
                </a:cubicBezTo>
                <a:cubicBezTo>
                  <a:pt x="21875" y="14151"/>
                  <a:pt x="21824" y="14173"/>
                  <a:pt x="21788" y="14228"/>
                </a:cubicBezTo>
                <a:cubicBezTo>
                  <a:pt x="21766" y="14262"/>
                  <a:pt x="21692" y="14311"/>
                  <a:pt x="21729" y="14327"/>
                </a:cubicBezTo>
                <a:cubicBezTo>
                  <a:pt x="21752" y="14337"/>
                  <a:pt x="21768" y="14267"/>
                  <a:pt x="21788" y="14248"/>
                </a:cubicBezTo>
                <a:cubicBezTo>
                  <a:pt x="21844" y="14194"/>
                  <a:pt x="21874" y="14176"/>
                  <a:pt x="21927" y="14109"/>
                </a:cubicBezTo>
                <a:cubicBezTo>
                  <a:pt x="22000" y="14017"/>
                  <a:pt x="22081" y="13928"/>
                  <a:pt x="22146" y="13831"/>
                </a:cubicBezTo>
                <a:cubicBezTo>
                  <a:pt x="22181" y="13779"/>
                  <a:pt x="22264" y="13623"/>
                  <a:pt x="22225" y="13672"/>
                </a:cubicBezTo>
                <a:cubicBezTo>
                  <a:pt x="22185" y="13722"/>
                  <a:pt x="22126" y="13800"/>
                  <a:pt x="22086" y="13851"/>
                </a:cubicBezTo>
                <a:cubicBezTo>
                  <a:pt x="22056" y="13890"/>
                  <a:pt x="22049" y="13997"/>
                  <a:pt x="22007" y="13970"/>
                </a:cubicBezTo>
                <a:cubicBezTo>
                  <a:pt x="21972" y="13948"/>
                  <a:pt x="22047" y="13908"/>
                  <a:pt x="22066" y="13871"/>
                </a:cubicBezTo>
                <a:cubicBezTo>
                  <a:pt x="22077" y="13849"/>
                  <a:pt x="22158" y="13806"/>
                  <a:pt x="22126" y="13772"/>
                </a:cubicBezTo>
                <a:cubicBezTo>
                  <a:pt x="22108" y="13753"/>
                  <a:pt x="22113" y="13771"/>
                  <a:pt x="22086" y="13772"/>
                </a:cubicBezTo>
                <a:cubicBezTo>
                  <a:pt x="22036" y="13775"/>
                  <a:pt x="22011" y="13780"/>
                  <a:pt x="21987" y="13791"/>
                </a:cubicBezTo>
                <a:cubicBezTo>
                  <a:pt x="21948" y="13810"/>
                  <a:pt x="21904" y="13863"/>
                  <a:pt x="21868" y="13891"/>
                </a:cubicBezTo>
                <a:cubicBezTo>
                  <a:pt x="21808" y="13937"/>
                  <a:pt x="21742" y="13995"/>
                  <a:pt x="21689" y="14049"/>
                </a:cubicBezTo>
                <a:cubicBezTo>
                  <a:pt x="21663" y="14076"/>
                  <a:pt x="21647" y="14110"/>
                  <a:pt x="21630" y="14129"/>
                </a:cubicBezTo>
                <a:cubicBezTo>
                  <a:pt x="21692" y="14103"/>
                  <a:pt x="21739" y="14112"/>
                  <a:pt x="21808" y="14069"/>
                </a:cubicBezTo>
                <a:cubicBezTo>
                  <a:pt x="21898" y="14013"/>
                  <a:pt x="21981" y="13936"/>
                  <a:pt x="22066" y="13871"/>
                </a:cubicBezTo>
                <a:cubicBezTo>
                  <a:pt x="22159" y="13800"/>
                  <a:pt x="22281" y="13736"/>
                  <a:pt x="22364" y="13652"/>
                </a:cubicBezTo>
                <a:cubicBezTo>
                  <a:pt x="22404" y="13612"/>
                  <a:pt x="22428" y="13524"/>
                  <a:pt x="22463" y="13494"/>
                </a:cubicBezTo>
                <a:cubicBezTo>
                  <a:pt x="22468" y="13490"/>
                  <a:pt x="22518" y="13434"/>
                  <a:pt x="22483" y="13494"/>
                </a:cubicBezTo>
                <a:cubicBezTo>
                  <a:pt x="22443" y="13563"/>
                  <a:pt x="22359" y="13612"/>
                  <a:pt x="22324" y="13672"/>
                </a:cubicBezTo>
                <a:cubicBezTo>
                  <a:pt x="22311" y="13695"/>
                  <a:pt x="22205" y="13870"/>
                  <a:pt x="22205" y="13871"/>
                </a:cubicBezTo>
                <a:cubicBezTo>
                  <a:pt x="22208" y="13914"/>
                  <a:pt x="22161" y="13910"/>
                  <a:pt x="22205" y="13930"/>
                </a:cubicBezTo>
                <a:cubicBezTo>
                  <a:pt x="22221" y="13937"/>
                  <a:pt x="22329" y="13860"/>
                  <a:pt x="22344" y="13851"/>
                </a:cubicBezTo>
                <a:cubicBezTo>
                  <a:pt x="22423" y="13802"/>
                  <a:pt x="22478" y="13727"/>
                  <a:pt x="22542" y="13672"/>
                </a:cubicBezTo>
                <a:cubicBezTo>
                  <a:pt x="22552" y="13663"/>
                  <a:pt x="22654" y="13568"/>
                  <a:pt x="22662" y="13573"/>
                </a:cubicBezTo>
                <a:cubicBezTo>
                  <a:pt x="22687" y="13588"/>
                  <a:pt x="22659" y="13589"/>
                  <a:pt x="22642" y="13613"/>
                </a:cubicBezTo>
                <a:cubicBezTo>
                  <a:pt x="22607" y="13661"/>
                  <a:pt x="22558" y="13687"/>
                  <a:pt x="22523" y="13732"/>
                </a:cubicBezTo>
                <a:cubicBezTo>
                  <a:pt x="22520" y="13736"/>
                  <a:pt x="22386" y="13928"/>
                  <a:pt x="22404" y="13930"/>
                </a:cubicBezTo>
                <a:cubicBezTo>
                  <a:pt x="22414" y="13931"/>
                  <a:pt x="22392" y="13914"/>
                  <a:pt x="22443" y="13891"/>
                </a:cubicBezTo>
                <a:cubicBezTo>
                  <a:pt x="22682" y="13780"/>
                  <a:pt x="22893" y="13555"/>
                  <a:pt x="23098" y="13395"/>
                </a:cubicBezTo>
                <a:cubicBezTo>
                  <a:pt x="23091" y="13401"/>
                  <a:pt x="23085" y="13408"/>
                  <a:pt x="23078" y="13414"/>
                </a:cubicBezTo>
                <a:cubicBezTo>
                  <a:pt x="23032" y="13456"/>
                  <a:pt x="23009" y="13492"/>
                  <a:pt x="22959" y="13533"/>
                </a:cubicBezTo>
                <a:cubicBezTo>
                  <a:pt x="22875" y="13601"/>
                  <a:pt x="22756" y="13638"/>
                  <a:pt x="22681" y="13712"/>
                </a:cubicBezTo>
                <a:cubicBezTo>
                  <a:pt x="22646" y="13746"/>
                  <a:pt x="22556" y="13858"/>
                  <a:pt x="22542" y="13910"/>
                </a:cubicBezTo>
                <a:cubicBezTo>
                  <a:pt x="22533" y="13943"/>
                  <a:pt x="22501" y="13943"/>
                  <a:pt x="22542" y="13930"/>
                </a:cubicBezTo>
                <a:cubicBezTo>
                  <a:pt x="22611" y="13908"/>
                  <a:pt x="22603" y="13880"/>
                  <a:pt x="22662" y="13831"/>
                </a:cubicBezTo>
                <a:cubicBezTo>
                  <a:pt x="22753" y="13756"/>
                  <a:pt x="22871" y="13653"/>
                  <a:pt x="22939" y="13553"/>
                </a:cubicBezTo>
                <a:cubicBezTo>
                  <a:pt x="22956" y="13528"/>
                  <a:pt x="23046" y="13416"/>
                  <a:pt x="22979" y="13454"/>
                </a:cubicBezTo>
                <a:cubicBezTo>
                  <a:pt x="22922" y="13487"/>
                  <a:pt x="22886" y="13552"/>
                  <a:pt x="22840" y="13593"/>
                </a:cubicBezTo>
                <a:cubicBezTo>
                  <a:pt x="22745" y="13704"/>
                  <a:pt x="22653" y="13818"/>
                  <a:pt x="22562" y="13930"/>
                </a:cubicBezTo>
                <a:cubicBezTo>
                  <a:pt x="22609" y="13908"/>
                  <a:pt x="22577" y="13935"/>
                  <a:pt x="22622" y="13910"/>
                </a:cubicBezTo>
                <a:cubicBezTo>
                  <a:pt x="22734" y="13846"/>
                  <a:pt x="22837" y="13770"/>
                  <a:pt x="22939" y="13692"/>
                </a:cubicBezTo>
                <a:cubicBezTo>
                  <a:pt x="22985" y="13656"/>
                  <a:pt x="23252" y="13391"/>
                  <a:pt x="23297" y="13395"/>
                </a:cubicBezTo>
                <a:cubicBezTo>
                  <a:pt x="23321" y="13397"/>
                  <a:pt x="23329" y="13384"/>
                  <a:pt x="23297" y="13434"/>
                </a:cubicBezTo>
                <a:cubicBezTo>
                  <a:pt x="23250" y="13508"/>
                  <a:pt x="23172" y="13558"/>
                  <a:pt x="23118" y="13633"/>
                </a:cubicBezTo>
                <a:cubicBezTo>
                  <a:pt x="23039" y="13741"/>
                  <a:pt x="22960" y="13843"/>
                  <a:pt x="22880" y="13950"/>
                </a:cubicBezTo>
                <a:cubicBezTo>
                  <a:pt x="22856" y="13982"/>
                  <a:pt x="22754" y="14088"/>
                  <a:pt x="22800" y="14069"/>
                </a:cubicBezTo>
                <a:cubicBezTo>
                  <a:pt x="22867" y="14042"/>
                  <a:pt x="22924" y="13955"/>
                  <a:pt x="22979" y="13910"/>
                </a:cubicBezTo>
                <a:cubicBezTo>
                  <a:pt x="23051" y="13850"/>
                  <a:pt x="23132" y="13800"/>
                  <a:pt x="23197" y="13732"/>
                </a:cubicBezTo>
                <a:cubicBezTo>
                  <a:pt x="23207" y="13721"/>
                  <a:pt x="23246" y="13643"/>
                  <a:pt x="23217" y="13672"/>
                </a:cubicBezTo>
                <a:cubicBezTo>
                  <a:pt x="23186" y="13702"/>
                  <a:pt x="23132" y="13774"/>
                  <a:pt x="23098" y="13811"/>
                </a:cubicBezTo>
                <a:cubicBezTo>
                  <a:pt x="22982" y="13937"/>
                  <a:pt x="22868" y="14053"/>
                  <a:pt x="22741" y="14168"/>
                </a:cubicBezTo>
                <a:cubicBezTo>
                  <a:pt x="22683" y="14221"/>
                  <a:pt x="22615" y="14266"/>
                  <a:pt x="22721" y="14188"/>
                </a:cubicBezTo>
                <a:cubicBezTo>
                  <a:pt x="22812" y="14121"/>
                  <a:pt x="22910" y="14073"/>
                  <a:pt x="22999" y="14010"/>
                </a:cubicBezTo>
                <a:cubicBezTo>
                  <a:pt x="23092" y="13944"/>
                  <a:pt x="23208" y="13784"/>
                  <a:pt x="23316" y="13752"/>
                </a:cubicBezTo>
                <a:cubicBezTo>
                  <a:pt x="23405" y="13726"/>
                  <a:pt x="23334" y="13753"/>
                  <a:pt x="23316" y="13791"/>
                </a:cubicBezTo>
                <a:cubicBezTo>
                  <a:pt x="23279" y="13866"/>
                  <a:pt x="23189" y="13961"/>
                  <a:pt x="23138" y="14030"/>
                </a:cubicBezTo>
                <a:cubicBezTo>
                  <a:pt x="23083" y="14105"/>
                  <a:pt x="22971" y="14188"/>
                  <a:pt x="22939" y="14268"/>
                </a:cubicBezTo>
                <a:cubicBezTo>
                  <a:pt x="22935" y="14277"/>
                  <a:pt x="22914" y="14348"/>
                  <a:pt x="22959" y="14307"/>
                </a:cubicBezTo>
                <a:cubicBezTo>
                  <a:pt x="23078" y="14198"/>
                  <a:pt x="23181" y="14028"/>
                  <a:pt x="23297" y="13910"/>
                </a:cubicBezTo>
                <a:cubicBezTo>
                  <a:pt x="23374" y="13832"/>
                  <a:pt x="23450" y="13753"/>
                  <a:pt x="23555" y="13712"/>
                </a:cubicBezTo>
                <a:cubicBezTo>
                  <a:pt x="23571" y="13705"/>
                  <a:pt x="23597" y="13658"/>
                  <a:pt x="23574" y="13752"/>
                </a:cubicBezTo>
                <a:cubicBezTo>
                  <a:pt x="23557" y="13822"/>
                  <a:pt x="23422" y="13973"/>
                  <a:pt x="23376" y="14049"/>
                </a:cubicBezTo>
                <a:cubicBezTo>
                  <a:pt x="23337" y="14114"/>
                  <a:pt x="23186" y="14253"/>
                  <a:pt x="23257" y="14228"/>
                </a:cubicBezTo>
                <a:cubicBezTo>
                  <a:pt x="23295" y="14215"/>
                  <a:pt x="23333" y="14155"/>
                  <a:pt x="23356" y="14129"/>
                </a:cubicBezTo>
                <a:cubicBezTo>
                  <a:pt x="23427" y="14050"/>
                  <a:pt x="23479" y="13940"/>
                  <a:pt x="23555" y="13871"/>
                </a:cubicBezTo>
                <a:cubicBezTo>
                  <a:pt x="23624" y="13808"/>
                  <a:pt x="23753" y="13639"/>
                  <a:pt x="23753" y="13732"/>
                </a:cubicBezTo>
                <a:cubicBezTo>
                  <a:pt x="23753" y="13796"/>
                  <a:pt x="23683" y="13825"/>
                  <a:pt x="23654" y="13871"/>
                </a:cubicBezTo>
                <a:cubicBezTo>
                  <a:pt x="23591" y="13970"/>
                  <a:pt x="23488" y="14061"/>
                  <a:pt x="23435" y="14168"/>
                </a:cubicBezTo>
                <a:cubicBezTo>
                  <a:pt x="23394" y="14249"/>
                  <a:pt x="23429" y="14174"/>
                  <a:pt x="23455" y="14149"/>
                </a:cubicBezTo>
                <a:cubicBezTo>
                  <a:pt x="23543" y="14065"/>
                  <a:pt x="23635" y="13955"/>
                  <a:pt x="23693" y="13851"/>
                </a:cubicBezTo>
                <a:cubicBezTo>
                  <a:pt x="23739" y="13769"/>
                  <a:pt x="23743" y="13743"/>
                  <a:pt x="23773" y="13652"/>
                </a:cubicBezTo>
                <a:cubicBezTo>
                  <a:pt x="23788" y="13607"/>
                  <a:pt x="23804" y="13597"/>
                  <a:pt x="23812" y="13553"/>
                </a:cubicBezTo>
                <a:cubicBezTo>
                  <a:pt x="23839" y="13398"/>
                  <a:pt x="23787" y="13245"/>
                  <a:pt x="23773" y="13097"/>
                </a:cubicBezTo>
                <a:cubicBezTo>
                  <a:pt x="23773" y="13084"/>
                  <a:pt x="23773" y="13070"/>
                  <a:pt x="23773" y="13057"/>
                </a:cubicBezTo>
                <a:cubicBezTo>
                  <a:pt x="23749" y="13038"/>
                  <a:pt x="23806" y="12950"/>
                  <a:pt x="23753" y="12958"/>
                </a:cubicBezTo>
                <a:cubicBezTo>
                  <a:pt x="23720" y="12963"/>
                  <a:pt x="23704" y="12970"/>
                  <a:pt x="23674" y="12978"/>
                </a:cubicBezTo>
                <a:cubicBezTo>
                  <a:pt x="23635" y="12988"/>
                  <a:pt x="23624" y="12995"/>
                  <a:pt x="23594" y="13017"/>
                </a:cubicBezTo>
                <a:cubicBezTo>
                  <a:pt x="23527" y="13067"/>
                  <a:pt x="23477" y="13151"/>
                  <a:pt x="23435" y="13216"/>
                </a:cubicBezTo>
                <a:cubicBezTo>
                  <a:pt x="23420" y="13239"/>
                  <a:pt x="23408" y="13259"/>
                  <a:pt x="23396" y="13275"/>
                </a:cubicBezTo>
                <a:cubicBezTo>
                  <a:pt x="23380" y="13296"/>
                  <a:pt x="23382" y="13327"/>
                  <a:pt x="23356" y="13355"/>
                </a:cubicBezTo>
                <a:cubicBezTo>
                  <a:pt x="23341" y="13372"/>
                  <a:pt x="23298" y="13412"/>
                  <a:pt x="23277" y="13434"/>
                </a:cubicBezTo>
                <a:cubicBezTo>
                  <a:pt x="23237" y="13477"/>
                  <a:pt x="23224" y="13444"/>
                  <a:pt x="23197" y="13494"/>
                </a:cubicBezTo>
                <a:cubicBezTo>
                  <a:pt x="23184" y="13519"/>
                  <a:pt x="23161" y="13532"/>
                  <a:pt x="23158" y="13553"/>
                </a:cubicBezTo>
                <a:cubicBezTo>
                  <a:pt x="23150" y="13604"/>
                  <a:pt x="23197" y="13666"/>
                  <a:pt x="23197" y="13672"/>
                </a:cubicBezTo>
                <a:cubicBezTo>
                  <a:pt x="23230" y="13674"/>
                  <a:pt x="23244" y="13695"/>
                  <a:pt x="23277" y="13692"/>
                </a:cubicBezTo>
                <a:cubicBezTo>
                  <a:pt x="23357" y="13686"/>
                  <a:pt x="23421" y="13685"/>
                  <a:pt x="23495" y="13672"/>
                </a:cubicBezTo>
                <a:cubicBezTo>
                  <a:pt x="23546" y="13663"/>
                  <a:pt x="23589" y="13648"/>
                  <a:pt x="23634" y="13633"/>
                </a:cubicBezTo>
                <a:cubicBezTo>
                  <a:pt x="23692" y="13613"/>
                  <a:pt x="23694" y="13610"/>
                  <a:pt x="23753" y="13573"/>
                </a:cubicBezTo>
                <a:cubicBezTo>
                  <a:pt x="23781" y="13555"/>
                  <a:pt x="23820" y="13535"/>
                  <a:pt x="23852" y="13514"/>
                </a:cubicBezTo>
                <a:cubicBezTo>
                  <a:pt x="23866" y="13505"/>
                  <a:pt x="23915" y="13472"/>
                  <a:pt x="23932" y="13454"/>
                </a:cubicBezTo>
                <a:cubicBezTo>
                  <a:pt x="23957" y="13428"/>
                  <a:pt x="23954" y="13434"/>
                  <a:pt x="23971" y="13395"/>
                </a:cubicBezTo>
                <a:cubicBezTo>
                  <a:pt x="23984" y="13366"/>
                  <a:pt x="23988" y="13376"/>
                  <a:pt x="23991" y="13335"/>
                </a:cubicBezTo>
                <a:cubicBezTo>
                  <a:pt x="23994" y="13287"/>
                  <a:pt x="23980" y="13285"/>
                  <a:pt x="23971" y="13256"/>
                </a:cubicBezTo>
                <a:cubicBezTo>
                  <a:pt x="23962" y="13228"/>
                  <a:pt x="23937" y="13207"/>
                  <a:pt x="23932" y="13196"/>
                </a:cubicBezTo>
                <a:cubicBezTo>
                  <a:pt x="23920" y="13171"/>
                  <a:pt x="23904" y="13173"/>
                  <a:pt x="23892" y="13156"/>
                </a:cubicBezTo>
                <a:cubicBezTo>
                  <a:pt x="23872" y="13128"/>
                  <a:pt x="23880" y="13097"/>
                  <a:pt x="23852" y="13077"/>
                </a:cubicBezTo>
                <a:cubicBezTo>
                  <a:pt x="23819" y="13053"/>
                  <a:pt x="23774" y="13037"/>
                  <a:pt x="23733" y="13017"/>
                </a:cubicBezTo>
                <a:cubicBezTo>
                  <a:pt x="23708" y="13005"/>
                  <a:pt x="23680" y="13008"/>
                  <a:pt x="23654" y="12998"/>
                </a:cubicBezTo>
                <a:cubicBezTo>
                  <a:pt x="23626" y="12988"/>
                  <a:pt x="23603" y="12987"/>
                  <a:pt x="23574" y="12978"/>
                </a:cubicBezTo>
                <a:cubicBezTo>
                  <a:pt x="23549" y="12970"/>
                  <a:pt x="23540" y="12965"/>
                  <a:pt x="23515" y="12958"/>
                </a:cubicBezTo>
                <a:cubicBezTo>
                  <a:pt x="23473" y="12946"/>
                  <a:pt x="23439" y="12944"/>
                  <a:pt x="23396" y="12938"/>
                </a:cubicBezTo>
                <a:cubicBezTo>
                  <a:pt x="23317" y="12927"/>
                  <a:pt x="23228" y="12919"/>
                  <a:pt x="23138" y="12918"/>
                </a:cubicBezTo>
                <a:cubicBezTo>
                  <a:pt x="22863" y="12914"/>
                  <a:pt x="22575" y="12905"/>
                  <a:pt x="22324" y="12958"/>
                </a:cubicBezTo>
                <a:cubicBezTo>
                  <a:pt x="22281" y="12967"/>
                  <a:pt x="22228" y="12967"/>
                  <a:pt x="22185" y="12978"/>
                </a:cubicBezTo>
                <a:cubicBezTo>
                  <a:pt x="22141" y="12989"/>
                  <a:pt x="22108" y="13006"/>
                  <a:pt x="22066" y="13017"/>
                </a:cubicBezTo>
                <a:cubicBezTo>
                  <a:pt x="22025" y="13028"/>
                  <a:pt x="22010" y="13040"/>
                  <a:pt x="21967" y="13057"/>
                </a:cubicBezTo>
                <a:cubicBezTo>
                  <a:pt x="21923" y="13074"/>
                  <a:pt x="21929" y="13085"/>
                  <a:pt x="21888" y="13117"/>
                </a:cubicBezTo>
                <a:cubicBezTo>
                  <a:pt x="21833" y="13159"/>
                  <a:pt x="21883" y="13133"/>
                  <a:pt x="21828" y="13196"/>
                </a:cubicBezTo>
                <a:cubicBezTo>
                  <a:pt x="21767" y="13266"/>
                  <a:pt x="21665" y="13360"/>
                  <a:pt x="21630" y="13454"/>
                </a:cubicBezTo>
                <a:cubicBezTo>
                  <a:pt x="21615" y="13495"/>
                  <a:pt x="21586" y="13652"/>
                  <a:pt x="21590" y="13692"/>
                </a:cubicBezTo>
                <a:cubicBezTo>
                  <a:pt x="21595" y="13743"/>
                  <a:pt x="21593" y="13760"/>
                  <a:pt x="21610" y="13791"/>
                </a:cubicBezTo>
                <a:cubicBezTo>
                  <a:pt x="21627" y="13822"/>
                  <a:pt x="21664" y="13833"/>
                  <a:pt x="21689" y="13851"/>
                </a:cubicBezTo>
                <a:cubicBezTo>
                  <a:pt x="21705" y="13863"/>
                  <a:pt x="21734" y="13865"/>
                  <a:pt x="21749" y="13871"/>
                </a:cubicBezTo>
                <a:cubicBezTo>
                  <a:pt x="21782" y="13884"/>
                  <a:pt x="21811" y="13881"/>
                  <a:pt x="21848" y="13891"/>
                </a:cubicBezTo>
                <a:cubicBezTo>
                  <a:pt x="21861" y="13891"/>
                  <a:pt x="21875" y="13891"/>
                  <a:pt x="21888" y="13891"/>
                </a:cubicBezTo>
                <a:cubicBezTo>
                  <a:pt x="21955" y="13878"/>
                  <a:pt x="22020" y="13889"/>
                  <a:pt x="22086" y="13871"/>
                </a:cubicBezTo>
                <a:cubicBezTo>
                  <a:pt x="22116" y="13863"/>
                  <a:pt x="22259" y="13827"/>
                  <a:pt x="22285" y="13811"/>
                </a:cubicBezTo>
                <a:cubicBezTo>
                  <a:pt x="22308" y="13797"/>
                  <a:pt x="22389" y="13754"/>
                  <a:pt x="22404" y="13732"/>
                </a:cubicBezTo>
                <a:cubicBezTo>
                  <a:pt x="22420" y="13707"/>
                  <a:pt x="22414" y="13603"/>
                  <a:pt x="22423" y="13573"/>
                </a:cubicBezTo>
                <a:cubicBezTo>
                  <a:pt x="22441" y="13511"/>
                  <a:pt x="22459" y="13439"/>
                  <a:pt x="22463" y="13375"/>
                </a:cubicBezTo>
                <a:cubicBezTo>
                  <a:pt x="22467" y="13313"/>
                  <a:pt x="22467" y="13248"/>
                  <a:pt x="22443" y="13216"/>
                </a:cubicBezTo>
                <a:cubicBezTo>
                  <a:pt x="22413" y="13176"/>
                  <a:pt x="22455" y="13199"/>
                  <a:pt x="22404" y="13176"/>
                </a:cubicBezTo>
                <a:cubicBezTo>
                  <a:pt x="22351" y="13152"/>
                  <a:pt x="22256" y="13188"/>
                  <a:pt x="22205" y="13196"/>
                </a:cubicBezTo>
                <a:cubicBezTo>
                  <a:pt x="22161" y="13203"/>
                  <a:pt x="22144" y="13205"/>
                  <a:pt x="22106" y="13216"/>
                </a:cubicBezTo>
                <a:cubicBezTo>
                  <a:pt x="22066" y="13227"/>
                  <a:pt x="22065" y="13248"/>
                  <a:pt x="22027" y="13256"/>
                </a:cubicBezTo>
                <a:cubicBezTo>
                  <a:pt x="22021" y="13257"/>
                  <a:pt x="21986" y="13291"/>
                  <a:pt x="21947" y="13275"/>
                </a:cubicBezTo>
                <a:cubicBezTo>
                  <a:pt x="21921" y="13264"/>
                  <a:pt x="21924" y="13292"/>
                  <a:pt x="21967" y="13256"/>
                </a:cubicBezTo>
                <a:cubicBezTo>
                  <a:pt x="22000" y="13229"/>
                  <a:pt x="22057" y="13218"/>
                  <a:pt x="22086" y="13196"/>
                </a:cubicBezTo>
                <a:cubicBezTo>
                  <a:pt x="22105" y="13182"/>
                  <a:pt x="22141" y="13125"/>
                  <a:pt x="22165" y="13117"/>
                </a:cubicBezTo>
                <a:cubicBezTo>
                  <a:pt x="22205" y="13104"/>
                  <a:pt x="22240" y="13107"/>
                  <a:pt x="22285" y="13097"/>
                </a:cubicBezTo>
                <a:cubicBezTo>
                  <a:pt x="22326" y="13088"/>
                  <a:pt x="22360" y="13082"/>
                  <a:pt x="22384" y="13077"/>
                </a:cubicBezTo>
                <a:cubicBezTo>
                  <a:pt x="22397" y="13077"/>
                  <a:pt x="22410" y="13077"/>
                  <a:pt x="22423" y="13077"/>
                </a:cubicBezTo>
                <a:cubicBezTo>
                  <a:pt x="22495" y="13070"/>
                  <a:pt x="22555" y="13060"/>
                  <a:pt x="22622" y="13057"/>
                </a:cubicBezTo>
                <a:cubicBezTo>
                  <a:pt x="22719" y="13053"/>
                  <a:pt x="22807" y="13067"/>
                  <a:pt x="22900" y="13077"/>
                </a:cubicBezTo>
                <a:cubicBezTo>
                  <a:pt x="22953" y="13083"/>
                  <a:pt x="22987" y="13088"/>
                  <a:pt x="23019" y="13097"/>
                </a:cubicBezTo>
                <a:cubicBezTo>
                  <a:pt x="23063" y="13109"/>
                  <a:pt x="23079" y="13119"/>
                  <a:pt x="23118" y="13137"/>
                </a:cubicBezTo>
                <a:cubicBezTo>
                  <a:pt x="23163" y="13158"/>
                  <a:pt x="23197" y="13190"/>
                  <a:pt x="23237" y="13216"/>
                </a:cubicBezTo>
                <a:cubicBezTo>
                  <a:pt x="23281" y="13245"/>
                  <a:pt x="23298" y="13182"/>
                  <a:pt x="23316" y="13216"/>
                </a:cubicBezTo>
                <a:cubicBezTo>
                  <a:pt x="23373" y="13324"/>
                  <a:pt x="23309" y="13595"/>
                  <a:pt x="23277" y="13692"/>
                </a:cubicBezTo>
                <a:cubicBezTo>
                  <a:pt x="23271" y="13710"/>
                  <a:pt x="23234" y="13824"/>
                  <a:pt x="23217" y="13831"/>
                </a:cubicBezTo>
                <a:cubicBezTo>
                  <a:pt x="23166" y="13851"/>
                  <a:pt x="23158" y="13868"/>
                  <a:pt x="23158" y="13811"/>
                </a:cubicBezTo>
                <a:cubicBezTo>
                  <a:pt x="23158" y="13764"/>
                  <a:pt x="23212" y="13653"/>
                  <a:pt x="23237" y="13613"/>
                </a:cubicBezTo>
                <a:cubicBezTo>
                  <a:pt x="23270" y="13560"/>
                  <a:pt x="23347" y="13471"/>
                  <a:pt x="23396" y="13434"/>
                </a:cubicBezTo>
                <a:cubicBezTo>
                  <a:pt x="23433" y="13406"/>
                  <a:pt x="23496" y="13388"/>
                  <a:pt x="23535" y="13375"/>
                </a:cubicBezTo>
                <a:cubicBezTo>
                  <a:pt x="23579" y="13360"/>
                  <a:pt x="23609" y="13346"/>
                  <a:pt x="23654" y="13355"/>
                </a:cubicBezTo>
                <a:cubicBezTo>
                  <a:pt x="23686" y="13362"/>
                  <a:pt x="23707" y="13326"/>
                  <a:pt x="23693" y="13355"/>
                </a:cubicBezTo>
                <a:cubicBezTo>
                  <a:pt x="23670" y="13403"/>
                  <a:pt x="23629" y="13407"/>
                  <a:pt x="23594" y="13454"/>
                </a:cubicBezTo>
                <a:cubicBezTo>
                  <a:pt x="23508" y="13571"/>
                  <a:pt x="23414" y="13631"/>
                  <a:pt x="23297" y="13712"/>
                </a:cubicBezTo>
                <a:cubicBezTo>
                  <a:pt x="23118" y="13941"/>
                  <a:pt x="22923" y="14169"/>
                  <a:pt x="22761" y="14407"/>
                </a:cubicBezTo>
                <a:cubicBezTo>
                  <a:pt x="22724" y="14461"/>
                  <a:pt x="22663" y="14549"/>
                  <a:pt x="22642" y="14605"/>
                </a:cubicBezTo>
                <a:cubicBezTo>
                  <a:pt x="22639" y="14612"/>
                  <a:pt x="22610" y="14716"/>
                  <a:pt x="22622" y="14724"/>
                </a:cubicBezTo>
                <a:cubicBezTo>
                  <a:pt x="22650" y="14742"/>
                  <a:pt x="22670" y="14716"/>
                  <a:pt x="22701" y="14704"/>
                </a:cubicBezTo>
                <a:cubicBezTo>
                  <a:pt x="22729" y="14693"/>
                  <a:pt x="22833" y="14590"/>
                  <a:pt x="22860" y="14565"/>
                </a:cubicBezTo>
                <a:cubicBezTo>
                  <a:pt x="22927" y="14503"/>
                  <a:pt x="22935" y="14312"/>
                  <a:pt x="23019" y="14347"/>
                </a:cubicBezTo>
                <a:cubicBezTo>
                  <a:pt x="23043" y="14357"/>
                  <a:pt x="23038" y="14347"/>
                  <a:pt x="23039" y="14426"/>
                </a:cubicBezTo>
                <a:cubicBezTo>
                  <a:pt x="23040" y="14494"/>
                  <a:pt x="22998" y="14555"/>
                  <a:pt x="22999" y="14625"/>
                </a:cubicBezTo>
                <a:cubicBezTo>
                  <a:pt x="23000" y="14662"/>
                  <a:pt x="22982" y="14758"/>
                  <a:pt x="23019" y="14764"/>
                </a:cubicBezTo>
                <a:cubicBezTo>
                  <a:pt x="23049" y="14768"/>
                  <a:pt x="23108" y="14717"/>
                  <a:pt x="23138" y="14704"/>
                </a:cubicBezTo>
                <a:cubicBezTo>
                  <a:pt x="23191" y="14681"/>
                  <a:pt x="23242" y="14572"/>
                  <a:pt x="23316" y="14585"/>
                </a:cubicBezTo>
                <a:cubicBezTo>
                  <a:pt x="23420" y="14604"/>
                  <a:pt x="23319" y="14547"/>
                  <a:pt x="23376" y="14605"/>
                </a:cubicBezTo>
                <a:cubicBezTo>
                  <a:pt x="23435" y="14666"/>
                  <a:pt x="23297" y="14874"/>
                  <a:pt x="23356" y="14922"/>
                </a:cubicBezTo>
                <a:cubicBezTo>
                  <a:pt x="23363" y="14927"/>
                  <a:pt x="23436" y="14911"/>
                  <a:pt x="23475" y="14883"/>
                </a:cubicBezTo>
                <a:cubicBezTo>
                  <a:pt x="23535" y="14841"/>
                  <a:pt x="23573" y="14734"/>
                  <a:pt x="23634" y="14704"/>
                </a:cubicBezTo>
                <a:cubicBezTo>
                  <a:pt x="23668" y="14687"/>
                  <a:pt x="23670" y="14629"/>
                  <a:pt x="23674" y="14665"/>
                </a:cubicBezTo>
                <a:cubicBezTo>
                  <a:pt x="23682" y="14737"/>
                  <a:pt x="23629" y="14783"/>
                  <a:pt x="23614" y="14843"/>
                </a:cubicBezTo>
                <a:cubicBezTo>
                  <a:pt x="23601" y="14897"/>
                  <a:pt x="23528" y="15029"/>
                  <a:pt x="23535" y="15081"/>
                </a:cubicBezTo>
                <a:cubicBezTo>
                  <a:pt x="23544" y="15148"/>
                  <a:pt x="23515" y="15142"/>
                  <a:pt x="23555" y="15141"/>
                </a:cubicBezTo>
                <a:cubicBezTo>
                  <a:pt x="23625" y="15139"/>
                  <a:pt x="23718" y="14962"/>
                  <a:pt x="23753" y="14922"/>
                </a:cubicBezTo>
                <a:cubicBezTo>
                  <a:pt x="23817" y="14850"/>
                  <a:pt x="23875" y="14787"/>
                  <a:pt x="23951" y="14724"/>
                </a:cubicBezTo>
                <a:cubicBezTo>
                  <a:pt x="24045" y="14647"/>
                  <a:pt x="24148" y="14574"/>
                  <a:pt x="24249" y="14506"/>
                </a:cubicBezTo>
                <a:cubicBezTo>
                  <a:pt x="24315" y="14462"/>
                  <a:pt x="24378" y="14402"/>
                  <a:pt x="24447" y="14367"/>
                </a:cubicBezTo>
                <a:cubicBezTo>
                  <a:pt x="24489" y="14346"/>
                  <a:pt x="24486" y="14369"/>
                  <a:pt x="24527" y="14347"/>
                </a:cubicBezTo>
                <a:cubicBezTo>
                  <a:pt x="24498" y="14416"/>
                  <a:pt x="24478" y="14481"/>
                  <a:pt x="24447" y="14545"/>
                </a:cubicBezTo>
                <a:cubicBezTo>
                  <a:pt x="24391" y="14658"/>
                  <a:pt x="24310" y="14757"/>
                  <a:pt x="24269" y="14863"/>
                </a:cubicBezTo>
                <a:cubicBezTo>
                  <a:pt x="24240" y="14937"/>
                  <a:pt x="24244" y="15007"/>
                  <a:pt x="24209" y="15081"/>
                </a:cubicBezTo>
                <a:cubicBezTo>
                  <a:pt x="24193" y="15115"/>
                  <a:pt x="24160" y="15162"/>
                  <a:pt x="24150" y="15180"/>
                </a:cubicBezTo>
                <a:cubicBezTo>
                  <a:pt x="24128" y="15219"/>
                  <a:pt x="24029" y="15277"/>
                  <a:pt x="24070" y="15260"/>
                </a:cubicBezTo>
                <a:cubicBezTo>
                  <a:pt x="24115" y="15242"/>
                  <a:pt x="24145" y="15195"/>
                  <a:pt x="24190" y="15161"/>
                </a:cubicBezTo>
                <a:cubicBezTo>
                  <a:pt x="24263" y="15104"/>
                  <a:pt x="24322" y="15041"/>
                  <a:pt x="24388" y="14982"/>
                </a:cubicBezTo>
                <a:cubicBezTo>
                  <a:pt x="24432" y="14943"/>
                  <a:pt x="24466" y="14821"/>
                  <a:pt x="24507" y="14863"/>
                </a:cubicBezTo>
                <a:cubicBezTo>
                  <a:pt x="24519" y="14876"/>
                  <a:pt x="24491" y="14974"/>
                  <a:pt x="24487" y="14982"/>
                </a:cubicBezTo>
                <a:cubicBezTo>
                  <a:pt x="24450" y="15055"/>
                  <a:pt x="24381" y="15119"/>
                  <a:pt x="24328" y="15180"/>
                </a:cubicBezTo>
                <a:cubicBezTo>
                  <a:pt x="24288" y="15226"/>
                  <a:pt x="24261" y="15265"/>
                  <a:pt x="24209" y="15300"/>
                </a:cubicBezTo>
                <a:cubicBezTo>
                  <a:pt x="24158" y="15334"/>
                  <a:pt x="24116" y="15365"/>
                  <a:pt x="24051" y="15359"/>
                </a:cubicBezTo>
                <a:cubicBezTo>
                  <a:pt x="24036" y="15358"/>
                  <a:pt x="24039" y="15372"/>
                  <a:pt x="23991" y="15339"/>
                </a:cubicBezTo>
                <a:cubicBezTo>
                  <a:pt x="23969" y="15324"/>
                  <a:pt x="23937" y="15274"/>
                  <a:pt x="23912" y="15240"/>
                </a:cubicBezTo>
                <a:cubicBezTo>
                  <a:pt x="23863" y="15174"/>
                  <a:pt x="23840" y="15077"/>
                  <a:pt x="23812" y="15002"/>
                </a:cubicBezTo>
                <a:cubicBezTo>
                  <a:pt x="23760" y="14865"/>
                  <a:pt x="23746" y="14839"/>
                  <a:pt x="23793" y="14704"/>
                </a:cubicBezTo>
                <a:cubicBezTo>
                  <a:pt x="23820" y="14627"/>
                  <a:pt x="23840" y="14604"/>
                  <a:pt x="23892" y="14545"/>
                </a:cubicBezTo>
                <a:cubicBezTo>
                  <a:pt x="23931" y="14501"/>
                  <a:pt x="24039" y="14414"/>
                  <a:pt x="24110" y="14446"/>
                </a:cubicBezTo>
                <a:cubicBezTo>
                  <a:pt x="24138" y="14459"/>
                  <a:pt x="24132" y="14493"/>
                  <a:pt x="24150" y="14526"/>
                </a:cubicBezTo>
                <a:cubicBezTo>
                  <a:pt x="24188" y="14596"/>
                  <a:pt x="24168" y="14686"/>
                  <a:pt x="24170" y="14764"/>
                </a:cubicBezTo>
                <a:cubicBezTo>
                  <a:pt x="24172" y="14848"/>
                  <a:pt x="24157" y="14893"/>
                  <a:pt x="24130" y="14962"/>
                </a:cubicBezTo>
                <a:cubicBezTo>
                  <a:pt x="24100" y="15040"/>
                  <a:pt x="24063" y="15075"/>
                  <a:pt x="24031" y="15141"/>
                </a:cubicBezTo>
                <a:cubicBezTo>
                  <a:pt x="24001" y="15164"/>
                  <a:pt x="23978" y="15228"/>
                  <a:pt x="23951" y="15240"/>
                </a:cubicBezTo>
                <a:cubicBezTo>
                  <a:pt x="23916" y="15255"/>
                  <a:pt x="23867" y="15265"/>
                  <a:pt x="23832" y="15280"/>
                </a:cubicBezTo>
                <a:cubicBezTo>
                  <a:pt x="23783" y="15302"/>
                  <a:pt x="23684" y="15346"/>
                  <a:pt x="23634" y="15359"/>
                </a:cubicBezTo>
                <a:cubicBezTo>
                  <a:pt x="23591" y="15370"/>
                  <a:pt x="23516" y="15381"/>
                  <a:pt x="23475" y="15379"/>
                </a:cubicBezTo>
                <a:cubicBezTo>
                  <a:pt x="23428" y="15377"/>
                  <a:pt x="23371" y="15393"/>
                  <a:pt x="23336" y="15359"/>
                </a:cubicBezTo>
                <a:cubicBezTo>
                  <a:pt x="23296" y="15320"/>
                  <a:pt x="23327" y="15272"/>
                  <a:pt x="23316" y="15220"/>
                </a:cubicBezTo>
                <a:cubicBezTo>
                  <a:pt x="23288" y="15093"/>
                  <a:pt x="23338" y="15021"/>
                  <a:pt x="23416" y="14942"/>
                </a:cubicBezTo>
                <a:cubicBezTo>
                  <a:pt x="23441" y="14916"/>
                  <a:pt x="23563" y="14816"/>
                  <a:pt x="23594" y="14803"/>
                </a:cubicBezTo>
                <a:cubicBezTo>
                  <a:pt x="23674" y="14771"/>
                  <a:pt x="23782" y="14777"/>
                  <a:pt x="23872" y="14744"/>
                </a:cubicBezTo>
                <a:cubicBezTo>
                  <a:pt x="23957" y="14752"/>
                  <a:pt x="24076" y="14727"/>
                  <a:pt x="24130" y="14764"/>
                </a:cubicBezTo>
                <a:cubicBezTo>
                  <a:pt x="24192" y="14805"/>
                  <a:pt x="24189" y="14817"/>
                  <a:pt x="24209" y="14883"/>
                </a:cubicBezTo>
                <a:cubicBezTo>
                  <a:pt x="24239" y="14978"/>
                  <a:pt x="24244" y="15205"/>
                  <a:pt x="24229" y="15300"/>
                </a:cubicBezTo>
                <a:cubicBezTo>
                  <a:pt x="24219" y="15362"/>
                  <a:pt x="24214" y="15407"/>
                  <a:pt x="24170" y="15458"/>
                </a:cubicBezTo>
                <a:cubicBezTo>
                  <a:pt x="24158" y="15472"/>
                  <a:pt x="24042" y="15535"/>
                  <a:pt x="24031" y="15538"/>
                </a:cubicBezTo>
                <a:cubicBezTo>
                  <a:pt x="23971" y="15556"/>
                  <a:pt x="23688" y="15553"/>
                  <a:pt x="23674" y="15538"/>
                </a:cubicBezTo>
                <a:cubicBezTo>
                  <a:pt x="23650" y="15513"/>
                  <a:pt x="23646" y="15332"/>
                  <a:pt x="23654" y="15300"/>
                </a:cubicBezTo>
                <a:cubicBezTo>
                  <a:pt x="23664" y="15259"/>
                  <a:pt x="23692" y="15212"/>
                  <a:pt x="23733" y="15180"/>
                </a:cubicBezTo>
                <a:cubicBezTo>
                  <a:pt x="23767" y="15153"/>
                  <a:pt x="23834" y="15148"/>
                  <a:pt x="23872" y="15141"/>
                </a:cubicBezTo>
                <a:cubicBezTo>
                  <a:pt x="23943" y="15128"/>
                  <a:pt x="24007" y="15159"/>
                  <a:pt x="24070" y="15161"/>
                </a:cubicBezTo>
                <a:cubicBezTo>
                  <a:pt x="24090" y="15198"/>
                  <a:pt x="24145" y="15180"/>
                  <a:pt x="24150" y="15220"/>
                </a:cubicBezTo>
                <a:cubicBezTo>
                  <a:pt x="24162" y="15322"/>
                  <a:pt x="24155" y="15413"/>
                  <a:pt x="24110" y="15498"/>
                </a:cubicBezTo>
                <a:cubicBezTo>
                  <a:pt x="24067" y="15579"/>
                  <a:pt x="24036" y="15604"/>
                  <a:pt x="23951" y="15637"/>
                </a:cubicBezTo>
                <a:cubicBezTo>
                  <a:pt x="23918" y="15650"/>
                  <a:pt x="23871" y="15667"/>
                  <a:pt x="23832" y="15657"/>
                </a:cubicBezTo>
                <a:cubicBezTo>
                  <a:pt x="23726" y="15630"/>
                  <a:pt x="23828" y="15670"/>
                  <a:pt x="23773" y="15597"/>
                </a:cubicBezTo>
                <a:cubicBezTo>
                  <a:pt x="23763" y="15584"/>
                  <a:pt x="23739" y="15537"/>
                  <a:pt x="23753" y="15498"/>
                </a:cubicBezTo>
                <a:cubicBezTo>
                  <a:pt x="23774" y="15442"/>
                  <a:pt x="23792" y="15466"/>
                  <a:pt x="23832" y="15419"/>
                </a:cubicBezTo>
                <a:cubicBezTo>
                  <a:pt x="23895" y="15345"/>
                  <a:pt x="23988" y="15288"/>
                  <a:pt x="24070" y="15240"/>
                </a:cubicBezTo>
                <a:cubicBezTo>
                  <a:pt x="24147" y="15195"/>
                  <a:pt x="24200" y="15174"/>
                  <a:pt x="24289" y="15161"/>
                </a:cubicBezTo>
                <a:cubicBezTo>
                  <a:pt x="24355" y="15151"/>
                  <a:pt x="24531" y="15137"/>
                  <a:pt x="24586" y="15180"/>
                </a:cubicBezTo>
                <a:cubicBezTo>
                  <a:pt x="24659" y="15237"/>
                  <a:pt x="24616" y="15207"/>
                  <a:pt x="24646" y="15280"/>
                </a:cubicBezTo>
                <a:cubicBezTo>
                  <a:pt x="24675" y="15351"/>
                  <a:pt x="24647" y="15482"/>
                  <a:pt x="24606" y="15538"/>
                </a:cubicBezTo>
                <a:cubicBezTo>
                  <a:pt x="24561" y="15599"/>
                  <a:pt x="24558" y="15589"/>
                  <a:pt x="24487" y="15617"/>
                </a:cubicBezTo>
                <a:cubicBezTo>
                  <a:pt x="24444" y="15634"/>
                  <a:pt x="24421" y="15632"/>
                  <a:pt x="24368" y="15637"/>
                </a:cubicBezTo>
                <a:cubicBezTo>
                  <a:pt x="24319" y="15642"/>
                  <a:pt x="24270" y="15643"/>
                  <a:pt x="24249" y="15617"/>
                </a:cubicBezTo>
                <a:cubicBezTo>
                  <a:pt x="24231" y="15594"/>
                  <a:pt x="24235" y="15587"/>
                  <a:pt x="24229" y="15538"/>
                </a:cubicBezTo>
                <a:cubicBezTo>
                  <a:pt x="24219" y="15448"/>
                  <a:pt x="24256" y="15397"/>
                  <a:pt x="24289" y="15319"/>
                </a:cubicBezTo>
                <a:cubicBezTo>
                  <a:pt x="24326" y="15282"/>
                  <a:pt x="24337" y="15273"/>
                  <a:pt x="24348" y="15240"/>
                </a:cubicBezTo>
                <a:cubicBezTo>
                  <a:pt x="24396" y="15194"/>
                  <a:pt x="24442" y="15145"/>
                  <a:pt x="24487" y="15101"/>
                </a:cubicBezTo>
                <a:cubicBezTo>
                  <a:pt x="24524" y="15065"/>
                  <a:pt x="24679" y="14852"/>
                  <a:pt x="24745" y="14883"/>
                </a:cubicBezTo>
                <a:cubicBezTo>
                  <a:pt x="24812" y="14915"/>
                  <a:pt x="24680" y="15127"/>
                  <a:pt x="24666" y="15141"/>
                </a:cubicBezTo>
                <a:cubicBezTo>
                  <a:pt x="24634" y="15173"/>
                  <a:pt x="24483" y="15300"/>
                  <a:pt x="24428" y="15260"/>
                </a:cubicBezTo>
                <a:cubicBezTo>
                  <a:pt x="24297" y="15165"/>
                  <a:pt x="24518" y="14747"/>
                  <a:pt x="24606" y="14684"/>
                </a:cubicBezTo>
                <a:cubicBezTo>
                  <a:pt x="24652" y="14651"/>
                  <a:pt x="24666" y="14588"/>
                  <a:pt x="24705" y="14645"/>
                </a:cubicBezTo>
                <a:cubicBezTo>
                  <a:pt x="24750" y="14710"/>
                  <a:pt x="24661" y="14851"/>
                  <a:pt x="24606" y="14883"/>
                </a:cubicBezTo>
                <a:cubicBezTo>
                  <a:pt x="24512" y="14937"/>
                  <a:pt x="24511" y="14924"/>
                  <a:pt x="24467" y="14883"/>
                </a:cubicBezTo>
                <a:cubicBezTo>
                  <a:pt x="24400" y="14821"/>
                  <a:pt x="24431" y="14731"/>
                  <a:pt x="24428" y="14645"/>
                </a:cubicBezTo>
                <a:cubicBezTo>
                  <a:pt x="24422" y="14465"/>
                  <a:pt x="24400" y="14251"/>
                  <a:pt x="24467" y="14089"/>
                </a:cubicBezTo>
                <a:cubicBezTo>
                  <a:pt x="24476" y="14068"/>
                  <a:pt x="24500" y="13974"/>
                  <a:pt x="24547" y="13990"/>
                </a:cubicBezTo>
                <a:cubicBezTo>
                  <a:pt x="24630" y="14018"/>
                  <a:pt x="24479" y="14330"/>
                  <a:pt x="24467" y="14347"/>
                </a:cubicBezTo>
                <a:cubicBezTo>
                  <a:pt x="24407" y="14429"/>
                  <a:pt x="24311" y="14530"/>
                  <a:pt x="24229" y="14585"/>
                </a:cubicBezTo>
                <a:cubicBezTo>
                  <a:pt x="24132" y="14650"/>
                  <a:pt x="24069" y="14639"/>
                  <a:pt x="23971" y="14684"/>
                </a:cubicBezTo>
                <a:cubicBezTo>
                  <a:pt x="23955" y="14691"/>
                  <a:pt x="23862" y="14691"/>
                  <a:pt x="23852" y="14704"/>
                </a:cubicBezTo>
                <a:cubicBezTo>
                  <a:pt x="23810" y="14758"/>
                  <a:pt x="23902" y="14859"/>
                  <a:pt x="23812" y="14903"/>
                </a:cubicBezTo>
                <a:cubicBezTo>
                  <a:pt x="23718" y="14948"/>
                  <a:pt x="23631" y="14860"/>
                  <a:pt x="23555" y="14843"/>
                </a:cubicBezTo>
                <a:cubicBezTo>
                  <a:pt x="23448" y="14744"/>
                  <a:pt x="23365" y="14659"/>
                  <a:pt x="23277" y="14545"/>
                </a:cubicBezTo>
                <a:cubicBezTo>
                  <a:pt x="23270" y="14532"/>
                  <a:pt x="23264" y="14519"/>
                  <a:pt x="23257" y="14506"/>
                </a:cubicBezTo>
                <a:cubicBezTo>
                  <a:pt x="23280" y="14455"/>
                  <a:pt x="23230" y="14390"/>
                  <a:pt x="23277" y="14347"/>
                </a:cubicBezTo>
                <a:cubicBezTo>
                  <a:pt x="23353" y="14276"/>
                  <a:pt x="23566" y="14183"/>
                  <a:pt x="23674" y="14228"/>
                </a:cubicBezTo>
                <a:cubicBezTo>
                  <a:pt x="23727" y="14250"/>
                  <a:pt x="23789" y="14361"/>
                  <a:pt x="23812" y="14407"/>
                </a:cubicBezTo>
                <a:cubicBezTo>
                  <a:pt x="23852" y="14489"/>
                  <a:pt x="23857" y="14727"/>
                  <a:pt x="23812" y="14803"/>
                </a:cubicBezTo>
                <a:cubicBezTo>
                  <a:pt x="23762" y="14890"/>
                  <a:pt x="23697" y="14885"/>
                  <a:pt x="23614" y="14903"/>
                </a:cubicBezTo>
                <a:cubicBezTo>
                  <a:pt x="23459" y="14937"/>
                  <a:pt x="23235" y="14909"/>
                  <a:pt x="23158" y="14764"/>
                </a:cubicBezTo>
                <a:cubicBezTo>
                  <a:pt x="23122" y="14696"/>
                  <a:pt x="23161" y="14545"/>
                  <a:pt x="23197" y="14506"/>
                </a:cubicBezTo>
                <a:cubicBezTo>
                  <a:pt x="23242" y="14457"/>
                  <a:pt x="23234" y="14463"/>
                  <a:pt x="23316" y="14466"/>
                </a:cubicBezTo>
                <a:cubicBezTo>
                  <a:pt x="23376" y="14468"/>
                  <a:pt x="23513" y="14589"/>
                  <a:pt x="23555" y="14625"/>
                </a:cubicBezTo>
                <a:cubicBezTo>
                  <a:pt x="23651" y="14741"/>
                  <a:pt x="23682" y="14777"/>
                  <a:pt x="23733" y="14863"/>
                </a:cubicBezTo>
                <a:cubicBezTo>
                  <a:pt x="23783" y="14969"/>
                  <a:pt x="23881" y="15058"/>
                  <a:pt x="23872" y="15180"/>
                </a:cubicBezTo>
                <a:cubicBezTo>
                  <a:pt x="23864" y="15289"/>
                  <a:pt x="23870" y="15236"/>
                  <a:pt x="23793" y="15300"/>
                </a:cubicBezTo>
                <a:cubicBezTo>
                  <a:pt x="23720" y="15360"/>
                  <a:pt x="23647" y="15363"/>
                  <a:pt x="23555" y="15379"/>
                </a:cubicBezTo>
                <a:cubicBezTo>
                  <a:pt x="23439" y="15399"/>
                  <a:pt x="23253" y="15435"/>
                  <a:pt x="23138" y="15399"/>
                </a:cubicBezTo>
                <a:cubicBezTo>
                  <a:pt x="23064" y="15376"/>
                  <a:pt x="23015" y="15371"/>
                  <a:pt x="23019" y="15280"/>
                </a:cubicBezTo>
                <a:cubicBezTo>
                  <a:pt x="23023" y="15200"/>
                  <a:pt x="23050" y="15208"/>
                  <a:pt x="23118" y="15180"/>
                </a:cubicBezTo>
                <a:cubicBezTo>
                  <a:pt x="23215" y="15140"/>
                  <a:pt x="23418" y="15214"/>
                  <a:pt x="23495" y="15260"/>
                </a:cubicBezTo>
                <a:cubicBezTo>
                  <a:pt x="23617" y="15334"/>
                  <a:pt x="23721" y="15448"/>
                  <a:pt x="23773" y="15577"/>
                </a:cubicBezTo>
                <a:cubicBezTo>
                  <a:pt x="23815" y="15681"/>
                  <a:pt x="23803" y="15810"/>
                  <a:pt x="23753" y="15895"/>
                </a:cubicBezTo>
                <a:cubicBezTo>
                  <a:pt x="23697" y="15988"/>
                  <a:pt x="23620" y="16015"/>
                  <a:pt x="23535" y="16073"/>
                </a:cubicBezTo>
                <a:cubicBezTo>
                  <a:pt x="23415" y="16155"/>
                  <a:pt x="23317" y="16211"/>
                  <a:pt x="23177" y="16252"/>
                </a:cubicBezTo>
                <a:cubicBezTo>
                  <a:pt x="23050" y="16290"/>
                  <a:pt x="23138" y="16273"/>
                  <a:pt x="23118" y="16252"/>
                </a:cubicBezTo>
                <a:cubicBezTo>
                  <a:pt x="23100" y="16233"/>
                  <a:pt x="23123" y="16238"/>
                  <a:pt x="23118" y="16212"/>
                </a:cubicBezTo>
                <a:cubicBezTo>
                  <a:pt x="23108" y="16165"/>
                  <a:pt x="23130" y="16058"/>
                  <a:pt x="23177" y="16054"/>
                </a:cubicBezTo>
                <a:cubicBezTo>
                  <a:pt x="23223" y="16050"/>
                  <a:pt x="23222" y="16070"/>
                  <a:pt x="23257" y="16093"/>
                </a:cubicBezTo>
                <a:cubicBezTo>
                  <a:pt x="23319" y="16134"/>
                  <a:pt x="23348" y="16190"/>
                  <a:pt x="23376" y="16252"/>
                </a:cubicBezTo>
                <a:cubicBezTo>
                  <a:pt x="23406" y="16319"/>
                  <a:pt x="23398" y="16370"/>
                  <a:pt x="23376" y="16431"/>
                </a:cubicBezTo>
                <a:cubicBezTo>
                  <a:pt x="23373" y="16438"/>
                  <a:pt x="23295" y="16518"/>
                  <a:pt x="23277" y="16530"/>
                </a:cubicBezTo>
                <a:cubicBezTo>
                  <a:pt x="23206" y="16577"/>
                  <a:pt x="23015" y="16638"/>
                  <a:pt x="22959" y="16570"/>
                </a:cubicBezTo>
                <a:cubicBezTo>
                  <a:pt x="22934" y="16540"/>
                  <a:pt x="22933" y="16449"/>
                  <a:pt x="22939" y="16411"/>
                </a:cubicBezTo>
                <a:cubicBezTo>
                  <a:pt x="22950" y="16339"/>
                  <a:pt x="22970" y="16307"/>
                  <a:pt x="23019" y="16252"/>
                </a:cubicBezTo>
                <a:cubicBezTo>
                  <a:pt x="23098" y="16163"/>
                  <a:pt x="23233" y="16160"/>
                  <a:pt x="23336" y="16133"/>
                </a:cubicBezTo>
                <a:cubicBezTo>
                  <a:pt x="23343" y="16133"/>
                  <a:pt x="23349" y="16133"/>
                  <a:pt x="23356" y="16133"/>
                </a:cubicBezTo>
                <a:cubicBezTo>
                  <a:pt x="23385" y="16158"/>
                  <a:pt x="23419" y="16202"/>
                  <a:pt x="23455" y="16232"/>
                </a:cubicBezTo>
                <a:cubicBezTo>
                  <a:pt x="23553" y="16315"/>
                  <a:pt x="23753" y="16417"/>
                  <a:pt x="23793" y="16550"/>
                </a:cubicBezTo>
                <a:cubicBezTo>
                  <a:pt x="23814" y="16622"/>
                  <a:pt x="23783" y="16669"/>
                  <a:pt x="23753" y="16708"/>
                </a:cubicBezTo>
                <a:cubicBezTo>
                  <a:pt x="23734" y="16733"/>
                  <a:pt x="23700" y="16758"/>
                  <a:pt x="23674" y="16768"/>
                </a:cubicBezTo>
                <a:cubicBezTo>
                  <a:pt x="23629" y="16786"/>
                  <a:pt x="23430" y="16779"/>
                  <a:pt x="23396" y="16748"/>
                </a:cubicBezTo>
                <a:cubicBezTo>
                  <a:pt x="23360" y="16715"/>
                  <a:pt x="23370" y="16706"/>
                  <a:pt x="23356" y="16669"/>
                </a:cubicBezTo>
                <a:cubicBezTo>
                  <a:pt x="23326" y="16591"/>
                  <a:pt x="23361" y="16468"/>
                  <a:pt x="23396" y="16411"/>
                </a:cubicBezTo>
                <a:cubicBezTo>
                  <a:pt x="23442" y="16335"/>
                  <a:pt x="23505" y="16277"/>
                  <a:pt x="23594" y="16252"/>
                </a:cubicBezTo>
                <a:cubicBezTo>
                  <a:pt x="23656" y="16234"/>
                  <a:pt x="23729" y="16227"/>
                  <a:pt x="23793" y="16252"/>
                </a:cubicBezTo>
                <a:cubicBezTo>
                  <a:pt x="23847" y="16273"/>
                  <a:pt x="23865" y="16322"/>
                  <a:pt x="23912" y="16351"/>
                </a:cubicBezTo>
                <a:cubicBezTo>
                  <a:pt x="24026" y="16465"/>
                  <a:pt x="24262" y="16645"/>
                  <a:pt x="24269" y="16827"/>
                </a:cubicBezTo>
                <a:cubicBezTo>
                  <a:pt x="24273" y="16942"/>
                  <a:pt x="24269" y="16926"/>
                  <a:pt x="24209" y="17006"/>
                </a:cubicBezTo>
                <a:cubicBezTo>
                  <a:pt x="24172" y="17055"/>
                  <a:pt x="24070" y="17105"/>
                  <a:pt x="24011" y="17125"/>
                </a:cubicBezTo>
                <a:cubicBezTo>
                  <a:pt x="23918" y="17157"/>
                  <a:pt x="23792" y="17160"/>
                  <a:pt x="23693" y="17165"/>
                </a:cubicBezTo>
                <a:cubicBezTo>
                  <a:pt x="23585" y="17171"/>
                  <a:pt x="23216" y="17212"/>
                  <a:pt x="23158" y="17145"/>
                </a:cubicBezTo>
                <a:cubicBezTo>
                  <a:pt x="23063" y="17035"/>
                  <a:pt x="23253" y="16959"/>
                  <a:pt x="23297" y="16947"/>
                </a:cubicBezTo>
                <a:cubicBezTo>
                  <a:pt x="23348" y="16933"/>
                  <a:pt x="23455" y="16936"/>
                  <a:pt x="23495" y="16966"/>
                </a:cubicBezTo>
                <a:cubicBezTo>
                  <a:pt x="23557" y="17013"/>
                  <a:pt x="23552" y="17098"/>
                  <a:pt x="23555" y="17165"/>
                </a:cubicBezTo>
                <a:cubicBezTo>
                  <a:pt x="23562" y="17325"/>
                  <a:pt x="23510" y="17325"/>
                  <a:pt x="23376" y="17363"/>
                </a:cubicBezTo>
                <a:cubicBezTo>
                  <a:pt x="23298" y="17385"/>
                  <a:pt x="23223" y="17388"/>
                  <a:pt x="23138" y="17383"/>
                </a:cubicBezTo>
                <a:cubicBezTo>
                  <a:pt x="23073" y="17379"/>
                  <a:pt x="22991" y="17386"/>
                  <a:pt x="22959" y="17343"/>
                </a:cubicBezTo>
                <a:cubicBezTo>
                  <a:pt x="22929" y="17302"/>
                  <a:pt x="22933" y="17266"/>
                  <a:pt x="22959" y="17224"/>
                </a:cubicBezTo>
                <a:cubicBezTo>
                  <a:pt x="22990" y="17173"/>
                  <a:pt x="22990" y="17191"/>
                  <a:pt x="23039" y="17165"/>
                </a:cubicBezTo>
                <a:cubicBezTo>
                  <a:pt x="23126" y="17119"/>
                  <a:pt x="23266" y="17142"/>
                  <a:pt x="23356" y="17165"/>
                </a:cubicBezTo>
                <a:cubicBezTo>
                  <a:pt x="23498" y="17201"/>
                  <a:pt x="23553" y="17271"/>
                  <a:pt x="23594" y="17403"/>
                </a:cubicBezTo>
                <a:cubicBezTo>
                  <a:pt x="23607" y="17443"/>
                  <a:pt x="23608" y="17573"/>
                  <a:pt x="23574" y="17601"/>
                </a:cubicBezTo>
                <a:cubicBezTo>
                  <a:pt x="23537" y="17631"/>
                  <a:pt x="23422" y="17633"/>
                  <a:pt x="23376" y="17641"/>
                </a:cubicBezTo>
                <a:cubicBezTo>
                  <a:pt x="23296" y="17654"/>
                  <a:pt x="22835" y="17673"/>
                  <a:pt x="22840" y="17562"/>
                </a:cubicBezTo>
                <a:cubicBezTo>
                  <a:pt x="22841" y="17550"/>
                  <a:pt x="22909" y="17547"/>
                  <a:pt x="22920" y="17542"/>
                </a:cubicBezTo>
                <a:cubicBezTo>
                  <a:pt x="22964" y="17522"/>
                  <a:pt x="23002" y="17516"/>
                  <a:pt x="23058" y="17522"/>
                </a:cubicBezTo>
                <a:cubicBezTo>
                  <a:pt x="23157" y="17533"/>
                  <a:pt x="23330" y="17573"/>
                  <a:pt x="23376" y="17681"/>
                </a:cubicBezTo>
                <a:cubicBezTo>
                  <a:pt x="23398" y="17732"/>
                  <a:pt x="23411" y="17789"/>
                  <a:pt x="23376" y="17840"/>
                </a:cubicBezTo>
                <a:cubicBezTo>
                  <a:pt x="23336" y="17897"/>
                  <a:pt x="23271" y="17902"/>
                  <a:pt x="23217" y="17919"/>
                </a:cubicBezTo>
                <a:cubicBezTo>
                  <a:pt x="23196" y="17925"/>
                  <a:pt x="22956" y="17920"/>
                  <a:pt x="22959" y="17899"/>
                </a:cubicBezTo>
                <a:cubicBezTo>
                  <a:pt x="22965" y="17856"/>
                  <a:pt x="22954" y="17861"/>
                  <a:pt x="22979" y="17840"/>
                </a:cubicBezTo>
                <a:cubicBezTo>
                  <a:pt x="22999" y="17823"/>
                  <a:pt x="23108" y="17823"/>
                  <a:pt x="23138" y="17820"/>
                </a:cubicBezTo>
                <a:cubicBezTo>
                  <a:pt x="23332" y="17801"/>
                  <a:pt x="23602" y="17843"/>
                  <a:pt x="23733" y="17998"/>
                </a:cubicBezTo>
                <a:cubicBezTo>
                  <a:pt x="23759" y="18029"/>
                  <a:pt x="23801" y="18054"/>
                  <a:pt x="23793" y="18097"/>
                </a:cubicBezTo>
                <a:cubicBezTo>
                  <a:pt x="23784" y="18142"/>
                  <a:pt x="23665" y="18149"/>
                  <a:pt x="23634" y="18157"/>
                </a:cubicBezTo>
                <a:cubicBezTo>
                  <a:pt x="23579" y="18172"/>
                  <a:pt x="23512" y="18152"/>
                  <a:pt x="23455" y="18157"/>
                </a:cubicBezTo>
                <a:cubicBezTo>
                  <a:pt x="23361" y="18117"/>
                  <a:pt x="23246" y="18091"/>
                  <a:pt x="23158" y="18018"/>
                </a:cubicBezTo>
                <a:cubicBezTo>
                  <a:pt x="23114" y="17981"/>
                  <a:pt x="23072" y="17972"/>
                  <a:pt x="23058" y="17919"/>
                </a:cubicBezTo>
                <a:cubicBezTo>
                  <a:pt x="23053" y="17898"/>
                  <a:pt x="23085" y="17884"/>
                  <a:pt x="23098" y="17859"/>
                </a:cubicBezTo>
                <a:cubicBezTo>
                  <a:pt x="23125" y="17807"/>
                  <a:pt x="23164" y="17814"/>
                  <a:pt x="23217" y="17800"/>
                </a:cubicBezTo>
                <a:cubicBezTo>
                  <a:pt x="23242" y="17794"/>
                  <a:pt x="23456" y="17787"/>
                  <a:pt x="23435" y="17840"/>
                </a:cubicBezTo>
                <a:cubicBezTo>
                  <a:pt x="23416" y="17888"/>
                  <a:pt x="23444" y="17873"/>
                  <a:pt x="23376" y="17899"/>
                </a:cubicBezTo>
                <a:cubicBezTo>
                  <a:pt x="23213" y="17961"/>
                  <a:pt x="22927" y="17863"/>
                  <a:pt x="22781" y="17800"/>
                </a:cubicBezTo>
                <a:cubicBezTo>
                  <a:pt x="22711" y="17770"/>
                  <a:pt x="22476" y="17681"/>
                  <a:pt x="22443" y="17601"/>
                </a:cubicBezTo>
                <a:cubicBezTo>
                  <a:pt x="22419" y="17544"/>
                  <a:pt x="22500" y="17557"/>
                  <a:pt x="22523" y="17522"/>
                </a:cubicBezTo>
                <a:cubicBezTo>
                  <a:pt x="22606" y="17398"/>
                  <a:pt x="22984" y="17329"/>
                  <a:pt x="23058" y="17443"/>
                </a:cubicBezTo>
                <a:cubicBezTo>
                  <a:pt x="23072" y="17464"/>
                  <a:pt x="23067" y="17605"/>
                  <a:pt x="23039" y="17621"/>
                </a:cubicBezTo>
                <a:cubicBezTo>
                  <a:pt x="23011" y="17637"/>
                  <a:pt x="22877" y="17616"/>
                  <a:pt x="22860" y="17601"/>
                </a:cubicBezTo>
                <a:cubicBezTo>
                  <a:pt x="22697" y="17459"/>
                  <a:pt x="22848" y="17246"/>
                  <a:pt x="22999" y="17205"/>
                </a:cubicBezTo>
                <a:cubicBezTo>
                  <a:pt x="23258" y="17135"/>
                  <a:pt x="23546" y="17265"/>
                  <a:pt x="23773" y="17363"/>
                </a:cubicBezTo>
                <a:cubicBezTo>
                  <a:pt x="23819" y="17396"/>
                  <a:pt x="23866" y="17429"/>
                  <a:pt x="23912" y="17462"/>
                </a:cubicBezTo>
                <a:cubicBezTo>
                  <a:pt x="23975" y="17540"/>
                  <a:pt x="24090" y="17557"/>
                  <a:pt x="24051" y="17681"/>
                </a:cubicBezTo>
                <a:cubicBezTo>
                  <a:pt x="24021" y="17776"/>
                  <a:pt x="24050" y="17719"/>
                  <a:pt x="23951" y="17760"/>
                </a:cubicBezTo>
                <a:cubicBezTo>
                  <a:pt x="23888" y="17786"/>
                  <a:pt x="23783" y="17796"/>
                  <a:pt x="23713" y="17780"/>
                </a:cubicBezTo>
                <a:cubicBezTo>
                  <a:pt x="23628" y="17760"/>
                  <a:pt x="23526" y="17726"/>
                  <a:pt x="23495" y="17641"/>
                </a:cubicBezTo>
                <a:cubicBezTo>
                  <a:pt x="23474" y="17584"/>
                  <a:pt x="23486" y="17596"/>
                  <a:pt x="23495" y="17542"/>
                </a:cubicBezTo>
                <a:cubicBezTo>
                  <a:pt x="23499" y="17521"/>
                  <a:pt x="23579" y="17432"/>
                  <a:pt x="23594" y="17423"/>
                </a:cubicBezTo>
                <a:cubicBezTo>
                  <a:pt x="23601" y="17419"/>
                  <a:pt x="23740" y="17391"/>
                  <a:pt x="23753" y="17403"/>
                </a:cubicBezTo>
                <a:cubicBezTo>
                  <a:pt x="23787" y="17434"/>
                  <a:pt x="23754" y="17449"/>
                  <a:pt x="23773" y="17502"/>
                </a:cubicBezTo>
                <a:cubicBezTo>
                  <a:pt x="23786" y="17538"/>
                  <a:pt x="23786" y="17678"/>
                  <a:pt x="23753" y="17701"/>
                </a:cubicBezTo>
                <a:cubicBezTo>
                  <a:pt x="23616" y="17799"/>
                  <a:pt x="23396" y="17590"/>
                  <a:pt x="23316" y="17522"/>
                </a:cubicBezTo>
                <a:cubicBezTo>
                  <a:pt x="23240" y="17457"/>
                  <a:pt x="23156" y="17415"/>
                  <a:pt x="23158" y="17304"/>
                </a:cubicBezTo>
                <a:cubicBezTo>
                  <a:pt x="23159" y="17197"/>
                  <a:pt x="23182" y="17226"/>
                  <a:pt x="23237" y="17145"/>
                </a:cubicBezTo>
                <a:cubicBezTo>
                  <a:pt x="23308" y="17042"/>
                  <a:pt x="23462" y="16901"/>
                  <a:pt x="23574" y="16847"/>
                </a:cubicBezTo>
                <a:cubicBezTo>
                  <a:pt x="23632" y="16819"/>
                  <a:pt x="23987" y="16690"/>
                  <a:pt x="24031" y="16708"/>
                </a:cubicBezTo>
                <a:cubicBezTo>
                  <a:pt x="24146" y="16756"/>
                  <a:pt x="24026" y="16676"/>
                  <a:pt x="24070" y="16768"/>
                </a:cubicBezTo>
                <a:cubicBezTo>
                  <a:pt x="24099" y="16828"/>
                  <a:pt x="24048" y="16924"/>
                  <a:pt x="24011" y="16966"/>
                </a:cubicBezTo>
                <a:cubicBezTo>
                  <a:pt x="23953" y="17031"/>
                  <a:pt x="23922" y="17056"/>
                  <a:pt x="23832" y="17046"/>
                </a:cubicBezTo>
                <a:cubicBezTo>
                  <a:pt x="23688" y="17029"/>
                  <a:pt x="23706" y="16945"/>
                  <a:pt x="23693" y="16827"/>
                </a:cubicBezTo>
                <a:cubicBezTo>
                  <a:pt x="23685" y="16752"/>
                  <a:pt x="23691" y="16636"/>
                  <a:pt x="23733" y="16570"/>
                </a:cubicBezTo>
                <a:cubicBezTo>
                  <a:pt x="23781" y="16495"/>
                  <a:pt x="23887" y="16420"/>
                  <a:pt x="23971" y="16391"/>
                </a:cubicBezTo>
                <a:cubicBezTo>
                  <a:pt x="24022" y="16374"/>
                  <a:pt x="24086" y="16343"/>
                  <a:pt x="24110" y="16391"/>
                </a:cubicBezTo>
                <a:cubicBezTo>
                  <a:pt x="24125" y="16422"/>
                  <a:pt x="24096" y="16484"/>
                  <a:pt x="24090" y="16510"/>
                </a:cubicBezTo>
                <a:cubicBezTo>
                  <a:pt x="24076" y="16567"/>
                  <a:pt x="24002" y="16628"/>
                  <a:pt x="23951" y="16649"/>
                </a:cubicBezTo>
                <a:cubicBezTo>
                  <a:pt x="23869" y="16683"/>
                  <a:pt x="23809" y="16679"/>
                  <a:pt x="23773" y="16629"/>
                </a:cubicBezTo>
                <a:cubicBezTo>
                  <a:pt x="23712" y="16544"/>
                  <a:pt x="23800" y="16317"/>
                  <a:pt x="23832" y="16252"/>
                </a:cubicBezTo>
                <a:cubicBezTo>
                  <a:pt x="23883" y="16151"/>
                  <a:pt x="23980" y="16071"/>
                  <a:pt x="24051" y="15994"/>
                </a:cubicBezTo>
                <a:cubicBezTo>
                  <a:pt x="24078" y="16026"/>
                  <a:pt x="24141" y="15959"/>
                  <a:pt x="24150" y="16014"/>
                </a:cubicBezTo>
                <a:cubicBezTo>
                  <a:pt x="24168" y="16124"/>
                  <a:pt x="24141" y="16241"/>
                  <a:pt x="24051" y="16312"/>
                </a:cubicBezTo>
                <a:cubicBezTo>
                  <a:pt x="23996" y="16355"/>
                  <a:pt x="23905" y="16390"/>
                  <a:pt x="23832" y="16371"/>
                </a:cubicBezTo>
                <a:cubicBezTo>
                  <a:pt x="23772" y="16356"/>
                  <a:pt x="23764" y="16387"/>
                  <a:pt x="23733" y="16331"/>
                </a:cubicBezTo>
                <a:cubicBezTo>
                  <a:pt x="23682" y="16241"/>
                  <a:pt x="23765" y="16129"/>
                  <a:pt x="23832" y="16093"/>
                </a:cubicBezTo>
                <a:cubicBezTo>
                  <a:pt x="23868" y="16074"/>
                  <a:pt x="23963" y="16047"/>
                  <a:pt x="23991" y="16093"/>
                </a:cubicBezTo>
                <a:cubicBezTo>
                  <a:pt x="24106" y="16284"/>
                  <a:pt x="23943" y="16673"/>
                  <a:pt x="23753" y="16728"/>
                </a:cubicBezTo>
                <a:cubicBezTo>
                  <a:pt x="23658" y="16756"/>
                  <a:pt x="23581" y="16698"/>
                  <a:pt x="23495" y="16689"/>
                </a:cubicBezTo>
                <a:cubicBezTo>
                  <a:pt x="23357" y="16607"/>
                  <a:pt x="23103" y="16520"/>
                  <a:pt x="23019" y="16371"/>
                </a:cubicBezTo>
                <a:cubicBezTo>
                  <a:pt x="23003" y="16342"/>
                  <a:pt x="22991" y="16287"/>
                  <a:pt x="22999" y="16252"/>
                </a:cubicBezTo>
                <a:cubicBezTo>
                  <a:pt x="23014" y="16185"/>
                  <a:pt x="23149" y="16185"/>
                  <a:pt x="23197" y="16192"/>
                </a:cubicBezTo>
                <a:cubicBezTo>
                  <a:pt x="23331" y="16211"/>
                  <a:pt x="23472" y="16321"/>
                  <a:pt x="23535" y="16450"/>
                </a:cubicBezTo>
                <a:cubicBezTo>
                  <a:pt x="23584" y="16551"/>
                  <a:pt x="23603" y="16720"/>
                  <a:pt x="23555" y="16827"/>
                </a:cubicBezTo>
                <a:cubicBezTo>
                  <a:pt x="23515" y="16916"/>
                  <a:pt x="23407" y="16969"/>
                  <a:pt x="23316" y="16986"/>
                </a:cubicBezTo>
                <a:cubicBezTo>
                  <a:pt x="22947" y="17055"/>
                  <a:pt x="22580" y="16921"/>
                  <a:pt x="22245" y="16788"/>
                </a:cubicBezTo>
                <a:cubicBezTo>
                  <a:pt x="22088" y="16726"/>
                  <a:pt x="21755" y="16648"/>
                  <a:pt x="21669" y="16470"/>
                </a:cubicBezTo>
                <a:cubicBezTo>
                  <a:pt x="21649" y="16428"/>
                  <a:pt x="21640" y="16416"/>
                  <a:pt x="21669" y="16371"/>
                </a:cubicBezTo>
                <a:cubicBezTo>
                  <a:pt x="21692" y="16335"/>
                  <a:pt x="21746" y="16337"/>
                  <a:pt x="21788" y="16331"/>
                </a:cubicBezTo>
                <a:cubicBezTo>
                  <a:pt x="21964" y="16304"/>
                  <a:pt x="22241" y="16369"/>
                  <a:pt x="22304" y="16550"/>
                </a:cubicBezTo>
                <a:cubicBezTo>
                  <a:pt x="22330" y="16625"/>
                  <a:pt x="22291" y="16673"/>
                  <a:pt x="22265" y="16728"/>
                </a:cubicBezTo>
                <a:cubicBezTo>
                  <a:pt x="22245" y="16741"/>
                  <a:pt x="22225" y="16755"/>
                  <a:pt x="22205" y="16768"/>
                </a:cubicBezTo>
                <a:cubicBezTo>
                  <a:pt x="21964" y="16757"/>
                  <a:pt x="21634" y="16786"/>
                  <a:pt x="21451" y="16589"/>
                </a:cubicBezTo>
                <a:cubicBezTo>
                  <a:pt x="21419" y="16555"/>
                  <a:pt x="21390" y="16504"/>
                  <a:pt x="21411" y="16450"/>
                </a:cubicBezTo>
                <a:cubicBezTo>
                  <a:pt x="21417" y="16435"/>
                  <a:pt x="21471" y="16387"/>
                  <a:pt x="21491" y="16371"/>
                </a:cubicBezTo>
                <a:cubicBezTo>
                  <a:pt x="21539" y="16333"/>
                  <a:pt x="21650" y="16302"/>
                  <a:pt x="21689" y="16371"/>
                </a:cubicBezTo>
                <a:cubicBezTo>
                  <a:pt x="21737" y="16457"/>
                  <a:pt x="21642" y="16717"/>
                  <a:pt x="21570" y="16768"/>
                </a:cubicBezTo>
                <a:cubicBezTo>
                  <a:pt x="21523" y="16801"/>
                  <a:pt x="21426" y="16799"/>
                  <a:pt x="21372" y="16788"/>
                </a:cubicBezTo>
                <a:cubicBezTo>
                  <a:pt x="21302" y="16773"/>
                  <a:pt x="21108" y="16727"/>
                  <a:pt x="21094" y="16629"/>
                </a:cubicBezTo>
                <a:cubicBezTo>
                  <a:pt x="21082" y="16546"/>
                  <a:pt x="21117" y="16591"/>
                  <a:pt x="21173" y="16570"/>
                </a:cubicBezTo>
                <a:cubicBezTo>
                  <a:pt x="21243" y="16544"/>
                  <a:pt x="21323" y="16587"/>
                  <a:pt x="21372" y="16629"/>
                </a:cubicBezTo>
                <a:cubicBezTo>
                  <a:pt x="21447" y="16694"/>
                  <a:pt x="21563" y="16875"/>
                  <a:pt x="21511" y="16986"/>
                </a:cubicBezTo>
                <a:cubicBezTo>
                  <a:pt x="21481" y="17051"/>
                  <a:pt x="21498" y="17027"/>
                  <a:pt x="21431" y="17046"/>
                </a:cubicBezTo>
                <a:cubicBezTo>
                  <a:pt x="21368" y="17064"/>
                  <a:pt x="21270" y="17026"/>
                  <a:pt x="21213" y="17006"/>
                </a:cubicBezTo>
                <a:cubicBezTo>
                  <a:pt x="21140" y="16980"/>
                  <a:pt x="20968" y="16892"/>
                  <a:pt x="20915" y="16827"/>
                </a:cubicBezTo>
                <a:cubicBezTo>
                  <a:pt x="20904" y="16814"/>
                  <a:pt x="20850" y="16773"/>
                  <a:pt x="20876" y="16748"/>
                </a:cubicBezTo>
                <a:cubicBezTo>
                  <a:pt x="20922" y="16704"/>
                  <a:pt x="21060" y="16779"/>
                  <a:pt x="21074" y="16788"/>
                </a:cubicBezTo>
                <a:cubicBezTo>
                  <a:pt x="21090" y="16820"/>
                  <a:pt x="21097" y="16825"/>
                  <a:pt x="21094" y="16847"/>
                </a:cubicBezTo>
                <a:cubicBezTo>
                  <a:pt x="21068" y="16879"/>
                  <a:pt x="21110" y="16905"/>
                  <a:pt x="21074" y="16927"/>
                </a:cubicBezTo>
                <a:cubicBezTo>
                  <a:pt x="21051" y="16950"/>
                  <a:pt x="21041" y="16956"/>
                  <a:pt x="21015" y="16947"/>
                </a:cubicBezTo>
                <a:cubicBezTo>
                  <a:pt x="20888" y="16927"/>
                  <a:pt x="20778" y="16934"/>
                  <a:pt x="20657" y="16867"/>
                </a:cubicBezTo>
                <a:cubicBezTo>
                  <a:pt x="20581" y="16825"/>
                  <a:pt x="20536" y="16782"/>
                  <a:pt x="20518" y="16708"/>
                </a:cubicBezTo>
                <a:cubicBezTo>
                  <a:pt x="20500" y="16635"/>
                  <a:pt x="20534" y="16621"/>
                  <a:pt x="20578" y="16589"/>
                </a:cubicBezTo>
                <a:cubicBezTo>
                  <a:pt x="20632" y="16550"/>
                  <a:pt x="20776" y="16564"/>
                  <a:pt x="20836" y="16570"/>
                </a:cubicBezTo>
                <a:cubicBezTo>
                  <a:pt x="20935" y="16580"/>
                  <a:pt x="21117" y="16607"/>
                  <a:pt x="21134" y="16728"/>
                </a:cubicBezTo>
                <a:cubicBezTo>
                  <a:pt x="21142" y="16788"/>
                  <a:pt x="21120" y="16794"/>
                  <a:pt x="21074" y="16827"/>
                </a:cubicBezTo>
                <a:cubicBezTo>
                  <a:pt x="21036" y="16855"/>
                  <a:pt x="20946" y="16857"/>
                  <a:pt x="20895" y="16847"/>
                </a:cubicBezTo>
                <a:cubicBezTo>
                  <a:pt x="20754" y="16818"/>
                  <a:pt x="20646" y="16768"/>
                  <a:pt x="20518" y="16689"/>
                </a:cubicBezTo>
                <a:cubicBezTo>
                  <a:pt x="20451" y="16647"/>
                  <a:pt x="20390" y="16612"/>
                  <a:pt x="20399" y="16530"/>
                </a:cubicBezTo>
                <a:cubicBezTo>
                  <a:pt x="20407" y="16458"/>
                  <a:pt x="20536" y="16473"/>
                  <a:pt x="20578" y="16470"/>
                </a:cubicBezTo>
                <a:cubicBezTo>
                  <a:pt x="20668" y="16463"/>
                  <a:pt x="20806" y="16485"/>
                  <a:pt x="20836" y="16589"/>
                </a:cubicBezTo>
                <a:cubicBezTo>
                  <a:pt x="20843" y="16613"/>
                  <a:pt x="20849" y="16697"/>
                  <a:pt x="20816" y="16708"/>
                </a:cubicBezTo>
                <a:cubicBezTo>
                  <a:pt x="20712" y="16745"/>
                  <a:pt x="20629" y="16640"/>
                  <a:pt x="20558" y="16589"/>
                </a:cubicBezTo>
                <a:cubicBezTo>
                  <a:pt x="20491" y="16541"/>
                  <a:pt x="20399" y="16483"/>
                  <a:pt x="20380" y="16411"/>
                </a:cubicBezTo>
                <a:cubicBezTo>
                  <a:pt x="20368" y="16367"/>
                  <a:pt x="20340" y="16348"/>
                  <a:pt x="20380" y="16312"/>
                </a:cubicBezTo>
                <a:cubicBezTo>
                  <a:pt x="20410" y="16284"/>
                  <a:pt x="20519" y="16295"/>
                  <a:pt x="20558" y="16292"/>
                </a:cubicBezTo>
                <a:cubicBezTo>
                  <a:pt x="20603" y="16289"/>
                  <a:pt x="20785" y="16295"/>
                  <a:pt x="20816" y="16351"/>
                </a:cubicBezTo>
                <a:cubicBezTo>
                  <a:pt x="20832" y="16379"/>
                  <a:pt x="20822" y="16489"/>
                  <a:pt x="20796" y="16510"/>
                </a:cubicBezTo>
                <a:cubicBezTo>
                  <a:pt x="20760" y="16539"/>
                  <a:pt x="20618" y="16548"/>
                  <a:pt x="20578" y="16530"/>
                </a:cubicBezTo>
                <a:cubicBezTo>
                  <a:pt x="20517" y="16502"/>
                  <a:pt x="20520" y="16421"/>
                  <a:pt x="20499" y="16371"/>
                </a:cubicBezTo>
                <a:cubicBezTo>
                  <a:pt x="20499" y="16318"/>
                  <a:pt x="20499" y="16305"/>
                  <a:pt x="20499" y="16272"/>
                </a:cubicBezTo>
                <a:cubicBezTo>
                  <a:pt x="20511" y="16206"/>
                  <a:pt x="20476" y="16127"/>
                  <a:pt x="20518" y="16073"/>
                </a:cubicBezTo>
                <a:cubicBezTo>
                  <a:pt x="20567" y="16010"/>
                  <a:pt x="20606" y="15996"/>
                  <a:pt x="20677" y="15974"/>
                </a:cubicBezTo>
                <a:cubicBezTo>
                  <a:pt x="20740" y="15955"/>
                  <a:pt x="20871" y="15986"/>
                  <a:pt x="20915" y="16034"/>
                </a:cubicBezTo>
                <a:cubicBezTo>
                  <a:pt x="20976" y="16100"/>
                  <a:pt x="21013" y="16265"/>
                  <a:pt x="20955" y="16351"/>
                </a:cubicBezTo>
                <a:cubicBezTo>
                  <a:pt x="20871" y="16476"/>
                  <a:pt x="20750" y="16509"/>
                  <a:pt x="20598" y="16490"/>
                </a:cubicBezTo>
                <a:cubicBezTo>
                  <a:pt x="20441" y="16471"/>
                  <a:pt x="20295" y="16376"/>
                  <a:pt x="20260" y="16232"/>
                </a:cubicBezTo>
                <a:cubicBezTo>
                  <a:pt x="20238" y="16141"/>
                  <a:pt x="20274" y="16033"/>
                  <a:pt x="20360" y="15994"/>
                </a:cubicBezTo>
                <a:cubicBezTo>
                  <a:pt x="20422" y="15966"/>
                  <a:pt x="20474" y="15981"/>
                  <a:pt x="20538" y="15994"/>
                </a:cubicBezTo>
                <a:cubicBezTo>
                  <a:pt x="20622" y="16012"/>
                  <a:pt x="20739" y="16093"/>
                  <a:pt x="20776" y="16173"/>
                </a:cubicBezTo>
                <a:cubicBezTo>
                  <a:pt x="20829" y="16288"/>
                  <a:pt x="20721" y="16409"/>
                  <a:pt x="20637" y="16450"/>
                </a:cubicBezTo>
                <a:cubicBezTo>
                  <a:pt x="20546" y="16494"/>
                  <a:pt x="20484" y="16448"/>
                  <a:pt x="20399" y="16450"/>
                </a:cubicBezTo>
                <a:cubicBezTo>
                  <a:pt x="20349" y="16398"/>
                  <a:pt x="20282" y="16414"/>
                  <a:pt x="20241" y="16331"/>
                </a:cubicBezTo>
                <a:cubicBezTo>
                  <a:pt x="20206" y="16261"/>
                  <a:pt x="20200" y="16094"/>
                  <a:pt x="20241" y="16034"/>
                </a:cubicBezTo>
                <a:cubicBezTo>
                  <a:pt x="20252" y="16018"/>
                  <a:pt x="20341" y="15972"/>
                  <a:pt x="20360" y="15974"/>
                </a:cubicBezTo>
                <a:cubicBezTo>
                  <a:pt x="20429" y="15982"/>
                  <a:pt x="20407" y="15969"/>
                  <a:pt x="20439" y="16034"/>
                </a:cubicBezTo>
                <a:cubicBezTo>
                  <a:pt x="20472" y="16100"/>
                  <a:pt x="20449" y="16413"/>
                  <a:pt x="20320" y="16371"/>
                </a:cubicBezTo>
                <a:cubicBezTo>
                  <a:pt x="20288" y="16361"/>
                  <a:pt x="20188" y="16220"/>
                  <a:pt x="20181" y="16212"/>
                </a:cubicBezTo>
                <a:cubicBezTo>
                  <a:pt x="20084" y="16102"/>
                  <a:pt x="19959" y="15935"/>
                  <a:pt x="20002" y="15776"/>
                </a:cubicBezTo>
                <a:cubicBezTo>
                  <a:pt x="20015" y="15728"/>
                  <a:pt x="19991" y="15709"/>
                  <a:pt x="20042" y="15677"/>
                </a:cubicBezTo>
                <a:cubicBezTo>
                  <a:pt x="20137" y="15617"/>
                  <a:pt x="20300" y="15749"/>
                  <a:pt x="20360" y="15796"/>
                </a:cubicBezTo>
                <a:cubicBezTo>
                  <a:pt x="20429" y="15850"/>
                  <a:pt x="20535" y="15943"/>
                  <a:pt x="20558" y="16014"/>
                </a:cubicBezTo>
                <a:cubicBezTo>
                  <a:pt x="20593" y="16120"/>
                  <a:pt x="20527" y="16174"/>
                  <a:pt x="20459" y="16232"/>
                </a:cubicBezTo>
                <a:cubicBezTo>
                  <a:pt x="20417" y="16268"/>
                  <a:pt x="20367" y="16297"/>
                  <a:pt x="20340" y="16252"/>
                </a:cubicBezTo>
                <a:cubicBezTo>
                  <a:pt x="20287" y="16163"/>
                  <a:pt x="20389" y="16028"/>
                  <a:pt x="20459" y="15994"/>
                </a:cubicBezTo>
                <a:cubicBezTo>
                  <a:pt x="20499" y="15974"/>
                  <a:pt x="20652" y="15957"/>
                  <a:pt x="20697" y="15974"/>
                </a:cubicBezTo>
                <a:cubicBezTo>
                  <a:pt x="20776" y="16004"/>
                  <a:pt x="20780" y="16003"/>
                  <a:pt x="20816" y="16093"/>
                </a:cubicBezTo>
                <a:cubicBezTo>
                  <a:pt x="20878" y="16247"/>
                  <a:pt x="20775" y="16373"/>
                  <a:pt x="20637" y="16411"/>
                </a:cubicBezTo>
                <a:cubicBezTo>
                  <a:pt x="20562" y="16431"/>
                  <a:pt x="20435" y="16409"/>
                  <a:pt x="20360" y="16411"/>
                </a:cubicBezTo>
                <a:cubicBezTo>
                  <a:pt x="20205" y="16339"/>
                  <a:pt x="20133" y="16342"/>
                  <a:pt x="20022" y="16192"/>
                </a:cubicBezTo>
                <a:cubicBezTo>
                  <a:pt x="19977" y="16131"/>
                  <a:pt x="19913" y="15983"/>
                  <a:pt x="19983" y="15915"/>
                </a:cubicBezTo>
                <a:cubicBezTo>
                  <a:pt x="20043" y="15857"/>
                  <a:pt x="20167" y="15936"/>
                  <a:pt x="20181" y="15974"/>
                </a:cubicBezTo>
                <a:cubicBezTo>
                  <a:pt x="20202" y="16031"/>
                  <a:pt x="20156" y="16143"/>
                  <a:pt x="20161" y="16133"/>
                </a:cubicBezTo>
                <a:cubicBezTo>
                  <a:pt x="20204" y="16046"/>
                  <a:pt x="20140" y="15961"/>
                  <a:pt x="20260" y="15915"/>
                </a:cubicBezTo>
                <a:cubicBezTo>
                  <a:pt x="20287" y="15905"/>
                  <a:pt x="20333" y="15902"/>
                  <a:pt x="20360" y="15895"/>
                </a:cubicBezTo>
                <a:cubicBezTo>
                  <a:pt x="20394" y="15886"/>
                  <a:pt x="20405" y="15987"/>
                  <a:pt x="20419" y="15954"/>
                </a:cubicBezTo>
                <a:cubicBezTo>
                  <a:pt x="20429" y="15930"/>
                  <a:pt x="20380" y="15941"/>
                  <a:pt x="20380" y="15915"/>
                </a:cubicBezTo>
                <a:cubicBezTo>
                  <a:pt x="20379" y="15864"/>
                  <a:pt x="20385" y="15854"/>
                  <a:pt x="20380" y="15855"/>
                </a:cubicBezTo>
                <a:cubicBezTo>
                  <a:pt x="20289" y="15874"/>
                  <a:pt x="20258" y="15931"/>
                  <a:pt x="20221" y="15915"/>
                </a:cubicBezTo>
                <a:cubicBezTo>
                  <a:pt x="20174" y="15894"/>
                  <a:pt x="20272" y="15859"/>
                  <a:pt x="20221" y="15855"/>
                </a:cubicBezTo>
                <a:cubicBezTo>
                  <a:pt x="20189" y="15853"/>
                  <a:pt x="20181" y="15850"/>
                  <a:pt x="20161" y="15875"/>
                </a:cubicBezTo>
                <a:cubicBezTo>
                  <a:pt x="20120" y="15927"/>
                  <a:pt x="20144" y="15868"/>
                  <a:pt x="20122" y="15935"/>
                </a:cubicBezTo>
                <a:cubicBezTo>
                  <a:pt x="20122" y="15957"/>
                  <a:pt x="20124" y="15965"/>
                  <a:pt x="20141" y="15974"/>
                </a:cubicBezTo>
                <a:cubicBezTo>
                  <a:pt x="20252" y="15995"/>
                  <a:pt x="20367" y="16010"/>
                  <a:pt x="20479" y="16034"/>
                </a:cubicBezTo>
                <a:cubicBezTo>
                  <a:pt x="20701" y="16082"/>
                  <a:pt x="20925" y="16090"/>
                  <a:pt x="21153" y="16093"/>
                </a:cubicBezTo>
                <a:cubicBezTo>
                  <a:pt x="21212" y="16094"/>
                  <a:pt x="21708" y="16022"/>
                  <a:pt x="21729" y="16034"/>
                </a:cubicBezTo>
                <a:cubicBezTo>
                  <a:pt x="21792" y="16071"/>
                  <a:pt x="21750" y="16047"/>
                  <a:pt x="21769" y="16133"/>
                </a:cubicBezTo>
                <a:cubicBezTo>
                  <a:pt x="21774" y="16157"/>
                  <a:pt x="21693" y="16355"/>
                  <a:pt x="21669" y="16371"/>
                </a:cubicBezTo>
                <a:cubicBezTo>
                  <a:pt x="21615" y="16406"/>
                  <a:pt x="21526" y="16400"/>
                  <a:pt x="21471" y="16371"/>
                </a:cubicBezTo>
                <a:cubicBezTo>
                  <a:pt x="21333" y="16297"/>
                  <a:pt x="21288" y="16165"/>
                  <a:pt x="21233" y="16034"/>
                </a:cubicBezTo>
                <a:cubicBezTo>
                  <a:pt x="21184" y="15916"/>
                  <a:pt x="21181" y="15839"/>
                  <a:pt x="21173" y="15716"/>
                </a:cubicBezTo>
                <a:cubicBezTo>
                  <a:pt x="21168" y="15635"/>
                  <a:pt x="21151" y="15543"/>
                  <a:pt x="21213" y="15498"/>
                </a:cubicBezTo>
                <a:cubicBezTo>
                  <a:pt x="21267" y="15458"/>
                  <a:pt x="21343" y="15477"/>
                  <a:pt x="21392" y="15498"/>
                </a:cubicBezTo>
                <a:cubicBezTo>
                  <a:pt x="21486" y="15538"/>
                  <a:pt x="21479" y="15576"/>
                  <a:pt x="21491" y="15657"/>
                </a:cubicBezTo>
                <a:cubicBezTo>
                  <a:pt x="21517" y="15833"/>
                  <a:pt x="21173" y="15996"/>
                  <a:pt x="21054" y="16034"/>
                </a:cubicBezTo>
                <a:cubicBezTo>
                  <a:pt x="20904" y="16082"/>
                  <a:pt x="20792" y="16065"/>
                  <a:pt x="20637" y="16073"/>
                </a:cubicBezTo>
                <a:cubicBezTo>
                  <a:pt x="20516" y="16030"/>
                  <a:pt x="20404" y="16105"/>
                  <a:pt x="20340" y="15954"/>
                </a:cubicBezTo>
                <a:cubicBezTo>
                  <a:pt x="20270" y="15790"/>
                  <a:pt x="20400" y="15645"/>
                  <a:pt x="20518" y="15557"/>
                </a:cubicBezTo>
                <a:cubicBezTo>
                  <a:pt x="20613" y="15486"/>
                  <a:pt x="20690" y="15488"/>
                  <a:pt x="20816" y="15498"/>
                </a:cubicBezTo>
                <a:cubicBezTo>
                  <a:pt x="21007" y="15514"/>
                  <a:pt x="21073" y="15587"/>
                  <a:pt x="21233" y="15677"/>
                </a:cubicBezTo>
                <a:cubicBezTo>
                  <a:pt x="21324" y="15820"/>
                  <a:pt x="21391" y="15826"/>
                  <a:pt x="21372" y="16014"/>
                </a:cubicBezTo>
                <a:cubicBezTo>
                  <a:pt x="21359" y="16139"/>
                  <a:pt x="21346" y="16155"/>
                  <a:pt x="21253" y="16232"/>
                </a:cubicBezTo>
                <a:cubicBezTo>
                  <a:pt x="21192" y="16283"/>
                  <a:pt x="21074" y="16370"/>
                  <a:pt x="20995" y="16292"/>
                </a:cubicBezTo>
                <a:cubicBezTo>
                  <a:pt x="20965" y="16263"/>
                  <a:pt x="20967" y="16192"/>
                  <a:pt x="20955" y="16153"/>
                </a:cubicBezTo>
                <a:cubicBezTo>
                  <a:pt x="20931" y="16078"/>
                  <a:pt x="20934" y="15975"/>
                  <a:pt x="20935" y="15895"/>
                </a:cubicBezTo>
                <a:cubicBezTo>
                  <a:pt x="20936" y="15828"/>
                  <a:pt x="20926" y="15773"/>
                  <a:pt x="20975" y="15736"/>
                </a:cubicBezTo>
                <a:cubicBezTo>
                  <a:pt x="21028" y="15696"/>
                  <a:pt x="21196" y="15745"/>
                  <a:pt x="21233" y="15776"/>
                </a:cubicBezTo>
                <a:cubicBezTo>
                  <a:pt x="21346" y="15870"/>
                  <a:pt x="21278" y="15943"/>
                  <a:pt x="21173" y="16014"/>
                </a:cubicBezTo>
                <a:cubicBezTo>
                  <a:pt x="21073" y="16081"/>
                  <a:pt x="20931" y="16075"/>
                  <a:pt x="20816" y="16073"/>
                </a:cubicBezTo>
                <a:cubicBezTo>
                  <a:pt x="20715" y="16071"/>
                  <a:pt x="20388" y="16054"/>
                  <a:pt x="20399" y="15875"/>
                </a:cubicBezTo>
                <a:cubicBezTo>
                  <a:pt x="20404" y="15799"/>
                  <a:pt x="20464" y="15759"/>
                  <a:pt x="20518" y="15716"/>
                </a:cubicBezTo>
                <a:cubicBezTo>
                  <a:pt x="20598" y="15652"/>
                  <a:pt x="20732" y="15663"/>
                  <a:pt x="20836" y="15657"/>
                </a:cubicBezTo>
                <a:cubicBezTo>
                  <a:pt x="21033" y="15646"/>
                  <a:pt x="21325" y="15616"/>
                  <a:pt x="21451" y="15796"/>
                </a:cubicBezTo>
                <a:cubicBezTo>
                  <a:pt x="21483" y="15841"/>
                  <a:pt x="21479" y="15894"/>
                  <a:pt x="21451" y="15935"/>
                </a:cubicBezTo>
                <a:cubicBezTo>
                  <a:pt x="21405" y="16001"/>
                  <a:pt x="21260" y="16018"/>
                  <a:pt x="21193" y="16034"/>
                </a:cubicBezTo>
                <a:cubicBezTo>
                  <a:pt x="21107" y="16051"/>
                  <a:pt x="21088" y="16058"/>
                  <a:pt x="21034" y="16054"/>
                </a:cubicBezTo>
                <a:cubicBezTo>
                  <a:pt x="20998" y="16027"/>
                  <a:pt x="20909" y="16034"/>
                  <a:pt x="20876" y="15974"/>
                </a:cubicBezTo>
                <a:cubicBezTo>
                  <a:pt x="20844" y="15917"/>
                  <a:pt x="20847" y="15822"/>
                  <a:pt x="20856" y="15756"/>
                </a:cubicBezTo>
                <a:cubicBezTo>
                  <a:pt x="20867" y="15674"/>
                  <a:pt x="20888" y="15646"/>
                  <a:pt x="20935" y="15577"/>
                </a:cubicBezTo>
                <a:cubicBezTo>
                  <a:pt x="20962" y="15537"/>
                  <a:pt x="21048" y="15473"/>
                  <a:pt x="21094" y="15478"/>
                </a:cubicBezTo>
                <a:cubicBezTo>
                  <a:pt x="21150" y="15484"/>
                  <a:pt x="21185" y="15493"/>
                  <a:pt x="21193" y="15557"/>
                </a:cubicBezTo>
                <a:cubicBezTo>
                  <a:pt x="21208" y="15681"/>
                  <a:pt x="21111" y="15733"/>
                  <a:pt x="21034" y="15796"/>
                </a:cubicBezTo>
                <a:cubicBezTo>
                  <a:pt x="20941" y="15871"/>
                  <a:pt x="20867" y="15868"/>
                  <a:pt x="20757" y="15875"/>
                </a:cubicBezTo>
                <a:cubicBezTo>
                  <a:pt x="20675" y="15880"/>
                  <a:pt x="20612" y="15885"/>
                  <a:pt x="20558" y="15815"/>
                </a:cubicBezTo>
                <a:cubicBezTo>
                  <a:pt x="20520" y="15766"/>
                  <a:pt x="20573" y="15629"/>
                  <a:pt x="20598" y="15597"/>
                </a:cubicBezTo>
                <a:cubicBezTo>
                  <a:pt x="20661" y="15516"/>
                  <a:pt x="20656" y="15518"/>
                  <a:pt x="20776" y="15518"/>
                </a:cubicBezTo>
                <a:cubicBezTo>
                  <a:pt x="20893" y="15518"/>
                  <a:pt x="20913" y="15562"/>
                  <a:pt x="21015" y="15597"/>
                </a:cubicBezTo>
                <a:cubicBezTo>
                  <a:pt x="21017" y="15650"/>
                  <a:pt x="21040" y="15697"/>
                  <a:pt x="21034" y="15756"/>
                </a:cubicBezTo>
                <a:cubicBezTo>
                  <a:pt x="21025" y="15842"/>
                  <a:pt x="20983" y="15873"/>
                  <a:pt x="20955" y="15935"/>
                </a:cubicBezTo>
                <a:cubicBezTo>
                  <a:pt x="20945" y="15932"/>
                  <a:pt x="20869" y="16000"/>
                  <a:pt x="20856" y="15974"/>
                </a:cubicBezTo>
                <a:cubicBezTo>
                  <a:pt x="20842" y="15946"/>
                  <a:pt x="20852" y="15930"/>
                  <a:pt x="20836" y="15875"/>
                </a:cubicBezTo>
                <a:cubicBezTo>
                  <a:pt x="20814" y="15799"/>
                  <a:pt x="20769" y="15522"/>
                  <a:pt x="20836" y="15458"/>
                </a:cubicBezTo>
                <a:cubicBezTo>
                  <a:pt x="20871" y="15425"/>
                  <a:pt x="20914" y="15428"/>
                  <a:pt x="20955" y="15419"/>
                </a:cubicBezTo>
                <a:cubicBezTo>
                  <a:pt x="21014" y="15406"/>
                  <a:pt x="21066" y="15411"/>
                  <a:pt x="21094" y="15458"/>
                </a:cubicBezTo>
                <a:cubicBezTo>
                  <a:pt x="21137" y="15530"/>
                  <a:pt x="21079" y="15658"/>
                  <a:pt x="21034" y="15696"/>
                </a:cubicBezTo>
                <a:cubicBezTo>
                  <a:pt x="20979" y="15742"/>
                  <a:pt x="20866" y="15758"/>
                  <a:pt x="20796" y="15736"/>
                </a:cubicBezTo>
                <a:cubicBezTo>
                  <a:pt x="20702" y="15706"/>
                  <a:pt x="20708" y="15728"/>
                  <a:pt x="20677" y="15637"/>
                </a:cubicBezTo>
                <a:cubicBezTo>
                  <a:pt x="20645" y="15542"/>
                  <a:pt x="20702" y="15408"/>
                  <a:pt x="20757" y="15339"/>
                </a:cubicBezTo>
                <a:cubicBezTo>
                  <a:pt x="20823" y="15256"/>
                  <a:pt x="20894" y="15257"/>
                  <a:pt x="20995" y="15240"/>
                </a:cubicBezTo>
                <a:cubicBezTo>
                  <a:pt x="21042" y="15232"/>
                  <a:pt x="21242" y="15215"/>
                  <a:pt x="21272" y="15260"/>
                </a:cubicBezTo>
                <a:cubicBezTo>
                  <a:pt x="21341" y="15366"/>
                  <a:pt x="21171" y="15476"/>
                  <a:pt x="21094" y="15498"/>
                </a:cubicBezTo>
                <a:cubicBezTo>
                  <a:pt x="21001" y="15524"/>
                  <a:pt x="20738" y="15522"/>
                  <a:pt x="20657" y="15458"/>
                </a:cubicBezTo>
                <a:cubicBezTo>
                  <a:pt x="20594" y="15408"/>
                  <a:pt x="20566" y="15267"/>
                  <a:pt x="20598" y="15180"/>
                </a:cubicBezTo>
                <a:cubicBezTo>
                  <a:pt x="20618" y="15127"/>
                  <a:pt x="20641" y="15131"/>
                  <a:pt x="20677" y="15101"/>
                </a:cubicBezTo>
                <a:cubicBezTo>
                  <a:pt x="20701" y="15081"/>
                  <a:pt x="20768" y="15063"/>
                  <a:pt x="20796" y="15061"/>
                </a:cubicBezTo>
                <a:cubicBezTo>
                  <a:pt x="20846" y="15057"/>
                  <a:pt x="20917" y="15060"/>
                  <a:pt x="20955" y="15101"/>
                </a:cubicBezTo>
                <a:cubicBezTo>
                  <a:pt x="21002" y="15150"/>
                  <a:pt x="21010" y="15182"/>
                  <a:pt x="20975" y="15240"/>
                </a:cubicBezTo>
                <a:cubicBezTo>
                  <a:pt x="20914" y="15340"/>
                  <a:pt x="20789" y="15324"/>
                  <a:pt x="20697" y="15339"/>
                </a:cubicBezTo>
                <a:cubicBezTo>
                  <a:pt x="20642" y="15348"/>
                  <a:pt x="20525" y="15354"/>
                  <a:pt x="20479" y="15319"/>
                </a:cubicBezTo>
                <a:cubicBezTo>
                  <a:pt x="20420" y="15273"/>
                  <a:pt x="20451" y="15276"/>
                  <a:pt x="20439" y="15200"/>
                </a:cubicBezTo>
                <a:cubicBezTo>
                  <a:pt x="20425" y="15113"/>
                  <a:pt x="20459" y="15105"/>
                  <a:pt x="20499" y="15042"/>
                </a:cubicBezTo>
                <a:cubicBezTo>
                  <a:pt x="20555" y="14955"/>
                  <a:pt x="20649" y="14922"/>
                  <a:pt x="20737" y="14903"/>
                </a:cubicBezTo>
                <a:cubicBezTo>
                  <a:pt x="20872" y="14874"/>
                  <a:pt x="21178" y="14862"/>
                  <a:pt x="21292" y="14942"/>
                </a:cubicBezTo>
                <a:cubicBezTo>
                  <a:pt x="21313" y="14957"/>
                  <a:pt x="21364" y="15048"/>
                  <a:pt x="21332" y="15081"/>
                </a:cubicBezTo>
                <a:cubicBezTo>
                  <a:pt x="21299" y="15115"/>
                  <a:pt x="21255" y="15107"/>
                  <a:pt x="21213" y="15121"/>
                </a:cubicBezTo>
                <a:cubicBezTo>
                  <a:pt x="21077" y="15165"/>
                  <a:pt x="20879" y="15107"/>
                  <a:pt x="20757" y="15061"/>
                </a:cubicBezTo>
                <a:cubicBezTo>
                  <a:pt x="20640" y="15017"/>
                  <a:pt x="20566" y="14963"/>
                  <a:pt x="20459" y="14903"/>
                </a:cubicBezTo>
                <a:cubicBezTo>
                  <a:pt x="20468" y="14858"/>
                  <a:pt x="20383" y="14834"/>
                  <a:pt x="20439" y="14764"/>
                </a:cubicBezTo>
                <a:cubicBezTo>
                  <a:pt x="20503" y="14684"/>
                  <a:pt x="20602" y="14660"/>
                  <a:pt x="20697" y="14645"/>
                </a:cubicBezTo>
                <a:cubicBezTo>
                  <a:pt x="20762" y="14635"/>
                  <a:pt x="20938" y="14616"/>
                  <a:pt x="20995" y="14665"/>
                </a:cubicBezTo>
                <a:cubicBezTo>
                  <a:pt x="21023" y="14689"/>
                  <a:pt x="21019" y="14728"/>
                  <a:pt x="21015" y="14764"/>
                </a:cubicBezTo>
                <a:cubicBezTo>
                  <a:pt x="21007" y="14833"/>
                  <a:pt x="20988" y="14860"/>
                  <a:pt x="20915" y="14903"/>
                </a:cubicBezTo>
                <a:cubicBezTo>
                  <a:pt x="20846" y="14944"/>
                  <a:pt x="20720" y="14971"/>
                  <a:pt x="20637" y="14942"/>
                </a:cubicBezTo>
                <a:cubicBezTo>
                  <a:pt x="20580" y="14922"/>
                  <a:pt x="20568" y="14932"/>
                  <a:pt x="20538" y="14883"/>
                </a:cubicBezTo>
                <a:cubicBezTo>
                  <a:pt x="20492" y="14809"/>
                  <a:pt x="20561" y="14689"/>
                  <a:pt x="20618" y="14645"/>
                </a:cubicBezTo>
                <a:cubicBezTo>
                  <a:pt x="20669" y="14606"/>
                  <a:pt x="20774" y="14612"/>
                  <a:pt x="20836" y="14605"/>
                </a:cubicBezTo>
                <a:cubicBezTo>
                  <a:pt x="20915" y="14596"/>
                  <a:pt x="21108" y="14573"/>
                  <a:pt x="21173" y="14625"/>
                </a:cubicBezTo>
                <a:cubicBezTo>
                  <a:pt x="21258" y="14693"/>
                  <a:pt x="21211" y="14634"/>
                  <a:pt x="21233" y="14724"/>
                </a:cubicBezTo>
                <a:cubicBezTo>
                  <a:pt x="21252" y="14801"/>
                  <a:pt x="21210" y="14864"/>
                  <a:pt x="21134" y="14883"/>
                </a:cubicBezTo>
                <a:cubicBezTo>
                  <a:pt x="21081" y="14896"/>
                  <a:pt x="21017" y="14875"/>
                  <a:pt x="20975" y="14843"/>
                </a:cubicBezTo>
                <a:cubicBezTo>
                  <a:pt x="20918" y="14799"/>
                  <a:pt x="20886" y="14755"/>
                  <a:pt x="20876" y="14684"/>
                </a:cubicBezTo>
                <a:cubicBezTo>
                  <a:pt x="20866" y="14618"/>
                  <a:pt x="20884" y="14603"/>
                  <a:pt x="20935" y="14565"/>
                </a:cubicBezTo>
                <a:cubicBezTo>
                  <a:pt x="21013" y="14508"/>
                  <a:pt x="21111" y="14520"/>
                  <a:pt x="21213" y="14526"/>
                </a:cubicBezTo>
                <a:cubicBezTo>
                  <a:pt x="21362" y="14534"/>
                  <a:pt x="21484" y="14574"/>
                  <a:pt x="21630" y="14605"/>
                </a:cubicBezTo>
                <a:cubicBezTo>
                  <a:pt x="21687" y="14621"/>
                  <a:pt x="22089" y="14694"/>
                  <a:pt x="22066" y="14803"/>
                </a:cubicBezTo>
                <a:cubicBezTo>
                  <a:pt x="22049" y="14886"/>
                  <a:pt x="22048" y="14873"/>
                  <a:pt x="21927" y="14903"/>
                </a:cubicBezTo>
                <a:cubicBezTo>
                  <a:pt x="21766" y="14943"/>
                  <a:pt x="21476" y="14925"/>
                  <a:pt x="21332" y="14843"/>
                </a:cubicBezTo>
                <a:cubicBezTo>
                  <a:pt x="21260" y="14802"/>
                  <a:pt x="21173" y="14712"/>
                  <a:pt x="21173" y="14625"/>
                </a:cubicBezTo>
                <a:cubicBezTo>
                  <a:pt x="21173" y="14561"/>
                  <a:pt x="21179" y="14550"/>
                  <a:pt x="21233" y="14506"/>
                </a:cubicBezTo>
                <a:cubicBezTo>
                  <a:pt x="21273" y="14473"/>
                  <a:pt x="21365" y="14491"/>
                  <a:pt x="21411" y="14486"/>
                </a:cubicBezTo>
                <a:cubicBezTo>
                  <a:pt x="21548" y="14470"/>
                  <a:pt x="21833" y="14442"/>
                  <a:pt x="21947" y="14526"/>
                </a:cubicBezTo>
                <a:cubicBezTo>
                  <a:pt x="21995" y="14561"/>
                  <a:pt x="21991" y="14560"/>
                  <a:pt x="21987" y="14625"/>
                </a:cubicBezTo>
                <a:cubicBezTo>
                  <a:pt x="21985" y="14653"/>
                  <a:pt x="21762" y="14720"/>
                  <a:pt x="21749" y="14724"/>
                </a:cubicBezTo>
                <a:cubicBezTo>
                  <a:pt x="21638" y="14755"/>
                  <a:pt x="21521" y="14766"/>
                  <a:pt x="21471" y="14704"/>
                </a:cubicBezTo>
                <a:cubicBezTo>
                  <a:pt x="21432" y="14655"/>
                  <a:pt x="21409" y="14557"/>
                  <a:pt x="21431" y="14486"/>
                </a:cubicBezTo>
                <a:cubicBezTo>
                  <a:pt x="21440" y="14457"/>
                  <a:pt x="21426" y="14414"/>
                  <a:pt x="21451" y="14407"/>
                </a:cubicBezTo>
                <a:cubicBezTo>
                  <a:pt x="21488" y="14396"/>
                  <a:pt x="21507" y="14421"/>
                  <a:pt x="21530" y="14446"/>
                </a:cubicBezTo>
                <a:cubicBezTo>
                  <a:pt x="21553" y="14470"/>
                  <a:pt x="21582" y="14488"/>
                  <a:pt x="21570" y="14526"/>
                </a:cubicBezTo>
                <a:cubicBezTo>
                  <a:pt x="21559" y="14560"/>
                  <a:pt x="21561" y="14631"/>
                  <a:pt x="21491" y="14605"/>
                </a:cubicBezTo>
                <a:cubicBezTo>
                  <a:pt x="21423" y="14580"/>
                  <a:pt x="21459" y="14574"/>
                  <a:pt x="21411" y="14506"/>
                </a:cubicBezTo>
                <a:cubicBezTo>
                  <a:pt x="21398" y="14487"/>
                  <a:pt x="21371" y="14392"/>
                  <a:pt x="21372" y="14367"/>
                </a:cubicBezTo>
                <a:cubicBezTo>
                  <a:pt x="21374" y="14318"/>
                  <a:pt x="21371" y="14301"/>
                  <a:pt x="21411" y="14268"/>
                </a:cubicBezTo>
                <a:cubicBezTo>
                  <a:pt x="21445" y="14240"/>
                  <a:pt x="21526" y="14197"/>
                  <a:pt x="21590" y="14228"/>
                </a:cubicBezTo>
                <a:cubicBezTo>
                  <a:pt x="21679" y="14271"/>
                  <a:pt x="21594" y="14231"/>
                  <a:pt x="21650" y="14307"/>
                </a:cubicBezTo>
                <a:cubicBezTo>
                  <a:pt x="21679" y="14347"/>
                  <a:pt x="21650" y="14406"/>
                  <a:pt x="21650" y="14407"/>
                </a:cubicBezTo>
              </a:path>
              <a:path w="4922" h="6232">
                <a:moveTo>
                  <a:pt x="21689" y="14387"/>
                </a:moveTo>
                <a:cubicBezTo>
                  <a:pt x="21684" y="14403"/>
                  <a:pt x="21673" y="14548"/>
                  <a:pt x="21669" y="14545"/>
                </a:cubicBezTo>
                <a:cubicBezTo>
                  <a:pt x="21617" y="14508"/>
                  <a:pt x="21654" y="14507"/>
                  <a:pt x="21630" y="14446"/>
                </a:cubicBezTo>
                <a:cubicBezTo>
                  <a:pt x="21611" y="14398"/>
                  <a:pt x="21623" y="14393"/>
                  <a:pt x="21610" y="14347"/>
                </a:cubicBezTo>
                <a:cubicBezTo>
                  <a:pt x="21580" y="14359"/>
                  <a:pt x="21677" y="14293"/>
                  <a:pt x="21630" y="14327"/>
                </a:cubicBezTo>
                <a:cubicBezTo>
                  <a:pt x="21600" y="14349"/>
                  <a:pt x="21587" y="14372"/>
                  <a:pt x="21530" y="14387"/>
                </a:cubicBezTo>
                <a:cubicBezTo>
                  <a:pt x="21475" y="14402"/>
                  <a:pt x="21370" y="14421"/>
                  <a:pt x="21312" y="14407"/>
                </a:cubicBezTo>
                <a:cubicBezTo>
                  <a:pt x="21239" y="14389"/>
                  <a:pt x="21207" y="14364"/>
                  <a:pt x="21173" y="14307"/>
                </a:cubicBezTo>
                <a:cubicBezTo>
                  <a:pt x="21152" y="14271"/>
                  <a:pt x="21180" y="14192"/>
                  <a:pt x="21173" y="14149"/>
                </a:cubicBezTo>
                <a:cubicBezTo>
                  <a:pt x="21234" y="14144"/>
                  <a:pt x="21285" y="14132"/>
                  <a:pt x="21352" y="14129"/>
                </a:cubicBezTo>
                <a:cubicBezTo>
                  <a:pt x="21565" y="14121"/>
                  <a:pt x="22008" y="14072"/>
                  <a:pt x="22165" y="14248"/>
                </a:cubicBezTo>
                <a:cubicBezTo>
                  <a:pt x="22219" y="14309"/>
                  <a:pt x="22261" y="14374"/>
                  <a:pt x="22205" y="14466"/>
                </a:cubicBezTo>
                <a:cubicBezTo>
                  <a:pt x="22156" y="14546"/>
                  <a:pt x="22154" y="14546"/>
                  <a:pt x="22066" y="14585"/>
                </a:cubicBezTo>
                <a:cubicBezTo>
                  <a:pt x="22038" y="14597"/>
                  <a:pt x="21996" y="14575"/>
                  <a:pt x="21967" y="14585"/>
                </a:cubicBezTo>
                <a:cubicBezTo>
                  <a:pt x="21984" y="14417"/>
                  <a:pt x="21968" y="14354"/>
                  <a:pt x="22126" y="14268"/>
                </a:cubicBezTo>
                <a:cubicBezTo>
                  <a:pt x="22223" y="14215"/>
                  <a:pt x="22296" y="14221"/>
                  <a:pt x="22404" y="14248"/>
                </a:cubicBezTo>
                <a:cubicBezTo>
                  <a:pt x="22552" y="14285"/>
                  <a:pt x="22588" y="14349"/>
                  <a:pt x="22622" y="14486"/>
                </a:cubicBezTo>
                <a:cubicBezTo>
                  <a:pt x="22639" y="14555"/>
                  <a:pt x="22634" y="14670"/>
                  <a:pt x="22582" y="14704"/>
                </a:cubicBezTo>
                <a:cubicBezTo>
                  <a:pt x="22546" y="14728"/>
                  <a:pt x="22471" y="14736"/>
                  <a:pt x="22423" y="14724"/>
                </a:cubicBezTo>
                <a:cubicBezTo>
                  <a:pt x="22333" y="14701"/>
                  <a:pt x="22249" y="14607"/>
                  <a:pt x="22205" y="14526"/>
                </a:cubicBezTo>
                <a:cubicBezTo>
                  <a:pt x="22191" y="14501"/>
                  <a:pt x="22157" y="14414"/>
                  <a:pt x="22165" y="14387"/>
                </a:cubicBezTo>
                <a:cubicBezTo>
                  <a:pt x="22189" y="14307"/>
                  <a:pt x="22195" y="14342"/>
                  <a:pt x="22265" y="14307"/>
                </a:cubicBezTo>
                <a:cubicBezTo>
                  <a:pt x="22363" y="14257"/>
                  <a:pt x="22511" y="14270"/>
                  <a:pt x="22622" y="14268"/>
                </a:cubicBezTo>
                <a:cubicBezTo>
                  <a:pt x="22723" y="14266"/>
                  <a:pt x="22824" y="14242"/>
                  <a:pt x="22880" y="14327"/>
                </a:cubicBezTo>
                <a:cubicBezTo>
                  <a:pt x="22987" y="14491"/>
                  <a:pt x="22775" y="14760"/>
                  <a:pt x="22662" y="14843"/>
                </a:cubicBezTo>
                <a:cubicBezTo>
                  <a:pt x="22622" y="14872"/>
                  <a:pt x="22496" y="14918"/>
                  <a:pt x="22443" y="14903"/>
                </a:cubicBezTo>
                <a:cubicBezTo>
                  <a:pt x="22360" y="14880"/>
                  <a:pt x="22357" y="14787"/>
                  <a:pt x="22344" y="14724"/>
                </a:cubicBezTo>
                <a:cubicBezTo>
                  <a:pt x="22317" y="14595"/>
                  <a:pt x="22331" y="14377"/>
                  <a:pt x="22384" y="14287"/>
                </a:cubicBezTo>
                <a:cubicBezTo>
                  <a:pt x="22426" y="14215"/>
                  <a:pt x="22425" y="14215"/>
                  <a:pt x="22503" y="14188"/>
                </a:cubicBezTo>
                <a:cubicBezTo>
                  <a:pt x="22636" y="14142"/>
                  <a:pt x="22871" y="14178"/>
                  <a:pt x="22939" y="14307"/>
                </a:cubicBezTo>
                <a:cubicBezTo>
                  <a:pt x="22958" y="14344"/>
                  <a:pt x="22969" y="14377"/>
                  <a:pt x="22959" y="14426"/>
                </a:cubicBezTo>
                <a:cubicBezTo>
                  <a:pt x="22952" y="14459"/>
                  <a:pt x="22928" y="14502"/>
                  <a:pt x="22900" y="14526"/>
                </a:cubicBezTo>
                <a:cubicBezTo>
                  <a:pt x="22885" y="14538"/>
                  <a:pt x="22785" y="14553"/>
                  <a:pt x="22761" y="14545"/>
                </a:cubicBezTo>
                <a:cubicBezTo>
                  <a:pt x="22684" y="14519"/>
                  <a:pt x="22650" y="14447"/>
                  <a:pt x="22622" y="14387"/>
                </a:cubicBezTo>
                <a:cubicBezTo>
                  <a:pt x="22607" y="14355"/>
                  <a:pt x="22597" y="14286"/>
                  <a:pt x="22602" y="14248"/>
                </a:cubicBezTo>
                <a:cubicBezTo>
                  <a:pt x="22609" y="14196"/>
                  <a:pt x="22596" y="14185"/>
                  <a:pt x="22642" y="14149"/>
                </a:cubicBezTo>
                <a:cubicBezTo>
                  <a:pt x="22684" y="14116"/>
                  <a:pt x="22726" y="14133"/>
                  <a:pt x="22781" y="14129"/>
                </a:cubicBezTo>
                <a:cubicBezTo>
                  <a:pt x="22838" y="14125"/>
                  <a:pt x="22875" y="14133"/>
                  <a:pt x="22920" y="14149"/>
                </a:cubicBezTo>
                <a:cubicBezTo>
                  <a:pt x="22946" y="14158"/>
                  <a:pt x="22929" y="14185"/>
                  <a:pt x="22939" y="14188"/>
                </a:cubicBezTo>
                <a:cubicBezTo>
                  <a:pt x="22834" y="14220"/>
                  <a:pt x="22829" y="14242"/>
                  <a:pt x="22701" y="14248"/>
                </a:cubicBezTo>
                <a:cubicBezTo>
                  <a:pt x="22585" y="14254"/>
                  <a:pt x="22503" y="14233"/>
                  <a:pt x="22404" y="14168"/>
                </a:cubicBezTo>
                <a:cubicBezTo>
                  <a:pt x="22365" y="14142"/>
                  <a:pt x="22316" y="14115"/>
                  <a:pt x="22304" y="14069"/>
                </a:cubicBezTo>
                <a:cubicBezTo>
                  <a:pt x="22293" y="14027"/>
                  <a:pt x="22317" y="14004"/>
                  <a:pt x="22324" y="13990"/>
                </a:cubicBezTo>
                <a:cubicBezTo>
                  <a:pt x="22347" y="13939"/>
                  <a:pt x="22395" y="13917"/>
                  <a:pt x="22443" y="13891"/>
                </a:cubicBezTo>
                <a:cubicBezTo>
                  <a:pt x="22507" y="13857"/>
                  <a:pt x="22612" y="13851"/>
                  <a:pt x="22681" y="13851"/>
                </a:cubicBezTo>
                <a:cubicBezTo>
                  <a:pt x="22714" y="13851"/>
                  <a:pt x="22760" y="13870"/>
                  <a:pt x="22781" y="13871"/>
                </a:cubicBezTo>
                <a:cubicBezTo>
                  <a:pt x="22751" y="14058"/>
                  <a:pt x="22746" y="14108"/>
                  <a:pt x="22582" y="14248"/>
                </a:cubicBezTo>
                <a:cubicBezTo>
                  <a:pt x="22418" y="14388"/>
                  <a:pt x="22109" y="14382"/>
                  <a:pt x="21907" y="14387"/>
                </a:cubicBezTo>
                <a:cubicBezTo>
                  <a:pt x="21743" y="14391"/>
                  <a:pt x="21606" y="14393"/>
                  <a:pt x="21451" y="14347"/>
                </a:cubicBezTo>
                <a:cubicBezTo>
                  <a:pt x="21451" y="14340"/>
                  <a:pt x="21451" y="14334"/>
                  <a:pt x="21451" y="14327"/>
                </a:cubicBezTo>
                <a:cubicBezTo>
                  <a:pt x="21794" y="14335"/>
                  <a:pt x="22030" y="14389"/>
                  <a:pt x="22324" y="14585"/>
                </a:cubicBezTo>
                <a:cubicBezTo>
                  <a:pt x="22504" y="14705"/>
                  <a:pt x="22663" y="14844"/>
                  <a:pt x="22741" y="15042"/>
                </a:cubicBezTo>
                <a:cubicBezTo>
                  <a:pt x="22814" y="15226"/>
                  <a:pt x="22758" y="15295"/>
                  <a:pt x="22701" y="15458"/>
                </a:cubicBezTo>
                <a:cubicBezTo>
                  <a:pt x="22624" y="15677"/>
                  <a:pt x="22395" y="16063"/>
                  <a:pt x="22165" y="16153"/>
                </a:cubicBezTo>
                <a:cubicBezTo>
                  <a:pt x="22085" y="16185"/>
                  <a:pt x="21982" y="16135"/>
                  <a:pt x="21907" y="16133"/>
                </a:cubicBezTo>
                <a:cubicBezTo>
                  <a:pt x="21929" y="16054"/>
                  <a:pt x="21862" y="15954"/>
                  <a:pt x="21967" y="15915"/>
                </a:cubicBezTo>
                <a:cubicBezTo>
                  <a:pt x="22089" y="15870"/>
                  <a:pt x="22223" y="15982"/>
                  <a:pt x="22304" y="16054"/>
                </a:cubicBezTo>
                <a:cubicBezTo>
                  <a:pt x="22533" y="16259"/>
                  <a:pt x="22769" y="16617"/>
                  <a:pt x="22820" y="16927"/>
                </a:cubicBezTo>
                <a:cubicBezTo>
                  <a:pt x="22836" y="17025"/>
                  <a:pt x="22819" y="17132"/>
                  <a:pt x="22800" y="17224"/>
                </a:cubicBezTo>
                <a:cubicBezTo>
                  <a:pt x="22793" y="17255"/>
                  <a:pt x="22741" y="17263"/>
                  <a:pt x="22741" y="17264"/>
                </a:cubicBezTo>
                <a:cubicBezTo>
                  <a:pt x="22735" y="17286"/>
                  <a:pt x="22772" y="17224"/>
                  <a:pt x="22761" y="17244"/>
                </a:cubicBezTo>
                <a:cubicBezTo>
                  <a:pt x="22962" y="17261"/>
                  <a:pt x="23050" y="17262"/>
                  <a:pt x="23237" y="17383"/>
                </a:cubicBezTo>
                <a:cubicBezTo>
                  <a:pt x="23338" y="17448"/>
                  <a:pt x="23442" y="17520"/>
                  <a:pt x="23475" y="17641"/>
                </a:cubicBezTo>
                <a:cubicBezTo>
                  <a:pt x="23496" y="17717"/>
                  <a:pt x="23465" y="17834"/>
                  <a:pt x="23455" y="17879"/>
                </a:cubicBezTo>
                <a:cubicBezTo>
                  <a:pt x="23449" y="17905"/>
                  <a:pt x="23397" y="17873"/>
                  <a:pt x="23396" y="17899"/>
                </a:cubicBezTo>
                <a:cubicBezTo>
                  <a:pt x="23395" y="17916"/>
                  <a:pt x="23435" y="17998"/>
                  <a:pt x="23435" y="17998"/>
                </a:cubicBezTo>
                <a:cubicBezTo>
                  <a:pt x="23441" y="18033"/>
                  <a:pt x="23472" y="18069"/>
                  <a:pt x="23475" y="18078"/>
                </a:cubicBezTo>
                <a:cubicBezTo>
                  <a:pt x="23492" y="18126"/>
                  <a:pt x="23482" y="18133"/>
                  <a:pt x="23515" y="18177"/>
                </a:cubicBezTo>
                <a:cubicBezTo>
                  <a:pt x="23528" y="18194"/>
                  <a:pt x="23564" y="18217"/>
                  <a:pt x="23574" y="18236"/>
                </a:cubicBezTo>
                <a:cubicBezTo>
                  <a:pt x="23588" y="18263"/>
                  <a:pt x="23597" y="18278"/>
                  <a:pt x="23614" y="18316"/>
                </a:cubicBezTo>
                <a:cubicBezTo>
                  <a:pt x="23625" y="18340"/>
                  <a:pt x="23622" y="18371"/>
                  <a:pt x="23634" y="18395"/>
                </a:cubicBezTo>
                <a:cubicBezTo>
                  <a:pt x="23637" y="18401"/>
                  <a:pt x="23645" y="18437"/>
                  <a:pt x="23654" y="18455"/>
                </a:cubicBezTo>
                <a:cubicBezTo>
                  <a:pt x="23658" y="18462"/>
                  <a:pt x="23683" y="18491"/>
                  <a:pt x="23693" y="18514"/>
                </a:cubicBezTo>
                <a:cubicBezTo>
                  <a:pt x="23708" y="18549"/>
                  <a:pt x="23738" y="18578"/>
                  <a:pt x="23753" y="18613"/>
                </a:cubicBezTo>
                <a:cubicBezTo>
                  <a:pt x="23764" y="18640"/>
                  <a:pt x="23775" y="18638"/>
                  <a:pt x="23793" y="18673"/>
                </a:cubicBezTo>
                <a:cubicBezTo>
                  <a:pt x="23814" y="18713"/>
                  <a:pt x="23798" y="18746"/>
                  <a:pt x="23832" y="18792"/>
                </a:cubicBezTo>
                <a:cubicBezTo>
                  <a:pt x="23857" y="18826"/>
                  <a:pt x="23899" y="18847"/>
                  <a:pt x="23912" y="18871"/>
                </a:cubicBezTo>
                <a:cubicBezTo>
                  <a:pt x="23929" y="18903"/>
                  <a:pt x="23934" y="18962"/>
                  <a:pt x="23951" y="18990"/>
                </a:cubicBezTo>
                <a:cubicBezTo>
                  <a:pt x="23975" y="19029"/>
                  <a:pt x="24011" y="19052"/>
                  <a:pt x="24031" y="19090"/>
                </a:cubicBezTo>
                <a:cubicBezTo>
                  <a:pt x="24031" y="19097"/>
                  <a:pt x="24031" y="19103"/>
                  <a:pt x="24031" y="19110"/>
                </a:cubicBezTo>
                <a:cubicBezTo>
                  <a:pt x="24037" y="19059"/>
                  <a:pt x="24045" y="18995"/>
                  <a:pt x="24051" y="18971"/>
                </a:cubicBezTo>
                <a:cubicBezTo>
                  <a:pt x="24058" y="18943"/>
                  <a:pt x="24065" y="18918"/>
                  <a:pt x="24070" y="18891"/>
                </a:cubicBezTo>
                <a:cubicBezTo>
                  <a:pt x="24075" y="18866"/>
                  <a:pt x="24081" y="18817"/>
                  <a:pt x="24090" y="18792"/>
                </a:cubicBezTo>
                <a:cubicBezTo>
                  <a:pt x="24099" y="18768"/>
                  <a:pt x="24129" y="18716"/>
                  <a:pt x="24130" y="18713"/>
                </a:cubicBezTo>
                <a:cubicBezTo>
                  <a:pt x="24139" y="18741"/>
                  <a:pt x="24142" y="18724"/>
                  <a:pt x="24150" y="18752"/>
                </a:cubicBezTo>
                <a:cubicBezTo>
                  <a:pt x="24159" y="18784"/>
                  <a:pt x="24161" y="18820"/>
                  <a:pt x="24170" y="18852"/>
                </a:cubicBezTo>
                <a:cubicBezTo>
                  <a:pt x="24177" y="18876"/>
                  <a:pt x="24181" y="18907"/>
                  <a:pt x="24190" y="18931"/>
                </a:cubicBezTo>
                <a:cubicBezTo>
                  <a:pt x="24200" y="18956"/>
                  <a:pt x="24225" y="18981"/>
                  <a:pt x="24229" y="18990"/>
                </a:cubicBezTo>
                <a:cubicBezTo>
                  <a:pt x="24256" y="19044"/>
                  <a:pt x="24296" y="19115"/>
                  <a:pt x="24328" y="19149"/>
                </a:cubicBezTo>
                <a:cubicBezTo>
                  <a:pt x="24335" y="19149"/>
                  <a:pt x="24341" y="19149"/>
                  <a:pt x="24348" y="19149"/>
                </a:cubicBezTo>
                <a:cubicBezTo>
                  <a:pt x="24353" y="19131"/>
                  <a:pt x="24361" y="18973"/>
                  <a:pt x="24368" y="18971"/>
                </a:cubicBezTo>
                <a:cubicBezTo>
                  <a:pt x="24419" y="18953"/>
                  <a:pt x="24347" y="18981"/>
                  <a:pt x="24408" y="18990"/>
                </a:cubicBezTo>
                <a:cubicBezTo>
                  <a:pt x="24428" y="18993"/>
                  <a:pt x="24448" y="19041"/>
                  <a:pt x="24467" y="19050"/>
                </a:cubicBezTo>
                <a:cubicBezTo>
                  <a:pt x="24467" y="18699"/>
                  <a:pt x="24483" y="18343"/>
                  <a:pt x="24447" y="17998"/>
                </a:cubicBezTo>
                <a:cubicBezTo>
                  <a:pt x="24441" y="17940"/>
                  <a:pt x="24455" y="17991"/>
                  <a:pt x="24447" y="17959"/>
                </a:cubicBezTo>
                <a:cubicBezTo>
                  <a:pt x="24441" y="17933"/>
                  <a:pt x="24454" y="17897"/>
                  <a:pt x="24428" y="17899"/>
                </a:cubicBezTo>
                <a:cubicBezTo>
                  <a:pt x="24423" y="17899"/>
                  <a:pt x="24435" y="17891"/>
                  <a:pt x="24408" y="17919"/>
                </a:cubicBezTo>
                <a:cubicBezTo>
                  <a:pt x="24378" y="17951"/>
                  <a:pt x="24391" y="18001"/>
                  <a:pt x="24368" y="18038"/>
                </a:cubicBezTo>
                <a:cubicBezTo>
                  <a:pt x="24368" y="18031"/>
                  <a:pt x="24368" y="18025"/>
                  <a:pt x="24368" y="18018"/>
                </a:cubicBezTo>
                <a:cubicBezTo>
                  <a:pt x="24368" y="17720"/>
                  <a:pt x="24368" y="17423"/>
                  <a:pt x="24368" y="17125"/>
                </a:cubicBezTo>
                <a:cubicBezTo>
                  <a:pt x="24358" y="17136"/>
                  <a:pt x="24316" y="17156"/>
                  <a:pt x="24309" y="17165"/>
                </a:cubicBezTo>
                <a:cubicBezTo>
                  <a:pt x="24291" y="17190"/>
                  <a:pt x="24272" y="17236"/>
                  <a:pt x="24249" y="17264"/>
                </a:cubicBezTo>
                <a:cubicBezTo>
                  <a:pt x="24217" y="17302"/>
                  <a:pt x="24180" y="17343"/>
                  <a:pt x="24150" y="17383"/>
                </a:cubicBezTo>
                <a:cubicBezTo>
                  <a:pt x="24132" y="17408"/>
                  <a:pt x="24093" y="17469"/>
                  <a:pt x="24070" y="17502"/>
                </a:cubicBezTo>
                <a:cubicBezTo>
                  <a:pt x="24048" y="17535"/>
                  <a:pt x="23964" y="17629"/>
                  <a:pt x="23951" y="17661"/>
                </a:cubicBezTo>
                <a:cubicBezTo>
                  <a:pt x="23929" y="17717"/>
                  <a:pt x="23929" y="17817"/>
                  <a:pt x="23912" y="17879"/>
                </a:cubicBezTo>
                <a:cubicBezTo>
                  <a:pt x="23893" y="17918"/>
                  <a:pt x="23886" y="17929"/>
                  <a:pt x="23892" y="17959"/>
                </a:cubicBezTo>
                <a:cubicBezTo>
                  <a:pt x="23933" y="17918"/>
                  <a:pt x="23951" y="17901"/>
                  <a:pt x="23991" y="17859"/>
                </a:cubicBezTo>
                <a:cubicBezTo>
                  <a:pt x="24122" y="17722"/>
                  <a:pt x="24203" y="17573"/>
                  <a:pt x="24309" y="17423"/>
                </a:cubicBezTo>
                <a:cubicBezTo>
                  <a:pt x="24353" y="17361"/>
                  <a:pt x="24401" y="17304"/>
                  <a:pt x="24447" y="17244"/>
                </a:cubicBezTo>
                <a:cubicBezTo>
                  <a:pt x="24454" y="17237"/>
                  <a:pt x="24460" y="17231"/>
                  <a:pt x="24467" y="17224"/>
                </a:cubicBezTo>
                <a:cubicBezTo>
                  <a:pt x="24459" y="17258"/>
                  <a:pt x="24461" y="17292"/>
                  <a:pt x="24447" y="17324"/>
                </a:cubicBezTo>
                <a:cubicBezTo>
                  <a:pt x="24421" y="17383"/>
                  <a:pt x="24398" y="17436"/>
                  <a:pt x="24368" y="17502"/>
                </a:cubicBezTo>
                <a:cubicBezTo>
                  <a:pt x="24329" y="17585"/>
                  <a:pt x="24299" y="17681"/>
                  <a:pt x="24269" y="17760"/>
                </a:cubicBezTo>
                <a:cubicBezTo>
                  <a:pt x="24248" y="17817"/>
                  <a:pt x="24227" y="17858"/>
                  <a:pt x="24209" y="17899"/>
                </a:cubicBezTo>
                <a:cubicBezTo>
                  <a:pt x="24221" y="17872"/>
                  <a:pt x="24216" y="17885"/>
                  <a:pt x="24229" y="17859"/>
                </a:cubicBezTo>
                <a:cubicBezTo>
                  <a:pt x="24250" y="17818"/>
                  <a:pt x="24274" y="17785"/>
                  <a:pt x="24289" y="17740"/>
                </a:cubicBezTo>
                <a:cubicBezTo>
                  <a:pt x="24289" y="17720"/>
                  <a:pt x="24289" y="17714"/>
                  <a:pt x="24289" y="17701"/>
                </a:cubicBezTo>
                <a:cubicBezTo>
                  <a:pt x="24279" y="17773"/>
                  <a:pt x="24255" y="17847"/>
                  <a:pt x="24249" y="17919"/>
                </a:cubicBezTo>
                <a:cubicBezTo>
                  <a:pt x="24240" y="18023"/>
                  <a:pt x="24249" y="18131"/>
                  <a:pt x="24249" y="18236"/>
                </a:cubicBezTo>
                <a:cubicBezTo>
                  <a:pt x="24249" y="18209"/>
                  <a:pt x="24249" y="18263"/>
                  <a:pt x="24249" y="18236"/>
                </a:cubicBezTo>
                <a:cubicBezTo>
                  <a:pt x="24249" y="18177"/>
                  <a:pt x="24249" y="18117"/>
                  <a:pt x="24249" y="18058"/>
                </a:cubicBezTo>
                <a:cubicBezTo>
                  <a:pt x="24244" y="18201"/>
                  <a:pt x="24220" y="18335"/>
                  <a:pt x="24209" y="18475"/>
                </a:cubicBezTo>
                <a:cubicBezTo>
                  <a:pt x="24205" y="18528"/>
                  <a:pt x="24205" y="18576"/>
                  <a:pt x="24209" y="18574"/>
                </a:cubicBezTo>
                <a:cubicBezTo>
                  <a:pt x="24264" y="18551"/>
                  <a:pt x="24283" y="18457"/>
                  <a:pt x="24309" y="18415"/>
                </a:cubicBezTo>
                <a:cubicBezTo>
                  <a:pt x="24309" y="18522"/>
                  <a:pt x="24309" y="18756"/>
                  <a:pt x="24309" y="18792"/>
                </a:cubicBezTo>
                <a:cubicBezTo>
                  <a:pt x="24315" y="18753"/>
                  <a:pt x="24321" y="18732"/>
                  <a:pt x="24328" y="18693"/>
                </a:cubicBezTo>
                <a:cubicBezTo>
                  <a:pt x="24336" y="18648"/>
                  <a:pt x="24341" y="18597"/>
                  <a:pt x="24348" y="18554"/>
                </a:cubicBezTo>
                <a:cubicBezTo>
                  <a:pt x="24348" y="18599"/>
                  <a:pt x="24348" y="18588"/>
                  <a:pt x="24348" y="18633"/>
                </a:cubicBezTo>
                <a:cubicBezTo>
                  <a:pt x="24348" y="18703"/>
                  <a:pt x="24344" y="18749"/>
                  <a:pt x="24328" y="18812"/>
                </a:cubicBezTo>
                <a:cubicBezTo>
                  <a:pt x="24323" y="18831"/>
                  <a:pt x="24314" y="18793"/>
                  <a:pt x="24309" y="18812"/>
                </a:cubicBezTo>
                <a:cubicBezTo>
                  <a:pt x="24351" y="18791"/>
                  <a:pt x="24427" y="18786"/>
                  <a:pt x="24467" y="18752"/>
                </a:cubicBezTo>
                <a:cubicBezTo>
                  <a:pt x="24513" y="18713"/>
                  <a:pt x="24621" y="18606"/>
                  <a:pt x="24646" y="18554"/>
                </a:cubicBezTo>
                <a:cubicBezTo>
                  <a:pt x="24718" y="18406"/>
                  <a:pt x="24686" y="18289"/>
                  <a:pt x="24686" y="18137"/>
                </a:cubicBezTo>
                <a:cubicBezTo>
                  <a:pt x="24686" y="18078"/>
                  <a:pt x="24686" y="18071"/>
                  <a:pt x="24686" y="18038"/>
                </a:cubicBezTo>
              </a:path>
              <a:path w="4922" h="6232">
                <a:moveTo>
                  <a:pt x="24725" y="18038"/>
                </a:moveTo>
                <a:cubicBezTo>
                  <a:pt x="24702" y="18068"/>
                  <a:pt x="24705" y="18079"/>
                  <a:pt x="24705" y="18117"/>
                </a:cubicBezTo>
                <a:cubicBezTo>
                  <a:pt x="24705" y="18144"/>
                  <a:pt x="24705" y="18170"/>
                  <a:pt x="24705" y="18197"/>
                </a:cubicBezTo>
              </a:path>
              <a:path w="4922" h="6232">
                <a:moveTo>
                  <a:pt x="24348" y="18554"/>
                </a:moveTo>
                <a:cubicBezTo>
                  <a:pt x="24359" y="18532"/>
                  <a:pt x="24351" y="18495"/>
                  <a:pt x="24368" y="18475"/>
                </a:cubicBezTo>
                <a:cubicBezTo>
                  <a:pt x="24386" y="18455"/>
                  <a:pt x="24403" y="18446"/>
                  <a:pt x="24428" y="18455"/>
                </a:cubicBezTo>
                <a:cubicBezTo>
                  <a:pt x="24469" y="18470"/>
                  <a:pt x="24423" y="18470"/>
                  <a:pt x="24447" y="18494"/>
                </a:cubicBezTo>
                <a:cubicBezTo>
                  <a:pt x="24441" y="18495"/>
                  <a:pt x="24424" y="18522"/>
                  <a:pt x="24388" y="18514"/>
                </a:cubicBezTo>
                <a:cubicBezTo>
                  <a:pt x="24341" y="18504"/>
                  <a:pt x="24358" y="18493"/>
                  <a:pt x="24348" y="18455"/>
                </a:cubicBezTo>
                <a:cubicBezTo>
                  <a:pt x="24325" y="18362"/>
                  <a:pt x="24360" y="18244"/>
                  <a:pt x="24368" y="18157"/>
                </a:cubicBezTo>
                <a:cubicBezTo>
                  <a:pt x="24371" y="18122"/>
                  <a:pt x="24367" y="18091"/>
                  <a:pt x="24388" y="18078"/>
                </a:cubicBezTo>
                <a:cubicBezTo>
                  <a:pt x="24407" y="18066"/>
                  <a:pt x="24464" y="18080"/>
                  <a:pt x="24487" y="18078"/>
                </a:cubicBezTo>
                <a:cubicBezTo>
                  <a:pt x="24487" y="18145"/>
                  <a:pt x="24488" y="18200"/>
                  <a:pt x="24467" y="18256"/>
                </a:cubicBezTo>
                <a:cubicBezTo>
                  <a:pt x="24449" y="18304"/>
                  <a:pt x="24448" y="18280"/>
                  <a:pt x="24408" y="18296"/>
                </a:cubicBezTo>
                <a:cubicBezTo>
                  <a:pt x="24368" y="18312"/>
                  <a:pt x="24330" y="18307"/>
                  <a:pt x="24289" y="18316"/>
                </a:cubicBezTo>
                <a:cubicBezTo>
                  <a:pt x="24229" y="18329"/>
                  <a:pt x="24197" y="18336"/>
                  <a:pt x="24130" y="18336"/>
                </a:cubicBezTo>
                <a:cubicBezTo>
                  <a:pt x="24091" y="18336"/>
                  <a:pt x="24082" y="18338"/>
                  <a:pt x="24051" y="18316"/>
                </a:cubicBezTo>
                <a:cubicBezTo>
                  <a:pt x="24043" y="18310"/>
                  <a:pt x="23995" y="18232"/>
                  <a:pt x="23991" y="18217"/>
                </a:cubicBezTo>
                <a:cubicBezTo>
                  <a:pt x="23980" y="18175"/>
                  <a:pt x="23987" y="18108"/>
                  <a:pt x="24011" y="18078"/>
                </a:cubicBezTo>
                <a:cubicBezTo>
                  <a:pt x="24039" y="18042"/>
                  <a:pt x="24077" y="18056"/>
                  <a:pt x="24110" y="18038"/>
                </a:cubicBezTo>
                <a:cubicBezTo>
                  <a:pt x="24166" y="18008"/>
                  <a:pt x="24168" y="18005"/>
                  <a:pt x="24229" y="17998"/>
                </a:cubicBezTo>
                <a:cubicBezTo>
                  <a:pt x="24236" y="17998"/>
                  <a:pt x="24242" y="17998"/>
                  <a:pt x="24249" y="17998"/>
                </a:cubicBezTo>
                <a:cubicBezTo>
                  <a:pt x="24259" y="18032"/>
                  <a:pt x="24257" y="18064"/>
                  <a:pt x="24269" y="18097"/>
                </a:cubicBezTo>
                <a:cubicBezTo>
                  <a:pt x="24296" y="18173"/>
                  <a:pt x="24307" y="18215"/>
                  <a:pt x="24309" y="18296"/>
                </a:cubicBezTo>
                <a:cubicBezTo>
                  <a:pt x="24312" y="18383"/>
                  <a:pt x="24326" y="18469"/>
                  <a:pt x="24269" y="18534"/>
                </a:cubicBezTo>
                <a:cubicBezTo>
                  <a:pt x="24227" y="18582"/>
                  <a:pt x="24185" y="18604"/>
                  <a:pt x="24130" y="18633"/>
                </a:cubicBezTo>
                <a:cubicBezTo>
                  <a:pt x="24069" y="18665"/>
                  <a:pt x="24015" y="18698"/>
                  <a:pt x="23951" y="18713"/>
                </a:cubicBezTo>
                <a:cubicBezTo>
                  <a:pt x="23874" y="18731"/>
                  <a:pt x="23915" y="18703"/>
                  <a:pt x="23892" y="18673"/>
                </a:cubicBezTo>
                <a:cubicBezTo>
                  <a:pt x="23892" y="18650"/>
                  <a:pt x="23890" y="18642"/>
                  <a:pt x="23872" y="18633"/>
                </a:cubicBezTo>
                <a:cubicBezTo>
                  <a:pt x="23903" y="18603"/>
                  <a:pt x="23851" y="18605"/>
                  <a:pt x="23912" y="18594"/>
                </a:cubicBezTo>
                <a:cubicBezTo>
                  <a:pt x="23953" y="18586"/>
                  <a:pt x="23996" y="18591"/>
                  <a:pt x="24011" y="18613"/>
                </a:cubicBezTo>
                <a:cubicBezTo>
                  <a:pt x="24011" y="18633"/>
                  <a:pt x="24011" y="18640"/>
                  <a:pt x="24011" y="18653"/>
                </a:cubicBezTo>
                <a:cubicBezTo>
                  <a:pt x="23970" y="18645"/>
                  <a:pt x="23948" y="18669"/>
                  <a:pt x="23932" y="18633"/>
                </a:cubicBezTo>
                <a:cubicBezTo>
                  <a:pt x="23912" y="18588"/>
                  <a:pt x="23935" y="18488"/>
                  <a:pt x="23951" y="18455"/>
                </a:cubicBezTo>
                <a:cubicBezTo>
                  <a:pt x="23976" y="18403"/>
                  <a:pt x="23979" y="18341"/>
                  <a:pt x="24011" y="18296"/>
                </a:cubicBezTo>
                <a:cubicBezTo>
                  <a:pt x="24025" y="18276"/>
                  <a:pt x="24080" y="18246"/>
                  <a:pt x="24090" y="18236"/>
                </a:cubicBezTo>
                <a:cubicBezTo>
                  <a:pt x="24098" y="18271"/>
                  <a:pt x="24106" y="18300"/>
                  <a:pt x="24110" y="18336"/>
                </a:cubicBezTo>
                <a:cubicBezTo>
                  <a:pt x="24117" y="18404"/>
                  <a:pt x="24122" y="18459"/>
                  <a:pt x="24070" y="18494"/>
                </a:cubicBezTo>
                <a:cubicBezTo>
                  <a:pt x="24047" y="18509"/>
                  <a:pt x="24002" y="18515"/>
                  <a:pt x="23971" y="18514"/>
                </a:cubicBezTo>
                <a:cubicBezTo>
                  <a:pt x="23931" y="18513"/>
                  <a:pt x="23920" y="18507"/>
                  <a:pt x="23892" y="18475"/>
                </a:cubicBezTo>
                <a:cubicBezTo>
                  <a:pt x="23875" y="18455"/>
                  <a:pt x="23882" y="18418"/>
                  <a:pt x="23872" y="18395"/>
                </a:cubicBezTo>
                <a:cubicBezTo>
                  <a:pt x="23859" y="18367"/>
                  <a:pt x="23856" y="18348"/>
                  <a:pt x="23852" y="18316"/>
                </a:cubicBezTo>
                <a:cubicBezTo>
                  <a:pt x="23852" y="18296"/>
                  <a:pt x="23852" y="18289"/>
                  <a:pt x="23852" y="18276"/>
                </a:cubicBezTo>
                <a:cubicBezTo>
                  <a:pt x="23891" y="18276"/>
                  <a:pt x="23991" y="18256"/>
                  <a:pt x="24011" y="18296"/>
                </a:cubicBezTo>
                <a:cubicBezTo>
                  <a:pt x="24041" y="18356"/>
                  <a:pt x="24005" y="18454"/>
                  <a:pt x="23971" y="18494"/>
                </a:cubicBezTo>
                <a:cubicBezTo>
                  <a:pt x="23939" y="18532"/>
                  <a:pt x="23926" y="18517"/>
                  <a:pt x="23892" y="18534"/>
                </a:cubicBezTo>
                <a:cubicBezTo>
                  <a:pt x="23878" y="18504"/>
                  <a:pt x="23858" y="18489"/>
                  <a:pt x="23852" y="18455"/>
                </a:cubicBezTo>
                <a:cubicBezTo>
                  <a:pt x="23846" y="18416"/>
                  <a:pt x="23847" y="18388"/>
                  <a:pt x="23872" y="18375"/>
                </a:cubicBezTo>
                <a:cubicBezTo>
                  <a:pt x="23912" y="18355"/>
                  <a:pt x="23998" y="18380"/>
                  <a:pt x="24031" y="18395"/>
                </a:cubicBezTo>
                <a:cubicBezTo>
                  <a:pt x="24054" y="18406"/>
                  <a:pt x="24187" y="18528"/>
                  <a:pt x="24190" y="18534"/>
                </a:cubicBezTo>
                <a:cubicBezTo>
                  <a:pt x="24211" y="18578"/>
                  <a:pt x="24176" y="18638"/>
                  <a:pt x="24170" y="18653"/>
                </a:cubicBezTo>
                <a:cubicBezTo>
                  <a:pt x="24158" y="18682"/>
                  <a:pt x="24146" y="18673"/>
                  <a:pt x="24130" y="18693"/>
                </a:cubicBezTo>
                <a:cubicBezTo>
                  <a:pt x="24118" y="18707"/>
                  <a:pt x="24117" y="18738"/>
                  <a:pt x="24110" y="18752"/>
                </a:cubicBezTo>
                <a:cubicBezTo>
                  <a:pt x="24096" y="18780"/>
                  <a:pt x="24110" y="18793"/>
                  <a:pt x="24090" y="18812"/>
                </a:cubicBezTo>
                <a:cubicBezTo>
                  <a:pt x="24062" y="18839"/>
                  <a:pt x="24056" y="18811"/>
                  <a:pt x="24051" y="18812"/>
                </a:cubicBezTo>
                <a:cubicBezTo>
                  <a:pt x="24044" y="18812"/>
                  <a:pt x="24038" y="18812"/>
                  <a:pt x="24031" y="18812"/>
                </a:cubicBezTo>
                <a:cubicBezTo>
                  <a:pt x="24039" y="18784"/>
                  <a:pt x="24014" y="18749"/>
                  <a:pt x="24051" y="18732"/>
                </a:cubicBezTo>
                <a:cubicBezTo>
                  <a:pt x="24097" y="18711"/>
                  <a:pt x="24231" y="18725"/>
                  <a:pt x="24269" y="18752"/>
                </a:cubicBezTo>
                <a:cubicBezTo>
                  <a:pt x="24287" y="18765"/>
                  <a:pt x="24310" y="18810"/>
                  <a:pt x="24309" y="18832"/>
                </a:cubicBezTo>
                <a:cubicBezTo>
                  <a:pt x="24307" y="18863"/>
                  <a:pt x="24293" y="18849"/>
                  <a:pt x="24289" y="18891"/>
                </a:cubicBezTo>
                <a:cubicBezTo>
                  <a:pt x="24285" y="18934"/>
                  <a:pt x="24303" y="18958"/>
                  <a:pt x="24309" y="18990"/>
                </a:cubicBezTo>
                <a:cubicBezTo>
                  <a:pt x="24309" y="18997"/>
                  <a:pt x="24309" y="19003"/>
                  <a:pt x="24309" y="19010"/>
                </a:cubicBezTo>
                <a:cubicBezTo>
                  <a:pt x="24312" y="19001"/>
                  <a:pt x="24327" y="18984"/>
                  <a:pt x="24328" y="18951"/>
                </a:cubicBezTo>
                <a:cubicBezTo>
                  <a:pt x="24333" y="18828"/>
                  <a:pt x="24352" y="18666"/>
                  <a:pt x="24309" y="18554"/>
                </a:cubicBezTo>
                <a:cubicBezTo>
                  <a:pt x="24296" y="18520"/>
                  <a:pt x="24282" y="18485"/>
                  <a:pt x="24269" y="18455"/>
                </a:cubicBezTo>
                <a:cubicBezTo>
                  <a:pt x="24257" y="18428"/>
                  <a:pt x="24238" y="18426"/>
                  <a:pt x="24229" y="18415"/>
                </a:cubicBezTo>
                <a:cubicBezTo>
                  <a:pt x="24208" y="18445"/>
                  <a:pt x="24188" y="18437"/>
                  <a:pt x="24170" y="18455"/>
                </a:cubicBezTo>
                <a:cubicBezTo>
                  <a:pt x="24161" y="18464"/>
                  <a:pt x="24156" y="18503"/>
                  <a:pt x="24150" y="18514"/>
                </a:cubicBezTo>
                <a:cubicBezTo>
                  <a:pt x="24136" y="18537"/>
                  <a:pt x="24145" y="18545"/>
                  <a:pt x="24130" y="18574"/>
                </a:cubicBezTo>
                <a:cubicBezTo>
                  <a:pt x="24117" y="18599"/>
                  <a:pt x="24102" y="18596"/>
                  <a:pt x="24090" y="18613"/>
                </a:cubicBezTo>
                <a:cubicBezTo>
                  <a:pt x="24075" y="18635"/>
                  <a:pt x="24085" y="18654"/>
                  <a:pt x="24070" y="18673"/>
                </a:cubicBezTo>
                <a:cubicBezTo>
                  <a:pt x="24053" y="18695"/>
                  <a:pt x="24042" y="18695"/>
                  <a:pt x="24011" y="18713"/>
                </a:cubicBezTo>
                <a:cubicBezTo>
                  <a:pt x="23993" y="18723"/>
                  <a:pt x="23991" y="18729"/>
                  <a:pt x="23951" y="18732"/>
                </a:cubicBezTo>
                <a:cubicBezTo>
                  <a:pt x="23918" y="18734"/>
                  <a:pt x="23885" y="18732"/>
                  <a:pt x="23852" y="18732"/>
                </a:cubicBezTo>
                <a:cubicBezTo>
                  <a:pt x="23852" y="18656"/>
                  <a:pt x="23877" y="18532"/>
                  <a:pt x="23832" y="18475"/>
                </a:cubicBezTo>
                <a:cubicBezTo>
                  <a:pt x="23815" y="18454"/>
                  <a:pt x="23751" y="18447"/>
                  <a:pt x="23733" y="18435"/>
                </a:cubicBezTo>
                <a:cubicBezTo>
                  <a:pt x="23725" y="18429"/>
                  <a:pt x="23691" y="18394"/>
                  <a:pt x="23674" y="18375"/>
                </a:cubicBezTo>
                <a:cubicBezTo>
                  <a:pt x="23653" y="18350"/>
                  <a:pt x="23637" y="18304"/>
                  <a:pt x="23614" y="18276"/>
                </a:cubicBezTo>
                <a:cubicBezTo>
                  <a:pt x="23568" y="18221"/>
                  <a:pt x="23535" y="18176"/>
                  <a:pt x="23495" y="18117"/>
                </a:cubicBezTo>
                <a:cubicBezTo>
                  <a:pt x="23461" y="18068"/>
                  <a:pt x="23407" y="18028"/>
                  <a:pt x="23376" y="17978"/>
                </a:cubicBezTo>
                <a:cubicBezTo>
                  <a:pt x="23361" y="17953"/>
                  <a:pt x="23353" y="17896"/>
                  <a:pt x="23336" y="17879"/>
                </a:cubicBezTo>
                <a:cubicBezTo>
                  <a:pt x="23317" y="17860"/>
                  <a:pt x="23306" y="17872"/>
                  <a:pt x="23277" y="17859"/>
                </a:cubicBezTo>
                <a:cubicBezTo>
                  <a:pt x="23257" y="17850"/>
                  <a:pt x="23225" y="17841"/>
                  <a:pt x="23177" y="17840"/>
                </a:cubicBezTo>
                <a:cubicBezTo>
                  <a:pt x="23117" y="17838"/>
                  <a:pt x="22988" y="17819"/>
                  <a:pt x="22939" y="17859"/>
                </a:cubicBezTo>
                <a:cubicBezTo>
                  <a:pt x="22914" y="17879"/>
                  <a:pt x="22905" y="17913"/>
                  <a:pt x="22880" y="17939"/>
                </a:cubicBezTo>
                <a:cubicBezTo>
                  <a:pt x="22841" y="17979"/>
                  <a:pt x="22839" y="18005"/>
                  <a:pt x="22820" y="18058"/>
                </a:cubicBezTo>
                <a:cubicBezTo>
                  <a:pt x="22808" y="18091"/>
                  <a:pt x="22787" y="18120"/>
                  <a:pt x="22781" y="18157"/>
                </a:cubicBezTo>
                <a:cubicBezTo>
                  <a:pt x="22772" y="18207"/>
                  <a:pt x="22778" y="18277"/>
                  <a:pt x="22800" y="18316"/>
                </a:cubicBezTo>
                <a:cubicBezTo>
                  <a:pt x="22819" y="18350"/>
                  <a:pt x="22843" y="18385"/>
                  <a:pt x="22880" y="18415"/>
                </a:cubicBezTo>
                <a:cubicBezTo>
                  <a:pt x="22903" y="18415"/>
                  <a:pt x="22911" y="18417"/>
                  <a:pt x="22920" y="18435"/>
                </a:cubicBezTo>
                <a:cubicBezTo>
                  <a:pt x="22920" y="18372"/>
                  <a:pt x="22907" y="18308"/>
                  <a:pt x="22900" y="18256"/>
                </a:cubicBezTo>
                <a:cubicBezTo>
                  <a:pt x="22895" y="18216"/>
                  <a:pt x="22896" y="18212"/>
                  <a:pt x="22880" y="18177"/>
                </a:cubicBezTo>
                <a:cubicBezTo>
                  <a:pt x="22864" y="18144"/>
                  <a:pt x="22870" y="18133"/>
                  <a:pt x="22860" y="18097"/>
                </a:cubicBezTo>
                <a:cubicBezTo>
                  <a:pt x="22853" y="18070"/>
                  <a:pt x="22843" y="18044"/>
                  <a:pt x="22840" y="18018"/>
                </a:cubicBezTo>
                <a:cubicBezTo>
                  <a:pt x="22835" y="17979"/>
                  <a:pt x="22834" y="17973"/>
                  <a:pt x="22820" y="17939"/>
                </a:cubicBezTo>
                <a:cubicBezTo>
                  <a:pt x="22801" y="17893"/>
                  <a:pt x="22801" y="17899"/>
                  <a:pt x="22800" y="17899"/>
                </a:cubicBezTo>
                <a:cubicBezTo>
                  <a:pt x="22782" y="17899"/>
                  <a:pt x="22760" y="17920"/>
                  <a:pt x="22761" y="17939"/>
                </a:cubicBezTo>
                <a:cubicBezTo>
                  <a:pt x="22763" y="17967"/>
                  <a:pt x="22780" y="17975"/>
                  <a:pt x="22781" y="17978"/>
                </a:cubicBezTo>
                <a:cubicBezTo>
                  <a:pt x="22781" y="17917"/>
                  <a:pt x="22780" y="17871"/>
                  <a:pt x="22761" y="17820"/>
                </a:cubicBezTo>
                <a:cubicBezTo>
                  <a:pt x="22761" y="17797"/>
                  <a:pt x="22759" y="17789"/>
                  <a:pt x="22741" y="17780"/>
                </a:cubicBezTo>
                <a:cubicBezTo>
                  <a:pt x="22739" y="17788"/>
                  <a:pt x="22722" y="17806"/>
                  <a:pt x="22721" y="17840"/>
                </a:cubicBezTo>
                <a:cubicBezTo>
                  <a:pt x="22719" y="17895"/>
                  <a:pt x="22730" y="17916"/>
                  <a:pt x="22761" y="17959"/>
                </a:cubicBezTo>
                <a:cubicBezTo>
                  <a:pt x="22808" y="18024"/>
                  <a:pt x="22909" y="18105"/>
                  <a:pt x="22979" y="18137"/>
                </a:cubicBezTo>
                <a:cubicBezTo>
                  <a:pt x="23030" y="18160"/>
                  <a:pt x="23063" y="18153"/>
                  <a:pt x="23118" y="18157"/>
                </a:cubicBezTo>
                <a:cubicBezTo>
                  <a:pt x="23114" y="18105"/>
                  <a:pt x="23129" y="18062"/>
                  <a:pt x="23098" y="18038"/>
                </a:cubicBezTo>
                <a:cubicBezTo>
                  <a:pt x="23084" y="18027"/>
                  <a:pt x="23015" y="18019"/>
                  <a:pt x="22999" y="18018"/>
                </a:cubicBezTo>
                <a:cubicBezTo>
                  <a:pt x="22940" y="18013"/>
                  <a:pt x="22913" y="18046"/>
                  <a:pt x="22860" y="18018"/>
                </a:cubicBezTo>
                <a:cubicBezTo>
                  <a:pt x="22823" y="17998"/>
                  <a:pt x="22773" y="17946"/>
                  <a:pt x="22741" y="17919"/>
                </a:cubicBezTo>
                <a:cubicBezTo>
                  <a:pt x="22704" y="17887"/>
                  <a:pt x="22717" y="17874"/>
                  <a:pt x="22701" y="17840"/>
                </a:cubicBezTo>
                <a:cubicBezTo>
                  <a:pt x="22689" y="17814"/>
                  <a:pt x="22681" y="17813"/>
                  <a:pt x="22662" y="17780"/>
                </a:cubicBezTo>
                <a:cubicBezTo>
                  <a:pt x="22651" y="17760"/>
                  <a:pt x="22658" y="17776"/>
                  <a:pt x="22642" y="17760"/>
                </a:cubicBezTo>
                <a:cubicBezTo>
                  <a:pt x="22642" y="17866"/>
                  <a:pt x="22629" y="17929"/>
                  <a:pt x="22701" y="18018"/>
                </a:cubicBezTo>
                <a:cubicBezTo>
                  <a:pt x="22829" y="18177"/>
                  <a:pt x="23072" y="18301"/>
                  <a:pt x="23257" y="18375"/>
                </a:cubicBezTo>
                <a:cubicBezTo>
                  <a:pt x="23523" y="18482"/>
                  <a:pt x="23806" y="18561"/>
                  <a:pt x="24090" y="18574"/>
                </a:cubicBezTo>
                <a:cubicBezTo>
                  <a:pt x="24162" y="18577"/>
                  <a:pt x="24236" y="18574"/>
                  <a:pt x="24309" y="18574"/>
                </a:cubicBezTo>
                <a:cubicBezTo>
                  <a:pt x="24309" y="18466"/>
                  <a:pt x="24322" y="18358"/>
                  <a:pt x="24328" y="18256"/>
                </a:cubicBezTo>
                <a:cubicBezTo>
                  <a:pt x="24332" y="18191"/>
                  <a:pt x="24358" y="17924"/>
                  <a:pt x="24309" y="17899"/>
                </a:cubicBezTo>
                <a:cubicBezTo>
                  <a:pt x="24275" y="17882"/>
                  <a:pt x="24262" y="17911"/>
                  <a:pt x="24229" y="17879"/>
                </a:cubicBezTo>
                <a:cubicBezTo>
                  <a:pt x="24201" y="17853"/>
                  <a:pt x="24183" y="17795"/>
                  <a:pt x="24170" y="17760"/>
                </a:cubicBezTo>
                <a:cubicBezTo>
                  <a:pt x="24163" y="17741"/>
                  <a:pt x="24168" y="17692"/>
                  <a:pt x="24150" y="17681"/>
                </a:cubicBezTo>
                <a:cubicBezTo>
                  <a:pt x="24111" y="17656"/>
                  <a:pt x="24024" y="17698"/>
                  <a:pt x="23991" y="17701"/>
                </a:cubicBezTo>
                <a:cubicBezTo>
                  <a:pt x="23937" y="17706"/>
                  <a:pt x="23926" y="17714"/>
                  <a:pt x="23872" y="17720"/>
                </a:cubicBezTo>
                <a:cubicBezTo>
                  <a:pt x="23892" y="17720"/>
                  <a:pt x="23899" y="17720"/>
                  <a:pt x="23872" y="17720"/>
                </a:cubicBezTo>
              </a:path>
              <a:path w="4922" h="6232">
                <a:moveTo>
                  <a:pt x="23535" y="16768"/>
                </a:moveTo>
                <a:cubicBezTo>
                  <a:pt x="23535" y="16890"/>
                  <a:pt x="23531" y="17015"/>
                  <a:pt x="23555" y="17125"/>
                </a:cubicBezTo>
                <a:cubicBezTo>
                  <a:pt x="23559" y="17143"/>
                  <a:pt x="23576" y="17210"/>
                  <a:pt x="23574" y="17224"/>
                </a:cubicBezTo>
                <a:cubicBezTo>
                  <a:pt x="23566" y="17287"/>
                  <a:pt x="23521" y="17346"/>
                  <a:pt x="23495" y="17403"/>
                </a:cubicBezTo>
                <a:cubicBezTo>
                  <a:pt x="23452" y="17498"/>
                  <a:pt x="23426" y="17579"/>
                  <a:pt x="23416" y="17681"/>
                </a:cubicBezTo>
                <a:cubicBezTo>
                  <a:pt x="23410" y="17742"/>
                  <a:pt x="23422" y="17791"/>
                  <a:pt x="23435" y="17820"/>
                </a:cubicBezTo>
                <a:cubicBezTo>
                  <a:pt x="23442" y="17820"/>
                  <a:pt x="23448" y="17820"/>
                  <a:pt x="23455" y="17820"/>
                </a:cubicBezTo>
                <a:cubicBezTo>
                  <a:pt x="23488" y="17807"/>
                  <a:pt x="23502" y="17819"/>
                  <a:pt x="23535" y="17800"/>
                </a:cubicBezTo>
                <a:cubicBezTo>
                  <a:pt x="23598" y="17764"/>
                  <a:pt x="23634" y="17703"/>
                  <a:pt x="23693" y="17661"/>
                </a:cubicBezTo>
                <a:cubicBezTo>
                  <a:pt x="23751" y="17620"/>
                  <a:pt x="23775" y="17611"/>
                  <a:pt x="23793" y="17542"/>
                </a:cubicBezTo>
                <a:cubicBezTo>
                  <a:pt x="23803" y="17506"/>
                  <a:pt x="23796" y="17472"/>
                  <a:pt x="23773" y="17462"/>
                </a:cubicBezTo>
                <a:cubicBezTo>
                  <a:pt x="23771" y="17461"/>
                  <a:pt x="23698" y="17478"/>
                  <a:pt x="23693" y="17482"/>
                </a:cubicBezTo>
                <a:cubicBezTo>
                  <a:pt x="23656" y="17506"/>
                  <a:pt x="23670" y="17555"/>
                  <a:pt x="23654" y="17582"/>
                </a:cubicBezTo>
                <a:cubicBezTo>
                  <a:pt x="23680" y="17584"/>
                  <a:pt x="23688" y="17608"/>
                  <a:pt x="23713" y="17601"/>
                </a:cubicBezTo>
                <a:cubicBezTo>
                  <a:pt x="23756" y="17589"/>
                  <a:pt x="23801" y="17532"/>
                  <a:pt x="23832" y="17502"/>
                </a:cubicBezTo>
                <a:cubicBezTo>
                  <a:pt x="23889" y="17448"/>
                  <a:pt x="23878" y="17457"/>
                  <a:pt x="23892" y="17383"/>
                </a:cubicBezTo>
                <a:cubicBezTo>
                  <a:pt x="23901" y="17335"/>
                  <a:pt x="23892" y="17304"/>
                  <a:pt x="23872" y="17284"/>
                </a:cubicBezTo>
                <a:cubicBezTo>
                  <a:pt x="23865" y="17277"/>
                  <a:pt x="23842" y="17243"/>
                  <a:pt x="23812" y="17264"/>
                </a:cubicBezTo>
                <a:cubicBezTo>
                  <a:pt x="23760" y="17300"/>
                  <a:pt x="23796" y="17282"/>
                  <a:pt x="23773" y="17343"/>
                </a:cubicBezTo>
                <a:cubicBezTo>
                  <a:pt x="23753" y="17395"/>
                  <a:pt x="23756" y="17427"/>
                  <a:pt x="23753" y="17482"/>
                </a:cubicBezTo>
                <a:cubicBezTo>
                  <a:pt x="23753" y="17489"/>
                  <a:pt x="23753" y="17495"/>
                  <a:pt x="23753" y="17502"/>
                </a:cubicBezTo>
                <a:cubicBezTo>
                  <a:pt x="23779" y="17484"/>
                  <a:pt x="23801" y="17494"/>
                  <a:pt x="23832" y="17462"/>
                </a:cubicBezTo>
                <a:cubicBezTo>
                  <a:pt x="23901" y="17391"/>
                  <a:pt x="23978" y="17286"/>
                  <a:pt x="23991" y="17185"/>
                </a:cubicBezTo>
                <a:cubicBezTo>
                  <a:pt x="24000" y="17110"/>
                  <a:pt x="23980" y="17008"/>
                  <a:pt x="23971" y="16966"/>
                </a:cubicBezTo>
                <a:cubicBezTo>
                  <a:pt x="23880" y="16966"/>
                  <a:pt x="23826" y="16984"/>
                  <a:pt x="23753" y="17006"/>
                </a:cubicBezTo>
                <a:cubicBezTo>
                  <a:pt x="23681" y="17028"/>
                  <a:pt x="23607" y="17050"/>
                  <a:pt x="23574" y="17125"/>
                </a:cubicBezTo>
                <a:cubicBezTo>
                  <a:pt x="23565" y="17146"/>
                  <a:pt x="23578" y="17182"/>
                  <a:pt x="23574" y="17205"/>
                </a:cubicBezTo>
                <a:cubicBezTo>
                  <a:pt x="23600" y="17200"/>
                  <a:pt x="23615" y="17242"/>
                  <a:pt x="23634" y="17224"/>
                </a:cubicBezTo>
                <a:cubicBezTo>
                  <a:pt x="23667" y="17194"/>
                  <a:pt x="23705" y="17133"/>
                  <a:pt x="23733" y="17085"/>
                </a:cubicBezTo>
                <a:cubicBezTo>
                  <a:pt x="23768" y="17026"/>
                  <a:pt x="23767" y="16992"/>
                  <a:pt x="23773" y="16927"/>
                </a:cubicBezTo>
                <a:cubicBezTo>
                  <a:pt x="23773" y="16920"/>
                  <a:pt x="23773" y="16914"/>
                  <a:pt x="23773" y="16907"/>
                </a:cubicBezTo>
                <a:cubicBezTo>
                  <a:pt x="23746" y="16905"/>
                  <a:pt x="23739" y="16879"/>
                  <a:pt x="23713" y="16887"/>
                </a:cubicBezTo>
                <a:cubicBezTo>
                  <a:pt x="23688" y="16895"/>
                  <a:pt x="23606" y="16954"/>
                  <a:pt x="23594" y="16986"/>
                </a:cubicBezTo>
                <a:cubicBezTo>
                  <a:pt x="23583" y="17014"/>
                  <a:pt x="23598" y="17055"/>
                  <a:pt x="23594" y="17085"/>
                </a:cubicBezTo>
                <a:cubicBezTo>
                  <a:pt x="23634" y="17091"/>
                  <a:pt x="23652" y="17102"/>
                  <a:pt x="23693" y="17105"/>
                </a:cubicBezTo>
                <a:cubicBezTo>
                  <a:pt x="23766" y="17111"/>
                  <a:pt x="23826" y="17096"/>
                  <a:pt x="23892" y="17066"/>
                </a:cubicBezTo>
                <a:cubicBezTo>
                  <a:pt x="23968" y="17031"/>
                  <a:pt x="24009" y="16964"/>
                  <a:pt x="24031" y="16887"/>
                </a:cubicBezTo>
                <a:cubicBezTo>
                  <a:pt x="24031" y="16847"/>
                  <a:pt x="24031" y="16834"/>
                  <a:pt x="24031" y="16808"/>
                </a:cubicBezTo>
                <a:cubicBezTo>
                  <a:pt x="23985" y="16835"/>
                  <a:pt x="23998" y="16821"/>
                  <a:pt x="23971" y="16867"/>
                </a:cubicBezTo>
                <a:cubicBezTo>
                  <a:pt x="23891" y="17005"/>
                  <a:pt x="23827" y="17134"/>
                  <a:pt x="23773" y="17284"/>
                </a:cubicBezTo>
                <a:cubicBezTo>
                  <a:pt x="23760" y="17319"/>
                  <a:pt x="23684" y="17546"/>
                  <a:pt x="23733" y="17582"/>
                </a:cubicBezTo>
                <a:cubicBezTo>
                  <a:pt x="23790" y="17624"/>
                  <a:pt x="23898" y="17548"/>
                  <a:pt x="23932" y="17522"/>
                </a:cubicBezTo>
                <a:cubicBezTo>
                  <a:pt x="23984" y="17482"/>
                  <a:pt x="23979" y="17453"/>
                  <a:pt x="24011" y="17403"/>
                </a:cubicBezTo>
                <a:cubicBezTo>
                  <a:pt x="24011" y="17390"/>
                  <a:pt x="24011" y="17376"/>
                  <a:pt x="24011" y="17363"/>
                </a:cubicBezTo>
                <a:cubicBezTo>
                  <a:pt x="23994" y="17385"/>
                  <a:pt x="23940" y="17440"/>
                  <a:pt x="23912" y="17482"/>
                </a:cubicBezTo>
                <a:cubicBezTo>
                  <a:pt x="23885" y="17522"/>
                  <a:pt x="23864" y="17581"/>
                  <a:pt x="23852" y="17621"/>
                </a:cubicBezTo>
                <a:cubicBezTo>
                  <a:pt x="23852" y="17641"/>
                  <a:pt x="23852" y="17648"/>
                  <a:pt x="23852" y="17661"/>
                </a:cubicBezTo>
                <a:cubicBezTo>
                  <a:pt x="23887" y="17645"/>
                  <a:pt x="23912" y="17645"/>
                  <a:pt x="23951" y="17621"/>
                </a:cubicBezTo>
                <a:cubicBezTo>
                  <a:pt x="24030" y="17573"/>
                  <a:pt x="24028" y="17548"/>
                  <a:pt x="24070" y="17482"/>
                </a:cubicBezTo>
                <a:cubicBezTo>
                  <a:pt x="24123" y="17400"/>
                  <a:pt x="24125" y="17362"/>
                  <a:pt x="24130" y="17264"/>
                </a:cubicBezTo>
                <a:cubicBezTo>
                  <a:pt x="24138" y="17105"/>
                  <a:pt x="24103" y="16914"/>
                  <a:pt x="24150" y="16768"/>
                </a:cubicBezTo>
                <a:cubicBezTo>
                  <a:pt x="24157" y="16745"/>
                  <a:pt x="24175" y="16691"/>
                  <a:pt x="24190" y="16669"/>
                </a:cubicBezTo>
                <a:cubicBezTo>
                  <a:pt x="24244" y="16588"/>
                  <a:pt x="24297" y="16541"/>
                  <a:pt x="24328" y="16450"/>
                </a:cubicBezTo>
                <a:cubicBezTo>
                  <a:pt x="24341" y="16411"/>
                  <a:pt x="24362" y="16392"/>
                  <a:pt x="24368" y="16351"/>
                </a:cubicBezTo>
                <a:cubicBezTo>
                  <a:pt x="24373" y="16319"/>
                  <a:pt x="24366" y="16284"/>
                  <a:pt x="24368" y="16252"/>
                </a:cubicBezTo>
                <a:cubicBezTo>
                  <a:pt x="24290" y="16262"/>
                  <a:pt x="24284" y="16242"/>
                  <a:pt x="24229" y="16292"/>
                </a:cubicBezTo>
                <a:cubicBezTo>
                  <a:pt x="24211" y="16309"/>
                  <a:pt x="24189" y="16346"/>
                  <a:pt x="24190" y="16371"/>
                </a:cubicBezTo>
                <a:cubicBezTo>
                  <a:pt x="24192" y="16425"/>
                  <a:pt x="24190" y="16395"/>
                  <a:pt x="24229" y="16411"/>
                </a:cubicBezTo>
                <a:cubicBezTo>
                  <a:pt x="24274" y="16430"/>
                  <a:pt x="24371" y="16407"/>
                  <a:pt x="24388" y="16391"/>
                </a:cubicBezTo>
                <a:cubicBezTo>
                  <a:pt x="24388" y="16371"/>
                  <a:pt x="24388" y="16364"/>
                  <a:pt x="24388" y="16351"/>
                </a:cubicBezTo>
                <a:cubicBezTo>
                  <a:pt x="24364" y="16330"/>
                  <a:pt x="24398" y="16309"/>
                  <a:pt x="24348" y="16292"/>
                </a:cubicBezTo>
                <a:cubicBezTo>
                  <a:pt x="24245" y="16257"/>
                  <a:pt x="24100" y="16303"/>
                  <a:pt x="24011" y="16331"/>
                </a:cubicBezTo>
                <a:cubicBezTo>
                  <a:pt x="23989" y="16338"/>
                  <a:pt x="23951" y="16351"/>
                  <a:pt x="23951" y="16351"/>
                </a:cubicBezTo>
                <a:cubicBezTo>
                  <a:pt x="23957" y="16322"/>
                  <a:pt x="23973" y="16341"/>
                  <a:pt x="23971" y="16312"/>
                </a:cubicBezTo>
                <a:cubicBezTo>
                  <a:pt x="23969" y="16283"/>
                  <a:pt x="23983" y="16249"/>
                  <a:pt x="23951" y="16232"/>
                </a:cubicBezTo>
                <a:cubicBezTo>
                  <a:pt x="23840" y="16174"/>
                  <a:pt x="23511" y="16264"/>
                  <a:pt x="23475" y="16272"/>
                </a:cubicBezTo>
                <a:cubicBezTo>
                  <a:pt x="23501" y="16256"/>
                  <a:pt x="23625" y="16197"/>
                  <a:pt x="23634" y="16173"/>
                </a:cubicBezTo>
                <a:cubicBezTo>
                  <a:pt x="23653" y="16124"/>
                  <a:pt x="23665" y="16147"/>
                  <a:pt x="23614" y="16133"/>
                </a:cubicBezTo>
                <a:cubicBezTo>
                  <a:pt x="23419" y="16081"/>
                  <a:pt x="23192" y="16184"/>
                  <a:pt x="22999" y="16192"/>
                </a:cubicBezTo>
                <a:cubicBezTo>
                  <a:pt x="22953" y="16194"/>
                  <a:pt x="22906" y="16192"/>
                  <a:pt x="22860" y="16192"/>
                </a:cubicBezTo>
                <a:cubicBezTo>
                  <a:pt x="22922" y="16177"/>
                  <a:pt x="22958" y="16173"/>
                  <a:pt x="23019" y="16153"/>
                </a:cubicBezTo>
                <a:cubicBezTo>
                  <a:pt x="23142" y="16113"/>
                  <a:pt x="23265" y="16057"/>
                  <a:pt x="23376" y="15994"/>
                </a:cubicBezTo>
                <a:cubicBezTo>
                  <a:pt x="23411" y="15977"/>
                  <a:pt x="23420" y="15974"/>
                  <a:pt x="23435" y="15954"/>
                </a:cubicBezTo>
                <a:cubicBezTo>
                  <a:pt x="23382" y="15951"/>
                  <a:pt x="23370" y="15927"/>
                  <a:pt x="23277" y="15974"/>
                </a:cubicBezTo>
                <a:cubicBezTo>
                  <a:pt x="23182" y="16023"/>
                  <a:pt x="23088" y="16057"/>
                  <a:pt x="22999" y="16093"/>
                </a:cubicBezTo>
                <a:cubicBezTo>
                  <a:pt x="23097" y="16080"/>
                  <a:pt x="23201" y="16078"/>
                  <a:pt x="23297" y="16054"/>
                </a:cubicBezTo>
                <a:cubicBezTo>
                  <a:pt x="23512" y="16001"/>
                  <a:pt x="23741" y="15979"/>
                  <a:pt x="23951" y="15915"/>
                </a:cubicBezTo>
                <a:cubicBezTo>
                  <a:pt x="23997" y="15895"/>
                  <a:pt x="24044" y="15875"/>
                  <a:pt x="24090" y="15855"/>
                </a:cubicBezTo>
                <a:cubicBezTo>
                  <a:pt x="24155" y="15903"/>
                  <a:pt x="24168" y="15856"/>
                  <a:pt x="24051" y="15875"/>
                </a:cubicBezTo>
                <a:cubicBezTo>
                  <a:pt x="23917" y="15897"/>
                  <a:pt x="23782" y="15926"/>
                  <a:pt x="23654" y="15954"/>
                </a:cubicBezTo>
                <a:cubicBezTo>
                  <a:pt x="23634" y="15961"/>
                  <a:pt x="23614" y="15967"/>
                  <a:pt x="23594" y="15974"/>
                </a:cubicBezTo>
                <a:cubicBezTo>
                  <a:pt x="23647" y="15940"/>
                  <a:pt x="23702" y="15908"/>
                  <a:pt x="23753" y="15875"/>
                </a:cubicBezTo>
                <a:cubicBezTo>
                  <a:pt x="23782" y="15856"/>
                  <a:pt x="23840" y="15832"/>
                  <a:pt x="23793" y="15815"/>
                </a:cubicBezTo>
                <a:cubicBezTo>
                  <a:pt x="23705" y="15784"/>
                  <a:pt x="23484" y="15827"/>
                  <a:pt x="23396" y="15835"/>
                </a:cubicBezTo>
                <a:cubicBezTo>
                  <a:pt x="23270" y="15846"/>
                  <a:pt x="23077" y="15854"/>
                  <a:pt x="22959" y="15895"/>
                </a:cubicBezTo>
                <a:cubicBezTo>
                  <a:pt x="22934" y="15904"/>
                  <a:pt x="23012" y="15895"/>
                  <a:pt x="23039" y="15895"/>
                </a:cubicBezTo>
                <a:cubicBezTo>
                  <a:pt x="23182" y="15895"/>
                  <a:pt x="23279" y="15852"/>
                  <a:pt x="23416" y="15835"/>
                </a:cubicBezTo>
                <a:cubicBezTo>
                  <a:pt x="23498" y="15825"/>
                  <a:pt x="23591" y="15819"/>
                  <a:pt x="23674" y="15815"/>
                </a:cubicBezTo>
                <a:cubicBezTo>
                  <a:pt x="23796" y="15809"/>
                  <a:pt x="23911" y="15814"/>
                  <a:pt x="24031" y="15796"/>
                </a:cubicBezTo>
                <a:cubicBezTo>
                  <a:pt x="23995" y="15792"/>
                  <a:pt x="23858" y="15776"/>
                  <a:pt x="23793" y="15776"/>
                </a:cubicBezTo>
                <a:cubicBezTo>
                  <a:pt x="23601" y="15776"/>
                  <a:pt x="23409" y="15776"/>
                  <a:pt x="23217" y="15776"/>
                </a:cubicBezTo>
                <a:cubicBezTo>
                  <a:pt x="23299" y="15771"/>
                  <a:pt x="23374" y="15761"/>
                  <a:pt x="23455" y="15756"/>
                </a:cubicBezTo>
                <a:cubicBezTo>
                  <a:pt x="23536" y="15751"/>
                  <a:pt x="23615" y="15743"/>
                  <a:pt x="23693" y="15736"/>
                </a:cubicBezTo>
                <a:cubicBezTo>
                  <a:pt x="23719" y="15734"/>
                  <a:pt x="23687" y="15755"/>
                  <a:pt x="23733" y="15736"/>
                </a:cubicBezTo>
                <a:cubicBezTo>
                  <a:pt x="23765" y="15723"/>
                  <a:pt x="23848" y="15710"/>
                  <a:pt x="23872" y="15696"/>
                </a:cubicBezTo>
                <a:cubicBezTo>
                  <a:pt x="23896" y="15682"/>
                  <a:pt x="23871" y="15675"/>
                  <a:pt x="23892" y="15657"/>
                </a:cubicBezTo>
                <a:cubicBezTo>
                  <a:pt x="23451" y="15657"/>
                  <a:pt x="23015" y="15639"/>
                  <a:pt x="22582" y="15716"/>
                </a:cubicBezTo>
                <a:cubicBezTo>
                  <a:pt x="22448" y="15740"/>
                  <a:pt x="22321" y="15764"/>
                  <a:pt x="22205" y="15835"/>
                </a:cubicBezTo>
                <a:cubicBezTo>
                  <a:pt x="22159" y="15863"/>
                  <a:pt x="22105" y="15902"/>
                  <a:pt x="22066" y="15935"/>
                </a:cubicBezTo>
                <a:cubicBezTo>
                  <a:pt x="22015" y="15979"/>
                  <a:pt x="21954" y="15993"/>
                  <a:pt x="21907" y="16034"/>
                </a:cubicBezTo>
                <a:cubicBezTo>
                  <a:pt x="21873" y="16064"/>
                  <a:pt x="21856" y="16120"/>
                  <a:pt x="21828" y="16153"/>
                </a:cubicBezTo>
                <a:cubicBezTo>
                  <a:pt x="21808" y="16153"/>
                  <a:pt x="21801" y="16153"/>
                  <a:pt x="21808" y="16173"/>
                </a:cubicBezTo>
                <a:cubicBezTo>
                  <a:pt x="21830" y="16193"/>
                  <a:pt x="21832" y="16217"/>
                  <a:pt x="21868" y="16232"/>
                </a:cubicBezTo>
                <a:cubicBezTo>
                  <a:pt x="21988" y="16282"/>
                  <a:pt x="22118" y="16272"/>
                  <a:pt x="22245" y="16272"/>
                </a:cubicBezTo>
                <a:cubicBezTo>
                  <a:pt x="22431" y="16272"/>
                  <a:pt x="22617" y="16285"/>
                  <a:pt x="22800" y="16252"/>
                </a:cubicBezTo>
                <a:cubicBezTo>
                  <a:pt x="22881" y="16238"/>
                  <a:pt x="22891" y="16210"/>
                  <a:pt x="22939" y="16173"/>
                </a:cubicBezTo>
                <a:cubicBezTo>
                  <a:pt x="22643" y="16173"/>
                  <a:pt x="22354" y="16170"/>
                  <a:pt x="22066" y="16232"/>
                </a:cubicBezTo>
                <a:cubicBezTo>
                  <a:pt x="22253" y="16232"/>
                  <a:pt x="22438" y="16227"/>
                  <a:pt x="22622" y="16252"/>
                </a:cubicBezTo>
                <a:cubicBezTo>
                  <a:pt x="22629" y="16252"/>
                  <a:pt x="22635" y="16252"/>
                  <a:pt x="22642" y="16252"/>
                </a:cubicBezTo>
                <a:cubicBezTo>
                  <a:pt x="22611" y="16272"/>
                  <a:pt x="22556" y="16321"/>
                  <a:pt x="22523" y="16351"/>
                </a:cubicBezTo>
                <a:cubicBezTo>
                  <a:pt x="22505" y="16367"/>
                  <a:pt x="22470" y="16376"/>
                  <a:pt x="22463" y="16411"/>
                </a:cubicBezTo>
                <a:cubicBezTo>
                  <a:pt x="22458" y="16437"/>
                  <a:pt x="22457" y="16475"/>
                  <a:pt x="22483" y="16490"/>
                </a:cubicBezTo>
                <a:cubicBezTo>
                  <a:pt x="22503" y="16502"/>
                  <a:pt x="22561" y="16486"/>
                  <a:pt x="22582" y="16490"/>
                </a:cubicBezTo>
                <a:cubicBezTo>
                  <a:pt x="22671" y="16445"/>
                  <a:pt x="22670" y="16501"/>
                  <a:pt x="22602" y="16450"/>
                </a:cubicBezTo>
                <a:cubicBezTo>
                  <a:pt x="22569" y="16425"/>
                  <a:pt x="22514" y="16451"/>
                  <a:pt x="22622" y="16431"/>
                </a:cubicBezTo>
                <a:cubicBezTo>
                  <a:pt x="22730" y="16411"/>
                  <a:pt x="22847" y="16406"/>
                  <a:pt x="22959" y="16391"/>
                </a:cubicBezTo>
                <a:cubicBezTo>
                  <a:pt x="23037" y="16381"/>
                  <a:pt x="23129" y="16365"/>
                  <a:pt x="23197" y="16351"/>
                </a:cubicBezTo>
              </a:path>
              <a:path w="4922" h="6232">
                <a:moveTo>
                  <a:pt x="23793" y="15220"/>
                </a:moveTo>
                <a:cubicBezTo>
                  <a:pt x="23665" y="15220"/>
                  <a:pt x="23544" y="15238"/>
                  <a:pt x="23416" y="15240"/>
                </a:cubicBezTo>
                <a:cubicBezTo>
                  <a:pt x="23257" y="15243"/>
                  <a:pt x="23080" y="15269"/>
                  <a:pt x="22939" y="15180"/>
                </a:cubicBezTo>
                <a:cubicBezTo>
                  <a:pt x="22879" y="15143"/>
                  <a:pt x="22900" y="15126"/>
                  <a:pt x="22880" y="15081"/>
                </a:cubicBezTo>
                <a:cubicBezTo>
                  <a:pt x="22919" y="15046"/>
                  <a:pt x="22958" y="15015"/>
                  <a:pt x="22999" y="14982"/>
                </a:cubicBezTo>
                <a:cubicBezTo>
                  <a:pt x="23099" y="14902"/>
                  <a:pt x="23202" y="14888"/>
                  <a:pt x="23316" y="14843"/>
                </a:cubicBezTo>
                <a:cubicBezTo>
                  <a:pt x="23452" y="14789"/>
                  <a:pt x="23526" y="14764"/>
                  <a:pt x="23674" y="14764"/>
                </a:cubicBezTo>
                <a:cubicBezTo>
                  <a:pt x="23707" y="14764"/>
                  <a:pt x="23713" y="14764"/>
                  <a:pt x="23733" y="14764"/>
                </a:cubicBezTo>
                <a:cubicBezTo>
                  <a:pt x="23680" y="14776"/>
                  <a:pt x="23658" y="14782"/>
                  <a:pt x="23594" y="14784"/>
                </a:cubicBezTo>
                <a:cubicBezTo>
                  <a:pt x="23529" y="14786"/>
                  <a:pt x="23254" y="14814"/>
                  <a:pt x="23237" y="14764"/>
                </a:cubicBezTo>
                <a:cubicBezTo>
                  <a:pt x="23226" y="14731"/>
                  <a:pt x="23252" y="14712"/>
                  <a:pt x="23257" y="14684"/>
                </a:cubicBezTo>
                <a:cubicBezTo>
                  <a:pt x="23265" y="14644"/>
                  <a:pt x="23252" y="14621"/>
                  <a:pt x="23297" y="14605"/>
                </a:cubicBezTo>
                <a:cubicBezTo>
                  <a:pt x="23336" y="14605"/>
                  <a:pt x="23350" y="14605"/>
                  <a:pt x="23376" y="14605"/>
                </a:cubicBezTo>
                <a:cubicBezTo>
                  <a:pt x="23410" y="14597"/>
                  <a:pt x="23408" y="14563"/>
                  <a:pt x="23435" y="14585"/>
                </a:cubicBezTo>
                <a:cubicBezTo>
                  <a:pt x="23435" y="14592"/>
                  <a:pt x="23435" y="14598"/>
                  <a:pt x="23435" y="14605"/>
                </a:cubicBezTo>
                <a:cubicBezTo>
                  <a:pt x="23372" y="14642"/>
                  <a:pt x="23335" y="14663"/>
                  <a:pt x="23257" y="14665"/>
                </a:cubicBezTo>
                <a:cubicBezTo>
                  <a:pt x="23171" y="14667"/>
                  <a:pt x="23085" y="14665"/>
                  <a:pt x="22999" y="14665"/>
                </a:cubicBezTo>
                <a:cubicBezTo>
                  <a:pt x="23022" y="14638"/>
                  <a:pt x="23013" y="14636"/>
                  <a:pt x="23058" y="14605"/>
                </a:cubicBezTo>
                <a:cubicBezTo>
                  <a:pt x="23166" y="14531"/>
                  <a:pt x="23290" y="14462"/>
                  <a:pt x="23416" y="14426"/>
                </a:cubicBezTo>
                <a:cubicBezTo>
                  <a:pt x="23507" y="14400"/>
                  <a:pt x="23636" y="14331"/>
                  <a:pt x="23733" y="14347"/>
                </a:cubicBezTo>
                <a:cubicBezTo>
                  <a:pt x="23781" y="14355"/>
                  <a:pt x="23727" y="14374"/>
                  <a:pt x="23753" y="14387"/>
                </a:cubicBezTo>
                <a:cubicBezTo>
                  <a:pt x="23723" y="14423"/>
                  <a:pt x="23703" y="14469"/>
                  <a:pt x="23654" y="14486"/>
                </a:cubicBezTo>
                <a:cubicBezTo>
                  <a:pt x="23586" y="14510"/>
                  <a:pt x="23490" y="14506"/>
                  <a:pt x="23416" y="14506"/>
                </a:cubicBezTo>
                <a:cubicBezTo>
                  <a:pt x="23331" y="14506"/>
                  <a:pt x="23211" y="14496"/>
                  <a:pt x="23158" y="14486"/>
                </a:cubicBezTo>
                <a:cubicBezTo>
                  <a:pt x="23231" y="14463"/>
                  <a:pt x="23276" y="14448"/>
                  <a:pt x="23356" y="14446"/>
                </a:cubicBezTo>
                <a:cubicBezTo>
                  <a:pt x="23429" y="14444"/>
                  <a:pt x="23532" y="14456"/>
                  <a:pt x="23574" y="14466"/>
                </a:cubicBezTo>
                <a:cubicBezTo>
                  <a:pt x="23526" y="14551"/>
                  <a:pt x="23509" y="14576"/>
                  <a:pt x="23416" y="14625"/>
                </a:cubicBezTo>
                <a:cubicBezTo>
                  <a:pt x="23222" y="14726"/>
                  <a:pt x="23035" y="14845"/>
                  <a:pt x="22820" y="14903"/>
                </a:cubicBezTo>
                <a:cubicBezTo>
                  <a:pt x="22595" y="14963"/>
                  <a:pt x="22338" y="14958"/>
                  <a:pt x="22106" y="14962"/>
                </a:cubicBezTo>
                <a:cubicBezTo>
                  <a:pt x="22007" y="14962"/>
                  <a:pt x="21987" y="14962"/>
                  <a:pt x="21927" y="14962"/>
                </a:cubicBezTo>
                <a:cubicBezTo>
                  <a:pt x="22027" y="14862"/>
                  <a:pt x="22071" y="14832"/>
                  <a:pt x="22205" y="14803"/>
                </a:cubicBezTo>
                <a:cubicBezTo>
                  <a:pt x="22327" y="14776"/>
                  <a:pt x="22440" y="14722"/>
                  <a:pt x="22562" y="14704"/>
                </a:cubicBezTo>
                <a:cubicBezTo>
                  <a:pt x="22680" y="14686"/>
                  <a:pt x="22820" y="14693"/>
                  <a:pt x="22939" y="14684"/>
                </a:cubicBezTo>
                <a:cubicBezTo>
                  <a:pt x="22985" y="14681"/>
                  <a:pt x="23032" y="14686"/>
                  <a:pt x="23078" y="14684"/>
                </a:cubicBezTo>
                <a:cubicBezTo>
                  <a:pt x="23067" y="14749"/>
                  <a:pt x="23098" y="14763"/>
                  <a:pt x="23039" y="14803"/>
                </a:cubicBezTo>
                <a:cubicBezTo>
                  <a:pt x="22952" y="14861"/>
                  <a:pt x="22887" y="14863"/>
                  <a:pt x="22781" y="14863"/>
                </a:cubicBezTo>
                <a:cubicBezTo>
                  <a:pt x="22697" y="14863"/>
                  <a:pt x="22613" y="14877"/>
                  <a:pt x="22542" y="14823"/>
                </a:cubicBezTo>
                <a:cubicBezTo>
                  <a:pt x="22525" y="14805"/>
                  <a:pt x="22519" y="14801"/>
                  <a:pt x="22523" y="14784"/>
                </a:cubicBezTo>
                <a:cubicBezTo>
                  <a:pt x="22541" y="14754"/>
                  <a:pt x="22519" y="14731"/>
                  <a:pt x="22562" y="14704"/>
                </a:cubicBezTo>
                <a:cubicBezTo>
                  <a:pt x="22578" y="14694"/>
                  <a:pt x="22707" y="14627"/>
                  <a:pt x="22721" y="14625"/>
                </a:cubicBezTo>
                <a:cubicBezTo>
                  <a:pt x="22943" y="14587"/>
                  <a:pt x="23210" y="14565"/>
                  <a:pt x="23435" y="14545"/>
                </a:cubicBezTo>
                <a:cubicBezTo>
                  <a:pt x="23742" y="14518"/>
                  <a:pt x="24250" y="14463"/>
                  <a:pt x="24547" y="14565"/>
                </a:cubicBezTo>
                <a:cubicBezTo>
                  <a:pt x="24600" y="14583"/>
                  <a:pt x="24646" y="14645"/>
                  <a:pt x="24626" y="14704"/>
                </a:cubicBezTo>
                <a:cubicBezTo>
                  <a:pt x="24618" y="14728"/>
                  <a:pt x="24557" y="14745"/>
                  <a:pt x="24527" y="14764"/>
                </a:cubicBezTo>
                <a:cubicBezTo>
                  <a:pt x="24523" y="14744"/>
                  <a:pt x="24502" y="14698"/>
                  <a:pt x="24507" y="14684"/>
                </a:cubicBezTo>
                <a:cubicBezTo>
                  <a:pt x="24520" y="14649"/>
                  <a:pt x="24525" y="14684"/>
                  <a:pt x="24547" y="14645"/>
                </a:cubicBezTo>
                <a:cubicBezTo>
                  <a:pt x="24508" y="14668"/>
                  <a:pt x="24493" y="14680"/>
                  <a:pt x="24428" y="14684"/>
                </a:cubicBezTo>
                <a:cubicBezTo>
                  <a:pt x="24334" y="14690"/>
                  <a:pt x="24244" y="14702"/>
                  <a:pt x="24150" y="14704"/>
                </a:cubicBezTo>
                <a:cubicBezTo>
                  <a:pt x="24104" y="14705"/>
                  <a:pt x="24057" y="14704"/>
                  <a:pt x="24011" y="14704"/>
                </a:cubicBezTo>
                <a:cubicBezTo>
                  <a:pt x="24018" y="14670"/>
                  <a:pt x="24024" y="14659"/>
                  <a:pt x="24031" y="14645"/>
                </a:cubicBezTo>
                <a:cubicBezTo>
                  <a:pt x="24042" y="14622"/>
                  <a:pt x="24046" y="14611"/>
                  <a:pt x="24070" y="14585"/>
                </a:cubicBezTo>
                <a:cubicBezTo>
                  <a:pt x="24097" y="14556"/>
                  <a:pt x="24122" y="14543"/>
                  <a:pt x="24150" y="14526"/>
                </a:cubicBezTo>
                <a:cubicBezTo>
                  <a:pt x="24169" y="14514"/>
                  <a:pt x="24167" y="14509"/>
                  <a:pt x="24209" y="14506"/>
                </a:cubicBezTo>
                <a:cubicBezTo>
                  <a:pt x="24253" y="14503"/>
                  <a:pt x="24446" y="14487"/>
                  <a:pt x="24447" y="14526"/>
                </a:cubicBezTo>
                <a:cubicBezTo>
                  <a:pt x="24447" y="14552"/>
                  <a:pt x="24423" y="14543"/>
                  <a:pt x="24408" y="14565"/>
                </a:cubicBezTo>
                <a:cubicBezTo>
                  <a:pt x="24408" y="14585"/>
                  <a:pt x="24408" y="14592"/>
                  <a:pt x="24388" y="14585"/>
                </a:cubicBezTo>
              </a:path>
              <a:path w="4922" h="6232">
                <a:moveTo>
                  <a:pt x="24567" y="14625"/>
                </a:moveTo>
                <a:cubicBezTo>
                  <a:pt x="24574" y="14603"/>
                  <a:pt x="24574" y="14591"/>
                  <a:pt x="24586" y="14565"/>
                </a:cubicBezTo>
                <a:cubicBezTo>
                  <a:pt x="24596" y="14543"/>
                  <a:pt x="24604" y="14523"/>
                  <a:pt x="24606" y="14506"/>
                </a:cubicBezTo>
                <a:cubicBezTo>
                  <a:pt x="24615" y="14432"/>
                  <a:pt x="24604" y="14331"/>
                  <a:pt x="24586" y="14287"/>
                </a:cubicBezTo>
                <a:cubicBezTo>
                  <a:pt x="24574" y="14259"/>
                  <a:pt x="24586" y="14246"/>
                  <a:pt x="24567" y="14228"/>
                </a:cubicBezTo>
                <a:cubicBezTo>
                  <a:pt x="24547" y="14209"/>
                  <a:pt x="24536" y="14222"/>
                  <a:pt x="24507" y="14208"/>
                </a:cubicBezTo>
                <a:cubicBezTo>
                  <a:pt x="24473" y="14191"/>
                  <a:pt x="24469" y="14190"/>
                  <a:pt x="24428" y="14188"/>
                </a:cubicBezTo>
                <a:cubicBezTo>
                  <a:pt x="24371" y="14186"/>
                  <a:pt x="24322" y="14175"/>
                  <a:pt x="24269" y="14168"/>
                </a:cubicBezTo>
                <a:cubicBezTo>
                  <a:pt x="24127" y="14150"/>
                  <a:pt x="23961" y="14167"/>
                  <a:pt x="23832" y="14188"/>
                </a:cubicBezTo>
                <a:cubicBezTo>
                  <a:pt x="23812" y="14188"/>
                  <a:pt x="23806" y="14188"/>
                  <a:pt x="23793" y="14188"/>
                </a:cubicBezTo>
                <a:cubicBezTo>
                  <a:pt x="23805" y="14191"/>
                  <a:pt x="23830" y="14207"/>
                  <a:pt x="23872" y="14208"/>
                </a:cubicBezTo>
                <a:cubicBezTo>
                  <a:pt x="24000" y="14212"/>
                  <a:pt x="24122" y="14191"/>
                  <a:pt x="24249" y="14188"/>
                </a:cubicBezTo>
                <a:cubicBezTo>
                  <a:pt x="24326" y="14186"/>
                  <a:pt x="24501" y="14167"/>
                  <a:pt x="24547" y="14208"/>
                </a:cubicBezTo>
                <a:cubicBezTo>
                  <a:pt x="24547" y="14215"/>
                  <a:pt x="24547" y="14221"/>
                  <a:pt x="24547" y="14228"/>
                </a:cubicBezTo>
                <a:cubicBezTo>
                  <a:pt x="24528" y="14247"/>
                  <a:pt x="24538" y="14257"/>
                  <a:pt x="24507" y="14268"/>
                </a:cubicBezTo>
                <a:cubicBezTo>
                  <a:pt x="24466" y="14282"/>
                  <a:pt x="24411" y="14286"/>
                  <a:pt x="24368" y="14287"/>
                </a:cubicBezTo>
                <a:cubicBezTo>
                  <a:pt x="24276" y="14290"/>
                  <a:pt x="24183" y="14287"/>
                  <a:pt x="24090" y="14287"/>
                </a:cubicBezTo>
                <a:cubicBezTo>
                  <a:pt x="24099" y="14241"/>
                  <a:pt x="24085" y="14233"/>
                  <a:pt x="24110" y="14208"/>
                </a:cubicBezTo>
                <a:cubicBezTo>
                  <a:pt x="24131" y="14187"/>
                  <a:pt x="24142" y="14177"/>
                  <a:pt x="24170" y="14168"/>
                </a:cubicBezTo>
                <a:cubicBezTo>
                  <a:pt x="24195" y="14160"/>
                  <a:pt x="24203" y="14153"/>
                  <a:pt x="24229" y="14149"/>
                </a:cubicBezTo>
                <a:cubicBezTo>
                  <a:pt x="24268" y="14142"/>
                  <a:pt x="24289" y="14134"/>
                  <a:pt x="24328" y="14129"/>
                </a:cubicBezTo>
                <a:cubicBezTo>
                  <a:pt x="24389" y="14121"/>
                  <a:pt x="24455" y="14136"/>
                  <a:pt x="24487" y="14149"/>
                </a:cubicBezTo>
                <a:cubicBezTo>
                  <a:pt x="24530" y="14167"/>
                  <a:pt x="24518" y="14164"/>
                  <a:pt x="24527" y="14208"/>
                </a:cubicBezTo>
                <a:cubicBezTo>
                  <a:pt x="24537" y="14256"/>
                  <a:pt x="24511" y="14291"/>
                  <a:pt x="24507" y="14327"/>
                </a:cubicBezTo>
                <a:cubicBezTo>
                  <a:pt x="24501" y="14371"/>
                  <a:pt x="24506" y="14382"/>
                  <a:pt x="24487" y="14426"/>
                </a:cubicBezTo>
                <a:cubicBezTo>
                  <a:pt x="24466" y="14474"/>
                  <a:pt x="24404" y="14524"/>
                  <a:pt x="24368" y="14565"/>
                </a:cubicBezTo>
                <a:cubicBezTo>
                  <a:pt x="24277" y="14670"/>
                  <a:pt x="24206" y="14692"/>
                  <a:pt x="24090" y="14764"/>
                </a:cubicBezTo>
                <a:cubicBezTo>
                  <a:pt x="23964" y="14842"/>
                  <a:pt x="23831" y="14883"/>
                  <a:pt x="23693" y="14942"/>
                </a:cubicBezTo>
                <a:cubicBezTo>
                  <a:pt x="23605" y="14980"/>
                  <a:pt x="23549" y="14982"/>
                  <a:pt x="23455" y="14982"/>
                </a:cubicBezTo>
                <a:cubicBezTo>
                  <a:pt x="23448" y="14982"/>
                  <a:pt x="23442" y="14982"/>
                  <a:pt x="23435" y="14982"/>
                </a:cubicBezTo>
                <a:cubicBezTo>
                  <a:pt x="23426" y="14942"/>
                  <a:pt x="23418" y="14911"/>
                  <a:pt x="23416" y="14863"/>
                </a:cubicBezTo>
                <a:cubicBezTo>
                  <a:pt x="23413" y="14781"/>
                  <a:pt x="23412" y="14704"/>
                  <a:pt x="23435" y="14625"/>
                </a:cubicBezTo>
                <a:cubicBezTo>
                  <a:pt x="23453" y="14564"/>
                  <a:pt x="23486" y="14518"/>
                  <a:pt x="23555" y="14506"/>
                </a:cubicBezTo>
                <a:cubicBezTo>
                  <a:pt x="23674" y="14485"/>
                  <a:pt x="23836" y="14495"/>
                  <a:pt x="23932" y="14545"/>
                </a:cubicBezTo>
                <a:cubicBezTo>
                  <a:pt x="23964" y="14562"/>
                  <a:pt x="23987" y="14583"/>
                  <a:pt x="23971" y="14625"/>
                </a:cubicBezTo>
                <a:cubicBezTo>
                  <a:pt x="23968" y="14632"/>
                  <a:pt x="23930" y="14660"/>
                  <a:pt x="23912" y="14665"/>
                </a:cubicBezTo>
                <a:cubicBezTo>
                  <a:pt x="23892" y="14665"/>
                  <a:pt x="23885" y="14665"/>
                  <a:pt x="23872" y="14665"/>
                </a:cubicBezTo>
                <a:cubicBezTo>
                  <a:pt x="23872" y="14611"/>
                  <a:pt x="23856" y="14546"/>
                  <a:pt x="23892" y="14506"/>
                </a:cubicBezTo>
                <a:cubicBezTo>
                  <a:pt x="23919" y="14475"/>
                  <a:pt x="24015" y="14417"/>
                  <a:pt x="24051" y="14407"/>
                </a:cubicBezTo>
                <a:cubicBezTo>
                  <a:pt x="24200" y="14367"/>
                  <a:pt x="24460" y="14394"/>
                  <a:pt x="24606" y="14426"/>
                </a:cubicBezTo>
                <a:cubicBezTo>
                  <a:pt x="24672" y="14440"/>
                  <a:pt x="24721" y="14500"/>
                  <a:pt x="24725" y="14565"/>
                </a:cubicBezTo>
                <a:cubicBezTo>
                  <a:pt x="24729" y="14635"/>
                  <a:pt x="24647" y="14700"/>
                  <a:pt x="24606" y="14744"/>
                </a:cubicBezTo>
                <a:cubicBezTo>
                  <a:pt x="24531" y="14824"/>
                  <a:pt x="24445" y="14871"/>
                  <a:pt x="24368" y="14942"/>
                </a:cubicBezTo>
                <a:cubicBezTo>
                  <a:pt x="24306" y="14999"/>
                  <a:pt x="24198" y="15068"/>
                  <a:pt x="24150" y="15141"/>
                </a:cubicBezTo>
                <a:cubicBezTo>
                  <a:pt x="24121" y="15185"/>
                  <a:pt x="24132" y="15226"/>
                  <a:pt x="24130" y="15280"/>
                </a:cubicBezTo>
                <a:cubicBezTo>
                  <a:pt x="24127" y="15362"/>
                  <a:pt x="24116" y="15437"/>
                  <a:pt x="24110" y="15518"/>
                </a:cubicBezTo>
                <a:cubicBezTo>
                  <a:pt x="24107" y="15557"/>
                  <a:pt x="24110" y="15598"/>
                  <a:pt x="24110" y="15637"/>
                </a:cubicBezTo>
                <a:cubicBezTo>
                  <a:pt x="24193" y="15637"/>
                  <a:pt x="24277" y="15646"/>
                  <a:pt x="24348" y="15617"/>
                </a:cubicBezTo>
                <a:cubicBezTo>
                  <a:pt x="24390" y="15600"/>
                  <a:pt x="24393" y="15576"/>
                  <a:pt x="24428" y="15557"/>
                </a:cubicBezTo>
                <a:cubicBezTo>
                  <a:pt x="24454" y="15542"/>
                  <a:pt x="24468" y="15530"/>
                  <a:pt x="24487" y="15518"/>
                </a:cubicBezTo>
                <a:cubicBezTo>
                  <a:pt x="24537" y="15487"/>
                  <a:pt x="24514" y="15502"/>
                  <a:pt x="24527" y="15438"/>
                </a:cubicBezTo>
                <a:cubicBezTo>
                  <a:pt x="24521" y="15435"/>
                  <a:pt x="24551" y="15418"/>
                  <a:pt x="24487" y="15458"/>
                </a:cubicBezTo>
                <a:cubicBezTo>
                  <a:pt x="24458" y="15476"/>
                  <a:pt x="24398" y="15511"/>
                  <a:pt x="24368" y="15518"/>
                </a:cubicBezTo>
                <a:cubicBezTo>
                  <a:pt x="24348" y="15518"/>
                  <a:pt x="24341" y="15518"/>
                  <a:pt x="24328" y="15518"/>
                </a:cubicBezTo>
                <a:cubicBezTo>
                  <a:pt x="24331" y="15484"/>
                  <a:pt x="24345" y="15448"/>
                  <a:pt x="24348" y="15419"/>
                </a:cubicBezTo>
                <a:cubicBezTo>
                  <a:pt x="24354" y="15355"/>
                  <a:pt x="24329" y="15276"/>
                  <a:pt x="24368" y="15220"/>
                </a:cubicBezTo>
                <a:cubicBezTo>
                  <a:pt x="24393" y="15184"/>
                  <a:pt x="24475" y="15184"/>
                  <a:pt x="24467" y="15141"/>
                </a:cubicBezTo>
                <a:cubicBezTo>
                  <a:pt x="24465" y="15131"/>
                  <a:pt x="24430" y="15127"/>
                  <a:pt x="24428" y="15101"/>
                </a:cubicBezTo>
                <a:cubicBezTo>
                  <a:pt x="24420" y="15006"/>
                  <a:pt x="24416" y="14892"/>
                  <a:pt x="24447" y="14803"/>
                </a:cubicBezTo>
                <a:cubicBezTo>
                  <a:pt x="24470" y="14738"/>
                  <a:pt x="24536" y="14669"/>
                  <a:pt x="24547" y="14605"/>
                </a:cubicBezTo>
                <a:cubicBezTo>
                  <a:pt x="24554" y="14562"/>
                  <a:pt x="24559" y="14527"/>
                  <a:pt x="24567" y="14506"/>
                </a:cubicBezTo>
                <a:cubicBezTo>
                  <a:pt x="24580" y="14474"/>
                  <a:pt x="24574" y="14471"/>
                  <a:pt x="24586" y="14446"/>
                </a:cubicBezTo>
                <a:cubicBezTo>
                  <a:pt x="24598" y="14421"/>
                  <a:pt x="24608" y="14426"/>
                  <a:pt x="24606" y="14387"/>
                </a:cubicBezTo>
                <a:cubicBezTo>
                  <a:pt x="24603" y="14344"/>
                  <a:pt x="24596" y="14358"/>
                  <a:pt x="24586" y="14327"/>
                </a:cubicBezTo>
                <a:cubicBezTo>
                  <a:pt x="24573" y="14287"/>
                  <a:pt x="24576" y="14285"/>
                  <a:pt x="24547" y="14248"/>
                </a:cubicBezTo>
                <a:cubicBezTo>
                  <a:pt x="24547" y="14228"/>
                  <a:pt x="24547" y="14221"/>
                  <a:pt x="24527" y="1422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14520" y="600120"/>
            <a:ext cx="1471680" cy="828720"/>
          </a:xfrm>
          <a:custGeom>
            <a:avLst/>
            <a:gdLst/>
            <a:ahLst/>
            <a:rect l="l" t="t" r="r" b="b"/>
            <a:pathLst>
              <a:path w="4089" h="2303">
                <a:moveTo>
                  <a:pt x="4683" y="3750"/>
                </a:moveTo>
                <a:cubicBezTo>
                  <a:pt x="4715" y="3737"/>
                  <a:pt x="4718" y="3745"/>
                  <a:pt x="4743" y="3731"/>
                </a:cubicBezTo>
                <a:cubicBezTo>
                  <a:pt x="4766" y="3718"/>
                  <a:pt x="4793" y="3676"/>
                  <a:pt x="4802" y="3671"/>
                </a:cubicBezTo>
                <a:cubicBezTo>
                  <a:pt x="4829" y="3656"/>
                  <a:pt x="4840" y="3666"/>
                  <a:pt x="4862" y="3651"/>
                </a:cubicBezTo>
                <a:cubicBezTo>
                  <a:pt x="4878" y="3640"/>
                  <a:pt x="4903" y="3625"/>
                  <a:pt x="4921" y="3612"/>
                </a:cubicBezTo>
                <a:cubicBezTo>
                  <a:pt x="4939" y="3600"/>
                  <a:pt x="4959" y="3585"/>
                  <a:pt x="4981" y="3572"/>
                </a:cubicBezTo>
                <a:cubicBezTo>
                  <a:pt x="5003" y="3559"/>
                  <a:pt x="5008" y="3548"/>
                  <a:pt x="5040" y="3532"/>
                </a:cubicBezTo>
                <a:cubicBezTo>
                  <a:pt x="5066" y="3519"/>
                  <a:pt x="5078" y="3521"/>
                  <a:pt x="5100" y="3512"/>
                </a:cubicBezTo>
                <a:cubicBezTo>
                  <a:pt x="5118" y="3505"/>
                  <a:pt x="5139" y="3505"/>
                  <a:pt x="5159" y="3492"/>
                </a:cubicBezTo>
                <a:cubicBezTo>
                  <a:pt x="5175" y="3482"/>
                  <a:pt x="5176" y="3464"/>
                  <a:pt x="5199" y="3453"/>
                </a:cubicBezTo>
                <a:cubicBezTo>
                  <a:pt x="5233" y="3436"/>
                  <a:pt x="5263" y="3425"/>
                  <a:pt x="5298" y="3413"/>
                </a:cubicBezTo>
                <a:cubicBezTo>
                  <a:pt x="5331" y="3402"/>
                  <a:pt x="5361" y="3363"/>
                  <a:pt x="5378" y="3354"/>
                </a:cubicBezTo>
                <a:cubicBezTo>
                  <a:pt x="5400" y="3343"/>
                  <a:pt x="5434" y="3347"/>
                  <a:pt x="5457" y="3334"/>
                </a:cubicBezTo>
                <a:cubicBezTo>
                  <a:pt x="5491" y="3315"/>
                  <a:pt x="5516" y="3292"/>
                  <a:pt x="5556" y="3274"/>
                </a:cubicBezTo>
                <a:cubicBezTo>
                  <a:pt x="5583" y="3262"/>
                  <a:pt x="5582" y="3266"/>
                  <a:pt x="5616" y="3254"/>
                </a:cubicBezTo>
                <a:cubicBezTo>
                  <a:pt x="5619" y="3253"/>
                  <a:pt x="5655" y="3242"/>
                  <a:pt x="5675" y="3235"/>
                </a:cubicBezTo>
                <a:cubicBezTo>
                  <a:pt x="5710" y="3224"/>
                  <a:pt x="5708" y="3224"/>
                  <a:pt x="5735" y="3215"/>
                </a:cubicBezTo>
                <a:cubicBezTo>
                  <a:pt x="5768" y="3204"/>
                  <a:pt x="5769" y="3202"/>
                  <a:pt x="5794" y="3195"/>
                </a:cubicBezTo>
                <a:cubicBezTo>
                  <a:pt x="5824" y="3187"/>
                  <a:pt x="5847" y="3184"/>
                  <a:pt x="5874" y="3175"/>
                </a:cubicBezTo>
                <a:cubicBezTo>
                  <a:pt x="5899" y="3167"/>
                  <a:pt x="5908" y="3163"/>
                  <a:pt x="5933" y="3155"/>
                </a:cubicBezTo>
                <a:cubicBezTo>
                  <a:pt x="5958" y="3147"/>
                  <a:pt x="5973" y="3152"/>
                  <a:pt x="5993" y="3135"/>
                </a:cubicBezTo>
                <a:cubicBezTo>
                  <a:pt x="6006" y="3124"/>
                  <a:pt x="6005" y="3089"/>
                  <a:pt x="6032" y="3076"/>
                </a:cubicBezTo>
                <a:cubicBezTo>
                  <a:pt x="6060" y="3062"/>
                  <a:pt x="6077" y="3047"/>
                  <a:pt x="6092" y="3036"/>
                </a:cubicBezTo>
                <a:cubicBezTo>
                  <a:pt x="6112" y="3020"/>
                  <a:pt x="6125" y="3022"/>
                  <a:pt x="6152" y="2996"/>
                </a:cubicBezTo>
                <a:cubicBezTo>
                  <a:pt x="6157" y="2991"/>
                  <a:pt x="6188" y="2959"/>
                  <a:pt x="6191" y="2957"/>
                </a:cubicBezTo>
                <a:cubicBezTo>
                  <a:pt x="6212" y="2945"/>
                  <a:pt x="6249" y="2950"/>
                  <a:pt x="6271" y="2937"/>
                </a:cubicBezTo>
                <a:cubicBezTo>
                  <a:pt x="6291" y="2925"/>
                  <a:pt x="6322" y="2881"/>
                  <a:pt x="6330" y="2877"/>
                </a:cubicBezTo>
                <a:cubicBezTo>
                  <a:pt x="6353" y="2864"/>
                  <a:pt x="6365" y="2866"/>
                  <a:pt x="6390" y="2857"/>
                </a:cubicBezTo>
                <a:cubicBezTo>
                  <a:pt x="6414" y="2848"/>
                  <a:pt x="6427" y="2852"/>
                  <a:pt x="6449" y="2838"/>
                </a:cubicBezTo>
                <a:cubicBezTo>
                  <a:pt x="6457" y="2833"/>
                  <a:pt x="6494" y="2808"/>
                  <a:pt x="6509" y="2798"/>
                </a:cubicBezTo>
                <a:cubicBezTo>
                  <a:pt x="6536" y="2781"/>
                  <a:pt x="6532" y="2748"/>
                  <a:pt x="6548" y="2738"/>
                </a:cubicBezTo>
                <a:cubicBezTo>
                  <a:pt x="6570" y="2724"/>
                  <a:pt x="6584" y="2729"/>
                  <a:pt x="6608" y="2719"/>
                </a:cubicBezTo>
                <a:cubicBezTo>
                  <a:pt x="6640" y="2705"/>
                  <a:pt x="6643" y="2714"/>
                  <a:pt x="6667" y="2699"/>
                </a:cubicBezTo>
                <a:cubicBezTo>
                  <a:pt x="6698" y="2679"/>
                  <a:pt x="6712" y="2647"/>
                  <a:pt x="6727" y="2639"/>
                </a:cubicBezTo>
                <a:cubicBezTo>
                  <a:pt x="6744" y="2629"/>
                  <a:pt x="6768" y="2633"/>
                  <a:pt x="6787" y="2619"/>
                </a:cubicBezTo>
                <a:cubicBezTo>
                  <a:pt x="6797" y="2612"/>
                  <a:pt x="6815" y="2590"/>
                  <a:pt x="6826" y="2580"/>
                </a:cubicBezTo>
                <a:cubicBezTo>
                  <a:pt x="6845" y="2563"/>
                  <a:pt x="6849" y="2557"/>
                  <a:pt x="6866" y="2540"/>
                </a:cubicBezTo>
                <a:cubicBezTo>
                  <a:pt x="6883" y="2523"/>
                  <a:pt x="6890" y="2522"/>
                  <a:pt x="6906" y="2500"/>
                </a:cubicBezTo>
                <a:cubicBezTo>
                  <a:pt x="6917" y="2485"/>
                  <a:pt x="6913" y="2488"/>
                  <a:pt x="6925" y="2461"/>
                </a:cubicBezTo>
                <a:cubicBezTo>
                  <a:pt x="6877" y="2464"/>
                  <a:pt x="6847" y="2468"/>
                  <a:pt x="6806" y="2480"/>
                </a:cubicBezTo>
                <a:cubicBezTo>
                  <a:pt x="6792" y="2484"/>
                  <a:pt x="6764" y="2489"/>
                  <a:pt x="6747" y="2500"/>
                </a:cubicBezTo>
                <a:cubicBezTo>
                  <a:pt x="6729" y="2511"/>
                  <a:pt x="6711" y="2531"/>
                  <a:pt x="6687" y="2540"/>
                </a:cubicBezTo>
                <a:cubicBezTo>
                  <a:pt x="6655" y="2552"/>
                  <a:pt x="6653" y="2552"/>
                  <a:pt x="6628" y="2560"/>
                </a:cubicBezTo>
                <a:cubicBezTo>
                  <a:pt x="6601" y="2569"/>
                  <a:pt x="6576" y="2571"/>
                  <a:pt x="6548" y="2580"/>
                </a:cubicBezTo>
                <a:cubicBezTo>
                  <a:pt x="6523" y="2588"/>
                  <a:pt x="6514" y="2592"/>
                  <a:pt x="6489" y="2600"/>
                </a:cubicBezTo>
                <a:cubicBezTo>
                  <a:pt x="6470" y="2606"/>
                  <a:pt x="6430" y="2619"/>
                  <a:pt x="6429" y="2619"/>
                </a:cubicBezTo>
                <a:cubicBezTo>
                  <a:pt x="6414" y="2624"/>
                  <a:pt x="6388" y="2628"/>
                  <a:pt x="6370" y="2639"/>
                </a:cubicBezTo>
                <a:cubicBezTo>
                  <a:pt x="6356" y="2648"/>
                  <a:pt x="6339" y="2675"/>
                  <a:pt x="6330" y="2679"/>
                </a:cubicBezTo>
                <a:cubicBezTo>
                  <a:pt x="6304" y="2692"/>
                  <a:pt x="6304" y="2686"/>
                  <a:pt x="6271" y="2699"/>
                </a:cubicBezTo>
                <a:cubicBezTo>
                  <a:pt x="6246" y="2709"/>
                  <a:pt x="6234" y="2705"/>
                  <a:pt x="6211" y="2719"/>
                </a:cubicBezTo>
                <a:cubicBezTo>
                  <a:pt x="6201" y="2725"/>
                  <a:pt x="6174" y="2746"/>
                  <a:pt x="6152" y="2758"/>
                </a:cubicBezTo>
                <a:cubicBezTo>
                  <a:pt x="6144" y="2762"/>
                  <a:pt x="6091" y="2798"/>
                  <a:pt x="6072" y="2818"/>
                </a:cubicBezTo>
                <a:cubicBezTo>
                  <a:pt x="6044" y="2847"/>
                  <a:pt x="6018" y="2884"/>
                  <a:pt x="5993" y="2917"/>
                </a:cubicBezTo>
                <a:cubicBezTo>
                  <a:pt x="5971" y="2945"/>
                  <a:pt x="5953" y="2957"/>
                  <a:pt x="5933" y="2977"/>
                </a:cubicBezTo>
                <a:cubicBezTo>
                  <a:pt x="5915" y="2995"/>
                  <a:pt x="5919" y="3002"/>
                  <a:pt x="5894" y="3016"/>
                </a:cubicBezTo>
                <a:cubicBezTo>
                  <a:pt x="5871" y="3029"/>
                  <a:pt x="5854" y="3028"/>
                  <a:pt x="5834" y="3036"/>
                </a:cubicBezTo>
                <a:cubicBezTo>
                  <a:pt x="5803" y="3048"/>
                  <a:pt x="5799" y="3048"/>
                  <a:pt x="5775" y="3056"/>
                </a:cubicBezTo>
                <a:cubicBezTo>
                  <a:pt x="5748" y="3065"/>
                  <a:pt x="5749" y="3065"/>
                  <a:pt x="5715" y="3076"/>
                </a:cubicBezTo>
                <a:cubicBezTo>
                  <a:pt x="5690" y="3084"/>
                  <a:pt x="5680" y="3088"/>
                  <a:pt x="5655" y="3096"/>
                </a:cubicBezTo>
                <a:cubicBezTo>
                  <a:pt x="5637" y="3102"/>
                  <a:pt x="5596" y="3115"/>
                  <a:pt x="5596" y="3115"/>
                </a:cubicBezTo>
                <a:cubicBezTo>
                  <a:pt x="5561" y="3126"/>
                  <a:pt x="5563" y="3126"/>
                  <a:pt x="5536" y="3135"/>
                </a:cubicBezTo>
                <a:cubicBezTo>
                  <a:pt x="5521" y="3140"/>
                  <a:pt x="5495" y="3144"/>
                  <a:pt x="5477" y="3155"/>
                </a:cubicBezTo>
                <a:cubicBezTo>
                  <a:pt x="5462" y="3164"/>
                  <a:pt x="5434" y="3183"/>
                  <a:pt x="5417" y="3195"/>
                </a:cubicBezTo>
                <a:cubicBezTo>
                  <a:pt x="5401" y="3207"/>
                  <a:pt x="5377" y="3222"/>
                  <a:pt x="5358" y="3235"/>
                </a:cubicBezTo>
                <a:cubicBezTo>
                  <a:pt x="5340" y="3248"/>
                  <a:pt x="5322" y="3265"/>
                  <a:pt x="5298" y="3274"/>
                </a:cubicBezTo>
                <a:cubicBezTo>
                  <a:pt x="5271" y="3284"/>
                  <a:pt x="5259" y="3291"/>
                  <a:pt x="5239" y="3294"/>
                </a:cubicBezTo>
                <a:cubicBezTo>
                  <a:pt x="5206" y="3298"/>
                  <a:pt x="5192" y="3310"/>
                  <a:pt x="5159" y="3314"/>
                </a:cubicBezTo>
                <a:cubicBezTo>
                  <a:pt x="5123" y="3319"/>
                  <a:pt x="5092" y="3330"/>
                  <a:pt x="5080" y="3334"/>
                </a:cubicBezTo>
                <a:cubicBezTo>
                  <a:pt x="5046" y="3345"/>
                  <a:pt x="5038" y="3342"/>
                  <a:pt x="5020" y="3354"/>
                </a:cubicBezTo>
                <a:cubicBezTo>
                  <a:pt x="4998" y="3368"/>
                  <a:pt x="4998" y="3378"/>
                  <a:pt x="4981" y="3393"/>
                </a:cubicBezTo>
                <a:cubicBezTo>
                  <a:pt x="4966" y="3407"/>
                  <a:pt x="4932" y="3422"/>
                  <a:pt x="4921" y="3433"/>
                </a:cubicBezTo>
                <a:cubicBezTo>
                  <a:pt x="4908" y="3446"/>
                  <a:pt x="4895" y="3460"/>
                  <a:pt x="4882" y="3473"/>
                </a:cubicBezTo>
                <a:cubicBezTo>
                  <a:pt x="4872" y="3483"/>
                  <a:pt x="4835" y="3499"/>
                  <a:pt x="4822" y="3512"/>
                </a:cubicBezTo>
                <a:cubicBezTo>
                  <a:pt x="4803" y="3531"/>
                  <a:pt x="4808" y="3537"/>
                  <a:pt x="4782" y="3552"/>
                </a:cubicBezTo>
                <a:cubicBezTo>
                  <a:pt x="4764" y="3562"/>
                  <a:pt x="4742" y="3558"/>
                  <a:pt x="4723" y="3572"/>
                </a:cubicBezTo>
                <a:cubicBezTo>
                  <a:pt x="4692" y="3595"/>
                  <a:pt x="4689" y="3601"/>
                  <a:pt x="4663" y="3612"/>
                </a:cubicBezTo>
                <a:cubicBezTo>
                  <a:pt x="4632" y="3626"/>
                  <a:pt x="4627" y="3615"/>
                  <a:pt x="4604" y="3631"/>
                </a:cubicBezTo>
                <a:cubicBezTo>
                  <a:pt x="4588" y="3642"/>
                  <a:pt x="4562" y="3658"/>
                  <a:pt x="4544" y="3671"/>
                </a:cubicBezTo>
                <a:cubicBezTo>
                  <a:pt x="4536" y="3677"/>
                  <a:pt x="4511" y="3728"/>
                  <a:pt x="4505" y="3731"/>
                </a:cubicBezTo>
                <a:cubicBezTo>
                  <a:pt x="4485" y="3742"/>
                  <a:pt x="4448" y="3759"/>
                  <a:pt x="4425" y="3770"/>
                </a:cubicBezTo>
                <a:cubicBezTo>
                  <a:pt x="4395" y="3784"/>
                  <a:pt x="4389" y="3774"/>
                  <a:pt x="4366" y="3790"/>
                </a:cubicBezTo>
                <a:cubicBezTo>
                  <a:pt x="4358" y="3796"/>
                  <a:pt x="4336" y="3821"/>
                  <a:pt x="4326" y="3830"/>
                </a:cubicBezTo>
                <a:cubicBezTo>
                  <a:pt x="4308" y="3847"/>
                  <a:pt x="4303" y="3872"/>
                  <a:pt x="4286" y="3889"/>
                </a:cubicBezTo>
                <a:cubicBezTo>
                  <a:pt x="4278" y="3897"/>
                  <a:pt x="4254" y="3924"/>
                  <a:pt x="4247" y="3929"/>
                </a:cubicBezTo>
                <a:cubicBezTo>
                  <a:pt x="4233" y="3939"/>
                  <a:pt x="4219" y="3937"/>
                  <a:pt x="4207" y="3949"/>
                </a:cubicBezTo>
                <a:cubicBezTo>
                  <a:pt x="4239" y="3956"/>
                  <a:pt x="4224" y="3965"/>
                  <a:pt x="4266" y="3969"/>
                </a:cubicBezTo>
                <a:cubicBezTo>
                  <a:pt x="4350" y="3978"/>
                  <a:pt x="4492" y="3979"/>
                  <a:pt x="4544" y="3949"/>
                </a:cubicBezTo>
                <a:cubicBezTo>
                  <a:pt x="4561" y="3939"/>
                  <a:pt x="4573" y="3914"/>
                  <a:pt x="4584" y="3909"/>
                </a:cubicBezTo>
                <a:cubicBezTo>
                  <a:pt x="4610" y="3896"/>
                  <a:pt x="4622" y="3897"/>
                  <a:pt x="4643" y="3889"/>
                </a:cubicBezTo>
                <a:cubicBezTo>
                  <a:pt x="4668" y="3880"/>
                  <a:pt x="4678" y="3878"/>
                  <a:pt x="4703" y="3870"/>
                </a:cubicBezTo>
                <a:cubicBezTo>
                  <a:pt x="4728" y="3862"/>
                  <a:pt x="4737" y="3858"/>
                  <a:pt x="4762" y="3850"/>
                </a:cubicBezTo>
                <a:cubicBezTo>
                  <a:pt x="4787" y="3842"/>
                  <a:pt x="4797" y="3838"/>
                  <a:pt x="4822" y="3830"/>
                </a:cubicBezTo>
                <a:cubicBezTo>
                  <a:pt x="4847" y="3822"/>
                  <a:pt x="4856" y="3813"/>
                  <a:pt x="4882" y="3810"/>
                </a:cubicBezTo>
                <a:cubicBezTo>
                  <a:pt x="4918" y="3805"/>
                  <a:pt x="4949" y="3794"/>
                  <a:pt x="4961" y="3790"/>
                </a:cubicBezTo>
                <a:cubicBezTo>
                  <a:pt x="4988" y="3781"/>
                  <a:pt x="4986" y="3781"/>
                  <a:pt x="5020" y="3770"/>
                </a:cubicBezTo>
                <a:cubicBezTo>
                  <a:pt x="5047" y="3761"/>
                  <a:pt x="5045" y="3761"/>
                  <a:pt x="5080" y="3750"/>
                </a:cubicBezTo>
                <a:cubicBezTo>
                  <a:pt x="5100" y="3744"/>
                  <a:pt x="5116" y="3743"/>
                  <a:pt x="5140" y="3731"/>
                </a:cubicBezTo>
                <a:cubicBezTo>
                  <a:pt x="5161" y="3720"/>
                  <a:pt x="5192" y="3675"/>
                  <a:pt x="5199" y="3671"/>
                </a:cubicBezTo>
                <a:cubicBezTo>
                  <a:pt x="5222" y="3660"/>
                  <a:pt x="5256" y="3666"/>
                  <a:pt x="5278" y="3651"/>
                </a:cubicBezTo>
                <a:cubicBezTo>
                  <a:pt x="5294" y="3640"/>
                  <a:pt x="5315" y="3625"/>
                  <a:pt x="5338" y="3612"/>
                </a:cubicBezTo>
                <a:cubicBezTo>
                  <a:pt x="5365" y="3596"/>
                  <a:pt x="5381" y="3563"/>
                  <a:pt x="5397" y="3552"/>
                </a:cubicBezTo>
                <a:cubicBezTo>
                  <a:pt x="5424" y="3532"/>
                  <a:pt x="5467" y="3514"/>
                  <a:pt x="5497" y="3492"/>
                </a:cubicBezTo>
                <a:cubicBezTo>
                  <a:pt x="5543" y="3459"/>
                  <a:pt x="5560" y="3432"/>
                  <a:pt x="5596" y="3393"/>
                </a:cubicBezTo>
                <a:cubicBezTo>
                  <a:pt x="5628" y="3359"/>
                  <a:pt x="5659" y="3341"/>
                  <a:pt x="5695" y="3314"/>
                </a:cubicBezTo>
                <a:cubicBezTo>
                  <a:pt x="5728" y="3289"/>
                  <a:pt x="5762" y="3274"/>
                  <a:pt x="5794" y="3254"/>
                </a:cubicBezTo>
                <a:cubicBezTo>
                  <a:pt x="5806" y="3246"/>
                  <a:pt x="5845" y="3200"/>
                  <a:pt x="5854" y="3195"/>
                </a:cubicBezTo>
                <a:cubicBezTo>
                  <a:pt x="5858" y="3193"/>
                  <a:pt x="5911" y="3156"/>
                  <a:pt x="5913" y="3155"/>
                </a:cubicBezTo>
                <a:cubicBezTo>
                  <a:pt x="5944" y="3143"/>
                  <a:pt x="5964" y="3133"/>
                  <a:pt x="5993" y="3115"/>
                </a:cubicBezTo>
                <a:cubicBezTo>
                  <a:pt x="6015" y="3101"/>
                  <a:pt x="6024" y="3101"/>
                  <a:pt x="6052" y="3076"/>
                </a:cubicBezTo>
                <a:cubicBezTo>
                  <a:pt x="6080" y="3051"/>
                  <a:pt x="6088" y="3048"/>
                  <a:pt x="6112" y="3036"/>
                </a:cubicBezTo>
                <a:cubicBezTo>
                  <a:pt x="6139" y="3022"/>
                  <a:pt x="6177" y="2984"/>
                  <a:pt x="6191" y="2977"/>
                </a:cubicBezTo>
                <a:cubicBezTo>
                  <a:pt x="6209" y="2968"/>
                  <a:pt x="6256" y="2968"/>
                  <a:pt x="6271" y="2957"/>
                </a:cubicBezTo>
                <a:cubicBezTo>
                  <a:pt x="6294" y="2940"/>
                  <a:pt x="6302" y="2902"/>
                  <a:pt x="6310" y="2897"/>
                </a:cubicBezTo>
                <a:cubicBezTo>
                  <a:pt x="6353" y="2870"/>
                  <a:pt x="6390" y="2882"/>
                  <a:pt x="6429" y="2857"/>
                </a:cubicBezTo>
                <a:cubicBezTo>
                  <a:pt x="6452" y="2843"/>
                  <a:pt x="6472" y="2831"/>
                  <a:pt x="6489" y="2818"/>
                </a:cubicBezTo>
                <a:cubicBezTo>
                  <a:pt x="6510" y="2802"/>
                  <a:pt x="6519" y="2784"/>
                  <a:pt x="6548" y="2758"/>
                </a:cubicBezTo>
                <a:cubicBezTo>
                  <a:pt x="6564" y="2744"/>
                  <a:pt x="6573" y="2734"/>
                  <a:pt x="6588" y="2719"/>
                </a:cubicBezTo>
                <a:cubicBezTo>
                  <a:pt x="6601" y="2706"/>
                  <a:pt x="6615" y="2692"/>
                  <a:pt x="6628" y="2679"/>
                </a:cubicBezTo>
                <a:cubicBezTo>
                  <a:pt x="6628" y="2659"/>
                  <a:pt x="6628" y="2652"/>
                  <a:pt x="6648" y="2659"/>
                </a:cubicBezTo>
                <a:cubicBezTo>
                  <a:pt x="6635" y="2651"/>
                  <a:pt x="6626" y="2617"/>
                  <a:pt x="6588" y="2619"/>
                </a:cubicBezTo>
                <a:cubicBezTo>
                  <a:pt x="6556" y="2620"/>
                  <a:pt x="6535" y="2638"/>
                  <a:pt x="6529" y="2639"/>
                </a:cubicBezTo>
                <a:cubicBezTo>
                  <a:pt x="6491" y="2649"/>
                  <a:pt x="6498" y="2649"/>
                  <a:pt x="6469" y="2659"/>
                </a:cubicBezTo>
                <a:cubicBezTo>
                  <a:pt x="6438" y="2669"/>
                  <a:pt x="6419" y="2686"/>
                  <a:pt x="6390" y="2699"/>
                </a:cubicBezTo>
                <a:cubicBezTo>
                  <a:pt x="6366" y="2710"/>
                  <a:pt x="6352" y="2704"/>
                  <a:pt x="6330" y="2719"/>
                </a:cubicBezTo>
                <a:cubicBezTo>
                  <a:pt x="6322" y="2725"/>
                  <a:pt x="6300" y="2749"/>
                  <a:pt x="6290" y="2758"/>
                </a:cubicBezTo>
                <a:cubicBezTo>
                  <a:pt x="6274" y="2772"/>
                  <a:pt x="6267" y="2807"/>
                  <a:pt x="6251" y="2818"/>
                </a:cubicBezTo>
                <a:cubicBezTo>
                  <a:pt x="6235" y="2829"/>
                  <a:pt x="6205" y="2833"/>
                  <a:pt x="6191" y="2838"/>
                </a:cubicBezTo>
                <a:cubicBezTo>
                  <a:pt x="6171" y="2845"/>
                  <a:pt x="6108" y="2845"/>
                  <a:pt x="6092" y="2857"/>
                </a:cubicBezTo>
                <a:cubicBezTo>
                  <a:pt x="6083" y="2864"/>
                  <a:pt x="6046" y="2906"/>
                  <a:pt x="6032" y="2917"/>
                </a:cubicBezTo>
                <a:cubicBezTo>
                  <a:pt x="6015" y="2931"/>
                  <a:pt x="5993" y="2943"/>
                  <a:pt x="5973" y="2957"/>
                </a:cubicBezTo>
                <a:cubicBezTo>
                  <a:pt x="5933" y="2986"/>
                  <a:pt x="5956" y="2977"/>
                  <a:pt x="5913" y="2996"/>
                </a:cubicBezTo>
                <a:cubicBezTo>
                  <a:pt x="5897" y="3003"/>
                  <a:pt x="5872" y="3004"/>
                  <a:pt x="5854" y="3016"/>
                </a:cubicBezTo>
                <a:cubicBezTo>
                  <a:pt x="5825" y="3036"/>
                  <a:pt x="5813" y="3041"/>
                  <a:pt x="5794" y="3056"/>
                </a:cubicBezTo>
                <a:cubicBezTo>
                  <a:pt x="5774" y="3072"/>
                  <a:pt x="5724" y="3093"/>
                  <a:pt x="5695" y="3115"/>
                </a:cubicBezTo>
                <a:cubicBezTo>
                  <a:pt x="5642" y="3156"/>
                  <a:pt x="5580" y="3215"/>
                  <a:pt x="5536" y="3254"/>
                </a:cubicBezTo>
                <a:cubicBezTo>
                  <a:pt x="5515" y="3272"/>
                  <a:pt x="5477" y="3279"/>
                  <a:pt x="5457" y="3294"/>
                </a:cubicBezTo>
                <a:cubicBezTo>
                  <a:pt x="5427" y="3317"/>
                  <a:pt x="5419" y="3319"/>
                  <a:pt x="5397" y="3334"/>
                </a:cubicBezTo>
                <a:cubicBezTo>
                  <a:pt x="5377" y="3347"/>
                  <a:pt x="5369" y="3358"/>
                  <a:pt x="5338" y="3373"/>
                </a:cubicBezTo>
                <a:cubicBezTo>
                  <a:pt x="5315" y="3384"/>
                  <a:pt x="5281" y="3379"/>
                  <a:pt x="5259" y="3393"/>
                </a:cubicBezTo>
                <a:cubicBezTo>
                  <a:pt x="5230" y="3412"/>
                  <a:pt x="5218" y="3418"/>
                  <a:pt x="5199" y="3433"/>
                </a:cubicBezTo>
                <a:cubicBezTo>
                  <a:pt x="5170" y="3455"/>
                  <a:pt x="5179" y="3454"/>
                  <a:pt x="5140" y="3473"/>
                </a:cubicBezTo>
                <a:cubicBezTo>
                  <a:pt x="5114" y="3486"/>
                  <a:pt x="5113" y="3479"/>
                  <a:pt x="5080" y="3492"/>
                </a:cubicBezTo>
                <a:cubicBezTo>
                  <a:pt x="5053" y="3502"/>
                  <a:pt x="5032" y="3505"/>
                  <a:pt x="5020" y="3512"/>
                </a:cubicBezTo>
                <a:cubicBezTo>
                  <a:pt x="4988" y="3529"/>
                  <a:pt x="4996" y="3523"/>
                  <a:pt x="4961" y="3532"/>
                </a:cubicBezTo>
                <a:cubicBezTo>
                  <a:pt x="4935" y="3539"/>
                  <a:pt x="4928" y="3550"/>
                  <a:pt x="4901" y="3552"/>
                </a:cubicBezTo>
                <a:cubicBezTo>
                  <a:pt x="4863" y="3555"/>
                  <a:pt x="4835" y="3568"/>
                  <a:pt x="4822" y="3572"/>
                </a:cubicBezTo>
                <a:cubicBezTo>
                  <a:pt x="4791" y="3582"/>
                  <a:pt x="4776" y="3605"/>
                  <a:pt x="4762" y="3612"/>
                </a:cubicBezTo>
                <a:cubicBezTo>
                  <a:pt x="4746" y="3620"/>
                  <a:pt x="4721" y="3619"/>
                  <a:pt x="4703" y="3631"/>
                </a:cubicBezTo>
                <a:cubicBezTo>
                  <a:pt x="4694" y="3637"/>
                  <a:pt x="4673" y="3662"/>
                  <a:pt x="4663" y="3671"/>
                </a:cubicBezTo>
                <a:cubicBezTo>
                  <a:pt x="4645" y="3687"/>
                  <a:pt x="4649" y="3697"/>
                  <a:pt x="4624" y="3711"/>
                </a:cubicBezTo>
                <a:cubicBezTo>
                  <a:pt x="4601" y="3724"/>
                  <a:pt x="4583" y="3724"/>
                  <a:pt x="4564" y="3731"/>
                </a:cubicBezTo>
                <a:cubicBezTo>
                  <a:pt x="4547" y="3738"/>
                  <a:pt x="4524" y="3738"/>
                  <a:pt x="4505" y="3750"/>
                </a:cubicBezTo>
                <a:cubicBezTo>
                  <a:pt x="4482" y="3764"/>
                  <a:pt x="4479" y="3767"/>
                  <a:pt x="4465" y="3790"/>
                </a:cubicBezTo>
                <a:cubicBezTo>
                  <a:pt x="4455" y="3805"/>
                  <a:pt x="4425" y="3849"/>
                  <a:pt x="4425" y="3850"/>
                </a:cubicBezTo>
                <a:cubicBezTo>
                  <a:pt x="4425" y="3870"/>
                  <a:pt x="4425" y="3876"/>
                  <a:pt x="4425" y="3889"/>
                </a:cubicBezTo>
                <a:cubicBezTo>
                  <a:pt x="4458" y="3887"/>
                  <a:pt x="4472" y="3873"/>
                  <a:pt x="4505" y="3870"/>
                </a:cubicBezTo>
                <a:cubicBezTo>
                  <a:pt x="4538" y="3867"/>
                  <a:pt x="4551" y="3854"/>
                  <a:pt x="4584" y="3850"/>
                </a:cubicBezTo>
                <a:cubicBezTo>
                  <a:pt x="4617" y="3846"/>
                  <a:pt x="4630" y="3834"/>
                  <a:pt x="4663" y="3830"/>
                </a:cubicBezTo>
                <a:cubicBezTo>
                  <a:pt x="4698" y="3826"/>
                  <a:pt x="4794" y="3811"/>
                  <a:pt x="4802" y="3810"/>
                </a:cubicBezTo>
                <a:cubicBezTo>
                  <a:pt x="4842" y="3807"/>
                  <a:pt x="4886" y="3795"/>
                  <a:pt x="4901" y="3790"/>
                </a:cubicBezTo>
                <a:cubicBezTo>
                  <a:pt x="4935" y="3778"/>
                  <a:pt x="4934" y="3779"/>
                  <a:pt x="4961" y="3770"/>
                </a:cubicBezTo>
                <a:cubicBezTo>
                  <a:pt x="4988" y="3761"/>
                  <a:pt x="5016" y="3765"/>
                  <a:pt x="5040" y="3750"/>
                </a:cubicBezTo>
                <a:cubicBezTo>
                  <a:pt x="5054" y="3741"/>
                  <a:pt x="5072" y="3715"/>
                  <a:pt x="5080" y="3711"/>
                </a:cubicBezTo>
                <a:cubicBezTo>
                  <a:pt x="5107" y="3698"/>
                  <a:pt x="5118" y="3700"/>
                  <a:pt x="5140" y="3691"/>
                </a:cubicBezTo>
                <a:cubicBezTo>
                  <a:pt x="5174" y="3678"/>
                  <a:pt x="5182" y="3670"/>
                  <a:pt x="5199" y="3651"/>
                </a:cubicBezTo>
                <a:cubicBezTo>
                  <a:pt x="5258" y="3583"/>
                  <a:pt x="5249" y="3630"/>
                  <a:pt x="5318" y="3592"/>
                </a:cubicBezTo>
                <a:cubicBezTo>
                  <a:pt x="5318" y="3592"/>
                  <a:pt x="5379" y="3547"/>
                  <a:pt x="5397" y="3532"/>
                </a:cubicBezTo>
                <a:cubicBezTo>
                  <a:pt x="5417" y="3515"/>
                  <a:pt x="5435" y="3481"/>
                  <a:pt x="5477" y="3453"/>
                </a:cubicBezTo>
                <a:cubicBezTo>
                  <a:pt x="5480" y="3451"/>
                  <a:pt x="5539" y="3409"/>
                  <a:pt x="5556" y="3393"/>
                </a:cubicBezTo>
                <a:cubicBezTo>
                  <a:pt x="5594" y="3357"/>
                  <a:pt x="5594" y="3314"/>
                  <a:pt x="5616" y="3274"/>
                </a:cubicBezTo>
                <a:cubicBezTo>
                  <a:pt x="5637" y="3236"/>
                  <a:pt x="5644" y="3236"/>
                  <a:pt x="5655" y="3195"/>
                </a:cubicBezTo>
                <a:cubicBezTo>
                  <a:pt x="5655" y="3188"/>
                  <a:pt x="5655" y="3182"/>
                  <a:pt x="5655" y="3175"/>
                </a:cubicBezTo>
                <a:cubicBezTo>
                  <a:pt x="5644" y="3181"/>
                  <a:pt x="5597" y="3195"/>
                  <a:pt x="5576" y="3215"/>
                </a:cubicBezTo>
                <a:cubicBezTo>
                  <a:pt x="5555" y="3235"/>
                  <a:pt x="5551" y="3258"/>
                  <a:pt x="5517" y="3274"/>
                </a:cubicBezTo>
                <a:cubicBezTo>
                  <a:pt x="5510" y="3277"/>
                  <a:pt x="5464" y="3309"/>
                  <a:pt x="5457" y="3314"/>
                </a:cubicBezTo>
                <a:cubicBezTo>
                  <a:pt x="5428" y="3335"/>
                  <a:pt x="5417" y="3339"/>
                  <a:pt x="5397" y="3354"/>
                </a:cubicBezTo>
                <a:cubicBezTo>
                  <a:pt x="5380" y="3367"/>
                  <a:pt x="5364" y="3380"/>
                  <a:pt x="5338" y="3393"/>
                </a:cubicBezTo>
                <a:cubicBezTo>
                  <a:pt x="5315" y="3404"/>
                  <a:pt x="5281" y="3399"/>
                  <a:pt x="5259" y="3413"/>
                </a:cubicBezTo>
                <a:cubicBezTo>
                  <a:pt x="5226" y="3434"/>
                  <a:pt x="5225" y="3441"/>
                  <a:pt x="5199" y="3453"/>
                </a:cubicBezTo>
                <a:cubicBezTo>
                  <a:pt x="5175" y="3464"/>
                  <a:pt x="5162" y="3458"/>
                  <a:pt x="5140" y="3473"/>
                </a:cubicBezTo>
                <a:cubicBezTo>
                  <a:pt x="5123" y="3484"/>
                  <a:pt x="5100" y="3500"/>
                  <a:pt x="5080" y="3512"/>
                </a:cubicBezTo>
                <a:cubicBezTo>
                  <a:pt x="5064" y="3522"/>
                  <a:pt x="5063" y="3540"/>
                  <a:pt x="5040" y="3552"/>
                </a:cubicBezTo>
                <a:cubicBezTo>
                  <a:pt x="5027" y="3559"/>
                  <a:pt x="4969" y="3566"/>
                  <a:pt x="4961" y="3572"/>
                </a:cubicBezTo>
                <a:cubicBezTo>
                  <a:pt x="4950" y="3581"/>
                  <a:pt x="4956" y="3600"/>
                  <a:pt x="4941" y="3612"/>
                </a:cubicBezTo>
                <a:cubicBezTo>
                  <a:pt x="4967" y="3627"/>
                  <a:pt x="4928" y="3639"/>
                  <a:pt x="4981" y="3651"/>
                </a:cubicBezTo>
                <a:cubicBezTo>
                  <a:pt x="5030" y="3662"/>
                  <a:pt x="5081" y="3636"/>
                  <a:pt x="5100" y="3631"/>
                </a:cubicBezTo>
                <a:cubicBezTo>
                  <a:pt x="5121" y="3625"/>
                  <a:pt x="5157" y="3613"/>
                  <a:pt x="5159" y="3612"/>
                </a:cubicBezTo>
                <a:cubicBezTo>
                  <a:pt x="5178" y="3606"/>
                  <a:pt x="5219" y="3592"/>
                  <a:pt x="5219" y="3592"/>
                </a:cubicBezTo>
                <a:cubicBezTo>
                  <a:pt x="5254" y="3580"/>
                  <a:pt x="5253" y="3588"/>
                  <a:pt x="5278" y="3572"/>
                </a:cubicBezTo>
                <a:cubicBezTo>
                  <a:pt x="5288" y="3566"/>
                  <a:pt x="5306" y="3523"/>
                  <a:pt x="5318" y="3512"/>
                </a:cubicBezTo>
                <a:cubicBezTo>
                  <a:pt x="5333" y="3497"/>
                  <a:pt x="5354" y="3478"/>
                  <a:pt x="5358" y="3453"/>
                </a:cubicBezTo>
                <a:cubicBezTo>
                  <a:pt x="5364" y="3415"/>
                  <a:pt x="5355" y="3373"/>
                  <a:pt x="5358" y="3334"/>
                </a:cubicBezTo>
                <a:cubicBezTo>
                  <a:pt x="5299" y="3338"/>
                  <a:pt x="5266" y="3341"/>
                  <a:pt x="5219" y="3354"/>
                </a:cubicBezTo>
                <a:cubicBezTo>
                  <a:pt x="5197" y="3360"/>
                  <a:pt x="5162" y="3372"/>
                  <a:pt x="5159" y="3373"/>
                </a:cubicBezTo>
                <a:cubicBezTo>
                  <a:pt x="5134" y="3381"/>
                  <a:pt x="5125" y="3385"/>
                  <a:pt x="5100" y="3393"/>
                </a:cubicBezTo>
                <a:cubicBezTo>
                  <a:pt x="5072" y="3402"/>
                  <a:pt x="5051" y="3428"/>
                  <a:pt x="5040" y="3433"/>
                </a:cubicBezTo>
                <a:cubicBezTo>
                  <a:pt x="5011" y="3448"/>
                  <a:pt x="5004" y="3437"/>
                  <a:pt x="4981" y="3453"/>
                </a:cubicBezTo>
                <a:cubicBezTo>
                  <a:pt x="4954" y="3472"/>
                  <a:pt x="4959" y="3479"/>
                  <a:pt x="4941" y="3512"/>
                </a:cubicBezTo>
                <a:cubicBezTo>
                  <a:pt x="4931" y="3530"/>
                  <a:pt x="4935" y="3552"/>
                  <a:pt x="4921" y="3572"/>
                </a:cubicBezTo>
                <a:cubicBezTo>
                  <a:pt x="4909" y="3589"/>
                  <a:pt x="4894" y="3587"/>
                  <a:pt x="4882" y="3612"/>
                </a:cubicBezTo>
                <a:cubicBezTo>
                  <a:pt x="4873" y="3629"/>
                  <a:pt x="4862" y="3660"/>
                  <a:pt x="4862" y="3671"/>
                </a:cubicBezTo>
                <a:cubicBezTo>
                  <a:pt x="4862" y="3699"/>
                  <a:pt x="4882" y="3731"/>
                  <a:pt x="4882" y="3731"/>
                </a:cubicBezTo>
                <a:cubicBezTo>
                  <a:pt x="4922" y="3729"/>
                  <a:pt x="4942" y="3715"/>
                  <a:pt x="4981" y="3711"/>
                </a:cubicBezTo>
                <a:cubicBezTo>
                  <a:pt x="5012" y="3708"/>
                  <a:pt x="5077" y="3691"/>
                  <a:pt x="5080" y="3691"/>
                </a:cubicBezTo>
                <a:cubicBezTo>
                  <a:pt x="5118" y="3686"/>
                  <a:pt x="5143" y="3680"/>
                  <a:pt x="5159" y="3671"/>
                </a:cubicBezTo>
                <a:cubicBezTo>
                  <a:pt x="5186" y="3657"/>
                  <a:pt x="5225" y="3620"/>
                  <a:pt x="5239" y="3612"/>
                </a:cubicBezTo>
                <a:cubicBezTo>
                  <a:pt x="5262" y="3599"/>
                  <a:pt x="5273" y="3601"/>
                  <a:pt x="5298" y="3592"/>
                </a:cubicBezTo>
                <a:cubicBezTo>
                  <a:pt x="5334" y="3578"/>
                  <a:pt x="5342" y="3575"/>
                  <a:pt x="5378" y="3552"/>
                </a:cubicBezTo>
                <a:cubicBezTo>
                  <a:pt x="5403" y="3536"/>
                  <a:pt x="5433" y="3529"/>
                  <a:pt x="5457" y="3512"/>
                </a:cubicBezTo>
                <a:cubicBezTo>
                  <a:pt x="5486" y="3492"/>
                  <a:pt x="5526" y="3476"/>
                  <a:pt x="5556" y="3453"/>
                </a:cubicBezTo>
                <a:cubicBezTo>
                  <a:pt x="5581" y="3434"/>
                  <a:pt x="5604" y="3400"/>
                  <a:pt x="5616" y="3393"/>
                </a:cubicBezTo>
                <a:cubicBezTo>
                  <a:pt x="5641" y="3378"/>
                  <a:pt x="5654" y="3388"/>
                  <a:pt x="5675" y="3373"/>
                </a:cubicBezTo>
                <a:cubicBezTo>
                  <a:pt x="5693" y="3360"/>
                  <a:pt x="5710" y="3344"/>
                  <a:pt x="5735" y="3334"/>
                </a:cubicBezTo>
                <a:cubicBezTo>
                  <a:pt x="5763" y="3323"/>
                  <a:pt x="5783" y="3323"/>
                  <a:pt x="5814" y="3314"/>
                </a:cubicBezTo>
                <a:cubicBezTo>
                  <a:pt x="5828" y="3310"/>
                  <a:pt x="5884" y="3302"/>
                  <a:pt x="5894" y="3294"/>
                </a:cubicBezTo>
                <a:cubicBezTo>
                  <a:pt x="5926" y="3269"/>
                  <a:pt x="5938" y="3239"/>
                  <a:pt x="5973" y="3215"/>
                </a:cubicBezTo>
                <a:cubicBezTo>
                  <a:pt x="5998" y="3198"/>
                  <a:pt x="6050" y="3190"/>
                  <a:pt x="6072" y="3175"/>
                </a:cubicBezTo>
                <a:cubicBezTo>
                  <a:pt x="6116" y="3145"/>
                  <a:pt x="6105" y="3136"/>
                  <a:pt x="6132" y="3115"/>
                </a:cubicBezTo>
                <a:cubicBezTo>
                  <a:pt x="6171" y="3085"/>
                  <a:pt x="6218" y="3066"/>
                  <a:pt x="6251" y="3036"/>
                </a:cubicBezTo>
                <a:cubicBezTo>
                  <a:pt x="6275" y="3014"/>
                  <a:pt x="6293" y="2958"/>
                  <a:pt x="6310" y="2937"/>
                </a:cubicBezTo>
                <a:cubicBezTo>
                  <a:pt x="6324" y="2919"/>
                  <a:pt x="6338" y="2890"/>
                  <a:pt x="6350" y="2877"/>
                </a:cubicBezTo>
                <a:cubicBezTo>
                  <a:pt x="6369" y="2856"/>
                  <a:pt x="6377" y="2827"/>
                  <a:pt x="6390" y="2818"/>
                </a:cubicBezTo>
                <a:cubicBezTo>
                  <a:pt x="6408" y="2806"/>
                  <a:pt x="6433" y="2805"/>
                  <a:pt x="6449" y="2798"/>
                </a:cubicBezTo>
                <a:cubicBezTo>
                  <a:pt x="6467" y="2791"/>
                  <a:pt x="6489" y="2791"/>
                  <a:pt x="6509" y="2778"/>
                </a:cubicBezTo>
                <a:cubicBezTo>
                  <a:pt x="6519" y="2772"/>
                  <a:pt x="6547" y="2750"/>
                  <a:pt x="6568" y="2738"/>
                </a:cubicBezTo>
                <a:cubicBezTo>
                  <a:pt x="6596" y="2722"/>
                  <a:pt x="6619" y="2693"/>
                  <a:pt x="6648" y="2679"/>
                </a:cubicBezTo>
                <a:cubicBezTo>
                  <a:pt x="6665" y="2671"/>
                  <a:pt x="6688" y="2672"/>
                  <a:pt x="6707" y="2659"/>
                </a:cubicBezTo>
                <a:cubicBezTo>
                  <a:pt x="6723" y="2648"/>
                  <a:pt x="6749" y="2632"/>
                  <a:pt x="6767" y="2619"/>
                </a:cubicBezTo>
                <a:cubicBezTo>
                  <a:pt x="6784" y="2607"/>
                  <a:pt x="6806" y="2593"/>
                  <a:pt x="6826" y="2580"/>
                </a:cubicBezTo>
                <a:cubicBezTo>
                  <a:pt x="6833" y="2573"/>
                  <a:pt x="6839" y="2567"/>
                  <a:pt x="6846" y="2560"/>
                </a:cubicBezTo>
                <a:cubicBezTo>
                  <a:pt x="6844" y="2560"/>
                  <a:pt x="6818" y="2537"/>
                  <a:pt x="6787" y="2540"/>
                </a:cubicBezTo>
                <a:cubicBezTo>
                  <a:pt x="6760" y="2542"/>
                  <a:pt x="6754" y="2558"/>
                  <a:pt x="6727" y="2560"/>
                </a:cubicBezTo>
                <a:cubicBezTo>
                  <a:pt x="6680" y="2563"/>
                  <a:pt x="6625" y="2577"/>
                  <a:pt x="6588" y="2580"/>
                </a:cubicBezTo>
                <a:cubicBezTo>
                  <a:pt x="6550" y="2583"/>
                  <a:pt x="6478" y="2599"/>
                  <a:pt x="6469" y="2600"/>
                </a:cubicBezTo>
                <a:cubicBezTo>
                  <a:pt x="6434" y="2604"/>
                  <a:pt x="6402" y="2615"/>
                  <a:pt x="6390" y="2619"/>
                </a:cubicBezTo>
                <a:cubicBezTo>
                  <a:pt x="6354" y="2631"/>
                  <a:pt x="6357" y="2625"/>
                  <a:pt x="6330" y="2639"/>
                </a:cubicBezTo>
                <a:cubicBezTo>
                  <a:pt x="6300" y="2654"/>
                  <a:pt x="6300" y="2664"/>
                  <a:pt x="6271" y="2679"/>
                </a:cubicBezTo>
                <a:cubicBezTo>
                  <a:pt x="6245" y="2692"/>
                  <a:pt x="6244" y="2686"/>
                  <a:pt x="6211" y="2699"/>
                </a:cubicBezTo>
                <a:cubicBezTo>
                  <a:pt x="6184" y="2710"/>
                  <a:pt x="6187" y="2708"/>
                  <a:pt x="6152" y="2719"/>
                </a:cubicBezTo>
                <a:cubicBezTo>
                  <a:pt x="6136" y="2724"/>
                  <a:pt x="6110" y="2726"/>
                  <a:pt x="6092" y="2738"/>
                </a:cubicBezTo>
                <a:cubicBezTo>
                  <a:pt x="6086" y="2742"/>
                  <a:pt x="6057" y="2795"/>
                  <a:pt x="6052" y="2798"/>
                </a:cubicBezTo>
                <a:cubicBezTo>
                  <a:pt x="6023" y="2814"/>
                  <a:pt x="5982" y="2820"/>
                  <a:pt x="5953" y="2838"/>
                </a:cubicBezTo>
                <a:cubicBezTo>
                  <a:pt x="5930" y="2852"/>
                  <a:pt x="5922" y="2852"/>
                  <a:pt x="5894" y="2877"/>
                </a:cubicBezTo>
                <a:cubicBezTo>
                  <a:pt x="5867" y="2901"/>
                  <a:pt x="5853" y="2901"/>
                  <a:pt x="5834" y="2917"/>
                </a:cubicBezTo>
                <a:cubicBezTo>
                  <a:pt x="5806" y="2941"/>
                  <a:pt x="5794" y="2942"/>
                  <a:pt x="5775" y="2957"/>
                </a:cubicBezTo>
                <a:cubicBezTo>
                  <a:pt x="5757" y="2972"/>
                  <a:pt x="5760" y="2982"/>
                  <a:pt x="5735" y="2996"/>
                </a:cubicBezTo>
                <a:cubicBezTo>
                  <a:pt x="5718" y="3005"/>
                  <a:pt x="5694" y="3003"/>
                  <a:pt x="5675" y="3016"/>
                </a:cubicBezTo>
                <a:cubicBezTo>
                  <a:pt x="5648" y="3035"/>
                  <a:pt x="5668" y="3067"/>
                  <a:pt x="5636" y="3076"/>
                </a:cubicBezTo>
                <a:cubicBezTo>
                  <a:pt x="5606" y="3085"/>
                  <a:pt x="5566" y="3092"/>
                  <a:pt x="5556" y="3096"/>
                </a:cubicBezTo>
                <a:cubicBezTo>
                  <a:pt x="5532" y="3105"/>
                  <a:pt x="5522" y="3107"/>
                  <a:pt x="5497" y="3115"/>
                </a:cubicBezTo>
                <a:cubicBezTo>
                  <a:pt x="5481" y="3120"/>
                  <a:pt x="5456" y="3123"/>
                  <a:pt x="5437" y="3135"/>
                </a:cubicBezTo>
                <a:cubicBezTo>
                  <a:pt x="5430" y="3139"/>
                  <a:pt x="5406" y="3167"/>
                  <a:pt x="5397" y="3175"/>
                </a:cubicBezTo>
                <a:cubicBezTo>
                  <a:pt x="5390" y="3181"/>
                  <a:pt x="5363" y="3212"/>
                  <a:pt x="5358" y="3215"/>
                </a:cubicBezTo>
                <a:cubicBezTo>
                  <a:pt x="5335" y="3228"/>
                  <a:pt x="5323" y="3226"/>
                  <a:pt x="5298" y="3235"/>
                </a:cubicBezTo>
                <a:cubicBezTo>
                  <a:pt x="5281" y="3241"/>
                  <a:pt x="5258" y="3242"/>
                  <a:pt x="5239" y="3254"/>
                </a:cubicBezTo>
                <a:cubicBezTo>
                  <a:pt x="5226" y="3262"/>
                  <a:pt x="5208" y="3283"/>
                  <a:pt x="5179" y="3294"/>
                </a:cubicBezTo>
                <a:cubicBezTo>
                  <a:pt x="5175" y="3296"/>
                  <a:pt x="5142" y="3307"/>
                  <a:pt x="5120" y="3314"/>
                </a:cubicBezTo>
                <a:cubicBezTo>
                  <a:pt x="5092" y="3323"/>
                  <a:pt x="5069" y="3337"/>
                  <a:pt x="5060" y="3354"/>
                </a:cubicBezTo>
                <a:cubicBezTo>
                  <a:pt x="5052" y="3368"/>
                  <a:pt x="5064" y="3397"/>
                  <a:pt x="5060" y="3413"/>
                </a:cubicBezTo>
                <a:cubicBezTo>
                  <a:pt x="5091" y="3420"/>
                  <a:pt x="5105" y="3430"/>
                  <a:pt x="5140" y="3433"/>
                </a:cubicBezTo>
                <a:cubicBezTo>
                  <a:pt x="5222" y="3441"/>
                  <a:pt x="5328" y="3427"/>
                  <a:pt x="5378" y="3413"/>
                </a:cubicBezTo>
                <a:cubicBezTo>
                  <a:pt x="5411" y="3404"/>
                  <a:pt x="5412" y="3396"/>
                  <a:pt x="5437" y="3393"/>
                </a:cubicBezTo>
                <a:cubicBezTo>
                  <a:pt x="5490" y="3386"/>
                  <a:pt x="5548" y="3393"/>
                  <a:pt x="5596" y="3373"/>
                </a:cubicBezTo>
                <a:cubicBezTo>
                  <a:pt x="5630" y="3359"/>
                  <a:pt x="5660" y="3347"/>
                  <a:pt x="5695" y="3334"/>
                </a:cubicBezTo>
                <a:cubicBezTo>
                  <a:pt x="5739" y="3318"/>
                  <a:pt x="5778" y="3317"/>
                  <a:pt x="5814" y="3294"/>
                </a:cubicBezTo>
                <a:cubicBezTo>
                  <a:pt x="5826" y="3286"/>
                  <a:pt x="5890" y="3258"/>
                  <a:pt x="5894" y="3254"/>
                </a:cubicBezTo>
                <a:cubicBezTo>
                  <a:pt x="5928" y="3223"/>
                  <a:pt x="5938" y="3201"/>
                  <a:pt x="5973" y="3175"/>
                </a:cubicBezTo>
                <a:cubicBezTo>
                  <a:pt x="5991" y="3161"/>
                  <a:pt x="6028" y="3130"/>
                  <a:pt x="6052" y="3115"/>
                </a:cubicBezTo>
                <a:cubicBezTo>
                  <a:pt x="6085" y="3095"/>
                  <a:pt x="6118" y="3079"/>
                  <a:pt x="6152" y="3056"/>
                </a:cubicBezTo>
                <a:cubicBezTo>
                  <a:pt x="6158" y="3052"/>
                  <a:pt x="6198" y="3032"/>
                  <a:pt x="6211" y="3016"/>
                </a:cubicBezTo>
                <a:cubicBezTo>
                  <a:pt x="6218" y="3008"/>
                  <a:pt x="6229" y="2948"/>
                  <a:pt x="6231" y="2937"/>
                </a:cubicBezTo>
                <a:cubicBezTo>
                  <a:pt x="6235" y="2918"/>
                  <a:pt x="6230" y="2896"/>
                  <a:pt x="6231" y="2877"/>
                </a:cubicBezTo>
                <a:cubicBezTo>
                  <a:pt x="6209" y="2887"/>
                  <a:pt x="6173" y="2886"/>
                  <a:pt x="6152" y="2897"/>
                </a:cubicBezTo>
                <a:cubicBezTo>
                  <a:pt x="6097" y="2926"/>
                  <a:pt x="6062" y="2912"/>
                  <a:pt x="5993" y="2937"/>
                </a:cubicBezTo>
                <a:cubicBezTo>
                  <a:pt x="5976" y="2943"/>
                  <a:pt x="5908" y="2969"/>
                  <a:pt x="5894" y="2977"/>
                </a:cubicBezTo>
                <a:cubicBezTo>
                  <a:pt x="5866" y="2992"/>
                  <a:pt x="5870" y="3010"/>
                  <a:pt x="5834" y="3036"/>
                </a:cubicBezTo>
                <a:cubicBezTo>
                  <a:pt x="5813" y="3051"/>
                  <a:pt x="5805" y="3055"/>
                  <a:pt x="5775" y="3076"/>
                </a:cubicBezTo>
                <a:cubicBezTo>
                  <a:pt x="5747" y="3096"/>
                  <a:pt x="5726" y="3103"/>
                  <a:pt x="5695" y="3115"/>
                </a:cubicBezTo>
                <a:cubicBezTo>
                  <a:pt x="5693" y="3116"/>
                  <a:pt x="5638" y="3154"/>
                  <a:pt x="5636" y="3155"/>
                </a:cubicBezTo>
                <a:cubicBezTo>
                  <a:pt x="5614" y="3168"/>
                  <a:pt x="5572" y="3184"/>
                  <a:pt x="5556" y="3195"/>
                </a:cubicBezTo>
                <a:cubicBezTo>
                  <a:pt x="5541" y="3206"/>
                  <a:pt x="5530" y="3225"/>
                  <a:pt x="5497" y="3235"/>
                </a:cubicBezTo>
                <a:cubicBezTo>
                  <a:pt x="5460" y="3246"/>
                  <a:pt x="5430" y="3234"/>
                  <a:pt x="5397" y="3254"/>
                </a:cubicBezTo>
                <a:cubicBezTo>
                  <a:pt x="5382" y="3263"/>
                  <a:pt x="5367" y="3289"/>
                  <a:pt x="5358" y="3294"/>
                </a:cubicBezTo>
                <a:cubicBezTo>
                  <a:pt x="5341" y="3302"/>
                  <a:pt x="5316" y="3301"/>
                  <a:pt x="5298" y="3314"/>
                </a:cubicBezTo>
                <a:cubicBezTo>
                  <a:pt x="5282" y="3326"/>
                  <a:pt x="5272" y="3345"/>
                  <a:pt x="5259" y="3354"/>
                </a:cubicBezTo>
                <a:cubicBezTo>
                  <a:pt x="5239" y="3368"/>
                  <a:pt x="5229" y="3374"/>
                  <a:pt x="5199" y="3393"/>
                </a:cubicBezTo>
                <a:cubicBezTo>
                  <a:pt x="5170" y="3412"/>
                  <a:pt x="5152" y="3420"/>
                  <a:pt x="5120" y="3433"/>
                </a:cubicBezTo>
                <a:cubicBezTo>
                  <a:pt x="5085" y="3447"/>
                  <a:pt x="5074" y="3429"/>
                  <a:pt x="5040" y="3453"/>
                </a:cubicBezTo>
                <a:cubicBezTo>
                  <a:pt x="5030" y="3460"/>
                  <a:pt x="5012" y="3482"/>
                  <a:pt x="5001" y="3492"/>
                </a:cubicBezTo>
                <a:cubicBezTo>
                  <a:pt x="4981" y="3492"/>
                  <a:pt x="4974" y="3492"/>
                  <a:pt x="4981" y="3512"/>
                </a:cubicBezTo>
              </a:path>
              <a:path w="4089" h="2303">
                <a:moveTo>
                  <a:pt x="6628" y="2520"/>
                </a:moveTo>
                <a:cubicBezTo>
                  <a:pt x="6651" y="2489"/>
                  <a:pt x="6673" y="2497"/>
                  <a:pt x="6687" y="2480"/>
                </a:cubicBezTo>
                <a:cubicBezTo>
                  <a:pt x="6699" y="2466"/>
                  <a:pt x="6740" y="2454"/>
                  <a:pt x="6747" y="2441"/>
                </a:cubicBezTo>
                <a:cubicBezTo>
                  <a:pt x="6761" y="2413"/>
                  <a:pt x="6767" y="2421"/>
                  <a:pt x="6806" y="2421"/>
                </a:cubicBezTo>
                <a:cubicBezTo>
                  <a:pt x="6847" y="2421"/>
                  <a:pt x="6849" y="2409"/>
                  <a:pt x="6866" y="2401"/>
                </a:cubicBezTo>
                <a:cubicBezTo>
                  <a:pt x="6905" y="2381"/>
                  <a:pt x="6993" y="2404"/>
                  <a:pt x="7005" y="2421"/>
                </a:cubicBezTo>
                <a:cubicBezTo>
                  <a:pt x="7012" y="2428"/>
                  <a:pt x="7018" y="2434"/>
                  <a:pt x="7025" y="2441"/>
                </a:cubicBezTo>
                <a:cubicBezTo>
                  <a:pt x="7025" y="2504"/>
                  <a:pt x="7008" y="2452"/>
                  <a:pt x="6985" y="2480"/>
                </a:cubicBezTo>
                <a:cubicBezTo>
                  <a:pt x="6979" y="2488"/>
                  <a:pt x="6947" y="2516"/>
                  <a:pt x="6945" y="2520"/>
                </a:cubicBezTo>
                <a:cubicBezTo>
                  <a:pt x="6935" y="2540"/>
                  <a:pt x="6927" y="2565"/>
                  <a:pt x="6925" y="2580"/>
                </a:cubicBezTo>
                <a:cubicBezTo>
                  <a:pt x="6921" y="2613"/>
                  <a:pt x="6895" y="2601"/>
                  <a:pt x="6886" y="2619"/>
                </a:cubicBezTo>
                <a:cubicBezTo>
                  <a:pt x="6875" y="2641"/>
                  <a:pt x="6886" y="2669"/>
                  <a:pt x="6866" y="2679"/>
                </a:cubicBezTo>
                <a:cubicBezTo>
                  <a:pt x="6831" y="2696"/>
                  <a:pt x="6829" y="2662"/>
                  <a:pt x="6806" y="2659"/>
                </a:cubicBezTo>
                <a:cubicBezTo>
                  <a:pt x="6781" y="2656"/>
                  <a:pt x="6755" y="2654"/>
                  <a:pt x="6747" y="2639"/>
                </a:cubicBezTo>
                <a:cubicBezTo>
                  <a:pt x="6745" y="2634"/>
                  <a:pt x="6731" y="2583"/>
                  <a:pt x="6727" y="2580"/>
                </a:cubicBezTo>
                <a:cubicBezTo>
                  <a:pt x="6724" y="2578"/>
                  <a:pt x="6680" y="2541"/>
                  <a:pt x="6707" y="2520"/>
                </a:cubicBezTo>
                <a:cubicBezTo>
                  <a:pt x="6728" y="2503"/>
                  <a:pt x="6751" y="2479"/>
                  <a:pt x="6767" y="2500"/>
                </a:cubicBezTo>
                <a:cubicBezTo>
                  <a:pt x="6767" y="2520"/>
                  <a:pt x="6767" y="2527"/>
                  <a:pt x="6787" y="2520"/>
                </a:cubicBezTo>
                <a:cubicBezTo>
                  <a:pt x="6787" y="2540"/>
                  <a:pt x="6787" y="2560"/>
                  <a:pt x="6787" y="2580"/>
                </a:cubicBezTo>
                <a:cubicBezTo>
                  <a:pt x="6759" y="2571"/>
                  <a:pt x="6769" y="2549"/>
                  <a:pt x="6787" y="2540"/>
                </a:cubicBezTo>
                <a:cubicBezTo>
                  <a:pt x="6809" y="2529"/>
                  <a:pt x="6836" y="2539"/>
                  <a:pt x="6846" y="2520"/>
                </a:cubicBezTo>
                <a:cubicBezTo>
                  <a:pt x="6860" y="2492"/>
                  <a:pt x="6867" y="2500"/>
                  <a:pt x="6906" y="2500"/>
                </a:cubicBezTo>
                <a:cubicBezTo>
                  <a:pt x="6940" y="2500"/>
                  <a:pt x="6936" y="2508"/>
                  <a:pt x="6945" y="2480"/>
                </a:cubicBezTo>
                <a:cubicBezTo>
                  <a:pt x="6945" y="2525"/>
                  <a:pt x="6935" y="2540"/>
                  <a:pt x="6925" y="2560"/>
                </a:cubicBezTo>
                <a:cubicBezTo>
                  <a:pt x="6914" y="2581"/>
                  <a:pt x="6914" y="2596"/>
                  <a:pt x="6886" y="2600"/>
                </a:cubicBezTo>
                <a:cubicBezTo>
                  <a:pt x="6854" y="2604"/>
                  <a:pt x="6864" y="2630"/>
                  <a:pt x="6846" y="2639"/>
                </a:cubicBezTo>
                <a:cubicBezTo>
                  <a:pt x="6826" y="2649"/>
                  <a:pt x="6801" y="2657"/>
                  <a:pt x="6787" y="2659"/>
                </a:cubicBezTo>
                <a:cubicBezTo>
                  <a:pt x="6754" y="2663"/>
                  <a:pt x="6772" y="2679"/>
                  <a:pt x="6727" y="2679"/>
                </a:cubicBezTo>
                <a:cubicBezTo>
                  <a:pt x="6720" y="2679"/>
                  <a:pt x="6714" y="2679"/>
                  <a:pt x="6707" y="2679"/>
                </a:cubicBezTo>
                <a:cubicBezTo>
                  <a:pt x="6707" y="2658"/>
                  <a:pt x="6701" y="2609"/>
                  <a:pt x="6687" y="2600"/>
                </a:cubicBezTo>
                <a:cubicBezTo>
                  <a:pt x="6673" y="2591"/>
                  <a:pt x="6656" y="2564"/>
                  <a:pt x="6648" y="2560"/>
                </a:cubicBezTo>
                <a:cubicBezTo>
                  <a:pt x="6641" y="2560"/>
                  <a:pt x="6635" y="2560"/>
                  <a:pt x="6628" y="2560"/>
                </a:cubicBezTo>
                <a:cubicBezTo>
                  <a:pt x="6628" y="2526"/>
                  <a:pt x="6645" y="2574"/>
                  <a:pt x="6648" y="2580"/>
                </a:cubicBezTo>
                <a:cubicBezTo>
                  <a:pt x="6658" y="2600"/>
                  <a:pt x="6665" y="2624"/>
                  <a:pt x="6667" y="2639"/>
                </a:cubicBezTo>
                <a:cubicBezTo>
                  <a:pt x="6670" y="2665"/>
                  <a:pt x="6666" y="2682"/>
                  <a:pt x="6687" y="2699"/>
                </a:cubicBezTo>
                <a:cubicBezTo>
                  <a:pt x="6701" y="2711"/>
                  <a:pt x="6733" y="2736"/>
                  <a:pt x="6747" y="2738"/>
                </a:cubicBezTo>
                <a:cubicBezTo>
                  <a:pt x="6795" y="2744"/>
                  <a:pt x="6844" y="2728"/>
                  <a:pt x="6866" y="2719"/>
                </a:cubicBezTo>
                <a:cubicBezTo>
                  <a:pt x="6887" y="2710"/>
                  <a:pt x="6903" y="2705"/>
                  <a:pt x="6906" y="2679"/>
                </a:cubicBezTo>
                <a:cubicBezTo>
                  <a:pt x="6910" y="2647"/>
                  <a:pt x="6936" y="2657"/>
                  <a:pt x="6945" y="2639"/>
                </a:cubicBezTo>
                <a:cubicBezTo>
                  <a:pt x="6956" y="2617"/>
                  <a:pt x="6946" y="2590"/>
                  <a:pt x="6965" y="2580"/>
                </a:cubicBezTo>
                <a:cubicBezTo>
                  <a:pt x="6986" y="2570"/>
                  <a:pt x="7002" y="2568"/>
                  <a:pt x="7005" y="2540"/>
                </a:cubicBezTo>
                <a:cubicBezTo>
                  <a:pt x="7009" y="2507"/>
                  <a:pt x="7025" y="2525"/>
                  <a:pt x="7025" y="2480"/>
                </a:cubicBezTo>
                <a:cubicBezTo>
                  <a:pt x="7025" y="2460"/>
                  <a:pt x="6979" y="2446"/>
                  <a:pt x="6965" y="2441"/>
                </a:cubicBezTo>
              </a:path>
              <a:path w="4089" h="2303">
                <a:moveTo>
                  <a:pt x="6667" y="2183"/>
                </a:moveTo>
                <a:cubicBezTo>
                  <a:pt x="6667" y="2176"/>
                  <a:pt x="6667" y="2170"/>
                  <a:pt x="6667" y="2163"/>
                </a:cubicBezTo>
                <a:cubicBezTo>
                  <a:pt x="6701" y="2163"/>
                  <a:pt x="6698" y="2171"/>
                  <a:pt x="6707" y="2143"/>
                </a:cubicBezTo>
                <a:cubicBezTo>
                  <a:pt x="6748" y="2143"/>
                  <a:pt x="6754" y="2134"/>
                  <a:pt x="6787" y="2123"/>
                </a:cubicBezTo>
                <a:cubicBezTo>
                  <a:pt x="6793" y="2123"/>
                  <a:pt x="6800" y="2123"/>
                  <a:pt x="6806" y="2123"/>
                </a:cubicBezTo>
                <a:cubicBezTo>
                  <a:pt x="6815" y="2095"/>
                  <a:pt x="6812" y="2103"/>
                  <a:pt x="6846" y="2103"/>
                </a:cubicBezTo>
                <a:cubicBezTo>
                  <a:pt x="6854" y="2081"/>
                  <a:pt x="6874" y="2068"/>
                  <a:pt x="6906" y="2064"/>
                </a:cubicBezTo>
                <a:cubicBezTo>
                  <a:pt x="6939" y="2060"/>
                  <a:pt x="6955" y="2047"/>
                  <a:pt x="6985" y="2044"/>
                </a:cubicBezTo>
                <a:cubicBezTo>
                  <a:pt x="7004" y="2042"/>
                  <a:pt x="7026" y="2044"/>
                  <a:pt x="7045" y="2044"/>
                </a:cubicBezTo>
                <a:cubicBezTo>
                  <a:pt x="7056" y="2008"/>
                  <a:pt x="7102" y="2024"/>
                  <a:pt x="7144" y="2024"/>
                </a:cubicBezTo>
                <a:cubicBezTo>
                  <a:pt x="7203" y="2024"/>
                  <a:pt x="7246" y="2007"/>
                  <a:pt x="7302" y="2004"/>
                </a:cubicBezTo>
                <a:cubicBezTo>
                  <a:pt x="7386" y="1999"/>
                  <a:pt x="7466" y="2007"/>
                  <a:pt x="7541" y="1984"/>
                </a:cubicBezTo>
                <a:cubicBezTo>
                  <a:pt x="7574" y="1974"/>
                  <a:pt x="7625" y="1984"/>
                  <a:pt x="7660" y="1984"/>
                </a:cubicBezTo>
              </a:path>
              <a:path w="4089" h="2303">
                <a:moveTo>
                  <a:pt x="7838" y="2064"/>
                </a:moveTo>
                <a:cubicBezTo>
                  <a:pt x="7819" y="2039"/>
                  <a:pt x="7802" y="1996"/>
                  <a:pt x="7799" y="1965"/>
                </a:cubicBezTo>
                <a:cubicBezTo>
                  <a:pt x="7794" y="1922"/>
                  <a:pt x="7791" y="1902"/>
                  <a:pt x="7779" y="1865"/>
                </a:cubicBezTo>
                <a:cubicBezTo>
                  <a:pt x="7765" y="1822"/>
                  <a:pt x="7772" y="1772"/>
                  <a:pt x="7759" y="1746"/>
                </a:cubicBezTo>
                <a:cubicBezTo>
                  <a:pt x="7751" y="1730"/>
                  <a:pt x="7759" y="1686"/>
                  <a:pt x="7759" y="1667"/>
                </a:cubicBezTo>
                <a:cubicBezTo>
                  <a:pt x="7729" y="1677"/>
                  <a:pt x="7739" y="1690"/>
                  <a:pt x="7739" y="1726"/>
                </a:cubicBezTo>
                <a:cubicBezTo>
                  <a:pt x="7739" y="1811"/>
                  <a:pt x="7739" y="1886"/>
                  <a:pt x="7759" y="1965"/>
                </a:cubicBezTo>
                <a:cubicBezTo>
                  <a:pt x="7779" y="2044"/>
                  <a:pt x="7754" y="2129"/>
                  <a:pt x="7779" y="2203"/>
                </a:cubicBezTo>
                <a:cubicBezTo>
                  <a:pt x="7796" y="2252"/>
                  <a:pt x="7787" y="2330"/>
                  <a:pt x="7799" y="2381"/>
                </a:cubicBezTo>
                <a:cubicBezTo>
                  <a:pt x="7810" y="2426"/>
                  <a:pt x="7776" y="2525"/>
                  <a:pt x="7818" y="2540"/>
                </a:cubicBezTo>
              </a:path>
              <a:path w="4089" h="2303">
                <a:moveTo>
                  <a:pt x="7620" y="2302"/>
                </a:moveTo>
                <a:cubicBezTo>
                  <a:pt x="7620" y="2295"/>
                  <a:pt x="7620" y="2289"/>
                  <a:pt x="7620" y="2282"/>
                </a:cubicBezTo>
                <a:cubicBezTo>
                  <a:pt x="7648" y="2273"/>
                  <a:pt x="7644" y="2239"/>
                  <a:pt x="7680" y="2222"/>
                </a:cubicBezTo>
                <a:cubicBezTo>
                  <a:pt x="7709" y="2209"/>
                  <a:pt x="7753" y="2197"/>
                  <a:pt x="7779" y="2183"/>
                </a:cubicBezTo>
                <a:cubicBezTo>
                  <a:pt x="7807" y="2167"/>
                  <a:pt x="7807" y="2151"/>
                  <a:pt x="7838" y="2143"/>
                </a:cubicBezTo>
                <a:cubicBezTo>
                  <a:pt x="7847" y="2115"/>
                  <a:pt x="7844" y="2123"/>
                  <a:pt x="7878" y="2123"/>
                </a:cubicBezTo>
                <a:cubicBezTo>
                  <a:pt x="7888" y="2092"/>
                  <a:pt x="7909" y="2103"/>
                  <a:pt x="7937" y="2084"/>
                </a:cubicBezTo>
                <a:cubicBezTo>
                  <a:pt x="7981" y="2055"/>
                  <a:pt x="8035" y="2033"/>
                  <a:pt x="8076" y="2004"/>
                </a:cubicBezTo>
                <a:cubicBezTo>
                  <a:pt x="8130" y="1967"/>
                  <a:pt x="8169" y="1902"/>
                  <a:pt x="8215" y="1865"/>
                </a:cubicBezTo>
                <a:cubicBezTo>
                  <a:pt x="8244" y="1841"/>
                  <a:pt x="8263" y="1845"/>
                  <a:pt x="8295" y="1845"/>
                </a:cubicBezTo>
              </a:path>
              <a:path w="4089" h="2303">
                <a:moveTo>
                  <a:pt x="7680" y="1885"/>
                </a:moveTo>
                <a:cubicBezTo>
                  <a:pt x="7673" y="1885"/>
                  <a:pt x="7667" y="1885"/>
                  <a:pt x="7660" y="1885"/>
                </a:cubicBezTo>
                <a:cubicBezTo>
                  <a:pt x="7660" y="1926"/>
                  <a:pt x="7669" y="1932"/>
                  <a:pt x="7680" y="1965"/>
                </a:cubicBezTo>
                <a:cubicBezTo>
                  <a:pt x="7687" y="1986"/>
                  <a:pt x="7695" y="2032"/>
                  <a:pt x="7719" y="2044"/>
                </a:cubicBezTo>
                <a:cubicBezTo>
                  <a:pt x="7726" y="2044"/>
                  <a:pt x="7732" y="2044"/>
                  <a:pt x="7739" y="2044"/>
                </a:cubicBezTo>
                <a:cubicBezTo>
                  <a:pt x="7747" y="2077"/>
                  <a:pt x="7746" y="2076"/>
                  <a:pt x="7779" y="2084"/>
                </a:cubicBezTo>
                <a:cubicBezTo>
                  <a:pt x="7779" y="2116"/>
                  <a:pt x="7784" y="2148"/>
                  <a:pt x="7818" y="2163"/>
                </a:cubicBezTo>
                <a:cubicBezTo>
                  <a:pt x="7825" y="2163"/>
                  <a:pt x="7831" y="2163"/>
                  <a:pt x="7838" y="2163"/>
                </a:cubicBezTo>
                <a:cubicBezTo>
                  <a:pt x="7848" y="2204"/>
                  <a:pt x="7880" y="2211"/>
                  <a:pt x="7918" y="2222"/>
                </a:cubicBezTo>
                <a:cubicBezTo>
                  <a:pt x="7958" y="2234"/>
                  <a:pt x="8002" y="2251"/>
                  <a:pt x="8037" y="2262"/>
                </a:cubicBezTo>
                <a:cubicBezTo>
                  <a:pt x="8044" y="2262"/>
                  <a:pt x="8050" y="2262"/>
                  <a:pt x="8057" y="2262"/>
                </a:cubicBezTo>
                <a:cubicBezTo>
                  <a:pt x="8065" y="2288"/>
                  <a:pt x="8084" y="2294"/>
                  <a:pt x="8116" y="2302"/>
                </a:cubicBezTo>
                <a:cubicBezTo>
                  <a:pt x="8134" y="2328"/>
                  <a:pt x="8149" y="2326"/>
                  <a:pt x="8176" y="2361"/>
                </a:cubicBezTo>
              </a:path>
              <a:path w="4089" h="2303">
                <a:moveTo>
                  <a:pt x="7838" y="2064"/>
                </a:moveTo>
                <a:cubicBezTo>
                  <a:pt x="7838" y="2057"/>
                  <a:pt x="7838" y="2051"/>
                  <a:pt x="7838" y="2044"/>
                </a:cubicBezTo>
                <a:cubicBezTo>
                  <a:pt x="7868" y="2034"/>
                  <a:pt x="7858" y="2020"/>
                  <a:pt x="7858" y="1984"/>
                </a:cubicBezTo>
                <a:cubicBezTo>
                  <a:pt x="7886" y="1975"/>
                  <a:pt x="7878" y="1979"/>
                  <a:pt x="7878" y="1945"/>
                </a:cubicBezTo>
                <a:cubicBezTo>
                  <a:pt x="7906" y="1936"/>
                  <a:pt x="7898" y="1939"/>
                  <a:pt x="7898" y="1905"/>
                </a:cubicBezTo>
                <a:cubicBezTo>
                  <a:pt x="7929" y="1895"/>
                  <a:pt x="7906" y="1896"/>
                  <a:pt x="7937" y="1885"/>
                </a:cubicBezTo>
                <a:cubicBezTo>
                  <a:pt x="7948" y="1853"/>
                  <a:pt x="7946" y="1877"/>
                  <a:pt x="7957" y="1845"/>
                </a:cubicBezTo>
                <a:cubicBezTo>
                  <a:pt x="7990" y="1845"/>
                  <a:pt x="7988" y="1853"/>
                  <a:pt x="7997" y="1826"/>
                </a:cubicBezTo>
                <a:cubicBezTo>
                  <a:pt x="8031" y="1826"/>
                  <a:pt x="8028" y="1834"/>
                  <a:pt x="8037" y="1806"/>
                </a:cubicBezTo>
                <a:cubicBezTo>
                  <a:pt x="8071" y="1806"/>
                  <a:pt x="8067" y="1814"/>
                  <a:pt x="8076" y="1786"/>
                </a:cubicBezTo>
              </a:path>
              <a:path w="4089" h="2303">
                <a:moveTo>
                  <a:pt x="7759" y="2024"/>
                </a:moveTo>
                <a:cubicBezTo>
                  <a:pt x="7753" y="2000"/>
                  <a:pt x="7745" y="1988"/>
                  <a:pt x="7739" y="1965"/>
                </a:cubicBezTo>
                <a:cubicBezTo>
                  <a:pt x="7703" y="1956"/>
                  <a:pt x="7683" y="1945"/>
                  <a:pt x="7640" y="1945"/>
                </a:cubicBezTo>
                <a:cubicBezTo>
                  <a:pt x="7629" y="1913"/>
                  <a:pt x="7631" y="1937"/>
                  <a:pt x="7620" y="1905"/>
                </a:cubicBezTo>
                <a:cubicBezTo>
                  <a:pt x="7572" y="1905"/>
                  <a:pt x="7546" y="1893"/>
                  <a:pt x="7501" y="1885"/>
                </a:cubicBezTo>
                <a:cubicBezTo>
                  <a:pt x="7454" y="1877"/>
                  <a:pt x="7453" y="1902"/>
                  <a:pt x="7441" y="1865"/>
                </a:cubicBezTo>
              </a:path>
              <a:path w="4089" h="2303">
                <a:moveTo>
                  <a:pt x="7719" y="2103"/>
                </a:moveTo>
                <a:cubicBezTo>
                  <a:pt x="7613" y="2103"/>
                  <a:pt x="7434" y="2070"/>
                  <a:pt x="7342" y="2123"/>
                </a:cubicBezTo>
                <a:cubicBezTo>
                  <a:pt x="7319" y="2136"/>
                  <a:pt x="7305" y="2180"/>
                  <a:pt x="7283" y="2203"/>
                </a:cubicBez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1773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Tahoma"/>
              </a:rPr>
              <a:t>Красная девушка по небу хо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3429000"/>
            <a:ext cx="431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избе – изба, на избе – тр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шумело в избе, загудело в тру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идит пламя народ, а тушить не ид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4941720"/>
            <a:ext cx="338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ыжий зверь в печи сидит, Рыжий зверь на всех сердит. Он от злости ест дрова         Целый час, а может – два.  Ты его рукой не тронь,    Искусает всю ладо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6093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ез рук, без ног к небу полз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227664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Это тёмный-тёмный дом,            Сто сестричек жмутся в нём.          И любая из сестёр                       Может вспыхнуть, как костё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6:30:20Z</dcterms:created>
  <dc:creator>Антон</dc:creator>
  <dc:description/>
  <dc:language>en-US</dc:language>
  <cp:lastModifiedBy>Антон</cp:lastModifiedBy>
  <dcterms:modified xsi:type="dcterms:W3CDTF">2008-11-01T12:24:37Z</dcterms:modified>
  <cp:revision>6</cp:revision>
  <dc:subject/>
  <dc:title>Слайд 1</dc:title>
</cp:coreProperties>
</file>