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3.jpeg" ContentType="image/jpeg"/>
  <Override PartName="/ppt/media/image6.png" ContentType="image/png"/>
  <Override PartName="/ppt/media/image22.jpeg" ContentType="image/jpeg"/>
  <Override PartName="/ppt/media/image9.png" ContentType="image/png"/>
  <Override PartName="/ppt/media/image7.png" ContentType="image/png"/>
  <Override PartName="/ppt/media/image34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5.png" ContentType="image/png"/>
  <Override PartName="/ppt/media/image29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7780-8ED4-4DD6-9DF6-4A8E30679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0706-EF4E-4BE1-8072-00E130B84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0923-2BFA-4E1A-A9CE-8576B0A4A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2717-3041-4270-ADB3-03CD2C4D4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F2CB9-FAC4-48E1-84EB-01F338F5D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51C7B-7162-483C-A973-B2B6F1EE6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29BF2-166F-4F2D-80D5-62FB89A6F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BEAA0-21DC-4E27-ABFB-F7522D624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66F9C-1BC2-431D-A675-41283AD98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6227E-6D18-4382-8E38-A00B5DC8F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0BFD1-9F4D-42DC-98AE-3C781B8F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828B-228F-4ACC-8652-76ACBF82F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870F0-205C-4889-BEF6-C66EF271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7C0B8-6485-4A2C-849A-4FBC9573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9F6DB-1D67-464B-A43D-FD55B5169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B390E-98D0-4BE1-8F78-1F8207901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E3743-1B60-4DEA-8252-837B2906F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3420-BC7C-4549-AD17-4DFDE6915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BC23-9887-45CD-916F-EE77AD5B4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CAD2-FF50-4E69-B756-B80ED6C1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9D18-0419-45C2-9283-2F5E87EA3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C5A5-5989-4327-8E84-617C28D7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28E0-6678-4197-8BBD-F3CB1CBE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3C45-AA06-42DC-8A17-D35DC6EF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34556-C6A8-4929-88AE-95FAD8D10E2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94A40-A7FB-48A2-9D4B-C70B5E6B28A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24.jpeg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14.jpeg"/><Relationship Id="rId4" Type="http://schemas.openxmlformats.org/officeDocument/2006/relationships/image" Target="../media/image32.jpeg"/><Relationship Id="rId5" Type="http://schemas.openxmlformats.org/officeDocument/2006/relationships/image" Target="../media/image33.png"/><Relationship Id="rId6" Type="http://schemas.openxmlformats.org/officeDocument/2006/relationships/image" Target="../media/image34.jpeg"/><Relationship Id="rId7" Type="http://schemas.openxmlformats.org/officeDocument/2006/relationships/image" Target="../media/image35.jpe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demotivators.org.ua/d/demotivators.org.ua-4099-3.jpg" TargetMode="External"/><Relationship Id="rId3" Type="http://schemas.openxmlformats.org/officeDocument/2006/relationships/hyperlink" Target="http://img-2005-08.photosight.ru/23/999867.jpg" TargetMode="External"/><Relationship Id="rId4" Type="http://schemas.openxmlformats.org/officeDocument/2006/relationships/hyperlink" Target="http://wiki.iteach.ru/images/5/57/&#1044;&#1084;&#1080;&#1088;&#1080;&#1077;&#1074;&#1072;_&#1088;&#1080;&#1089;.2.JPG" TargetMode="External"/><Relationship Id="rId5" Type="http://schemas.openxmlformats.org/officeDocument/2006/relationships/hyperlink" Target="http://masteric.files.wordpress.com/2009/12/12-s8.jpg" TargetMode="External"/><Relationship Id="rId6" Type="http://schemas.openxmlformats.org/officeDocument/2006/relationships/hyperlink" Target="http://svpressa.ru/photo/9629-6.jpg" TargetMode="External"/><Relationship Id="rId7" Type="http://schemas.openxmlformats.org/officeDocument/2006/relationships/hyperlink" Target="http://www.fire.mchs.gov.ru/upload/iblock/e96/e9613fe172b830fde699f1ad318be1e8.jpg" TargetMode="External"/><Relationship Id="rId8" Type="http://schemas.openxmlformats.org/officeDocument/2006/relationships/hyperlink" Target="http://synews.ru/uploads/posts/2009-05/1241952296_gaz_vzryv1.jpg" TargetMode="External"/><Relationship Id="rId9" Type="http://schemas.openxmlformats.org/officeDocument/2006/relationships/hyperlink" Target="http://zhurnal.lib.ru/img/s/stepanow_a_f/100/pozhar.jpg" TargetMode="External"/><Relationship Id="rId10" Type="http://schemas.openxmlformats.org/officeDocument/2006/relationships/hyperlink" Target="http://www.ruspromexpert.ru/upload/medialibrary/c5a/cfb85ac62c929906ea7af85a1ff2b217.jpg" TargetMode="External"/><Relationship Id="rId11" Type="http://schemas.openxmlformats.org/officeDocument/2006/relationships/hyperlink" Target="http://i1.i.ua/prikol/pic/7/3/401937_385254.jpg" TargetMode="External"/><Relationship Id="rId12" Type="http://schemas.openxmlformats.org/officeDocument/2006/relationships/hyperlink" Target="http://i018.radikal.ru/0905/96/e09a7f05a92f.jpg" TargetMode="External"/><Relationship Id="rId13" Type="http://schemas.openxmlformats.org/officeDocument/2006/relationships/hyperlink" Target="http://www.rulez-t.info/uploads/posts/2009-10/1256856104_opasn_1.jpg" TargetMode="External"/><Relationship Id="rId14" Type="http://schemas.openxmlformats.org/officeDocument/2006/relationships/hyperlink" Target="http://a17004.rimg.info/icon/138880000a3718061d264f083eebd2bc17e5d0dea.jpg" TargetMode="External"/><Relationship Id="rId15" Type="http://schemas.openxmlformats.org/officeDocument/2006/relationships/hyperlink" Target="http://cache.boston.com/universal/site_graphics/blogs/bigpicture/iowa_06_17/iowa1.jpg" TargetMode="External"/><Relationship Id="rId16" Type="http://schemas.openxmlformats.org/officeDocument/2006/relationships/hyperlink" Target="http://stat17.privet.ru/lr/0911226e206e42c4f181470428ab5288" TargetMode="External"/><Relationship Id="rId17" Type="http://schemas.openxmlformats.org/officeDocument/2006/relationships/hyperlink" Target="http://media.bcm.ru/1044/9c07e1e5-3660-4c8e-bdd3-defe3c521811.jpg" TargetMode="External"/><Relationship Id="rId18" Type="http://schemas.openxmlformats.org/officeDocument/2006/relationships/hyperlink" Target="http://mcgonnigle.files.wordpress.com/2007/02/lightning.jpg" TargetMode="External"/><Relationship Id="rId19" Type="http://schemas.openxmlformats.org/officeDocument/2006/relationships/hyperlink" Target="http://papandos.ru/_bl/1/s75010675.jpg" TargetMode="External"/><Relationship Id="rId20" Type="http://schemas.openxmlformats.org/officeDocument/2006/relationships/hyperlink" Target="http://s50.radikal.ru/i127/0905/ab/de1b25a0e8c8.jpg" TargetMode="External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Классный час: </a:t>
            </a:r>
            <a:br>
              <a:rPr sz="4000"/>
            </a:b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«Опасности, которые нас окружают»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C:\Documents and Settings\UserXP\Рабочий стол\Катинки Окся\0911226e206e42c4f181470428ab5288.jpeg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C:\Documents and Settings\UserXP\Рабочий стол\Катинки Окся\999867.jpg"/>
          <p:cNvPicPr/>
          <p:nvPr/>
        </p:nvPicPr>
        <p:blipFill>
          <a:blip r:embed="rId2"/>
          <a:stretch/>
        </p:blipFill>
        <p:spPr>
          <a:xfrm>
            <a:off x="528480" y="914400"/>
            <a:ext cx="8490240" cy="480060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C:\Documents and Settings\UserXP\Рабочий стол\Катинки Окся\31817951_48b9e8b84e90f81d3c38ea7e53aa655d_full.jpg"/>
          <p:cNvPicPr/>
          <p:nvPr/>
        </p:nvPicPr>
        <p:blipFill>
          <a:blip r:embed="rId2"/>
          <a:stretch/>
        </p:blipFill>
        <p:spPr>
          <a:xfrm>
            <a:off x="1108080" y="838080"/>
            <a:ext cx="7264440" cy="495324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C:\Documents and Settings\UserXP\Рабочий стол\Катинки Окся\62423701_RIA734719Preview_700.jpg"/>
          <p:cNvPicPr/>
          <p:nvPr/>
        </p:nvPicPr>
        <p:blipFill>
          <a:blip r:embed="rId2"/>
          <a:stretch/>
        </p:blipFill>
        <p:spPr>
          <a:xfrm>
            <a:off x="1238400" y="838080"/>
            <a:ext cx="7226280" cy="481032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C:\Documents and Settings\UserXP\Рабочий стол\Катинки Окся\138880000a3718061d264f083eebd2bc17e5d0dea.jpg"/>
          <p:cNvPicPr/>
          <p:nvPr/>
        </p:nvPicPr>
        <p:blipFill>
          <a:blip r:embed="rId2"/>
          <a:stretch/>
        </p:blipFill>
        <p:spPr>
          <a:xfrm>
            <a:off x="569880" y="533520"/>
            <a:ext cx="8475840" cy="548640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C:\Documents and Settings\UserXP\Рабочий стол\Катинки Окся\545573764_tonnel.jpg"/>
          <p:cNvPicPr/>
          <p:nvPr/>
        </p:nvPicPr>
        <p:blipFill>
          <a:blip r:embed="rId2"/>
          <a:stretch/>
        </p:blipFill>
        <p:spPr>
          <a:xfrm>
            <a:off x="266760" y="838080"/>
            <a:ext cx="8229600" cy="548640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C:\Documents and Settings\UserXP\Рабочий стол\Катинки Окся\a03ad8f7b9c51f85c480ec3a4b7_prev.jpg"/>
          <p:cNvPicPr/>
          <p:nvPr/>
        </p:nvPicPr>
        <p:blipFill>
          <a:blip r:embed="rId2"/>
          <a:stretch/>
        </p:blipFill>
        <p:spPr>
          <a:xfrm>
            <a:off x="909720" y="228600"/>
            <a:ext cx="7934400" cy="594360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C:\Documents and Settings\UserXP\Рабочий стол\Катинки Окся\lightning.jpg"/>
          <p:cNvPicPr/>
          <p:nvPr/>
        </p:nvPicPr>
        <p:blipFill>
          <a:blip r:embed="rId2"/>
          <a:stretch/>
        </p:blipFill>
        <p:spPr>
          <a:xfrm>
            <a:off x="1219320" y="533520"/>
            <a:ext cx="7213320" cy="541008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C:\Documents and Settings\UserXP\Рабочий стол\Катинки Окся\e09a7f05a92f.jpg"/>
          <p:cNvPicPr/>
          <p:nvPr/>
        </p:nvPicPr>
        <p:blipFill>
          <a:blip r:embed="rId2"/>
          <a:stretch/>
        </p:blipFill>
        <p:spPr>
          <a:xfrm>
            <a:off x="1015920" y="304920"/>
            <a:ext cx="7721640" cy="579096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C:\Documents and Settings\UserXP\Рабочий стол\Катинки Окся\20649.jpg"/>
          <p:cNvPicPr/>
          <p:nvPr/>
        </p:nvPicPr>
        <p:blipFill>
          <a:blip r:embed="rId2"/>
          <a:stretch/>
        </p:blipFill>
        <p:spPr>
          <a:xfrm>
            <a:off x="914400" y="971640"/>
            <a:ext cx="6934320" cy="520056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61031"/>
                </a:solidFill>
                <a:latin typeface="Arial"/>
              </a:rPr>
              <a:t>Опасности, осторожно!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7" descr="C:\Documents and Settings\UserXP\Рабочий стол\Катинки Окся\12-s8.jpg"/>
          <p:cNvPicPr/>
          <p:nvPr/>
        </p:nvPicPr>
        <p:blipFill>
          <a:blip r:embed="rId2"/>
          <a:stretch/>
        </p:blipFill>
        <p:spPr>
          <a:xfrm>
            <a:off x="914400" y="1752480"/>
            <a:ext cx="7391520" cy="451188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8" descr="C:\Documents and Settings\UserXP\Рабочий стол\Катинки Окся\4b85cc9f415d3aa62fbfd398f1f_prev.jpg"/>
          <p:cNvPicPr/>
          <p:nvPr/>
        </p:nvPicPr>
        <p:blipFill>
          <a:blip r:embed="rId2"/>
          <a:stretch/>
        </p:blipFill>
        <p:spPr>
          <a:xfrm>
            <a:off x="152280" y="228600"/>
            <a:ext cx="3014640" cy="2243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C:\Documents and Settings\UserXP\Рабочий стол\Катинки Окся\sm_users_img-67553.jpg"/>
          <p:cNvPicPr/>
          <p:nvPr/>
        </p:nvPicPr>
        <p:blipFill>
          <a:blip r:embed="rId3"/>
          <a:stretch/>
        </p:blipFill>
        <p:spPr>
          <a:xfrm>
            <a:off x="3200400" y="228600"/>
            <a:ext cx="2997360" cy="22478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C:\Documents and Settings\UserXP\Рабочий стол\Катинки Окся\241111_7.jpg"/>
          <p:cNvPicPr/>
          <p:nvPr/>
        </p:nvPicPr>
        <p:blipFill>
          <a:blip r:embed="rId4"/>
          <a:stretch/>
        </p:blipFill>
        <p:spPr>
          <a:xfrm>
            <a:off x="6248520" y="304920"/>
            <a:ext cx="2895480" cy="2171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C:\Documents and Settings\UserXP\Рабочий стол\Катинки Окся\sosulka2.jpg"/>
          <p:cNvPicPr/>
          <p:nvPr/>
        </p:nvPicPr>
        <p:blipFill>
          <a:blip r:embed="rId5"/>
          <a:stretch/>
        </p:blipFill>
        <p:spPr>
          <a:xfrm>
            <a:off x="228600" y="2971800"/>
            <a:ext cx="2057400" cy="26956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C:\Documents and Settings\UserXP\Рабочий стол\Катинки Окся\55a0be9d34063e91fa6bd02b1430d976.jpg"/>
          <p:cNvPicPr/>
          <p:nvPr/>
        </p:nvPicPr>
        <p:blipFill>
          <a:blip r:embed="rId6"/>
          <a:stretch/>
        </p:blipFill>
        <p:spPr>
          <a:xfrm>
            <a:off x="2514600" y="2819520"/>
            <a:ext cx="2160720" cy="2781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" descr="C:\Documents and Settings\UserXP\Рабочий стол\Катинки Окся\20649.jpg"/>
          <p:cNvPicPr/>
          <p:nvPr/>
        </p:nvPicPr>
        <p:blipFill>
          <a:blip r:embed="rId7"/>
          <a:stretch/>
        </p:blipFill>
        <p:spPr>
          <a:xfrm>
            <a:off x="4724280" y="2743200"/>
            <a:ext cx="2654280" cy="19908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C:\Documents and Settings\UserXP\Рабочий стол\Катинки Окся\787AE19B-3F81-4778-B9D0-4731A44ADA83_mw800_mh600.jpg"/>
          <p:cNvPicPr/>
          <p:nvPr/>
        </p:nvPicPr>
        <p:blipFill>
          <a:blip r:embed="rId8"/>
          <a:stretch/>
        </p:blipFill>
        <p:spPr>
          <a:xfrm>
            <a:off x="6324480" y="4857840"/>
            <a:ext cx="2667240" cy="200016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C:\Documents and Settings\UserXP\Рабочий стол\Катинки Окся\0a1ccd7d207acd84c1fb976a1f53f758.jpeg"/>
          <p:cNvPicPr/>
          <p:nvPr/>
        </p:nvPicPr>
        <p:blipFill>
          <a:blip r:embed="rId2"/>
          <a:stretch/>
        </p:blipFill>
        <p:spPr>
          <a:xfrm>
            <a:off x="2819520" y="2209680"/>
            <a:ext cx="3214440" cy="2413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C:\Documents and Settings\UserXP\Рабочий стол\Катинки Окся\401937_385254.jpg"/>
          <p:cNvPicPr/>
          <p:nvPr/>
        </p:nvPicPr>
        <p:blipFill>
          <a:blip r:embed="rId3"/>
          <a:stretch/>
        </p:blipFill>
        <p:spPr>
          <a:xfrm>
            <a:off x="0" y="4686480"/>
            <a:ext cx="2895480" cy="2171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C:\Documents and Settings\UserXP\Рабочий стол\Катинки Окся\955.jpg"/>
          <p:cNvPicPr/>
          <p:nvPr/>
        </p:nvPicPr>
        <p:blipFill>
          <a:blip r:embed="rId4"/>
          <a:stretch/>
        </p:blipFill>
        <p:spPr>
          <a:xfrm>
            <a:off x="6019920" y="152280"/>
            <a:ext cx="2948040" cy="2208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C:\Documents and Settings\UserXP\Рабочий стол\Катинки Окся\ozerob.gif"/>
          <p:cNvPicPr/>
          <p:nvPr/>
        </p:nvPicPr>
        <p:blipFill>
          <a:blip r:embed="rId5"/>
          <a:stretch/>
        </p:blipFill>
        <p:spPr>
          <a:xfrm>
            <a:off x="6172200" y="4784760"/>
            <a:ext cx="2666880" cy="20732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C:\Documents and Settings\UserXP\Рабочий стол\Катинки Окся\67672a66d72c.jpg"/>
          <p:cNvPicPr/>
          <p:nvPr/>
        </p:nvPicPr>
        <p:blipFill>
          <a:blip r:embed="rId6"/>
          <a:stretch/>
        </p:blipFill>
        <p:spPr>
          <a:xfrm>
            <a:off x="0" y="15228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C:\Documents and Settings\UserXP\Рабочий стол\Катинки Окся\e647ab5bc1da.jpg"/>
          <p:cNvPicPr/>
          <p:nvPr/>
        </p:nvPicPr>
        <p:blipFill>
          <a:blip r:embed="rId7"/>
          <a:stretch/>
        </p:blipFill>
        <p:spPr>
          <a:xfrm>
            <a:off x="3048120" y="4686480"/>
            <a:ext cx="2895480" cy="217152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6000"/>
                            </p:stCondLst>
                            <p:childTnLst>
                              <p:par>
                                <p:cTn id="1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8000"/>
                            </p:stCondLst>
                            <p:childTnLst>
                              <p:par>
                                <p:cTn id="1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8500"/>
                            </p:stCondLst>
                            <p:childTnLst>
                              <p:par>
                                <p:cTn id="1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Использованные источники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2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http://demotivators.org.ua/d/demotivators.org.ua-4099-3.jp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http://img-2005-08.photosight.ru/23/999867.jp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cc00"/>
                </a:solidFill>
                <a:uFillTx/>
                <a:latin typeface="Arial"/>
                <a:hlinkClick r:id="rId4"/>
              </a:rPr>
              <a:t>http://wiki.iteach.ru/images/5/57/Дмириева_рис.2.JP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cc00"/>
                </a:solidFill>
                <a:uFillTx/>
                <a:latin typeface="Arial"/>
                <a:hlinkClick r:id="rId5"/>
              </a:rPr>
              <a:t>http://masteric.files.wordpress.com/2009/12/12-s8.jp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cc00"/>
                </a:solidFill>
                <a:uFillTx/>
                <a:latin typeface="Arial"/>
                <a:hlinkClick r:id="rId6"/>
              </a:rPr>
              <a:t>http://svpressa.ru/photo/9629-6.jp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cc00"/>
                </a:solidFill>
                <a:uFillTx/>
                <a:latin typeface="Arial"/>
                <a:hlinkClick r:id="rId7"/>
              </a:rPr>
              <a:t>http://www.fire.mchs.gov.ru/upload/iblock/e96/e9613fe172b830fde699f1ad318be1e8.jp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cc00"/>
                </a:solidFill>
                <a:uFillTx/>
                <a:latin typeface="Arial"/>
                <a:hlinkClick r:id="rId8"/>
              </a:rPr>
              <a:t>http://synews.ru/uploads/posts/2009-05/1241952296_gaz_vzryv1.jp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cc00"/>
                </a:solidFill>
                <a:uFillTx/>
                <a:latin typeface="Arial"/>
                <a:hlinkClick r:id="rId9"/>
              </a:rPr>
              <a:t>http://zhurnal.lib.ru/img/s/stepanow_a_f/100/pozhar.jp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cc00"/>
                </a:solidFill>
                <a:uFillTx/>
                <a:latin typeface="Arial"/>
                <a:hlinkClick r:id="rId10"/>
              </a:rPr>
              <a:t>http://www.ruspromexpert.ru/upload/medialibrary/c5a/cfb85ac62c929906ea7af85a1ff2b217.jp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cc00"/>
                </a:solidFill>
                <a:uFillTx/>
                <a:latin typeface="Arial"/>
                <a:hlinkClick r:id="rId11"/>
              </a:rPr>
              <a:t>http://i1.i.ua/prikol/pic/7/3/401937_385254.jp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cc00"/>
                </a:solidFill>
                <a:uFillTx/>
                <a:latin typeface="Arial"/>
                <a:hlinkClick r:id="rId12"/>
              </a:rPr>
              <a:t>http://i018.radikal.ru/0905/96/e09a7f05a92f.jp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cc00"/>
                </a:solidFill>
                <a:uFillTx/>
                <a:latin typeface="Arial"/>
                <a:hlinkClick r:id="rId13"/>
              </a:rPr>
              <a:t>http://www.rulez-t.info/uploads/posts/2009-10/1256856104_opasn_1.jp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cc00"/>
                </a:solidFill>
                <a:uFillTx/>
                <a:latin typeface="Arial"/>
                <a:hlinkClick r:id="rId14"/>
              </a:rPr>
              <a:t>http://a17004.rimg.info/icon/138880000a3718061d264f083eebd2bc17e5d0dea.jp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cc00"/>
                </a:solidFill>
                <a:uFillTx/>
                <a:latin typeface="Arial"/>
                <a:hlinkClick r:id="rId15"/>
              </a:rPr>
              <a:t>http://cache.boston.com/universal/site_graphics/blogs/bigpicture/iowa_06_17/iowa1.jp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cc00"/>
                </a:solidFill>
                <a:uFillTx/>
                <a:latin typeface="Arial"/>
                <a:hlinkClick r:id="rId16"/>
              </a:rPr>
              <a:t>http://stat17.privet.ru/lr/0911226e206e42c4f181470428ab5288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cc00"/>
                </a:solidFill>
                <a:uFillTx/>
                <a:latin typeface="Arial"/>
                <a:hlinkClick r:id="rId17"/>
              </a:rPr>
              <a:t>http://media.bcm.ru/1044/9c07e1e5-3660-4c8e-bdd3-defe3c521811.jp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cc00"/>
                </a:solidFill>
                <a:uFillTx/>
                <a:latin typeface="Arial"/>
                <a:hlinkClick r:id="rId18"/>
              </a:rPr>
              <a:t>http://mcgonnigle.files.wordpress.com/2007/02/lightning.jp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cc00"/>
                </a:solidFill>
                <a:uFillTx/>
                <a:latin typeface="Arial"/>
                <a:hlinkClick r:id="rId19"/>
              </a:rPr>
              <a:t>http://papandos.ru/_bl/1/s75010675.jp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cc00"/>
                </a:solidFill>
                <a:uFillTx/>
                <a:latin typeface="Arial"/>
                <a:hlinkClick r:id="rId20"/>
              </a:rPr>
              <a:t>http://s50.radikal.ru/i127/0905/ab/de1b25a0e8c8.jp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ffff"/>
                </a:solidFill>
                <a:uFillTx/>
                <a:latin typeface="Arial"/>
              </a:rPr>
              <a:t>http://img0.liveinternet.ru/images/attach/c/1/62/423/62423701_RIA734719Preview_700.jp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ffff"/>
                </a:solidFill>
                <a:uFillTx/>
                <a:latin typeface="Arial"/>
              </a:rPr>
              <a:t>http://img1.liveinternet.ru/images/attach/c/0/31/817/31817951_48b9e8b84e90f81d3c38ea7e53aa655d_full.jp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ffff"/>
                </a:solidFill>
                <a:uFillTx/>
                <a:latin typeface="Arial"/>
              </a:rPr>
              <a:t>http://www.tonnel.ru/digest/file/545573764_tonnel.jp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ffff"/>
                </a:solidFill>
                <a:uFillTx/>
                <a:latin typeface="Arial"/>
              </a:rPr>
              <a:t>http://www.stihi.ru/pics/2010/12/16/1095.jp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ffff"/>
                </a:solidFill>
                <a:uFillTx/>
                <a:latin typeface="Arial"/>
              </a:rPr>
              <a:t>http://cache.g4tv.com/ImageDb3/144366_S/Six-Days-in-Fallujah.jp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01680" y="685440"/>
            <a:ext cx="8540640" cy="54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8" descr="C:\Documents and Settings\UserXP\Рабочий стол\Катинки Окся\PR20110317090226.JPG"/>
          <p:cNvPicPr/>
          <p:nvPr/>
        </p:nvPicPr>
        <p:blipFill>
          <a:blip r:embed="rId2"/>
          <a:stretch/>
        </p:blipFill>
        <p:spPr>
          <a:xfrm>
            <a:off x="146160" y="-6480"/>
            <a:ext cx="3011400" cy="2262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C:\Documents and Settings\UserXP\Рабочий стол\Катинки Окся\17394.jpg"/>
          <p:cNvPicPr/>
          <p:nvPr/>
        </p:nvPicPr>
        <p:blipFill>
          <a:blip r:embed="rId3"/>
          <a:stretch/>
        </p:blipFill>
        <p:spPr>
          <a:xfrm>
            <a:off x="3346560" y="225360"/>
            <a:ext cx="3060720" cy="2298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C:\Documents and Settings\UserXP\Рабочий стол\Катинки Окся\38_489_1299929526.jpg"/>
          <p:cNvPicPr/>
          <p:nvPr/>
        </p:nvPicPr>
        <p:blipFill>
          <a:blip r:embed="rId4"/>
          <a:stretch/>
        </p:blipFill>
        <p:spPr>
          <a:xfrm>
            <a:off x="298440" y="2511360"/>
            <a:ext cx="2712960" cy="20304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" descr="C:\Documents and Settings\UserXP\Рабочий стол\Катинки Окся\4988CDF4-5DAB-45A8-ADE4-8ABFE094B319_mw800_mh600_s.jpg"/>
          <p:cNvPicPr/>
          <p:nvPr/>
        </p:nvPicPr>
        <p:blipFill>
          <a:blip r:embed="rId5"/>
          <a:stretch/>
        </p:blipFill>
        <p:spPr>
          <a:xfrm>
            <a:off x="3425760" y="2664000"/>
            <a:ext cx="2451240" cy="1841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2" descr="C:\Documents and Settings\UserXP\Рабочий стол\Катинки Окся\nukes_TokaimuraNuclearAccident.jpg"/>
          <p:cNvPicPr/>
          <p:nvPr/>
        </p:nvPicPr>
        <p:blipFill>
          <a:blip r:embed="rId6"/>
          <a:stretch/>
        </p:blipFill>
        <p:spPr>
          <a:xfrm>
            <a:off x="5999040" y="682560"/>
            <a:ext cx="3151440" cy="2084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3" descr="C:\Documents and Settings\UserXP\Рабочий стол\Катинки Окся\fukushima-18-2.jpg"/>
          <p:cNvPicPr/>
          <p:nvPr/>
        </p:nvPicPr>
        <p:blipFill>
          <a:blip r:embed="rId7"/>
          <a:stretch/>
        </p:blipFill>
        <p:spPr>
          <a:xfrm>
            <a:off x="146160" y="4797360"/>
            <a:ext cx="3243240" cy="1822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4" descr="C:\Documents and Settings\UserXP\Рабочий стол\Катинки Окся\aes-fukusima-1-sejchas-9-foto_4.jpg"/>
          <p:cNvPicPr/>
          <p:nvPr/>
        </p:nvPicPr>
        <p:blipFill>
          <a:blip r:embed="rId8"/>
          <a:stretch/>
        </p:blipFill>
        <p:spPr>
          <a:xfrm>
            <a:off x="3425760" y="4627440"/>
            <a:ext cx="3133800" cy="1986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5" descr="C:\Documents and Settings\UserXP\Рабочий стол\Катинки Окся\b_499030.jpg"/>
          <p:cNvPicPr/>
          <p:nvPr/>
        </p:nvPicPr>
        <p:blipFill>
          <a:blip r:embed="rId9"/>
          <a:stretch/>
        </p:blipFill>
        <p:spPr>
          <a:xfrm>
            <a:off x="6242040" y="2968560"/>
            <a:ext cx="2908440" cy="2183040"/>
          </a:xfrm>
          <a:prstGeom prst="rect">
            <a:avLst/>
          </a:prstGeom>
          <a:ln w="0">
            <a:noFill/>
          </a:ln>
        </p:spPr>
      </p:pic>
    </p:spTree>
  </p:cSld>
  <p:transition advTm="5000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8000"/>
                            </p:stCondLst>
                            <p:childTnLst>
                              <p:par>
                                <p:cTn id="2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2498760" y="2246400"/>
            <a:ext cx="5578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228600" y="38088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28600" y="1523880"/>
          <a:ext cx="8153280" cy="3581640"/>
        </p:xfrm>
        <a:graphic>
          <a:graphicData uri="http://schemas.openxmlformats.org/drawingml/2006/table">
            <a:tbl>
              <a:tblPr/>
              <a:tblGrid>
                <a:gridCol w="2038320"/>
                <a:gridCol w="2038320"/>
                <a:gridCol w="2038320"/>
                <a:gridCol w="2038320"/>
              </a:tblGrid>
              <a:tr h="596880"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Природны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Техногенны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Социальны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Экологическ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2984760"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Холод, жара, атмосферные осадки, солнечная радиация, встреча с дикими животными…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Те, что имеют происхождение от техники. Электрический ток, шум, вибрация, взрывчатые и токсические веществ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Носители их – люди. Разбой, хулиганство, террор, убийство, наркомания, алкоголизм…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Нарушения природного равновесия. Необратимые отрицательные последствия, произошедшие в природе, зачастую по вине человека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</p:spTree>
  </p:cSld>
  <p:transition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Игра «Что куда?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04920" y="2362320"/>
          <a:ext cx="8229600" cy="29718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485720"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родн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хногенн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циальн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кологическ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noFill/>
                  </a:tcPr>
                </a:tc>
              </a:tr>
              <a:tr h="1486080"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2" name="Picture 6" descr="C:\Documents and Settings\UserXP\Рабочий стол\Катинки Окся\9c07e1e5-3660-4c8e-bdd3-defe3c521811.jpg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C:\Documents and Settings\UserXP\Рабочий стол\Катинки Окся\9629-6.jpg"/>
          <p:cNvPicPr/>
          <p:nvPr/>
        </p:nvPicPr>
        <p:blipFill>
          <a:blip r:embed="rId2"/>
          <a:stretch/>
        </p:blipFill>
        <p:spPr>
          <a:xfrm>
            <a:off x="762120" y="747720"/>
            <a:ext cx="7619760" cy="536256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C:\Documents and Settings\UserXP\Рабочий стол\Катинки Окся\1095.jpg"/>
          <p:cNvPicPr/>
          <p:nvPr/>
        </p:nvPicPr>
        <p:blipFill>
          <a:blip r:embed="rId2"/>
          <a:stretch/>
        </p:blipFill>
        <p:spPr>
          <a:xfrm>
            <a:off x="2666880" y="927000"/>
            <a:ext cx="3810240" cy="500400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C:\Documents and Settings\UserXP\Рабочий стол\Катинки Окся\401937_385254.jpg"/>
          <p:cNvPicPr/>
          <p:nvPr/>
        </p:nvPicPr>
        <p:blipFill>
          <a:blip r:embed="rId2"/>
          <a:stretch/>
        </p:blipFill>
        <p:spPr>
          <a:xfrm>
            <a:off x="1714680" y="514440"/>
            <a:ext cx="6743520" cy="505764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lena</cp:lastModifiedBy>
  <dcterms:modified xsi:type="dcterms:W3CDTF">2018-07-05T17:08:56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