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3.jpeg" ContentType="image/jpeg"/>
  <Override PartName="/ppt/media/image6.png" ContentType="image/pn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12.jpeg" ContentType="image/jpe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media/image5.png" ContentType="image/png"/>
  <Override PartName="/ppt/media/image29.jpeg" ContentType="image/jpeg"/>
  <Override PartName="/ppt/media/image1.jpeg" ContentType="image/jpeg"/>
  <Override PartName="/ppt/media/image35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87A-D06B-48AD-81C2-E667A854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AA0A-2578-4ECC-96E8-2CB27F61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4F79-60C6-48E0-A252-3197DB10A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5BEF-2BE1-4650-B658-4A6387443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FE67-4435-4A84-9B8F-CF8410D00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8A01-FB10-47D2-9D71-81EF2BC50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5B80F-0224-4C24-8B76-4A62A26EB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3A53E-C9DA-47A6-8369-802A81D0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4A17-B77B-4924-9A6E-0D02BF765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C4F65-B176-4A19-B70F-A5B386DB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A85C-12A2-40F3-A3BE-F3ED1CA2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4406-FFF5-4E2C-9552-5E97DA50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CA3CC-D712-472A-9B25-7CD38742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DDCD-1D61-4E8E-8848-10AB880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C945-0C12-4036-BFE0-F2255D94C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05980-0FA7-41D3-813A-AABC64F7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9BCB-DAAF-4D80-9D80-B3D0EC5A0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A80E-3A17-410C-B3C3-8314B449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82D-8665-4FF6-9BA9-109CA012E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2DD-4827-4B8D-9EBD-1FAAF4A9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CC54-61D6-42DE-9BE2-A02CF5CB6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5247-430D-41FD-82FC-561BA561B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44C-F40F-4400-B974-7727E6E4F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EFDB-04AE-4B49-990A-1102CD78A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F3578-739C-4458-BD7D-4777971011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160F-1961-42D3-B96C-4DD9D80EBAB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24.jpeg"/><Relationship Id="rId8" Type="http://schemas.openxmlformats.org/officeDocument/2006/relationships/image" Target="../media/image30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14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demotivators.org.ua/d/demotivators.org.ua-4099-3.jpg" TargetMode="External"/><Relationship Id="rId3" Type="http://schemas.openxmlformats.org/officeDocument/2006/relationships/hyperlink" Target="http://img-2005-08.photosight.ru/23/999867.jpg" TargetMode="External"/><Relationship Id="rId4" Type="http://schemas.openxmlformats.org/officeDocument/2006/relationships/hyperlink" Target="http://wiki.iteach.ru/images/5/57/&#1044;&#1084;&#1080;&#1088;&#1080;&#1077;&#1074;&#1072;_&#1088;&#1080;&#1089;.2.JPG" TargetMode="External"/><Relationship Id="rId5" Type="http://schemas.openxmlformats.org/officeDocument/2006/relationships/hyperlink" Target="http://masteric.files.wordpress.com/2009/12/12-s8.jpg" TargetMode="External"/><Relationship Id="rId6" Type="http://schemas.openxmlformats.org/officeDocument/2006/relationships/hyperlink" Target="http://svpressa.ru/photo/9629-6.jpg" TargetMode="External"/><Relationship Id="rId7" Type="http://schemas.openxmlformats.org/officeDocument/2006/relationships/hyperlink" Target="http://www.fire.mchs.gov.ru/upload/iblock/e96/e9613fe172b830fde699f1ad318be1e8.jpg" TargetMode="External"/><Relationship Id="rId8" Type="http://schemas.openxmlformats.org/officeDocument/2006/relationships/hyperlink" Target="http://synews.ru/uploads/posts/2009-05/1241952296_gaz_vzryv1.jpg" TargetMode="External"/><Relationship Id="rId9" Type="http://schemas.openxmlformats.org/officeDocument/2006/relationships/hyperlink" Target="http://zhurnal.lib.ru/img/s/stepanow_a_f/100/pozhar.jpg" TargetMode="External"/><Relationship Id="rId10" Type="http://schemas.openxmlformats.org/officeDocument/2006/relationships/hyperlink" Target="http://www.ruspromexpert.ru/upload/medialibrary/c5a/cfb85ac62c929906ea7af85a1ff2b217.jpg" TargetMode="External"/><Relationship Id="rId11" Type="http://schemas.openxmlformats.org/officeDocument/2006/relationships/hyperlink" Target="http://i1.i.ua/prikol/pic/7/3/401937_385254.jpg" TargetMode="External"/><Relationship Id="rId12" Type="http://schemas.openxmlformats.org/officeDocument/2006/relationships/hyperlink" Target="http://i018.radikal.ru/0905/96/e09a7f05a92f.jpg" TargetMode="External"/><Relationship Id="rId13" Type="http://schemas.openxmlformats.org/officeDocument/2006/relationships/hyperlink" Target="http://www.rulez-t.info/uploads/posts/2009-10/1256856104_opasn_1.jpg" TargetMode="External"/><Relationship Id="rId14" Type="http://schemas.openxmlformats.org/officeDocument/2006/relationships/hyperlink" Target="http://a17004.rimg.info/icon/138880000a3718061d264f083eebd2bc17e5d0dea.jpg" TargetMode="External"/><Relationship Id="rId15" Type="http://schemas.openxmlformats.org/officeDocument/2006/relationships/hyperlink" Target="http://cache.boston.com/universal/site_graphics/blogs/bigpicture/iowa_06_17/iowa1.jpg" TargetMode="External"/><Relationship Id="rId16" Type="http://schemas.openxmlformats.org/officeDocument/2006/relationships/hyperlink" Target="http://stat17.privet.ru/lr/0911226e206e42c4f181470428ab5288" TargetMode="External"/><Relationship Id="rId17" Type="http://schemas.openxmlformats.org/officeDocument/2006/relationships/hyperlink" Target="http://media.bcm.ru/1044/9c07e1e5-3660-4c8e-bdd3-defe3c521811.jpg" TargetMode="External"/><Relationship Id="rId18" Type="http://schemas.openxmlformats.org/officeDocument/2006/relationships/hyperlink" Target="http://mcgonnigle.files.wordpress.com/2007/02/lightning.jpg" TargetMode="External"/><Relationship Id="rId19" Type="http://schemas.openxmlformats.org/officeDocument/2006/relationships/hyperlink" Target="http://papandos.ru/_bl/1/s75010675.jpg" TargetMode="External"/><Relationship Id="rId20" Type="http://schemas.openxmlformats.org/officeDocument/2006/relationships/hyperlink" Target="http://s50.radikal.ru/i127/0905/ab/de1b25a0e8c8.jpg" TargetMode="External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Классный час: </a:t>
            </a:r>
            <a:br>
              <a:rPr sz="4000"/>
            </a:br>
            <a:r>
              <a:rPr b="0" lang="ru-RU" sz="4000" spc="-1" strike="noStrike">
                <a:solidFill>
                  <a:srgbClr val="b7e7ff"/>
                </a:solidFill>
                <a:latin typeface="Arial"/>
              </a:rPr>
              <a:t>«Опасности, которые нас окружают».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Documents and Settings\UserXP\Рабочий стол\Катинки Окся\0911226e206e42c4f181470428ab5288.jpe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C:\Documents and Settings\UserXP\Рабочий стол\Катинки Окся\999867.jpg"/>
          <p:cNvPicPr/>
          <p:nvPr/>
        </p:nvPicPr>
        <p:blipFill>
          <a:blip r:embed="rId2"/>
          <a:stretch/>
        </p:blipFill>
        <p:spPr>
          <a:xfrm>
            <a:off x="528480" y="914400"/>
            <a:ext cx="8490240" cy="4800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UserXP\Рабочий стол\Катинки Окся\31817951_48b9e8b84e90f81d3c38ea7e53aa655d_full.jpg"/>
          <p:cNvPicPr/>
          <p:nvPr/>
        </p:nvPicPr>
        <p:blipFill>
          <a:blip r:embed="rId2"/>
          <a:stretch/>
        </p:blipFill>
        <p:spPr>
          <a:xfrm>
            <a:off x="1108080" y="838080"/>
            <a:ext cx="7264440" cy="4953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UserXP\Рабочий стол\Катинки Окся\62423701_RIA734719Preview_700.jpg"/>
          <p:cNvPicPr/>
          <p:nvPr/>
        </p:nvPicPr>
        <p:blipFill>
          <a:blip r:embed="rId2"/>
          <a:stretch/>
        </p:blipFill>
        <p:spPr>
          <a:xfrm>
            <a:off x="1238400" y="838080"/>
            <a:ext cx="7226280" cy="48103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C:\Documents and Settings\UserXP\Рабочий стол\Катинки Окся\138880000a3718061d264f083eebd2bc17e5d0dea.jpg"/>
          <p:cNvPicPr/>
          <p:nvPr/>
        </p:nvPicPr>
        <p:blipFill>
          <a:blip r:embed="rId2"/>
          <a:stretch/>
        </p:blipFill>
        <p:spPr>
          <a:xfrm>
            <a:off x="569880" y="533520"/>
            <a:ext cx="847584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UserXP\Рабочий стол\Катинки Окся\545573764_tonnel.jpg"/>
          <p:cNvPicPr/>
          <p:nvPr/>
        </p:nvPicPr>
        <p:blipFill>
          <a:blip r:embed="rId2"/>
          <a:stretch/>
        </p:blipFill>
        <p:spPr>
          <a:xfrm>
            <a:off x="266760" y="838080"/>
            <a:ext cx="8229600" cy="54864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C:\Documents and Settings\UserXP\Рабочий стол\Катинки Окся\a03ad8f7b9c51f85c480ec3a4b7_prev.jpg"/>
          <p:cNvPicPr/>
          <p:nvPr/>
        </p:nvPicPr>
        <p:blipFill>
          <a:blip r:embed="rId2"/>
          <a:stretch/>
        </p:blipFill>
        <p:spPr>
          <a:xfrm>
            <a:off x="909720" y="228600"/>
            <a:ext cx="7934400" cy="59436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C:\Documents and Settings\UserXP\Рабочий стол\Катинки Окся\lightning.jpg"/>
          <p:cNvPicPr/>
          <p:nvPr/>
        </p:nvPicPr>
        <p:blipFill>
          <a:blip r:embed="rId2"/>
          <a:stretch/>
        </p:blipFill>
        <p:spPr>
          <a:xfrm>
            <a:off x="1219320" y="533520"/>
            <a:ext cx="7213320" cy="54100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C:\Documents and Settings\UserXP\Рабочий стол\Катинки Окся\e09a7f05a92f.jpg"/>
          <p:cNvPicPr/>
          <p:nvPr/>
        </p:nvPicPr>
        <p:blipFill>
          <a:blip r:embed="rId2"/>
          <a:stretch/>
        </p:blipFill>
        <p:spPr>
          <a:xfrm>
            <a:off x="1015920" y="304920"/>
            <a:ext cx="7721640" cy="57909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C:\Documents and Settings\UserXP\Рабочий стол\Катинки Окся\20649.jpg"/>
          <p:cNvPicPr/>
          <p:nvPr/>
        </p:nvPicPr>
        <p:blipFill>
          <a:blip r:embed="rId2"/>
          <a:stretch/>
        </p:blipFill>
        <p:spPr>
          <a:xfrm>
            <a:off x="914400" y="97164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61031"/>
                </a:solidFill>
                <a:latin typeface="Arial"/>
              </a:rPr>
              <a:t>Опасности, осторожно!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UserXP\Рабочий стол\Катинки Окся\12-s8.jpg"/>
          <p:cNvPicPr/>
          <p:nvPr/>
        </p:nvPicPr>
        <p:blipFill>
          <a:blip r:embed="rId2"/>
          <a:stretch/>
        </p:blipFill>
        <p:spPr>
          <a:xfrm>
            <a:off x="914400" y="1752480"/>
            <a:ext cx="7391520" cy="45118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8" descr="C:\Documents and Settings\UserXP\Рабочий стол\Катинки Окся\4b85cc9f415d3aa62fbfd398f1f_prev.jpg"/>
          <p:cNvPicPr/>
          <p:nvPr/>
        </p:nvPicPr>
        <p:blipFill>
          <a:blip r:embed="rId2"/>
          <a:stretch/>
        </p:blipFill>
        <p:spPr>
          <a:xfrm>
            <a:off x="152280" y="228600"/>
            <a:ext cx="3014640" cy="2243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Documents and Settings\UserXP\Рабочий стол\Катинки Окся\sm_users_img-67553.jpg"/>
          <p:cNvPicPr/>
          <p:nvPr/>
        </p:nvPicPr>
        <p:blipFill>
          <a:blip r:embed="rId3"/>
          <a:stretch/>
        </p:blipFill>
        <p:spPr>
          <a:xfrm>
            <a:off x="3200400" y="228600"/>
            <a:ext cx="2997360" cy="2247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C:\Documents and Settings\UserXP\Рабочий стол\Катинки Окся\241111_7.jpg"/>
          <p:cNvPicPr/>
          <p:nvPr/>
        </p:nvPicPr>
        <p:blipFill>
          <a:blip r:embed="rId4"/>
          <a:stretch/>
        </p:blipFill>
        <p:spPr>
          <a:xfrm>
            <a:off x="6248520" y="3049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:\Documents and Settings\UserXP\Рабочий стол\Катинки Окся\sosulka2.jpg"/>
          <p:cNvPicPr/>
          <p:nvPr/>
        </p:nvPicPr>
        <p:blipFill>
          <a:blip r:embed="rId5"/>
          <a:stretch/>
        </p:blipFill>
        <p:spPr>
          <a:xfrm>
            <a:off x="228600" y="2971800"/>
            <a:ext cx="2057400" cy="26956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" descr="C:\Documents and Settings\UserXP\Рабочий стол\Катинки Окся\55a0be9d34063e91fa6bd02b1430d976.jpg"/>
          <p:cNvPicPr/>
          <p:nvPr/>
        </p:nvPicPr>
        <p:blipFill>
          <a:blip r:embed="rId6"/>
          <a:stretch/>
        </p:blipFill>
        <p:spPr>
          <a:xfrm>
            <a:off x="2514600" y="2819520"/>
            <a:ext cx="2160720" cy="2781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C:\Documents and Settings\UserXP\Рабочий стол\Катинки Окся\20649.jpg"/>
          <p:cNvPicPr/>
          <p:nvPr/>
        </p:nvPicPr>
        <p:blipFill>
          <a:blip r:embed="rId7"/>
          <a:stretch/>
        </p:blipFill>
        <p:spPr>
          <a:xfrm>
            <a:off x="4724280" y="2743200"/>
            <a:ext cx="2654280" cy="1990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C:\Documents and Settings\UserXP\Рабочий стол\Катинки Окся\787AE19B-3F81-4778-B9D0-4731A44ADA83_mw800_mh600.jpg"/>
          <p:cNvPicPr/>
          <p:nvPr/>
        </p:nvPicPr>
        <p:blipFill>
          <a:blip r:embed="rId8"/>
          <a:stretch/>
        </p:blipFill>
        <p:spPr>
          <a:xfrm>
            <a:off x="6324480" y="4857840"/>
            <a:ext cx="2667240" cy="20001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C:\Documents and Settings\UserXP\Рабочий стол\Катинки Окся\0a1ccd7d207acd84c1fb976a1f53f758.jpeg"/>
          <p:cNvPicPr/>
          <p:nvPr/>
        </p:nvPicPr>
        <p:blipFill>
          <a:blip r:embed="rId2"/>
          <a:stretch/>
        </p:blipFill>
        <p:spPr>
          <a:xfrm>
            <a:off x="2819520" y="2209680"/>
            <a:ext cx="3214440" cy="2413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C:\Documents and Settings\UserXP\Рабочий стол\Катинки Окся\401937_385254.jpg"/>
          <p:cNvPicPr/>
          <p:nvPr/>
        </p:nvPicPr>
        <p:blipFill>
          <a:blip r:embed="rId3"/>
          <a:stretch/>
        </p:blipFill>
        <p:spPr>
          <a:xfrm>
            <a:off x="0" y="468648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C:\Documents and Settings\UserXP\Рабочий стол\Катинки Окся\955.jpg"/>
          <p:cNvPicPr/>
          <p:nvPr/>
        </p:nvPicPr>
        <p:blipFill>
          <a:blip r:embed="rId4"/>
          <a:stretch/>
        </p:blipFill>
        <p:spPr>
          <a:xfrm>
            <a:off x="6019920" y="152280"/>
            <a:ext cx="2948040" cy="2208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C:\Documents and Settings\UserXP\Рабочий стол\Катинки Окся\ozerob.gif"/>
          <p:cNvPicPr/>
          <p:nvPr/>
        </p:nvPicPr>
        <p:blipFill>
          <a:blip r:embed="rId5"/>
          <a:stretch/>
        </p:blipFill>
        <p:spPr>
          <a:xfrm>
            <a:off x="6172200" y="4784760"/>
            <a:ext cx="2666880" cy="20732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C:\Documents and Settings\UserXP\Рабочий стол\Катинки Окся\67672a66d72c.jpg"/>
          <p:cNvPicPr/>
          <p:nvPr/>
        </p:nvPicPr>
        <p:blipFill>
          <a:blip r:embed="rId6"/>
          <a:stretch/>
        </p:blipFill>
        <p:spPr>
          <a:xfrm>
            <a:off x="0" y="1522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UserXP\Рабочий стол\Катинки Окся\e647ab5bc1da.jpg"/>
          <p:cNvPicPr/>
          <p:nvPr/>
        </p:nvPicPr>
        <p:blipFill>
          <a:blip r:embed="rId7"/>
          <a:stretch/>
        </p:blipFill>
        <p:spPr>
          <a:xfrm>
            <a:off x="3048120" y="4686480"/>
            <a:ext cx="2895480" cy="217152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000"/>
                            </p:stCondLst>
                            <p:childTnLst>
                              <p:par>
                                <p:cTn id="18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00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8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Использованные источники: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demotivators.org.ua/d/demotivators.org.ua-4099-3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http://img-2005-08.photosight.ru/23/999867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http://wiki.iteach.ru/images/5/57/Дмириева_рис.2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5"/>
              </a:rPr>
              <a:t>http://masteric.files.wordpress.com/2009/12/12-s8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6"/>
              </a:rPr>
              <a:t>http://svpressa.ru/photo/9629-6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7"/>
              </a:rPr>
              <a:t>http://www.fire.mchs.gov.ru/upload/iblock/e96/e9613fe172b830fde699f1ad318be1e8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8"/>
              </a:rPr>
              <a:t>http://synews.ru/uploads/posts/2009-05/1241952296_gaz_vzryv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9"/>
              </a:rPr>
              <a:t>http://zhurnal.lib.ru/img/s/stepanow_a_f/100/pozhar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0"/>
              </a:rPr>
              <a:t>http://www.ruspromexpert.ru/upload/medialibrary/c5a/cfb85ac62c929906ea7af85a1ff2b217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1"/>
              </a:rPr>
              <a:t>http://i1.i.ua/prikol/pic/7/3/401937_385254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2"/>
              </a:rPr>
              <a:t>http://i018.radikal.ru/0905/96/e09a7f05a92f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3"/>
              </a:rPr>
              <a:t>http://www.rulez-t.info/uploads/posts/2009-10/1256856104_opasn_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4"/>
              </a:rPr>
              <a:t>http://a17004.rimg.info/icon/138880000a3718061d264f083eebd2bc17e5d0de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5"/>
              </a:rPr>
              <a:t>http://cache.boston.com/universal/site_graphics/blogs/bigpicture/iowa_06_17/iowa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6"/>
              </a:rPr>
              <a:t>http://stat17.privet.ru/lr/0911226e206e42c4f181470428ab5288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7"/>
              </a:rPr>
              <a:t>http://media.bcm.ru/1044/9c07e1e5-3660-4c8e-bdd3-defe3c521811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8"/>
              </a:rPr>
              <a:t>http://mcgonnigle.files.wordpress.com/2007/02/lightning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19"/>
              </a:rPr>
              <a:t>http://papandos.ru/_bl/1/s75010675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cc00"/>
                </a:solidFill>
                <a:uFillTx/>
                <a:latin typeface="Arial"/>
                <a:hlinkClick r:id="rId20"/>
              </a:rPr>
              <a:t>http://s50.radikal.ru/i127/0905/ab/de1b25a0e8c8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img0.liveinternet.ru/images/attach/c/1/62/423/62423701_RIA734719Preview_700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img1.liveinternet.ru/images/attach/c/0/31/817/31817951_48b9e8b84e90f81d3c38ea7e53aa655d_full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tonnel.ru/digest/file/545573764_tonnel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www.stihi.ru/pics/2010/12/16/1095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ffffff"/>
                </a:solidFill>
                <a:uFillTx/>
                <a:latin typeface="Arial"/>
              </a:rPr>
              <a:t>http://cache.g4tv.com/ImageDb3/144366_S/Six-Days-in-Fallujah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01680" y="685440"/>
            <a:ext cx="854064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8" descr="C:\Documents and Settings\UserXP\Рабочий стол\Катинки Окся\PR20110317090226.JPG"/>
          <p:cNvPicPr/>
          <p:nvPr/>
        </p:nvPicPr>
        <p:blipFill>
          <a:blip r:embed="rId2"/>
          <a:stretch/>
        </p:blipFill>
        <p:spPr>
          <a:xfrm>
            <a:off x="146160" y="-6480"/>
            <a:ext cx="3011400" cy="22622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C:\Documents and Settings\UserXP\Рабочий стол\Катинки Окся\17394.jpg"/>
          <p:cNvPicPr/>
          <p:nvPr/>
        </p:nvPicPr>
        <p:blipFill>
          <a:blip r:embed="rId3"/>
          <a:stretch/>
        </p:blipFill>
        <p:spPr>
          <a:xfrm>
            <a:off x="3346560" y="225360"/>
            <a:ext cx="3060720" cy="2298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C:\Documents and Settings\UserXP\Рабочий стол\Катинки Окся\38_489_1299929526.jpg"/>
          <p:cNvPicPr/>
          <p:nvPr/>
        </p:nvPicPr>
        <p:blipFill>
          <a:blip r:embed="rId4"/>
          <a:stretch/>
        </p:blipFill>
        <p:spPr>
          <a:xfrm>
            <a:off x="298440" y="2511360"/>
            <a:ext cx="2712960" cy="2030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1" descr="C:\Documents and Settings\UserXP\Рабочий стол\Катинки Окся\4988CDF4-5DAB-45A8-ADE4-8ABFE094B319_mw800_mh600_s.jpg"/>
          <p:cNvPicPr/>
          <p:nvPr/>
        </p:nvPicPr>
        <p:blipFill>
          <a:blip r:embed="rId5"/>
          <a:stretch/>
        </p:blipFill>
        <p:spPr>
          <a:xfrm>
            <a:off x="3425760" y="2664000"/>
            <a:ext cx="2451240" cy="1841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C:\Documents and Settings\UserXP\Рабочий стол\Катинки Окся\nukes_TokaimuraNuclearAccident.jpg"/>
          <p:cNvPicPr/>
          <p:nvPr/>
        </p:nvPicPr>
        <p:blipFill>
          <a:blip r:embed="rId6"/>
          <a:stretch/>
        </p:blipFill>
        <p:spPr>
          <a:xfrm>
            <a:off x="5999040" y="682560"/>
            <a:ext cx="3151440" cy="2084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C:\Documents and Settings\UserXP\Рабочий стол\Катинки Окся\fukushima-18-2.jpg"/>
          <p:cNvPicPr/>
          <p:nvPr/>
        </p:nvPicPr>
        <p:blipFill>
          <a:blip r:embed="rId7"/>
          <a:stretch/>
        </p:blipFill>
        <p:spPr>
          <a:xfrm>
            <a:off x="146160" y="4797360"/>
            <a:ext cx="3243240" cy="1822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4" descr="C:\Documents and Settings\UserXP\Рабочий стол\Катинки Окся\aes-fukusima-1-sejchas-9-foto_4.jpg"/>
          <p:cNvPicPr/>
          <p:nvPr/>
        </p:nvPicPr>
        <p:blipFill>
          <a:blip r:embed="rId8"/>
          <a:stretch/>
        </p:blipFill>
        <p:spPr>
          <a:xfrm>
            <a:off x="3425760" y="4627440"/>
            <a:ext cx="3133800" cy="19861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5" descr="C:\Documents and Settings\UserXP\Рабочий стол\Катинки Окся\b_499030.jpg"/>
          <p:cNvPicPr/>
          <p:nvPr/>
        </p:nvPicPr>
        <p:blipFill>
          <a:blip r:embed="rId9"/>
          <a:stretch/>
        </p:blipFill>
        <p:spPr>
          <a:xfrm>
            <a:off x="6242040" y="2968560"/>
            <a:ext cx="2908440" cy="2183040"/>
          </a:xfrm>
          <a:prstGeom prst="rect">
            <a:avLst/>
          </a:prstGeom>
          <a:ln w="0">
            <a:noFill/>
          </a:ln>
        </p:spPr>
      </p:pic>
    </p:spTree>
  </p:cSld>
  <p:transition advTm="5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8000"/>
                            </p:stCondLst>
                            <p:childTnLst>
                              <p:par>
                                <p:cTn id="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2498760" y="2246400"/>
            <a:ext cx="557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228600" y="38088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28600" y="1523880"/>
          <a:ext cx="8153280" cy="358164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59688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Природ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Техноген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Социальны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Экологические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  <a:tr h="2984760"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Холод, жара, атмосферные осадки, солнечная радиация, встреча с дикими животными…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Те, что имеют происхождение от техники. Электрический ток, шум, вибрация, взрывчатые и токсические вещества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Носители их – люди. Разбой, хулиганство, террор, убийство, наркомания, алкоголизм…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4d4d4d"/>
                          </a:solidFill>
                          <a:latin typeface="Arial"/>
                        </a:rPr>
                        <a:t>Нарушения природного равновесия. Необратимые отрицательные последствия, произошедшие в природе, зачастую по вине человека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7e7ff"/>
                </a:solidFill>
                <a:latin typeface="Arial"/>
              </a:rPr>
              <a:t>Игра «Что куда?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04920" y="2362320"/>
          <a:ext cx="8229600" cy="29718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48572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ирод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хног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циаль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кологическ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  <a:tr h="1486080"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  <a:tc>
                  <a:txBody>
                    <a:bodyPr lIns="42120" rIns="421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2120" marR="42120">
                    <a:lnL w="5760">
                      <a:solidFill>
                        <a:srgbClr val="0099cc"/>
                      </a:solidFill>
                    </a:lnL>
                    <a:lnR w="5760">
                      <a:solidFill>
                        <a:srgbClr val="0099cc"/>
                      </a:solidFill>
                    </a:lnR>
                    <a:lnT w="5760">
                      <a:solidFill>
                        <a:srgbClr val="0099cc"/>
                      </a:solidFill>
                    </a:lnT>
                    <a:lnB w="5760">
                      <a:solidFill>
                        <a:srgbClr val="0099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02" name="Picture 6" descr="C:\Documents and Settings\UserXP\Рабочий стол\Катинки Окся\9c07e1e5-3660-4c8e-bdd3-defe3c521811.jpg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UserXP\Рабочий стол\Катинки Окся\9629-6.jpg"/>
          <p:cNvPicPr/>
          <p:nvPr/>
        </p:nvPicPr>
        <p:blipFill>
          <a:blip r:embed="rId2"/>
          <a:stretch/>
        </p:blipFill>
        <p:spPr>
          <a:xfrm>
            <a:off x="762120" y="747720"/>
            <a:ext cx="7619760" cy="53625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C:\Documents and Settings\UserXP\Рабочий стол\Катинки Окся\1095.jpg"/>
          <p:cNvPicPr/>
          <p:nvPr/>
        </p:nvPicPr>
        <p:blipFill>
          <a:blip r:embed="rId2"/>
          <a:stretch/>
        </p:blipFill>
        <p:spPr>
          <a:xfrm>
            <a:off x="2666880" y="927000"/>
            <a:ext cx="3810240" cy="500400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C:\Documents and Settings\UserXP\Рабочий стол\Катинки Окся\401937_385254.jpg"/>
          <p:cNvPicPr/>
          <p:nvPr/>
        </p:nvPicPr>
        <p:blipFill>
          <a:blip r:embed="rId2"/>
          <a:stretch/>
        </p:blipFill>
        <p:spPr>
          <a:xfrm>
            <a:off x="1714680" y="514440"/>
            <a:ext cx="6743520" cy="5057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lena</cp:lastModifiedBy>
  <dcterms:modified xsi:type="dcterms:W3CDTF">2018-07-05T17:08:5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