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21.jpeg" ContentType="image/jpeg"/>
  <Override PartName="/ppt/media/image16.jpeg" ContentType="image/jpeg"/>
  <Override PartName="/ppt/media/image19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20.wmf" ContentType="image/x-wmf"/>
  <Override PartName="/ppt/media/image5.jpeg" ContentType="image/jpeg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134-1B86-47B3-8105-E3E05427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F768-D603-42EA-A83A-889A25BF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BDB0-13A9-49F0-84D0-94902C05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D2D5-4F7D-4805-BCE0-3095B01C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7B9EC-8C47-400B-9D72-383A5F5A7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B7F7-2F3D-478B-A394-582C8C789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4E713-395A-4FF6-9592-38515D2C3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D838-D13A-4BAB-AE5D-09394D5C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1FA6-1EB1-49ED-BE5C-3C608C53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0606-5AB9-4C75-BC28-B1AE883A7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23D72-D2BE-48F5-9768-04EF6B99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622A-C372-4CEE-9A68-05F6A8F53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1A12A-8FA4-409B-A23B-5B0D967A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31B58-CDDC-4B7E-807C-043072FC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A6CE-1554-4360-A8A1-51CB3367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9F98A-B60D-400F-85A7-43B113054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89A6-FAD2-4C46-8AF6-A61D774E9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5C3F-B554-4A10-9A77-180EA71B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D9C-CFC4-4AEF-8C32-C56C7BEE8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0A7C-CD49-4F86-BD15-9C50A0F3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4D4E-77DC-4FD8-9F5A-A0445B980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7D66-913D-4062-90B4-7DDF330D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E20C-46D7-4089-8184-4AD151EC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93D-237D-4858-99DA-3B178DAFA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33F0-3A19-4D24-88A8-6E8B2FADD5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D2DD5-8FDE-4642-8D4C-F9236B00F19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        </a:t>
            </a: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Осторожно, </a:t>
            </a:r>
            <a:br>
              <a:rPr sz="5400"/>
            </a:b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                тонкий лед!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2421000"/>
            <a:ext cx="5113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конце осени у льда, как всегда было плох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строение. Переменчивая погода не благоприятствовала его самочувствию: то мороз ударит, то солнце пригреет – лед то крепнет, то подтаивает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 еще школьники совершенно не считаются с моим состоянием, - ворчал ле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childski"/>
          <p:cNvPicPr/>
          <p:nvPr/>
        </p:nvPicPr>
        <p:blipFill>
          <a:blip r:embed="rId1"/>
          <a:stretch/>
        </p:blipFill>
        <p:spPr>
          <a:xfrm>
            <a:off x="250920" y="907920"/>
            <a:ext cx="3384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8920" y="115560"/>
            <a:ext cx="866628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 Пользоваться площадками для катания на коньках на водоемах разрешается только после тщательной проверки плотности льд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 При переходе водоема по льду на лыжах рекомендуется пользоваться проложенной лыж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89915732[1]"/>
          <p:cNvPicPr/>
          <p:nvPr/>
        </p:nvPicPr>
        <p:blipFill>
          <a:blip r:embed="rId1"/>
          <a:stretch/>
        </p:blipFill>
        <p:spPr>
          <a:xfrm rot="21164400">
            <a:off x="826920" y="3500280"/>
            <a:ext cx="3961080" cy="266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49091[1]"/>
          <p:cNvPicPr/>
          <p:nvPr/>
        </p:nvPicPr>
        <p:blipFill>
          <a:blip r:embed="rId2"/>
          <a:stretch/>
        </p:blipFill>
        <p:spPr>
          <a:xfrm>
            <a:off x="5940360" y="3068640"/>
            <a:ext cx="2519280" cy="18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led3"/>
          <p:cNvPicPr/>
          <p:nvPr/>
        </p:nvPicPr>
        <p:blipFill>
          <a:blip r:embed="rId1"/>
          <a:stretch/>
        </p:blipFill>
        <p:spPr>
          <a:xfrm rot="21139800">
            <a:off x="631440" y="517320"/>
            <a:ext cx="3216240" cy="2592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led1"/>
          <p:cNvPicPr/>
          <p:nvPr/>
        </p:nvPicPr>
        <p:blipFill>
          <a:blip r:embed="rId2"/>
          <a:stretch/>
        </p:blipFill>
        <p:spPr>
          <a:xfrm rot="736800">
            <a:off x="4858920" y="549360"/>
            <a:ext cx="348480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led2"/>
          <p:cNvPicPr/>
          <p:nvPr/>
        </p:nvPicPr>
        <p:blipFill>
          <a:blip r:embed="rId3"/>
          <a:stretch/>
        </p:blipFill>
        <p:spPr>
          <a:xfrm rot="21131400">
            <a:off x="755640" y="3715920"/>
            <a:ext cx="3562200" cy="26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led4"/>
          <p:cNvPicPr/>
          <p:nvPr/>
        </p:nvPicPr>
        <p:blipFill>
          <a:blip r:embed="rId4"/>
          <a:stretch/>
        </p:blipFill>
        <p:spPr>
          <a:xfrm rot="555600">
            <a:off x="5003280" y="3644640"/>
            <a:ext cx="359892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400" y="356760"/>
            <a:ext cx="57150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Человеческая жизнь дороже нескольких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Comic Sans MS"/>
              </a:rPr>
              <a:t>сэкономленных минут!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Рисунок 5" descr="PE00531_.WMF"/>
          <p:cNvPicPr/>
          <p:nvPr/>
        </p:nvPicPr>
        <p:blipFill>
          <a:blip r:embed="rId1"/>
          <a:stretch/>
        </p:blipFill>
        <p:spPr>
          <a:xfrm>
            <a:off x="2928960" y="3429000"/>
            <a:ext cx="4214880" cy="287640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6" descr="PE02287_.WMF"/>
          <p:cNvPicPr/>
          <p:nvPr/>
        </p:nvPicPr>
        <p:blipFill>
          <a:blip r:embed="rId2"/>
          <a:stretch/>
        </p:blipFill>
        <p:spPr>
          <a:xfrm>
            <a:off x="5857920" y="357120"/>
            <a:ext cx="328608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лавное управление МЧС России по ХМАО – Югр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Телефон службы спасения – 0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Scan0034"/>
          <p:cNvPicPr/>
          <p:nvPr/>
        </p:nvPicPr>
        <p:blipFill>
          <a:blip r:embed="rId1"/>
          <a:stretch/>
        </p:blipFill>
        <p:spPr>
          <a:xfrm>
            <a:off x="2916360" y="2852640"/>
            <a:ext cx="3384360" cy="3529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Что делать, если вы провалились</a:t>
            </a:r>
            <a:br>
              <a:rPr sz="3200"/>
            </a:br>
            <a:r>
              <a:rPr b="0" lang="ru-RU" sz="3200" spc="-1" strike="noStrike">
                <a:solidFill>
                  <a:srgbClr val="ffffb7"/>
                </a:solidFill>
                <a:latin typeface="Arial Black"/>
              </a:rPr>
              <a:t>в холодную воду?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2" name="Picture 5" descr="Scan0030"/>
          <p:cNvPicPr/>
          <p:nvPr/>
        </p:nvPicPr>
        <p:blipFill>
          <a:blip r:embed="rId1"/>
          <a:stretch/>
        </p:blipFill>
        <p:spPr>
          <a:xfrm>
            <a:off x="324000" y="1341360"/>
            <a:ext cx="8496000" cy="524052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6840" y="244440"/>
            <a:ext cx="838836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Если нужна ваша помощ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оружитесь любой длинной палкой, доскою, шестом или веревкою. Можно связать воедино шарфы, ремни или одежд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едует ползком, широко расставляя при этом руки и ноги и толкая перед собою спасательные средства, осторожно двигаться по направлению к полынье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4" descr="CAGRA32J"/>
          <p:cNvPicPr/>
          <p:nvPr/>
        </p:nvPicPr>
        <p:blipFill>
          <a:blip r:embed="rId1"/>
          <a:stretch/>
        </p:blipFill>
        <p:spPr>
          <a:xfrm rot="21226200">
            <a:off x="1258920" y="4292640"/>
            <a:ext cx="310824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CAQ7YJOB"/>
          <p:cNvPicPr/>
          <p:nvPr/>
        </p:nvPicPr>
        <p:blipFill>
          <a:blip r:embed="rId2"/>
          <a:stretch/>
        </p:blipFill>
        <p:spPr>
          <a:xfrm rot="630600">
            <a:off x="5724360" y="4365720"/>
            <a:ext cx="309744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94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ановитесь от находящегося человека в воде в нескольких метрах, бросьте ему веревку, край одежды, подайте палку или шес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торожно вытащите пострадавшего на лед, и вместе ползком выбирайтесь из опасной зо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4" descr="index9_clip_image004"/>
          <p:cNvPicPr/>
          <p:nvPr/>
        </p:nvPicPr>
        <p:blipFill>
          <a:blip r:embed="rId1"/>
          <a:stretch/>
        </p:blipFill>
        <p:spPr>
          <a:xfrm rot="21221400">
            <a:off x="1116000" y="3068640"/>
            <a:ext cx="2808360" cy="3233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artled_300_1m[1]"/>
          <p:cNvPicPr/>
          <p:nvPr/>
        </p:nvPicPr>
        <p:blipFill>
          <a:blip r:embed="rId2"/>
          <a:stretch/>
        </p:blipFill>
        <p:spPr>
          <a:xfrm>
            <a:off x="4716360" y="314172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8512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пасные места у водоемов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0" name="Picture 5" descr="Scan0031"/>
          <p:cNvPicPr/>
          <p:nvPr/>
        </p:nvPicPr>
        <p:blipFill>
          <a:blip r:embed="rId1"/>
          <a:stretch/>
        </p:blipFill>
        <p:spPr>
          <a:xfrm>
            <a:off x="539640" y="1484280"/>
            <a:ext cx="8352000" cy="4969080"/>
          </a:xfrm>
          <a:prstGeom prst="rect">
            <a:avLst/>
          </a:prstGeom>
          <a:ln w="57240">
            <a:solidFill>
              <a:srgbClr val="00cc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3851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то должен знать каждый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84502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Лед может быть непрочным около стока вод (например, с фермы или фабрики)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нкий или рыхлый лед вблизи кустов, камыша, под сугробами, в местах, где водоросли вмерзли в лед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3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Следует обойти площадки, покрытые толстым слоем снега: под снегом лед всегда тоньше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4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Тоньше лед и там, где бьют ключи, где быстрое течение или впадаёт в реку руч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5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Особенно осторожно надо спускаться с берега: лед может неплотно соединяться с сушей, возможны трещины, подо льдом может быть возду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40384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Безопасным для человека считается лед толщиной не менее 10 см в пресной воде и 15 см в солен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Если температура воздуха выше 1 градусов держится более 3 дней, то прочность льда снижается на 25 %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mic Sans MS"/>
              </a:rPr>
              <a:t>Прочность льда можно определить визуально: лед голубого цвета – прочный, прочность льда белого цвета в 2 раза меньше, а самый ненадежный лед серого, матово-белого цвета или с желтоватым оттен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figskatr"/>
          <p:cNvPicPr/>
          <p:nvPr/>
        </p:nvPicPr>
        <p:blipFill>
          <a:blip r:embed="rId1"/>
          <a:stretch/>
        </p:blipFill>
        <p:spPr>
          <a:xfrm>
            <a:off x="5227560" y="189000"/>
            <a:ext cx="3916440" cy="4592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j0251301"/>
          <p:cNvPicPr/>
          <p:nvPr/>
        </p:nvPicPr>
        <p:blipFill>
          <a:blip r:embed="rId2"/>
          <a:stretch/>
        </p:blipFill>
        <p:spPr>
          <a:xfrm>
            <a:off x="6877080" y="5013360"/>
            <a:ext cx="19429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Comic Sans MS"/>
              </a:rPr>
              <a:t>МЧС России по ХМАО-Югра и служба гражданской защиты населения </a:t>
            </a:r>
            <a:br>
              <a:rPr sz="2800"/>
            </a:br>
            <a:r>
              <a:rPr b="1" lang="ru-RU" sz="2800" spc="-1" strike="noStrike">
                <a:solidFill>
                  <a:srgbClr val="ffffb7"/>
                </a:solidFill>
                <a:latin typeface="Comic Sans MS"/>
              </a:rPr>
              <a:t>предупреждает, что: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 При переходе по льду необходимо пользоваться оборудованными ледовыми переправами или проложенными тропа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Категорически запрещается проверять прочность льда ударами н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CA05OL87"/>
          <p:cNvPicPr/>
          <p:nvPr/>
        </p:nvPicPr>
        <p:blipFill>
          <a:blip r:embed="rId1"/>
          <a:stretch/>
        </p:blipFill>
        <p:spPr>
          <a:xfrm>
            <a:off x="3059280" y="4292640"/>
            <a:ext cx="29509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59464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. Во время движения по льду следует обращать внимание на его поверхность, обходить опасные места и участки, покрытые толстым слоем снег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3. При переходе по льду необходимо следовать друг за другом на расстоянии 5 – 6 метров и быть готовым оказать немедленную помощь идущему вперед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4" descr="CASRM569"/>
          <p:cNvPicPr/>
          <p:nvPr/>
        </p:nvPicPr>
        <p:blipFill>
          <a:blip r:embed="rId1"/>
          <a:stretch/>
        </p:blipFill>
        <p:spPr>
          <a:xfrm rot="423000">
            <a:off x="5219640" y="3068640"/>
            <a:ext cx="3168720" cy="2660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index9_clip_image002"/>
          <p:cNvPicPr/>
          <p:nvPr/>
        </p:nvPicPr>
        <p:blipFill>
          <a:blip r:embed="rId2"/>
          <a:stretch/>
        </p:blipFill>
        <p:spPr>
          <a:xfrm rot="21205800">
            <a:off x="1403280" y="2781360"/>
            <a:ext cx="266400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7:22:28Z</dcterms:created>
  <dc:creator>Мария</dc:creator>
  <dc:description/>
  <dc:language>en-US</dc:language>
  <cp:lastModifiedBy>Elena</cp:lastModifiedBy>
  <dcterms:modified xsi:type="dcterms:W3CDTF">2018-07-05T18:22:50Z</dcterms:modified>
  <cp:revision>17</cp:revision>
  <dc:subject/>
  <dc:title>     Осторожно, тонкий лед!</dc:title>
</cp:coreProperties>
</file>