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20.wmf" ContentType="image/x-wmf"/>
  <Override PartName="/ppt/media/image5.jpeg" ContentType="image/jpeg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83B4-E590-470F-9737-5D97843D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81E3-A4C5-4A5E-8D41-28F560F1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EBDB-42DE-4B78-A2A4-4883EDFC8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FB35-2723-4734-A1FB-B22650D3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AB96-DFD0-4249-9CA0-7553A7592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A5B6-F38B-4455-BE1C-9D883903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6539-09FB-48BD-BFCA-B4402C93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113E-4C9B-469A-99C6-4F427B4B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4564-BDA1-41CB-BF7D-AD9B7478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29B1F-0BF8-4C3C-91BC-23CB9D6E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6266-8016-4104-82A6-10C29122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FDA8-C5BD-4D2C-8498-54F6FF96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6934-296A-43C9-85D8-B1CE3A22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EF72-D3D3-4270-8CC6-01AFB3B8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43C8-FB6D-44F0-9819-AF367940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FA7A-E67D-42D4-9042-F951CF6C1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E0C8-D39F-44BB-9DA4-0ABF9C2F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390D-1B50-46CC-8E07-105BAE70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E15A-0AEB-444F-886E-A18D85595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F424-207C-4ADE-AD02-5A06C59ED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AF32-BF55-4ECE-80FE-1C318C11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80CE-4025-47E9-9BEB-EC4BE52D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D23F-093D-4D3A-B302-94F58D0E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762F-BAB1-477D-B9E5-19E1EB40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8A5B-C797-43DE-9866-7740C69CEF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3245-C085-4A79-B40D-187F5BC2DA7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8200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               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Осторожно, 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               тонкий лед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2421000"/>
            <a:ext cx="51130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онце осени у льда, как всегда было плох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строение. Переменчивая погода не благоприятствовала его самочувствию: то мороз ударит, то солнце пригреет – лед то крепнет, то подтаивает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 еще школьники совершенно не считаются с моим состоянием, - ворчал ле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childski"/>
          <p:cNvPicPr/>
          <p:nvPr/>
        </p:nvPicPr>
        <p:blipFill>
          <a:blip r:embed="rId1"/>
          <a:stretch/>
        </p:blipFill>
        <p:spPr>
          <a:xfrm>
            <a:off x="250920" y="907920"/>
            <a:ext cx="3384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8920" y="115560"/>
            <a:ext cx="86662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Пользоваться площадками для катания на коньках на водоемах разрешается только после тщательной проверки плотности ль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При переходе водоема по льду на лыжах рекомендуется пользоваться проложенной лыж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89915732[1]"/>
          <p:cNvPicPr/>
          <p:nvPr/>
        </p:nvPicPr>
        <p:blipFill>
          <a:blip r:embed="rId1"/>
          <a:stretch/>
        </p:blipFill>
        <p:spPr>
          <a:xfrm rot="21164400">
            <a:off x="826920" y="3500280"/>
            <a:ext cx="3961080" cy="266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149091[1]"/>
          <p:cNvPicPr/>
          <p:nvPr/>
        </p:nvPicPr>
        <p:blipFill>
          <a:blip r:embed="rId2"/>
          <a:stretch/>
        </p:blipFill>
        <p:spPr>
          <a:xfrm>
            <a:off x="5940360" y="3068640"/>
            <a:ext cx="251928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led3"/>
          <p:cNvPicPr/>
          <p:nvPr/>
        </p:nvPicPr>
        <p:blipFill>
          <a:blip r:embed="rId1"/>
          <a:stretch/>
        </p:blipFill>
        <p:spPr>
          <a:xfrm rot="21139800">
            <a:off x="631440" y="517320"/>
            <a:ext cx="3216240" cy="2592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led1"/>
          <p:cNvPicPr/>
          <p:nvPr/>
        </p:nvPicPr>
        <p:blipFill>
          <a:blip r:embed="rId2"/>
          <a:stretch/>
        </p:blipFill>
        <p:spPr>
          <a:xfrm rot="736800">
            <a:off x="4858920" y="549360"/>
            <a:ext cx="348480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led2"/>
          <p:cNvPicPr/>
          <p:nvPr/>
        </p:nvPicPr>
        <p:blipFill>
          <a:blip r:embed="rId3"/>
          <a:stretch/>
        </p:blipFill>
        <p:spPr>
          <a:xfrm rot="21131400">
            <a:off x="755640" y="3715920"/>
            <a:ext cx="3562200" cy="2629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led4"/>
          <p:cNvPicPr/>
          <p:nvPr/>
        </p:nvPicPr>
        <p:blipFill>
          <a:blip r:embed="rId4"/>
          <a:stretch/>
        </p:blipFill>
        <p:spPr>
          <a:xfrm rot="555600">
            <a:off x="5003280" y="3644640"/>
            <a:ext cx="35989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57150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Человеческая жизнь дороже нескольких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сэкономленных минут!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Рисунок 5" descr="PE00531_.WMF"/>
          <p:cNvPicPr/>
          <p:nvPr/>
        </p:nvPicPr>
        <p:blipFill>
          <a:blip r:embed="rId1"/>
          <a:stretch/>
        </p:blipFill>
        <p:spPr>
          <a:xfrm>
            <a:off x="2928960" y="3429000"/>
            <a:ext cx="4214880" cy="28764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PE02287_.WMF"/>
          <p:cNvPicPr/>
          <p:nvPr/>
        </p:nvPicPr>
        <p:blipFill>
          <a:blip r:embed="rId2"/>
          <a:stretch/>
        </p:blipFill>
        <p:spPr>
          <a:xfrm>
            <a:off x="5857920" y="357120"/>
            <a:ext cx="32860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лавное управление МЧС России по ХМАО – Югр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елефон службы спасения – 0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Scan0034"/>
          <p:cNvPicPr/>
          <p:nvPr/>
        </p:nvPicPr>
        <p:blipFill>
          <a:blip r:embed="rId1"/>
          <a:stretch/>
        </p:blipFill>
        <p:spPr>
          <a:xfrm>
            <a:off x="2916360" y="2852640"/>
            <a:ext cx="3384360" cy="352908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Что делать, если вы провалились</a:t>
            </a:r>
            <a:br>
              <a:rPr sz="3200"/>
            </a:b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в холодную воду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Picture 5" descr="Scan0030"/>
          <p:cNvPicPr/>
          <p:nvPr/>
        </p:nvPicPr>
        <p:blipFill>
          <a:blip r:embed="rId1"/>
          <a:stretch/>
        </p:blipFill>
        <p:spPr>
          <a:xfrm>
            <a:off x="324000" y="1341360"/>
            <a:ext cx="8496000" cy="524052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6840" y="244440"/>
            <a:ext cx="838836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нужна ваша помощ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оружитесь любой длинной палкой, доскою, шестом или веревкою. Можно связать воедино шарфы, ремни или одежд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ет ползком, широко расставляя при этом руки и ноги и толкая перед собою спасательные средства, осторожно двигаться по направлению к полынь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CAGRA32J"/>
          <p:cNvPicPr/>
          <p:nvPr/>
        </p:nvPicPr>
        <p:blipFill>
          <a:blip r:embed="rId1"/>
          <a:stretch/>
        </p:blipFill>
        <p:spPr>
          <a:xfrm rot="21226200">
            <a:off x="1258920" y="4292640"/>
            <a:ext cx="3108240" cy="2089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AQ7YJOB"/>
          <p:cNvPicPr/>
          <p:nvPr/>
        </p:nvPicPr>
        <p:blipFill>
          <a:blip r:embed="rId2"/>
          <a:stretch/>
        </p:blipFill>
        <p:spPr>
          <a:xfrm rot="630600">
            <a:off x="5724360" y="4365720"/>
            <a:ext cx="309744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5946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новитесь от находящегося человека в воде в нескольких метрах, бросьте ему веревку, край одежды, подайте палку или шес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орожно вытащите пострадавшего на лед, и вместе ползком выбирайтесь из опасной зо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index9_clip_image004"/>
          <p:cNvPicPr/>
          <p:nvPr/>
        </p:nvPicPr>
        <p:blipFill>
          <a:blip r:embed="rId1"/>
          <a:stretch/>
        </p:blipFill>
        <p:spPr>
          <a:xfrm rot="21221400">
            <a:off x="1116000" y="3068640"/>
            <a:ext cx="2808360" cy="3233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artled_300_1m[1]"/>
          <p:cNvPicPr/>
          <p:nvPr/>
        </p:nvPicPr>
        <p:blipFill>
          <a:blip r:embed="rId2"/>
          <a:stretch/>
        </p:blipFill>
        <p:spPr>
          <a:xfrm>
            <a:off x="4716360" y="3141720"/>
            <a:ext cx="3672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пасные места у водоемов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Picture 5" descr="Scan0031"/>
          <p:cNvPicPr/>
          <p:nvPr/>
        </p:nvPicPr>
        <p:blipFill>
          <a:blip r:embed="rId1"/>
          <a:stretch/>
        </p:blipFill>
        <p:spPr>
          <a:xfrm>
            <a:off x="539640" y="1484280"/>
            <a:ext cx="8352000" cy="496908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851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Это должен знать каждый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502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Лед может быть непрочным около стока вод (например, с фермы или фабрики)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Тонкий или рыхлый лед вблизи кустов, камыша, под сугробами, в местах, где водоросли вмерзли в лед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Следует обойти площадки, покрытые толстым слоем снега: под снегом лед всегда тоньш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Тоньше лед и там, где бьют ключи, где быстрое течение или впадаёт в реку руче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Особенно осторожно надо спускаться с берега: лед может неплотно соединяться с сушей, возможны трещины, подо льдом может быть возду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40384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Безопасным для человека считается лед толщиной не менее 10 см в пресной воде и 15 см в соленн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Если температура воздуха выше 1 градусов держится более 3 дней, то прочность льда снижается на 25 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очность льда можно определить визуально: лед голубого цвета – прочный, прочность льда белого цвета в 2 раза меньше, а самый ненадежный лед серого, матово-белого цвета или с желтоватым оттенк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figskatr"/>
          <p:cNvPicPr/>
          <p:nvPr/>
        </p:nvPicPr>
        <p:blipFill>
          <a:blip r:embed="rId1"/>
          <a:stretch/>
        </p:blipFill>
        <p:spPr>
          <a:xfrm>
            <a:off x="5227560" y="189000"/>
            <a:ext cx="3916440" cy="459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j0251301"/>
          <p:cNvPicPr/>
          <p:nvPr/>
        </p:nvPicPr>
        <p:blipFill>
          <a:blip r:embed="rId2"/>
          <a:stretch/>
        </p:blipFill>
        <p:spPr>
          <a:xfrm>
            <a:off x="6877080" y="5013360"/>
            <a:ext cx="19429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Comic Sans MS"/>
              </a:rPr>
              <a:t>МЧС России по ХМАО-Югра и служба гражданской защиты населения 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Comic Sans MS"/>
              </a:rPr>
              <a:t>предупреждает, что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При переходе по льду необходимо пользоваться оборудованными ледовыми переправами или проложенными троп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Категорически запрещается проверять прочность льда ударами но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CA05OL87"/>
          <p:cNvPicPr/>
          <p:nvPr/>
        </p:nvPicPr>
        <p:blipFill>
          <a:blip r:embed="rId1"/>
          <a:stretch/>
        </p:blipFill>
        <p:spPr>
          <a:xfrm>
            <a:off x="3059280" y="4292640"/>
            <a:ext cx="29509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5946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Во время движения по льду следует обращать внимание на его поверхность, обходить опасные места и участки, покрытые толстым слоем сне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При переходе по льду необходимо следовать друг за другом на расстоянии 5 – 6 метров и быть готовым оказать немедленную помощь идущему вперед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CASRM569"/>
          <p:cNvPicPr/>
          <p:nvPr/>
        </p:nvPicPr>
        <p:blipFill>
          <a:blip r:embed="rId1"/>
          <a:stretch/>
        </p:blipFill>
        <p:spPr>
          <a:xfrm rot="423000">
            <a:off x="5219640" y="3068640"/>
            <a:ext cx="3168720" cy="2660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index9_clip_image002"/>
          <p:cNvPicPr/>
          <p:nvPr/>
        </p:nvPicPr>
        <p:blipFill>
          <a:blip r:embed="rId2"/>
          <a:stretch/>
        </p:blipFill>
        <p:spPr>
          <a:xfrm rot="21205800">
            <a:off x="1403280" y="2781360"/>
            <a:ext cx="2664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7:22:28Z</dcterms:created>
  <dc:creator>Мария</dc:creator>
  <dc:description/>
  <dc:language>en-US</dc:language>
  <cp:lastModifiedBy>Elena</cp:lastModifiedBy>
  <dcterms:modified xsi:type="dcterms:W3CDTF">2018-07-05T18:22:50Z</dcterms:modified>
  <cp:revision>17</cp:revision>
  <dc:subject/>
  <dc:title>     Осторожно, тонкий лед!</dc:title>
</cp:coreProperties>
</file>