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5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4.wmf" ContentType="image/x-wmf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4E9-550C-4FA9-8107-9056AEAF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5D6-99B7-4159-A840-234887E7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A00-A8C4-47DE-88F1-047DD0CE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6BF-9AD5-40E5-A5D7-D4D70A4F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413D-4347-49EF-8E1D-3D792D8A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91D9-03CA-4357-9158-63E8EEEC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4496-129A-4AE9-8873-6B01D477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93E8-9E62-46FB-B45F-F6656B2F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27BC-6F10-4BD4-8D37-333A321A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0ABE-AA11-4D42-B576-1AE09971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8666-2353-4009-997F-DB95F1F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5A7-AE04-47CB-BF82-170A3DCF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A86F-2575-46AE-96EC-EBE1CF69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4548-36B0-45E7-BBEC-D036C1C7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4F1D-C363-4825-A92C-550AFD27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3C8D-2102-41D7-AA57-5916FA0F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D2E9-A2B4-44B1-A251-45B25E85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F6F-56A6-4F04-850A-B79A758F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B8E-3594-40C5-A816-B2EF4627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9F7-BFA7-4BD7-8AC7-10B7D2D1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305-17F2-4CDE-94BE-5501D1E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AC4-6657-4341-90DD-42E2F6B5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CAE-8FE9-447B-A99F-3067497A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D41-CAB0-4EB8-93E5-79E197F6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CD59-B17B-43FC-89FA-E5B30EFD3A6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D1AC-5244-4094-B32A-397F5AD1855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9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Актуальность проблемы воспитания чувства патриотизма у младших школьников в свете реализации ФГОС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8920" y="5661000"/>
            <a:ext cx="8713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гимназии № 526 Москов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итропольская Марина Владимир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1 марта 2016 го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595332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Мы не воспитаем любви к Родине, не пробудив у ребенка любви к деревьям, цветам, тишине и покою отчего дом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449760" cy="3628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356000" y="4076640"/>
            <a:ext cx="4575240" cy="25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Нам не воспитать любовь к народу, не воспитав любви к окружающим людям – к сверстникам и взрослым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472360" cy="307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550872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ого можно назвать героем нашей Родин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1341360"/>
          <a:ext cx="803448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03448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384360" cy="2060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1822320" cy="2349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411280" y="4653000"/>
            <a:ext cx="2735280" cy="2046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5219640" y="4508640"/>
            <a:ext cx="3851280" cy="2166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3995640" y="1557360"/>
            <a:ext cx="4897440" cy="2762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Нам не воспитать любовь к Родине, не сформировав основы российской гражданской идентичности, чувства гордости за свою Родину, российский народ и историю Росси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Психологические особенности младшего школьного возраста благоприятны для воспитания патриотизм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ладший школьник отвечает доверием взрослом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му присуща подражательность, внушаемость, эмоциональная отзывчивость, искренность чувст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ера в истинность всего, чему учат, что говоря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ера в безусловность и необходимость нравственных нор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Система работы по патриотическому воспитанию включает в себя три основных компонент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атриотическое воспитание в системе ур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атриотическое воспитание во внеурочной деятель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атриотическое воспитание в рамках работы с родителям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Патриотическое воспитание в системе уроков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781280" cy="2376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93080" y="3933720"/>
            <a:ext cx="1706400" cy="2637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3067200" cy="20480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3249720" cy="2168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3432240" cy="245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780000" y="4149720"/>
            <a:ext cx="3195360" cy="21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Патриотическое воспитание во внеурочной деятельност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4132440"/>
            <a:ext cx="4464000" cy="2606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3244680" cy="2440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108000" y="1052640"/>
            <a:ext cx="3311640" cy="2209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2771640" y="2205000"/>
            <a:ext cx="30751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Патриотическое воспитание в рамках работы с родителям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435640" y="4292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275360" cy="2849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4572000" cy="2573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39640" y="907920"/>
            <a:ext cx="2374920" cy="31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триотическое воспит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40384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триотическое созн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триотические чувст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триотические убежд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триотическое повед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340000" y="1125360"/>
            <a:ext cx="936720" cy="1440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203280" y="1197000"/>
            <a:ext cx="863640" cy="331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1197000"/>
            <a:ext cx="934920" cy="2376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8360" y="1197000"/>
            <a:ext cx="1511280" cy="50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Актуальность проблемы духовно-нравственного воспит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мена общественных ценностей,   нравственных ориентир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рушение идеолог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уважительное отношение к государств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дение престижа военной служб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ата чувств патриотизма в молодёжной сред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требность общества и государства в формировании гражданина, обладающего определенными знаниями, умениями, ценностями , а также желанием участвовать в общественно - политической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аким образ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формирование у учащихся высокого патриотического сознания, чувства верности своему Отечеству, стремления к выполнению своего гражданского долга – это систематическая, целенаправленная, комплексная деятельность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ешение этой задачи невозможно без создания такой модели патриотического воспитания школьников, которая включала бы ребенка в активную деятельность, учила бы взаимодействию и сотрудничеству и давала бы возможность для проявления патриотических чувств и отношений.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410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тандарт направлен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4358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 обеспечение духовно-нравственного развития и воспитания учащихся на начальной ступени общего образова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тановление их гражданской идентичности как основы развития гражданского обще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314352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В основе Стандарта лежит концепция духовно-нравственного развития, воспитания личности гражданина России. 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00720" y="1197000"/>
            <a:ext cx="446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тремление к познани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олерант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увство гражданской идентич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мение общать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увство ответственности за свои решения, поступ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триотиз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чебная мотивац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97400" cy="547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атрио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любитель отечества, ревнитель о благе его, отчизнолюб (словарь В.Даля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 человек, любящий свое отечество, преданный своему народу, готовый на жертвы и совершающий подвиги во имя своей Роди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атриотизм (греч. Patris - отечество) - нравственный и политический принцип, социальное чувство, содержанием которого является любовь к отечеству, преданность ему, гордость за его прошлое и настоящее, стремление защитить интересы Роди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то для тебя значит Родин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1341360"/>
          <a:ext cx="8083440" cy="53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808344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Любовь и преданность Родине начинается с признательности матери, отцу,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с ощущением красоты родных мест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081760" cy="2859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3859200"/>
            <a:ext cx="5329440" cy="2998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552920" y="3803760"/>
            <a:ext cx="4591080" cy="30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876320"/>
            <a:ext cx="9144000" cy="4981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5007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оя Родина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- Рос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4211640" cy="281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то значит любить Родину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5280" y="1197000"/>
          <a:ext cx="8237520" cy="54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3752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3T16:06:34Z</dcterms:created>
  <dc:creator>Марина</dc:creator>
  <dc:description/>
  <dc:language>en-US</dc:language>
  <cp:lastModifiedBy>Марина</cp:lastModifiedBy>
  <dcterms:modified xsi:type="dcterms:W3CDTF">2018-07-05T20:24:03Z</dcterms:modified>
  <cp:revision>21</cp:revision>
  <dc:subject/>
  <dc:title>Патриотическое воспитание</dc:title>
</cp:coreProperties>
</file>