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946-627B-450E-B411-1674910E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421-AAFB-4693-A780-5DB5E8A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D2-CF63-435B-9E66-7A6F01D5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BCF-3A92-4724-B3D9-53943076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1FB1-FD45-436A-A005-685E614A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ABFA-84E7-4FAC-82CB-9FE8C37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5E9-33C5-4E9F-8D9B-36C0AD3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FB5-90ED-4688-AF19-5EDC44C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44C0-71FC-4588-A8B3-02C489AF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7B7-922D-4A87-96B3-44DDBD9A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797-9798-4787-B9E2-3076B197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30C-1F69-42AB-A247-6E0BBD1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CD68-B49C-46D0-8899-EDCFBA0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ADDB-D131-4B3B-A0C9-A8D382A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6371-CAE0-4D82-9437-64C00CE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7386-383C-4537-A711-25C6C95C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6E0-9178-4EA6-9918-BCEDA957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38-4DA6-42E3-9652-C6AA553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AD0-1410-46FF-9833-902790E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52D-729C-446D-AE1C-5735CBC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0A6-596C-42A2-A9D8-39050DE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64B-1ECB-4BFB-93DF-7187596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C77-5697-434D-957A-FD40D5D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069-565A-4F3A-9DCE-DC4050D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3C1D-1A4B-4C35-8873-3F6172DA50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C23F-B88D-4585-9C78-6EF824E03F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9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ктуальность проблемы воспитания чувства патриотизма у младших школьников в свете реализации ФГО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5661000"/>
            <a:ext cx="871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гимназии № 526 Москов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итропольская Марина Владими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1 марта 2016 го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59533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Мы не воспитаем любви к Родине, не пробудив у ребенка любви к деревьям, цветам, тишине и покою отчего дом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449760" cy="3628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575240" cy="25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Нам не воспитать любовь к народу, не воспитав любви к окружающим людям – к сверстникам и взрослым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472360" cy="307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50872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го можно назвать героем нашей Родин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341360"/>
          <a:ext cx="803448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0344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384360" cy="206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182232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219640" y="4508640"/>
            <a:ext cx="3851280" cy="2166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995640" y="1557360"/>
            <a:ext cx="4897440" cy="2762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Нам не воспитать любовь к Родине, не сформировав основы российской гражданской идентичности, чувства гордости за свою Родину, российский народ и историю Росси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сихологические особенности младшего школьного возраста благоприятны для воспитания патриотизм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ладший школьник отвечает доверием взрослом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му присуща подражательность, внушаемость, эмоциональная отзывчивость, искренность чувст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ра в истинность всего, чему учат, что говоря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ра в безусловность и необходимость нравственных нор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Система работы по патриотическому воспитанию включает в себя три основных компонент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 системе ур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о внеурочной деятель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 рамках работы с родителям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 системе уроко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781280" cy="237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706400" cy="263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067200" cy="20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3249720" cy="2168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3432240" cy="245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780000" y="4149720"/>
            <a:ext cx="319536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о внеурочной деятельност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132440"/>
            <a:ext cx="4464000" cy="2606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244680" cy="2440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08000" y="1052640"/>
            <a:ext cx="3311640" cy="2209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771640" y="2205000"/>
            <a:ext cx="30751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 рамках работы с родителя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275360" cy="284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4572000" cy="257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2374920" cy="31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триотическое вос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40384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ое созн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ие чув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ие убежд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ое по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40000" y="1125360"/>
            <a:ext cx="936720" cy="1440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203280" y="1197000"/>
            <a:ext cx="863640" cy="331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197000"/>
            <a:ext cx="934920" cy="23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1197000"/>
            <a:ext cx="151128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Актуальность проблемы духовно-нравственного воспит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ена общественных ценностей,   нравственных ориенти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рушение идеолог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важительное отношение к государств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дение престижа военной служб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ата чувств патриотизма в молодёжной сред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требность общества и государства в формировании гражданина, обладающего определенными знаниями, умениями, ценностями , а также желанием участвовать в общественно - политической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ким образ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ормирование у учащихся высокого патриотического сознания, чувства верности своему Отечеству, стремления к выполнению своего гражданского долга – это систематическая, целенаправленная, комплексная деятельность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ешение этой задачи невозможно без создания такой модели патриотического воспитания школьников, которая включала бы ребенка в активную деятельность, учила бы взаимодействию и сотрудничеству и давала бы возможность для проявления патриотических чувств и отношений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тандарт направлен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обеспечение духовно-нравственного развития и воспитания учащихся на начальной ступени общего образов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новление их гражданской идентичности как основы развития гражданского обще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31435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В основе Стандарта лежит концепция духовно-нравственного развития, воспитания личности гражданина России. 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00720" y="119700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ремление к позн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увство гражданской идентич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мение общ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увство ответственности за свои решения, поступ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з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чебная мотив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97400" cy="54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атрио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любитель отечества, ревнитель о благе его, отчизнолюб (словарь В.Даля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человек, любящий свое отечество, преданный своему народу, готовый на жертвы и совершающий подвиги во имя своей Род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атриотизм (греч. Patris - отечество) - нравственный и политический принцип, социальное чувство, содержанием которого является любовь к отечеству, преданность ему, гордость за его прошлое и настоящее, стремление защитить интересы Род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для тебя значит Родин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8083440" cy="53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8344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Любовь и преданность Родине начинается с признательности матери, отцу,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с ощущением красоты родных мест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081760" cy="2859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3859200"/>
            <a:ext cx="5329440" cy="299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52920" y="3803760"/>
            <a:ext cx="459108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876320"/>
            <a:ext cx="9144000" cy="4981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5007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я Родина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- Рос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211640" cy="28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значит любить Родину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197000"/>
          <a:ext cx="82375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375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6:06:34Z</dcterms:created>
  <dc:creator>Марина</dc:creator>
  <dc:description/>
  <dc:language>en-US</dc:language>
  <cp:lastModifiedBy>Марина</cp:lastModifiedBy>
  <dcterms:modified xsi:type="dcterms:W3CDTF">2018-07-05T20:24:03Z</dcterms:modified>
  <cp:revision>21</cp:revision>
  <dc:subject/>
  <dc:title>Патриотическое воспитание</dc:title>
</cp:coreProperties>
</file>