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6A7-8EB3-41AE-9E77-27F46246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B3E-2082-4E8B-AC0A-78C1BC4C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48C-CF31-4B14-9C23-F63EBDB1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C70-A9D8-4F0D-9AE4-072C6C1F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F8CB-6852-43AF-B613-715EF489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060-2BA5-4ABE-BE22-B9D0A16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925E-11D0-48CD-9B8D-2656E20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546-ED77-4664-B218-DD9B2838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942A-E9EB-45D7-A206-B5ED70C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7E5-A81C-4D1C-8587-65EB61CF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6A3-7D1C-4FFB-AF54-BFFFC51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B19-2B12-4BA2-99A3-1E77C250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F81A-7CC1-4454-BD33-9D23C97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E81A-FD5F-4137-B7CB-2B6380C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102-6F4A-4925-86EA-AF6D1BF9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9765-A3E0-4528-BE4B-31C17401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D73F-F49D-4E30-B43A-3BD394A7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945-6BE6-4650-8E54-29F3DED5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62A-D66B-4D04-B073-199E8AB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E2D-811C-4C69-91DB-878A72EB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36C-1372-4720-BC92-092AB11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2A9-7817-42F0-A76F-E55B93D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232-513B-4C3F-A12C-AE1BD37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33E-1D0D-4963-9AB4-06CFC64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C7B1-8B50-4E49-A316-C4E9FD333E5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8FC-24B2-404F-817A-156ED14EFE4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ПЕДАГОГИЧЕСКИЙ   РИН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Формирование патриотических чувст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 детей дошкольного возраст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процесс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уховно-нравственного воспитания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редство раскрытия национальной самобытности и формирования патриотических чувств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Фольклор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имена трех русских былинных богатырей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4005000"/>
            <a:ext cx="7386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Илья Муромец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Алеша Попович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Добрыня Никити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Главная черта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банского народа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Гостеприимств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то несет основную ответственность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 воспитание ребенка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Преданность и любовь к    своему Отечеству,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  своему народу»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 Ожегову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Патриотиз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дна из форм патриотического воспитания в дошкольном возрасте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Ознакомление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с родным крае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ак называется заповедник, находящийся на территории Краснодарского края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4076280"/>
            <a:ext cx="73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авказский государственный природный биосферный заповедни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да заносят названия редких животных и растени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расная книг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то является государственной символико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Герб, гимн, флаг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акая птица изображена на гербе России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73864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Оре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Место, где ты родился?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6828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Родин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порядок цветовых полос на полотнище флага Российской Федерации, начиная сверх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Белый, синий, красны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порядок цветовых полос на полотнище флага Краснодарского края, начиная сверх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Синий, малиновый, зелены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акое животное изображено на гербе Курганинского поселения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30548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ак назывались казаки на Кубани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739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1792 году Екатерин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редложила казачьему войсковому атаману Антону Головатому переселить свое войско на новый рубеж. Главной задачей было создание казачьей оборонительной линии вдоль всей области. Оттуда и пошло название –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линейные казак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еловек, который принадлежит к постоянному населению данного государства и пользуется всеми правами, выполняет все обязанности этого государ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4797000"/>
            <a:ext cx="73864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Граждани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рпимость к чужим мнениям, верованию, поведению. Что это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Толерантнос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понятие «патриотизма»входят компоненты: 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нравственный, эстетический, трудовой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когнитивный, эмоциональный, поведенческий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краеведческий, национальный, эмоциональный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поведенческий, культурологический, социальны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5300280"/>
            <a:ext cx="73864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веденческий, культурологический, социа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98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истема материальных объектов деятельности ребенка, функционально моделирующая содержание его духовного и физического развития. Что это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Развивающая предметная сре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9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ем являются следующие определения: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формирование любви к родному краю,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воспитание чувства гордости и за своих земляков,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умение ориентироваться в окружающей действитель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4653000"/>
            <a:ext cx="73864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Задачи нравственно-патриотического воспит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Кто разрабатывал вопросы о детском коллективе, об индивидуальном подходе к личности каждого ребенка, о роли родителей в становлении нравственности ребенка в отечественной педагогике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5157720"/>
            <a:ext cx="73864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Н.К.Крупская,  А.С.Макаренк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98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98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067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Древнее название России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3271320"/>
            <a:ext cx="73864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404280"/>
            <a:ext cx="7476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7386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1557360"/>
          <a:ext cx="7345440" cy="454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734544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6778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торическая наука, изучающая культуру и быт народов мира,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х происхождение, этническую историю и культурные взаимовлияния?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4848120"/>
            <a:ext cx="73864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Этнограф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99444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ука, изучающая историю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 теорию народного воспитания?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4555800"/>
            <a:ext cx="73864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Этнопедагоги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734544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то ввел термин 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«Народная педагогика»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4555800"/>
            <a:ext cx="73864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.Д.Ушински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3771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хранение прошлых ценностей в настоящем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ультурное наслед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о, что перешло от одного поколения к другому,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что унаследовано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 предшествующих поколени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4869000"/>
            <a:ext cx="7386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Традици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итуальная еда на празднике проводов зимы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Блин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3:16:42Z</dcterms:created>
  <dc:creator>BEST</dc:creator>
  <dc:description/>
  <dc:language>en-US</dc:language>
  <cp:lastModifiedBy>Windows User</cp:lastModifiedBy>
  <dcterms:modified xsi:type="dcterms:W3CDTF">2017-11-01T10:24:19Z</dcterms:modified>
  <cp:revision>31</cp:revision>
  <dc:subject/>
  <dc:title>Слайд 1</dc:title>
</cp:coreProperties>
</file>