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E2D8-D1B4-4107-ACD0-E095286D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75DC-E660-49DD-844B-1AED5BB4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4A7A-F797-45D5-B62C-5D96A8F9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B12B-D2E2-401E-8FD6-BD27ED83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BE56-F822-4B7C-9A29-0AB93436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1FB0-53CA-4778-A9A5-150D10EB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329B-AFA0-4FDA-B270-3BAAD61C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EDD7-4C29-4566-8975-AE72E513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FAB8-B676-4C59-B510-BA9132E3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353E-3CCB-458E-B01C-047A6947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118E-7589-4FDA-8EDE-AB45F1AB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F7FF-11A2-4737-BC7A-A0C875F2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614E-24D7-4D89-90DC-EC3A8689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13B2-9D3B-4D8E-B5C2-6521255F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19D4-1293-4BCC-AF5B-09D4B41F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3662-3813-4EFE-B372-FE9F9770A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E304-C39B-467C-9311-F3366C156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F77D-B7C7-4E3E-9243-4528F853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59FE-CEEB-42F9-9F4C-4AF66860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7C3A-A8D2-4BD0-8AD6-9B521C0F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F831-A9F1-429C-9143-E3EBD8A2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E7F0-8B84-4075-81B9-CE6AC5AA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81BC-82D6-4EFA-9A94-C98C7CC5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82DA-CDF3-40E8-8478-2D11BB6C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73AA-158C-4ABE-8613-0C0E04100D43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1A0B-1F90-4060-9FE0-3F5DE7C8693E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ПЕДАГОГИЧЕСКИЙ   РИНГ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«Формирование патриотических чувств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у детей дошкольного возраста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в процессе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духовно-нравственного воспитания»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редство раскрытия национальной самобытности и формирования патриотических чувств?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4581000"/>
            <a:ext cx="738648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"/>
              </a:rPr>
              <a:t>Фольклор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азовите имена трех русских былинных богатырей.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4005000"/>
            <a:ext cx="738648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Илья Муромец,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Алеша Попович,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Добрыня Никитич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98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98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29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Главная черта 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убанского народа.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4365720"/>
            <a:ext cx="738648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Гостеприимство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98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98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то несет основную ответственность 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а воспитание ребенка?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4365720"/>
            <a:ext cx="738648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Родители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98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98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«Преданность и любовь к    своему Отечеству, 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  своему народу» 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о Ожегову.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4581000"/>
            <a:ext cx="738648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Патриотизм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98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32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дна из форм патриотического воспитания в дошкольном возрасте?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4724280"/>
            <a:ext cx="7386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Ознакомление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с родным краем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31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ак называется заповедник, находящийся на территории Краснодарского края?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4076280"/>
            <a:ext cx="7386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Кавказский государственный природный биосферный заповедник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29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уда заносят названия редких животных и растений?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4437000"/>
            <a:ext cx="73864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Красная книга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Что является государственной символикой?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4437000"/>
            <a:ext cx="73864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Герб, гимн, флаг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акая птица изображена на гербе России?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4653000"/>
            <a:ext cx="738648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Орел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Место, где ты родился?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539280" y="3886200"/>
            <a:ext cx="6828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Родина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азовите порядок цветовых полос на полотнище флага Российской Федерации, начиная сверху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4365720"/>
            <a:ext cx="738648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Белый, синий, красный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98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98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29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азовите порядок цветовых полос на полотнище флага Краснодарского края, начиная сверху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4437000"/>
            <a:ext cx="73864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Синий, малиновый, зеленый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98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98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2007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Какое животное изображено на гербе Курганинского поселения?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4724280"/>
            <a:ext cx="7386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Лошадь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98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98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305480" cy="14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Как назывались казаки на Кубани?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560" y="2349000"/>
            <a:ext cx="7399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 1792 году Екатерина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предложила казачьему войсковому атаману Антону Головатому переселить свое войско на новый рубеж. Главной задачей было создание казачьей оборонительной линии вдоль всей области. Оттуда и пошло название – </a:t>
            </a: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линейные казаки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98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98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Человек, который принадлежит к постоянному населению данного государства и пользуется всеми правами, выполняет все обязанности этого государств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4797000"/>
            <a:ext cx="738648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"/>
              </a:rPr>
              <a:t>Гражданин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98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98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32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Терпимость к чужим мнениям, верованию, поведению. Что это?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4365720"/>
            <a:ext cx="738648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Толерантность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898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898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31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В понятие «патриотизма»входят компоненты: </a:t>
            </a:r>
            <a:br>
              <a:rPr sz="36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-нравственный, эстетический, трудовой</a:t>
            </a:r>
            <a:br>
              <a:rPr sz="24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-когнитивный, эмоциональный, поведенческий</a:t>
            </a:r>
            <a:br>
              <a:rPr sz="24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-краеведческий, национальный, эмоциональный </a:t>
            </a:r>
            <a:br>
              <a:rPr sz="24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-поведенческий, культурологический, социальный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0920" y="5300280"/>
            <a:ext cx="73864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оведенческий, культурологический, социальны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98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98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Система материальных объектов деятельности ребенка, функционально моделирующая содержание его духовного и физического развития. Что это?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4724280"/>
            <a:ext cx="7386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Развивающая предметная сред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98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98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39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Чем являются следующие определения: </a:t>
            </a:r>
            <a:br>
              <a:rPr sz="3600"/>
            </a:b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-формирование любви к родному краю, </a:t>
            </a:r>
            <a:br>
              <a:rPr sz="2800"/>
            </a:b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-воспитание чувства гордости и за своих земляков, </a:t>
            </a:r>
            <a:br>
              <a:rPr sz="2800"/>
            </a:b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-умение ориентироваться в окружающей действительности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4653000"/>
            <a:ext cx="738648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"/>
              </a:rPr>
              <a:t>Задачи нравственно-патриотического воспитания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898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98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Кто разрабатывал вопросы о детском коллективе, об индивидуальном подходе к личности каждого ребенка, о роли родителей в становлении нравственности ребенка в отечественной педагогике?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5157720"/>
            <a:ext cx="738648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Н.К.Крупская,  А.С.Макаренк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898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898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7067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Древнее название России?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3271320"/>
            <a:ext cx="73864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Русь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404280"/>
            <a:ext cx="74768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Arial"/>
              </a:rPr>
              <a:t>Спасибо!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3520" y="1557000"/>
            <a:ext cx="73864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50920" y="1557360"/>
          <a:ext cx="7345440" cy="4541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557360"/>
                    <a:ext cx="7345440" cy="45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6778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Историческая наука, изучающая культуру и быт народов мира, 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их происхождение, этническую историю и культурные взаимовлияния?</a:t>
            </a: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4848120"/>
            <a:ext cx="73864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"/>
              </a:rPr>
              <a:t>Этнография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994440" cy="35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аука, изучающая историю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и теорию народного воспитания?</a:t>
            </a:r>
            <a:r>
              <a:rPr b="0" i="1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4555800"/>
            <a:ext cx="7386480" cy="15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Arial"/>
              </a:rPr>
              <a:t>Этнопедагогика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98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98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7345440" cy="25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то ввел термин  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«Народная педагогика»?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4555800"/>
            <a:ext cx="7386480" cy="15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К.Д.Ушинский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98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98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737712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охранение прошлых ценностей в настоящем.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4581000"/>
            <a:ext cx="738648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Культурное наследие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32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То, что перешло от одного поколения к другому,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что унаследовано 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т предшествующих поколений?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4869000"/>
            <a:ext cx="7386480" cy="12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Традиции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98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98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Ритуальная еда на празднике проводов зимы.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4724280"/>
            <a:ext cx="7386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Блины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7T13:16:42Z</dcterms:created>
  <dc:creator>BEST</dc:creator>
  <dc:description/>
  <dc:language>en-US</dc:language>
  <cp:lastModifiedBy>Windows User</cp:lastModifiedBy>
  <dcterms:modified xsi:type="dcterms:W3CDTF">2017-11-01T10:24:19Z</dcterms:modified>
  <cp:revision>31</cp:revision>
  <dc:subject/>
  <dc:title>Слайд 1</dc:title>
</cp:coreProperties>
</file>