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8.jpeg" ContentType="image/jpeg"/>
  <Override PartName="/ppt/media/image7.wmf" ContentType="image/x-wmf"/>
  <Override PartName="/ppt/media/image9.wmf" ContentType="image/x-wmf"/>
  <Override PartName="/ppt/media/image6.gif" ContentType="image/gif"/>
  <Override PartName="/ppt/media/image12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4.wmf" ContentType="image/x-wmf"/>
  <Override PartName="/ppt/media/image2.jpeg" ContentType="image/jpeg"/>
  <Override PartName="/ppt/media/image26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15.gif" ContentType="image/gi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EF1-18AF-4FA6-A962-66E364D6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D9B-AB3E-4458-9FF2-D3AD82DA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3F8-DC05-415C-9D3C-6C25D56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005-8B1F-457F-9BAB-7369682B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EAB-6BB4-42EA-8D25-943CE65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890-E5BF-4487-8AF6-15C65D3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AB8-44E4-4BC9-B753-D691D76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864-4990-490C-9645-5E8D0F4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DDD-E12E-4312-9605-EE52271E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090-D298-41DF-BF52-D2EEE6D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73B-4557-4209-98E0-E6BC2488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A14-39BF-4823-8748-ABB0D9F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56C1-27DB-4D6C-9221-1DC90340E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ДД:  за безопасность движения на дор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овная или административная ответственность водителя возникает в тех случаях, когда в  его действиях имеется состав административного правонарушения, либо преступления (как правило, совершенного по неосторожности). Как в первом, так и во втором случае могут возникать основания для гражданско-правовой ответственности (обязанности по возмещению причиненного вре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Чтобы избежать бе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7020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ь улицу только на зеленый сигнал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пропускать автомобили с включенными спецсигн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бегать проезжую часть улицы перед близко идущим транспо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я транспорт, стоять только на посадочных площадках или обоч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бходить стоящий автомобиль - это опасно. Подождать, пока он отъед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ть для посадки только после полной остановки  транспортного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т тротуара,  нужно идти по обочине дороги навстречу движущемуся транспор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429022"/>
          <p:cNvPicPr/>
          <p:nvPr/>
        </p:nvPicPr>
        <p:blipFill>
          <a:blip r:embed="rId1"/>
          <a:stretch/>
        </p:blipFill>
        <p:spPr>
          <a:xfrm>
            <a:off x="7234200" y="1484280"/>
            <a:ext cx="1693800" cy="20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лиц-опрос.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расшифровывается  ПП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и по запросу картинки пдд для школьников"/>
          <p:cNvPicPr/>
          <p:nvPr/>
        </p:nvPicPr>
        <p:blipFill>
          <a:blip r:embed="rId1"/>
          <a:stretch/>
        </p:blipFill>
        <p:spPr>
          <a:xfrm>
            <a:off x="2914560" y="2421000"/>
            <a:ext cx="3654360" cy="410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ульно-постов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1347393863_shtrafy-pdd-2012"/>
          <p:cNvPicPr/>
          <p:nvPr/>
        </p:nvPicPr>
        <p:blipFill>
          <a:blip r:embed="rId1"/>
          <a:stretch/>
        </p:blipFill>
        <p:spPr>
          <a:xfrm>
            <a:off x="1908000" y="2205000"/>
            <a:ext cx="5364360" cy="4002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го цвета верхний фонарь светоф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8-2"/>
          <p:cNvPicPr/>
          <p:nvPr/>
        </p:nvPicPr>
        <p:blipFill>
          <a:blip r:embed="rId1"/>
          <a:stretch/>
        </p:blipFill>
        <p:spPr>
          <a:xfrm>
            <a:off x="3851280" y="2349360"/>
            <a:ext cx="1523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зжая часть дороги с твердым покрыт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0" descr="BD05705_"/>
          <p:cNvPicPr/>
          <p:nvPr/>
        </p:nvPicPr>
        <p:blipFill>
          <a:blip r:embed="rId1"/>
          <a:stretch/>
        </p:blipFill>
        <p:spPr>
          <a:xfrm>
            <a:off x="1258920" y="2205000"/>
            <a:ext cx="69120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пересечения дор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j04414980000[1]"/>
          <p:cNvPicPr/>
          <p:nvPr/>
        </p:nvPicPr>
        <p:blipFill>
          <a:blip r:embed="rId1"/>
          <a:stretch/>
        </p:blipFill>
        <p:spPr>
          <a:xfrm>
            <a:off x="2700360" y="3108240"/>
            <a:ext cx="3384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кре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3" descr="Картинки по запросу картинки перекресток шоссе"/>
          <p:cNvPicPr/>
          <p:nvPr/>
        </p:nvPicPr>
        <p:blipFill>
          <a:blip r:embed="rId1"/>
          <a:stretch/>
        </p:blipFill>
        <p:spPr>
          <a:xfrm>
            <a:off x="2268360" y="2708280"/>
            <a:ext cx="4680000" cy="3505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ГИБД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савтоинспекция МВД России (ГИБДД) 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азделение в структуре МВД РФ, которое осуществляет контрольные, надзорные и разрешительные функции в области обеспечения безопасности дорожного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4360" y="197064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значает красный сигнал светофо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BD07303_"/>
          <p:cNvPicPr/>
          <p:nvPr/>
        </p:nvPicPr>
        <p:blipFill>
          <a:blip r:embed="rId1"/>
          <a:stretch/>
        </p:blipFill>
        <p:spPr>
          <a:xfrm>
            <a:off x="3348000" y="3314880"/>
            <a:ext cx="280836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п, движение запрещ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ческое устройство, несущее световую информацию, предназначенное  для регулирования движения механических транспортных средств, а также пешеходов на пешеходных переход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284720" y="324648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d659a1c95"/>
          <p:cNvPicPr/>
          <p:nvPr/>
        </p:nvPicPr>
        <p:blipFill>
          <a:blip r:embed="rId1"/>
          <a:stretch/>
        </p:blipFill>
        <p:spPr>
          <a:xfrm>
            <a:off x="3059280" y="2276640"/>
            <a:ext cx="3371760" cy="411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733400" y="24580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живая, а идет, не подвижна, а ве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TN01337_"/>
          <p:cNvPicPr/>
          <p:nvPr/>
        </p:nvPicPr>
        <p:blipFill>
          <a:blip r:embed="rId1"/>
          <a:stretch/>
        </p:blipFill>
        <p:spPr>
          <a:xfrm>
            <a:off x="1835280" y="2490840"/>
            <a:ext cx="58323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324160" y="235008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телефона «скорой помощ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D07293_"/>
          <p:cNvPicPr/>
          <p:nvPr/>
        </p:nvPicPr>
        <p:blipFill>
          <a:blip r:embed="rId1"/>
          <a:stretch/>
        </p:blipFill>
        <p:spPr>
          <a:xfrm>
            <a:off x="2484360" y="4005360"/>
            <a:ext cx="41054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HM00426_"/>
          <p:cNvPicPr/>
          <p:nvPr/>
        </p:nvPicPr>
        <p:blipFill>
          <a:blip r:embed="rId1"/>
          <a:stretch/>
        </p:blipFill>
        <p:spPr>
          <a:xfrm>
            <a:off x="3132000" y="3213000"/>
            <a:ext cx="3095640" cy="2719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11.gif"/>
          <p:cNvPicPr/>
          <p:nvPr/>
        </p:nvPicPr>
        <p:blipFill>
          <a:blip r:embed="rId2"/>
          <a:stretch/>
        </p:blipFill>
        <p:spPr>
          <a:xfrm>
            <a:off x="3633840" y="1481040"/>
            <a:ext cx="1938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030400" y="2196000"/>
            <a:ext cx="506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, где оставляют свой транспорт на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Картинки по запросу картинк стоянка авто"/>
          <p:cNvPicPr/>
          <p:nvPr/>
        </p:nvPicPr>
        <p:blipFill>
          <a:blip r:embed="rId1"/>
          <a:srcRect l="0" t="0" r="0" b="10946"/>
          <a:stretch/>
        </p:blipFill>
        <p:spPr>
          <a:xfrm>
            <a:off x="2268360" y="2492280"/>
            <a:ext cx="5472360" cy="32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Что такое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119700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ро́жно-тра́нспортное происшествие (ДТП)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событие, возникшее в процессе движения по дороге транспортного средства и с его участием, при котором погибли или пострадали люди, повреждены транспортные средства, сооружения, грузы, либо причинён иной материальный ущерб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D07198_"/>
          <p:cNvPicPr/>
          <p:nvPr/>
        </p:nvPicPr>
        <p:blipFill>
          <a:blip r:embed="rId1"/>
          <a:stretch/>
        </p:blipFill>
        <p:spPr>
          <a:xfrm>
            <a:off x="1908000" y="3081240"/>
            <a:ext cx="5759640" cy="34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197000"/>
          <a:ext cx="8291520" cy="492912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37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какого возраста детям разрешено ехать на переднем сиденье автомобил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2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Sova_dorzn"/>
          <p:cNvPicPr/>
          <p:nvPr/>
        </p:nvPicPr>
        <p:blipFill>
          <a:blip r:embed="rId1"/>
          <a:stretch/>
        </p:blipFill>
        <p:spPr>
          <a:xfrm>
            <a:off x="3132000" y="2781360"/>
            <a:ext cx="2881440" cy="2658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Классификация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кнов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окиды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стоящее транспортное сре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препя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пешехода на велосипедиста, на гужевой 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ые виды ДТП (происшествия, не относящиеся к указанным выше ви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20px-Japanese_car_accident"/>
          <p:cNvPicPr/>
          <p:nvPr/>
        </p:nvPicPr>
        <p:blipFill>
          <a:blip r:embed="rId1"/>
          <a:stretch/>
        </p:blipFill>
        <p:spPr>
          <a:xfrm>
            <a:off x="3059280" y="4724280"/>
            <a:ext cx="2950920" cy="1663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й светофор был установлен 10 декабря 1868  г.  в Лондоне возле здания Британского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е в истории зарегистрированное ДТП произошло 30 мая 1896 г. в Нью-Йорке: электромобиль Генри Уэлса столкнулся с велосипедом Эвелина Томаса,  велосипедист отделался переломом н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зымянный"/>
          <p:cNvPicPr/>
          <p:nvPr/>
        </p:nvPicPr>
        <p:blipFill>
          <a:blip r:embed="rId1"/>
          <a:stretch/>
        </p:blipFill>
        <p:spPr>
          <a:xfrm>
            <a:off x="2843280" y="3933720"/>
            <a:ext cx="3241440" cy="258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сновные факторы р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основные факторы риска  - это  незнание или  нарушение  ПДД,  эксплуатация неисправных транспортных средств,  неиспользование ремней безопасности пассажирами транспортных средств,  небрежное отношение к выполнению своих обязанностей водителей транспор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BD07273_"/>
          <p:cNvPicPr/>
          <p:nvPr/>
        </p:nvPicPr>
        <p:blipFill>
          <a:blip r:embed="rId1"/>
          <a:stretch/>
        </p:blipFill>
        <p:spPr>
          <a:xfrm>
            <a:off x="4788000" y="4797360"/>
            <a:ext cx="1815840" cy="118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BD07274_"/>
          <p:cNvPicPr/>
          <p:nvPr/>
        </p:nvPicPr>
        <p:blipFill>
          <a:blip r:embed="rId2"/>
          <a:stretch/>
        </p:blipFill>
        <p:spPr>
          <a:xfrm flipH="1">
            <a:off x="2843280" y="4724280"/>
            <a:ext cx="2016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неприятные часы для встречи с пешеходами — с 12 до 20 час.  На эти часы приходится максимальное количество пострадавших в  дорожных ава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111480" y="404640"/>
            <a:ext cx="36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ремя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kuku"/>
          <p:cNvPicPr/>
          <p:nvPr/>
        </p:nvPicPr>
        <p:blipFill>
          <a:blip r:embed="rId1"/>
          <a:stretch/>
        </p:blipFill>
        <p:spPr>
          <a:xfrm>
            <a:off x="2425680" y="2637000"/>
            <a:ext cx="139068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D07261_"/>
          <p:cNvPicPr/>
          <p:nvPr/>
        </p:nvPicPr>
        <p:blipFill>
          <a:blip r:embed="rId2"/>
          <a:stretch/>
        </p:blipFill>
        <p:spPr>
          <a:xfrm>
            <a:off x="3059280" y="3429000"/>
            <a:ext cx="38163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к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ТП являются самой опасной угрозой здоровью и жизни людей во всём мире. Ущерб от дорожно-транспортных происшествий превышает ущерб от всех иных транспортных происшествий (самолётов, кораблей, поездов, и т. п.) вместе взятых. ДТП являются одной из важнейших мировых угроз здоровью и жизни людей. Проблема усугубляется и тем, что пострадавшие в авариях — как правило, молодые и здоровые (до аварии) люди. По данным ВОЗ, в мире ежегодно в дорожных авариях погибают 1,2 млн. человек и около 50 млн. получают травмы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по запросу картинки пдд для школьников"/>
          <p:cNvPicPr/>
          <p:nvPr/>
        </p:nvPicPr>
        <p:blipFill>
          <a:blip r:embed="rId1"/>
          <a:stretch/>
        </p:blipFill>
        <p:spPr>
          <a:xfrm>
            <a:off x="3564000" y="4221000"/>
            <a:ext cx="2171520" cy="21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роцентные показатели ДТП 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нарушения ПДД водителями транспортных средств — 85 % (в том числе находившимися в состоянии опьян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нарушения ПДД пешеходами — 20,15 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неудовлетворительного состояния улиц и дорог — 20,99 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эксплуатации технически неисправных транспортных средств — 0,57 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BD06759_"/>
          <p:cNvPicPr/>
          <p:nvPr/>
        </p:nvPicPr>
        <p:blipFill>
          <a:blip r:embed="rId1"/>
          <a:stretch/>
        </p:blipFill>
        <p:spPr>
          <a:xfrm>
            <a:off x="7385040" y="1700280"/>
            <a:ext cx="175896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BD07285_"/>
          <p:cNvPicPr/>
          <p:nvPr/>
        </p:nvPicPr>
        <p:blipFill>
          <a:blip r:embed="rId2"/>
          <a:stretch/>
        </p:blipFill>
        <p:spPr>
          <a:xfrm>
            <a:off x="7164360" y="2637000"/>
            <a:ext cx="1592280" cy="84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BD07290_"/>
          <p:cNvPicPr/>
          <p:nvPr/>
        </p:nvPicPr>
        <p:blipFill>
          <a:blip r:embed="rId3"/>
          <a:stretch/>
        </p:blipFill>
        <p:spPr>
          <a:xfrm>
            <a:off x="7451640" y="3573360"/>
            <a:ext cx="10080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5:44:22Z</dcterms:created>
  <dc:creator>Admin</dc:creator>
  <dc:description/>
  <dc:language>en-US</dc:language>
  <cp:lastModifiedBy>Пользователь</cp:lastModifiedBy>
  <dcterms:modified xsi:type="dcterms:W3CDTF">2015-11-17T05:39:00Z</dcterms:modified>
  <cp:revision>55</cp:revision>
  <dc:subject/>
  <dc:title>ПДД</dc:title>
</cp:coreProperties>
</file>