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13.jpeg" ContentType="image/jpeg"/>
  <Override PartName="/ppt/media/image8.jpeg" ContentType="image/jpeg"/>
  <Override PartName="/ppt/media/image7.wmf" ContentType="image/x-wmf"/>
  <Override PartName="/ppt/media/image9.wmf" ContentType="image/x-wmf"/>
  <Override PartName="/ppt/media/image6.gif" ContentType="image/gif"/>
  <Override PartName="/ppt/media/image12.jpeg" ContentType="image/jpeg"/>
  <Override PartName="/ppt/media/image10.wmf" ContentType="image/x-wmf"/>
  <Override PartName="/ppt/media/image25.jpeg" ContentType="image/jpeg"/>
  <Override PartName="/ppt/media/image5.wmf" ContentType="image/x-wmf"/>
  <Override PartName="/ppt/media/image4.wmf" ContentType="image/x-wmf"/>
  <Override PartName="/ppt/media/image2.jpeg" ContentType="image/jpeg"/>
  <Override PartName="/ppt/media/image26.jpeg" ContentType="image/jpeg"/>
  <Override PartName="/ppt/media/image24.png" ContentType="image/png"/>
  <Override PartName="/ppt/media/image23.wmf" ContentType="image/x-wmf"/>
  <Override PartName="/ppt/media/image22.wmf" ContentType="image/x-wmf"/>
  <Override PartName="/ppt/media/image18.jpeg" ContentType="image/jpeg"/>
  <Override PartName="/ppt/media/image21.wmf" ContentType="image/x-wmf"/>
  <Override PartName="/ppt/media/image19.wmf" ContentType="image/x-wmf"/>
  <Override PartName="/ppt/media/image1.wmf" ContentType="image/x-wmf"/>
  <Override PartName="/ppt/media/image17.png" ContentType="image/png"/>
  <Override PartName="/ppt/media/image14.jpeg" ContentType="image/jpeg"/>
  <Override PartName="/ppt/media/image16.wmf" ContentType="image/x-wmf"/>
  <Override PartName="/ppt/media/image15.gif" ContentType="image/gif"/>
  <Override PartName="/ppt/media/image2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CCE6-7F9C-419E-BB94-28132FC0D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F8CB-2ED0-44E2-8A3B-EA41F401B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1480-257C-4540-86FC-2A3CFF219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26DC-DD6A-43F2-AF7A-6D29942B1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5AE1-9A92-45CC-B7DA-914E34428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4637-D04E-438B-BE4C-822A6EBE2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2EB2-DB52-4E68-AA29-6B2AF105F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6E5C-40B9-448D-AC4A-ADDAC849C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A34B-87F7-48A4-BE4A-7D82DB919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43B0-EFB8-4FAD-A39C-FAFB2DA17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F7F4-DEF7-4B39-89FD-017C8B476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F825-C48B-4CA8-BC7D-685799E4E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7B1C5-18B1-42D8-9E29-80E2E6B7F3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97000"/>
            <a:ext cx="7772400" cy="24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ПДД:  за безопасность движения на дорог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3640" y="3886200"/>
            <a:ext cx="83516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Ответственность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головная или административная ответственность водителя возникает в тех случаях, когда в  его действиях имеется состав административного правонарушения, либо преступления (как правило, совершенного по неосторожности). Как в первом, так и во втором случае могут возникать основания для гражданско-правовой ответственности (обязанности по возмещению причиненного вред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Чтобы избежать бед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70200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-28008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ходить улицу только на зеленый сигнал светоф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гда пропускать автомобили с включенными спецсигнал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перебегать проезжую часть улицы перед близко идущим транспор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жидая транспорт, стоять только на посадочных площадках или обочи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обходить стоящий автомобиль - это опасно. Подождать, пока он отъед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ходить для посадки только после полной остановки  транспортного сред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нет тротуара,  нужно идти по обочине дороги навстречу движущемуся транспорт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spcBef>
                <a:spcPts val="12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0" descr="429022"/>
          <p:cNvPicPr/>
          <p:nvPr/>
        </p:nvPicPr>
        <p:blipFill>
          <a:blip r:embed="rId1"/>
          <a:stretch/>
        </p:blipFill>
        <p:spPr>
          <a:xfrm>
            <a:off x="7234200" y="1484280"/>
            <a:ext cx="1693800" cy="20160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Блиц-опрос. </a:t>
            </a:r>
            <a:br>
              <a:rPr sz="4000"/>
            </a:b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Вопрос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расшифровывается  ППС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Картинки по запросу картинки пдд для школьников"/>
          <p:cNvPicPr/>
          <p:nvPr/>
        </p:nvPicPr>
        <p:blipFill>
          <a:blip r:embed="rId1"/>
          <a:stretch/>
        </p:blipFill>
        <p:spPr>
          <a:xfrm>
            <a:off x="2914560" y="2421000"/>
            <a:ext cx="3654360" cy="41036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Ответ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91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трульно-постовая служ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1347393863_shtrafy-pdd-2012"/>
          <p:cNvPicPr/>
          <p:nvPr/>
        </p:nvPicPr>
        <p:blipFill>
          <a:blip r:embed="rId1"/>
          <a:stretch/>
        </p:blipFill>
        <p:spPr>
          <a:xfrm>
            <a:off x="1908000" y="2205000"/>
            <a:ext cx="5364360" cy="40021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Вопрос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ого цвета верхний фонарь светофор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Ответ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ас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38-2"/>
          <p:cNvPicPr/>
          <p:nvPr/>
        </p:nvPicPr>
        <p:blipFill>
          <a:blip r:embed="rId1"/>
          <a:stretch/>
        </p:blipFill>
        <p:spPr>
          <a:xfrm>
            <a:off x="3851280" y="2349360"/>
            <a:ext cx="15238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Вопрос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езжая часть дороги с твердым покрытие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ос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9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0" descr="BD05705_"/>
          <p:cNvPicPr/>
          <p:nvPr/>
        </p:nvPicPr>
        <p:blipFill>
          <a:blip r:embed="rId1"/>
          <a:stretch/>
        </p:blipFill>
        <p:spPr>
          <a:xfrm>
            <a:off x="1258920" y="2205000"/>
            <a:ext cx="6912000" cy="42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Вопрос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сто пересечения доро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MCj04414980000[1]"/>
          <p:cNvPicPr/>
          <p:nvPr/>
        </p:nvPicPr>
        <p:blipFill>
          <a:blip r:embed="rId1"/>
          <a:stretch/>
        </p:blipFill>
        <p:spPr>
          <a:xfrm>
            <a:off x="2700360" y="3108240"/>
            <a:ext cx="338436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крес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2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3" descr="Картинки по запросу картинки перекресток шоссе"/>
          <p:cNvPicPr/>
          <p:nvPr/>
        </p:nvPicPr>
        <p:blipFill>
          <a:blip r:embed="rId1"/>
          <a:stretch/>
        </p:blipFill>
        <p:spPr>
          <a:xfrm>
            <a:off x="2268360" y="2708280"/>
            <a:ext cx="4680000" cy="35053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9152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ГИБД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Госавтоинспекция МВД России (ГИБДД) —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дразделение в структуре МВД РФ, которое осуществляет контрольные, надзорные и разрешительные функции в области обеспечения безопасности дорожного движ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Вопрос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684360" y="1970640"/>
            <a:ext cx="81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означает красный сигнал светофора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BD07303_"/>
          <p:cNvPicPr/>
          <p:nvPr/>
        </p:nvPicPr>
        <p:blipFill>
          <a:blip r:embed="rId1"/>
          <a:stretch/>
        </p:blipFill>
        <p:spPr>
          <a:xfrm>
            <a:off x="3348000" y="3314880"/>
            <a:ext cx="2808360" cy="27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оп, движение запреще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Вопрос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тическое устройство, несущее световую информацию, предназначенное  для регулирования движения механических транспортных средств, а также пешеходов на пешеходных переход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4284720" y="3246480"/>
            <a:ext cx="244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49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етоф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dd659a1c95"/>
          <p:cNvPicPr/>
          <p:nvPr/>
        </p:nvPicPr>
        <p:blipFill>
          <a:blip r:embed="rId1"/>
          <a:stretch/>
        </p:blipFill>
        <p:spPr>
          <a:xfrm>
            <a:off x="3059280" y="2276640"/>
            <a:ext cx="3371760" cy="41162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Вопрос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1733400" y="2458080"/>
            <a:ext cx="542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 живая, а идет, не подвижна, а вед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р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8" descr="TN01337_"/>
          <p:cNvPicPr/>
          <p:nvPr/>
        </p:nvPicPr>
        <p:blipFill>
          <a:blip r:embed="rId1"/>
          <a:stretch/>
        </p:blipFill>
        <p:spPr>
          <a:xfrm>
            <a:off x="1835280" y="2490840"/>
            <a:ext cx="5832360" cy="39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Вопрос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2324160" y="2350080"/>
            <a:ext cx="455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9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мер телефона «скорой помощи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7" descr="BD07293_"/>
          <p:cNvPicPr/>
          <p:nvPr/>
        </p:nvPicPr>
        <p:blipFill>
          <a:blip r:embed="rId1"/>
          <a:stretch/>
        </p:blipFill>
        <p:spPr>
          <a:xfrm>
            <a:off x="2484360" y="4005360"/>
            <a:ext cx="4105440" cy="22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HM00426_"/>
          <p:cNvPicPr/>
          <p:nvPr/>
        </p:nvPicPr>
        <p:blipFill>
          <a:blip r:embed="rId1"/>
          <a:stretch/>
        </p:blipFill>
        <p:spPr>
          <a:xfrm>
            <a:off x="3132000" y="3213000"/>
            <a:ext cx="3095640" cy="271944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9" descr="11.gif"/>
          <p:cNvPicPr/>
          <p:nvPr/>
        </p:nvPicPr>
        <p:blipFill>
          <a:blip r:embed="rId2"/>
          <a:stretch/>
        </p:blipFill>
        <p:spPr>
          <a:xfrm>
            <a:off x="3633840" y="1481040"/>
            <a:ext cx="193824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Вопрос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2030400" y="2196000"/>
            <a:ext cx="506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сто, где оставляют свой транспорт на врем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оя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7" descr="Картинки по запросу картинк стоянка авто"/>
          <p:cNvPicPr/>
          <p:nvPr/>
        </p:nvPicPr>
        <p:blipFill>
          <a:blip r:embed="rId1"/>
          <a:srcRect l="0" t="0" r="0" b="10946"/>
          <a:stretch/>
        </p:blipFill>
        <p:spPr>
          <a:xfrm>
            <a:off x="2268360" y="2492280"/>
            <a:ext cx="5472360" cy="32432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Что такое ДТ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250920" y="1197000"/>
            <a:ext cx="856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Доро́жно-тра́нспортное происшествие (ДТП)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событие, возникшее в процессе движения по дороге транспортного средства и с его участием, при котором погибли или пострадали люди, повреждены транспортные средства, сооружения, грузы, либо причинён иной материальный ущерб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BD07198_"/>
          <p:cNvPicPr/>
          <p:nvPr/>
        </p:nvPicPr>
        <p:blipFill>
          <a:blip r:embed="rId1"/>
          <a:stretch/>
        </p:blipFill>
        <p:spPr>
          <a:xfrm>
            <a:off x="1908000" y="3081240"/>
            <a:ext cx="5759640" cy="34718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Вопрос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395280" y="1197000"/>
          <a:ext cx="8291520" cy="4929120"/>
        </p:xfrm>
        <a:graphic>
          <a:graphicData uri="http://schemas.openxmlformats.org/drawingml/2006/table">
            <a:tbl>
              <a:tblPr/>
              <a:tblGrid>
                <a:gridCol w="8291520"/>
              </a:tblGrid>
              <a:tr h="3736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какого возраста детям разрешено ехать на переднем сиденье автомобиля?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2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12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7" descr="Sova_dorzn"/>
          <p:cNvPicPr/>
          <p:nvPr/>
        </p:nvPicPr>
        <p:blipFill>
          <a:blip r:embed="rId1"/>
          <a:stretch/>
        </p:blipFill>
        <p:spPr>
          <a:xfrm>
            <a:off x="3132000" y="2781360"/>
            <a:ext cx="2881440" cy="26589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Классификация ДТ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олкнов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окидыв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езд на стоящее транспортное сред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езд на препятств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езд на пешехода на велосипедиста, на гужевой транспор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езд на животн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ые виды ДТП (происшествия, не относящиеся к указанным выше вида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220px-Japanese_car_accident"/>
          <p:cNvPicPr/>
          <p:nvPr/>
        </p:nvPicPr>
        <p:blipFill>
          <a:blip r:embed="rId1"/>
          <a:stretch/>
        </p:blipFill>
        <p:spPr>
          <a:xfrm>
            <a:off x="3059280" y="4724280"/>
            <a:ext cx="2950920" cy="16639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Из истор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-й светофор был установлен 10 декабря 1868  г.  в Лондоне возле здания Британского парламе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-е в истории зарегистрированное ДТП произошло 30 мая 1896 г. в Нью-Йорке: электромобиль Генри Уэлса столкнулся с велосипедом Эвелина Томаса,  велосипедист отделался переломом ног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Безымянный"/>
          <p:cNvPicPr/>
          <p:nvPr/>
        </p:nvPicPr>
        <p:blipFill>
          <a:blip r:embed="rId1"/>
          <a:stretch/>
        </p:blipFill>
        <p:spPr>
          <a:xfrm>
            <a:off x="2843280" y="3933720"/>
            <a:ext cx="3241440" cy="25876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Основные факторы рис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79930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годня основные факторы риска  - это  незнание или  нарушение  ПДД,  эксплуатация неисправных транспортных средств,  неиспользование ремней безопасности пассажирами транспортных средств,  небрежное отношение к выполнению своих обязанностей водителей транспортных средст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BD07273_"/>
          <p:cNvPicPr/>
          <p:nvPr/>
        </p:nvPicPr>
        <p:blipFill>
          <a:blip r:embed="rId1"/>
          <a:stretch/>
        </p:blipFill>
        <p:spPr>
          <a:xfrm>
            <a:off x="4788000" y="4797360"/>
            <a:ext cx="1815840" cy="1181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BD07274_"/>
          <p:cNvPicPr/>
          <p:nvPr/>
        </p:nvPicPr>
        <p:blipFill>
          <a:blip r:embed="rId2"/>
          <a:stretch/>
        </p:blipFill>
        <p:spPr>
          <a:xfrm flipH="1">
            <a:off x="2843280" y="4724280"/>
            <a:ext cx="2016000" cy="13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250560" y="1125000"/>
            <a:ext cx="84358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ые неприятные часы для встречи с пешеходами — с 12 до 20 час.  На эти часы приходится максимальное количество пострадавших в  дорожных авария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3111480" y="404640"/>
            <a:ext cx="369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Время ДТ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kuku"/>
          <p:cNvPicPr/>
          <p:nvPr/>
        </p:nvPicPr>
        <p:blipFill>
          <a:blip r:embed="rId1"/>
          <a:stretch/>
        </p:blipFill>
        <p:spPr>
          <a:xfrm>
            <a:off x="2425680" y="2637000"/>
            <a:ext cx="1390680" cy="1512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BD07261_"/>
          <p:cNvPicPr/>
          <p:nvPr/>
        </p:nvPicPr>
        <p:blipFill>
          <a:blip r:embed="rId2"/>
          <a:stretch/>
        </p:blipFill>
        <p:spPr>
          <a:xfrm>
            <a:off x="3059280" y="3429000"/>
            <a:ext cx="381636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Оказывает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ТП являются самой опасной угрозой здоровью и жизни людей во всём мире. Ущерб от дорожно-транспортных происшествий превышает ущерб от всех иных транспортных происшествий (самолётов, кораблей, поездов, и т. п.) вместе взятых. ДТП являются одной из важнейших мировых угроз здоровью и жизни людей. Проблема усугубляется и тем, что пострадавшие в авариях — как правило, молодые и здоровые (до аварии) люди. По данным ВОЗ, в мире ежегодно в дорожных авариях погибают 1,2 млн. человек и около 50 млн. получают травмы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Картинки по запросу картинки пдд для школьников"/>
          <p:cNvPicPr/>
          <p:nvPr/>
        </p:nvPicPr>
        <p:blipFill>
          <a:blip r:embed="rId1"/>
          <a:stretch/>
        </p:blipFill>
        <p:spPr>
          <a:xfrm>
            <a:off x="3564000" y="4221000"/>
            <a:ext cx="2171520" cy="21052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Процентные показатели ДТП 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4920" y="1600200"/>
            <a:ext cx="699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-за нарушения ПДД водителями транспортных средств — 85 % (в том числе находившимися в состоянии опьянения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-за нарушения ПДД пешеходами — 20,15 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-за неудовлетворительного состояния улиц и дорог — 20,99 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-за эксплуатации технически неисправных транспортных средств — 0,57 %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2" descr="BD06759_"/>
          <p:cNvPicPr/>
          <p:nvPr/>
        </p:nvPicPr>
        <p:blipFill>
          <a:blip r:embed="rId1"/>
          <a:stretch/>
        </p:blipFill>
        <p:spPr>
          <a:xfrm>
            <a:off x="7385040" y="1700280"/>
            <a:ext cx="1758960" cy="828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8" descr="BD07285_"/>
          <p:cNvPicPr/>
          <p:nvPr/>
        </p:nvPicPr>
        <p:blipFill>
          <a:blip r:embed="rId2"/>
          <a:stretch/>
        </p:blipFill>
        <p:spPr>
          <a:xfrm>
            <a:off x="7164360" y="2637000"/>
            <a:ext cx="1592280" cy="844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9" descr="BD07290_"/>
          <p:cNvPicPr/>
          <p:nvPr/>
        </p:nvPicPr>
        <p:blipFill>
          <a:blip r:embed="rId3"/>
          <a:stretch/>
        </p:blipFill>
        <p:spPr>
          <a:xfrm>
            <a:off x="7451640" y="3573360"/>
            <a:ext cx="1008000" cy="9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4T15:44:22Z</dcterms:created>
  <dc:creator>Admin</dc:creator>
  <dc:description/>
  <dc:language>en-US</dc:language>
  <cp:lastModifiedBy>Пользователь</cp:lastModifiedBy>
  <dcterms:modified xsi:type="dcterms:W3CDTF">2015-11-17T05:39:00Z</dcterms:modified>
  <cp:revision>55</cp:revision>
  <dc:subject/>
  <dc:title>ПДД</dc:title>
</cp:coreProperties>
</file>