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0C5A2-765F-4614-8729-5F7C0D41A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262D6-B1BA-484D-87CA-B62EA2392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52701-42FE-4E5D-BC86-46DDFF82A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176EC-DAEA-44D3-B668-1CC0854E8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6BD31-5534-4D9F-B04E-487B8128D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AA2CD-BC30-4A65-9EE0-8C8116107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F0E37-B732-4EFF-85FC-135D689C8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E24E6-BF19-4AEA-81D5-C248F193E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037E0-6A3A-4194-813F-4E27C4C31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6C665-144C-4EA3-A3FD-D01690FFD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A2CE6-0C12-4F6A-BEE9-93FEBF024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18FC3-EDAB-425C-B846-39C2EAF37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F7D39-4181-46E0-B5DF-A1B29295CB5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wallpapers_ru_030207_elle_pearl_of_se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26920" y="51577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Правила поведения </a:t>
            </a:r>
            <a:br>
              <a:rPr sz="4800"/>
            </a:b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у водоёмов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5364000" cy="22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Arial"/>
              </a:rPr>
              <a:t>Не оставляйте мусор на берегу реки и не бросайте мусор в вод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7" descr="Изображение 008"/>
          <p:cNvPicPr/>
          <p:nvPr/>
        </p:nvPicPr>
        <p:blipFill>
          <a:blip r:embed="rId1"/>
          <a:srcRect l="3859" t="8120" r="69697" b="52033"/>
          <a:stretch/>
        </p:blipFill>
        <p:spPr>
          <a:xfrm>
            <a:off x="826920" y="2827440"/>
            <a:ext cx="3927600" cy="40305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8" descr="Изображение 001"/>
          <p:cNvPicPr/>
          <p:nvPr/>
        </p:nvPicPr>
        <p:blipFill>
          <a:blip r:embed="rId2"/>
          <a:stretch/>
        </p:blipFill>
        <p:spPr>
          <a:xfrm>
            <a:off x="5513400" y="0"/>
            <a:ext cx="3630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219280" y="274680"/>
            <a:ext cx="3467160" cy="164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Arial"/>
              </a:rPr>
              <a:t>Не ловите обитателей водоём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7" descr="Изображение 008"/>
          <p:cNvPicPr/>
          <p:nvPr/>
        </p:nvPicPr>
        <p:blipFill>
          <a:blip r:embed="rId1"/>
          <a:srcRect l="58422" t="12642" r="9250" b="58538"/>
          <a:stretch/>
        </p:blipFill>
        <p:spPr>
          <a:xfrm>
            <a:off x="5148360" y="2637000"/>
            <a:ext cx="3995640" cy="31654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8" descr="Изображение 003"/>
          <p:cNvPicPr/>
          <p:nvPr/>
        </p:nvPicPr>
        <p:blipFill>
          <a:blip r:embed="rId2"/>
          <a:srcRect l="2209" t="0" r="54825" b="12215"/>
          <a:stretch/>
        </p:blipFill>
        <p:spPr>
          <a:xfrm>
            <a:off x="0" y="0"/>
            <a:ext cx="5014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476280"/>
            <a:ext cx="3538440" cy="193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Arial"/>
              </a:rPr>
              <a:t>Не рвите водные цвет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7" descr="Изображение 008"/>
          <p:cNvPicPr/>
          <p:nvPr/>
        </p:nvPicPr>
        <p:blipFill>
          <a:blip r:embed="rId1"/>
          <a:srcRect l="5156" t="61378" r="56256" b="4404"/>
          <a:stretch/>
        </p:blipFill>
        <p:spPr>
          <a:xfrm>
            <a:off x="4140360" y="189000"/>
            <a:ext cx="4784400" cy="31924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8" descr="Изображение 005"/>
          <p:cNvPicPr/>
          <p:nvPr/>
        </p:nvPicPr>
        <p:blipFill>
          <a:blip r:embed="rId2"/>
          <a:stretch/>
        </p:blipFill>
        <p:spPr>
          <a:xfrm>
            <a:off x="0" y="3233880"/>
            <a:ext cx="6804000" cy="36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0" y="549000"/>
            <a:ext cx="4402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Arial"/>
              </a:rPr>
              <a:t>Не мойте велосипед в ре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7" descr="Изображение 008"/>
          <p:cNvPicPr/>
          <p:nvPr/>
        </p:nvPicPr>
        <p:blipFill>
          <a:blip r:embed="rId1"/>
          <a:srcRect l="56144" t="61193" r="3952" b="5931"/>
          <a:stretch/>
        </p:blipFill>
        <p:spPr>
          <a:xfrm>
            <a:off x="179280" y="189000"/>
            <a:ext cx="4321440" cy="30240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8" descr="Изображение 001"/>
          <p:cNvPicPr/>
          <p:nvPr/>
        </p:nvPicPr>
        <p:blipFill>
          <a:blip r:embed="rId2"/>
          <a:stretch/>
        </p:blipFill>
        <p:spPr>
          <a:xfrm>
            <a:off x="3780000" y="2457360"/>
            <a:ext cx="5364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219280" y="274320"/>
            <a:ext cx="3467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Arial"/>
              </a:rPr>
              <a:t>Не обижайте зме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7" descr="Изображение 009"/>
          <p:cNvPicPr/>
          <p:nvPr/>
        </p:nvPicPr>
        <p:blipFill>
          <a:blip r:embed="rId1"/>
          <a:stretch/>
        </p:blipFill>
        <p:spPr>
          <a:xfrm>
            <a:off x="5076720" y="1773360"/>
            <a:ext cx="4067280" cy="3240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8" descr="Изображение 003"/>
          <p:cNvPicPr/>
          <p:nvPr/>
        </p:nvPicPr>
        <p:blipFill>
          <a:blip r:embed="rId2"/>
          <a:srcRect l="53141" t="0" r="3893" b="12215"/>
          <a:stretch/>
        </p:blipFill>
        <p:spPr>
          <a:xfrm>
            <a:off x="0" y="0"/>
            <a:ext cx="5014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4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1T18:38:01Z</dcterms:created>
  <dc:creator>Admin</dc:creator>
  <dc:description/>
  <dc:language>en-US</dc:language>
  <cp:lastModifiedBy>XTreme</cp:lastModifiedBy>
  <dcterms:modified xsi:type="dcterms:W3CDTF">2010-05-13T07:37:46Z</dcterms:modified>
  <cp:revision>8</cp:revision>
  <dc:subject/>
  <dc:title>Правила поведения  у водоёмов</dc:title>
</cp:coreProperties>
</file>