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8A57-4D31-4898-8AD5-B08AB934E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24A8-A74E-4618-87D6-2D931B2A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0497-D8BE-41E1-8EC3-6A45BFECD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0873-3AB4-43B9-9E75-FE7426764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590CB-F8B8-437F-B46B-4C1DDDD8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4DD20-E18E-499C-9D4C-B7464882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76226-8BAA-4B81-975B-3733992F0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3C3D5-9AA2-4EC9-A0DA-556F2309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5C8CD7-0351-4D6B-A6CB-8AC0B45A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A29422-76C2-4A34-B355-528A2C60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AD0FE-F813-4565-95EC-DD628898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797E-D413-4A56-9EAF-E8D720CC2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7A83A-3CBB-4C52-8BA2-0B1CFE35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B9A6F-DA28-426A-AFFC-9CB879E2D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311B7-52AE-4BEB-93A2-79836E3E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1D4DB-124E-4875-9572-24B6E467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16F7E-486A-4769-A454-66D1B2534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38D0-D028-4B01-B89D-75C9FC4C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1B46-C22B-4215-ADDD-95CD230E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0FEB-4FA7-4003-96BD-D4535662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13AE-C8BF-420E-9784-CF2CD692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212D-F2D7-4F49-883B-18D30084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1FF1-1133-4F7A-B3AD-4927DF6B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5872-DBA2-46C1-8727-BFD9E293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33cc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E9C1C-0127-4D55-9C57-28455CCD8A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cccc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cc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33cc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8AC4-645B-43A8-82A0-7E0573E24C8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juliaaa.mindmix.ru/i/users/73/3173/3173/2406/DSC02595.jpeg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954000"/>
            <a:ext cx="9036000" cy="17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eaeaea"/>
              </a:solidFill>
              <a:latin typeface="Century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23640" y="2204640"/>
            <a:ext cx="8569080" cy="18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Правила поведения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Arial"/>
              </a:rPr>
              <a:t>у водоёмов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108000" y="6021360"/>
            <a:ext cx="903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е мойте машины на берегу и на мелководье (загрязнители попадут в воду и вызовут нарушения многих процессов в водоёме)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6" descr="post-9-1059541644"/>
          <p:cNvPicPr/>
          <p:nvPr/>
        </p:nvPicPr>
        <p:blipFill>
          <a:blip r:embed="rId1"/>
          <a:stretch/>
        </p:blipFill>
        <p:spPr>
          <a:xfrm>
            <a:off x="179280" y="476280"/>
            <a:ext cx="5256360" cy="3483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1(556)"/>
          <p:cNvPicPr/>
          <p:nvPr/>
        </p:nvPicPr>
        <p:blipFill>
          <a:blip r:embed="rId2"/>
          <a:stretch/>
        </p:blipFill>
        <p:spPr>
          <a:xfrm>
            <a:off x="5580000" y="2708280"/>
            <a:ext cx="3313080" cy="2467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9"/>
          <p:cNvSpPr/>
          <p:nvPr/>
        </p:nvSpPr>
        <p:spPr>
          <a:xfrm>
            <a:off x="5508720" y="1052640"/>
            <a:ext cx="352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е споласкивайте канистры из-под бензина в водоёме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376200" y="20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250920" y="5661000"/>
            <a:ext cx="88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е рвите белые кувшинки, жёлтые кубышки и другие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растения, растущие в водоёме, они являются  украшением водоёма и необходимы другим водным  обитателям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7" descr="9"/>
          <p:cNvPicPr/>
          <p:nvPr/>
        </p:nvPicPr>
        <p:blipFill>
          <a:blip r:embed="rId1"/>
          <a:stretch/>
        </p:blipFill>
        <p:spPr>
          <a:xfrm>
            <a:off x="1547640" y="189000"/>
            <a:ext cx="6481800" cy="4849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vol-rak-osen-img_0162_m"/>
          <p:cNvPicPr/>
          <p:nvPr/>
        </p:nvPicPr>
        <p:blipFill>
          <a:blip r:embed="rId1"/>
          <a:stretch/>
        </p:blipFill>
        <p:spPr>
          <a:xfrm>
            <a:off x="250920" y="260280"/>
            <a:ext cx="3846240" cy="5135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Присоединённое изображение"/>
          <p:cNvPicPr/>
          <p:nvPr/>
        </p:nvPicPr>
        <p:blipFill>
          <a:blip r:embed="rId2"/>
          <a:stretch/>
        </p:blipFill>
        <p:spPr>
          <a:xfrm>
            <a:off x="4284720" y="1557360"/>
            <a:ext cx="4651200" cy="34894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8"/>
          <p:cNvSpPr/>
          <p:nvPr/>
        </p:nvSpPr>
        <p:spPr>
          <a:xfrm>
            <a:off x="1901160" y="6237360"/>
            <a:ext cx="540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е лови раков и двустворчатых моллюсков!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101_zavoloka"/>
          <p:cNvPicPr/>
          <p:nvPr/>
        </p:nvPicPr>
        <p:blipFill>
          <a:blip r:embed="rId1"/>
          <a:stretch/>
        </p:blipFill>
        <p:spPr>
          <a:xfrm>
            <a:off x="395280" y="549360"/>
            <a:ext cx="4032360" cy="3136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f_5993425"/>
          <p:cNvPicPr/>
          <p:nvPr/>
        </p:nvPicPr>
        <p:blipFill>
          <a:blip r:embed="rId2"/>
          <a:stretch/>
        </p:blipFill>
        <p:spPr>
          <a:xfrm>
            <a:off x="4788000" y="463680"/>
            <a:ext cx="3844800" cy="51260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8"/>
          <p:cNvSpPr/>
          <p:nvPr/>
        </p:nvSpPr>
        <p:spPr>
          <a:xfrm>
            <a:off x="324000" y="5950080"/>
            <a:ext cx="862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е пейте сырую воду из незнакомых источников – там могут быть болезнетворные микроорганизмы и вредные для здоровья вещества.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DSC0259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36960" y="2763720"/>
            <a:ext cx="4056120" cy="3041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photo52"/>
          <p:cNvPicPr/>
          <p:nvPr/>
        </p:nvPicPr>
        <p:blipFill>
          <a:blip r:embed="rId3"/>
          <a:stretch/>
        </p:blipFill>
        <p:spPr>
          <a:xfrm>
            <a:off x="179280" y="260280"/>
            <a:ext cx="4321440" cy="32320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8"/>
          <p:cNvSpPr/>
          <p:nvPr/>
        </p:nvSpPr>
        <p:spPr>
          <a:xfrm>
            <a:off x="2196000" y="6093000"/>
            <a:ext cx="47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Береги лягушек и головастиков!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IMG_1127"/>
          <p:cNvPicPr/>
          <p:nvPr/>
        </p:nvPicPr>
        <p:blipFill>
          <a:blip r:embed="rId1"/>
          <a:stretch/>
        </p:blipFill>
        <p:spPr>
          <a:xfrm>
            <a:off x="1187280" y="223920"/>
            <a:ext cx="6951960" cy="57261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3274920" y="6308640"/>
            <a:ext cx="218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е лови стрекоз!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сачок стрекоза"/>
          <p:cNvPicPr/>
          <p:nvPr/>
        </p:nvPicPr>
        <p:blipFill>
          <a:blip r:embed="rId1"/>
          <a:stretch/>
        </p:blipFill>
        <p:spPr>
          <a:xfrm>
            <a:off x="1116000" y="260280"/>
            <a:ext cx="6337440" cy="63374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50156536"/>
          <p:cNvPicPr/>
          <p:nvPr/>
        </p:nvPicPr>
        <p:blipFill>
          <a:blip r:embed="rId1"/>
          <a:stretch/>
        </p:blipFill>
        <p:spPr>
          <a:xfrm>
            <a:off x="395280" y="260280"/>
            <a:ext cx="8375760" cy="55800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23" name="Text Box 6"/>
          <p:cNvSpPr/>
          <p:nvPr/>
        </p:nvSpPr>
        <p:spPr>
          <a:xfrm>
            <a:off x="1731240" y="6362640"/>
            <a:ext cx="48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е разрушай жилища ондатр и бобров!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kem17"/>
          <p:cNvPicPr/>
          <p:nvPr/>
        </p:nvPicPr>
        <p:blipFill>
          <a:blip r:embed="rId1"/>
          <a:stretch/>
        </p:blipFill>
        <p:spPr>
          <a:xfrm>
            <a:off x="179280" y="189000"/>
            <a:ext cx="5256360" cy="394344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250920" y="54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0" y="5896080"/>
            <a:ext cx="90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е вылавливайте рыбы больше, чем 5 кг за сутки. Эта норма установлена для сохранения численности рыб в водоёмах.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10" descr="3805"/>
          <p:cNvPicPr/>
          <p:nvPr/>
        </p:nvPicPr>
        <p:blipFill>
          <a:blip r:embed="rId2"/>
          <a:stretch/>
        </p:blipFill>
        <p:spPr>
          <a:xfrm>
            <a:off x="5580000" y="2852640"/>
            <a:ext cx="3305160" cy="2479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1810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179280" y="18900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fishinnets"/>
          <p:cNvPicPr/>
          <p:nvPr/>
        </p:nvPicPr>
        <p:blipFill>
          <a:blip r:embed="rId2"/>
          <a:stretch/>
        </p:blipFill>
        <p:spPr>
          <a:xfrm>
            <a:off x="6586560" y="3068640"/>
            <a:ext cx="2313000" cy="34624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"/>
          <p:cNvSpPr/>
          <p:nvPr/>
        </p:nvSpPr>
        <p:spPr>
          <a:xfrm>
            <a:off x="0" y="5373720"/>
            <a:ext cx="6372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е используй варварские орудия лова: бредни, остроги, сети – они недостойны Человека разумного, доброго, экологически грамотного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друзья"/>
          <p:cNvPicPr/>
          <p:nvPr/>
        </p:nvPicPr>
        <p:blipFill>
          <a:blip r:embed="rId1"/>
          <a:stretch/>
        </p:blipFill>
        <p:spPr>
          <a:xfrm>
            <a:off x="1908000" y="189000"/>
            <a:ext cx="5472360" cy="52513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86" name="Text Box 5"/>
          <p:cNvSpPr/>
          <p:nvPr/>
        </p:nvSpPr>
        <p:spPr>
          <a:xfrm>
            <a:off x="0" y="5877000"/>
            <a:ext cx="907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егодня, ребята, вы проведёте урок с моим другом – Лососиком.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ода - его стихия и он Вам расскажет много интересного!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pered-mongoliey,-kupanie-v-"/>
          <p:cNvPicPr/>
          <p:nvPr/>
        </p:nvPicPr>
        <p:blipFill>
          <a:blip r:embed="rId1"/>
          <a:stretch/>
        </p:blipFill>
        <p:spPr>
          <a:xfrm>
            <a:off x="898560" y="333360"/>
            <a:ext cx="7273800" cy="545616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179280" y="623736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е купайтесь в холодную погоду, вы можете  простудиться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click?url=http%3A%2F%2Fwww"/>
          <p:cNvPicPr/>
          <p:nvPr/>
        </p:nvPicPr>
        <p:blipFill>
          <a:blip r:embed="rId1"/>
          <a:stretch/>
        </p:blipFill>
        <p:spPr>
          <a:xfrm>
            <a:off x="971640" y="115920"/>
            <a:ext cx="7343640" cy="5508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0" y="5734080"/>
            <a:ext cx="891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стерегайтесь теплового удара и солнечных ожогов при загорании на берегу, потому что прохлада от воды и отражение солнечных лучей создают обманчивое представление об условиях окружающей среды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click?url=http%3A%2F%2Fwww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50920" y="18900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click?url=http%3A%2F%2Fwww"/>
          <p:cNvPicPr/>
          <p:nvPr/>
        </p:nvPicPr>
        <p:blipFill>
          <a:blip r:embed="rId2"/>
          <a:stretch/>
        </p:blipFill>
        <p:spPr>
          <a:xfrm>
            <a:off x="4572000" y="189000"/>
            <a:ext cx="4286160" cy="32194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8"/>
          <p:cNvSpPr/>
          <p:nvPr/>
        </p:nvSpPr>
        <p:spPr>
          <a:xfrm>
            <a:off x="4140360" y="5157720"/>
            <a:ext cx="50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Не ходи по слабому льду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водоёма: можно упасть в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ледяную воду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10" descr="click?url=http%3A%2F%2Fwww"/>
          <p:cNvPicPr/>
          <p:nvPr/>
        </p:nvPicPr>
        <p:blipFill>
          <a:blip r:embed="rId3"/>
          <a:stretch/>
        </p:blipFill>
        <p:spPr>
          <a:xfrm>
            <a:off x="179280" y="3357720"/>
            <a:ext cx="3888000" cy="3109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кувшинки"/>
          <p:cNvPicPr/>
          <p:nvPr/>
        </p:nvPicPr>
        <p:blipFill>
          <a:blip r:embed="rId1"/>
          <a:stretch/>
        </p:blipFill>
        <p:spPr>
          <a:xfrm>
            <a:off x="2124000" y="981000"/>
            <a:ext cx="4606920" cy="46069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1767240" y="185760"/>
            <a:ext cx="544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думай название знаку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2700360" y="6140520"/>
            <a:ext cx="35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Не рви кувшинки!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ракушки моллюски"/>
          <p:cNvPicPr/>
          <p:nvPr/>
        </p:nvPicPr>
        <p:blipFill>
          <a:blip r:embed="rId1"/>
          <a:stretch/>
        </p:blipFill>
        <p:spPr>
          <a:xfrm>
            <a:off x="395280" y="476280"/>
            <a:ext cx="3600360" cy="36003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165960" y="5805360"/>
            <a:ext cx="46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Не лови раков и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двустворчатых моллюсков!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610240" y="6067440"/>
            <a:ext cx="28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Не лови стрекоз!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Picture 8" descr="сачок стрекоза"/>
          <p:cNvPicPr/>
          <p:nvPr/>
        </p:nvPicPr>
        <p:blipFill>
          <a:blip r:embed="rId2"/>
          <a:stretch/>
        </p:blipFill>
        <p:spPr>
          <a:xfrm>
            <a:off x="5003640" y="476280"/>
            <a:ext cx="3745080" cy="3744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бутылка в воде"/>
          <p:cNvPicPr/>
          <p:nvPr/>
        </p:nvPicPr>
        <p:blipFill>
          <a:blip r:embed="rId1"/>
          <a:stretch/>
        </p:blipFill>
        <p:spPr>
          <a:xfrm>
            <a:off x="468360" y="836640"/>
            <a:ext cx="3600360" cy="3600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машина и вода 2"/>
          <p:cNvPicPr/>
          <p:nvPr/>
        </p:nvPicPr>
        <p:blipFill>
          <a:blip r:embed="rId2"/>
          <a:stretch/>
        </p:blipFill>
        <p:spPr>
          <a:xfrm>
            <a:off x="5076720" y="836640"/>
            <a:ext cx="3600720" cy="36003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253080" y="6165720"/>
            <a:ext cx="40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Не бросай мусор в воду!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4896000" y="5877000"/>
            <a:ext cx="42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Не мой машины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у водоёмов!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600" spc="-1" strike="noStrike">
                <a:solidFill>
                  <a:srgbClr val="ffff00"/>
                </a:solidFill>
                <a:latin typeface="Arial"/>
              </a:rPr>
              <a:t>КОНЕЦ</a:t>
            </a:r>
            <a:endParaRPr b="0" lang="en-US" sz="10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Лососик"/>
          <p:cNvPicPr/>
          <p:nvPr/>
        </p:nvPicPr>
        <p:blipFill>
          <a:blip r:embed="rId1"/>
          <a:stretch/>
        </p:blipFill>
        <p:spPr>
          <a:xfrm>
            <a:off x="1187280" y="233280"/>
            <a:ext cx="6913800" cy="49960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108000" y="5896080"/>
            <a:ext cx="88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Сегодня мы познакомимся с правилами поведения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около водоёмов.  Вперёд друзья!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Грязная планета"/>
          <p:cNvPicPr/>
          <p:nvPr/>
        </p:nvPicPr>
        <p:blipFill>
          <a:blip r:embed="rId1"/>
          <a:stretch/>
        </p:blipFill>
        <p:spPr>
          <a:xfrm>
            <a:off x="395280" y="115920"/>
            <a:ext cx="8353440" cy="60357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2554200" y="6362640"/>
            <a:ext cx="386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Вам нравятся такие картинки?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DSCN5736"/>
          <p:cNvPicPr/>
          <p:nvPr/>
        </p:nvPicPr>
        <p:blipFill>
          <a:blip r:embed="rId1"/>
          <a:stretch/>
        </p:blipFill>
        <p:spPr>
          <a:xfrm>
            <a:off x="108000" y="139680"/>
            <a:ext cx="4681440" cy="624204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92" name="Picture 5" descr="DSCN5738"/>
          <p:cNvPicPr/>
          <p:nvPr/>
        </p:nvPicPr>
        <p:blipFill>
          <a:blip r:embed="rId2"/>
          <a:stretch/>
        </p:blipFill>
        <p:spPr>
          <a:xfrm>
            <a:off x="5003640" y="189000"/>
            <a:ext cx="3924360" cy="29430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93" name="Text Box 6"/>
          <p:cNvSpPr/>
          <p:nvPr/>
        </p:nvSpPr>
        <p:spPr>
          <a:xfrm>
            <a:off x="5345280" y="12852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5508360" y="4581360"/>
            <a:ext cx="308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Хотели бы Вы здесь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отдохнуть?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CRW_6299s"/>
          <p:cNvPicPr/>
          <p:nvPr/>
        </p:nvPicPr>
        <p:blipFill>
          <a:blip r:embed="rId1"/>
          <a:stretch/>
        </p:blipFill>
        <p:spPr>
          <a:xfrm>
            <a:off x="611280" y="189000"/>
            <a:ext cx="8101080" cy="576108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2051640" y="6172200"/>
            <a:ext cx="46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А такие пейзажи вам нравятся?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77"/>
          <p:cNvPicPr/>
          <p:nvPr/>
        </p:nvPicPr>
        <p:blipFill>
          <a:blip r:embed="rId1"/>
          <a:stretch/>
        </p:blipFill>
        <p:spPr>
          <a:xfrm>
            <a:off x="684360" y="549360"/>
            <a:ext cx="7821360" cy="52149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001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826920" y="241200"/>
            <a:ext cx="7417080" cy="55641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99" name="Text Box 6"/>
          <p:cNvSpPr/>
          <p:nvPr/>
        </p:nvSpPr>
        <p:spPr>
          <a:xfrm>
            <a:off x="250920" y="6237360"/>
            <a:ext cx="87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Чтобы сохранить такую красоту, нужно соблюдать  ряд правил.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250920" y="5373720"/>
            <a:ext cx="8545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Не загрязняйте берега водоёмов (банками, бутылками, упаковками). 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Консервные банки могут лежать  на земле 90 лет, полиэтилен разлагается примерно через 80-90 лет, а стекло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Arial"/>
              </a:rPr>
              <a:t>практически вечно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6" descr="DSCN3027"/>
          <p:cNvPicPr/>
          <p:nvPr/>
        </p:nvPicPr>
        <p:blipFill>
          <a:blip r:embed="rId1"/>
          <a:stretch/>
        </p:blipFill>
        <p:spPr>
          <a:xfrm>
            <a:off x="108000" y="115920"/>
            <a:ext cx="3778200" cy="5040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02" name="Picture 7" descr="DSCN4798"/>
          <p:cNvPicPr/>
          <p:nvPr/>
        </p:nvPicPr>
        <p:blipFill>
          <a:blip r:embed="rId2"/>
          <a:stretch/>
        </p:blipFill>
        <p:spPr>
          <a:xfrm>
            <a:off x="4067280" y="189000"/>
            <a:ext cx="5003640" cy="37526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1:06:42Z</dcterms:created>
  <dc:creator>Берюхов</dc:creator>
  <dc:description/>
  <dc:language>en-US</dc:language>
  <cp:lastModifiedBy>Елена</cp:lastModifiedBy>
  <dcterms:modified xsi:type="dcterms:W3CDTF">2018-07-05T17:00:57Z</dcterms:modified>
  <cp:revision>14</cp:revision>
  <dc:subject/>
  <dc:title>Слайд 1</dc:title>
</cp:coreProperties>
</file>