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A78-604D-42C5-9714-ED3FF8BE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B39-2DBB-46AB-AF71-790AE794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CA4-0E7E-4327-9D59-F63C3E55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B64-8A13-4C94-80D1-98414220C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31F55-63B4-40E1-9492-0B7EDD7B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E2795-B0CF-428B-A38E-6E1D8132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7EFEA-F1A4-4B37-81D2-75244588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71DF5-F173-486F-A2AE-13286BD1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CFA7B-53EB-4342-BDB7-16CF7C8A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D9798-7ACF-4651-9835-D7E97E34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AD11A-B7F6-4FF0-90EC-9EF605C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83F-6D0A-4707-A48B-3E7C5E0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37F25-BA7C-4768-8027-E589A1D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C63DD-A6FC-4886-8C73-F382E5A2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B7743-7BFE-4136-8186-4F62634C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F2A74-D805-4E32-9BCB-1FD06381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F30A1-30AD-4875-A048-79D30677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628-49B8-4172-BF02-3BCE81E9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421-68E1-44C5-B3DC-581BC4E6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8E4-7432-49AF-9C8C-85856F99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05B-7DD3-49D7-ABD8-7E3CFF79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81A-9443-4848-8783-1C57054B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574-63C8-42E1-8D47-2FDC6F59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F66-7705-452D-8360-6862F349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961D-A34C-4D36-A9B7-5A785008A8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6CAA-56B6-41FE-97C5-79D47E46C06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juliaaa.mindmix.ru/i/users/73/3173/3173/2406/DSC02595.jpe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954000"/>
            <a:ext cx="90360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Century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3640" y="2204640"/>
            <a:ext cx="856908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равила поведения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 водоёмов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8000" y="602136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мойте машины на берегу и на мелководье (загрязнители попадут в воду и вызовут нарушения многих процессов в водоёме)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post-9-1059541644"/>
          <p:cNvPicPr/>
          <p:nvPr/>
        </p:nvPicPr>
        <p:blipFill>
          <a:blip r:embed="rId1"/>
          <a:stretch/>
        </p:blipFill>
        <p:spPr>
          <a:xfrm>
            <a:off x="179280" y="476280"/>
            <a:ext cx="5256360" cy="348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(556)"/>
          <p:cNvPicPr/>
          <p:nvPr/>
        </p:nvPicPr>
        <p:blipFill>
          <a:blip r:embed="rId2"/>
          <a:stretch/>
        </p:blipFill>
        <p:spPr>
          <a:xfrm>
            <a:off x="5580000" y="2708280"/>
            <a:ext cx="3313080" cy="24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508720" y="1052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споласкивайте канистры из-под бензина в водоёме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7620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5661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рвите белые кувшинки, жёлтые кубышки и други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стения, растущие в водоёме, они являются  украшением водоёма и необходимы другим водным  обитателям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9"/>
          <p:cNvPicPr/>
          <p:nvPr/>
        </p:nvPicPr>
        <p:blipFill>
          <a:blip r:embed="rId1"/>
          <a:stretch/>
        </p:blipFill>
        <p:spPr>
          <a:xfrm>
            <a:off x="1547640" y="189000"/>
            <a:ext cx="6481800" cy="4849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ol-rak-osen-img_0162_m"/>
          <p:cNvPicPr/>
          <p:nvPr/>
        </p:nvPicPr>
        <p:blipFill>
          <a:blip r:embed="rId1"/>
          <a:stretch/>
        </p:blipFill>
        <p:spPr>
          <a:xfrm>
            <a:off x="250920" y="260280"/>
            <a:ext cx="3846240" cy="5135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Присоединённое изображение"/>
          <p:cNvPicPr/>
          <p:nvPr/>
        </p:nvPicPr>
        <p:blipFill>
          <a:blip r:embed="rId2"/>
          <a:stretch/>
        </p:blipFill>
        <p:spPr>
          <a:xfrm>
            <a:off x="4284720" y="1557360"/>
            <a:ext cx="4651200" cy="3489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901160" y="6237360"/>
            <a:ext cx="54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лови раков и двустворчатых моллюсков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101_zavoloka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313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_5993425"/>
          <p:cNvPicPr/>
          <p:nvPr/>
        </p:nvPicPr>
        <p:blipFill>
          <a:blip r:embed="rId2"/>
          <a:stretch/>
        </p:blipFill>
        <p:spPr>
          <a:xfrm>
            <a:off x="4788000" y="463680"/>
            <a:ext cx="3844800" cy="5126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24000" y="5950080"/>
            <a:ext cx="862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пейте сырую воду из незнакомых источников – там могут быть болезнетворные микроорганизмы и вредные для здоровья вещества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SC025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36960" y="2763720"/>
            <a:ext cx="4056120" cy="304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hoto52"/>
          <p:cNvPicPr/>
          <p:nvPr/>
        </p:nvPicPr>
        <p:blipFill>
          <a:blip r:embed="rId3"/>
          <a:stretch/>
        </p:blipFill>
        <p:spPr>
          <a:xfrm>
            <a:off x="179280" y="260280"/>
            <a:ext cx="4321440" cy="323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2196000" y="609300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реги лягушек и головастиков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IMG_1127"/>
          <p:cNvPicPr/>
          <p:nvPr/>
        </p:nvPicPr>
        <p:blipFill>
          <a:blip r:embed="rId1"/>
          <a:stretch/>
        </p:blipFill>
        <p:spPr>
          <a:xfrm>
            <a:off x="1187280" y="223920"/>
            <a:ext cx="6951960" cy="5726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3274920" y="630864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лови стрекоз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сачок стрекоза"/>
          <p:cNvPicPr/>
          <p:nvPr/>
        </p:nvPicPr>
        <p:blipFill>
          <a:blip r:embed="rId1"/>
          <a:stretch/>
        </p:blipFill>
        <p:spPr>
          <a:xfrm>
            <a:off x="111600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0156536"/>
          <p:cNvPicPr/>
          <p:nvPr/>
        </p:nvPicPr>
        <p:blipFill>
          <a:blip r:embed="rId1"/>
          <a:stretch/>
        </p:blipFill>
        <p:spPr>
          <a:xfrm>
            <a:off x="395280" y="260280"/>
            <a:ext cx="8375760" cy="5580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3" name="Text Box 6"/>
          <p:cNvSpPr/>
          <p:nvPr/>
        </p:nvSpPr>
        <p:spPr>
          <a:xfrm>
            <a:off x="1731240" y="63626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разрушай жилища ондатр и бобров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kem17"/>
          <p:cNvPicPr/>
          <p:nvPr/>
        </p:nvPicPr>
        <p:blipFill>
          <a:blip r:embed="rId1"/>
          <a:stretch/>
        </p:blipFill>
        <p:spPr>
          <a:xfrm>
            <a:off x="179280" y="189000"/>
            <a:ext cx="5256360" cy="3943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250920" y="54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589608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вылавливайте рыбы больше, чем 5 кг за сутки. Эта норма установлена для сохранения численности рыб в водоёмах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0" descr="3805"/>
          <p:cNvPicPr/>
          <p:nvPr/>
        </p:nvPicPr>
        <p:blipFill>
          <a:blip r:embed="rId2"/>
          <a:stretch/>
        </p:blipFill>
        <p:spPr>
          <a:xfrm>
            <a:off x="5580000" y="2852640"/>
            <a:ext cx="330516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81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9280" y="189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ishinnets"/>
          <p:cNvPicPr/>
          <p:nvPr/>
        </p:nvPicPr>
        <p:blipFill>
          <a:blip r:embed="rId2"/>
          <a:stretch/>
        </p:blipFill>
        <p:spPr>
          <a:xfrm>
            <a:off x="6586560" y="3068640"/>
            <a:ext cx="2313000" cy="3462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5373720"/>
            <a:ext cx="63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используй варварские орудия лова: бредни, остроги, сети – они недостойны Человека разумного, доброго, экологически грамотного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друзья"/>
          <p:cNvPicPr/>
          <p:nvPr/>
        </p:nvPicPr>
        <p:blipFill>
          <a:blip r:embed="rId1"/>
          <a:stretch/>
        </p:blipFill>
        <p:spPr>
          <a:xfrm>
            <a:off x="1908000" y="189000"/>
            <a:ext cx="5472360" cy="5251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0" y="5877000"/>
            <a:ext cx="90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годня, ребята, вы проведёте урок с моим другом – Лососиком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да - его стихия и он Вам расскажет много интересного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ered-mongoliey,-kupanie-v-"/>
          <p:cNvPicPr/>
          <p:nvPr/>
        </p:nvPicPr>
        <p:blipFill>
          <a:blip r:embed="rId1"/>
          <a:stretch/>
        </p:blipFill>
        <p:spPr>
          <a:xfrm>
            <a:off x="898560" y="333360"/>
            <a:ext cx="7273800" cy="5456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9280" y="623736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купайтесь в холодную погоду, вы можете  простудиться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click?url=http%3A%2F%2Fwww"/>
          <p:cNvPicPr/>
          <p:nvPr/>
        </p:nvPicPr>
        <p:blipFill>
          <a:blip r:embed="rId1"/>
          <a:stretch/>
        </p:blipFill>
        <p:spPr>
          <a:xfrm>
            <a:off x="971640" y="115920"/>
            <a:ext cx="7343640" cy="55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0" y="5734080"/>
            <a:ext cx="891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терегайтесь теплового удара и солнечных ожогов при загорании на берегу, потому что прохлада от воды и отражение солнечных лучей создают обманчивое представление об условиях окружающей среды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lick?url=http%3A%2F%2Fwww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lick?url=http%3A%2F%2Fwww"/>
          <p:cNvPicPr/>
          <p:nvPr/>
        </p:nvPicPr>
        <p:blipFill>
          <a:blip r:embed="rId2"/>
          <a:stretch/>
        </p:blipFill>
        <p:spPr>
          <a:xfrm>
            <a:off x="4572000" y="18900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4140360" y="515772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ходи по слабому льду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доёма: можно упасть 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едяную воду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click?url=http%3A%2F%2Fwww"/>
          <p:cNvPicPr/>
          <p:nvPr/>
        </p:nvPicPr>
        <p:blipFill>
          <a:blip r:embed="rId3"/>
          <a:stretch/>
        </p:blipFill>
        <p:spPr>
          <a:xfrm>
            <a:off x="179280" y="3357720"/>
            <a:ext cx="3888000" cy="310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кувшинки"/>
          <p:cNvPicPr/>
          <p:nvPr/>
        </p:nvPicPr>
        <p:blipFill>
          <a:blip r:embed="rId1"/>
          <a:stretch/>
        </p:blipFill>
        <p:spPr>
          <a:xfrm>
            <a:off x="2124000" y="981000"/>
            <a:ext cx="4606920" cy="460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767240" y="18576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думай название знак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700360" y="6140520"/>
            <a:ext cx="35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рви кувшинки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ракушки моллюски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65960" y="5805360"/>
            <a:ext cx="46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лови раков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двустворчатых моллюсков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10240" y="606744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лови стрекоз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сачок стрекоза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бутылка в воде"/>
          <p:cNvPicPr/>
          <p:nvPr/>
        </p:nvPicPr>
        <p:blipFill>
          <a:blip r:embed="rId1"/>
          <a:stretch/>
        </p:blipFill>
        <p:spPr>
          <a:xfrm>
            <a:off x="468360" y="83664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машина и вода 2"/>
          <p:cNvPicPr/>
          <p:nvPr/>
        </p:nvPicPr>
        <p:blipFill>
          <a:blip r:embed="rId2"/>
          <a:stretch/>
        </p:blipFill>
        <p:spPr>
          <a:xfrm>
            <a:off x="5076720" y="83664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253080" y="61657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бросай мусор в воду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896000" y="5877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мой машин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у водоёмов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ff00"/>
                </a:solidFill>
                <a:latin typeface="Arial"/>
              </a:rPr>
              <a:t>КОНЕЦ</a:t>
            </a:r>
            <a:endParaRPr b="0" lang="en-US" sz="10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Лососик"/>
          <p:cNvPicPr/>
          <p:nvPr/>
        </p:nvPicPr>
        <p:blipFill>
          <a:blip r:embed="rId1"/>
          <a:stretch/>
        </p:blipFill>
        <p:spPr>
          <a:xfrm>
            <a:off x="1187280" y="233280"/>
            <a:ext cx="6913800" cy="4996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08000" y="589608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годня мы познакомимся с правилами повед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коло водоёмов.  Вперёд друзья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Грязная планета"/>
          <p:cNvPicPr/>
          <p:nvPr/>
        </p:nvPicPr>
        <p:blipFill>
          <a:blip r:embed="rId1"/>
          <a:stretch/>
        </p:blipFill>
        <p:spPr>
          <a:xfrm>
            <a:off x="395280" y="115920"/>
            <a:ext cx="8353440" cy="6035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554200" y="636264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ам нравятся такие картинки?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SCN5736"/>
          <p:cNvPicPr/>
          <p:nvPr/>
        </p:nvPicPr>
        <p:blipFill>
          <a:blip r:embed="rId1"/>
          <a:stretch/>
        </p:blipFill>
        <p:spPr>
          <a:xfrm>
            <a:off x="108000" y="139680"/>
            <a:ext cx="4681440" cy="6242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2" name="Picture 5" descr="DSCN5738"/>
          <p:cNvPicPr/>
          <p:nvPr/>
        </p:nvPicPr>
        <p:blipFill>
          <a:blip r:embed="rId2"/>
          <a:stretch/>
        </p:blipFill>
        <p:spPr>
          <a:xfrm>
            <a:off x="5003640" y="189000"/>
            <a:ext cx="3924360" cy="2943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5345280" y="128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508360" y="4581360"/>
            <a:ext cx="30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Хотели бы Вы здес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дохнуть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CRW_6299s"/>
          <p:cNvPicPr/>
          <p:nvPr/>
        </p:nvPicPr>
        <p:blipFill>
          <a:blip r:embed="rId1"/>
          <a:stretch/>
        </p:blipFill>
        <p:spPr>
          <a:xfrm>
            <a:off x="611280" y="189000"/>
            <a:ext cx="8101080" cy="5761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051640" y="617220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 такие пейзажи вам нравятся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77"/>
          <p:cNvPicPr/>
          <p:nvPr/>
        </p:nvPicPr>
        <p:blipFill>
          <a:blip r:embed="rId1"/>
          <a:stretch/>
        </p:blipFill>
        <p:spPr>
          <a:xfrm>
            <a:off x="684360" y="549360"/>
            <a:ext cx="7821360" cy="5214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0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241200"/>
            <a:ext cx="7417080" cy="5564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250920" y="6237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бы сохранить такую красоту, нужно соблюдать  ряд правил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5373720"/>
            <a:ext cx="854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загрязняйте берега водоёмов (банками, бутылками, упаковками)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нсервные банки могут лежать  на земле 90 лет, полиэтилен разлагается примерно через 80-90 лет, а стекл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актически вечн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DSCN3027"/>
          <p:cNvPicPr/>
          <p:nvPr/>
        </p:nvPicPr>
        <p:blipFill>
          <a:blip r:embed="rId1"/>
          <a:stretch/>
        </p:blipFill>
        <p:spPr>
          <a:xfrm>
            <a:off x="108000" y="115920"/>
            <a:ext cx="3778200" cy="5040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2" name="Picture 7" descr="DSCN4798"/>
          <p:cNvPicPr/>
          <p:nvPr/>
        </p:nvPicPr>
        <p:blipFill>
          <a:blip r:embed="rId2"/>
          <a:stretch/>
        </p:blipFill>
        <p:spPr>
          <a:xfrm>
            <a:off x="4067280" y="189000"/>
            <a:ext cx="5003640" cy="3752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1:06:42Z</dcterms:created>
  <dc:creator>Берюхов</dc:creator>
  <dc:description/>
  <dc:language>en-US</dc:language>
  <cp:lastModifiedBy>Елена</cp:lastModifiedBy>
  <dcterms:modified xsi:type="dcterms:W3CDTF">2018-07-05T17:00:57Z</dcterms:modified>
  <cp:revision>14</cp:revision>
  <dc:subject/>
  <dc:title>Слайд 1</dc:title>
</cp:coreProperties>
</file>