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00C5-235C-486A-A857-77C54E17E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EEF2-AD06-4F20-9A56-C65B7C9D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01EA-3EB1-4985-95C7-68AAF14B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D2D8-032A-49B0-B428-DB66BAAA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11D4-3AFB-44B4-9548-BD51886F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EA39-67D3-4743-BDD2-FE85D8E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C9AD-F16D-4065-AFFE-06EBA08E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7A5-720E-4063-A223-4E9F74C0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7696-E59B-4474-AD54-D77B247E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623E3-6400-4352-AB9B-104847A1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DB83B-9D8B-46B0-B5FD-8177DBCB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E999-2E78-49CB-B1B6-E2C4949A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0A9B2-A2BC-45B5-B226-E73DC30B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D9DC9-B330-4DCD-A584-FFDA040D9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9C61-D576-4B0E-9B4D-0A1D2593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80D-9D7B-4CC0-A6C5-30659014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4CB4-0B16-481B-AF23-8AC19A1B1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7F8A-6454-43AA-9166-E3078EBC9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9AA3-6B2A-487F-A781-E423E5296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0C6A-CA27-46CC-BAAF-3F274A0A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0569-EFCE-4DE5-BACB-1C5CDE36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2EB-1D89-4462-847B-0FB9440B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9A1-61B2-4C4A-BC17-A98B916D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F3A3-6C59-4722-BD9A-B8236734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6AD-282C-455B-AF53-2AFFAC351E1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A212-450C-475A-9BC1-7286CC03213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D:/&#1080;&#1090;&#1086;&#1075;&#1086;&#1074;&#1099;&#1077;%20&#1088;&#1072;&#1073;&#1086;&#1090;&#1099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678204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300" spc="-1" strike="noStrike">
                <a:solidFill>
                  <a:srgbClr val="009900"/>
                </a:solidFill>
                <a:latin typeface="Times New Roman"/>
              </a:rPr>
              <a:t>Скажем наркотикам «Нет»</a:t>
            </a:r>
            <a:endParaRPr b="0" lang="en-US" sz="8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ы умереть, человеку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надо всего-навсего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99ff"/>
                </a:solidFill>
                <a:latin typeface="Comic Sans MS"/>
              </a:rPr>
              <a:t>500 мг герои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33cc33"/>
                </a:solidFill>
                <a:latin typeface="Comic Sans MS"/>
              </a:rPr>
              <a:t>горсть галлюциногенных гриб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mic Sans MS"/>
              </a:rPr>
              <a:t>20 мг кетамина на килограмм массы</a:t>
            </a:r>
            <a:r>
              <a:rPr b="1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mic Sans MS"/>
              </a:rPr>
              <a:t>тел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0000"/>
                </a:solidFill>
                <a:latin typeface="Comic Sans MS"/>
              </a:rPr>
              <a:t>0,3 фенамин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9933ff"/>
                </a:solidFill>
                <a:latin typeface="Comic Sans MS"/>
              </a:rPr>
              <a:t>0,0002 г фенциклидин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500" spc="-1" strike="noStrike">
                <a:solidFill>
                  <a:srgbClr val="ffffff"/>
                </a:solidFill>
                <a:latin typeface="Wingdings 2"/>
                <a:ea typeface="Wingdings 2"/>
              </a:rPr>
              <a:t></a:t>
            </a:r>
            <a:r>
              <a:rPr b="1" lang="ru-RU" sz="3100" spc="-1" strike="noStrike">
                <a:solidFill>
                  <a:srgbClr val="ff66ff"/>
                </a:solidFill>
                <a:latin typeface="Comic Sans MS"/>
              </a:rPr>
              <a:t>150 мг </a:t>
            </a:r>
            <a:r>
              <a:rPr b="1" lang="en-US" sz="3100" spc="-1" strike="noStrike">
                <a:solidFill>
                  <a:srgbClr val="ff66ff"/>
                </a:solidFill>
                <a:latin typeface="Comic Sans MS"/>
              </a:rPr>
              <a:t>LSD (</a:t>
            </a:r>
            <a:r>
              <a:rPr b="1" lang="ru-RU" sz="3100" spc="-1" strike="noStrike">
                <a:solidFill>
                  <a:srgbClr val="ff66ff"/>
                </a:solidFill>
                <a:latin typeface="Comic Sans MS"/>
              </a:rPr>
              <a:t>ЛСД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За рубежом…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у кого сколько наркомано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В Англии – 800 тыс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В США – 20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В</a:t>
            </a:r>
            <a:r>
              <a:rPr b="1" lang="en-US" sz="2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Германии – 1,2 милли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В Китае – 7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 Индии – 12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В Афганистане – 800 тыс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В Канаде – 6,2 миллионов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2330"/>
          <p:cNvPicPr/>
          <p:nvPr/>
        </p:nvPicPr>
        <p:blipFill>
          <a:blip r:embed="rId1"/>
          <a:stretch/>
        </p:blipFill>
        <p:spPr>
          <a:xfrm>
            <a:off x="1116000" y="1628640"/>
            <a:ext cx="287964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4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7 способов сказ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«НЕТ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28280"/>
            <a:ext cx="432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Comic Sans MS"/>
              </a:rPr>
              <a:t>Эта ерунда не для мен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Есть занятие и покруч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Нет  уж,  у меня  и  т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вагон неприятност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Мои мозги мне пока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лиш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Ты  что?!  У  ме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аллерг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Я  не  хочу  ум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отсталых дет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7.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Я   не   тороплюсь  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сихиатрическ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ольниц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245200" y="1828800"/>
            <a:ext cx="28810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ff"/>
                </a:solidFill>
                <a:latin typeface="Comic Sans MS"/>
              </a:rPr>
              <a:t>Знаешь ли ты, ч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Все наркотики по своей природе – 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Наркотик не решит твои проблемы. Он создаст нов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Ты потеряешь друзей – они останутся в друго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Твой распорядок дня станет таким: добыть дозу-приня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добыть – принять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нтеллект устремится к минус бесконе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Депрессняк станет твоим вечным спутн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Ты не сможешь родить здоровых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d60093"/>
                </a:solidFill>
                <a:latin typeface="Comic Sans MS"/>
              </a:rPr>
              <a:t>Ты никогда не сможешь стать независи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инимая наркотики или умерев от них, ты никогда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узнаешь, в чём СМЫСЛ ЖИЗН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НА ЭТОМ СПИСОК НЕ ЗАКАНЧИВАЕТ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Наркотики и здоровь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00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Наркомания ведет к крайнему истощению организма, значительной потере массы тела и упадку физических сил. Отравление организма становится причиной поражения внутренних органов, особенно печени и почек. Самая распространенная болезнь среди наркоманов - гепатит и СПИ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Во время  употребление наркотиков у наркомана пропадают не только социальные рефлексы но и инстинкт самосохранения, притупляется мор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1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4105440"/>
          </a:xfrm>
          <a:prstGeom prst="rect">
            <a:avLst/>
          </a:prstGeom>
          <a:ln w="0">
            <a:noFill/>
          </a:ln>
        </p:spPr>
      </p:pic>
      <p:pic>
        <p:nvPicPr>
          <p:cNvPr id="124" name="26 КРОКОДИЛ - ДЕВКИ.mp3" descr=""/>
          <p:cNvPicPr/>
          <p:nvPr/>
        </p:nvPicPr>
        <p:blipFill>
          <a:blip r:embed="rId2"/>
          <a:stretch/>
        </p:blipFill>
        <p:spPr>
          <a:xfrm>
            <a:off x="395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omic Sans MS"/>
              </a:rPr>
              <a:t>Тебе помогут здесь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Каждому посетителю гарантируется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АНОНИМНОСТЬ 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КОНФИДЕНЦИАЛЬНОСТЬ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, а также индивидуальный подход и профессиональная помощь специалис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Республиканский наркологический диспанс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тел.(8362) 64-17-0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Телефон Доверия (8362) 45-33-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Управление Федеральной службы РФ по контролю за оборотом наркотических средств и психотропных веществ по РМЭ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елефон Доверия (8362) 42-97-50 (круглосуточ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бщественный Фонд помощи больным с наркотической зависимостью «Виктория» РМ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Wingdings 3"/>
                <a:ea typeface="Wingdings 3"/>
              </a:rPr>
              <a:t>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ел.(8362) 92-01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… </a:t>
            </a: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И в Сернуре тож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При необходимости тебе помогут врачи – наркологи Сернурской больниц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Борисов                            Кук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Александр Николаевич            Валенти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Телефон довер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 Сернуре для подростков и их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9-81-85,  9-7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нонимно можно обратить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 наркодиспансер, который расположен в г.Йошкар-Оле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адресу: ул.Волкова, дом 116 тел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45-21-63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Благотворительный фонд «Новая линия в Марий Эл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г.Йошкар-Ола, ул.Свердлова, дом 49 тел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72-12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олько ТЫ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ы – будущее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ашей Росси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Comic Sans MS"/>
              </a:rPr>
              <a:t>Сделай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прави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  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ыбо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6600"/>
                </a:solidFill>
                <a:latin typeface="Comic Sans MS"/>
              </a:rPr>
              <a:t>С В О 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Ы Б О 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R4469I"/>
          <p:cNvPicPr/>
          <p:nvPr/>
        </p:nvPicPr>
        <p:blipFill>
          <a:blip r:embed="rId1"/>
          <a:stretch/>
        </p:blipFill>
        <p:spPr>
          <a:xfrm>
            <a:off x="684360" y="1773360"/>
            <a:ext cx="3579840" cy="400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В заключен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567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Авторы этих слайдов были Глазырин Алексей и Фёдоров Алексе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шей целью было довести до людей о вреде наркотик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деемся, что вы в  будущем не столкнётесь с наркотиками благодаря нашей презентаци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3">
            <a:hlinkClick r:id="rId1"/>
          </p:cNvPr>
          <p:cNvSpPr/>
          <p:nvPr/>
        </p:nvSpPr>
        <p:spPr>
          <a:xfrm>
            <a:off x="611280" y="6381720"/>
            <a:ext cx="647640" cy="287280"/>
          </a:xfrm>
          <a:prstGeom prst="leftArrow">
            <a:avLst>
              <a:gd name="adj1" fmla="val 50000"/>
              <a:gd name="adj2" fmla="val 5636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04-Alisa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316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3573000"/>
            <a:ext cx="770400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9900"/>
                </a:solidFill>
                <a:latin typeface="Comic Sans MS"/>
              </a:rPr>
              <a:t>Если посмотреть на современную Россию, то на лицо очень печальный факт. Большинство подростков употребляет наркотики</a:t>
            </a:r>
            <a:r>
              <a:rPr b="1" i="1" lang="en-US" sz="2000" spc="-1" strike="noStrike">
                <a:solidFill>
                  <a:srgbClr val="999900"/>
                </a:solidFill>
                <a:latin typeface="Comic Sans MS"/>
              </a:rPr>
              <a:t>:</a:t>
            </a:r>
            <a:r>
              <a:rPr b="1" i="1" lang="ru-RU" sz="2000" spc="-1" strike="noStrike">
                <a:solidFill>
                  <a:srgbClr val="999900"/>
                </a:solidFill>
                <a:latin typeface="Comic Sans MS"/>
              </a:rPr>
              <a:t>растительного происхождения или синтетического происхождения. Вначале идёт покуривание марихуаны, а потом человек , не замечая сам, переходит на более тяжёлые наркотики , например героин. Подросток перестаёт быть нормальным членом общества, он превращается в зомби , негнушающимся преступления, ради новой до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олько ТЫ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ы – будущее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ашей Росси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Comic Sans MS"/>
              </a:rPr>
              <a:t>Сделай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прави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  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ыбо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6600"/>
                </a:solidFill>
                <a:latin typeface="Comic Sans MS"/>
              </a:rPr>
              <a:t>С В О 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Ы Б О 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R4469I"/>
          <p:cNvPicPr/>
          <p:nvPr/>
        </p:nvPicPr>
        <p:blipFill>
          <a:blip r:embed="rId1"/>
          <a:stretch/>
        </p:blipFill>
        <p:spPr>
          <a:xfrm>
            <a:off x="684360" y="1773360"/>
            <a:ext cx="3579840" cy="400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‘</a:t>
            </a:r>
            <a:r>
              <a:rPr b="1" lang="en-US" sz="3200" spc="-1" strike="noStrike">
                <a:solidFill>
                  <a:srgbClr val="0066ff"/>
                </a:solidFill>
                <a:latin typeface="Wingdings 2"/>
                <a:ea typeface="Wingdings 2"/>
              </a:rPr>
              <a:t></a:t>
            </a:r>
            <a:r>
              <a:rPr b="1" lang="ru-RU" sz="2700" spc="-1" strike="noStrike">
                <a:solidFill>
                  <a:srgbClr val="0066ff"/>
                </a:solidFill>
                <a:latin typeface="Comic Sans MS"/>
              </a:rPr>
              <a:t>Стоит ли  за несколько минут сомнительного счастья отдавать свою жизн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705120" cy="517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Наркотический дурман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Comic Sans MS"/>
              </a:rPr>
              <a:t>Все наркотические вещества вызывают  так называемое состояние дурмана  ,а также постепенного нарастающего состояния наркотического голода, свидетельствующего о возникновении зависимости от наркотиков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Comic Sans MS"/>
              </a:rPr>
              <a:t>Чаще всего он воспринимается как состояние призрачного бла-женства , при котором куда-то исчезают ощущения, психическое напряжение , печали , тоска и  страх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2"/>
          <p:cNvPicPr/>
          <p:nvPr/>
        </p:nvPicPr>
        <p:blipFill>
          <a:blip r:embed="rId1"/>
          <a:stretch/>
        </p:blipFill>
        <p:spPr>
          <a:xfrm>
            <a:off x="4646520" y="1773360"/>
            <a:ext cx="390852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9308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imes New Roman"/>
              </a:rPr>
              <a:t>Спустя 1 год...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5a5c82299f289be038e09a4388cde74f"/>
          <p:cNvPicPr/>
          <p:nvPr/>
        </p:nvPicPr>
        <p:blipFill>
          <a:blip r:embed="rId1"/>
          <a:stretch/>
        </p:blipFill>
        <p:spPr>
          <a:xfrm>
            <a:off x="395280" y="1484280"/>
            <a:ext cx="7921800" cy="489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10000"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64388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устя 1,5 года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58c406a8e8e4b988d5a2985e89a287a7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47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10000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543800" cy="4680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100" spc="-1" strike="noStrike">
                <a:solidFill>
                  <a:srgbClr val="ff0000"/>
                </a:solidFill>
                <a:latin typeface="Times New Roman"/>
              </a:rPr>
              <a:t>Редкий наркоман доживает до </a:t>
            </a:r>
            <a:br>
              <a:rPr sz="8100"/>
            </a:br>
            <a:r>
              <a:rPr b="0" lang="ru-RU" sz="8100" spc="-1" strike="noStrike">
                <a:solidFill>
                  <a:srgbClr val="ff0000"/>
                </a:solidFill>
                <a:latin typeface="Times New Roman"/>
              </a:rPr>
              <a:t>30 – 35 лет</a:t>
            </a:r>
            <a:endParaRPr b="0" lang="en-US" sz="8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92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92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192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распознать ,что ребёнок начал принимать наркоти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omic Sans MS"/>
              </a:rPr>
              <a:t>Он(она) стал часто исчезать из до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Comic Sans MS"/>
              </a:rPr>
              <a:t>Он(она) начал очень часто врать .Причём эта ложь стала своеобраз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За достаточно короткий промежуток времени у вашего сына(дочери) практически полностью поменялся круг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Comic Sans MS"/>
              </a:rPr>
              <a:t>Вашего сына(дочь) перестали интересовать семейные пробл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Comic Sans MS"/>
              </a:rPr>
              <a:t>У него изменился режим сн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ff"/>
                </a:solidFill>
                <a:latin typeface="Comic Sans MS"/>
              </a:rPr>
              <a:t>Он(она) потерял свои прежние интересы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99"/>
                </a:solidFill>
                <a:latin typeface="Comic Sans MS"/>
              </a:rPr>
              <a:t>Вам всё чаще кажется, что он(она) возвращается домой с прогулки в состоянии опья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WISHES1"/>
          <p:cNvPicPr/>
          <p:nvPr/>
        </p:nvPicPr>
        <p:blipFill>
          <a:blip r:embed="rId1"/>
          <a:stretch/>
        </p:blipFill>
        <p:spPr>
          <a:xfrm>
            <a:off x="5435640" y="2421000"/>
            <a:ext cx="338616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05:11:50Z</dcterms:created>
  <dc:creator>User</dc:creator>
  <dc:description/>
  <dc:language>en-US</dc:language>
  <cp:lastModifiedBy>user</cp:lastModifiedBy>
  <dcterms:modified xsi:type="dcterms:W3CDTF">2013-11-12T14:01:44Z</dcterms:modified>
  <cp:revision>45</cp:revision>
  <dc:subject/>
  <dc:title>Наркомания в России.</dc:title>
</cp:coreProperties>
</file>