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applause.wav" ContentType="audio/x-wav"/>
  <Override PartName="/ppt/media/image1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8A3B-54AC-44C3-8113-ABADC795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DC7-EA92-41EE-A006-CDCEAC38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3F5-B333-442B-8216-28D848FD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9B9-C167-47B5-9E25-CBD846D4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7CCC-DAC1-4CAA-BB0A-ABF1E9E9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8B95-FD46-46F9-8678-A60D6083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2DC5-FE7C-4C1B-AE08-31B278A6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4A9E-DBD7-4186-8371-7F6F3074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6868-7E2C-45C0-88F0-540F3412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8542-3060-41C0-844B-3B4EF75C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298B-12B4-4ED9-80D0-9B7D7454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3A5-A0D3-4BEF-9294-CC7F232A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11F4-2E85-4A55-9B4D-36C67D1A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97B5-0554-478F-BACA-D0B8DC79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722F-BDA9-49DF-B28A-EDAE7AD6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43F8-F49F-4B02-BA6F-230A87EC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DC1F-DA41-47E5-B02F-938B34C0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618D-6D11-4D5B-A3EF-DB8DE36D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C35-25DF-4523-87AC-895C6775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8939-FC03-4885-9EE2-C72F96E9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39F-1C78-4F8F-ACD4-8198D9FB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E2F-D001-42A9-9CFC-5A6F63EE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6DB-1F34-4EEE-9B11-C92E0AEA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344-A756-42C6-B208-B3B8EF5E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3DD6-9123-4965-B01F-5CBFB65996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2468-B91C-4DC3-BBDA-5351B2CCD90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345440" cy="24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Урок осторожности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Петей   Светофоровым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Picture 8" descr="Untitled-1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700360" y="2924280"/>
            <a:ext cx="37432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Назови эти дорожные знаки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8000" y="2204640"/>
            <a:ext cx="3671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Подземный пешеходный переход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Транспортный светофо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 Narrow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Пешеходный перех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 Narrow"/>
              </a:rPr>
              <a:t>4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 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Де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 Narrow"/>
              </a:rPr>
              <a:t>5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Пешеходный светофо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611280" y="1557360"/>
            <a:ext cx="4320720" cy="4320720"/>
            <a:chOff x="611280" y="1557360"/>
            <a:chExt cx="4320720" cy="4320720"/>
          </a:xfrm>
        </p:grpSpPr>
        <p:pic>
          <p:nvPicPr>
            <p:cNvPr id="225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677880" y="1756440"/>
              <a:ext cx="4150440" cy="41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WordArt 6"/>
            <p:cNvSpPr txBox="1"/>
            <p:nvPr/>
          </p:nvSpPr>
          <p:spPr>
            <a:xfrm>
              <a:off x="611280" y="5081040"/>
              <a:ext cx="235080" cy="49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1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7" name="WordArt 7"/>
            <p:cNvSpPr txBox="1"/>
            <p:nvPr/>
          </p:nvSpPr>
          <p:spPr>
            <a:xfrm>
              <a:off x="611280" y="1822680"/>
              <a:ext cx="235080" cy="49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8" name="WordArt 8"/>
            <p:cNvSpPr txBox="1"/>
            <p:nvPr/>
          </p:nvSpPr>
          <p:spPr>
            <a:xfrm>
              <a:off x="4368600" y="1822680"/>
              <a:ext cx="235080" cy="49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9" name="WordArt 9"/>
            <p:cNvSpPr txBox="1"/>
            <p:nvPr/>
          </p:nvSpPr>
          <p:spPr>
            <a:xfrm>
              <a:off x="2653920" y="1557360"/>
              <a:ext cx="235080" cy="49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30" name="WordArt 10"/>
            <p:cNvSpPr txBox="1"/>
            <p:nvPr/>
          </p:nvSpPr>
          <p:spPr>
            <a:xfrm>
              <a:off x="4696560" y="5347800"/>
              <a:ext cx="235440" cy="49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31" name="Text Box 12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2" name="AutoShape 14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33" name="AutoShape 14" descr=""/>
            <p:cNvPicPr/>
            <p:nvPr/>
          </p:nvPicPr>
          <p:blipFill>
            <a:blip r:embed="rId3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77708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Объясни действия мальчика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5444640"/>
            <a:ext cx="741672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Путь открыт.   Стой на мес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766764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Picture 5" descr="Untitled-14"/>
          <p:cNvPicPr/>
          <p:nvPr/>
        </p:nvPicPr>
        <p:blipFill>
          <a:blip r:embed="rId2"/>
          <a:stretch/>
        </p:blipFill>
        <p:spPr>
          <a:xfrm>
            <a:off x="755640" y="1413000"/>
            <a:ext cx="3046320" cy="388764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239" name="Picture 6" descr="Untitled-15"/>
          <p:cNvPicPr/>
          <p:nvPr/>
        </p:nvPicPr>
        <p:blipFill>
          <a:blip r:embed="rId3"/>
          <a:stretch/>
        </p:blipFill>
        <p:spPr>
          <a:xfrm>
            <a:off x="4264200" y="1413000"/>
            <a:ext cx="3187440" cy="38844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sp>
        <p:nvSpPr>
          <p:cNvPr id="240" name="Text Box 8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1" name="AutoShape 10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42" name="AutoShape 10" descr=""/>
            <p:cNvPicPr/>
            <p:nvPr/>
          </p:nvPicPr>
          <p:blipFill>
            <a:blip r:embed="rId4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10"/>
          <p:cNvSpPr txBox="1"/>
          <p:nvPr/>
        </p:nvSpPr>
        <p:spPr>
          <a:xfrm>
            <a:off x="900000" y="549360"/>
            <a:ext cx="712944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 !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Отгадайте загадк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1557360"/>
            <a:ext cx="716580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Отгадай дорожный знак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1" name="Picture 30" descr="Рисунок4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216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7"/>
          <p:cNvGraphicFramePr/>
          <p:nvPr/>
        </p:nvGraphicFramePr>
        <p:xfrm>
          <a:off x="3635280" y="3860640"/>
          <a:ext cx="1728720" cy="267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3860640"/>
                    <a:ext cx="172872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Picture 9" descr="Рисунок6"/>
          <p:cNvPicPr/>
          <p:nvPr/>
        </p:nvPicPr>
        <p:blipFill>
          <a:blip r:embed="rId4"/>
          <a:stretch/>
        </p:blipFill>
        <p:spPr>
          <a:xfrm>
            <a:off x="6365880" y="3716280"/>
            <a:ext cx="1863720" cy="1873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6"/>
          <p:cNvPicPr/>
          <p:nvPr/>
        </p:nvPicPr>
        <p:blipFill>
          <a:blip r:embed="rId5"/>
          <a:stretch/>
        </p:blipFill>
        <p:spPr>
          <a:xfrm>
            <a:off x="684360" y="4365720"/>
            <a:ext cx="1571400" cy="2087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1"/>
          <p:cNvPicPr/>
          <p:nvPr/>
        </p:nvPicPr>
        <p:blipFill>
          <a:blip r:embed="rId6"/>
          <a:stretch/>
        </p:blipFill>
        <p:spPr>
          <a:xfrm>
            <a:off x="611280" y="260280"/>
            <a:ext cx="1584360" cy="1656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" descr="2"/>
          <p:cNvPicPr/>
          <p:nvPr/>
        </p:nvPicPr>
        <p:blipFill>
          <a:blip r:embed="rId7"/>
          <a:stretch/>
        </p:blipFill>
        <p:spPr>
          <a:xfrm>
            <a:off x="4788000" y="333360"/>
            <a:ext cx="1728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472000" cy="31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Я хочу спросить про знак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Нарисован он вот так: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В треугольнике ребята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Со всех ног бегут куда –то.</a:t>
            </a:r>
            <a:br>
              <a:rPr sz="32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rcRect l="49691" t="61255" r="38127" b="23751"/>
          <a:stretch/>
        </p:blipFill>
        <p:spPr>
          <a:xfrm>
            <a:off x="5715000" y="857160"/>
            <a:ext cx="2768760" cy="2556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187280" y="4076640"/>
            <a:ext cx="60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ff00"/>
                </a:solidFill>
                <a:latin typeface="Arial"/>
              </a:rPr>
              <a:t>Дети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Этот знак такого рода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Он на страже пешехода.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Переходим дружно вместе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Мы дорогу в этом месте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rcRect l="83755" t="50003" r="4063" b="33749"/>
          <a:stretch/>
        </p:blipFill>
        <p:spPr>
          <a:xfrm>
            <a:off x="5940360" y="692280"/>
            <a:ext cx="2735280" cy="2593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187280" y="4365720"/>
            <a:ext cx="69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ешеходный переход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0" y="-504720"/>
            <a:ext cx="9325080" cy="736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Рисунок9"/>
          <p:cNvPicPr/>
          <p:nvPr/>
        </p:nvPicPr>
        <p:blipFill>
          <a:blip r:embed="rId2"/>
          <a:stretch/>
        </p:blipFill>
        <p:spPr>
          <a:xfrm>
            <a:off x="5105520" y="3736800"/>
            <a:ext cx="4038480" cy="312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Новый рисунок (4)"/>
          <p:cNvPicPr/>
          <p:nvPr/>
        </p:nvPicPr>
        <p:blipFill>
          <a:blip r:embed="rId3"/>
          <a:stretch/>
        </p:blipFill>
        <p:spPr>
          <a:xfrm>
            <a:off x="250920" y="-243000"/>
            <a:ext cx="2233440" cy="259236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/>
          <p:cNvSpPr/>
          <p:nvPr/>
        </p:nvSpPr>
        <p:spPr>
          <a:xfrm>
            <a:off x="826920" y="5950080"/>
            <a:ext cx="1441440" cy="609480"/>
          </a:xfrm>
          <a:custGeom>
            <a:avLst/>
            <a:gdLst>
              <a:gd name="textAreaLeft" fmla="*/ 39240 w 1441440"/>
              <a:gd name="textAreaRight" fmla="*/ 1402200 w 144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1067" h="21600">
                <a:moveTo>
                  <a:pt x="0" y="0"/>
                </a:moveTo>
                <a:lnTo>
                  <a:pt x="51067" y="0"/>
                </a:lnTo>
                <a:lnTo>
                  <a:pt x="51067" y="21600"/>
                </a:lnTo>
                <a:lnTo>
                  <a:pt x="0" y="21600"/>
                </a:lnTo>
                <a:close/>
              </a:path>
              <a:path fill="lightenLess" w="51067" h="21600">
                <a:moveTo>
                  <a:pt x="0" y="0"/>
                </a:moveTo>
                <a:lnTo>
                  <a:pt x="51067" y="0"/>
                </a:lnTo>
                <a:lnTo>
                  <a:pt x="49667" y="1400"/>
                </a:lnTo>
                <a:lnTo>
                  <a:pt x="1400" y="1400"/>
                </a:lnTo>
                <a:close/>
              </a:path>
              <a:path fill="darken" w="51067" h="21600">
                <a:moveTo>
                  <a:pt x="51067" y="0"/>
                </a:moveTo>
                <a:lnTo>
                  <a:pt x="51067" y="21600"/>
                </a:lnTo>
                <a:lnTo>
                  <a:pt x="49667" y="20200"/>
                </a:lnTo>
                <a:lnTo>
                  <a:pt x="49667" y="1400"/>
                </a:lnTo>
                <a:close/>
              </a:path>
              <a:path fill="darkenLess" w="51067" h="21600">
                <a:moveTo>
                  <a:pt x="51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67" y="20200"/>
                </a:lnTo>
                <a:close/>
              </a:path>
              <a:path fill="lighten" w="51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>
              <a:alpha val="42000"/>
            </a:srgbClr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Иг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54007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Человек, идущий в чёрном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Красной чёрточкой зачёркнут.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И дорожка вроде, но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Здесь ходить запрещено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87280" y="3645000"/>
            <a:ext cx="58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Arial"/>
              </a:rPr>
              <a:t>Движение пешеходов запрещено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56149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В синем круге пешеход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Не торопится, идёт.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Здесь дорожка безопасна.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По ней идти совсем не страшно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ешеходная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дорожк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156360" y="549360"/>
            <a:ext cx="2519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67327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Землю роет человек.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Почему проезда нет?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Может быть, здесь ищут клад?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И старинные монеты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В сундуке большом лежат?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Их сюда, наверно, в старь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Спрятал очень жадный царь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Arial"/>
              </a:rPr>
              <a:t>Дорожные работы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556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590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иний круг, велосипед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Ничего другого нет.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Что за знак?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Найди ответ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Велосипедная дорожк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735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929040" y="1357200"/>
          <a:ext cx="3786120" cy="517680"/>
        </p:xfrm>
        <a:graphic>
          <a:graphicData uri="http://schemas.openxmlformats.org/drawingml/2006/table">
            <a:tbl>
              <a:tblPr/>
              <a:tblGrid>
                <a:gridCol w="631800"/>
                <a:gridCol w="630360"/>
                <a:gridCol w="631800"/>
                <a:gridCol w="630360"/>
                <a:gridCol w="631800"/>
                <a:gridCol w="63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286080" y="1857240"/>
          <a:ext cx="3786120" cy="517680"/>
        </p:xfrm>
        <a:graphic>
          <a:graphicData uri="http://schemas.openxmlformats.org/drawingml/2006/table">
            <a:tbl>
              <a:tblPr/>
              <a:tblGrid>
                <a:gridCol w="631800"/>
                <a:gridCol w="630360"/>
                <a:gridCol w="631800"/>
                <a:gridCol w="630360"/>
                <a:gridCol w="631800"/>
                <a:gridCol w="63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286080" y="2357280"/>
          <a:ext cx="3156120" cy="517680"/>
        </p:xfrm>
        <a:graphic>
          <a:graphicData uri="http://schemas.openxmlformats.org/drawingml/2006/table">
            <a:tbl>
              <a:tblPr/>
              <a:tblGrid>
                <a:gridCol w="631800"/>
                <a:gridCol w="630360"/>
                <a:gridCol w="631800"/>
                <a:gridCol w="630360"/>
                <a:gridCol w="631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1428840" y="2857680"/>
          <a:ext cx="5000400" cy="517320"/>
        </p:xfrm>
        <a:graphic>
          <a:graphicData uri="http://schemas.openxmlformats.org/drawingml/2006/table">
            <a:tbl>
              <a:tblPr/>
              <a:tblGrid>
                <a:gridCol w="625320"/>
                <a:gridCol w="625680"/>
                <a:gridCol w="623880"/>
                <a:gridCol w="625320"/>
                <a:gridCol w="625320"/>
                <a:gridCol w="625680"/>
                <a:gridCol w="623880"/>
                <a:gridCol w="62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785880" y="3357720"/>
          <a:ext cx="4429080" cy="517320"/>
        </p:xfrm>
        <a:graphic>
          <a:graphicData uri="http://schemas.openxmlformats.org/drawingml/2006/table">
            <a:tbl>
              <a:tblPr/>
              <a:tblGrid>
                <a:gridCol w="633240"/>
                <a:gridCol w="631800"/>
                <a:gridCol w="633600"/>
                <a:gridCol w="631800"/>
                <a:gridCol w="633240"/>
                <a:gridCol w="631800"/>
                <a:gridCol w="63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714760" y="3857760"/>
          <a:ext cx="4429080" cy="517320"/>
        </p:xfrm>
        <a:graphic>
          <a:graphicData uri="http://schemas.openxmlformats.org/drawingml/2006/table">
            <a:tbl>
              <a:tblPr/>
              <a:tblGrid>
                <a:gridCol w="633240"/>
                <a:gridCol w="631800"/>
                <a:gridCol w="633600"/>
                <a:gridCol w="631800"/>
                <a:gridCol w="633240"/>
                <a:gridCol w="631800"/>
                <a:gridCol w="63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4000680" y="4357800"/>
          <a:ext cx="4429080" cy="517320"/>
        </p:xfrm>
        <a:graphic>
          <a:graphicData uri="http://schemas.openxmlformats.org/drawingml/2006/table">
            <a:tbl>
              <a:tblPr/>
              <a:tblGrid>
                <a:gridCol w="633240"/>
                <a:gridCol w="631800"/>
                <a:gridCol w="633600"/>
                <a:gridCol w="631800"/>
                <a:gridCol w="633240"/>
                <a:gridCol w="631800"/>
                <a:gridCol w="63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2714760" y="4857840"/>
          <a:ext cx="4429080" cy="517320"/>
        </p:xfrm>
        <a:graphic>
          <a:graphicData uri="http://schemas.openxmlformats.org/drawingml/2006/table">
            <a:tbl>
              <a:tblPr/>
              <a:tblGrid>
                <a:gridCol w="633240"/>
                <a:gridCol w="631800"/>
                <a:gridCol w="633600"/>
                <a:gridCol w="631800"/>
                <a:gridCol w="633240"/>
                <a:gridCol w="631800"/>
                <a:gridCol w="63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sp>
        <p:nvSpPr>
          <p:cNvPr id="284" name="TextBox 15"/>
          <p:cNvSpPr/>
          <p:nvPr/>
        </p:nvSpPr>
        <p:spPr>
          <a:xfrm>
            <a:off x="4000680" y="14288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       И        Г        Н        А       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TextBox 16"/>
          <p:cNvSpPr/>
          <p:nvPr/>
        </p:nvSpPr>
        <p:spPr>
          <a:xfrm>
            <a:off x="3357720" y="19288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       В        А        Р        И       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3357720" y="24289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       Е        Б        Р        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1500120" y="29289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      О        Д       И        Т       Е        Л       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Box 19"/>
          <p:cNvSpPr/>
          <p:nvPr/>
        </p:nvSpPr>
        <p:spPr>
          <a:xfrm>
            <a:off x="857160" y="342900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       Е        Ш       Е        Х       О       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Box 20"/>
          <p:cNvSpPr/>
          <p:nvPr/>
        </p:nvSpPr>
        <p:spPr>
          <a:xfrm>
            <a:off x="2786040" y="392904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       С       Ф       А        Л       Ь       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Box 21"/>
          <p:cNvSpPr/>
          <p:nvPr/>
        </p:nvSpPr>
        <p:spPr>
          <a:xfrm>
            <a:off x="4071960" y="44290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       Б        О       Ч        И       Н       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2786040" y="492912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       Е        Р        Е        Х       О       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Box 23"/>
          <p:cNvSpPr/>
          <p:nvPr/>
        </p:nvSpPr>
        <p:spPr>
          <a:xfrm>
            <a:off x="3571920" y="13572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292896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2928960" y="2357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1071720" y="2857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42876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2357280" y="38577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Box 29"/>
          <p:cNvSpPr/>
          <p:nvPr/>
        </p:nvSpPr>
        <p:spPr>
          <a:xfrm>
            <a:off x="3643200" y="4357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Box 30"/>
          <p:cNvSpPr/>
          <p:nvPr/>
        </p:nvSpPr>
        <p:spPr>
          <a:xfrm>
            <a:off x="2357280" y="4857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Box 32"/>
          <p:cNvSpPr/>
          <p:nvPr/>
        </p:nvSpPr>
        <p:spPr>
          <a:xfrm>
            <a:off x="3929040" y="1357200"/>
            <a:ext cx="714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Прямоугольник 33"/>
          <p:cNvSpPr/>
          <p:nvPr/>
        </p:nvSpPr>
        <p:spPr>
          <a:xfrm>
            <a:off x="3929040" y="1357200"/>
            <a:ext cx="714240" cy="400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2" name="TextBox 34"/>
          <p:cNvGrpSpPr/>
          <p:nvPr/>
        </p:nvGrpSpPr>
        <p:grpSpPr>
          <a:xfrm>
            <a:off x="3938760" y="1365120"/>
            <a:ext cx="688680" cy="4017960"/>
            <a:chOff x="3938760" y="1365120"/>
            <a:chExt cx="688680" cy="4017960"/>
          </a:xfrm>
        </p:grpSpPr>
        <p:pic>
          <p:nvPicPr>
            <p:cNvPr id="303" name="TextBox 34" descr=""/>
            <p:cNvPicPr/>
            <p:nvPr/>
          </p:nvPicPr>
          <p:blipFill>
            <a:blip r:embed="rId1"/>
            <a:stretch/>
          </p:blipFill>
          <p:spPr>
            <a:xfrm>
              <a:off x="3938760" y="1365120"/>
              <a:ext cx="688680" cy="40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000680" y="1428840"/>
              <a:ext cx="571320" cy="38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Ф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332000" y="260280"/>
            <a:ext cx="698508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 !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907920"/>
            <a:ext cx="64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При каком сигнале светофора нельзя переходить улицу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7" descr="Новый рисунок (4)"/>
          <p:cNvPicPr/>
          <p:nvPr/>
        </p:nvPicPr>
        <p:blipFill>
          <a:blip r:embed="rId2"/>
          <a:stretch/>
        </p:blipFill>
        <p:spPr>
          <a:xfrm>
            <a:off x="324000" y="476280"/>
            <a:ext cx="1295280" cy="2376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0" name="AutoShape 9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71" name="AutoShape 9" descr=""/>
            <p:cNvPicPr/>
            <p:nvPr/>
          </p:nvPicPr>
          <p:blipFill>
            <a:blip r:embed="rId3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692360" y="3789360"/>
            <a:ext cx="66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ри красном сигнале светофор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63280" y="1052640"/>
            <a:ext cx="5483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С какого возраста разрешается ездить на переднем сидении автомобиля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3789000"/>
            <a:ext cx="8229600" cy="1150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 12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8" descr="Новый рисунок (4)"/>
          <p:cNvPicPr/>
          <p:nvPr/>
        </p:nvPicPr>
        <p:blipFill>
          <a:blip r:embed="rId2"/>
          <a:stretch/>
        </p:blipFill>
        <p:spPr>
          <a:xfrm>
            <a:off x="179280" y="404640"/>
            <a:ext cx="1440000" cy="2232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9" name="AutoShape 10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80" name="AutoShape 10" descr=""/>
            <p:cNvPicPr/>
            <p:nvPr/>
          </p:nvPicPr>
          <p:blipFill>
            <a:blip r:embed="rId3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1640" y="907920"/>
            <a:ext cx="5545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Как располагаются 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сигналы светофора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3428640"/>
            <a:ext cx="8135640" cy="1592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игналы располагаются в нём в строгой последовательности: красный, жёлтый, зелёны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6" name="AutoShape 9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87" name="AutoShape 9" descr=""/>
            <p:cNvPicPr/>
            <p:nvPr/>
          </p:nvPicPr>
          <p:blipFill>
            <a:blip r:embed="rId2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1" name="AutoShape 6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92" name="AutoShape 6" descr=""/>
            <p:cNvPicPr/>
            <p:nvPr/>
          </p:nvPicPr>
          <p:blipFill>
            <a:blip r:embed="rId2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4" name="Rectangle 9"/>
          <p:cNvSpPr/>
          <p:nvPr/>
        </p:nvSpPr>
        <p:spPr>
          <a:xfrm>
            <a:off x="324000" y="549360"/>
            <a:ext cx="75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Где нужно переходить улицу?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468360" y="3141720"/>
            <a:ext cx="8229600" cy="2455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пешеходным переходам, в местах обозначенной специальной разметкой (зеброй), знаком пешеходный переход, где расположен светофо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7" descr="Новый рисунок (4)"/>
          <p:cNvPicPr/>
          <p:nvPr/>
        </p:nvPicPr>
        <p:blipFill>
          <a:blip r:embed="rId3"/>
          <a:stretch/>
        </p:blipFill>
        <p:spPr>
          <a:xfrm>
            <a:off x="324000" y="476280"/>
            <a:ext cx="129528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AutoShape 4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00" name="AutoShape 4" descr=""/>
            <p:cNvPicPr/>
            <p:nvPr/>
          </p:nvPicPr>
          <p:blipFill>
            <a:blip r:embed="rId2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2" name="Rectangle 7"/>
          <p:cNvSpPr/>
          <p:nvPr/>
        </p:nvSpPr>
        <p:spPr>
          <a:xfrm>
            <a:off x="457200" y="457200"/>
            <a:ext cx="685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Объясни, почему мужчина 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ругает мальчика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8" descr="Untitled-16"/>
          <p:cNvPicPr/>
          <p:nvPr/>
        </p:nvPicPr>
        <p:blipFill>
          <a:blip r:embed="rId3"/>
          <a:stretch/>
        </p:blipFill>
        <p:spPr>
          <a:xfrm>
            <a:off x="826920" y="1989000"/>
            <a:ext cx="4392720" cy="39150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sp>
        <p:nvSpPr>
          <p:cNvPr id="204" name="Rectangle 9"/>
          <p:cNvSpPr/>
          <p:nvPr/>
        </p:nvSpPr>
        <p:spPr>
          <a:xfrm>
            <a:off x="5651640" y="3068640"/>
            <a:ext cx="3241440" cy="23763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льчик неверно переходит дорог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6480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Как надо передвигаться по загородной дороге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3141720"/>
            <a:ext cx="75596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По обочине, навстречу движущемуся транспорту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188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188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188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907200" y="587700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AutoShape 8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10" name="AutoShape 8" descr=""/>
            <p:cNvPicPr/>
            <p:nvPr/>
          </p:nvPicPr>
          <p:blipFill>
            <a:blip r:embed="rId2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12" name="Picture 7" descr="Новый рисунок (4)"/>
          <p:cNvPicPr/>
          <p:nvPr/>
        </p:nvPicPr>
        <p:blipFill>
          <a:blip r:embed="rId3"/>
          <a:stretch/>
        </p:blipFill>
        <p:spPr>
          <a:xfrm>
            <a:off x="0" y="404640"/>
            <a:ext cx="129528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5" name="AutoShape 7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16" name="AutoShape 7" descr=""/>
            <p:cNvPicPr/>
            <p:nvPr/>
          </p:nvPicPr>
          <p:blipFill>
            <a:blip r:embed="rId2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18" name="Rectangle 10"/>
          <p:cNvSpPr/>
          <p:nvPr/>
        </p:nvSpPr>
        <p:spPr>
          <a:xfrm>
            <a:off x="684360" y="1268280"/>
            <a:ext cx="741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Где можно кататься на роликах, скейтбордах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611280" y="3429000"/>
            <a:ext cx="8229600" cy="17287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специальных площадках, в парках, там где нет транспорт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Picture 12" descr="Новый рисунок (4)"/>
          <p:cNvPicPr/>
          <p:nvPr/>
        </p:nvPicPr>
        <p:blipFill>
          <a:blip r:embed="rId3"/>
          <a:stretch/>
        </p:blipFill>
        <p:spPr>
          <a:xfrm>
            <a:off x="395280" y="692280"/>
            <a:ext cx="109080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9:32:42Z</dcterms:created>
  <dc:creator>Natali</dc:creator>
  <dc:description/>
  <dc:language>en-US</dc:language>
  <cp:lastModifiedBy>Elena</cp:lastModifiedBy>
  <dcterms:modified xsi:type="dcterms:W3CDTF">2018-07-05T17:24:47Z</dcterms:modified>
  <cp:revision>11</cp:revision>
  <dc:subject/>
  <dc:title>Урок осторожности  с  Петей Светофоровым</dc:title>
</cp:coreProperties>
</file>