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28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applause.wav" ContentType="audio/x-wav"/>
  <Override PartName="/ppt/media/image16.png" ContentType="image/png"/>
  <Override PartName="/ppt/media/image27.png" ContentType="image/png"/>
  <Override PartName="/ppt/media/image1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73AC-A5C2-47A3-8502-952D9D1F1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3D40-34D7-4E9C-B45E-FEE0F18E6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71DC-7E82-419F-BB96-C1602913F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5A88-7972-45BC-B501-912485199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2E181-BF4D-4709-8AB9-5DBDFFBDF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72901-7D59-4ED7-921D-7FA82543F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A1124-379E-4FDE-92D3-AA297A2B5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B77F1-E0DB-4FE2-9B0A-B7E5D01ED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10975-BD1F-4014-BE0F-85915B0B5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1B9E6-3124-421F-A8EC-C0E83C515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F087C-7924-4C89-A8B3-C2201AE4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A7F3-9AC8-4438-94E7-2B2CF811E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B8EA0-803B-4840-B6ED-A45F2D80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D5CF2-A591-4050-B6CF-5AD67531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AE11E-060F-4FF0-B0B5-D7A348592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4D43E-AA3E-42F4-82E6-6AF8E996A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D183C-8F00-443B-8403-1A8E18998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1E61-0925-483B-995F-8E26D8B82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9459-A646-4284-9FFE-36BB70393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FE05-691E-4EB8-82A2-EF3571EEA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BDD6-BD36-4F32-807F-7335AB0FF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85EC-EA4B-4479-B2F3-864061CF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7F8A-8000-46BE-A2DA-23ABF6F7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C9E9-8373-468D-A46B-EBBBA761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0886E-5489-4110-9343-5F7B88841A7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EBF2D-699E-4ADA-B440-DE7EB2CFA53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345440" cy="244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Урок осторожности 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Петей   Светофоровым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1" name="Picture 8" descr="Untitled-12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2700360" y="2924280"/>
            <a:ext cx="3743280" cy="33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928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Назови эти дорожные знаки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148000" y="2204640"/>
            <a:ext cx="36716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 Narrow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– 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Подземный пешеходный переход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660033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– 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Транспортный светофор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 Narrow"/>
              </a:rPr>
              <a:t>3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– 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Пешеходный переход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 Narrow"/>
              </a:rPr>
              <a:t>4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-  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Дет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 Narrow"/>
              </a:rPr>
              <a:t>5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Пешеходный светофор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AutoShape 4"/>
          <p:cNvSpPr/>
          <p:nvPr/>
        </p:nvSpPr>
        <p:spPr>
          <a:xfrm>
            <a:off x="7740720" y="549360"/>
            <a:ext cx="1152360" cy="1079280"/>
          </a:xfrm>
          <a:custGeom>
            <a:avLst/>
            <a:gdLst>
              <a:gd name="textAreaLeft" fmla="*/ 69840 w 1152360"/>
              <a:gd name="textAreaRight" fmla="*/ 1082520 w 1152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3062" h="21600">
                <a:moveTo>
                  <a:pt x="0" y="0"/>
                </a:moveTo>
                <a:lnTo>
                  <a:pt x="23062" y="0"/>
                </a:lnTo>
                <a:lnTo>
                  <a:pt x="23062" y="21600"/>
                </a:lnTo>
                <a:lnTo>
                  <a:pt x="0" y="21600"/>
                </a:lnTo>
                <a:close/>
              </a:path>
              <a:path fill="lightenLess" w="23062" h="21600">
                <a:moveTo>
                  <a:pt x="0" y="0"/>
                </a:moveTo>
                <a:lnTo>
                  <a:pt x="23062" y="0"/>
                </a:lnTo>
                <a:lnTo>
                  <a:pt x="21662" y="1400"/>
                </a:lnTo>
                <a:lnTo>
                  <a:pt x="1400" y="1400"/>
                </a:lnTo>
                <a:close/>
              </a:path>
              <a:path fill="darken" w="23062" h="21600">
                <a:moveTo>
                  <a:pt x="23062" y="0"/>
                </a:moveTo>
                <a:lnTo>
                  <a:pt x="23062" y="21600"/>
                </a:lnTo>
                <a:lnTo>
                  <a:pt x="21662" y="20200"/>
                </a:lnTo>
                <a:lnTo>
                  <a:pt x="21662" y="1400"/>
                </a:lnTo>
                <a:close/>
              </a:path>
              <a:path fill="darkenLess" w="23062" h="21600">
                <a:moveTo>
                  <a:pt x="230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62" y="20200"/>
                </a:lnTo>
                <a:close/>
              </a:path>
              <a:path fill="lighten" w="230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24" name="Group 13"/>
          <p:cNvGrpSpPr/>
          <p:nvPr/>
        </p:nvGrpSpPr>
        <p:grpSpPr>
          <a:xfrm>
            <a:off x="611280" y="1557360"/>
            <a:ext cx="4320720" cy="4320720"/>
            <a:chOff x="611280" y="1557360"/>
            <a:chExt cx="4320720" cy="4320720"/>
          </a:xfrm>
        </p:grpSpPr>
        <p:pic>
          <p:nvPicPr>
            <p:cNvPr id="225" name="Picture 5" descr="Untitled-1"/>
            <p:cNvPicPr/>
            <p:nvPr/>
          </p:nvPicPr>
          <p:blipFill>
            <a:blip r:embed="rId2"/>
            <a:stretch/>
          </p:blipFill>
          <p:spPr>
            <a:xfrm>
              <a:off x="677880" y="1756440"/>
              <a:ext cx="4150440" cy="412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WordArt 6"/>
            <p:cNvSpPr txBox="1"/>
            <p:nvPr/>
          </p:nvSpPr>
          <p:spPr>
            <a:xfrm>
              <a:off x="611280" y="5081040"/>
              <a:ext cx="235080" cy="492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Arial"/>
                </a:rPr>
                <a:t>1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8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227" name="WordArt 7"/>
            <p:cNvSpPr txBox="1"/>
            <p:nvPr/>
          </p:nvSpPr>
          <p:spPr>
            <a:xfrm>
              <a:off x="611280" y="1822680"/>
              <a:ext cx="235080" cy="49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Arial"/>
                </a:rPr>
                <a:t>2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8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228" name="WordArt 8"/>
            <p:cNvSpPr txBox="1"/>
            <p:nvPr/>
          </p:nvSpPr>
          <p:spPr>
            <a:xfrm>
              <a:off x="4368600" y="1822680"/>
              <a:ext cx="235080" cy="49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Arial"/>
                </a:rPr>
                <a:t>4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8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229" name="WordArt 9"/>
            <p:cNvSpPr txBox="1"/>
            <p:nvPr/>
          </p:nvSpPr>
          <p:spPr>
            <a:xfrm>
              <a:off x="2653920" y="1557360"/>
              <a:ext cx="235080" cy="492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Arial"/>
                </a:rPr>
                <a:t>3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8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230" name="WordArt 10"/>
            <p:cNvSpPr txBox="1"/>
            <p:nvPr/>
          </p:nvSpPr>
          <p:spPr>
            <a:xfrm>
              <a:off x="4696560" y="5347800"/>
              <a:ext cx="235440" cy="492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Arial"/>
                </a:rPr>
                <a:t>5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8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231" name="Text Box 12"/>
          <p:cNvSpPr/>
          <p:nvPr/>
        </p:nvSpPr>
        <p:spPr>
          <a:xfrm>
            <a:off x="1578960" y="6222960"/>
            <a:ext cx="3530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ля проверки правильности ответа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щёлкните левой клавишей мыши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32" name="AutoShape 14"/>
          <p:cNvGrpSpPr/>
          <p:nvPr/>
        </p:nvGrpSpPr>
        <p:grpSpPr>
          <a:xfrm>
            <a:off x="6858000" y="6156360"/>
            <a:ext cx="2077920" cy="469800"/>
            <a:chOff x="6858000" y="6156360"/>
            <a:chExt cx="2077920" cy="469800"/>
          </a:xfrm>
        </p:grpSpPr>
        <p:pic>
          <p:nvPicPr>
            <p:cNvPr id="233" name="AutoShape 14" descr=""/>
            <p:cNvPicPr/>
            <p:nvPr/>
          </p:nvPicPr>
          <p:blipFill>
            <a:blip r:embed="rId3"/>
            <a:stretch/>
          </p:blipFill>
          <p:spPr>
            <a:xfrm>
              <a:off x="6858000" y="6156360"/>
              <a:ext cx="207792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6877080" y="6172200"/>
              <a:ext cx="20383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00"/>
                  </a:solidFill>
                  <a:latin typeface="Arial"/>
                </a:rPr>
                <a:t>Играть дальше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2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2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2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20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20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777708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Объясни действия мальчика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4360" y="5444640"/>
            <a:ext cx="7416720" cy="70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Путь открыт.   Стой на мест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AutoShape 4"/>
          <p:cNvSpPr/>
          <p:nvPr/>
        </p:nvSpPr>
        <p:spPr>
          <a:xfrm>
            <a:off x="7667640" y="549360"/>
            <a:ext cx="1152360" cy="1079280"/>
          </a:xfrm>
          <a:custGeom>
            <a:avLst/>
            <a:gdLst>
              <a:gd name="textAreaLeft" fmla="*/ 69840 w 1152360"/>
              <a:gd name="textAreaRight" fmla="*/ 1082520 w 1152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3062" h="21600">
                <a:moveTo>
                  <a:pt x="0" y="0"/>
                </a:moveTo>
                <a:lnTo>
                  <a:pt x="23062" y="0"/>
                </a:lnTo>
                <a:lnTo>
                  <a:pt x="23062" y="21600"/>
                </a:lnTo>
                <a:lnTo>
                  <a:pt x="0" y="21600"/>
                </a:lnTo>
                <a:close/>
              </a:path>
              <a:path fill="lightenLess" w="23062" h="21600">
                <a:moveTo>
                  <a:pt x="0" y="0"/>
                </a:moveTo>
                <a:lnTo>
                  <a:pt x="23062" y="0"/>
                </a:lnTo>
                <a:lnTo>
                  <a:pt x="21662" y="1400"/>
                </a:lnTo>
                <a:lnTo>
                  <a:pt x="1400" y="1400"/>
                </a:lnTo>
                <a:close/>
              </a:path>
              <a:path fill="darken" w="23062" h="21600">
                <a:moveTo>
                  <a:pt x="23062" y="0"/>
                </a:moveTo>
                <a:lnTo>
                  <a:pt x="23062" y="21600"/>
                </a:lnTo>
                <a:lnTo>
                  <a:pt x="21662" y="20200"/>
                </a:lnTo>
                <a:lnTo>
                  <a:pt x="21662" y="1400"/>
                </a:lnTo>
                <a:close/>
              </a:path>
              <a:path fill="darkenLess" w="23062" h="21600">
                <a:moveTo>
                  <a:pt x="230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62" y="20200"/>
                </a:lnTo>
                <a:close/>
              </a:path>
              <a:path fill="lighten" w="230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8" name="Picture 5" descr="Untitled-14"/>
          <p:cNvPicPr/>
          <p:nvPr/>
        </p:nvPicPr>
        <p:blipFill>
          <a:blip r:embed="rId2"/>
          <a:stretch/>
        </p:blipFill>
        <p:spPr>
          <a:xfrm>
            <a:off x="755640" y="1413000"/>
            <a:ext cx="3046320" cy="3887640"/>
          </a:xfrm>
          <a:prstGeom prst="rect">
            <a:avLst/>
          </a:prstGeom>
          <a:ln w="57240">
            <a:solidFill>
              <a:srgbClr val="000080"/>
            </a:solidFill>
            <a:miter/>
          </a:ln>
        </p:spPr>
      </p:pic>
      <p:pic>
        <p:nvPicPr>
          <p:cNvPr id="239" name="Picture 6" descr="Untitled-15"/>
          <p:cNvPicPr/>
          <p:nvPr/>
        </p:nvPicPr>
        <p:blipFill>
          <a:blip r:embed="rId3"/>
          <a:stretch/>
        </p:blipFill>
        <p:spPr>
          <a:xfrm>
            <a:off x="4264200" y="1413000"/>
            <a:ext cx="3187440" cy="3884400"/>
          </a:xfrm>
          <a:prstGeom prst="rect">
            <a:avLst/>
          </a:prstGeom>
          <a:ln w="57240">
            <a:solidFill>
              <a:srgbClr val="000080"/>
            </a:solidFill>
            <a:miter/>
          </a:ln>
        </p:spPr>
      </p:pic>
      <p:sp>
        <p:nvSpPr>
          <p:cNvPr id="240" name="Text Box 8"/>
          <p:cNvSpPr/>
          <p:nvPr/>
        </p:nvSpPr>
        <p:spPr>
          <a:xfrm>
            <a:off x="1578960" y="6222960"/>
            <a:ext cx="3530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ля проверки правильности ответа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щёлкните левой клавишей мыши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41" name="AutoShape 10"/>
          <p:cNvGrpSpPr/>
          <p:nvPr/>
        </p:nvGrpSpPr>
        <p:grpSpPr>
          <a:xfrm>
            <a:off x="6858000" y="6156360"/>
            <a:ext cx="2077920" cy="469800"/>
            <a:chOff x="6858000" y="6156360"/>
            <a:chExt cx="2077920" cy="469800"/>
          </a:xfrm>
        </p:grpSpPr>
        <p:pic>
          <p:nvPicPr>
            <p:cNvPr id="242" name="AutoShape 10" descr=""/>
            <p:cNvPicPr/>
            <p:nvPr/>
          </p:nvPicPr>
          <p:blipFill>
            <a:blip r:embed="rId4"/>
            <a:stretch/>
          </p:blipFill>
          <p:spPr>
            <a:xfrm>
              <a:off x="6858000" y="6156360"/>
              <a:ext cx="207792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77080" y="6172200"/>
              <a:ext cx="20383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00"/>
                  </a:solidFill>
                  <a:latin typeface="Arial"/>
                </a:rPr>
                <a:t>Играть дальше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" dur="2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WordArt 10"/>
          <p:cNvSpPr txBox="1"/>
          <p:nvPr/>
        </p:nvSpPr>
        <p:spPr>
          <a:xfrm>
            <a:off x="900000" y="549360"/>
            <a:ext cx="7129440" cy="58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926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цы !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77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770" fill="hold"/>
                                        <p:tgtEl>
                                          <p:spTgt spid="2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6" dur="77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Отгадайте загадки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4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50560" y="1557360"/>
            <a:ext cx="7165800" cy="22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99"/>
                </a:solidFill>
                <a:latin typeface="Arial"/>
              </a:rPr>
              <a:t>Отгадай дорожный знак</a:t>
            </a:r>
            <a:endParaRPr b="0" lang="en-US" sz="6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51" name="Picture 30" descr="Рисунок4"/>
          <p:cNvPicPr/>
          <p:nvPr/>
        </p:nvPicPr>
        <p:blipFill>
          <a:blip r:embed="rId1"/>
          <a:stretch/>
        </p:blipFill>
        <p:spPr>
          <a:xfrm>
            <a:off x="6983280" y="0"/>
            <a:ext cx="2160720" cy="2160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2" name="Object 7"/>
          <p:cNvGraphicFramePr/>
          <p:nvPr/>
        </p:nvGraphicFramePr>
        <p:xfrm>
          <a:off x="3635280" y="3860640"/>
          <a:ext cx="1728720" cy="2678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3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35280" y="3860640"/>
                    <a:ext cx="1728720" cy="26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4" name="Picture 9" descr="Рисунок6"/>
          <p:cNvPicPr/>
          <p:nvPr/>
        </p:nvPicPr>
        <p:blipFill>
          <a:blip r:embed="rId4"/>
          <a:stretch/>
        </p:blipFill>
        <p:spPr>
          <a:xfrm>
            <a:off x="6365880" y="3716280"/>
            <a:ext cx="1863720" cy="18734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0" descr="6"/>
          <p:cNvPicPr/>
          <p:nvPr/>
        </p:nvPicPr>
        <p:blipFill>
          <a:blip r:embed="rId5"/>
          <a:stretch/>
        </p:blipFill>
        <p:spPr>
          <a:xfrm>
            <a:off x="684360" y="4365720"/>
            <a:ext cx="1571400" cy="20876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1" descr="1"/>
          <p:cNvPicPr/>
          <p:nvPr/>
        </p:nvPicPr>
        <p:blipFill>
          <a:blip r:embed="rId6"/>
          <a:stretch/>
        </p:blipFill>
        <p:spPr>
          <a:xfrm>
            <a:off x="611280" y="260280"/>
            <a:ext cx="1584360" cy="1656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2" descr="2"/>
          <p:cNvPicPr/>
          <p:nvPr/>
        </p:nvPicPr>
        <p:blipFill>
          <a:blip r:embed="rId7"/>
          <a:stretch/>
        </p:blipFill>
        <p:spPr>
          <a:xfrm>
            <a:off x="4788000" y="333360"/>
            <a:ext cx="17287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5472000" cy="316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Я хочу спросить про знак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Нарисован он вот так: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В треугольнике ребята 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Со всех ног бегут куда –то.</a:t>
            </a:r>
            <a:br>
              <a:rPr sz="32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59" name="Picture 4" descr=""/>
          <p:cNvPicPr/>
          <p:nvPr/>
        </p:nvPicPr>
        <p:blipFill>
          <a:blip r:embed="rId1"/>
          <a:srcRect l="49691" t="61255" r="38127" b="23751"/>
          <a:stretch/>
        </p:blipFill>
        <p:spPr>
          <a:xfrm>
            <a:off x="5715000" y="857160"/>
            <a:ext cx="2768760" cy="25560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1187280" y="4076640"/>
            <a:ext cx="60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ff00"/>
                </a:solidFill>
                <a:latin typeface="Arial"/>
              </a:rPr>
              <a:t>Дети</a:t>
            </a:r>
            <a:endParaRPr b="0" lang="en-US" sz="8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Этот знак такого рода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Он на страже пешехода.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Переходим дружно вместе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Мы дорогу в этом месте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62" name="Picture 4" descr=""/>
          <p:cNvPicPr/>
          <p:nvPr/>
        </p:nvPicPr>
        <p:blipFill>
          <a:blip r:embed="rId1"/>
          <a:srcRect l="83755" t="50003" r="4063" b="33749"/>
          <a:stretch/>
        </p:blipFill>
        <p:spPr>
          <a:xfrm>
            <a:off x="5940360" y="692280"/>
            <a:ext cx="2735280" cy="25938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1187280" y="4365720"/>
            <a:ext cx="691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00"/>
                </a:solidFill>
                <a:latin typeface="Arial"/>
              </a:rPr>
              <a:t>Пешеходный переход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3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5" descr=""/>
          <p:cNvPicPr/>
          <p:nvPr/>
        </p:nvPicPr>
        <p:blipFill>
          <a:blip r:embed="rId1"/>
          <a:stretch/>
        </p:blipFill>
        <p:spPr>
          <a:xfrm>
            <a:off x="0" y="-504720"/>
            <a:ext cx="9325080" cy="7362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Рисунок9"/>
          <p:cNvPicPr/>
          <p:nvPr/>
        </p:nvPicPr>
        <p:blipFill>
          <a:blip r:embed="rId2"/>
          <a:stretch/>
        </p:blipFill>
        <p:spPr>
          <a:xfrm>
            <a:off x="5105520" y="3736800"/>
            <a:ext cx="4038480" cy="31212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Новый рисунок (4)"/>
          <p:cNvPicPr/>
          <p:nvPr/>
        </p:nvPicPr>
        <p:blipFill>
          <a:blip r:embed="rId3"/>
          <a:stretch/>
        </p:blipFill>
        <p:spPr>
          <a:xfrm>
            <a:off x="250920" y="-243000"/>
            <a:ext cx="2233440" cy="259236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5"/>
          <p:cNvSpPr/>
          <p:nvPr/>
        </p:nvSpPr>
        <p:spPr>
          <a:xfrm>
            <a:off x="826920" y="5950080"/>
            <a:ext cx="1441440" cy="609480"/>
          </a:xfrm>
          <a:custGeom>
            <a:avLst/>
            <a:gdLst>
              <a:gd name="textAreaLeft" fmla="*/ 39240 w 1441440"/>
              <a:gd name="textAreaRight" fmla="*/ 1402200 w 1441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1067" h="21600">
                <a:moveTo>
                  <a:pt x="0" y="0"/>
                </a:moveTo>
                <a:lnTo>
                  <a:pt x="51067" y="0"/>
                </a:lnTo>
                <a:lnTo>
                  <a:pt x="51067" y="21600"/>
                </a:lnTo>
                <a:lnTo>
                  <a:pt x="0" y="21600"/>
                </a:lnTo>
                <a:close/>
              </a:path>
              <a:path fill="lightenLess" w="51067" h="21600">
                <a:moveTo>
                  <a:pt x="0" y="0"/>
                </a:moveTo>
                <a:lnTo>
                  <a:pt x="51067" y="0"/>
                </a:lnTo>
                <a:lnTo>
                  <a:pt x="49667" y="1400"/>
                </a:lnTo>
                <a:lnTo>
                  <a:pt x="1400" y="1400"/>
                </a:lnTo>
                <a:close/>
              </a:path>
              <a:path fill="darken" w="51067" h="21600">
                <a:moveTo>
                  <a:pt x="51067" y="0"/>
                </a:moveTo>
                <a:lnTo>
                  <a:pt x="51067" y="21600"/>
                </a:lnTo>
                <a:lnTo>
                  <a:pt x="49667" y="20200"/>
                </a:lnTo>
                <a:lnTo>
                  <a:pt x="49667" y="1400"/>
                </a:lnTo>
                <a:close/>
              </a:path>
              <a:path fill="darkenLess" w="51067" h="21600">
                <a:moveTo>
                  <a:pt x="510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667" y="20200"/>
                </a:lnTo>
                <a:close/>
              </a:path>
              <a:path fill="lighten" w="510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>
              <a:alpha val="42000"/>
            </a:srgbClr>
          </a:solid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Игр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autoRev="1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7" dur="500" autoRev="1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8" dur="500" autoRev="1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5400720" cy="25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Человек, идущий в чёрном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Красной чёрточкой зачёркнут.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И дорожка вроде, но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Здесь ходить запрещено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187280" y="3645000"/>
            <a:ext cx="5832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00"/>
                </a:solidFill>
                <a:latin typeface="Arial"/>
              </a:rPr>
              <a:t>Движение пешеходов запрещено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6372360" y="260280"/>
            <a:ext cx="25207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23640" y="404280"/>
            <a:ext cx="561492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В синем круге пешеход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Не торопится, идёт.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Здесь дорожка безопасна.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По ней идти совсем не страшно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00"/>
                </a:solidFill>
                <a:latin typeface="Arial"/>
              </a:rPr>
              <a:t>Пешеходная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00"/>
                </a:solidFill>
                <a:latin typeface="Arial"/>
              </a:rPr>
              <a:t>дорожка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6156360" y="549360"/>
            <a:ext cx="25192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79280" y="404280"/>
            <a:ext cx="673272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Землю роет человек.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Почему проезда нет?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Может быть, здесь ищут клад?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И старинные монеты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В сундуке большом лежат?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Их сюда, наверно, в старь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Спрятал очень жадный царь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1371600" y="4508280"/>
            <a:ext cx="640080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00"/>
                </a:solidFill>
                <a:latin typeface="Arial"/>
              </a:rPr>
              <a:t>Дорожные работы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6300720" y="549360"/>
            <a:ext cx="255600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280" y="404280"/>
            <a:ext cx="5905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Синий круг, велосипед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Ничего другого нет.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Что за знак?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Найди ответ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00"/>
                </a:solidFill>
                <a:latin typeface="Arial"/>
              </a:rPr>
              <a:t>Велосипедная дорожка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5940360" y="260280"/>
            <a:ext cx="27352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3929040" y="1357200"/>
          <a:ext cx="3786120" cy="517680"/>
        </p:xfrm>
        <a:graphic>
          <a:graphicData uri="http://schemas.openxmlformats.org/drawingml/2006/table">
            <a:tbl>
              <a:tblPr/>
              <a:tblGrid>
                <a:gridCol w="631800"/>
                <a:gridCol w="630360"/>
                <a:gridCol w="631800"/>
                <a:gridCol w="630360"/>
                <a:gridCol w="631800"/>
                <a:gridCol w="630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3286080" y="1857240"/>
          <a:ext cx="3786120" cy="517680"/>
        </p:xfrm>
        <a:graphic>
          <a:graphicData uri="http://schemas.openxmlformats.org/drawingml/2006/table">
            <a:tbl>
              <a:tblPr/>
              <a:tblGrid>
                <a:gridCol w="631800"/>
                <a:gridCol w="630360"/>
                <a:gridCol w="631800"/>
                <a:gridCol w="630360"/>
                <a:gridCol w="631800"/>
                <a:gridCol w="630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3286080" y="2357280"/>
          <a:ext cx="3156120" cy="517680"/>
        </p:xfrm>
        <a:graphic>
          <a:graphicData uri="http://schemas.openxmlformats.org/drawingml/2006/table">
            <a:tbl>
              <a:tblPr/>
              <a:tblGrid>
                <a:gridCol w="631800"/>
                <a:gridCol w="630360"/>
                <a:gridCol w="631800"/>
                <a:gridCol w="630360"/>
                <a:gridCol w="631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1428840" y="2857680"/>
          <a:ext cx="5000400" cy="517320"/>
        </p:xfrm>
        <a:graphic>
          <a:graphicData uri="http://schemas.openxmlformats.org/drawingml/2006/table">
            <a:tbl>
              <a:tblPr/>
              <a:tblGrid>
                <a:gridCol w="625320"/>
                <a:gridCol w="625680"/>
                <a:gridCol w="623880"/>
                <a:gridCol w="625320"/>
                <a:gridCol w="625320"/>
                <a:gridCol w="625680"/>
                <a:gridCol w="623880"/>
                <a:gridCol w="625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785880" y="3357720"/>
          <a:ext cx="4429080" cy="517320"/>
        </p:xfrm>
        <a:graphic>
          <a:graphicData uri="http://schemas.openxmlformats.org/drawingml/2006/table">
            <a:tbl>
              <a:tblPr/>
              <a:tblGrid>
                <a:gridCol w="633240"/>
                <a:gridCol w="631800"/>
                <a:gridCol w="633600"/>
                <a:gridCol w="631800"/>
                <a:gridCol w="633240"/>
                <a:gridCol w="631800"/>
                <a:gridCol w="633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2714760" y="3857760"/>
          <a:ext cx="4429080" cy="517320"/>
        </p:xfrm>
        <a:graphic>
          <a:graphicData uri="http://schemas.openxmlformats.org/drawingml/2006/table">
            <a:tbl>
              <a:tblPr/>
              <a:tblGrid>
                <a:gridCol w="633240"/>
                <a:gridCol w="631800"/>
                <a:gridCol w="633600"/>
                <a:gridCol w="631800"/>
                <a:gridCol w="633240"/>
                <a:gridCol w="631800"/>
                <a:gridCol w="633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2" name=""/>
          <p:cNvGraphicFramePr/>
          <p:nvPr/>
        </p:nvGraphicFramePr>
        <p:xfrm>
          <a:off x="4000680" y="4357800"/>
          <a:ext cx="4429080" cy="517320"/>
        </p:xfrm>
        <a:graphic>
          <a:graphicData uri="http://schemas.openxmlformats.org/drawingml/2006/table">
            <a:tbl>
              <a:tblPr/>
              <a:tblGrid>
                <a:gridCol w="633240"/>
                <a:gridCol w="631800"/>
                <a:gridCol w="633600"/>
                <a:gridCol w="631800"/>
                <a:gridCol w="633240"/>
                <a:gridCol w="631800"/>
                <a:gridCol w="633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2714760" y="4857840"/>
          <a:ext cx="4429080" cy="517320"/>
        </p:xfrm>
        <a:graphic>
          <a:graphicData uri="http://schemas.openxmlformats.org/drawingml/2006/table">
            <a:tbl>
              <a:tblPr/>
              <a:tblGrid>
                <a:gridCol w="633240"/>
                <a:gridCol w="631800"/>
                <a:gridCol w="633600"/>
                <a:gridCol w="631800"/>
                <a:gridCol w="633240"/>
                <a:gridCol w="631800"/>
                <a:gridCol w="633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f5050"/>
                    </a:solidFill>
                  </a:tcPr>
                </a:tc>
              </a:tr>
            </a:tbl>
          </a:graphicData>
        </a:graphic>
      </p:graphicFrame>
      <p:sp>
        <p:nvSpPr>
          <p:cNvPr id="284" name="TextBox 15"/>
          <p:cNvSpPr/>
          <p:nvPr/>
        </p:nvSpPr>
        <p:spPr>
          <a:xfrm>
            <a:off x="4000680" y="142884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       И        Г        Н        А       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TextBox 16"/>
          <p:cNvSpPr/>
          <p:nvPr/>
        </p:nvSpPr>
        <p:spPr>
          <a:xfrm>
            <a:off x="3357720" y="192888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       В        А        Р        И       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TextBox 17"/>
          <p:cNvSpPr/>
          <p:nvPr/>
        </p:nvSpPr>
        <p:spPr>
          <a:xfrm>
            <a:off x="3357720" y="2428920"/>
            <a:ext cx="30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       Е        Б        Р        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TextBox 18"/>
          <p:cNvSpPr/>
          <p:nvPr/>
        </p:nvSpPr>
        <p:spPr>
          <a:xfrm>
            <a:off x="1500120" y="2928960"/>
            <a:ext cx="485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       О        Д       И        Т       Е        Л       Ь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TextBox 19"/>
          <p:cNvSpPr/>
          <p:nvPr/>
        </p:nvSpPr>
        <p:spPr>
          <a:xfrm>
            <a:off x="857160" y="3429000"/>
            <a:ext cx="42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       Е        Ш       Е        Х       О       Д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TextBox 20"/>
          <p:cNvSpPr/>
          <p:nvPr/>
        </p:nvSpPr>
        <p:spPr>
          <a:xfrm>
            <a:off x="2786040" y="3929040"/>
            <a:ext cx="428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       С       Ф       А        Л       Ь       Т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TextBox 21"/>
          <p:cNvSpPr/>
          <p:nvPr/>
        </p:nvSpPr>
        <p:spPr>
          <a:xfrm>
            <a:off x="4071960" y="4429080"/>
            <a:ext cx="428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       Б        О       Ч        И       Н       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TextBox 22"/>
          <p:cNvSpPr/>
          <p:nvPr/>
        </p:nvSpPr>
        <p:spPr>
          <a:xfrm>
            <a:off x="2786040" y="4929120"/>
            <a:ext cx="428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       Е        Р        Е        Х       О       Д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TextBox 23"/>
          <p:cNvSpPr/>
          <p:nvPr/>
        </p:nvSpPr>
        <p:spPr>
          <a:xfrm>
            <a:off x="3571920" y="135720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TextBox 24"/>
          <p:cNvSpPr/>
          <p:nvPr/>
        </p:nvSpPr>
        <p:spPr>
          <a:xfrm>
            <a:off x="2928960" y="18572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TextBox 25"/>
          <p:cNvSpPr/>
          <p:nvPr/>
        </p:nvSpPr>
        <p:spPr>
          <a:xfrm>
            <a:off x="2928960" y="23572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TextBox 26"/>
          <p:cNvSpPr/>
          <p:nvPr/>
        </p:nvSpPr>
        <p:spPr>
          <a:xfrm>
            <a:off x="1071720" y="28576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TextBox 27"/>
          <p:cNvSpPr/>
          <p:nvPr/>
        </p:nvSpPr>
        <p:spPr>
          <a:xfrm>
            <a:off x="428760" y="33577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TextBox 28"/>
          <p:cNvSpPr/>
          <p:nvPr/>
        </p:nvSpPr>
        <p:spPr>
          <a:xfrm>
            <a:off x="2357280" y="385776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TextBox 29"/>
          <p:cNvSpPr/>
          <p:nvPr/>
        </p:nvSpPr>
        <p:spPr>
          <a:xfrm>
            <a:off x="3643200" y="435780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TextBox 30"/>
          <p:cNvSpPr/>
          <p:nvPr/>
        </p:nvSpPr>
        <p:spPr>
          <a:xfrm>
            <a:off x="2357280" y="485784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TextBox 32"/>
          <p:cNvSpPr/>
          <p:nvPr/>
        </p:nvSpPr>
        <p:spPr>
          <a:xfrm>
            <a:off x="3929040" y="1357200"/>
            <a:ext cx="714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Прямоугольник 33"/>
          <p:cNvSpPr/>
          <p:nvPr/>
        </p:nvSpPr>
        <p:spPr>
          <a:xfrm>
            <a:off x="3929040" y="1357200"/>
            <a:ext cx="714240" cy="4000680"/>
          </a:xfrm>
          <a:prstGeom prst="rect">
            <a:avLst/>
          </a:prstGeom>
          <a:solidFill>
            <a:srgbClr val="ff5050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02" name="TextBox 34"/>
          <p:cNvGrpSpPr/>
          <p:nvPr/>
        </p:nvGrpSpPr>
        <p:grpSpPr>
          <a:xfrm>
            <a:off x="3938760" y="1365120"/>
            <a:ext cx="688680" cy="4017960"/>
            <a:chOff x="3938760" y="1365120"/>
            <a:chExt cx="688680" cy="4017960"/>
          </a:xfrm>
        </p:grpSpPr>
        <p:pic>
          <p:nvPicPr>
            <p:cNvPr id="303" name="TextBox 34" descr=""/>
            <p:cNvPicPr/>
            <p:nvPr/>
          </p:nvPicPr>
          <p:blipFill>
            <a:blip r:embed="rId1"/>
            <a:stretch/>
          </p:blipFill>
          <p:spPr>
            <a:xfrm>
              <a:off x="3938760" y="1365120"/>
              <a:ext cx="688680" cy="401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4000680" y="1428840"/>
              <a:ext cx="571320" cy="38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Е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Т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Ф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Р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1332000" y="260280"/>
            <a:ext cx="6985080" cy="561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цы !</a:t>
            </a:r>
            <a:endParaRPr b="1" lang="en-US" sz="1800" spc="1" strike="noStrike">
              <a:ln w="255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22" presetSubtype="8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99640" y="907920"/>
            <a:ext cx="6480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При каком сигнале светофора нельзя переходить улицу?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AutoShape 5"/>
          <p:cNvSpPr/>
          <p:nvPr/>
        </p:nvSpPr>
        <p:spPr>
          <a:xfrm>
            <a:off x="7740720" y="549360"/>
            <a:ext cx="1152360" cy="1079280"/>
          </a:xfrm>
          <a:custGeom>
            <a:avLst/>
            <a:gdLst>
              <a:gd name="textAreaLeft" fmla="*/ 69840 w 1152360"/>
              <a:gd name="textAreaRight" fmla="*/ 1082520 w 1152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3062" h="21600">
                <a:moveTo>
                  <a:pt x="0" y="0"/>
                </a:moveTo>
                <a:lnTo>
                  <a:pt x="23062" y="0"/>
                </a:lnTo>
                <a:lnTo>
                  <a:pt x="23062" y="21600"/>
                </a:lnTo>
                <a:lnTo>
                  <a:pt x="0" y="21600"/>
                </a:lnTo>
                <a:close/>
              </a:path>
              <a:path fill="lightenLess" w="23062" h="21600">
                <a:moveTo>
                  <a:pt x="0" y="0"/>
                </a:moveTo>
                <a:lnTo>
                  <a:pt x="23062" y="0"/>
                </a:lnTo>
                <a:lnTo>
                  <a:pt x="21662" y="1400"/>
                </a:lnTo>
                <a:lnTo>
                  <a:pt x="1400" y="1400"/>
                </a:lnTo>
                <a:close/>
              </a:path>
              <a:path fill="darken" w="23062" h="21600">
                <a:moveTo>
                  <a:pt x="23062" y="0"/>
                </a:moveTo>
                <a:lnTo>
                  <a:pt x="23062" y="21600"/>
                </a:lnTo>
                <a:lnTo>
                  <a:pt x="21662" y="20200"/>
                </a:lnTo>
                <a:lnTo>
                  <a:pt x="21662" y="1400"/>
                </a:lnTo>
                <a:close/>
              </a:path>
              <a:path fill="darkenLess" w="23062" h="21600">
                <a:moveTo>
                  <a:pt x="230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62" y="20200"/>
                </a:lnTo>
                <a:close/>
              </a:path>
              <a:path fill="lighten" w="230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8" name="Picture 7" descr="Новый рисунок (4)"/>
          <p:cNvPicPr/>
          <p:nvPr/>
        </p:nvPicPr>
        <p:blipFill>
          <a:blip r:embed="rId2"/>
          <a:stretch/>
        </p:blipFill>
        <p:spPr>
          <a:xfrm>
            <a:off x="324000" y="476280"/>
            <a:ext cx="1295280" cy="237636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8"/>
          <p:cNvSpPr/>
          <p:nvPr/>
        </p:nvSpPr>
        <p:spPr>
          <a:xfrm>
            <a:off x="1578960" y="6222960"/>
            <a:ext cx="3530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ля проверки правильности ответа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щёлкните левой клавишей мыши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70" name="AutoShape 9"/>
          <p:cNvGrpSpPr/>
          <p:nvPr/>
        </p:nvGrpSpPr>
        <p:grpSpPr>
          <a:xfrm>
            <a:off x="6858000" y="6156360"/>
            <a:ext cx="2077920" cy="469800"/>
            <a:chOff x="6858000" y="6156360"/>
            <a:chExt cx="2077920" cy="469800"/>
          </a:xfrm>
        </p:grpSpPr>
        <p:pic>
          <p:nvPicPr>
            <p:cNvPr id="171" name="AutoShape 9" descr=""/>
            <p:cNvPicPr/>
            <p:nvPr/>
          </p:nvPicPr>
          <p:blipFill>
            <a:blip r:embed="rId3"/>
            <a:stretch/>
          </p:blipFill>
          <p:spPr>
            <a:xfrm>
              <a:off x="6858000" y="6156360"/>
              <a:ext cx="207792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6877080" y="6172200"/>
              <a:ext cx="20383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00"/>
                  </a:solidFill>
                  <a:latin typeface="Arial"/>
                </a:rPr>
                <a:t>Играть дальше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1692360" y="3789360"/>
            <a:ext cx="669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При красном сигнале светофора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63280" y="1052640"/>
            <a:ext cx="54831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С какого возраста разрешается ездить на переднем сидении автомобиля?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360" y="3789000"/>
            <a:ext cx="8229600" cy="115092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С 12 ле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AutoShape 6"/>
          <p:cNvSpPr/>
          <p:nvPr/>
        </p:nvSpPr>
        <p:spPr>
          <a:xfrm>
            <a:off x="7740720" y="549360"/>
            <a:ext cx="1152360" cy="1079280"/>
          </a:xfrm>
          <a:custGeom>
            <a:avLst/>
            <a:gdLst>
              <a:gd name="textAreaLeft" fmla="*/ 69840 w 1152360"/>
              <a:gd name="textAreaRight" fmla="*/ 1082520 w 1152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3062" h="21600">
                <a:moveTo>
                  <a:pt x="0" y="0"/>
                </a:moveTo>
                <a:lnTo>
                  <a:pt x="23062" y="0"/>
                </a:lnTo>
                <a:lnTo>
                  <a:pt x="23062" y="21600"/>
                </a:lnTo>
                <a:lnTo>
                  <a:pt x="0" y="21600"/>
                </a:lnTo>
                <a:close/>
              </a:path>
              <a:path fill="lightenLess" w="23062" h="21600">
                <a:moveTo>
                  <a:pt x="0" y="0"/>
                </a:moveTo>
                <a:lnTo>
                  <a:pt x="23062" y="0"/>
                </a:lnTo>
                <a:lnTo>
                  <a:pt x="21662" y="1400"/>
                </a:lnTo>
                <a:lnTo>
                  <a:pt x="1400" y="1400"/>
                </a:lnTo>
                <a:close/>
              </a:path>
              <a:path fill="darken" w="23062" h="21600">
                <a:moveTo>
                  <a:pt x="23062" y="0"/>
                </a:moveTo>
                <a:lnTo>
                  <a:pt x="23062" y="21600"/>
                </a:lnTo>
                <a:lnTo>
                  <a:pt x="21662" y="20200"/>
                </a:lnTo>
                <a:lnTo>
                  <a:pt x="21662" y="1400"/>
                </a:lnTo>
                <a:close/>
              </a:path>
              <a:path fill="darkenLess" w="23062" h="21600">
                <a:moveTo>
                  <a:pt x="230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62" y="20200"/>
                </a:lnTo>
                <a:close/>
              </a:path>
              <a:path fill="lighten" w="230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7" name="Picture 8" descr="Новый рисунок (4)"/>
          <p:cNvPicPr/>
          <p:nvPr/>
        </p:nvPicPr>
        <p:blipFill>
          <a:blip r:embed="rId2"/>
          <a:stretch/>
        </p:blipFill>
        <p:spPr>
          <a:xfrm>
            <a:off x="179280" y="404640"/>
            <a:ext cx="1440000" cy="223236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9"/>
          <p:cNvSpPr/>
          <p:nvPr/>
        </p:nvSpPr>
        <p:spPr>
          <a:xfrm>
            <a:off x="1578960" y="6222960"/>
            <a:ext cx="3530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ля проверки правильности ответа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щёлкните левой клавишей мыши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79" name="AutoShape 10"/>
          <p:cNvGrpSpPr/>
          <p:nvPr/>
        </p:nvGrpSpPr>
        <p:grpSpPr>
          <a:xfrm>
            <a:off x="6858000" y="6156360"/>
            <a:ext cx="2077920" cy="469800"/>
            <a:chOff x="6858000" y="6156360"/>
            <a:chExt cx="2077920" cy="469800"/>
          </a:xfrm>
        </p:grpSpPr>
        <p:pic>
          <p:nvPicPr>
            <p:cNvPr id="180" name="AutoShape 10" descr=""/>
            <p:cNvPicPr/>
            <p:nvPr/>
          </p:nvPicPr>
          <p:blipFill>
            <a:blip r:embed="rId3"/>
            <a:stretch/>
          </p:blipFill>
          <p:spPr>
            <a:xfrm>
              <a:off x="6858000" y="6156360"/>
              <a:ext cx="207792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6877080" y="6172200"/>
              <a:ext cx="20383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00"/>
                  </a:solidFill>
                  <a:latin typeface="Arial"/>
                </a:rPr>
                <a:t>Играть дальше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31640" y="907920"/>
            <a:ext cx="5545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Как располагаются </a:t>
            </a:r>
            <a:br>
              <a:rPr sz="3600"/>
            </a:b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сигналы светофора?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000" y="3428640"/>
            <a:ext cx="8135640" cy="159228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Сигналы располагаются в нём в строгой последовательности: красный, жёлтый, зелёны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7740720" y="549360"/>
            <a:ext cx="1152360" cy="1079280"/>
          </a:xfrm>
          <a:custGeom>
            <a:avLst/>
            <a:gdLst>
              <a:gd name="textAreaLeft" fmla="*/ 69840 w 1152360"/>
              <a:gd name="textAreaRight" fmla="*/ 1082520 w 1152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3062" h="21600">
                <a:moveTo>
                  <a:pt x="0" y="0"/>
                </a:moveTo>
                <a:lnTo>
                  <a:pt x="23062" y="0"/>
                </a:lnTo>
                <a:lnTo>
                  <a:pt x="23062" y="21600"/>
                </a:lnTo>
                <a:lnTo>
                  <a:pt x="0" y="21600"/>
                </a:lnTo>
                <a:close/>
              </a:path>
              <a:path fill="lightenLess" w="23062" h="21600">
                <a:moveTo>
                  <a:pt x="0" y="0"/>
                </a:moveTo>
                <a:lnTo>
                  <a:pt x="23062" y="0"/>
                </a:lnTo>
                <a:lnTo>
                  <a:pt x="21662" y="1400"/>
                </a:lnTo>
                <a:lnTo>
                  <a:pt x="1400" y="1400"/>
                </a:lnTo>
                <a:close/>
              </a:path>
              <a:path fill="darken" w="23062" h="21600">
                <a:moveTo>
                  <a:pt x="23062" y="0"/>
                </a:moveTo>
                <a:lnTo>
                  <a:pt x="23062" y="21600"/>
                </a:lnTo>
                <a:lnTo>
                  <a:pt x="21662" y="20200"/>
                </a:lnTo>
                <a:lnTo>
                  <a:pt x="21662" y="1400"/>
                </a:lnTo>
                <a:close/>
              </a:path>
              <a:path fill="darkenLess" w="23062" h="21600">
                <a:moveTo>
                  <a:pt x="230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62" y="20200"/>
                </a:lnTo>
                <a:close/>
              </a:path>
              <a:path fill="lighten" w="230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1578960" y="6222960"/>
            <a:ext cx="3530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ля проверки правильности ответа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щёлкните левой клавишей мыши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6" name="AutoShape 9"/>
          <p:cNvGrpSpPr/>
          <p:nvPr/>
        </p:nvGrpSpPr>
        <p:grpSpPr>
          <a:xfrm>
            <a:off x="6858000" y="6156360"/>
            <a:ext cx="2077920" cy="469800"/>
            <a:chOff x="6858000" y="6156360"/>
            <a:chExt cx="2077920" cy="469800"/>
          </a:xfrm>
        </p:grpSpPr>
        <p:pic>
          <p:nvPicPr>
            <p:cNvPr id="187" name="AutoShape 9" descr=""/>
            <p:cNvPicPr/>
            <p:nvPr/>
          </p:nvPicPr>
          <p:blipFill>
            <a:blip r:embed="rId2"/>
            <a:stretch/>
          </p:blipFill>
          <p:spPr>
            <a:xfrm>
              <a:off x="6858000" y="6156360"/>
              <a:ext cx="207792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6877080" y="6172200"/>
              <a:ext cx="20383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00"/>
                  </a:solidFill>
                  <a:latin typeface="Arial"/>
                </a:rPr>
                <a:t>Играть дальше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AutoShape 4"/>
          <p:cNvSpPr/>
          <p:nvPr/>
        </p:nvSpPr>
        <p:spPr>
          <a:xfrm>
            <a:off x="7740720" y="549360"/>
            <a:ext cx="1152360" cy="1079280"/>
          </a:xfrm>
          <a:custGeom>
            <a:avLst/>
            <a:gdLst>
              <a:gd name="textAreaLeft" fmla="*/ 69840 w 1152360"/>
              <a:gd name="textAreaRight" fmla="*/ 1082520 w 1152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3062" h="21600">
                <a:moveTo>
                  <a:pt x="0" y="0"/>
                </a:moveTo>
                <a:lnTo>
                  <a:pt x="23062" y="0"/>
                </a:lnTo>
                <a:lnTo>
                  <a:pt x="23062" y="21600"/>
                </a:lnTo>
                <a:lnTo>
                  <a:pt x="0" y="21600"/>
                </a:lnTo>
                <a:close/>
              </a:path>
              <a:path fill="lightenLess" w="23062" h="21600">
                <a:moveTo>
                  <a:pt x="0" y="0"/>
                </a:moveTo>
                <a:lnTo>
                  <a:pt x="23062" y="0"/>
                </a:lnTo>
                <a:lnTo>
                  <a:pt x="21662" y="1400"/>
                </a:lnTo>
                <a:lnTo>
                  <a:pt x="1400" y="1400"/>
                </a:lnTo>
                <a:close/>
              </a:path>
              <a:path fill="darken" w="23062" h="21600">
                <a:moveTo>
                  <a:pt x="23062" y="0"/>
                </a:moveTo>
                <a:lnTo>
                  <a:pt x="23062" y="21600"/>
                </a:lnTo>
                <a:lnTo>
                  <a:pt x="21662" y="20200"/>
                </a:lnTo>
                <a:lnTo>
                  <a:pt x="21662" y="1400"/>
                </a:lnTo>
                <a:close/>
              </a:path>
              <a:path fill="darkenLess" w="23062" h="21600">
                <a:moveTo>
                  <a:pt x="230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62" y="20200"/>
                </a:lnTo>
                <a:close/>
              </a:path>
              <a:path fill="lighten" w="230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1578960" y="6222960"/>
            <a:ext cx="3530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ля проверки правильности ответа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щёлкните левой клавишей мыши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91" name="AutoShape 6"/>
          <p:cNvGrpSpPr/>
          <p:nvPr/>
        </p:nvGrpSpPr>
        <p:grpSpPr>
          <a:xfrm>
            <a:off x="6858000" y="6156360"/>
            <a:ext cx="2077920" cy="469800"/>
            <a:chOff x="6858000" y="6156360"/>
            <a:chExt cx="2077920" cy="469800"/>
          </a:xfrm>
        </p:grpSpPr>
        <p:pic>
          <p:nvPicPr>
            <p:cNvPr id="192" name="AutoShape 6" descr=""/>
            <p:cNvPicPr/>
            <p:nvPr/>
          </p:nvPicPr>
          <p:blipFill>
            <a:blip r:embed="rId2"/>
            <a:stretch/>
          </p:blipFill>
          <p:spPr>
            <a:xfrm>
              <a:off x="6858000" y="6156360"/>
              <a:ext cx="207792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6877080" y="6172200"/>
              <a:ext cx="20383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00"/>
                  </a:solidFill>
                  <a:latin typeface="Arial"/>
                </a:rPr>
                <a:t>Играть дальше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94" name="Rectangle 9"/>
          <p:cNvSpPr/>
          <p:nvPr/>
        </p:nvSpPr>
        <p:spPr>
          <a:xfrm>
            <a:off x="324000" y="549360"/>
            <a:ext cx="7524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Где нужно переходить улицу?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468360" y="3141720"/>
            <a:ext cx="8229600" cy="245592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 пешеходным переходам, в местах обозначенной специальной разметкой (зеброй), знаком пешеходный переход, где расположен светофор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6" name="Picture 7" descr="Новый рисунок (4)"/>
          <p:cNvPicPr/>
          <p:nvPr/>
        </p:nvPicPr>
        <p:blipFill>
          <a:blip r:embed="rId3"/>
          <a:stretch/>
        </p:blipFill>
        <p:spPr>
          <a:xfrm>
            <a:off x="324000" y="476280"/>
            <a:ext cx="1295280" cy="23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AutoShape 2"/>
          <p:cNvSpPr/>
          <p:nvPr/>
        </p:nvSpPr>
        <p:spPr>
          <a:xfrm>
            <a:off x="7740720" y="549360"/>
            <a:ext cx="1152360" cy="1079280"/>
          </a:xfrm>
          <a:custGeom>
            <a:avLst/>
            <a:gdLst>
              <a:gd name="textAreaLeft" fmla="*/ 69840 w 1152360"/>
              <a:gd name="textAreaRight" fmla="*/ 1082520 w 1152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3062" h="21600">
                <a:moveTo>
                  <a:pt x="0" y="0"/>
                </a:moveTo>
                <a:lnTo>
                  <a:pt x="23062" y="0"/>
                </a:lnTo>
                <a:lnTo>
                  <a:pt x="23062" y="21600"/>
                </a:lnTo>
                <a:lnTo>
                  <a:pt x="0" y="21600"/>
                </a:lnTo>
                <a:close/>
              </a:path>
              <a:path fill="lightenLess" w="23062" h="21600">
                <a:moveTo>
                  <a:pt x="0" y="0"/>
                </a:moveTo>
                <a:lnTo>
                  <a:pt x="23062" y="0"/>
                </a:lnTo>
                <a:lnTo>
                  <a:pt x="21662" y="1400"/>
                </a:lnTo>
                <a:lnTo>
                  <a:pt x="1400" y="1400"/>
                </a:lnTo>
                <a:close/>
              </a:path>
              <a:path fill="darken" w="23062" h="21600">
                <a:moveTo>
                  <a:pt x="23062" y="0"/>
                </a:moveTo>
                <a:lnTo>
                  <a:pt x="23062" y="21600"/>
                </a:lnTo>
                <a:lnTo>
                  <a:pt x="21662" y="20200"/>
                </a:lnTo>
                <a:lnTo>
                  <a:pt x="21662" y="1400"/>
                </a:lnTo>
                <a:close/>
              </a:path>
              <a:path fill="darkenLess" w="23062" h="21600">
                <a:moveTo>
                  <a:pt x="230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62" y="20200"/>
                </a:lnTo>
                <a:close/>
              </a:path>
              <a:path fill="lighten" w="230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578960" y="6222960"/>
            <a:ext cx="3530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ля проверки правильности ответа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щёлкните левой клавишей мыши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99" name="AutoShape 4"/>
          <p:cNvGrpSpPr/>
          <p:nvPr/>
        </p:nvGrpSpPr>
        <p:grpSpPr>
          <a:xfrm>
            <a:off x="6858000" y="6156360"/>
            <a:ext cx="2077920" cy="469800"/>
            <a:chOff x="6858000" y="6156360"/>
            <a:chExt cx="2077920" cy="469800"/>
          </a:xfrm>
        </p:grpSpPr>
        <p:pic>
          <p:nvPicPr>
            <p:cNvPr id="200" name="AutoShape 4" descr=""/>
            <p:cNvPicPr/>
            <p:nvPr/>
          </p:nvPicPr>
          <p:blipFill>
            <a:blip r:embed="rId2"/>
            <a:stretch/>
          </p:blipFill>
          <p:spPr>
            <a:xfrm>
              <a:off x="6858000" y="6156360"/>
              <a:ext cx="207792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6877080" y="6172200"/>
              <a:ext cx="20383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00"/>
                  </a:solidFill>
                  <a:latin typeface="Arial"/>
                </a:rPr>
                <a:t>Играть дальше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02" name="Rectangle 7"/>
          <p:cNvSpPr/>
          <p:nvPr/>
        </p:nvSpPr>
        <p:spPr>
          <a:xfrm>
            <a:off x="457200" y="457200"/>
            <a:ext cx="6851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Объясни, почему мужчина </a:t>
            </a:r>
            <a:br>
              <a:rPr sz="3600"/>
            </a:b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ругает мальчика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3" name="Picture 8" descr="Untitled-16"/>
          <p:cNvPicPr/>
          <p:nvPr/>
        </p:nvPicPr>
        <p:blipFill>
          <a:blip r:embed="rId3"/>
          <a:stretch/>
        </p:blipFill>
        <p:spPr>
          <a:xfrm>
            <a:off x="826920" y="1989000"/>
            <a:ext cx="4392720" cy="3915000"/>
          </a:xfrm>
          <a:prstGeom prst="rect">
            <a:avLst/>
          </a:prstGeom>
          <a:ln w="57240">
            <a:solidFill>
              <a:srgbClr val="000080"/>
            </a:solidFill>
            <a:miter/>
          </a:ln>
        </p:spPr>
      </p:pic>
      <p:sp>
        <p:nvSpPr>
          <p:cNvPr id="204" name="Rectangle 9"/>
          <p:cNvSpPr/>
          <p:nvPr/>
        </p:nvSpPr>
        <p:spPr>
          <a:xfrm>
            <a:off x="5651640" y="3068640"/>
            <a:ext cx="3241440" cy="237636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альчик неверно переходит дорогу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58920" y="981000"/>
            <a:ext cx="64800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Как надо передвигаться по загородной дороге?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0920" y="3141720"/>
            <a:ext cx="755964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По обочине, навстречу движущемуся транспорту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188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188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188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AutoShape 4"/>
          <p:cNvSpPr/>
          <p:nvPr/>
        </p:nvSpPr>
        <p:spPr>
          <a:xfrm>
            <a:off x="7740720" y="549360"/>
            <a:ext cx="1152360" cy="1079280"/>
          </a:xfrm>
          <a:custGeom>
            <a:avLst/>
            <a:gdLst>
              <a:gd name="textAreaLeft" fmla="*/ 69840 w 1152360"/>
              <a:gd name="textAreaRight" fmla="*/ 1082520 w 1152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3062" h="21600">
                <a:moveTo>
                  <a:pt x="0" y="0"/>
                </a:moveTo>
                <a:lnTo>
                  <a:pt x="23062" y="0"/>
                </a:lnTo>
                <a:lnTo>
                  <a:pt x="23062" y="21600"/>
                </a:lnTo>
                <a:lnTo>
                  <a:pt x="0" y="21600"/>
                </a:lnTo>
                <a:close/>
              </a:path>
              <a:path fill="lightenLess" w="23062" h="21600">
                <a:moveTo>
                  <a:pt x="0" y="0"/>
                </a:moveTo>
                <a:lnTo>
                  <a:pt x="23062" y="0"/>
                </a:lnTo>
                <a:lnTo>
                  <a:pt x="21662" y="1400"/>
                </a:lnTo>
                <a:lnTo>
                  <a:pt x="1400" y="1400"/>
                </a:lnTo>
                <a:close/>
              </a:path>
              <a:path fill="darken" w="23062" h="21600">
                <a:moveTo>
                  <a:pt x="23062" y="0"/>
                </a:moveTo>
                <a:lnTo>
                  <a:pt x="23062" y="21600"/>
                </a:lnTo>
                <a:lnTo>
                  <a:pt x="21662" y="20200"/>
                </a:lnTo>
                <a:lnTo>
                  <a:pt x="21662" y="1400"/>
                </a:lnTo>
                <a:close/>
              </a:path>
              <a:path fill="darkenLess" w="23062" h="21600">
                <a:moveTo>
                  <a:pt x="230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62" y="20200"/>
                </a:lnTo>
                <a:close/>
              </a:path>
              <a:path fill="lighten" w="230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907200" y="5877000"/>
            <a:ext cx="3530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ля проверки правильности ответа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щёлкните левой клавишей мыши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9" name="AutoShape 8"/>
          <p:cNvGrpSpPr/>
          <p:nvPr/>
        </p:nvGrpSpPr>
        <p:grpSpPr>
          <a:xfrm>
            <a:off x="6858000" y="6156360"/>
            <a:ext cx="2077920" cy="469800"/>
            <a:chOff x="6858000" y="6156360"/>
            <a:chExt cx="2077920" cy="469800"/>
          </a:xfrm>
        </p:grpSpPr>
        <p:pic>
          <p:nvPicPr>
            <p:cNvPr id="210" name="AutoShape 8" descr=""/>
            <p:cNvPicPr/>
            <p:nvPr/>
          </p:nvPicPr>
          <p:blipFill>
            <a:blip r:embed="rId2"/>
            <a:stretch/>
          </p:blipFill>
          <p:spPr>
            <a:xfrm>
              <a:off x="6858000" y="6156360"/>
              <a:ext cx="207792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6877080" y="6172200"/>
              <a:ext cx="20383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00"/>
                  </a:solidFill>
                  <a:latin typeface="Arial"/>
                </a:rPr>
                <a:t>Играть дальше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212" name="Picture 7" descr="Новый рисунок (4)"/>
          <p:cNvPicPr/>
          <p:nvPr/>
        </p:nvPicPr>
        <p:blipFill>
          <a:blip r:embed="rId3"/>
          <a:stretch/>
        </p:blipFill>
        <p:spPr>
          <a:xfrm>
            <a:off x="0" y="404640"/>
            <a:ext cx="1295280" cy="23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2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AutoShape 4"/>
          <p:cNvSpPr/>
          <p:nvPr/>
        </p:nvSpPr>
        <p:spPr>
          <a:xfrm>
            <a:off x="7740720" y="549360"/>
            <a:ext cx="1152360" cy="1079280"/>
          </a:xfrm>
          <a:custGeom>
            <a:avLst/>
            <a:gdLst>
              <a:gd name="textAreaLeft" fmla="*/ 69840 w 1152360"/>
              <a:gd name="textAreaRight" fmla="*/ 1082520 w 1152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3062" h="21600">
                <a:moveTo>
                  <a:pt x="0" y="0"/>
                </a:moveTo>
                <a:lnTo>
                  <a:pt x="23062" y="0"/>
                </a:lnTo>
                <a:lnTo>
                  <a:pt x="23062" y="21600"/>
                </a:lnTo>
                <a:lnTo>
                  <a:pt x="0" y="21600"/>
                </a:lnTo>
                <a:close/>
              </a:path>
              <a:path fill="lightenLess" w="23062" h="21600">
                <a:moveTo>
                  <a:pt x="0" y="0"/>
                </a:moveTo>
                <a:lnTo>
                  <a:pt x="23062" y="0"/>
                </a:lnTo>
                <a:lnTo>
                  <a:pt x="21662" y="1400"/>
                </a:lnTo>
                <a:lnTo>
                  <a:pt x="1400" y="1400"/>
                </a:lnTo>
                <a:close/>
              </a:path>
              <a:path fill="darken" w="23062" h="21600">
                <a:moveTo>
                  <a:pt x="23062" y="0"/>
                </a:moveTo>
                <a:lnTo>
                  <a:pt x="23062" y="21600"/>
                </a:lnTo>
                <a:lnTo>
                  <a:pt x="21662" y="20200"/>
                </a:lnTo>
                <a:lnTo>
                  <a:pt x="21662" y="1400"/>
                </a:lnTo>
                <a:close/>
              </a:path>
              <a:path fill="darkenLess" w="23062" h="21600">
                <a:moveTo>
                  <a:pt x="230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62" y="20200"/>
                </a:lnTo>
                <a:close/>
              </a:path>
              <a:path fill="lighten" w="230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1578960" y="6222960"/>
            <a:ext cx="3530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ля проверки правильности ответа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щёлкните левой клавишей мыши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5" name="AutoShape 7"/>
          <p:cNvGrpSpPr/>
          <p:nvPr/>
        </p:nvGrpSpPr>
        <p:grpSpPr>
          <a:xfrm>
            <a:off x="6858000" y="6156360"/>
            <a:ext cx="2077920" cy="469800"/>
            <a:chOff x="6858000" y="6156360"/>
            <a:chExt cx="2077920" cy="469800"/>
          </a:xfrm>
        </p:grpSpPr>
        <p:pic>
          <p:nvPicPr>
            <p:cNvPr id="216" name="AutoShape 7" descr=""/>
            <p:cNvPicPr/>
            <p:nvPr/>
          </p:nvPicPr>
          <p:blipFill>
            <a:blip r:embed="rId2"/>
            <a:stretch/>
          </p:blipFill>
          <p:spPr>
            <a:xfrm>
              <a:off x="6858000" y="6156360"/>
              <a:ext cx="207792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6877080" y="6172200"/>
              <a:ext cx="20383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00"/>
                  </a:solidFill>
                  <a:latin typeface="Arial"/>
                </a:rPr>
                <a:t>Играть дальше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18" name="Rectangle 10"/>
          <p:cNvSpPr/>
          <p:nvPr/>
        </p:nvSpPr>
        <p:spPr>
          <a:xfrm>
            <a:off x="684360" y="1268280"/>
            <a:ext cx="7416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Где можно кататься на роликах, скейтбордах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611280" y="3429000"/>
            <a:ext cx="8229600" cy="172872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 специальных площадках, в парках, там где нет транспорт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0" name="Picture 12" descr="Новый рисунок (4)"/>
          <p:cNvPicPr/>
          <p:nvPr/>
        </p:nvPicPr>
        <p:blipFill>
          <a:blip r:embed="rId3"/>
          <a:stretch/>
        </p:blipFill>
        <p:spPr>
          <a:xfrm>
            <a:off x="395280" y="692280"/>
            <a:ext cx="1090800" cy="19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19:32:42Z</dcterms:created>
  <dc:creator>Natali</dc:creator>
  <dc:description/>
  <dc:language>en-US</dc:language>
  <cp:lastModifiedBy>Elena</cp:lastModifiedBy>
  <dcterms:modified xsi:type="dcterms:W3CDTF">2018-07-05T17:24:47Z</dcterms:modified>
  <cp:revision>11</cp:revision>
  <dc:subject/>
  <dc:title>Урок осторожности  с  Петей Светофоровым</dc:title>
</cp:coreProperties>
</file>