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DB2-A846-49BB-980E-82BFD704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6C4-899A-40CB-B126-ADAB87D3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310-E299-4796-9F08-AB3E78D1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C748-7B85-423C-8E6E-025A34D8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547-DA08-4356-8532-21823549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752-C9F8-430F-B977-E7B13CD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7FD-D87B-45A3-935A-9E657C1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8C8-B0C3-4867-A34D-586E63C9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097-4E28-4118-9B10-6039B26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F76-C779-40D1-BFA5-4B54FDC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FFF-223D-4A2B-BCAF-B678831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F3E-D07B-464E-97E5-8E52108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C474-2AC3-4EA5-83B8-B30C61B4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овый образ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ОУ «Рогаче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ова Светлана Ю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а правильного 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ища должна быть разнообраз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Ешьте полезную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В еде знайте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Тщательно пережевывайте пищ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ед едой мойт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Питайтесь регулярно, не реже 3 раз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97160" y="907920"/>
            <a:ext cx="63496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7-04T14:27:0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