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117-7152-4CAC-BA4A-640A8507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CA3-0C02-41B7-8006-BCF3D22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C0F-0C39-4D6F-8966-7E8FB872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BFE-44F4-4E8A-9AB7-36F5DB2D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F94-A2BD-4D98-8509-B4026724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4EA-5D1F-4A6C-A4BF-23682AD1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2F1-660E-44F0-91E2-2394458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200-15B4-43D0-9FBC-16EEF28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798-0A53-47D1-ABE9-B643F9D7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BF0-1721-44F5-883C-E97784E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BED-5C7E-48D5-A11B-BA24AD4C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0E0-7BB9-4CDA-938A-E780D4C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615-89BE-4853-9F61-E319BEBE8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доровый образ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ОУ «Рогаче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ова Светлана Юр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ила правильного пи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ища должна быть разнообраз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Ешьте полезную пищ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В еде знайте 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Тщательно пережевывайте пищ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Перед едой мойт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итайтесь регулярно, не реже 3 раз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97160" y="907920"/>
            <a:ext cx="63496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7-04T14:27:0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