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923-934A-4D27-9443-B532B8E3B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D578-73E0-420F-A19E-E7D802C34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119-24EB-4811-84FF-96F0E3F05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7212-17DA-476E-B1E4-400B173B3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0FC2-DEDB-47D5-A7FB-34372A12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5BBA-D64D-480D-9D74-4DCBC978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51F9-1D43-4F34-B724-831C62FE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59B9-D209-457B-9F00-09FC5CF8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B4BD-1CFE-47AC-8D7F-70287742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79F7-CC2D-46E0-8AA2-8AD55035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7140-8816-4639-9BE5-2BAC7DA6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4CBA-996B-4F90-812D-EEB9F91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F86C-6692-4C88-B5F0-12ECE3F8D7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52360" y="274680"/>
            <a:ext cx="683928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22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усть наши бабушки и дедушки будут здоровы и всегда окружены заботой близки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0962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15:38:43Z</dcterms:created>
  <dc:creator>Дашуня</dc:creator>
  <dc:description/>
  <dc:language>en-US</dc:language>
  <cp:lastModifiedBy>Дашуня</cp:lastModifiedBy>
  <dcterms:modified xsi:type="dcterms:W3CDTF">2013-09-29T15:38:43Z</dcterms:modified>
  <cp:revision>1</cp:revision>
  <dc:subject/>
  <dc:title>Слайд 1</dc:title>
</cp:coreProperties>
</file>