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7389-AF8E-45DF-8972-7356D5435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C0A7-3661-4B44-A161-F20938C9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4463-0703-44E5-A6FE-2D5ED0931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F377-1CFB-46A9-88D5-67913AF29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C7B7-343C-4896-AFED-4B1E04F3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6711-835E-4007-BF86-0F2E4013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CB37-121F-41BA-8928-6B2C3697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249B-03CF-4B20-8D95-C7DDBFE3A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9A60-759A-4DB9-ACAB-7A413D13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3677-2BE0-47FF-8A7E-05988BC9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FE5C-49C7-473A-83F1-7C0709B9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2165-2B72-4B5F-8445-C04BCB61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3695E-A5EB-4DF6-835C-93F86B6111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52360" y="274680"/>
            <a:ext cx="68392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2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Пусть наши бабушки и дедушки будут здоровы и всегда окружены заботой близких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609624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9T15:38:43Z</dcterms:created>
  <dc:creator>Дашуня</dc:creator>
  <dc:description/>
  <dc:language>en-US</dc:language>
  <cp:lastModifiedBy>Дашуня</cp:lastModifiedBy>
  <dcterms:modified xsi:type="dcterms:W3CDTF">2013-09-29T15:38:43Z</dcterms:modified>
  <cp:revision>1</cp:revision>
  <dc:subject/>
  <dc:title>Слайд 1</dc:title>
</cp:coreProperties>
</file>