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02264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99504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022640" y="9723240"/>
            <a:ext cx="3076560" cy="5108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48C77A1D-5CAE-481F-BA1A-913C73E76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93045DBF-E658-4851-B91D-9558E920C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9684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C3D26706-A48F-41B7-9067-A681AD70EF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684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022640" y="9723600"/>
            <a:ext cx="3076560" cy="5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7880" bIns="47880" anchor="b">
            <a:noAutofit/>
          </a:bodyPr>
          <a:p>
            <a:pPr algn="r">
              <a:tabLst>
                <a:tab algn="l" pos="0"/>
                <a:tab algn="l" pos="960480"/>
                <a:tab algn="l" pos="1920960"/>
                <a:tab algn="l" pos="2881440"/>
                <a:tab algn="l" pos="3841920"/>
                <a:tab algn="l" pos="4802040"/>
                <a:tab algn="l" pos="5762520"/>
                <a:tab algn="l" pos="6723000"/>
                <a:tab algn="l" pos="7683480"/>
                <a:tab algn="l" pos="8643960"/>
                <a:tab algn="l" pos="9604440"/>
                <a:tab algn="l" pos="10564920"/>
              </a:tabLst>
            </a:pPr>
            <a:fld id="{70C862D7-13C9-489E-B6C9-757FAAB49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9684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0E33E-9D34-44BA-87FA-8BFEDC8614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60F15-B0BD-4B65-A422-0748691CC1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43023-2079-43DA-B2E0-25B93BA89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413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815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11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413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815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2A37C-49DE-4B81-B9A2-24EB80E142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A966-4610-447D-9A43-BDDDD15893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1413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81560" y="60948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11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1413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81560" y="3714120"/>
            <a:ext cx="2895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AFBA9-88F4-4976-B224-0E70E7D82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057E5-46E9-4E63-ADE4-28592C2C04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77AA0-52B0-4AD1-B981-EB8E728FCD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7631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CE29-0EF8-43FA-900C-C5A2AE410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5EE30-AEC3-493E-A392-F7C44D4663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8440" y="371412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B03F2-B4FE-48CE-866C-0A4877B50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-23760"/>
            <a:ext cx="8763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116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8440" y="609480"/>
            <a:ext cx="4387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1160" y="3714120"/>
            <a:ext cx="89917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68DA2-4629-4D0D-BB0B-322D8EAD8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8763120" y="6552720"/>
            <a:ext cx="380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EDBD-8576-4BF5-B714-281C526AF37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1"/>
          <p:cNvSpPr/>
          <p:nvPr/>
        </p:nvSpPr>
        <p:spPr>
          <a:xfrm>
            <a:off x="0" y="0"/>
            <a:ext cx="5335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139680" y="149400"/>
            <a:ext cx="228600" cy="228600"/>
          </a:xfrm>
          <a:custGeom>
            <a:avLst/>
            <a:gdLst/>
            <a:ahLst/>
            <a:rect l="l" t="t" r="r" b="b"/>
            <a:pathLst>
              <a:path w="678" h="677">
                <a:moveTo>
                  <a:pt x="0" y="339"/>
                </a:moveTo>
                <a:lnTo>
                  <a:pt x="3" y="296"/>
                </a:lnTo>
                <a:lnTo>
                  <a:pt x="11" y="254"/>
                </a:lnTo>
                <a:lnTo>
                  <a:pt x="24" y="214"/>
                </a:lnTo>
                <a:lnTo>
                  <a:pt x="43" y="175"/>
                </a:lnTo>
                <a:lnTo>
                  <a:pt x="64" y="139"/>
                </a:lnTo>
                <a:lnTo>
                  <a:pt x="92" y="106"/>
                </a:lnTo>
                <a:lnTo>
                  <a:pt x="123" y="77"/>
                </a:lnTo>
                <a:lnTo>
                  <a:pt x="158" y="52"/>
                </a:lnTo>
                <a:lnTo>
                  <a:pt x="195" y="31"/>
                </a:lnTo>
                <a:lnTo>
                  <a:pt x="235" y="16"/>
                </a:lnTo>
                <a:lnTo>
                  <a:pt x="275" y="6"/>
                </a:lnTo>
                <a:lnTo>
                  <a:pt x="318" y="0"/>
                </a:lnTo>
                <a:lnTo>
                  <a:pt x="360" y="0"/>
                </a:lnTo>
                <a:lnTo>
                  <a:pt x="403" y="6"/>
                </a:lnTo>
                <a:lnTo>
                  <a:pt x="444" y="16"/>
                </a:lnTo>
                <a:lnTo>
                  <a:pt x="483" y="31"/>
                </a:lnTo>
                <a:lnTo>
                  <a:pt x="520" y="52"/>
                </a:lnTo>
                <a:lnTo>
                  <a:pt x="555" y="77"/>
                </a:lnTo>
                <a:lnTo>
                  <a:pt x="586" y="106"/>
                </a:lnTo>
                <a:lnTo>
                  <a:pt x="614" y="139"/>
                </a:lnTo>
                <a:lnTo>
                  <a:pt x="636" y="175"/>
                </a:lnTo>
                <a:lnTo>
                  <a:pt x="654" y="214"/>
                </a:lnTo>
                <a:lnTo>
                  <a:pt x="667" y="254"/>
                </a:lnTo>
                <a:lnTo>
                  <a:pt x="675" y="296"/>
                </a:lnTo>
                <a:lnTo>
                  <a:pt x="678" y="339"/>
                </a:lnTo>
                <a:lnTo>
                  <a:pt x="675" y="381"/>
                </a:lnTo>
                <a:lnTo>
                  <a:pt x="667" y="422"/>
                </a:lnTo>
                <a:lnTo>
                  <a:pt x="654" y="464"/>
                </a:lnTo>
                <a:lnTo>
                  <a:pt x="636" y="501"/>
                </a:lnTo>
                <a:lnTo>
                  <a:pt x="614" y="537"/>
                </a:lnTo>
                <a:lnTo>
                  <a:pt x="586" y="570"/>
                </a:lnTo>
                <a:lnTo>
                  <a:pt x="555" y="601"/>
                </a:lnTo>
                <a:lnTo>
                  <a:pt x="520" y="625"/>
                </a:lnTo>
                <a:lnTo>
                  <a:pt x="483" y="645"/>
                </a:lnTo>
                <a:lnTo>
                  <a:pt x="444" y="661"/>
                </a:lnTo>
                <a:lnTo>
                  <a:pt x="403" y="672"/>
                </a:lnTo>
                <a:lnTo>
                  <a:pt x="360" y="677"/>
                </a:lnTo>
                <a:lnTo>
                  <a:pt x="318" y="677"/>
                </a:lnTo>
                <a:lnTo>
                  <a:pt x="275" y="672"/>
                </a:lnTo>
                <a:lnTo>
                  <a:pt x="235" y="661"/>
                </a:lnTo>
                <a:lnTo>
                  <a:pt x="195" y="645"/>
                </a:lnTo>
                <a:lnTo>
                  <a:pt x="158" y="625"/>
                </a:lnTo>
                <a:lnTo>
                  <a:pt x="123" y="601"/>
                </a:lnTo>
                <a:lnTo>
                  <a:pt x="92" y="570"/>
                </a:lnTo>
                <a:lnTo>
                  <a:pt x="64" y="537"/>
                </a:lnTo>
                <a:lnTo>
                  <a:pt x="43" y="501"/>
                </a:lnTo>
                <a:lnTo>
                  <a:pt x="24" y="464"/>
                </a:lnTo>
                <a:lnTo>
                  <a:pt x="11" y="422"/>
                </a:lnTo>
                <a:lnTo>
                  <a:pt x="3" y="381"/>
                </a:lnTo>
                <a:lnTo>
                  <a:pt x="0" y="339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13"/>
          <p:cNvSpPr/>
          <p:nvPr/>
        </p:nvSpPr>
        <p:spPr>
          <a:xfrm>
            <a:off x="0" y="546120"/>
            <a:ext cx="91440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5" descr=""/>
          <p:cNvPicPr/>
          <p:nvPr/>
        </p:nvPicPr>
        <p:blipFill>
          <a:blip r:embed="rId2"/>
          <a:stretch/>
        </p:blipFill>
        <p:spPr>
          <a:xfrm>
            <a:off x="47520" y="6683400"/>
            <a:ext cx="1428840" cy="155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3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5" descr="g1"/>
          <p:cNvPicPr/>
          <p:nvPr/>
        </p:nvPicPr>
        <p:blipFill>
          <a:blip r:embed="rId2"/>
          <a:stretch/>
        </p:blipFill>
        <p:spPr>
          <a:xfrm>
            <a:off x="2666880" y="0"/>
            <a:ext cx="1143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36"/>
          <p:cNvGrpSpPr/>
          <p:nvPr/>
        </p:nvGrpSpPr>
        <p:grpSpPr>
          <a:xfrm>
            <a:off x="0" y="914400"/>
            <a:ext cx="9144000" cy="380880"/>
            <a:chOff x="0" y="914400"/>
            <a:chExt cx="9144000" cy="380880"/>
          </a:xfrm>
        </p:grpSpPr>
        <p:sp>
          <p:nvSpPr>
            <p:cNvPr id="47" name="Rectangle 37"/>
            <p:cNvSpPr/>
            <p:nvPr/>
          </p:nvSpPr>
          <p:spPr>
            <a:xfrm>
              <a:off x="0" y="1030320"/>
              <a:ext cx="9144000" cy="149400"/>
            </a:xfrm>
            <a:prstGeom prst="rect">
              <a:avLst/>
            </a:prstGeom>
            <a:solidFill>
              <a:srgbClr val="ff05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" name="Group 38"/>
            <p:cNvGrpSpPr/>
            <p:nvPr/>
          </p:nvGrpSpPr>
          <p:grpSpPr>
            <a:xfrm>
              <a:off x="0" y="914400"/>
              <a:ext cx="9144000" cy="124560"/>
              <a:chOff x="0" y="914400"/>
              <a:chExt cx="9144000" cy="124560"/>
            </a:xfrm>
          </p:grpSpPr>
          <p:pic>
            <p:nvPicPr>
              <p:cNvPr id="49" name="Picture 39" descr="g3"/>
              <p:cNvPicPr/>
              <p:nvPr/>
            </p:nvPicPr>
            <p:blipFill>
              <a:blip r:embed="rId3"/>
              <a:stretch/>
            </p:blipFill>
            <p:spPr>
              <a:xfrm>
                <a:off x="0" y="914400"/>
                <a:ext cx="281952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40" descr="g4"/>
              <p:cNvPicPr/>
              <p:nvPr/>
            </p:nvPicPr>
            <p:blipFill>
              <a:blip r:embed="rId4"/>
              <a:stretch/>
            </p:blipFill>
            <p:spPr>
              <a:xfrm>
                <a:off x="3581280" y="914400"/>
                <a:ext cx="556272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41" descr="g2"/>
              <p:cNvPicPr/>
              <p:nvPr/>
            </p:nvPicPr>
            <p:blipFill>
              <a:blip r:embed="rId5"/>
              <a:stretch/>
            </p:blipFill>
            <p:spPr>
              <a:xfrm>
                <a:off x="2666880" y="914400"/>
                <a:ext cx="1143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2" name="Group 42"/>
            <p:cNvGrpSpPr/>
            <p:nvPr/>
          </p:nvGrpSpPr>
          <p:grpSpPr>
            <a:xfrm>
              <a:off x="0" y="1170720"/>
              <a:ext cx="9144000" cy="124560"/>
              <a:chOff x="0" y="1170720"/>
              <a:chExt cx="9144000" cy="124560"/>
            </a:xfrm>
          </p:grpSpPr>
          <p:pic>
            <p:nvPicPr>
              <p:cNvPr id="53" name="Picture 43" descr="g3i"/>
              <p:cNvPicPr/>
              <p:nvPr/>
            </p:nvPicPr>
            <p:blipFill>
              <a:blip r:embed="rId6"/>
              <a:stretch/>
            </p:blipFill>
            <p:spPr>
              <a:xfrm>
                <a:off x="0" y="1170720"/>
                <a:ext cx="280656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4" descr="g4i"/>
              <p:cNvPicPr/>
              <p:nvPr/>
            </p:nvPicPr>
            <p:blipFill>
              <a:blip r:embed="rId7"/>
              <a:stretch/>
            </p:blipFill>
            <p:spPr>
              <a:xfrm>
                <a:off x="3657600" y="1170720"/>
                <a:ext cx="5486400" cy="124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45" descr="g2i"/>
              <p:cNvPicPr/>
              <p:nvPr/>
            </p:nvPicPr>
            <p:blipFill>
              <a:blip r:embed="rId8"/>
              <a:stretch/>
            </p:blipFill>
            <p:spPr>
              <a:xfrm>
                <a:off x="2666880" y="1170720"/>
                <a:ext cx="1143000" cy="1245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6" name="Picture 51" descr="st-ppt"/>
          <p:cNvPicPr/>
          <p:nvPr/>
        </p:nvPicPr>
        <p:blipFill>
          <a:blip r:embed="rId9"/>
          <a:stretch/>
        </p:blipFill>
        <p:spPr>
          <a:xfrm>
            <a:off x="353880" y="5691240"/>
            <a:ext cx="2057400" cy="9126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2"/>
          <p:cNvSpPr/>
          <p:nvPr/>
        </p:nvSpPr>
        <p:spPr>
          <a:xfrm>
            <a:off x="66600" y="6513480"/>
            <a:ext cx="25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Cisco  Solution Technology</a:t>
            </a:r>
            <a:r>
              <a:rPr b="0" i="1" lang="ru-RU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Integ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c54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380880" y="0"/>
            <a:ext cx="876312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11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10CA-CF19-422F-9B06-0A5288E6DD33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 вопрос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1c54"/>
                </a:solidFill>
                <a:latin typeface="Arial"/>
              </a:rPr>
              <a:t>При разработке сетей удаленного доступа возникает ряд реализационных вопросов, к важнейшим можно отнести:</a:t>
            </a:r>
            <a:endParaRPr b="1" lang="en-US" sz="32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Как безопасно осуществлять доступ в Интернет  в  школьную  сеть?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Как управлять политикой безопасности   пользователя?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Как управлять политикой доступа пользователей во внутреннем периметре  школьной сети?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07" name="Номер слайда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E2F1-BC8C-4D81-B5EC-05866260E99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дход к решени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Массовый пользователь несведущ в области информационной безопасности и, возможно, потенциально нелоялен, поэтому: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система должна быть максимально проста в эксплуатации;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в идеале – не должна требовать никаких квалифицированных действий пользователя.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В соответствии с этими принципами: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политика безопасности</a:t>
            </a:r>
            <a:r>
              <a:rPr b="1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 при  доступе пользователя  определяется только системным администратором   и не может быть изменена  клиентом;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пользователь</a:t>
            </a:r>
            <a:r>
              <a:rPr b="1" lang="en-US" sz="2400" spc="-1" strike="noStrike">
                <a:solidFill>
                  <a:srgbClr val="001c54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не требует  от админа никаких технических операций кроме установки ПО и ввода    ключа безопасности.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10" name="Номер слайда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276B-330F-448D-94BD-9E11225A1F4E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блемы безопасности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Сети удаленного доступа характеризуются двумя чертами: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высокой размерностью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разнородностью парка пользователей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1c54"/>
                </a:solidFill>
                <a:latin typeface="Arial"/>
              </a:rPr>
              <a:t>Поэтому при построении  школьной сети удаленного доступа на первый план выходят вопросы безопасности:</a:t>
            </a:r>
            <a:endParaRPr b="1" lang="en-US" sz="24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проблема доверия: 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54"/>
                </a:solidFill>
                <a:latin typeface="Arial"/>
              </a:rPr>
              <a:t>можно ли доверять большой массе пользователей? как реализовать безопасность сети при условии, что среди множества пользователей всегда  найдется некоторое количество нелояльных (потенциальных нарушителей)?</a:t>
            </a:r>
            <a:endParaRPr b="1" lang="en-US" sz="1800" spc="-1" strike="noStrike">
              <a:solidFill>
                <a:srgbClr val="001c54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c54"/>
                </a:solidFill>
                <a:latin typeface="Arial"/>
              </a:rPr>
              <a:t>проблема квалификации:</a:t>
            </a:r>
            <a:endParaRPr b="1" lang="en-US" sz="2000" spc="-1" strike="noStrike">
              <a:solidFill>
                <a:srgbClr val="001c54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c54"/>
                </a:solidFill>
                <a:latin typeface="Arial"/>
              </a:rPr>
              <a:t>как обеспечить простоту эксплуатации средств защиты? как адаптировать решение к уровню знаний потенциально неквалифицированного пользователя?  </a:t>
            </a:r>
            <a:endParaRPr b="1" lang="en-US" sz="1800" spc="-1" strike="noStrike">
              <a:solidFill>
                <a:srgbClr val="001c54"/>
              </a:solidFill>
              <a:latin typeface="Arial"/>
            </a:endParaRPr>
          </a:p>
        </p:txBody>
      </p:sp>
      <p:sp>
        <p:nvSpPr>
          <p:cNvPr id="113" name="Номер слайда 4"/>
          <p:cNvSpPr/>
          <p:nvPr/>
        </p:nvSpPr>
        <p:spPr>
          <a:xfrm>
            <a:off x="8763120" y="655308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285D-0D02-4EF0-AE07-8A1B242632D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720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араметры контроля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Схема 3" descr=""/>
          <p:cNvPicPr/>
          <p:nvPr/>
        </p:nvPicPr>
        <p:blipFill>
          <a:blip r:embed="rId1"/>
          <a:stretch/>
        </p:blipFill>
        <p:spPr>
          <a:xfrm>
            <a:off x="268200" y="1195560"/>
            <a:ext cx="867420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59840" cy="1017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струментарий, используемый в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ерационных системах (Windows и Linux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6308640"/>
            <a:ext cx="7200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(только бесплатные версии)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  <p:pic>
        <p:nvPicPr>
          <p:cNvPr id="118" name="Схема 3" descr=""/>
          <p:cNvPicPr/>
          <p:nvPr/>
        </p:nvPicPr>
        <p:blipFill>
          <a:blip r:embed="rId1"/>
          <a:stretch/>
        </p:blipFill>
        <p:spPr>
          <a:xfrm>
            <a:off x="487440" y="1311120"/>
            <a:ext cx="8291520" cy="514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Штрафные санкции: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1160" y="609480"/>
            <a:ext cx="89917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Если школа нарушает установленные новым законом требования по распространению информации, Кодекс об административных правонарушениях предусматривает 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для должностных лиц – от 5 до 10 тыс. рублей, 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1c54"/>
                </a:solidFill>
                <a:latin typeface="Arial"/>
              </a:rPr>
              <a:t>для юридических – от 20 до 50 тыс. рублей с конфискацией предмета административного правонарушения и (или) административное приостановление деятельности на срок до девяноста суток. </a:t>
            </a:r>
            <a:endParaRPr b="1" lang="en-US" sz="2800" spc="-1" strike="noStrike">
              <a:solidFill>
                <a:srgbClr val="001c54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7T09:31:43Z</dcterms:created>
  <dc:creator>Sergei D. Ryabko</dc:creator>
  <dc:description/>
  <dc:language>en-US</dc:language>
  <cp:lastModifiedBy>RePack by Diakov</cp:lastModifiedBy>
  <dcterms:modified xsi:type="dcterms:W3CDTF">2018-06-13T22:13:27Z</dcterms:modified>
  <cp:revision>270</cp:revision>
  <dc:subject/>
  <dc:title>PowerPoint Presentation</dc:title>
</cp:coreProperties>
</file>