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9504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25AE4ECA-12DC-4B16-8E8D-7953F331E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4A09C823-E90B-45A6-A128-F657316A3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9684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B59A9B8F-2D1D-40F2-BDE7-511D686D5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9684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5A45E3F6-15B0-41FA-AEE9-BF7059612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684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9517C-BA06-40CA-AA25-36E183A64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8991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1160" y="3714120"/>
            <a:ext cx="8991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023BE-0D10-4663-BC5B-4C45E1879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1160" y="371412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440" y="371412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76DB7-82E4-4CDB-87EB-DCA6C585F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360" y="60948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1560" y="60948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1160" y="371412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360" y="371412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1560" y="371412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7FE0-40BB-4EB2-931F-982182F49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160" y="371412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239DA-488E-4747-A295-9A7C546064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8440" y="371412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1160" y="3714120"/>
            <a:ext cx="8991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8991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1160" y="3714120"/>
            <a:ext cx="8991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1160" y="371412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8440" y="371412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41360" y="60948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81560" y="60948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1160" y="371412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41360" y="371412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81560" y="371412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266CF-3CCD-4FFF-9641-E6A347ACC7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15F9C-1925-4EF6-8702-E6BF96C36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379D-E734-492C-AB99-E3076EF5FA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5C325-AA07-4100-9AB2-F9E354BB6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1160" y="371412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98665-72CE-4AB1-8CD9-D698FB3B7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8440" y="371412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2E75-8BA7-491A-8974-F8F44652F3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1160" y="3714120"/>
            <a:ext cx="8991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A8014-3745-4C22-90B2-0AA13FD244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763120" y="655272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0C08-FB1A-4805-B5A6-1989CA574B4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0" y="0"/>
            <a:ext cx="53352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139680" y="149400"/>
            <a:ext cx="228600" cy="228600"/>
          </a:xfrm>
          <a:custGeom>
            <a:avLst/>
            <a:gdLst/>
            <a:ahLst/>
            <a:rect l="l" t="t" r="r" b="b"/>
            <a:pathLst>
              <a:path w="678" h="677">
                <a:moveTo>
                  <a:pt x="0" y="339"/>
                </a:moveTo>
                <a:lnTo>
                  <a:pt x="3" y="296"/>
                </a:lnTo>
                <a:lnTo>
                  <a:pt x="11" y="254"/>
                </a:lnTo>
                <a:lnTo>
                  <a:pt x="24" y="214"/>
                </a:lnTo>
                <a:lnTo>
                  <a:pt x="43" y="175"/>
                </a:lnTo>
                <a:lnTo>
                  <a:pt x="64" y="139"/>
                </a:lnTo>
                <a:lnTo>
                  <a:pt x="92" y="106"/>
                </a:lnTo>
                <a:lnTo>
                  <a:pt x="123" y="77"/>
                </a:lnTo>
                <a:lnTo>
                  <a:pt x="158" y="52"/>
                </a:lnTo>
                <a:lnTo>
                  <a:pt x="195" y="31"/>
                </a:lnTo>
                <a:lnTo>
                  <a:pt x="235" y="16"/>
                </a:lnTo>
                <a:lnTo>
                  <a:pt x="275" y="6"/>
                </a:lnTo>
                <a:lnTo>
                  <a:pt x="318" y="0"/>
                </a:lnTo>
                <a:lnTo>
                  <a:pt x="360" y="0"/>
                </a:lnTo>
                <a:lnTo>
                  <a:pt x="403" y="6"/>
                </a:lnTo>
                <a:lnTo>
                  <a:pt x="444" y="16"/>
                </a:lnTo>
                <a:lnTo>
                  <a:pt x="483" y="31"/>
                </a:lnTo>
                <a:lnTo>
                  <a:pt x="520" y="52"/>
                </a:lnTo>
                <a:lnTo>
                  <a:pt x="555" y="77"/>
                </a:lnTo>
                <a:lnTo>
                  <a:pt x="586" y="106"/>
                </a:lnTo>
                <a:lnTo>
                  <a:pt x="614" y="139"/>
                </a:lnTo>
                <a:lnTo>
                  <a:pt x="636" y="175"/>
                </a:lnTo>
                <a:lnTo>
                  <a:pt x="654" y="214"/>
                </a:lnTo>
                <a:lnTo>
                  <a:pt x="667" y="254"/>
                </a:lnTo>
                <a:lnTo>
                  <a:pt x="675" y="296"/>
                </a:lnTo>
                <a:lnTo>
                  <a:pt x="678" y="339"/>
                </a:lnTo>
                <a:lnTo>
                  <a:pt x="675" y="381"/>
                </a:lnTo>
                <a:lnTo>
                  <a:pt x="667" y="422"/>
                </a:lnTo>
                <a:lnTo>
                  <a:pt x="654" y="464"/>
                </a:lnTo>
                <a:lnTo>
                  <a:pt x="636" y="501"/>
                </a:lnTo>
                <a:lnTo>
                  <a:pt x="614" y="537"/>
                </a:lnTo>
                <a:lnTo>
                  <a:pt x="586" y="570"/>
                </a:lnTo>
                <a:lnTo>
                  <a:pt x="555" y="601"/>
                </a:lnTo>
                <a:lnTo>
                  <a:pt x="520" y="625"/>
                </a:lnTo>
                <a:lnTo>
                  <a:pt x="483" y="645"/>
                </a:lnTo>
                <a:lnTo>
                  <a:pt x="444" y="661"/>
                </a:lnTo>
                <a:lnTo>
                  <a:pt x="403" y="672"/>
                </a:lnTo>
                <a:lnTo>
                  <a:pt x="360" y="677"/>
                </a:lnTo>
                <a:lnTo>
                  <a:pt x="318" y="677"/>
                </a:lnTo>
                <a:lnTo>
                  <a:pt x="275" y="672"/>
                </a:lnTo>
                <a:lnTo>
                  <a:pt x="235" y="661"/>
                </a:lnTo>
                <a:lnTo>
                  <a:pt x="195" y="645"/>
                </a:lnTo>
                <a:lnTo>
                  <a:pt x="158" y="625"/>
                </a:lnTo>
                <a:lnTo>
                  <a:pt x="123" y="601"/>
                </a:lnTo>
                <a:lnTo>
                  <a:pt x="92" y="570"/>
                </a:lnTo>
                <a:lnTo>
                  <a:pt x="64" y="537"/>
                </a:lnTo>
                <a:lnTo>
                  <a:pt x="43" y="501"/>
                </a:lnTo>
                <a:lnTo>
                  <a:pt x="24" y="464"/>
                </a:lnTo>
                <a:lnTo>
                  <a:pt x="11" y="422"/>
                </a:lnTo>
                <a:lnTo>
                  <a:pt x="3" y="381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0" y="5461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5" descr=""/>
          <p:cNvPicPr/>
          <p:nvPr/>
        </p:nvPicPr>
        <p:blipFill>
          <a:blip r:embed="rId2"/>
          <a:stretch/>
        </p:blipFill>
        <p:spPr>
          <a:xfrm>
            <a:off x="47520" y="6683400"/>
            <a:ext cx="1428840" cy="15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3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5" descr="g1"/>
          <p:cNvPicPr/>
          <p:nvPr/>
        </p:nvPicPr>
        <p:blipFill>
          <a:blip r:embed="rId2"/>
          <a:stretch/>
        </p:blipFill>
        <p:spPr>
          <a:xfrm>
            <a:off x="2666880" y="0"/>
            <a:ext cx="1143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36"/>
          <p:cNvGrpSpPr/>
          <p:nvPr/>
        </p:nvGrpSpPr>
        <p:grpSpPr>
          <a:xfrm>
            <a:off x="0" y="914400"/>
            <a:ext cx="9144000" cy="380880"/>
            <a:chOff x="0" y="914400"/>
            <a:chExt cx="9144000" cy="380880"/>
          </a:xfrm>
        </p:grpSpPr>
        <p:sp>
          <p:nvSpPr>
            <p:cNvPr id="47" name="Rectangle 37"/>
            <p:cNvSpPr/>
            <p:nvPr/>
          </p:nvSpPr>
          <p:spPr>
            <a:xfrm>
              <a:off x="0" y="1030320"/>
              <a:ext cx="9144000" cy="149400"/>
            </a:xfrm>
            <a:prstGeom prst="rect">
              <a:avLst/>
            </a:prstGeom>
            <a:solidFill>
              <a:srgbClr val="ff0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Group 38"/>
            <p:cNvGrpSpPr/>
            <p:nvPr/>
          </p:nvGrpSpPr>
          <p:grpSpPr>
            <a:xfrm>
              <a:off x="0" y="914400"/>
              <a:ext cx="9144000" cy="124560"/>
              <a:chOff x="0" y="914400"/>
              <a:chExt cx="9144000" cy="124560"/>
            </a:xfrm>
          </p:grpSpPr>
          <p:pic>
            <p:nvPicPr>
              <p:cNvPr id="49" name="Picture 39" descr="g3"/>
              <p:cNvPicPr/>
              <p:nvPr/>
            </p:nvPicPr>
            <p:blipFill>
              <a:blip r:embed="rId3"/>
              <a:stretch/>
            </p:blipFill>
            <p:spPr>
              <a:xfrm>
                <a:off x="0" y="914400"/>
                <a:ext cx="281952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Picture 40" descr="g4"/>
              <p:cNvPicPr/>
              <p:nvPr/>
            </p:nvPicPr>
            <p:blipFill>
              <a:blip r:embed="rId4"/>
              <a:stretch/>
            </p:blipFill>
            <p:spPr>
              <a:xfrm>
                <a:off x="3581280" y="914400"/>
                <a:ext cx="556272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41" descr="g2"/>
              <p:cNvPicPr/>
              <p:nvPr/>
            </p:nvPicPr>
            <p:blipFill>
              <a:blip r:embed="rId5"/>
              <a:stretch/>
            </p:blipFill>
            <p:spPr>
              <a:xfrm>
                <a:off x="2666880" y="914400"/>
                <a:ext cx="1143000" cy="12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Group 42"/>
            <p:cNvGrpSpPr/>
            <p:nvPr/>
          </p:nvGrpSpPr>
          <p:grpSpPr>
            <a:xfrm>
              <a:off x="0" y="1170720"/>
              <a:ext cx="9144000" cy="124560"/>
              <a:chOff x="0" y="1170720"/>
              <a:chExt cx="9144000" cy="124560"/>
            </a:xfrm>
          </p:grpSpPr>
          <p:pic>
            <p:nvPicPr>
              <p:cNvPr id="53" name="Picture 43" descr="g3i"/>
              <p:cNvPicPr/>
              <p:nvPr/>
            </p:nvPicPr>
            <p:blipFill>
              <a:blip r:embed="rId6"/>
              <a:stretch/>
            </p:blipFill>
            <p:spPr>
              <a:xfrm>
                <a:off x="0" y="1170720"/>
                <a:ext cx="280656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44" descr="g4i"/>
              <p:cNvPicPr/>
              <p:nvPr/>
            </p:nvPicPr>
            <p:blipFill>
              <a:blip r:embed="rId7"/>
              <a:stretch/>
            </p:blipFill>
            <p:spPr>
              <a:xfrm>
                <a:off x="3657600" y="1170720"/>
                <a:ext cx="548640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Picture 45" descr="g2i"/>
              <p:cNvPicPr/>
              <p:nvPr/>
            </p:nvPicPr>
            <p:blipFill>
              <a:blip r:embed="rId8"/>
              <a:stretch/>
            </p:blipFill>
            <p:spPr>
              <a:xfrm>
                <a:off x="2666880" y="1170720"/>
                <a:ext cx="1143000" cy="12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6" name="Picture 51" descr="st-ppt"/>
          <p:cNvPicPr/>
          <p:nvPr/>
        </p:nvPicPr>
        <p:blipFill>
          <a:blip r:embed="rId9"/>
          <a:stretch/>
        </p:blipFill>
        <p:spPr>
          <a:xfrm>
            <a:off x="353880" y="5691240"/>
            <a:ext cx="2057400" cy="912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2"/>
          <p:cNvSpPr/>
          <p:nvPr/>
        </p:nvSpPr>
        <p:spPr>
          <a:xfrm>
            <a:off x="66600" y="651348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Cisco  Solution Technology</a:t>
            </a: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Integr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11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A87D-FD4E-48D3-8028-94812E088651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 вопрос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c54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c54"/>
                </a:solidFill>
                <a:latin typeface="Arial"/>
              </a:rPr>
              <a:t>При разработке сетей удаленного доступа возникает ряд реализационных вопросов, к важнейшим можно отнести:</a:t>
            </a:r>
            <a:endParaRPr b="1" lang="en-US" sz="3200" spc="-1" strike="noStrike">
              <a:solidFill>
                <a:srgbClr val="001c54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Как безопасно осуществлять доступ в Интернет  в  школьную  сеть?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Как управлять политикой безопасности   пользователя?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Как управлять политикой доступа пользователей во внутреннем периметре  школьной сети?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E773-4BA5-4E9B-9428-416C0167E2F8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ход к решени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Массовый пользователь несведущ в области информационной безопасности и, возможно, потенциально нелоялен, поэтому: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c54"/>
                </a:solidFill>
                <a:latin typeface="Arial"/>
              </a:rPr>
              <a:t>система должна быть максимально проста в эксплуатации;</a:t>
            </a:r>
            <a:endParaRPr b="1" lang="en-US" sz="24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c54"/>
                </a:solidFill>
                <a:latin typeface="Arial"/>
              </a:rPr>
              <a:t>в идеале – не должна требовать никаких квалифицированных действий пользователя.</a:t>
            </a:r>
            <a:endParaRPr b="1" lang="en-US" sz="24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c5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В соответствии с этими принципами: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c54"/>
                </a:solidFill>
                <a:latin typeface="Arial"/>
              </a:rPr>
              <a:t>политика безопасности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1c54"/>
                </a:solidFill>
                <a:latin typeface="Arial"/>
              </a:rPr>
              <a:t> при  доступе пользователя  определяется только системным администратором   и не может быть изменена  клиентом;</a:t>
            </a:r>
            <a:endParaRPr b="1" lang="en-US" sz="24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c54"/>
                </a:solidFill>
                <a:latin typeface="Arial"/>
              </a:rPr>
              <a:t>пользователь</a:t>
            </a:r>
            <a:r>
              <a:rPr b="1" lang="en-US" sz="2400" spc="-1" strike="noStrike">
                <a:solidFill>
                  <a:srgbClr val="001c5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1c54"/>
                </a:solidFill>
                <a:latin typeface="Arial"/>
              </a:rPr>
              <a:t>не требует  от админа никаких технических операций кроме установки ПО и ввода    ключа безопасности.</a:t>
            </a:r>
            <a:endParaRPr b="1" lang="en-US" sz="24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110" name="Номер слайда 4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2728-5553-4BEF-BECD-826C925B33A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ы безопас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c54"/>
                </a:solidFill>
                <a:latin typeface="Arial"/>
              </a:rPr>
              <a:t>Сети удаленного доступа характеризуются двумя чертами:</a:t>
            </a:r>
            <a:endParaRPr b="1" lang="en-US" sz="24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c54"/>
                </a:solidFill>
                <a:latin typeface="Arial"/>
              </a:rPr>
              <a:t>высокой размерностью</a:t>
            </a:r>
            <a:endParaRPr b="1" lang="en-US" sz="20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c54"/>
                </a:solidFill>
                <a:latin typeface="Arial"/>
              </a:rPr>
              <a:t>разнородностью парка пользователей</a:t>
            </a:r>
            <a:endParaRPr b="1" lang="en-US" sz="2000" spc="-1" strike="noStrike">
              <a:solidFill>
                <a:srgbClr val="001c5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c54"/>
                </a:solidFill>
                <a:latin typeface="Arial"/>
              </a:rPr>
              <a:t>Поэтому при построении  школьной сети удаленного доступа на первый план выходят вопросы безопасности:</a:t>
            </a:r>
            <a:endParaRPr b="1" lang="en-US" sz="24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c54"/>
                </a:solidFill>
                <a:latin typeface="Arial"/>
              </a:rPr>
              <a:t>проблема доверия: </a:t>
            </a:r>
            <a:endParaRPr b="1" lang="en-US" sz="2000" spc="-1" strike="noStrike">
              <a:solidFill>
                <a:srgbClr val="001c5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c54"/>
                </a:solidFill>
                <a:latin typeface="Arial"/>
              </a:rPr>
              <a:t>можно ли доверять большой массе пользователей? как реализовать безопасность сети при условии, что среди множества пользователей всегда  найдется некоторое количество нелояльных (потенциальных нарушителей)?</a:t>
            </a:r>
            <a:endParaRPr b="1" lang="en-US" sz="18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c54"/>
                </a:solidFill>
                <a:latin typeface="Arial"/>
              </a:rPr>
              <a:t>проблема квалификации:</a:t>
            </a:r>
            <a:endParaRPr b="1" lang="en-US" sz="2000" spc="-1" strike="noStrike">
              <a:solidFill>
                <a:srgbClr val="001c5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c54"/>
                </a:solidFill>
                <a:latin typeface="Arial"/>
              </a:rPr>
              <a:t>как обеспечить простоту эксплуатации средств защиты? как адаптировать решение к уровню знаний потенциально неквалифицированного пользователя?  </a:t>
            </a:r>
            <a:endParaRPr b="1" lang="en-US" sz="1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113" name="Номер слайда 4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748C-1147-47C6-B951-8A2CC95B63DB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0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метры контрол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Схема 3" descr=""/>
          <p:cNvPicPr/>
          <p:nvPr/>
        </p:nvPicPr>
        <p:blipFill>
          <a:blip r:embed="rId1"/>
          <a:stretch/>
        </p:blipFill>
        <p:spPr>
          <a:xfrm>
            <a:off x="268200" y="1195560"/>
            <a:ext cx="867420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59840" cy="1017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струментарий, используемый в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ерационных системах (Windows и Linux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6308640"/>
            <a:ext cx="72007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(только бесплатные версии)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pic>
        <p:nvPicPr>
          <p:cNvPr id="118" name="Схема 3" descr=""/>
          <p:cNvPicPr/>
          <p:nvPr/>
        </p:nvPicPr>
        <p:blipFill>
          <a:blip r:embed="rId1"/>
          <a:stretch/>
        </p:blipFill>
        <p:spPr>
          <a:xfrm>
            <a:off x="487440" y="1311120"/>
            <a:ext cx="8291520" cy="51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трафные санкции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1c54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Если школа нарушает установленные новым законом требования по распространению информации, Кодекс об административных правонарушениях предусматривает 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для должностных лиц – от 5 до 10 тыс. рублей, 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для юридических – от 20 до 50 тыс. рублей с конфискацией предмета административного правонарушения и (или) административное приостановление деятельности на срок до девяноста суток. 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09:31:43Z</dcterms:created>
  <dc:creator>Sergei D. Ryabko</dc:creator>
  <dc:description/>
  <dc:language>en-US</dc:language>
  <cp:lastModifiedBy>RePack by Diakov</cp:lastModifiedBy>
  <dcterms:modified xsi:type="dcterms:W3CDTF">2018-06-13T22:13:27Z</dcterms:modified>
  <cp:revision>270</cp:revision>
  <dc:subject/>
  <dc:title>PowerPoint Presentation</dc:title>
</cp:coreProperties>
</file>