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B653-9E9F-468E-8657-1CC0C9077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4991-412C-4AA3-9FF1-B9D7716BC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651F-27DD-4D4C-8358-46C40BC99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стояние биологического прогресса достигается за счет ароморфозов, идиоадаптаций и дегенерац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роморфоз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— морфофизиологические изменения, которое приводит к повышению уровня организации, приспосабливают организмы к новым условиям обитания. Ароморфозы приводят к образованию крупных систематических единиц — классов, типов. Например, выход на сушу растений сопровождался появлением механических, проводящих, покровных тканей. Появление семенных растений, опыление в воздушной среде, появление цветка и плода — яркие примеры ароморфозов в растительном мире. В животном мире появление классов позвоночных животных сопровождалось ароморфозами в кровеносной, дыхательной, выделительной и других системах. Например, двухкамерное сердце рыб заменилось трехкамерным у земноводных, у пресмыкающихся в желудочке появляется неполная перегородка, полностью четырехкамерным сердце стало у птиц и млекопитающих. Внутреннее оплодотворение и откладывание яиц позволили пресмыкающимся освоить сушу, роговые покровы препятствуют испарению воды через кожные покровы и служат этой же цел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50. Идиоадаптации у рыб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диоадапта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напротив, не приводят к повышению общего уровня организации, это такие морфофизиологические изменения, которые приспосабливают организм к конкретным условиям обитания. Идиоадаптации приводят к появлению мелких систематических единиц — родов, семейств, отряд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ыбы приспособились к жизни в различных условиях и имеют различную форму тела и окраску (рис. 350), древние земноводные приспособились к различным условиям  жизни  на  Земле и в результате идиоадаптаций дали хвостатых, бесхвос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ых и безногих земноводных. Иголки у ежа, клюв у утки или дятла, длинная шея и длинные ноги цапли — все это примеры идиоадаптаций. Ароморфозы позволяют освоить новые среды обитания, затем эволюция идет за счет идиоадаптаций (рис. 351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51. Соотношение между ароморфозами, идиоадаптациям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дегенерация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енерация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— третий путь, с помощью которого достигается биологический прогресс (рис. 352). При этом организмы приспосабливаются к более простому образу жизни, в результате происходит упрощение организаци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52. Примеры дегенераций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— повилика на крапиве; 2 —саккулина; 3 — корневидные отростки саккулины в теле краба; 4 — личинка асцидии с хордой и нервной трубкой; 5 — взрослая асцид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пример, переход к сидячему образу жизни у личиночнохордовых привел к редукции хорды и нервной трубки у взрослой асцидии. Паразитический образ жизни ленточных червей привел к полной утрате пищеварительного тракта. У паразитического цветкового растения повилики утратились корни, листья, хлорофилл и питательные вещества растение-паразит поглощает из растения-хозяина с помощью присосок. Рак саккулина, паразитирующий на крабе, имеет форму мешка, расположенного под брюшком краба, корневидные отростки которого пронизывают все тело краб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5A0F-12EC-4E7D-A11A-97C384EB1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0. Идиоадаптации у ры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диоадаптаци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напротив, не приводят к повышению общего уровня организации, это такие морфофизиологические изменения, которые приспосабливают организм к конкретным условиям обитания. Идиоадаптации приводят к появлению мелких систематических единиц — родов, семейств, отряд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ыбы приспособились к жизни в различных условиях и имеют различную форму тела и окраску (рис. 350), древние земноводные приспособились к различным условиям  жизни  на  Земле и в результате идиоадаптаций дали хвостатых, бесхвос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ых и безногих земноводных. Иголки у ежа, клюв у утки или дятла, длинная шея и длинные ноги цапли — все это примеры идиоадаптаций. Ароморфозы позволяют освоить новые среды обитания, затем эволюция идет за счет идиоадаптаций (рис. 35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1. Соотношение между ароморфозами, идиоадаптация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дегенераци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егенерац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— третий путь, с помощью которого достигается биологический прогресс (рис. 352). При этом организмы приспосабливаются к более простому образу жизни, в результате происходит упрощение организ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2. Примеры дегенераций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— повилика на крапиве; 2 —саккулина; 3 — корневидные отростки саккулины в теле краба; 4 — личинка асцидии с хордой и нервной трубкой; 5 — взрослая асцид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пример, переход к сидячему образу жизни у личиночнохордовых привел к редукции хорды и нервной трубки у взрослой асцидии. Паразитический образ жизни ленточных червей привел к полной утрате пищеварительного тракта. У паразитического цветкового растения повилики утратились корни, листья, хлорофилл и питательные вещества растение-паразит поглощает из растения-хозяина с помощью присосок. Рак саккулина, паразитирующий на крабе, имеет форму мешка, расположенного под брюшком краба, корневидные отростки которого пронизывают все тело краб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4D6F-186E-4CF2-AB6D-ECF354C891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0. Идиоадаптации у ры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диоадаптаци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напротив, не приводят к повышению общего уровня организации, это такие морфофизиологические изменения, которые приспосабливают организм к конкретным условиям обитания. Идиоадаптации приводят к появлению мелких систематических единиц — родов, семейств, отряд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ыбы приспособились к жизни в различных условиях и имеют различную форму тела и окраску (рис. 350), древние земноводные приспособились к различным условиям  жизни  на  Земле и в результате идиоадаптаций дали хвостатых, бесхвос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ых и безногих земноводных. Иголки у ежа, клюв у утки или дятла, длинная шея и длинные ноги цапли — все это примеры идиоадаптаций. Ароморфозы позволяют освоить новые среды обитания, затем эволюция идет за счет идиоадаптаций (рис. 35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1. Соотношение между ароморфозами, идиоадаптация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дегенераци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егенерац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— третий путь, с помощью которого достигается биологический прогресс (рис. 352). При этом организмы приспосабливаются к более простому образу жизни, в результате происходит упрощение организ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2. Примеры дегенераций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— повилика на крапиве; 2 —саккулина; 3 — корневидные отростки саккулины в теле краба; 4 — личинка асцидии с хордой и нервной трубкой; 5 — взрослая асцид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пример, переход к сидячему образу жизни у личиночнохордовых привел к редукции хорды и нервной трубки у взрослой асцидии. Паразитический образ жизни ленточных червей привел к полной утрате пищеварительного тракта. У паразитического цветкового растения повилики утратились корни, листья, хлорофилл и питательные вещества растение-паразит поглощает из растения-хозяина с помощью присосок. Рак саккулина, паразитирующий на крабе, имеет форму мешка, расположенного под брюшком краба, корневидные отростки которого пронизывают все тело краб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19EE-4CAD-45A5-A908-1B8F97D051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0. Идиоадаптации у ры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диоадаптаци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напротив, не приводят к повышению общего уровня организации, это такие морфофизиологические изменения, которые приспосабливают организм к конкретным условиям обитания. Идиоадаптации приводят к появлению мелких систематических единиц — родов, семейств, отряд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ыбы приспособились к жизни в различных условиях и имеют различную форму тела и окраску (рис. 350), древние земноводные приспособились к различным условиям  жизни  на  Земле и в результате идиоадаптаций дали хвостатых, бесхвос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ых и безногих земноводных. Иголки у ежа, клюв у утки или дятла, длинная шея и длинные ноги цапли — все это примеры идиоадаптаций. Ароморфозы позволяют освоить новые среды обитания, затем эволюция идет за счет идиоадаптаций (рис. 35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1. Соотношение между ароморфозами, идиоадаптация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дегенераци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егенерац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— третий путь, с помощью которого достигается биологический прогресс (рис. 352). При этом организмы приспосабливаются к более простому образу жизни, в результате происходит упрощение организ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2. Примеры дегенераций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— повилика на крапиве; 2 —саккулина; 3 — корневидные отростки саккулины в теле краба; 4 — личинка асцидии с хордой и нервной трубкой; 5 — взрослая асцид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пример, переход к сидячему образу жизни у личиночнохордовых привел к редукции хорды и нервной трубки у взрослой асцидии. Паразитический образ жизни ленточных червей привел к полной утрате пищеварительного тракта. У паразитического цветкового растения повилики утратились корни, листья, хлорофилл и питательные вещества растение-паразит поглощает из растения-хозяина с помощью присосок. Рак саккулина, паразитирующий на крабе, имеет форму мешка, расположенного под брюшком краба, корневидные отростки которого пронизывают все тело краб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7AD3-7F23-47AF-A11F-26812CF29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0. Идиоадаптации у ры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1. Соотношение между ароморфозами, идиоадаптация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дегенераци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603-D0A0-44AE-836E-48009367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A70-A5D7-4FBD-B766-502D5585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958-7753-4B70-9105-2C8EE655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D5F-FB96-4C0B-95C7-7722389A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765-E5F0-4E97-A420-35CA6472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EDB-CE9B-4927-BC46-0BB67A2A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DE2-261B-459C-ABAA-32A376C1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F83-94F6-444F-9819-3C8B477E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15F-72C3-4B49-AD09-D870A73A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BD1-EED1-4473-9BE6-EBAEB80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375-D000-4135-8401-6415C366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EA3-0E44-4152-BDA5-0C9AC8E3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0F12-32E9-4447-B61A-5F4CD235C0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ема: Макроэволю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3573360"/>
            <a:ext cx="8353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формировать знания об основных направлениях эволюционного процесса – биологическом прогрессе и биологическом регр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казать, что биологический прогресс достигается тремя путями эволюции – ароморфозами, идиоадаптациями и дегенер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9933"/>
                </a:solidFill>
                <a:latin typeface="Arial"/>
              </a:rPr>
              <a:t>Глава 4. </a:t>
            </a:r>
            <a:br>
              <a:rPr sz="2800"/>
            </a:b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Популяционно-видов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867280" y="18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ом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516720" y="630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жухова Е.Н.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Главные направления э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4360" y="836640"/>
            <a:ext cx="619272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е о главных направлениях и путях эволюции создано А.Н.Северцовым, который предложил различать два направления в эволюционном процессе —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биологический прогре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егре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казал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ри основных пу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ижения биологического прогр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ологический прогре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характеризуется увеличением численности, расширением ареала, увеличением числа популяций, ускорением процессов видообразования. В состоянии биологического прогресса находятся, например, насекомые, цветковые рас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82560" y="4371840"/>
            <a:ext cx="79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ологического регре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характеристики противоположные, в результате возможно полное вымирание этой группы организмов. По пути биологического регресса пошли динозавры, псилофиты, семенные папоротники. В настоящее время вымирание грозит многим видам растений и животных, для спасения которых созданы заповедники, заказники, они занесены в Красные кни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804000" y="3456000"/>
            <a:ext cx="2160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Н.Северц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66-19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7020000" y="836640"/>
            <a:ext cx="182700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50920" y="692280"/>
            <a:ext cx="396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биологического прогресса достигается за счет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роморфозов, идиоадаптаций и дегенер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—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морфофизиологические изменения, которое приводят к повышению уровня организации, приспосабливают организмы к новым условиям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водят к образованию крупных систематических единиц — классов, тип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выход на сушу растений сопровождался появление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ханических, проводящих, покровных тканей у псилофи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36096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Rectangle 10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1.avi" descr=""/>
          <p:cNvPicPr/>
          <p:nvPr/>
        </p:nvPicPr>
        <p:blipFill>
          <a:blip r:embed="rId2"/>
          <a:stretch/>
        </p:blipFill>
        <p:spPr>
          <a:xfrm>
            <a:off x="5075280" y="5493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90972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псилофитов произошли папоротники, хвощи, плауны. Какие ароморфозы привели к появлению этих групп расте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Корень, ли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6048360" cy="4844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.avi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4000" y="417204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появились семенные растения – голосеменные и цветковые растения. Ароморфоз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6048360" cy="484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2054160" cy="2371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7120080" y="0"/>
            <a:ext cx="2023920" cy="2073240"/>
          </a:xfrm>
          <a:prstGeom prst="rect">
            <a:avLst/>
          </a:prstGeom>
          <a:ln w="0">
            <a:noFill/>
          </a:ln>
        </p:spPr>
      </p:pic>
      <p:pic>
        <p:nvPicPr>
          <p:cNvPr id="71" name="3.avi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525600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Rectangle 7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24000" y="6093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ароморфозы позволили появиться наземным позвоноч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4.avi" descr=""/>
          <p:cNvPicPr/>
          <p:nvPr/>
        </p:nvPicPr>
        <p:blipFill>
          <a:blip r:embed="rId2"/>
          <a:stretch/>
        </p:blipFill>
        <p:spPr>
          <a:xfrm>
            <a:off x="4572000" y="303372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539640" y="719280"/>
            <a:ext cx="8137800" cy="6022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611280" y="692280"/>
            <a:ext cx="799308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Идио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отив, не приводят к повышению общего уровня организации, это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такие морфофизиологические изменения, которые приспосабливают организм к конкретным условиям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диоадаптации приводят к появлению мелких систематических единиц — родов, семейств, отря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пыление ветром, самоопыление, опыление насекомыми – примеры идиоадаптаций. Растения пустыни имеют одни идиоадаптации, водные растения  -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диоадап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6300720" y="3305160"/>
            <a:ext cx="2664000" cy="3192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611280" y="3305160"/>
            <a:ext cx="2592360" cy="319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3419640" y="3305160"/>
            <a:ext cx="2665080" cy="3192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1:44:52Z</dcterms:created>
  <dc:creator>Pimenov AV</dc:creator>
  <dc:description/>
  <dc:language>en-US</dc:language>
  <cp:lastModifiedBy>ЕКАТЕРИНА ГАЗИЗОВА</cp:lastModifiedBy>
  <dcterms:modified xsi:type="dcterms:W3CDTF">2018-07-06T20:10:12Z</dcterms:modified>
  <cp:revision>33</cp:revision>
  <dc:subject/>
  <dc:title>Тема: Главные направления эволюции</dc:title>
</cp:coreProperties>
</file>