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9872-8DF7-4B0C-A0E6-34D4CB51AA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6DD5-A48A-4FF6-8C9C-214FFBA6AA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7244-CAAE-4864-8FBD-0BF41AFDC5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остояние биологического прогресса достигается за счет ароморфозов, идиоадаптаций и дегенераций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Ароморфозы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— морфофизиологические изменения, которое приводит к повышению уровня организации, приспосабливают организмы к новым условиям обитания. Ароморфозы приводят к образованию крупных систематических единиц — классов, типов. Например, выход на сушу растений сопровождался появлением механических, проводящих, покровных тканей. Появление семенных растений, опыление в воздушной среде, появление цветка и плода — яркие примеры ароморфозов в растительном мире. В животном мире появление классов позвоночных животных сопровождалось ароморфозами в кровеносной, дыхательной, выделительной и других системах. Например, двухкамерное сердце рыб заменилось трехкамерным у земноводных, у пресмыкающихся в желудочке появляется неполная перегородка, полностью четырехкамерным сердце стало у птиц и млекопитающих. Внутреннее оплодотворение и откладывание яиц позволили пресмыкающимся освоить сушу, роговые покровы препятствуют испарению воды через кожные покровы и служат этой же цел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ис. 350. Идиоадаптации у рыб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Идиоадаптаци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напротив, не приводят к повышению общего уровня организации, это такие морфофизиологические изменения, которые приспосабливают организм к конкретным условиям обитания. Идиоадаптации приводят к появлению мелких систематических единиц — родов, семейств, отрядо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ыбы приспособились к жизни в различных условиях и имеют различную форму тела и окраску (рис. 350), древние земноводные приспособились к различным условиям  жизни  на  Земле и в результате идиоадаптаций дали хвостатых, бесхвос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ых и безногих земноводных. Иголки у ежа, клюв у утки или дятла, длинная шея и длинные ноги цапли — все это примеры идиоадаптаций. Ароморфозы позволяют освоить новые среды обитания, затем эволюция идет за счет идиоадаптаций (рис. 351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ис. 351. Соотношение между ароморфозами, идиоадаптациям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 дегенерациям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егенерация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— третий путь, с помощью которого достигается биологический прогресс (рис. 352). При этом организмы приспосабливаются к более простому образу жизни, в результате происходит упрощение организаци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ис. 352. Примеры дегенераций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 — повилика на крапиве; 2 —саккулина; 3 — корневидные отростки саккулины в теле краба; 4 — личинка асцидии с хордой и нервной трубкой; 5 — взрослая асцид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пример, переход к сидячему образу жизни у личиночнохордовых привел к редукции хорды и нервной трубки у взрослой асцидии. Паразитический образ жизни ленточных червей привел к полной утрате пищеварительного тракта. У паразитического цветкового растения повилики утратились корни, листья, хлорофилл и питательные вещества растение-паразит поглощает из растения-хозяина с помощью присосок. Рак саккулина, паразитирующий на крабе, имеет форму мешка, расположенного под брюшком краба, корневидные отростки которого пронизывают все тело краб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B153-7B9C-4D86-A628-353AD9FA15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. 350. Идиоадаптации у рыб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Идиоадаптаци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, напротив, не приводят к повышению общего уровня организации, это такие морфофизиологические изменения, которые приспосабливают организм к конкретным условиям обитания. Идиоадаптации приводят к появлению мелких систематических единиц — родов, семейств, отряд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ыбы приспособились к жизни в различных условиях и имеют различную форму тела и окраску (рис. 350), древние земноводные приспособились к различным условиям  жизни  на  Земле и в результате идиоадаптаций дали хвостатых, бесхвос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ых и безногих земноводных. Иголки у ежа, клюв у утки или дятла, длинная шея и длинные ноги цапли — все это примеры идиоадаптаций. Ароморфозы позволяют освоить новые среды обитания, затем эволюция идет за счет идиоадаптаций (рис. 351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. 351. Соотношение между ароморфозами, идиоадаптациям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 дегенерациям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Дегенерация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— третий путь, с помощью которого достигается биологический прогресс (рис. 352). При этом организмы приспосабливаются к более простому образу жизни, в результате происходит упрощение организац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. 352. Примеры дегенераций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 — повилика на крапиве; 2 —саккулина; 3 — корневидные отростки саккулины в теле краба; 4 — личинка асцидии с хордой и нервной трубкой; 5 — взрослая асцид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пример, переход к сидячему образу жизни у личиночнохордовых привел к редукции хорды и нервной трубки у взрослой асцидии. Паразитический образ жизни ленточных червей привел к полной утрате пищеварительного тракта. У паразитического цветкового растения повилики утратились корни, листья, хлорофилл и питательные вещества растение-паразит поглощает из растения-хозяина с помощью присосок. Рак саккулина, паразитирующий на крабе, имеет форму мешка, расположенного под брюшком краба, корневидные отростки которого пронизывают все тело краб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5259-A996-44FD-BF25-4F65EC4E9F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. 350. Идиоадаптации у рыб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Идиоадаптаци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, напротив, не приводят к повышению общего уровня организации, это такие морфофизиологические изменения, которые приспосабливают организм к конкретным условиям обитания. Идиоадаптации приводят к появлению мелких систематических единиц — родов, семейств, отряд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ыбы приспособились к жизни в различных условиях и имеют различную форму тела и окраску (рис. 350), древние земноводные приспособились к различным условиям  жизни  на  Земле и в результате идиоадаптаций дали хвостатых, бесхвос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ых и безногих земноводных. Иголки у ежа, клюв у утки или дятла, длинная шея и длинные ноги цапли — все это примеры идиоадаптаций. Ароморфозы позволяют освоить новые среды обитания, затем эволюция идет за счет идиоадаптаций (рис. 351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. 351. Соотношение между ароморфозами, идиоадаптациям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 дегенерациям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Дегенерация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— третий путь, с помощью которого достигается биологический прогресс (рис. 352). При этом организмы приспосабливаются к более простому образу жизни, в результате происходит упрощение организац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. 352. Примеры дегенераций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 — повилика на крапиве; 2 —саккулина; 3 — корневидные отростки саккулины в теле краба; 4 — личинка асцидии с хордой и нервной трубкой; 5 — взрослая асцид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пример, переход к сидячему образу жизни у личиночнохордовых привел к редукции хорды и нервной трубки у взрослой асцидии. Паразитический образ жизни ленточных червей привел к полной утрате пищеварительного тракта. У паразитического цветкового растения повилики утратились корни, листья, хлорофилл и питательные вещества растение-паразит поглощает из растения-хозяина с помощью присосок. Рак саккулина, паразитирующий на крабе, имеет форму мешка, расположенного под брюшком краба, корневидные отростки которого пронизывают все тело краб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A3C8-5266-4782-BC09-44B87FE7AF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. 350. Идиоадаптации у рыб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Идиоадаптаци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, напротив, не приводят к повышению общего уровня организации, это такие морфофизиологические изменения, которые приспосабливают организм к конкретным условиям обитания. Идиоадаптации приводят к появлению мелких систематических единиц — родов, семейств, отряд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ыбы приспособились к жизни в различных условиях и имеют различную форму тела и окраску (рис. 350), древние земноводные приспособились к различным условиям  жизни  на  Земле и в результате идиоадаптаций дали хвостатых, бесхвос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ых и безногих земноводных. Иголки у ежа, клюв у утки или дятла, длинная шея и длинные ноги цапли — все это примеры идиоадаптаций. Ароморфозы позволяют освоить новые среды обитания, затем эволюция идет за счет идиоадаптаций (рис. 351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. 351. Соотношение между ароморфозами, идиоадаптациям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 дегенерациям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Дегенерация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— третий путь, с помощью которого достигается биологический прогресс (рис. 352). При этом организмы приспосабливаются к более простому образу жизни, в результате происходит упрощение организац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. 352. Примеры дегенераций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 — повилика на крапиве; 2 —саккулина; 3 — корневидные отростки саккулины в теле краба; 4 — личинка асцидии с хордой и нервной трубкой; 5 — взрослая асцид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пример, переход к сидячему образу жизни у личиночнохордовых привел к редукции хорды и нервной трубки у взрослой асцидии. Паразитический образ жизни ленточных червей привел к полной утрате пищеварительного тракта. У паразитического цветкового растения повилики утратились корни, листья, хлорофилл и питательные вещества растение-паразит поглощает из растения-хозяина с помощью присосок. Рак саккулина, паразитирующий на крабе, имеет форму мешка, расположенного под брюшком краба, корневидные отростки которого пронизывают все тело краб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1785-2AE4-4D4C-8591-88099CD112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. 350. Идиоадаптации у рыб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. 351. Соотношение между ароморфозами, идиоадаптациям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 дегенерациям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BCB7-2412-4ECC-8ADE-717767D27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3D5F-FFB0-4FBE-AA4D-90108AE1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F144-437B-41B0-8893-BE0BF4A74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0E91-2CC9-4EE4-9F99-270BA53F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3544-1B16-4711-80DB-3637B2C3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DC65-389F-4E5E-A4D8-8C9F6D24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9CED-DF96-495F-99E3-9B87BA3B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F6D0-7DF1-48C0-A75D-85B298FE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68BD-94C6-4BFA-A985-2191501E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468C-0045-445F-B4EE-D64A2D8D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61B1-A38E-47D2-9486-5C6E4202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2C50-81C1-4A7B-95AF-D480C10E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3630-176A-4C70-8958-EA448F6AC3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Тема: Макроэволю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3573360"/>
            <a:ext cx="835344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формировать знания об основных направлениях эволюционного процесса – биологическом прогрессе и биологическом регресс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оказать, что биологический прогресс достигается тремя путями эволюции – ароморфозами, идиоадаптациями и дегенерац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99960" y="189000"/>
            <a:ext cx="81327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9933"/>
                </a:solidFill>
                <a:latin typeface="Arial"/>
              </a:rPr>
              <a:t>Глава 4. </a:t>
            </a:r>
            <a:br>
              <a:rPr sz="2800"/>
            </a:br>
            <a:r>
              <a:rPr b="0" lang="ru-RU" sz="2800" spc="-1" strike="noStrike">
                <a:solidFill>
                  <a:srgbClr val="339933"/>
                </a:solidFill>
                <a:latin typeface="Arial"/>
              </a:rPr>
              <a:t>Популяционно-видовой уров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5867280" y="18900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дом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516720" y="630864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ожухова Е.Н.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Главные направления эволю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84360" y="836640"/>
            <a:ext cx="6192720" cy="34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е о главных направлениях и путях эволюции создано А.Н.Северцовым, который предложил различать два направления в эволюционном процессе —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биологический прогрес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регрес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оказал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три основных пу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остижения биологического прогрес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Биологический прогрес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характеризуется увеличением численности, расширением ареала, увеличением числа популяций, ускорением процессов видообразования. В состоянии биологического прогресса находятся, например, насекомые, цветковые раст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682560" y="4371840"/>
            <a:ext cx="7993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биологического регрес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характеристики противоположные, в результате возможно полное вымирание этой группы организмов. По пути биологического регресса пошли динозавры, псилофиты, семенные папоротники. В настоящее время вымирание грозит многим видам растений и животных, для спасения которых созданы заповедники, заказники, они занесены в Красные кни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6804000" y="3456000"/>
            <a:ext cx="21607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Н.Северц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866-193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7020000" y="836640"/>
            <a:ext cx="1827000" cy="2519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250920" y="692280"/>
            <a:ext cx="3960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ояние биологического прогресса достигается за счет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ароморфозов, идиоадаптаций и дегенер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Ароморфозы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—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морфофизиологические изменения, которое приводят к повышению уровня организации, приспосабливают организмы к новым условиям об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риводят к образованию крупных систематических единиц — классов, типо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имер, выход на сушу растений сопровождался появлением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еханических, проводящих, покровных тканей у псилофи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"/>
          <p:cNvPicPr/>
          <p:nvPr/>
        </p:nvPicPr>
        <p:blipFill>
          <a:blip r:embed="rId1"/>
          <a:stretch/>
        </p:blipFill>
        <p:spPr>
          <a:xfrm>
            <a:off x="5076720" y="3213000"/>
            <a:ext cx="3360960" cy="34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Rectangle 10"/>
          <p:cNvSpPr/>
          <p:nvPr/>
        </p:nvSpPr>
        <p:spPr>
          <a:xfrm>
            <a:off x="457200" y="11592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Ароморф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1.avi" descr=""/>
          <p:cNvPicPr/>
          <p:nvPr/>
        </p:nvPicPr>
        <p:blipFill>
          <a:blip r:embed="rId2"/>
          <a:stretch/>
        </p:blipFill>
        <p:spPr>
          <a:xfrm>
            <a:off x="5075280" y="549360"/>
            <a:ext cx="3384360" cy="2538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50920" y="909720"/>
            <a:ext cx="864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псилофитов произошли папоротники, хвощи, плауны. Какие ароморфозы привели к появлению этих групп растен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- Корень, лист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3059280" y="1916280"/>
            <a:ext cx="6048360" cy="48448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9"/>
          <p:cNvSpPr/>
          <p:nvPr/>
        </p:nvSpPr>
        <p:spPr>
          <a:xfrm>
            <a:off x="457200" y="11592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Ароморф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2.avi" descr=""/>
          <p:cNvPicPr/>
          <p:nvPr/>
        </p:nvPicPr>
        <p:blipFill>
          <a:blip r:embed="rId2"/>
          <a:stretch/>
        </p:blipFill>
        <p:spPr>
          <a:xfrm>
            <a:off x="324000" y="2205000"/>
            <a:ext cx="3671640" cy="2754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1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24000" y="4172040"/>
            <a:ext cx="2592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тем появились семенные растения – голосеменные и цветковые растения. Ароморфоз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457200" y="11592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Ароморф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1"/>
          <a:stretch/>
        </p:blipFill>
        <p:spPr>
          <a:xfrm>
            <a:off x="3059280" y="1916280"/>
            <a:ext cx="6048360" cy="4844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"/>
          <p:cNvPicPr/>
          <p:nvPr/>
        </p:nvPicPr>
        <p:blipFill>
          <a:blip r:embed="rId2"/>
          <a:stretch/>
        </p:blipFill>
        <p:spPr>
          <a:xfrm>
            <a:off x="4859280" y="620640"/>
            <a:ext cx="2054160" cy="2371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3"/>
          <a:stretch/>
        </p:blipFill>
        <p:spPr>
          <a:xfrm>
            <a:off x="7120080" y="0"/>
            <a:ext cx="2023920" cy="2073240"/>
          </a:xfrm>
          <a:prstGeom prst="rect">
            <a:avLst/>
          </a:prstGeom>
          <a:ln w="0">
            <a:noFill/>
          </a:ln>
        </p:spPr>
      </p:pic>
      <p:pic>
        <p:nvPicPr>
          <p:cNvPr id="71" name="3.avi" descr=""/>
          <p:cNvPicPr/>
          <p:nvPr/>
        </p:nvPicPr>
        <p:blipFill>
          <a:blip r:embed="rId4"/>
          <a:stretch/>
        </p:blipFill>
        <p:spPr>
          <a:xfrm>
            <a:off x="324000" y="620640"/>
            <a:ext cx="4176720" cy="3132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22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5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525600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" name="Rectangle 7"/>
          <p:cNvSpPr/>
          <p:nvPr/>
        </p:nvSpPr>
        <p:spPr>
          <a:xfrm>
            <a:off x="457200" y="11592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Ароморф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324000" y="609300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ароморфозы позволили появиться наземным позвоночны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4.avi" descr=""/>
          <p:cNvPicPr/>
          <p:nvPr/>
        </p:nvPicPr>
        <p:blipFill>
          <a:blip r:embed="rId2"/>
          <a:stretch/>
        </p:blipFill>
        <p:spPr>
          <a:xfrm>
            <a:off x="4572000" y="3033720"/>
            <a:ext cx="4176720" cy="3132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26" dur="indefinite" restart="never" nodeType="tmRoot">
          <p:childTnLst>
            <p:seq>
              <p:cTn id="127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28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1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457200" y="11592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Ароморф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1"/>
          <a:stretch/>
        </p:blipFill>
        <p:spPr>
          <a:xfrm>
            <a:off x="539640" y="719280"/>
            <a:ext cx="8137800" cy="6022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5"/>
          <p:cNvSpPr/>
          <p:nvPr/>
        </p:nvSpPr>
        <p:spPr>
          <a:xfrm>
            <a:off x="611280" y="692280"/>
            <a:ext cx="7993080" cy="24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Идиоадапт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против, не приводят к повышению общего уровня организации, это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такие морфофизиологические изменения, которые приспосабливают организм к конкретным условиям об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диоадаптации приводят к появлению мелких систематических единиц — родов, семейств, отря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Опыление ветром, самоопыление, опыление насекомыми – примеры идиоадаптаций. Растения пустыни имеют одни идиоадаптации, водные растения  - друг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457200" y="11592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Идиоадап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6300720" y="3305160"/>
            <a:ext cx="2664000" cy="3192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611280" y="3305160"/>
            <a:ext cx="2592360" cy="3192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"/>
          <p:cNvPicPr/>
          <p:nvPr/>
        </p:nvPicPr>
        <p:blipFill>
          <a:blip r:embed="rId3"/>
          <a:stretch/>
        </p:blipFill>
        <p:spPr>
          <a:xfrm>
            <a:off x="3419640" y="3305160"/>
            <a:ext cx="2665080" cy="3192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0T11:44:52Z</dcterms:created>
  <dc:creator>Pimenov AV</dc:creator>
  <dc:description/>
  <dc:language>en-US</dc:language>
  <cp:lastModifiedBy>ЕКАТЕРИНА ГАЗИЗОВА</cp:lastModifiedBy>
  <dcterms:modified xsi:type="dcterms:W3CDTF">2018-07-06T20:10:12Z</dcterms:modified>
  <cp:revision>33</cp:revision>
  <dc:subject/>
  <dc:title>Тема: Главные направления эволюции</dc:title>
</cp:coreProperties>
</file>