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3.gif" ContentType="image/gif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0.png" ContentType="image/png"/>
  <Override PartName="/ppt/media/image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DE6C-F167-4722-BD32-F13877A1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F380-55A9-4C5D-A1A8-EA47A52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F5E0-7A7D-4FCF-8AE1-3E373417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0A4-CC36-40E4-A7E4-F64C88472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3DC-AAC7-4710-8F8D-F50257A3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A109-FD17-4B8A-BF21-7E60EAECE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BF64-6C88-4649-952B-17964DDB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CAD-AA34-4D54-BAFA-5399F07D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713A-7D9A-416E-B1EC-56E38A01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E51-C29E-497B-B226-0E0B27B9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8151-A616-45F6-ADEF-4A5F1A4D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375-AC78-4C7F-870E-B81F1B47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A0A5-EE7B-465B-A60F-0B4033F537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92360" y="1052640"/>
            <a:ext cx="597672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торожно,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Picture 10" descr="8ad5f2bd8da51ae02ff433368d6a19ad"/>
          <p:cNvPicPr/>
          <p:nvPr/>
        </p:nvPicPr>
        <p:blipFill>
          <a:blip r:embed="rId2"/>
          <a:stretch/>
        </p:blipFill>
        <p:spPr>
          <a:xfrm>
            <a:off x="3059280" y="1773360"/>
            <a:ext cx="2881080" cy="2841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476360" y="414972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ОГОНЬ 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f709"/>
                </a:solidFill>
                <a:latin typeface="Impact"/>
              </a:rPr>
              <a:t>При пожаре звон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250920" y="4508640"/>
            <a:ext cx="3529080" cy="19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Impact"/>
              </a:rPr>
              <a:t>01</a:t>
            </a:r>
            <a:endParaRPr b="0" lang="en-US" sz="44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1619280" y="549360"/>
            <a:ext cx="5977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Чтоб не ссориться с огнём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Нужно больше знать о нём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И запомнить навсегда: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611280" y="4221000"/>
            <a:ext cx="806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2600" dir="0" blurRad="0" rotWithShape="0">
                    <a:srgbClr val="f7f709">
                      <a:alpha val="80000"/>
                    </a:srgbClr>
                  </a:outerShdw>
                </a:effectLst>
                <a:latin typeface="Impact"/>
              </a:rPr>
              <a:t>Игра с огнём – это беда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2600" dir="0" blurRad="0" rotWithShape="0">
                  <a:srgbClr val="f7f70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дитё"/>
          <p:cNvPicPr/>
          <p:nvPr/>
        </p:nvPicPr>
        <p:blipFill>
          <a:blip r:embed="rId1"/>
          <a:stretch/>
        </p:blipFill>
        <p:spPr>
          <a:xfrm>
            <a:off x="4932360" y="398520"/>
            <a:ext cx="3367080" cy="645948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50920" y="256536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гите себя !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G_4659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MG_4558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з огня жизнь человека на земле невозмож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547640" y="5445000"/>
            <a:ext cx="676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37587" dir="18221405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Давайте разберёмся...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37587" dir="18221405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484360" y="386064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ли враг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900000" y="213372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Значит, огонь наш друг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Picture 6" descr="c7f65055e8bdf3c17b51abcddb6f282b"/>
          <p:cNvPicPr/>
          <p:nvPr/>
        </p:nvPicPr>
        <p:blipFill>
          <a:blip r:embed="rId1"/>
          <a:stretch/>
        </p:blipFill>
        <p:spPr>
          <a:xfrm>
            <a:off x="395280" y="3213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7f65055e8bdf3c17b51abcddb6f282b"/>
          <p:cNvPicPr/>
          <p:nvPr/>
        </p:nvPicPr>
        <p:blipFill>
          <a:blip r:embed="rId2"/>
          <a:stretch/>
        </p:blipFill>
        <p:spPr>
          <a:xfrm>
            <a:off x="7524720" y="321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18920" y="4005000"/>
            <a:ext cx="6202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Вот на спичке , как на вет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Голубой дрожит ли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Вот, ломая прутья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Хищный делает бросок !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15C4989B971C789spichka_0722"/>
          <p:cNvPicPr/>
          <p:nvPr/>
        </p:nvPicPr>
        <p:blipFill>
          <a:blip r:embed="rId1"/>
          <a:srcRect l="2935" t="1396" r="2431" b="2152"/>
          <a:stretch/>
        </p:blipFill>
        <p:spPr>
          <a:xfrm>
            <a:off x="395280" y="333360"/>
            <a:ext cx="3672000" cy="28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 37"/>
          <p:cNvPicPr/>
          <p:nvPr/>
        </p:nvPicPr>
        <p:blipFill>
          <a:blip r:embed="rId2"/>
          <a:stretch/>
        </p:blipFill>
        <p:spPr>
          <a:xfrm>
            <a:off x="4716360" y="260280"/>
            <a:ext cx="3816360" cy="2992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417080" cy="46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Злой огонь – огонь пож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Злой огонь – огонь войны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От безжалостного ж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Дни темны, поля чер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0"/>
            <a:ext cx="67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тели земного ш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аждане любой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лой огонь гасить должн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_phpBB"/>
          <p:cNvPicPr/>
          <p:nvPr/>
        </p:nvPicPr>
        <p:blipFill>
          <a:blip r:embed="rId2"/>
          <a:stretch/>
        </p:blipFill>
        <p:spPr>
          <a:xfrm>
            <a:off x="431640" y="5640480"/>
            <a:ext cx="8712360" cy="1217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260280"/>
            <a:ext cx="41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Не играй, дружок со спич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Помни ты, она м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Но от спички – невел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Может дом сгореть дотла</a:t>
            </a:r>
            <a:r>
              <a:rPr b="0" lang="ru-RU" sz="2800" spc="-1" strike="noStrike">
                <a:solidFill>
                  <a:srgbClr val="f7f70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834920" y="2060640"/>
            <a:ext cx="497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друг пожар воз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звонить обязан вм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ет каждый гражда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ь пожарных – 0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что-то загоре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ебя возьмите смел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Срочно “01” звон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Точно адрес назов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Что горит, давно ли, г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Несколько минут промчитс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К вам пожарная прим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И поможет вам в бе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REFGTR"/>
          <p:cNvPicPr/>
          <p:nvPr/>
        </p:nvPicPr>
        <p:blipFill>
          <a:blip r:embed="rId1"/>
          <a:stretch/>
        </p:blipFill>
        <p:spPr>
          <a:xfrm flipH="1">
            <a:off x="6151680" y="4508640"/>
            <a:ext cx="2992320" cy="19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hone000"/>
          <p:cNvPicPr/>
          <p:nvPr/>
        </p:nvPicPr>
        <p:blipFill>
          <a:blip r:embed="rId2"/>
          <a:stretch/>
        </p:blipFill>
        <p:spPr>
          <a:xfrm>
            <a:off x="6804000" y="260280"/>
            <a:ext cx="2017800" cy="1211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ile0009"/>
          <p:cNvPicPr/>
          <p:nvPr/>
        </p:nvPicPr>
        <p:blipFill>
          <a:blip r:embed="rId3"/>
          <a:stretch/>
        </p:blipFill>
        <p:spPr>
          <a:xfrm>
            <a:off x="0" y="0"/>
            <a:ext cx="3227400" cy="190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7236000" y="1557360"/>
            <a:ext cx="1008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58:33Z</dcterms:created>
  <dc:creator>ната</dc:creator>
  <dc:description/>
  <dc:language>en-US</dc:language>
  <cp:lastModifiedBy>Фатима</cp:lastModifiedBy>
  <dcterms:modified xsi:type="dcterms:W3CDTF">2016-07-02T09:33:39Z</dcterms:modified>
  <cp:revision>43</cp:revision>
  <dc:subject/>
  <dc:title>Слайд 1</dc:title>
</cp:coreProperties>
</file>