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EC8-F5A7-4F2A-8788-0B9E319B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3FB-11FA-4471-8905-598BCA85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49D-FB1F-4624-BA99-5F703319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791-37DF-43D7-8D6A-FE68C6B6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9C67-728E-4766-8C4C-C1332468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9E51-5908-41AC-B9B7-E2CAE405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911D-9EE8-4B49-9E07-80C4A691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EBE2-90E5-4922-8EDD-C7C0C771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9652-4F75-4056-9FB9-2F3EB1A3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0F06-1823-4DAA-89EB-3486BB76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4770-EF82-4B52-8D69-6482D21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520-9C11-4B23-B08F-BF121E8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A7EC-69FF-4F2E-8923-8EFFDCC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D127-D434-457A-BB61-ADA9BC2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B4B9-289B-4C91-AE87-5C9BE860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F24A-E3D7-47E2-B663-2E17A33A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2572-40E2-41FF-9AB7-93E3E757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EF7-FDBA-476A-B321-E825A2DE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A8A-77C1-4D17-AD47-CEDD2F31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E67-ADA9-4FD3-80F6-DF873AF0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E15-56A7-4E66-AFB5-39D99250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E66-46E1-4D2D-ACF2-0D9AD8B1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CD5-D024-4034-BC90-FA547070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99C-8B72-4D92-B398-301E5A8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2F7C-9EB9-44DE-8237-D1043D9422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A486-C516-4CC0-9AD1-17C1ACC838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7988400" cy="20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Час общения</a:t>
            </a:r>
            <a:br>
              <a:rPr sz="6600"/>
            </a:b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Долой сквернословие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4000" y="4020840"/>
            <a:ext cx="8135640" cy="2360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ет ничего заразнее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осточная мудр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От гнилого сердца и гнилые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Русская послов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008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Что утверждают психоло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21560" cy="5111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сихологи замечают, что употребление мата 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формирует зависимость, сходную с алкогольной, никотиновой, наркотическо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Человек привыкает к мату, использует оскорбительные слова и не замечает этого. Ещё позже он уже не может обходиться без н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, нецензурные слова раньше употребляли только </a:t>
            </a: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в низших слоях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Дискуссия «Нужен ли мат?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893080" cy="540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Как можно объяснить повальное распространение мата в нашей стра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Совместимы ли сквернословие, мат и здоровый образ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Согласны ли вы, что сквернословие, нецензурная брань могут быть заразными, вызывают зависимо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Считаете ли вы, что мат помогает расслабиться или для этого можно найти другие способ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Составление памятки </a:t>
            </a:r>
            <a:br>
              <a:rPr sz="3200"/>
            </a:br>
            <a:r>
              <a:rPr b="1" i="1" lang="en-US" sz="3200" spc="-1" strike="noStrike">
                <a:solidFill>
                  <a:srgbClr val="6600ff"/>
                </a:solidFill>
                <a:latin typeface="Arial Black"/>
              </a:rPr>
              <a:t>«Как избавиться от сквернословия?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69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ь точка зрения, что мат способствует развращению, отуплению, вымиранию народа. Сегодняшняя эпидемия мата – это угроза национальной безопасности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ьте себе, что Президент поручил вам составить памятку для молодёжи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Как избавиться от сквернословия?»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пытаемся это сдел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85120" cy="7844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Утверждение психолог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сихологи утверждают, что достаточно только четырё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перестать ругаться сам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выработать брезгливость отвращение к сквернослов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избегать общения с людьми, которые употребляют нецензурные сло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читать русскую классическую литерат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45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Составление антирекламы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сквернослов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Чтобы в жизни состояться, матом лучше не руга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ше условие – долой сквернослов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то использует мат, тот умишком не бог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т – это помоев уш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т – дорога в 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т уродует девч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Хочешь успеха в жизни добиться – книжки читай, прекращай материть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классе мы найдём управу на словесную отрав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ат, ребята, не забава, а словесная отрав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колько будешь материться – столько будешь и леч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Прислушаемся к древней библейской мудр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«Если тебя преследуют неудачи, наведи порядок в своей голове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орядок в мыслях приведёт к порядку в словах, а доброе слово очистит  тело от болезней и  вредных привычек. А здоровые люди – это здоровый народ, здоровая нация, процветающая стр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769240" cy="2071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Изменилось ли ваше отношение к сквернословию?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Трудно ли будет отказаться от вредной привычки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2781360"/>
            <a:ext cx="8229600" cy="3589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Хочется верить…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Мат – это не наш форма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42920" y="1844640"/>
            <a:ext cx="7124760" cy="25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 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244440"/>
            <a:ext cx="8734320" cy="1432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А. Ахматова «Мужество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ы знаем, что ныне лежит на ве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что совершается ны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Час мужества пробил на наших час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мужество нас не поки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страшно под пулями мёртвыми леч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горько остаться без крова,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мы сохраним тебя, русская реч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Великое русское слов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вободным и чистым тебя пронесё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внукам дадим, и от плена спасём Навек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0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8594640" cy="63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Эти строки родились в годы Великой Отечественной войны, когда нашей армии ценой колоссальных потерь удалось отбросить фашистов от Москв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лдаты воевали за Родину, за родной дом, тогда мало кто думал о том, как сохранить русскую речь. Но для Ахматовой сохранить великое русское слово означало сохранить родной язык, а значит – сохранить великий русский на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 этих словах завещание к потомкам: хранить родное слово чистым, свободным, не давать его на поругание. Только так можно сохранить свой народ, свою культуру и свою истор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 Black"/>
              </a:rPr>
              <a:t>Выполнили мы этот заве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897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помним ещё одно стихотворение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«Слова», его автор Вадим Шефн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ом можно убить, словом можно   сп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ом можно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за собой пове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ом можно продать, и предать, и куп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о можно в разящий свинец перел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кие из следующих слов могут быт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ллюстрацией к стихотворению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Шефнер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изна, мать, правда, добро, любовь, верность, надежда, дружба, ненависть, измена, ложь, прикольно, супер, трус, пред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ffffb7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 Black"/>
              </a:rPr>
              <a:t>С языком, с человеческой словом, с речью безнаказанно шутить нельзя</a:t>
            </a:r>
            <a:br>
              <a:rPr sz="2800"/>
            </a:br>
            <a:r>
              <a:rPr b="1" i="1" lang="en-US" sz="2800" spc="-1" strike="noStrike">
                <a:solidFill>
                  <a:srgbClr val="000099"/>
                </a:solidFill>
                <a:latin typeface="Arial Black"/>
              </a:rPr>
              <a:t>В Даль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69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щё в древности люди заметили, что слово благое, молитва, обладает целительной силой. Молитвой, словом исцеляли многие болезни. И в наше время добрые, утешительные слова могут поднять настроение, вернуть человеку уверенность в себе. Какие это слова?  Давайте проверим это утвер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Игра 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Arial Black"/>
              </a:rPr>
              <a:t>«Эстафета добрых дел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69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ffcc"/>
                </a:solidFill>
                <a:latin typeface="Arial"/>
              </a:rPr>
              <a:t>«Эстафета добрых дел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чиная с меня, каждый должен передать соседу доброе слово, не забыв при этом назвать соседа по имени. Имя человека – это тоже хорошее, доброе сло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Информационный блок</a:t>
            </a:r>
            <a:r>
              <a:rPr b="1" lang="en-US" sz="40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«Заразные слов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560" y="1773000"/>
            <a:ext cx="8893080" cy="4895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, к сожалению, мы часто слышим совсем другие слова…  Современная медицина утверждает, что осторожное, бережное обращение со словом – необходимый признак здорового образа жизни. В противном случае возникают болезни. Например редкое психическое заболевание –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копролалия».</a:t>
            </a:r>
            <a:r>
              <a:rPr b="1" lang="ru-RU" sz="2800" spc="-1" strike="noStrike">
                <a:solidFill>
                  <a:srgbClr val="99ffcc"/>
                </a:solidFill>
                <a:latin typeface="Arial"/>
              </a:rPr>
              <a:t> Название происходит от греческого копрос – кал, грязь и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</a:rPr>
              <a:t>lalia –</a:t>
            </a:r>
            <a:r>
              <a:rPr b="1" lang="ru-RU" sz="2800" spc="-1" strike="noStrike">
                <a:solidFill>
                  <a:srgbClr val="99ffcc"/>
                </a:solidFill>
                <a:latin typeface="Arial"/>
              </a:rPr>
              <a:t>речь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ак в медицине называют непреодолимое влечение к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ЦИНИЧНОЙ и НЕЦЕНЗУРНОЙ брани безо всякого повода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 вот такое влечение мы наблюдаем у многих наших соотечестве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000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 Black"/>
              </a:rPr>
              <a:t>Вредное воздействие ма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21560" cy="5113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временные учёные, используя новейшее оборудование, доказали вредное воздействие мата. На растения, на которые направлял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добрые, ласковые слова, молитвы, классическую музыку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росл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ыстрее, лучше. Давали меньший урожай, болели те растения, на которые отправляли матерные, ругательские слова. Подобные опыты учёные проводили и с водой. Вода, «заряжённая» молитвой, становилась целебной, святой. Вода, на которую лилась матерная брань, становилась просто ядови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Чем опасен мат для челове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666280" cy="4619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 влияет на наследственность, ведёт к гормональным нарушениям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( например, у женщин грубеет голо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во – это связь с телом и духом. На эту связь указывает и русская пословиц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«Гнилые слова от гнилого сердц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нилые слова огрубляют сердце, делают человека жестоким, самолюбивым, гордым, способствуют быстрому развитию дурных наклон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2:24:47Z</dcterms:created>
  <dc:creator>Customer</dc:creator>
  <dc:description/>
  <dc:language>en-US</dc:language>
  <cp:lastModifiedBy>админ</cp:lastModifiedBy>
  <dcterms:modified xsi:type="dcterms:W3CDTF">2018-07-07T18:48:04Z</dcterms:modified>
  <cp:revision>9</cp:revision>
  <dc:subject/>
  <dc:title>Час общения Долой сквернословие</dc:title>
</cp:coreProperties>
</file>