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D1B-E7B2-425C-914D-170D0271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CA0-1EE8-4220-B861-6A43AB26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7E7-DEB5-472D-B3B7-58B19DAE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006-3291-4ED2-A957-309E9987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22B-8734-45F5-8D32-FF33E8A1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792-A68A-48E5-B01B-11E170F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DA4-4D12-485A-9494-A6BBD63A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3628-F9A6-47FF-93C1-1B14CEA4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A0A9-BFD1-48B7-9DC6-38EF5E4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0F7E-0B52-4B15-870B-9241386A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FC2-ADB5-4B9B-8DEF-A712854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A9D-2942-4DDA-8BE6-673534B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739C-402F-40F6-BCE3-94F3466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A640-6B50-4F96-AD44-E31DC6D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8D7-8A70-44EB-8B7E-7C106C60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F6D9-E2D2-4C2A-913C-281CBB68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F738-0CEF-4508-BB23-07F501C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A48-1A4D-4322-A13C-7EE39964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FF0-E974-4FDE-B444-DFF112FC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663-2D56-4D15-9D47-630DA24A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9C2-29AD-4786-9CBA-C33155A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288-1583-451C-82CC-1B92B2D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A20-3A5B-4231-95DC-AA29A5E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92E-F61F-4C50-9B22-F8E601E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AD1A-68CE-43A7-A17E-338BBB87D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729F-3F82-4195-B46B-0A9701F1C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988400" cy="20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Час общения</a:t>
            </a:r>
            <a:br>
              <a:rPr sz="6600"/>
            </a:b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Долой сквернословие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000" y="4020840"/>
            <a:ext cx="8135640" cy="2360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ет ничего заразне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осточная мудр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т гнилого сердца и гнилы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усская посло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00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Что утверждают психоло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21560" cy="5111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сихологи замечают, что употребление мата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формирует зависимость, сходную с алкогольной, никотиновой, наркотическ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Человек привыкает к мату, использует оскорбительные слова и не замечает этого. Ещё позже он уже не может обходиться без н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, нецензурные слова раньше употребляли только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в низших слоях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Дискуссия «Нужен ли мат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540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Как можно объяснить повальное распространение мата в нашей стра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Совместимы ли сквернословие, мат и здоровый образ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Согласны ли вы, что сквернословие, нецензурная брань могут быть заразными, вызывают зависим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Считаете ли вы, что мат помогает расслабиться или для этого можно найти другие способ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Составление памятки </a:t>
            </a:r>
            <a:br>
              <a:rPr sz="3200"/>
            </a:br>
            <a:r>
              <a:rPr b="1" i="1" lang="en-US" sz="3200" spc="-1" strike="noStrike">
                <a:solidFill>
                  <a:srgbClr val="6600ff"/>
                </a:solidFill>
                <a:latin typeface="Arial Black"/>
              </a:rPr>
              <a:t>«Как избавиться от сквернословия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точка зрения, что мат способствует развращению, отуплению, вымиранию народа. Сегодняшняя эпидемия мата – это угроза национальной безопасности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ьте себе, что Президент поручил вам составить памятку для молодёж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Как избавиться от сквернословия?»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пытаемся это сдел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85120" cy="784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Утверждение психолог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ологи утверждают, что достаточно только четырё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перестать ругаться сам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работать брезгливость отвращение к сквернослов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избегать общения с людьми, которые употребляют нецензурные сло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читать русскую классическую литерат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Составление антирекламы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сквернослов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тобы в жизни состояться, матом лучше не руга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ше условие – долой сквернослов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то использует мат, тот умишком не бог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– это помоев уш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– дорога в 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уродует девч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Хочешь успеха в жизни добиться – книжки читай, прекращай материть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классе мы найдём управу на словесную отрав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, ребята, не забава, а словесная отрав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колько будешь материться – столько будешь и леч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Прислушаемся к древней библейской мудр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Если тебя преследуют неудачи, наведи порядок в своей голове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рядок в мыслях приведёт к порядку в словах, а доброе слово очистит  тело от болезней и  вредных привычек. А здоровые люди – это здоровый народ, здоровая нация, процветающая стр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69240" cy="2071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Изменилось ли ваше отношение к сквернословию?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Трудно ли будет отказаться от вредной привычки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3589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Хочется верить…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ат – это не наш форма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844640"/>
            <a:ext cx="712476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244440"/>
            <a:ext cx="8734320" cy="1432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А. Ахматова «Мужество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ы знаем, что ныне лежит на ве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что совершается ны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Час мужества пробил на наших час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мужество нас не поки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страшно под пулями мёртвыми леч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горько остаться без крова,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мы сохраним тебя, русская реч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еликое русское слов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вободным и чистым тебя пронесё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внукам дадим, и от плена спасём Наве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946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ти строки родились в годы Великой Отечественной войны, когда нашей армии ценой колоссальных потерь удалось отбросить фашистов от Моск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лдаты воевали за Родину, за родной дом, тогда мало кто думал о том, как сохранить русскую речь. Но для Ахматовой сохранить великое русское слово означало сохранить родной язык, а значит – сохранить великий русский на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этих словах завещание к потомкам: хранить родное слово чистым, свободным, не давать его на поругание. Только так можно сохранить свой народ, свою культуру и свою истор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Выполнили мы этот заве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помним ещё одно стихотворение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«Слова», его автор Вадим Шефн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убить, словом можно   сп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собой по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продать, и предать, и куп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 можно в разящий свинец перел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из следующих слов могут бы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ллюстрацией к стихотворению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ефнер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изна, мать, правда, добро, любовь, верность, надежда, дружба, ненависть, измена, ложь, прикольно, супер, трус, пред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 Black"/>
              </a:rPr>
              <a:t>С языком, с человеческой словом, с речью безнаказанно шутить нельзя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 Black"/>
              </a:rPr>
              <a:t>В Дал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щё в древности люди заметили, что слово благое, молитва, обладает целительной силой. Молитвой, словом исцеляли многие болезни. И в наше время добрые, утешительные слова могут поднять настроение, вернуть человеку уверенность в себе. Какие это слова?  Давайте проверим это утвер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Игра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«Эстафета добрых дел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«Эстафета добрых дел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чиная с меня, каждый должен передать соседу доброе слово, не забыв при этом назвать соседа по имени. Имя человека – это тоже хорошее, доброе сло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Информационный блок</a:t>
            </a:r>
            <a:r>
              <a:rPr b="1" lang="en-US" sz="40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«Заразные слов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893080" cy="48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, к сожалению, мы часто слышим совсем другие слова…  Современная медицина утверждает, что осторожное, бережное обращение со словом – необходимый признак здорового образа жизни. В противном случае возникают болезни. Например редкое психическое заболевание –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копролалия».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 Название происходит от греческого копрос – кал, грязь и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lalia –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реч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ак в медицине называют непреодолимое влечение к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ЦИНИЧНОЙ и НЕЦЕНЗУРНОЙ брани безо всякого повод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вот такое влечение мы наблюдаем у многих наших соотечестве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000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 Black"/>
              </a:rPr>
              <a:t>Вредное воздействие м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511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ые учёные, используя новейшее оборудование, доказали вредное воздействие мата. На растения, на которые направлял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добрые, ласковые слова, молитвы, классическую музык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росл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ыстрее, лучше. Давали меньший урожай, болели те растения, на которые отправляли матерные, ругательские слова. Подобные опыты учёные проводили и с водой. Вода, «заряжённая» молитвой, становилась целебной, святой. Вода, на которую лилась матерная брань, становилась просто ядови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Чем опасен мат для челове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666280" cy="4619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 влияет на наследственность, ведёт к гормональным нарушениям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( например, у женщин грубеет голо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о – это связь с телом и духом. На эту связь указывает и русская пословиц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Гнилые слова от гнилого сердц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нилые слова огрубляют сердце, делают человека жестоким, самолюбивым, гордым, способствуют быстрому развитию дурных наклон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2:24:47Z</dcterms:created>
  <dc:creator>Customer</dc:creator>
  <dc:description/>
  <dc:language>en-US</dc:language>
  <cp:lastModifiedBy>админ</cp:lastModifiedBy>
  <dcterms:modified xsi:type="dcterms:W3CDTF">2018-07-07T18:48:04Z</dcterms:modified>
  <cp:revision>9</cp:revision>
  <dc:subject/>
  <dc:title>Час общения Долой сквернословие</dc:title>
</cp:coreProperties>
</file>