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B869-A4E4-4EEE-9952-D1CC85DE33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амил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озрас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шмач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лош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блу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п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поч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BAAB-38EA-4A86-84C8-EEC83EDF82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84F1B-C772-4231-A2FF-CE63756F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CBAD8-923C-48C2-8268-0A85DD5E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7D7A-5F3A-4AC7-A884-29891777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4B2E-8548-4EF5-9E9F-45F7C17CF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B3CBD-EA0F-4C87-813E-D2F908CEA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DE5E-CFA6-454A-B9C5-58D0F7DAE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1A31A-5E1B-4615-B5A0-50840D218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FCF3A-F8AA-471E-9FC0-1997B811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2EB08-7604-4D9D-8970-E7D255E2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F0DC-A850-4E23-8F45-FA6A9DD2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4635D-B6A2-4B3C-B315-05CC24662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2681E-B7BB-4F0F-BCBD-35DE36F7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9DDF-19F0-4E41-B273-352BC3D1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4BFB1-9DBE-4976-BA87-24C10393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BF74-7C96-4BEE-A11E-605B3B1C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A3481-D3C1-4820-9A85-E4EAC123C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640A8-9693-49B7-A434-8E8DA6422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AFB55-5844-4111-9B9E-66D449E50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18F5E-EE43-4728-AE42-F969EE6C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8FFC3-46E5-47AF-877B-7B8C0EA6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682FA-3C11-4FF1-A586-E30F2DA0E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3B8C6-2100-429B-BF4A-C3A9C3B79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B5D60-5CAD-4811-A455-4E2FA8EE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8D7AC-6B36-4F30-A379-949431A6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AD15-FE97-48DA-9675-4551407677E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8556-B130-4DE1-8945-B3E3D95E65A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6560" y="1019160"/>
            <a:ext cx="5977080" cy="392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пользование средних статистических характеристик при решении различных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Алгебра 7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4"/>
          <p:cNvSpPr/>
          <p:nvPr/>
        </p:nvSpPr>
        <p:spPr>
          <a:xfrm>
            <a:off x="457200" y="744480"/>
            <a:ext cx="822960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№2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</a:rPr>
              <a:t>57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 ( учебник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ются размах р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мо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они характеризую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среднее арифметическое р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ля чего служит эта характерист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вычисляется медиана упорядоченного ря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457200" y="1412640"/>
            <a:ext cx="8229600" cy="33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вашем классе соберите данные о месяцах рождения уче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Месяцы удобнее перечислять не по названиям, а по номер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) размах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) моду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) среднее арифметическ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эксперименталь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20"/>
          <p:cNvSpPr/>
          <p:nvPr/>
        </p:nvSpPr>
        <p:spPr>
          <a:xfrm>
            <a:off x="654120" y="2924280"/>
            <a:ext cx="81835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йт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диан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й выб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SzPct val="75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й выбо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250920" y="112536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Педагогический стаж восьми учителей школы, работающих в старших классах одной школы, следующ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 лет, 8 лет, 15 лет, 12 лет, 8 лет, 14 лет, 18 лет, 9 л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TextBox 8" descr=""/>
          <p:cNvPicPr/>
          <p:nvPr/>
        </p:nvPicPr>
        <p:blipFill>
          <a:blip r:embed="rId1"/>
          <a:stretch/>
        </p:blipFill>
        <p:spPr>
          <a:xfrm>
            <a:off x="633240" y="4438800"/>
            <a:ext cx="8182080" cy="24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1"/>
          <p:cNvSpPr/>
          <p:nvPr/>
        </p:nvSpPr>
        <p:spPr>
          <a:xfrm>
            <a:off x="250920" y="1984320"/>
            <a:ext cx="8569080" cy="20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йдите среднее арифметическое и размах ря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; 3; 5; 6; 14; 15; 17; 1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extBox 4" descr=""/>
          <p:cNvPicPr/>
          <p:nvPr/>
        </p:nvPicPr>
        <p:blipFill>
          <a:blip r:embed="rId1"/>
          <a:stretch/>
        </p:blipFill>
        <p:spPr>
          <a:xfrm>
            <a:off x="512640" y="3743280"/>
            <a:ext cx="8186760" cy="18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888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оверочная работа в тетрад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Прямоугольник 7" descr=""/>
          <p:cNvPicPr/>
          <p:nvPr/>
        </p:nvPicPr>
        <p:blipFill>
          <a:blip r:embed="rId1"/>
          <a:stretch/>
        </p:blipFill>
        <p:spPr>
          <a:xfrm>
            <a:off x="176040" y="1554120"/>
            <a:ext cx="4469040" cy="3687840"/>
          </a:xfrm>
          <a:prstGeom prst="rect">
            <a:avLst/>
          </a:prstGeom>
          <a:ln w="0">
            <a:noFill/>
          </a:ln>
        </p:spPr>
      </p:pic>
      <p:pic>
        <p:nvPicPr>
          <p:cNvPr id="125" name="Прямоугольник 10" descr=""/>
          <p:cNvPicPr/>
          <p:nvPr/>
        </p:nvPicPr>
        <p:blipFill>
          <a:blip r:embed="rId2"/>
          <a:stretch/>
        </p:blipFill>
        <p:spPr>
          <a:xfrm>
            <a:off x="4754520" y="1542960"/>
            <a:ext cx="4572000" cy="36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Медиан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     </a:t>
            </a: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9"/>
          <p:cNvSpPr/>
          <p:nvPr/>
        </p:nvSpPr>
        <p:spPr>
          <a:xfrm>
            <a:off x="395280" y="981000"/>
            <a:ext cx="820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1.В  таблице  показано  число  посетителей  выставки  в  разные  дни недел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68360" y="1700280"/>
          <a:ext cx="8424720" cy="971640"/>
        </p:xfrm>
        <a:graphic>
          <a:graphicData uri="http://schemas.openxmlformats.org/drawingml/2006/table">
            <a:tbl>
              <a:tblPr/>
              <a:tblGrid>
                <a:gridCol w="2701800"/>
                <a:gridCol w="809640"/>
                <a:gridCol w="828720"/>
                <a:gridCol w="809640"/>
                <a:gridCol w="826920"/>
                <a:gridCol w="809640"/>
                <a:gridCol w="828720"/>
                <a:gridCol w="809640"/>
              </a:tblGrid>
              <a:tr h="48564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нь недел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  <a:tr h="486000">
                <a:tc>
                  <a:txBody>
                    <a:bodyPr lIns="38160" rIns="38160" tIns="38160" bIns="3816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исло посети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  <a:tc>
                  <a:txBody>
                    <a:bodyPr lIns="38160" rIns="38160" tIns="38160" bIns="3816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8160" marR="38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6e7"/>
                    </a:solidFill>
                  </a:tcPr>
                </a:tc>
              </a:tr>
            </a:tbl>
          </a:graphicData>
        </a:graphic>
      </p:graphicFrame>
      <p:sp>
        <p:nvSpPr>
          <p:cNvPr id="129" name="Прямоугольник 8"/>
          <p:cNvSpPr/>
          <p:nvPr/>
        </p:nvSpPr>
        <p:spPr>
          <a:xfrm>
            <a:off x="374760" y="26370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Найдите медиану указанного ряда данных. В какие дни недели число посетителей выставки было больше медианы?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9"/>
          <p:cNvSpPr/>
          <p:nvPr/>
        </p:nvSpPr>
        <p:spPr>
          <a:xfrm>
            <a:off x="395280" y="3645000"/>
            <a:ext cx="82915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Реше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исло членов в ряду </a:t>
            </a:r>
            <a:r>
              <a:rPr b="1" i="1" lang="en-US" sz="20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 = 7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Упорядочим ряд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604, 615, 625, 636, 638, 710, 724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Медиана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Ме = 636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Число посетителей было больше медианы во вторник, субботу и воскресен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Arial"/>
              </a:rPr>
              <a:t>Ответ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: 636; вторник, суббота, воскресень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3"/>
          <p:cNvSpPr/>
          <p:nvPr/>
        </p:nvSpPr>
        <p:spPr>
          <a:xfrm>
            <a:off x="179280" y="836640"/>
            <a:ext cx="8856720" cy="27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же указана среднесуточная переработка сахара (в тыс. ц) заводами сахарной промышленности некоторого регио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</a:rPr>
              <a:t>12,2;  13,2;  13,7;  18,0;  18,6;  12,2;  18,5;  12,4;  14,2;  17,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представленного ряда данных найдите среднее арифметическое, моду, размах и медиану. Что характеризует каждый из этих показателе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109440" y="3571920"/>
            <a:ext cx="914400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14052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0001-001-Sinonimy"/>
          <p:cNvPicPr/>
          <p:nvPr/>
        </p:nvPicPr>
        <p:blipFill>
          <a:blip r:embed="rId1"/>
          <a:stretch/>
        </p:blipFill>
        <p:spPr>
          <a:xfrm>
            <a:off x="5076720" y="3141720"/>
            <a:ext cx="4067280" cy="30463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50560" y="836280"/>
            <a:ext cx="856908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и седьмого класса на уроке физкультуры при прыжках взяли высоты, величины которых (в см) учитель записал в журн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90;  125;  125;  130;  130;  135;  135;  135;  140;  140;  14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ая высота прыжка наилучшим образом характеризует спортивную подготовку девочек класс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5"/>
          <p:cNvSpPr/>
          <p:nvPr/>
        </p:nvSpPr>
        <p:spPr>
          <a:xfrm>
            <a:off x="250920" y="328464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2060"/>
                </a:solidFill>
                <a:latin typeface="Arial"/>
              </a:rPr>
              <a:t>Решение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Ряд  упорядочен: </a:t>
            </a:r>
            <a:r>
              <a:rPr b="1" i="1" lang="en-US" sz="2100" spc="-1" strike="noStrike">
                <a:solidFill>
                  <a:srgbClr val="002060"/>
                </a:solidFill>
                <a:latin typeface="Arial"/>
              </a:rPr>
              <a:t>n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 = 11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Ряд имеет две моды: 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Мо1 = 135, Мо2 = 140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Среднее арифметическое ряда 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Х </a:t>
            </a:r>
            <a:r>
              <a:rPr b="1" i="1" lang="en-US" sz="2100" spc="-1" strike="noStrike">
                <a:solidFill>
                  <a:srgbClr val="002060"/>
                </a:solidFill>
                <a:latin typeface="Arial"/>
              </a:rPr>
              <a:t>≈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 129,5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Медиана </a:t>
            </a:r>
            <a:r>
              <a:rPr b="1" i="1" lang="ru-RU" sz="2100" spc="-1" strike="noStrike">
                <a:solidFill>
                  <a:srgbClr val="002060"/>
                </a:solidFill>
                <a:latin typeface="Arial"/>
              </a:rPr>
              <a:t>Ме = 135</a:t>
            </a: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Наилучшей характеристикой спортивной подготовки девочек следует признать медиану: мода неоднозначна (135 и 140), а среднее значение занижено за счет одного очень плохого результата 90 см (если этот результат отбросить, то Х = 133,5 см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2060"/>
                </a:solidFill>
                <a:latin typeface="Arial"/>
              </a:rPr>
              <a:t>Ответ: 135 с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4"/>
          <p:cNvSpPr/>
          <p:nvPr/>
        </p:nvSpPr>
        <p:spPr>
          <a:xfrm>
            <a:off x="457200" y="333360"/>
            <a:ext cx="822960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Задача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6"/>
          <p:cNvSpPr/>
          <p:nvPr/>
        </p:nvSpPr>
        <p:spPr>
          <a:xfrm>
            <a:off x="250920" y="811080"/>
            <a:ext cx="871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ладелец одного частного предприятия уволил большую часть рабочих, а оставшимся снизил зарплату на 20 %. После этого он заявил, что средний заработок его рабочих повысился. Так ли это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24000" y="2197080"/>
          <a:ext cx="8362800" cy="1447920"/>
        </p:xfrm>
        <a:graphic>
          <a:graphicData uri="http://schemas.openxmlformats.org/drawingml/2006/table">
            <a:tbl>
              <a:tblPr/>
              <a:tblGrid>
                <a:gridCol w="2284200"/>
                <a:gridCol w="1548000"/>
                <a:gridCol w="1547640"/>
                <a:gridCol w="1546200"/>
                <a:gridCol w="1436760"/>
              </a:tblGrid>
              <a:tr h="686520">
                <a:tc rowSpan="2">
                  <a:txBody>
                    <a:bodyPr lIns="38160" rIns="38160" tIns="38160" bIns="3816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о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уволь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работок</a:t>
                      </a: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ле увольн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0 р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600">
                <a:tc>
                  <a:txBody>
                    <a:bodyPr lIns="38160" rIns="38160" tIns="38160" bIns="38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рабочи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8160" rIns="38160" tIns="38160" bIns="38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160" marR="38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Прямоугольник 9" descr=""/>
          <p:cNvPicPr/>
          <p:nvPr/>
        </p:nvPicPr>
        <p:blipFill>
          <a:blip r:embed="rId1"/>
          <a:stretch/>
        </p:blipFill>
        <p:spPr>
          <a:xfrm>
            <a:off x="324000" y="3645000"/>
            <a:ext cx="864396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23T17:55:39Z</dcterms:modified>
  <cp:revision>55</cp:revision>
  <dc:subject/>
  <dc:title>Среднее арифметическое, размах и мода</dc:title>
</cp:coreProperties>
</file>