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E80A-C5B2-4A33-A7D6-D7F9ECE22A3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ми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ра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шмач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ош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лу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п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поч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8658-E2B5-4875-BB0B-CC82404D73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0716E-8D6C-4970-AA80-6F0ED278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5E4C-796B-4AB1-9022-4FB2B63F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656C7-6F08-4D0A-AC3D-0657FF0A8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A47AB-96F7-4CEA-BED4-08E0E0D1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1FCEA-1225-446C-A62B-C742CB7E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2301-438F-4A94-8E6D-F74FA2BB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1555-E007-4097-8E88-24ABABEB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0F3BD-1008-4A62-8E7B-91D567A3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6C81-5161-45C9-803B-5E0403ED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B9BC-4F87-4796-9131-251EA8459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8FB2-88F5-46B9-91B6-C52793C0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0B316-38FC-4326-A2B6-64175DD7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5AD0-0A08-4C9C-9BE1-21EBA729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87B1-DDBF-42AA-B8B4-BF9287D5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4506-CCBE-474D-A61B-1D98C2A9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AFFA-4121-4D35-A0B1-CEBE63A3C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BDC7-177D-44B6-A3E1-ED5F690B1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97154-E891-4AAD-9B09-C71062ED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BF7F4-833E-404C-82AB-B9D7CB81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B6912-3BF1-4F6E-83C6-0E8041E4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39597-86DE-4A60-AE1D-83AF34BE5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EFDFE-D8B4-445D-A477-869EB9E0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C7504-2E02-4741-BDA6-6926D315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42CC6-60BD-4224-9342-2E5DABD5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94711-E012-4737-98A7-752CF53F732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56CA-9C6D-40F1-A82C-8A40FE96E5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6560" y="1019160"/>
            <a:ext cx="5977080" cy="39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средних статистических характеристик при решении различн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032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лгебра 7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0001-001-Sinonimy"/>
          <p:cNvPicPr/>
          <p:nvPr/>
        </p:nvPicPr>
        <p:blipFill>
          <a:blip r:embed="rId1"/>
          <a:stretch/>
        </p:blipFill>
        <p:spPr>
          <a:xfrm>
            <a:off x="6012000" y="4221000"/>
            <a:ext cx="31320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457200" y="74448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Задача №2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57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( учебник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числяются размах р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ни характеризую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числяется среднее арифметическое р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чего служит эта характерист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числяется медиана упорядоченного р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41"/>
          <p:cNvPicPr/>
          <p:nvPr/>
        </p:nvPicPr>
        <p:blipFill>
          <a:blip r:embed="rId1"/>
          <a:stretch/>
        </p:blipFill>
        <p:spPr>
          <a:xfrm>
            <a:off x="5364000" y="2997360"/>
            <a:ext cx="3125880" cy="2930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57200" y="141264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ашем классе соберите данные о месяцах рождения уче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сяцы удобнее перечислять не по названиям, а по ном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разм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мод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среднее арифметичес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эксперимента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654120" y="2924280"/>
            <a:ext cx="8183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ан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й выбо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й выбо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250920" y="1125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Педагогический стаж восьми учителей школы, работающих в старших классах одной школы, следующ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лет, 8 лет, 15 лет, 12 лет, 8 лет, 14 лет, 18 лет, 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TextBox 8" descr=""/>
          <p:cNvPicPr/>
          <p:nvPr/>
        </p:nvPicPr>
        <p:blipFill>
          <a:blip r:embed="rId1"/>
          <a:stretch/>
        </p:blipFill>
        <p:spPr>
          <a:xfrm>
            <a:off x="633240" y="4438800"/>
            <a:ext cx="818208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"/>
          <p:cNvSpPr/>
          <p:nvPr/>
        </p:nvSpPr>
        <p:spPr>
          <a:xfrm>
            <a:off x="250920" y="1984320"/>
            <a:ext cx="85690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среднее арифметическое и размах ря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; 3; 5; 6; 14; 15; 17; 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extBox 4" descr=""/>
          <p:cNvPicPr/>
          <p:nvPr/>
        </p:nvPicPr>
        <p:blipFill>
          <a:blip r:embed="rId1"/>
          <a:stretch/>
        </p:blipFill>
        <p:spPr>
          <a:xfrm>
            <a:off x="512640" y="3743280"/>
            <a:ext cx="818676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888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роверочная работа в тетрад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рямоугольник 7" descr=""/>
          <p:cNvPicPr/>
          <p:nvPr/>
        </p:nvPicPr>
        <p:blipFill>
          <a:blip r:embed="rId1"/>
          <a:stretch/>
        </p:blipFill>
        <p:spPr>
          <a:xfrm>
            <a:off x="176040" y="1554120"/>
            <a:ext cx="4469040" cy="368784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10" descr=""/>
          <p:cNvPicPr/>
          <p:nvPr/>
        </p:nvPicPr>
        <p:blipFill>
          <a:blip r:embed="rId2"/>
          <a:stretch/>
        </p:blipFill>
        <p:spPr>
          <a:xfrm>
            <a:off x="4754520" y="1542960"/>
            <a:ext cx="45720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Медиана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Задач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9"/>
          <p:cNvSpPr/>
          <p:nvPr/>
        </p:nvSpPr>
        <p:spPr>
          <a:xfrm>
            <a:off x="395280" y="981000"/>
            <a:ext cx="820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1.В  таблице  показано  число  посетителей  выставки  в  разные  дни недел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68360" y="1700280"/>
          <a:ext cx="8424720" cy="971640"/>
        </p:xfrm>
        <a:graphic>
          <a:graphicData uri="http://schemas.openxmlformats.org/drawingml/2006/table">
            <a:tbl>
              <a:tblPr/>
              <a:tblGrid>
                <a:gridCol w="2701800"/>
                <a:gridCol w="809640"/>
                <a:gridCol w="828720"/>
                <a:gridCol w="809640"/>
                <a:gridCol w="826920"/>
                <a:gridCol w="809640"/>
                <a:gridCol w="828720"/>
                <a:gridCol w="809640"/>
              </a:tblGrid>
              <a:tr h="48564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4860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осет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</a:tbl>
          </a:graphicData>
        </a:graphic>
      </p:graphicFrame>
      <p:sp>
        <p:nvSpPr>
          <p:cNvPr id="129" name="Прямоугольник 8"/>
          <p:cNvSpPr/>
          <p:nvPr/>
        </p:nvSpPr>
        <p:spPr>
          <a:xfrm>
            <a:off x="374760" y="26370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йдите медиану указанного ряда данных. В какие дни недели число посетителей выставки было больше медианы?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395280" y="3645000"/>
            <a:ext cx="8291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Число членов в ряду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= 7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Упорядочим ряд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604, 615, 625, 636, 638, 710, 724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Медиана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Ме = 636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Число посетителей было больше медианы во вторник, субботу и воскресен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Ответ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: 636; вторник, суббота, воскресен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Задача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179280" y="836640"/>
            <a:ext cx="885672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же указана среднесуточная переработка сахара (в тыс. ц) заводами сахарной промышленности некоторого реги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12,2;  13,2;  13,7;  18,0;  18,6;  12,2;  18,5;  12,4;  14,2;  17,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ставленного ряда данных найдите среднее арифметическое, моду, размах и медиану. Что характеризует каждый из этих показате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3571920"/>
            <a:ext cx="9144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1405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0001-001-Sinonimy"/>
          <p:cNvPicPr/>
          <p:nvPr/>
        </p:nvPicPr>
        <p:blipFill>
          <a:blip r:embed="rId1"/>
          <a:stretch/>
        </p:blipFill>
        <p:spPr>
          <a:xfrm>
            <a:off x="5076720" y="3141720"/>
            <a:ext cx="4067280" cy="30463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Задача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836280"/>
            <a:ext cx="8569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седьмого класса на уроке физкультуры при прыжках взяли высоты, величины которых (в см) учитель записал в журн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90;  125;  125;  130;  130;  135;  135;  135;  140;  140;  1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высота прыжка наилучшим образом характеризует спортивную подготовку девочек клас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250920" y="328464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2060"/>
                </a:solidFill>
                <a:latin typeface="Arial"/>
              </a:rPr>
              <a:t>Решени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Ряд  упорядочен: </a:t>
            </a:r>
            <a:r>
              <a:rPr b="1" i="1" lang="en-US" sz="21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1" i="1" lang="ru-RU" sz="2100" spc="-1" strike="noStrike">
                <a:solidFill>
                  <a:srgbClr val="002060"/>
                </a:solidFill>
                <a:latin typeface="Arial"/>
              </a:rPr>
              <a:t> = 11</a:t>
            </a: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Ряд имеет две моды: </a:t>
            </a:r>
            <a:r>
              <a:rPr b="1" i="1" lang="ru-RU" sz="2100" spc="-1" strike="noStrike">
                <a:solidFill>
                  <a:srgbClr val="002060"/>
                </a:solidFill>
                <a:latin typeface="Arial"/>
              </a:rPr>
              <a:t>Мо1 = 135, Мо2 = 140</a:t>
            </a: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Среднее арифметическое ряда </a:t>
            </a:r>
            <a:r>
              <a:rPr b="1" i="1" lang="ru-RU" sz="2100" spc="-1" strike="noStrike">
                <a:solidFill>
                  <a:srgbClr val="002060"/>
                </a:solidFill>
                <a:latin typeface="Arial"/>
              </a:rPr>
              <a:t>Х </a:t>
            </a:r>
            <a:r>
              <a:rPr b="1" i="1" lang="en-US" sz="2100" spc="-1" strike="noStrike">
                <a:solidFill>
                  <a:srgbClr val="002060"/>
                </a:solidFill>
                <a:latin typeface="Arial"/>
              </a:rPr>
              <a:t>≈</a:t>
            </a:r>
            <a:r>
              <a:rPr b="1" i="1" lang="ru-RU" sz="2100" spc="-1" strike="noStrike">
                <a:solidFill>
                  <a:srgbClr val="002060"/>
                </a:solidFill>
                <a:latin typeface="Arial"/>
              </a:rPr>
              <a:t> 129,5</a:t>
            </a: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Медиана </a:t>
            </a:r>
            <a:r>
              <a:rPr b="1" i="1" lang="ru-RU" sz="2100" spc="-1" strike="noStrike">
                <a:solidFill>
                  <a:srgbClr val="002060"/>
                </a:solidFill>
                <a:latin typeface="Arial"/>
              </a:rPr>
              <a:t>Ме = 135</a:t>
            </a: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Наилучшей характеристикой спортивной подготовки девочек следует признать медиану: мода неоднозначна (135 и 140), а среднее значение занижено за счет одного очень плохого результата 90 см (если этот результат отбросить, то Х = 133,5 см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Ответ: 135 с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57200" y="333360"/>
            <a:ext cx="8229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Задача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250920" y="81108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аделец одного частного предприятия уволил большую часть рабочих, а оставшимся снизил зарплату на 20 %. После этого он заявил, что средний заработок его рабочих повысился. Так ли эт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4000" y="2197080"/>
          <a:ext cx="8362800" cy="1447920"/>
        </p:xfrm>
        <a:graphic>
          <a:graphicData uri="http://schemas.openxmlformats.org/drawingml/2006/table">
            <a:tbl>
              <a:tblPr/>
              <a:tblGrid>
                <a:gridCol w="2284200"/>
                <a:gridCol w="1548000"/>
                <a:gridCol w="1547640"/>
                <a:gridCol w="1546200"/>
                <a:gridCol w="1436760"/>
              </a:tblGrid>
              <a:tr h="686520">
                <a:tc rowSpan="2">
                  <a:txBody>
                    <a:bodyPr lIns="38160" rIns="38160" tIns="38160" bIns="381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о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уволь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о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уволь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рабоч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Прямоугольник 9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86439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Татьяна</cp:lastModifiedBy>
  <dcterms:modified xsi:type="dcterms:W3CDTF">2017-10-23T17:55:39Z</dcterms:modified>
  <cp:revision>55</cp:revision>
  <dc:subject/>
  <dc:title>Среднее арифметическое, размах и мода</dc:title>
</cp:coreProperties>
</file>