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E52-ED96-43C0-9581-CC4EF7A3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AED-FAD3-4535-9E0E-B6582A79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EA3-FE74-4288-A82B-73220A7B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BBF-EFE5-4EDF-868F-DFFDE687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B910-973F-41D7-B91E-36164541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4766-869E-47F0-B8AE-9A6748AF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B89E-70E7-4E85-89CA-E2FEC387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8C8C-249A-4816-8D8D-2191ABFE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AB11-1775-4DD5-8FBE-98323854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A2BE-E03B-4C68-89C2-71539CA4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B666-04A6-4EE9-AC5C-F045B1AE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3A1-1244-4D1C-991A-DD72BEDA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C1ED-6604-4898-94EC-BAC2C6CB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B31B-F6EB-43C0-96CC-6D033AD7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FC67-BC0C-43B6-B4EC-CFFB088F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A169-A453-450B-91AD-5E2B5AA6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C42F-1F81-4807-A6FE-936480C2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0C2-8D72-42AC-A0DB-327281F6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E2D-0F02-47D2-B98E-403135A9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3DE-D99A-434E-9831-8E2B4BF0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F09-D18C-410E-ABAD-070DF3CC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D2E-98EC-45F9-9E88-D10557F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E80-BE21-4846-BF49-6ED25610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0B1-F924-46FB-8B47-05F03EAD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AC01-BCB7-474D-9DD8-06AFCDECC6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C247-205A-42CB-91DA-8DDADEB1764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23480" cy="26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00"/>
                </a:solidFill>
                <a:latin typeface="Tahoma"/>
              </a:rPr>
              <a:t>Система работы</a:t>
            </a:r>
            <a:r>
              <a:rPr b="1" lang="en-US" sz="57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5700" spc="-1" strike="noStrike">
                <a:solidFill>
                  <a:srgbClr val="ffff00"/>
                </a:solidFill>
                <a:latin typeface="Tahoma"/>
              </a:rPr>
              <a:t>с одаренными детьми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49600" y="4691160"/>
            <a:ext cx="595296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Руководитель МО – Узких А.Н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714760" y="5572080"/>
            <a:ext cx="545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Рамка 6"/>
          <p:cNvSpPr/>
          <p:nvPr/>
        </p:nvSpPr>
        <p:spPr>
          <a:xfrm>
            <a:off x="2050920" y="5373720"/>
            <a:ext cx="5616720" cy="1197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Tahoma"/>
              </a:rPr>
              <a:t>Банк данных способных детей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1197000"/>
          <a:ext cx="8435880" cy="4794120"/>
        </p:xfrm>
        <a:graphic>
          <a:graphicData uri="http://schemas.openxmlformats.org/drawingml/2006/table">
            <a:tbl>
              <a:tblPr/>
              <a:tblGrid>
                <a:gridCol w="1081080"/>
                <a:gridCol w="2303280"/>
                <a:gridCol w="2592360"/>
                <a:gridCol w="24591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итер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собный уче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земиров Артё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еценец Ди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розова Оле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атеева Саш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нокова О.В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010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ahoma"/>
              </a:rPr>
              <a:t>Банк данных потенциально способных детей</a:t>
            </a:r>
            <a:endParaRPr b="0" lang="en-US" sz="27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836640"/>
          <a:ext cx="9144000" cy="6039000"/>
        </p:xfrm>
        <a:graphic>
          <a:graphicData uri="http://schemas.openxmlformats.org/drawingml/2006/table">
            <a:tbl>
              <a:tblPr/>
              <a:tblGrid>
                <a:gridCol w="1835280"/>
                <a:gridCol w="936360"/>
                <a:gridCol w="4032360"/>
                <a:gridCol w="23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 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фтерин Ко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когон Наст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льникова Кат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скайкин Ден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ронова Дар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имонова Кс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ликова Соф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ульченко Св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урбановРам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аджиахметова И., Чукарин Ж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итенко Же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валдин К., Атышева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номаренко Савел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овьёва И.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хайлова Н.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нокова О.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нокова О.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нокова О.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хайлова Н.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хайлова Н.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186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Tahoma"/>
              </a:rPr>
              <a:t>При работе с одаренными детьми словесники:</a:t>
            </a:r>
            <a:endParaRPr b="0" lang="en-US" sz="3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6760" y="1197000"/>
            <a:ext cx="85726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полняют учебные программы, т.е. обновляют и расширяют содержание образова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тимулируют познавательные способности учащихс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ботают дифференцированно, осуществляют индивидуальный подход и консультирование учащихс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нализируют свою учебно-воспитательную деятельность и деятельность классов, в которых они преподаю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здают дидактику для выявления и развития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пособностей 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1814400" cy="12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истема рабо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1557360"/>
            <a:ext cx="1006560" cy="2232000"/>
          </a:xfrm>
          <a:prstGeom prst="downArrow">
            <a:avLst>
              <a:gd name="adj1" fmla="val 50000"/>
              <a:gd name="adj2" fmla="val 5543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4005360"/>
            <a:ext cx="7128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вор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1413000"/>
            <a:ext cx="863640" cy="2520720"/>
          </a:xfrm>
          <a:prstGeom prst="downArrow">
            <a:avLst>
              <a:gd name="adj1" fmla="val 50000"/>
              <a:gd name="adj2" fmla="val 7296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4005360"/>
            <a:ext cx="7128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лимпи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1484280"/>
            <a:ext cx="1008000" cy="3384720"/>
          </a:xfrm>
          <a:prstGeom prst="downArrow">
            <a:avLst>
              <a:gd name="adj1" fmla="val 50000"/>
              <a:gd name="adj2" fmla="val 8394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5013360"/>
            <a:ext cx="7308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2276640"/>
            <a:ext cx="1079280" cy="129672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3080" y="3429000"/>
            <a:ext cx="7128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рок – базо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дин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960560"/>
            <a:ext cx="1979640" cy="489744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5877000"/>
            <a:ext cx="71640" cy="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полнительные 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4221000"/>
            <a:ext cx="144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4221000"/>
            <a:ext cx="1513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5084640"/>
            <a:ext cx="151308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18"/>
                </a:solidFill>
                <a:latin typeface="Arial"/>
              </a:rPr>
              <a:t>О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80360" y="5084640"/>
            <a:ext cx="1562040" cy="771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0018"/>
                </a:solidFill>
                <a:latin typeface="Arial"/>
              </a:rPr>
              <a:t>Заоч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Педагогические технолог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68360" y="868320"/>
            <a:ext cx="8350920" cy="5225760"/>
            <a:chOff x="468360" y="868320"/>
            <a:chExt cx="8350920" cy="5225760"/>
          </a:xfrm>
        </p:grpSpPr>
        <p:cxnSp>
          <p:nvCxnSpPr>
            <p:cNvPr id="143" name="_s56325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5582160" y="2018880"/>
              <a:ext cx="1045800" cy="292356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56326"/>
            <p:cNvCxnSpPr>
              <a:stCxn id="147" idx="0"/>
              <a:endCxn id="145" idx="2"/>
            </p:cNvCxnSpPr>
            <p:nvPr/>
          </p:nvCxnSpPr>
          <p:spPr>
            <a:xfrm flipV="1">
              <a:off x="4643640" y="2957760"/>
              <a:ext cx="3240" cy="1045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56327"/>
            <p:cNvCxnSpPr>
              <a:stCxn id="149" idx="0"/>
              <a:endCxn id="145" idx="2"/>
            </p:cNvCxnSpPr>
            <p:nvPr/>
          </p:nvCxnSpPr>
          <p:spPr>
            <a:xfrm flipH="1" flipV="1" rot="5400000">
              <a:off x="2659320" y="2018880"/>
              <a:ext cx="1045800" cy="292356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5" name="_s56328"/>
            <p:cNvSpPr/>
            <p:nvPr/>
          </p:nvSpPr>
          <p:spPr>
            <a:xfrm>
              <a:off x="3391200" y="868320"/>
              <a:ext cx="2505240" cy="2090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Опережающе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обуч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56329"/>
            <p:cNvSpPr/>
            <p:nvPr/>
          </p:nvSpPr>
          <p:spPr>
            <a:xfrm>
              <a:off x="468360" y="4003920"/>
              <a:ext cx="2505240" cy="2090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Технологию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развивающего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обуч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56330"/>
            <p:cNvSpPr/>
            <p:nvPr/>
          </p:nvSpPr>
          <p:spPr>
            <a:xfrm>
              <a:off x="3391200" y="4003920"/>
              <a:ext cx="2505240" cy="2090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80018"/>
                  </a:solidFill>
                  <a:latin typeface="Arial"/>
                </a:rPr>
                <a:t>Технологию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80018"/>
                  </a:solidFill>
                  <a:latin typeface="Arial"/>
                </a:rPr>
                <a:t>проектного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80018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180018"/>
                  </a:solidFill>
                  <a:latin typeface="Arial"/>
                </a:rPr>
                <a:t>обучени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56331"/>
            <p:cNvSpPr/>
            <p:nvPr/>
          </p:nvSpPr>
          <p:spPr>
            <a:xfrm>
              <a:off x="6314040" y="4003920"/>
              <a:ext cx="2505240" cy="2090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Технологию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проблемног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обуч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125080" y="6858000"/>
            <a:ext cx="71280" cy="5472000"/>
            <a:chOff x="11125080" y="6858000"/>
            <a:chExt cx="71280" cy="5472000"/>
          </a:xfrm>
        </p:grpSpPr>
        <p:cxnSp>
          <p:nvCxnSpPr>
            <p:cNvPr id="151" name="_s56334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10625400" y="9581040"/>
              <a:ext cx="1095120" cy="25560"/>
            </a:xfrm>
            <a:prstGeom prst="bentConnector3">
              <a:avLst>
                <a:gd name="adj1" fmla="val 2091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4" name="_s56335"/>
            <p:cNvCxnSpPr>
              <a:stCxn id="155" idx="0"/>
              <a:endCxn id="153" idx="2"/>
            </p:cNvCxnSpPr>
            <p:nvPr/>
          </p:nvCxnSpPr>
          <p:spPr>
            <a:xfrm flipV="1">
              <a:off x="11160360" y="9046440"/>
              <a:ext cx="1080" cy="109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6" name="_s56336"/>
            <p:cNvCxnSpPr>
              <a:stCxn id="157" idx="0"/>
              <a:endCxn id="153" idx="2"/>
            </p:cNvCxnSpPr>
            <p:nvPr/>
          </p:nvCxnSpPr>
          <p:spPr>
            <a:xfrm flipH="1" flipV="1" rot="5400000">
              <a:off x="10600200" y="9581040"/>
              <a:ext cx="1095120" cy="25560"/>
            </a:xfrm>
            <a:prstGeom prst="bentConnector3">
              <a:avLst>
                <a:gd name="adj1" fmla="val 2091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3" name="_s56337"/>
            <p:cNvSpPr/>
            <p:nvPr/>
          </p:nvSpPr>
          <p:spPr>
            <a:xfrm>
              <a:off x="11149920" y="6858000"/>
              <a:ext cx="21240" cy="2188800"/>
            </a:xfrm>
            <a:custGeom>
              <a:avLst/>
              <a:gdLst>
                <a:gd name="textAreaLeft" fmla="*/ 720 w 21240"/>
                <a:gd name="textAreaRight" fmla="*/ 20520 w 21240"/>
                <a:gd name="textAreaTop" fmla="*/ 720 h 2188800"/>
                <a:gd name="textAreaBottom" fmla="*/ 2188080 h 2188800"/>
              </a:gdLst>
              <a:ahLst/>
              <a:rect l="textAreaLeft" t="textAreaTop" r="textAreaRight" b="textAreaBottom"/>
              <a:pathLst>
                <a:path w="21600" h="2189160">
                  <a:moveTo>
                    <a:pt x="3600" y="0"/>
                  </a:moveTo>
                  <a:arcTo wR="3600" hR="3600" stAng="16200000" swAng="-5400000"/>
                  <a:lnTo>
                    <a:pt x="0" y="2185560"/>
                  </a:lnTo>
                  <a:arcTo wR="3600" hR="3600" stAng="10800000" swAng="-5400000"/>
                  <a:lnTo>
                    <a:pt x="18000" y="2189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Технологию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Обучения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 </a:t>
              </a: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в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 </a:t>
              </a: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малых 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группах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56338"/>
            <p:cNvSpPr/>
            <p:nvPr/>
          </p:nvSpPr>
          <p:spPr>
            <a:xfrm>
              <a:off x="11125080" y="10141200"/>
              <a:ext cx="21240" cy="2188800"/>
            </a:xfrm>
            <a:custGeom>
              <a:avLst/>
              <a:gdLst>
                <a:gd name="textAreaLeft" fmla="*/ 720 w 21240"/>
                <a:gd name="textAreaRight" fmla="*/ 20520 w 21240"/>
                <a:gd name="textAreaTop" fmla="*/ 720 h 2188800"/>
                <a:gd name="textAreaBottom" fmla="*/ 2188080 h 2188800"/>
              </a:gdLst>
              <a:ahLst/>
              <a:rect l="textAreaLeft" t="textAreaTop" r="textAreaRight" b="textAreaBottom"/>
              <a:pathLst>
                <a:path w="21600" h="2189160">
                  <a:moveTo>
                    <a:pt x="3600" y="0"/>
                  </a:moveTo>
                  <a:arcTo wR="3600" hR="3600" stAng="16200000" swAng="-5400000"/>
                  <a:lnTo>
                    <a:pt x="0" y="2185560"/>
                  </a:lnTo>
                  <a:arcTo wR="3600" hR="3600" stAng="10800000" swAng="-5400000"/>
                  <a:lnTo>
                    <a:pt x="18000" y="2189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" spc="-1" strike="noStrike">
                  <a:solidFill>
                    <a:srgbClr val="180018"/>
                  </a:solidFill>
                  <a:latin typeface="Arial"/>
                </a:rPr>
                <a:t>Здоровье</a:t>
              </a: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" spc="-1" strike="noStrike">
                  <a:solidFill>
                    <a:srgbClr val="180018"/>
                  </a:solidFill>
                  <a:latin typeface="Arial"/>
                </a:rPr>
                <a:t>сбере-</a:t>
              </a: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" spc="-1" strike="noStrike">
                  <a:solidFill>
                    <a:srgbClr val="180018"/>
                  </a:solidFill>
                  <a:latin typeface="Arial"/>
                </a:rPr>
                <a:t>гающие</a:t>
              </a: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56339"/>
            <p:cNvSpPr/>
            <p:nvPr/>
          </p:nvSpPr>
          <p:spPr>
            <a:xfrm>
              <a:off x="11149920" y="10141200"/>
              <a:ext cx="21240" cy="2188800"/>
            </a:xfrm>
            <a:custGeom>
              <a:avLst/>
              <a:gdLst>
                <a:gd name="textAreaLeft" fmla="*/ 720 w 21240"/>
                <a:gd name="textAreaRight" fmla="*/ 20520 w 21240"/>
                <a:gd name="textAreaTop" fmla="*/ 720 h 2188800"/>
                <a:gd name="textAreaBottom" fmla="*/ 2188080 h 2188800"/>
              </a:gdLst>
              <a:ahLst/>
              <a:rect l="textAreaLeft" t="textAreaTop" r="textAreaRight" b="textAreaBottom"/>
              <a:pathLst>
                <a:path w="21600" h="2189160">
                  <a:moveTo>
                    <a:pt x="3600" y="0"/>
                  </a:moveTo>
                  <a:arcTo wR="3600" hR="3600" stAng="16200000" swAng="-5400000"/>
                  <a:lnTo>
                    <a:pt x="0" y="2185560"/>
                  </a:lnTo>
                  <a:arcTo wR="3600" hR="3600" stAng="10800000" swAng="-5400000"/>
                  <a:lnTo>
                    <a:pt x="18000" y="2189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a0000"/>
                  </a:solidFill>
                  <a:latin typeface="Arial"/>
                </a:rPr>
                <a:t>Технологию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a0000"/>
                  </a:solidFill>
                  <a:latin typeface="Arial"/>
                </a:rPr>
                <a:t> </a:t>
              </a:r>
              <a:r>
                <a:rPr b="1" lang="en-US" sz="100" spc="-1" strike="noStrike">
                  <a:solidFill>
                    <a:srgbClr val="1a0000"/>
                  </a:solidFill>
                  <a:latin typeface="Arial"/>
                </a:rPr>
                <a:t>проектного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a0000"/>
                  </a:solidFill>
                  <a:latin typeface="Arial"/>
                </a:rPr>
                <a:t> </a:t>
              </a:r>
              <a:r>
                <a:rPr b="1" lang="en-US" sz="100" spc="-1" strike="noStrike">
                  <a:solidFill>
                    <a:srgbClr val="1a0000"/>
                  </a:solidFill>
                  <a:latin typeface="Arial"/>
                </a:rPr>
                <a:t>обучения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56340"/>
            <p:cNvSpPr/>
            <p:nvPr/>
          </p:nvSpPr>
          <p:spPr>
            <a:xfrm>
              <a:off x="11175120" y="10141200"/>
              <a:ext cx="21240" cy="2188800"/>
            </a:xfrm>
            <a:custGeom>
              <a:avLst/>
              <a:gdLst>
                <a:gd name="textAreaLeft" fmla="*/ 720 w 21240"/>
                <a:gd name="textAreaRight" fmla="*/ 20520 w 21240"/>
                <a:gd name="textAreaTop" fmla="*/ 720 h 2188800"/>
                <a:gd name="textAreaBottom" fmla="*/ 2188080 h 2188800"/>
              </a:gdLst>
              <a:ahLst/>
              <a:rect l="textAreaLeft" t="textAreaTop" r="textAreaRight" b="textAreaBottom"/>
              <a:pathLst>
                <a:path w="21600" h="2189160">
                  <a:moveTo>
                    <a:pt x="3600" y="0"/>
                  </a:moveTo>
                  <a:arcTo wR="3600" hR="3600" stAng="16200000" swAng="-5400000"/>
                  <a:lnTo>
                    <a:pt x="0" y="2185560"/>
                  </a:lnTo>
                  <a:arcTo wR="3600" hR="3600" stAng="10800000" swAng="-5400000"/>
                  <a:lnTo>
                    <a:pt x="18000" y="2189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едагогические технолог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168640" y="1919160"/>
            <a:ext cx="4807800" cy="4163760"/>
            <a:chOff x="2168640" y="1919160"/>
            <a:chExt cx="4807800" cy="4163760"/>
          </a:xfrm>
        </p:grpSpPr>
        <p:sp>
          <p:nvSpPr>
            <p:cNvPr id="160" name="_s95240"/>
            <p:cNvSpPr/>
            <p:nvPr/>
          </p:nvSpPr>
          <p:spPr>
            <a:xfrm>
              <a:off x="3106800" y="1919160"/>
              <a:ext cx="2932200" cy="2931480"/>
            </a:xfrm>
            <a:custGeom>
              <a:avLst/>
              <a:gdLst>
                <a:gd name="textAreaLeft" fmla="*/ 0 w 2932200"/>
                <a:gd name="textAreaRight" fmla="*/ 2932560 w 2932200"/>
                <a:gd name="textAreaTop" fmla="*/ 0 h 2931480"/>
                <a:gd name="textAreaBottom" fmla="*/ 2931840 h 29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95241"/>
            <p:cNvSpPr/>
            <p:nvPr/>
          </p:nvSpPr>
          <p:spPr>
            <a:xfrm rot="7200000">
              <a:off x="3507840" y="2613960"/>
              <a:ext cx="2931840" cy="2932200"/>
            </a:xfrm>
            <a:custGeom>
              <a:avLst/>
              <a:gdLst>
                <a:gd name="textAreaLeft" fmla="*/ 0 w 2931840"/>
                <a:gd name="textAreaRight" fmla="*/ 2932200 w 293184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95243"/>
            <p:cNvSpPr/>
            <p:nvPr/>
          </p:nvSpPr>
          <p:spPr>
            <a:xfrm rot="14400000">
              <a:off x="2705040" y="2613600"/>
              <a:ext cx="2931840" cy="2932200"/>
            </a:xfrm>
            <a:custGeom>
              <a:avLst/>
              <a:gdLst>
                <a:gd name="textAreaLeft" fmla="*/ 0 w 2931840"/>
                <a:gd name="textAreaRight" fmla="*/ 2932200 w 293184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95238"/>
            <p:cNvSpPr/>
            <p:nvPr/>
          </p:nvSpPr>
          <p:spPr>
            <a:xfrm>
              <a:off x="5375160" y="2455560"/>
              <a:ext cx="117648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95239"/>
            <p:cNvSpPr/>
            <p:nvPr/>
          </p:nvSpPr>
          <p:spPr>
            <a:xfrm>
              <a:off x="3986280" y="4867200"/>
              <a:ext cx="1176120" cy="11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95242"/>
            <p:cNvSpPr/>
            <p:nvPr/>
          </p:nvSpPr>
          <p:spPr>
            <a:xfrm>
              <a:off x="2592360" y="2457360"/>
              <a:ext cx="1176480" cy="11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Обуч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в малы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группа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516720" y="2133720"/>
            <a:ext cx="712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ехноло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ект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393372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544500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гр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хн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Выбор форм и методов зависит от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ида одарённост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озраста ребёнк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уровня одарённост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ктивности самого ребёнк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фессиональной подготов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дагог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900" spc="-1" strike="noStrike">
                <a:solidFill>
                  <a:srgbClr val="ffff00"/>
                </a:solidFill>
                <a:latin typeface="Tahoma"/>
              </a:rPr>
              <a:t>В урочной и внеурочной деятельности педагоги МО используют: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7120" y="1699920"/>
            <a:ext cx="4143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Метод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сследовательск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частично-поисковы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роблемны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ективны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нализа и синтез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ворческ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гноз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ифференцированного обуч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мозговые штурмы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415116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Фор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бота в парах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малых групп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 разноуровневые  творческие  зад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индивидуальное консультир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факультативы, игры, конкурсы, виктор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облемы и пути их решен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79280" y="765000"/>
          <a:ext cx="8964720" cy="5951880"/>
        </p:xfrm>
        <a:graphic>
          <a:graphicData uri="http://schemas.openxmlformats.org/drawingml/2006/table">
            <a:tbl>
              <a:tblPr/>
              <a:tblGrid>
                <a:gridCol w="2787480"/>
                <a:gridCol w="2189520"/>
                <a:gridCol w="1976760"/>
                <a:gridCol w="20109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ада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ути ре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51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Разработка индивидуальных программ для способных дет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Отсутствие блоков – схем для усвоения сложных тем исторической граммати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Внедрение наиболее эффективных форм технологий в работе со способным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Повышение педагогической культуры родителей в вопросах воспитания способного ребё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сть при составлении программ современные подходы к подготовке участников олимпиа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ставить блоки- схем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учить передовой опыт, использовать в рабо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рганизовать встрючу с родителями способных дет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суждение и утверждение программ на М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транение бессистемных заняти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ализация в ходе подготовки к олимпиад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углый ст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мен опыто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седа, рекоменд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Чеснокова О.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оловьёва И.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Узких А.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ихайлова Н.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се словес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71640" y="907920"/>
            <a:ext cx="748800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51280" y="4581360"/>
            <a:ext cx="200016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000" y="549000"/>
            <a:ext cx="8280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6600" spc="-1" strike="noStrike">
                <a:solidFill>
                  <a:srgbClr val="ffffff"/>
                </a:solidFill>
                <a:latin typeface="Tahoma"/>
              </a:rPr>
              <a:t>Всё начинается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ahoma"/>
              </a:rPr>
              <a:t>с любви…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Роберт Рождествен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730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«Одарённые дети – наше достояние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блема одарённости – одна из главных проблем. Особую важность её определяет федеральная целевая программа «Дети России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16720" y="4873680"/>
            <a:ext cx="223200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ahoma"/>
              </a:rPr>
              <a:t>Причины актуальности развития одарённости: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278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егодня необходимы люди, мыслящие не шаблонно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меющие искать новые пути решения предложенных задач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аходить выход из проблемной ситу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468360" y="4941720"/>
            <a:ext cx="7775640" cy="1582920"/>
          </a:xfrm>
          <a:prstGeom prst="wedgeRectCallout">
            <a:avLst>
              <a:gd name="adj1" fmla="val -35074"/>
              <a:gd name="adj2" fmla="val 37263"/>
            </a:avLst>
          </a:prstGeom>
          <a:solidFill>
            <a:srgbClr val="66ffff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021c"/>
                </a:solidFill>
                <a:latin typeface="Arial"/>
              </a:rPr>
              <a:t>Первое условие развития творческих способностей – раннее начал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653320" cy="72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Виды гуманитарной одарен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547640" y="333360"/>
            <a:ext cx="6840720" cy="1150920"/>
          </a:xfrm>
          <a:prstGeom prst="flowChartPunchedTap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Arial"/>
              </a:rPr>
              <a:t>Одареннос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642960" y="4429080"/>
            <a:ext cx="2206440" cy="1584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317fd"/>
                </a:solidFill>
                <a:latin typeface="Arial"/>
              </a:rPr>
              <a:t>науч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6215040" y="4429080"/>
            <a:ext cx="2303640" cy="1655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7fd"/>
                </a:solidFill>
                <a:latin typeface="Arial"/>
              </a:rPr>
              <a:t>литератур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7fd"/>
                </a:solidFill>
                <a:latin typeface="Arial"/>
              </a:rPr>
              <a:t>твор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6643800" y="2714760"/>
            <a:ext cx="2087280" cy="1439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7fd"/>
                </a:solidFill>
                <a:latin typeface="Arial"/>
              </a:rPr>
              <a:t>Мотивац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7fd"/>
                </a:solidFill>
                <a:latin typeface="Arial"/>
              </a:rPr>
              <a:t>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428760" y="2786040"/>
            <a:ext cx="2206440" cy="1584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17fd"/>
                </a:solidFill>
                <a:latin typeface="Arial"/>
              </a:rPr>
              <a:t>литератур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17fd"/>
                </a:solidFill>
                <a:latin typeface="Arial"/>
              </a:rPr>
              <a:t>эстетиче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3643200" y="4429080"/>
            <a:ext cx="2206800" cy="1584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317fd"/>
                </a:solidFill>
                <a:latin typeface="Arial"/>
              </a:rPr>
              <a:t>науч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17fd"/>
                </a:solidFill>
                <a:latin typeface="Arial"/>
              </a:rPr>
              <a:t>исследов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17fd"/>
                </a:solidFill>
                <a:latin typeface="Arial"/>
              </a:rPr>
              <a:t>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3143160" y="2857680"/>
            <a:ext cx="2206800" cy="1584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317fd"/>
                </a:solidFill>
                <a:latin typeface="Arial"/>
              </a:rPr>
              <a:t>предмет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"/>
          <p:cNvSpPr/>
          <p:nvPr/>
        </p:nvSpPr>
        <p:spPr>
          <a:xfrm>
            <a:off x="1619280" y="0"/>
            <a:ext cx="7524720" cy="2357280"/>
          </a:xfrm>
          <a:prstGeom prst="rightArrow">
            <a:avLst>
              <a:gd name="adj1" fmla="val 52213"/>
              <a:gd name="adj2" fmla="val 10547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500960" cy="128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1616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4317fd"/>
                </a:solidFill>
                <a:latin typeface="Tahoma"/>
              </a:rPr>
              <a:t>Цели МО</a:t>
            </a:r>
            <a:br>
              <a:rPr sz="3000"/>
            </a:br>
            <a:r>
              <a:rPr b="1" lang="en-US" sz="2000" spc="-1" strike="noStrike">
                <a:solidFill>
                  <a:srgbClr val="161616"/>
                </a:solidFill>
                <a:latin typeface="Tahoma"/>
              </a:rPr>
              <a:t>Выявление способных и потенциально способных детей, создание банка данных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-541440" y="2276640"/>
            <a:ext cx="9471240" cy="1296720"/>
          </a:xfrm>
          <a:custGeom>
            <a:avLst/>
            <a:gdLst>
              <a:gd name="textAreaLeft" fmla="*/ 0 w 9471240"/>
              <a:gd name="textAreaRight" fmla="*/ 9471240 w 947124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38" y="0"/>
                </a:lnTo>
                <a:lnTo>
                  <a:pt x="21600" y="10800"/>
                </a:lnTo>
                <a:lnTo>
                  <a:pt x="14438" y="21600"/>
                </a:lnTo>
                <a:lnTo>
                  <a:pt x="0" y="21600"/>
                </a:lnTo>
                <a:lnTo>
                  <a:pt x="7162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0018"/>
                </a:solidFill>
                <a:latin typeface="Arial"/>
              </a:rPr>
              <a:t>2. Обеспечение развития способност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0018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180018"/>
                </a:solidFill>
                <a:latin typeface="Arial"/>
              </a:rPr>
              <a:t>учащихся в области гуманитарных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0" y="4286160"/>
            <a:ext cx="8929800" cy="1500120"/>
          </a:xfrm>
          <a:custGeom>
            <a:avLst/>
            <a:gdLst>
              <a:gd name="textAreaLeft" fmla="*/ 0 w 8929800"/>
              <a:gd name="textAreaRight" fmla="*/ 8930160 w 892980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38" y="0"/>
                </a:lnTo>
                <a:lnTo>
                  <a:pt x="21600" y="10800"/>
                </a:lnTo>
                <a:lnTo>
                  <a:pt x="14438" y="21600"/>
                </a:lnTo>
                <a:lnTo>
                  <a:pt x="0" y="21600"/>
                </a:lnTo>
                <a:lnTo>
                  <a:pt x="7162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0018"/>
                </a:solidFill>
                <a:latin typeface="Arial"/>
              </a:rPr>
              <a:t>3. Воспитание личности активн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0018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180018"/>
                </a:solidFill>
                <a:latin typeface="Arial"/>
              </a:rPr>
              <a:t>творческой, гармонично разви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642680"/>
            <a:ext cx="8147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работка методических рекомендаций в работе со способными дет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бобщение и систематизация результатов деятельности учителей, организующих работу с одаренными дет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бобщение результатов научной, исследовательской, творческой деятельности одаренных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785960" y="500040"/>
            <a:ext cx="6546960" cy="1143000"/>
          </a:xfrm>
          <a:prstGeom prst="cloudCallout">
            <a:avLst>
              <a:gd name="adj1" fmla="val -43740"/>
              <a:gd name="adj2" fmla="val 30027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45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Банк данных способных детей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1052640"/>
          <a:ext cx="8578800" cy="6534000"/>
        </p:xfrm>
        <a:graphic>
          <a:graphicData uri="http://schemas.openxmlformats.org/drawingml/2006/table">
            <a:tbl>
              <a:tblPr/>
              <a:tblGrid>
                <a:gridCol w="1119240"/>
                <a:gridCol w="1785960"/>
                <a:gridCol w="3000240"/>
                <a:gridCol w="2673360"/>
              </a:tblGrid>
              <a:tr h="106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,И. способного учен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згузикова В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овьёва Кс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жновская Кат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скакова Ир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енних Вале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ф Вла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ипов Артё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лещенкова Алё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розова Оле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довская Л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това Са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овьёва И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хайлова Н.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овьёва И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енних Т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овьёва И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хайлова Н.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Tahoma"/>
              </a:rPr>
              <a:t>Банк  данных способных детей</a:t>
            </a:r>
            <a:endParaRPr b="0" lang="en-US" sz="33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907920"/>
          <a:ext cx="8713800" cy="5935680"/>
        </p:xfrm>
        <a:graphic>
          <a:graphicData uri="http://schemas.openxmlformats.org/drawingml/2006/table">
            <a:tbl>
              <a:tblPr/>
              <a:tblGrid>
                <a:gridCol w="1116000"/>
                <a:gridCol w="1933560"/>
                <a:gridCol w="3079800"/>
                <a:gridCol w="2584440"/>
              </a:tblGrid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собный уче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инина З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рданова Илю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пова Я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мёнова Вар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рохина Ма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строма Наст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ильванова Св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овьёва И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нокова О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енних Т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нокова О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4:09:21Z</dcterms:created>
  <dc:creator>админ</dc:creator>
  <dc:description/>
  <dc:language>en-US</dc:language>
  <cp:lastModifiedBy>админ</cp:lastModifiedBy>
  <dcterms:modified xsi:type="dcterms:W3CDTF">2018-07-07T06:35:19Z</dcterms:modified>
  <cp:revision>48</cp:revision>
  <dc:subject/>
  <dc:title>Слайд 1</dc:title>
</cp:coreProperties>
</file>