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wmf" ContentType="image/x-wm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F26D-F3CB-4127-A049-0E155701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E1A9-E450-47ED-A32A-C4ACA230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98BB-38A9-4E1B-A759-B86EE666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2DA0-6660-49DE-BF55-218B080AB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CF67-1BFC-4D98-A701-384BB5A7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2BAC-86DF-4D2B-9A37-BCCEA357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FA13-8546-48CD-9637-7CC4D510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A37C-0240-4AD2-B0C0-22FC010F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9EE7-662B-448E-B9E9-7B5CF99C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0754-BAB0-4C63-A9C3-EB633994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B567-B333-43D2-8D9B-4296A9AE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D07E-D370-4FAC-8E76-84F296C5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80C1-E818-4147-B55C-2EC7E12E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C6E1-DD93-4378-83A3-FFABA653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80DD-F7AB-4E70-B931-807E356F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7FB8-21E6-44E6-93D9-0981DE04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A4BB-B98A-4442-BA6C-33DCE7DE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5FFC-24F5-4477-8661-B6157B5A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5E18-3058-4526-A6FC-BE77605F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608C-7EBF-40F2-84C1-52630C62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E357-43B6-4E58-A998-018F71D7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8B0E-AC41-45C5-9A68-100837FC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FC13-49F3-46EA-87E7-F60C2B2A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3406-96E7-4DDF-BA88-1B79395F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70FA-34EE-464D-B0EE-037A87DA943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5567-CD32-4C7E-ADAD-6936422BF0A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8223480" cy="267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ff00"/>
                </a:solidFill>
                <a:latin typeface="Tahoma"/>
              </a:rPr>
              <a:t>Система работы</a:t>
            </a:r>
            <a:r>
              <a:rPr b="1" lang="en-US" sz="57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5700" spc="-1" strike="noStrike">
                <a:solidFill>
                  <a:srgbClr val="ffff00"/>
                </a:solidFill>
                <a:latin typeface="Tahoma"/>
              </a:rPr>
              <a:t>с одаренными детьми</a:t>
            </a:r>
            <a:endParaRPr b="0" lang="en-US" sz="57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49600" y="4691160"/>
            <a:ext cx="595296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Руководитель МО – Узких А.Н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2714760" y="5572080"/>
            <a:ext cx="5457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Рамка 6"/>
          <p:cNvSpPr/>
          <p:nvPr/>
        </p:nvSpPr>
        <p:spPr>
          <a:xfrm>
            <a:off x="2050920" y="5373720"/>
            <a:ext cx="5616720" cy="1197000"/>
          </a:xfrm>
          <a:prstGeom prst="pie">
            <a:avLst/>
          </a:prstGeom>
          <a:solidFill>
            <a:srgbClr val="ffffff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Tahoma"/>
              </a:rPr>
              <a:t>Банк данных способных детей</a:t>
            </a:r>
            <a:endParaRPr b="0" lang="en-US" sz="37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24000" y="1197000"/>
          <a:ext cx="8435880" cy="4794120"/>
        </p:xfrm>
        <a:graphic>
          <a:graphicData uri="http://schemas.openxmlformats.org/drawingml/2006/table">
            <a:tbl>
              <a:tblPr/>
              <a:tblGrid>
                <a:gridCol w="1081080"/>
                <a:gridCol w="2303280"/>
                <a:gridCol w="2592360"/>
                <a:gridCol w="245916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ас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дм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Литерату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пособный учени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ител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7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земиров Артё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еценец Ди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орозова Олес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ратеева Саш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зких А.Н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зких А.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еснокова О.В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2000" y="-360"/>
            <a:ext cx="7010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Tahoma"/>
              </a:rPr>
              <a:t>Банк данных потенциально способных детей</a:t>
            </a:r>
            <a:endParaRPr b="0" lang="en-US" sz="27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0" y="836640"/>
          <a:ext cx="9144000" cy="6039000"/>
        </p:xfrm>
        <a:graphic>
          <a:graphicData uri="http://schemas.openxmlformats.org/drawingml/2006/table">
            <a:tbl>
              <a:tblPr/>
              <a:tblGrid>
                <a:gridCol w="1835280"/>
                <a:gridCol w="936360"/>
                <a:gridCol w="4032360"/>
                <a:gridCol w="23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Русский язы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ас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е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ит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 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уфтерин Ко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акогон Наст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льникова Кат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аскайкин Дени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ронова Дар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имонова Кс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уликова Софь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ульченко Све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урбановРама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аджиахметова И., Чукарин Ж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литенко Же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увалдин К., Атышева 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номаренко Савел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зких А.Н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зких А.Н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ловьёва И.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ихайлова Н.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еснокова О.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еснокова О.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еснокова О.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ихайлова Н.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ихайлова Н.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01864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00"/>
                </a:solidFill>
                <a:latin typeface="Tahoma"/>
              </a:rPr>
              <a:t>При работе с одаренными детьми словесники:</a:t>
            </a:r>
            <a:endParaRPr b="0" lang="en-US" sz="3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56760" y="1197000"/>
            <a:ext cx="857268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ополняют учебные программы, т.е. обновляют и расширяют содержание образовани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тимулируют познавательные способности учащихс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аботают дифференцированно, осуществляют индивидуальный подход и консультирование учащихс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анализируют свою учебно-воспитательную деятельность и деятельность классов, в которых они преподают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здают дидактику для выявления и развития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пособностей  учащих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372360" y="5445000"/>
            <a:ext cx="1814400" cy="12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5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86868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Система работ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2340000" y="1557360"/>
            <a:ext cx="1006560" cy="2232000"/>
          </a:xfrm>
          <a:prstGeom prst="downArrow">
            <a:avLst>
              <a:gd name="adj1" fmla="val 50000"/>
              <a:gd name="adj2" fmla="val 5543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16360" y="4005360"/>
            <a:ext cx="71280" cy="71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ворческ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кур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48360" y="1413000"/>
            <a:ext cx="863640" cy="2520720"/>
          </a:xfrm>
          <a:prstGeom prst="downArrow">
            <a:avLst>
              <a:gd name="adj1" fmla="val 50000"/>
              <a:gd name="adj2" fmla="val 7296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4005360"/>
            <a:ext cx="71280" cy="71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лимпиа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1484280"/>
            <a:ext cx="1008000" cy="3384720"/>
          </a:xfrm>
          <a:prstGeom prst="downArrow">
            <a:avLst>
              <a:gd name="adj1" fmla="val 50000"/>
              <a:gd name="adj2" fmla="val 8394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27640" y="5013360"/>
            <a:ext cx="73080" cy="71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О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2000" y="2276640"/>
            <a:ext cx="1079280" cy="129672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1296720"/>
              <a:gd name="textAreaBottom" fmla="*/ 1297080 h 12967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93080" y="3429000"/>
            <a:ext cx="71280" cy="71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рок – базов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единиц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960560"/>
            <a:ext cx="1979640" cy="489744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4897440"/>
              <a:gd name="textAreaBottom" fmla="*/ 4897800 h 48974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5877000"/>
            <a:ext cx="71640" cy="73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ополнительные заня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80000" y="4221000"/>
            <a:ext cx="14436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43640" y="4221000"/>
            <a:ext cx="15130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64000" y="5084640"/>
            <a:ext cx="151308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0018"/>
                </a:solidFill>
                <a:latin typeface="Arial"/>
              </a:rPr>
              <a:t>Оч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80360" y="5084640"/>
            <a:ext cx="1562040" cy="771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0018"/>
                </a:solidFill>
                <a:latin typeface="Arial"/>
              </a:rPr>
              <a:t>Заоч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Педагогические технологии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68360" y="868320"/>
            <a:ext cx="8350920" cy="5225760"/>
            <a:chOff x="468360" y="868320"/>
            <a:chExt cx="8350920" cy="5225760"/>
          </a:xfrm>
        </p:grpSpPr>
        <p:cxnSp>
          <p:nvCxnSpPr>
            <p:cNvPr id="143" name="_s56325"/>
            <p:cNvCxnSpPr>
              <a:stCxn id="144" idx="0"/>
              <a:endCxn id="145" idx="2"/>
            </p:cNvCxnSpPr>
            <p:nvPr/>
          </p:nvCxnSpPr>
          <p:spPr>
            <a:xfrm flipV="1" rot="16200000">
              <a:off x="5582160" y="2018880"/>
              <a:ext cx="1045800" cy="2923560"/>
            </a:xfrm>
            <a:prstGeom prst="bentConnector3">
              <a:avLst>
                <a:gd name="adj1" fmla="val 2090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6" name="_s56326"/>
            <p:cNvCxnSpPr>
              <a:stCxn id="147" idx="0"/>
              <a:endCxn id="145" idx="2"/>
            </p:cNvCxnSpPr>
            <p:nvPr/>
          </p:nvCxnSpPr>
          <p:spPr>
            <a:xfrm flipV="1">
              <a:off x="4643640" y="2957760"/>
              <a:ext cx="3240" cy="1045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8" name="_s56327"/>
            <p:cNvCxnSpPr>
              <a:stCxn id="149" idx="0"/>
              <a:endCxn id="145" idx="2"/>
            </p:cNvCxnSpPr>
            <p:nvPr/>
          </p:nvCxnSpPr>
          <p:spPr>
            <a:xfrm flipH="1" flipV="1" rot="5400000">
              <a:off x="2659320" y="2018880"/>
              <a:ext cx="1045800" cy="2923560"/>
            </a:xfrm>
            <a:prstGeom prst="bentConnector3">
              <a:avLst>
                <a:gd name="adj1" fmla="val 2090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5" name="_s56328"/>
            <p:cNvSpPr/>
            <p:nvPr/>
          </p:nvSpPr>
          <p:spPr>
            <a:xfrm>
              <a:off x="3391200" y="868320"/>
              <a:ext cx="2505240" cy="209016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80018"/>
                  </a:solidFill>
                  <a:latin typeface="Arial"/>
                </a:rPr>
                <a:t>Опережающее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80018"/>
                  </a:solidFill>
                  <a:latin typeface="Arial"/>
                </a:rPr>
                <a:t>обуче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_s56329"/>
            <p:cNvSpPr/>
            <p:nvPr/>
          </p:nvSpPr>
          <p:spPr>
            <a:xfrm>
              <a:off x="468360" y="4003920"/>
              <a:ext cx="2505240" cy="209016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80018"/>
                  </a:solidFill>
                  <a:latin typeface="Arial"/>
                </a:rPr>
                <a:t>Технологию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80018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180018"/>
                  </a:solidFill>
                  <a:latin typeface="Arial"/>
                </a:rPr>
                <a:t>развивающего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80018"/>
                  </a:solidFill>
                  <a:latin typeface="Arial"/>
                </a:rPr>
                <a:t>обучен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_s56330"/>
            <p:cNvSpPr/>
            <p:nvPr/>
          </p:nvSpPr>
          <p:spPr>
            <a:xfrm>
              <a:off x="3391200" y="4003920"/>
              <a:ext cx="2505240" cy="209016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180018"/>
                  </a:solidFill>
                  <a:latin typeface="Arial"/>
                </a:rPr>
                <a:t>Технологию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180018"/>
                  </a:solidFill>
                  <a:latin typeface="Arial"/>
                </a:rPr>
                <a:t>проектного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180018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180018"/>
                  </a:solidFill>
                  <a:latin typeface="Arial"/>
                </a:rPr>
                <a:t>обучени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56331"/>
            <p:cNvSpPr/>
            <p:nvPr/>
          </p:nvSpPr>
          <p:spPr>
            <a:xfrm>
              <a:off x="6314040" y="4003920"/>
              <a:ext cx="2505240" cy="209016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80018"/>
                  </a:solidFill>
                  <a:latin typeface="Arial"/>
                </a:rPr>
                <a:t>Технологию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80018"/>
                  </a:solidFill>
                  <a:latin typeface="Arial"/>
                </a:rPr>
                <a:t>проблемног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80018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180018"/>
                  </a:solidFill>
                  <a:latin typeface="Arial"/>
                </a:rPr>
                <a:t>обучен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1125080" y="6858000"/>
            <a:ext cx="71280" cy="5472000"/>
            <a:chOff x="11125080" y="6858000"/>
            <a:chExt cx="71280" cy="5472000"/>
          </a:xfrm>
        </p:grpSpPr>
        <p:cxnSp>
          <p:nvCxnSpPr>
            <p:cNvPr id="151" name="_s56334"/>
            <p:cNvCxnSpPr>
              <a:stCxn id="152" idx="0"/>
              <a:endCxn id="153" idx="2"/>
            </p:cNvCxnSpPr>
            <p:nvPr/>
          </p:nvCxnSpPr>
          <p:spPr>
            <a:xfrm flipV="1" rot="16200000">
              <a:off x="10625400" y="9581040"/>
              <a:ext cx="1095120" cy="25560"/>
            </a:xfrm>
            <a:prstGeom prst="bentConnector3">
              <a:avLst>
                <a:gd name="adj1" fmla="val 2091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4" name="_s56335"/>
            <p:cNvCxnSpPr>
              <a:stCxn id="155" idx="0"/>
              <a:endCxn id="153" idx="2"/>
            </p:cNvCxnSpPr>
            <p:nvPr/>
          </p:nvCxnSpPr>
          <p:spPr>
            <a:xfrm flipV="1">
              <a:off x="11160360" y="9046440"/>
              <a:ext cx="1080" cy="1095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6" name="_s56336"/>
            <p:cNvCxnSpPr>
              <a:stCxn id="157" idx="0"/>
              <a:endCxn id="153" idx="2"/>
            </p:cNvCxnSpPr>
            <p:nvPr/>
          </p:nvCxnSpPr>
          <p:spPr>
            <a:xfrm flipH="1" flipV="1" rot="5400000">
              <a:off x="10600200" y="9581040"/>
              <a:ext cx="1095120" cy="25560"/>
            </a:xfrm>
            <a:prstGeom prst="bentConnector3">
              <a:avLst>
                <a:gd name="adj1" fmla="val 2091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3" name="_s56337"/>
            <p:cNvSpPr/>
            <p:nvPr/>
          </p:nvSpPr>
          <p:spPr>
            <a:xfrm>
              <a:off x="11149920" y="6858000"/>
              <a:ext cx="21240" cy="2188800"/>
            </a:xfrm>
            <a:custGeom>
              <a:avLst/>
              <a:gdLst>
                <a:gd name="textAreaLeft" fmla="*/ 720 w 21240"/>
                <a:gd name="textAreaRight" fmla="*/ 20520 w 21240"/>
                <a:gd name="textAreaTop" fmla="*/ 720 h 2188800"/>
                <a:gd name="textAreaBottom" fmla="*/ 2188080 h 2188800"/>
              </a:gdLst>
              <a:ahLst/>
              <a:rect l="textAreaLeft" t="textAreaTop" r="textAreaRight" b="textAreaBottom"/>
              <a:pathLst>
                <a:path w="21600" h="2189160">
                  <a:moveTo>
                    <a:pt x="3600" y="0"/>
                  </a:moveTo>
                  <a:arcTo wR="3600" hR="3600" stAng="16200000" swAng="-5400000"/>
                  <a:lnTo>
                    <a:pt x="0" y="2185560"/>
                  </a:lnTo>
                  <a:arcTo wR="3600" hR="3600" stAng="10800000" swAng="-5400000"/>
                  <a:lnTo>
                    <a:pt x="18000" y="2189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180018"/>
                  </a:solidFill>
                  <a:latin typeface="Arial"/>
                </a:rPr>
                <a:t>Технологию</a:t>
              </a:r>
              <a:endParaRPr b="0" lang="en-US" sz="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180018"/>
                  </a:solidFill>
                  <a:latin typeface="Arial"/>
                </a:rPr>
                <a:t>Обучения</a:t>
              </a:r>
              <a:endParaRPr b="0" lang="en-US" sz="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180018"/>
                  </a:solidFill>
                  <a:latin typeface="Arial"/>
                </a:rPr>
                <a:t> </a:t>
              </a:r>
              <a:r>
                <a:rPr b="1" lang="en-US" sz="100" spc="-1" strike="noStrike">
                  <a:solidFill>
                    <a:srgbClr val="180018"/>
                  </a:solidFill>
                  <a:latin typeface="Arial"/>
                </a:rPr>
                <a:t>в</a:t>
              </a:r>
              <a:endParaRPr b="0" lang="en-US" sz="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180018"/>
                  </a:solidFill>
                  <a:latin typeface="Arial"/>
                </a:rPr>
                <a:t> </a:t>
              </a:r>
              <a:r>
                <a:rPr b="1" lang="en-US" sz="100" spc="-1" strike="noStrike">
                  <a:solidFill>
                    <a:srgbClr val="180018"/>
                  </a:solidFill>
                  <a:latin typeface="Arial"/>
                </a:rPr>
                <a:t>малых </a:t>
              </a:r>
              <a:endParaRPr b="0" lang="en-US" sz="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180018"/>
                  </a:solidFill>
                  <a:latin typeface="Arial"/>
                </a:rPr>
                <a:t>группах</a:t>
              </a:r>
              <a:endParaRPr b="0" lang="en-US" sz="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_s56338"/>
            <p:cNvSpPr/>
            <p:nvPr/>
          </p:nvSpPr>
          <p:spPr>
            <a:xfrm>
              <a:off x="11125080" y="10141200"/>
              <a:ext cx="21240" cy="2188800"/>
            </a:xfrm>
            <a:custGeom>
              <a:avLst/>
              <a:gdLst>
                <a:gd name="textAreaLeft" fmla="*/ 720 w 21240"/>
                <a:gd name="textAreaRight" fmla="*/ 20520 w 21240"/>
                <a:gd name="textAreaTop" fmla="*/ 720 h 2188800"/>
                <a:gd name="textAreaBottom" fmla="*/ 2188080 h 2188800"/>
              </a:gdLst>
              <a:ahLst/>
              <a:rect l="textAreaLeft" t="textAreaTop" r="textAreaRight" b="textAreaBottom"/>
              <a:pathLst>
                <a:path w="21600" h="2189160">
                  <a:moveTo>
                    <a:pt x="3600" y="0"/>
                  </a:moveTo>
                  <a:arcTo wR="3600" hR="3600" stAng="16200000" swAng="-5400000"/>
                  <a:lnTo>
                    <a:pt x="0" y="2185560"/>
                  </a:lnTo>
                  <a:arcTo wR="3600" hR="3600" stAng="10800000" swAng="-5400000"/>
                  <a:lnTo>
                    <a:pt x="18000" y="2189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" spc="-1" strike="noStrike">
                  <a:solidFill>
                    <a:srgbClr val="180018"/>
                  </a:solidFill>
                  <a:latin typeface="Arial"/>
                </a:rPr>
                <a:t>Здоровье</a:t>
              </a: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" spc="-1" strike="noStrike">
                  <a:solidFill>
                    <a:srgbClr val="180018"/>
                  </a:solidFill>
                  <a:latin typeface="Arial"/>
                </a:rPr>
                <a:t>сбере-</a:t>
              </a: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" spc="-1" strike="noStrike">
                  <a:solidFill>
                    <a:srgbClr val="180018"/>
                  </a:solidFill>
                  <a:latin typeface="Arial"/>
                </a:rPr>
                <a:t>гающие</a:t>
              </a:r>
              <a:endParaRPr b="0" lang="en-US" sz="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56339"/>
            <p:cNvSpPr/>
            <p:nvPr/>
          </p:nvSpPr>
          <p:spPr>
            <a:xfrm>
              <a:off x="11149920" y="10141200"/>
              <a:ext cx="21240" cy="2188800"/>
            </a:xfrm>
            <a:custGeom>
              <a:avLst/>
              <a:gdLst>
                <a:gd name="textAreaLeft" fmla="*/ 720 w 21240"/>
                <a:gd name="textAreaRight" fmla="*/ 20520 w 21240"/>
                <a:gd name="textAreaTop" fmla="*/ 720 h 2188800"/>
                <a:gd name="textAreaBottom" fmla="*/ 2188080 h 2188800"/>
              </a:gdLst>
              <a:ahLst/>
              <a:rect l="textAreaLeft" t="textAreaTop" r="textAreaRight" b="textAreaBottom"/>
              <a:pathLst>
                <a:path w="21600" h="2189160">
                  <a:moveTo>
                    <a:pt x="3600" y="0"/>
                  </a:moveTo>
                  <a:arcTo wR="3600" hR="3600" stAng="16200000" swAng="-5400000"/>
                  <a:lnTo>
                    <a:pt x="0" y="2185560"/>
                  </a:lnTo>
                  <a:arcTo wR="3600" hR="3600" stAng="10800000" swAng="-5400000"/>
                  <a:lnTo>
                    <a:pt x="18000" y="2189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1a0000"/>
                  </a:solidFill>
                  <a:latin typeface="Arial"/>
                </a:rPr>
                <a:t>Технологию</a:t>
              </a:r>
              <a:endParaRPr b="0" lang="en-US" sz="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1a0000"/>
                  </a:solidFill>
                  <a:latin typeface="Arial"/>
                </a:rPr>
                <a:t> </a:t>
              </a:r>
              <a:r>
                <a:rPr b="1" lang="en-US" sz="100" spc="-1" strike="noStrike">
                  <a:solidFill>
                    <a:srgbClr val="1a0000"/>
                  </a:solidFill>
                  <a:latin typeface="Arial"/>
                </a:rPr>
                <a:t>проектного</a:t>
              </a:r>
              <a:endParaRPr b="0" lang="en-US" sz="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1a0000"/>
                  </a:solidFill>
                  <a:latin typeface="Arial"/>
                </a:rPr>
                <a:t> </a:t>
              </a:r>
              <a:r>
                <a:rPr b="1" lang="en-US" sz="100" spc="-1" strike="noStrike">
                  <a:solidFill>
                    <a:srgbClr val="1a0000"/>
                  </a:solidFill>
                  <a:latin typeface="Arial"/>
                </a:rPr>
                <a:t>обучения</a:t>
              </a:r>
              <a:endParaRPr b="0" lang="en-US" sz="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_s56340"/>
            <p:cNvSpPr/>
            <p:nvPr/>
          </p:nvSpPr>
          <p:spPr>
            <a:xfrm>
              <a:off x="11175120" y="10141200"/>
              <a:ext cx="21240" cy="2188800"/>
            </a:xfrm>
            <a:custGeom>
              <a:avLst/>
              <a:gdLst>
                <a:gd name="textAreaLeft" fmla="*/ 720 w 21240"/>
                <a:gd name="textAreaRight" fmla="*/ 20520 w 21240"/>
                <a:gd name="textAreaTop" fmla="*/ 720 h 2188800"/>
                <a:gd name="textAreaBottom" fmla="*/ 2188080 h 2188800"/>
              </a:gdLst>
              <a:ahLst/>
              <a:rect l="textAreaLeft" t="textAreaTop" r="textAreaRight" b="textAreaBottom"/>
              <a:pathLst>
                <a:path w="21600" h="2189160">
                  <a:moveTo>
                    <a:pt x="3600" y="0"/>
                  </a:moveTo>
                  <a:arcTo wR="3600" hR="3600" stAng="16200000" swAng="-5400000"/>
                  <a:lnTo>
                    <a:pt x="0" y="2185560"/>
                  </a:lnTo>
                  <a:arcTo wR="3600" hR="3600" stAng="10800000" swAng="-5400000"/>
                  <a:lnTo>
                    <a:pt x="18000" y="2189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Педагогические технолог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168640" y="1919160"/>
            <a:ext cx="4807800" cy="4163760"/>
            <a:chOff x="2168640" y="1919160"/>
            <a:chExt cx="4807800" cy="4163760"/>
          </a:xfrm>
        </p:grpSpPr>
        <p:sp>
          <p:nvSpPr>
            <p:cNvPr id="160" name="_s95240"/>
            <p:cNvSpPr/>
            <p:nvPr/>
          </p:nvSpPr>
          <p:spPr>
            <a:xfrm>
              <a:off x="3106800" y="1919160"/>
              <a:ext cx="2932200" cy="2931480"/>
            </a:xfrm>
            <a:custGeom>
              <a:avLst/>
              <a:gdLst>
                <a:gd name="textAreaLeft" fmla="*/ 0 w 2932200"/>
                <a:gd name="textAreaRight" fmla="*/ 2932560 w 2932200"/>
                <a:gd name="textAreaTop" fmla="*/ 0 h 2931480"/>
                <a:gd name="textAreaBottom" fmla="*/ 2931840 h 29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_s95241"/>
            <p:cNvSpPr/>
            <p:nvPr/>
          </p:nvSpPr>
          <p:spPr>
            <a:xfrm rot="7200000">
              <a:off x="3507840" y="2613960"/>
              <a:ext cx="2931840" cy="2932200"/>
            </a:xfrm>
            <a:custGeom>
              <a:avLst/>
              <a:gdLst>
                <a:gd name="textAreaLeft" fmla="*/ 0 w 2931840"/>
                <a:gd name="textAreaRight" fmla="*/ 2932200 w 2931840"/>
                <a:gd name="textAreaTop" fmla="*/ 0 h 2932200"/>
                <a:gd name="textAreaBottom" fmla="*/ 2932560 h 293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_s95243"/>
            <p:cNvSpPr/>
            <p:nvPr/>
          </p:nvSpPr>
          <p:spPr>
            <a:xfrm rot="14400000">
              <a:off x="2705040" y="2613600"/>
              <a:ext cx="2931840" cy="2932200"/>
            </a:xfrm>
            <a:custGeom>
              <a:avLst/>
              <a:gdLst>
                <a:gd name="textAreaLeft" fmla="*/ 0 w 2931840"/>
                <a:gd name="textAreaRight" fmla="*/ 2932200 w 2931840"/>
                <a:gd name="textAreaTop" fmla="*/ 0 h 2932200"/>
                <a:gd name="textAreaBottom" fmla="*/ 2932560 h 293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_s95238"/>
            <p:cNvSpPr/>
            <p:nvPr/>
          </p:nvSpPr>
          <p:spPr>
            <a:xfrm>
              <a:off x="5375160" y="2455560"/>
              <a:ext cx="1176480" cy="11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_s95239"/>
            <p:cNvSpPr/>
            <p:nvPr/>
          </p:nvSpPr>
          <p:spPr>
            <a:xfrm>
              <a:off x="3986280" y="4867200"/>
              <a:ext cx="1176120" cy="11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95242"/>
            <p:cNvSpPr/>
            <p:nvPr/>
          </p:nvSpPr>
          <p:spPr>
            <a:xfrm>
              <a:off x="2592360" y="2457360"/>
              <a:ext cx="1176480" cy="11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Обуче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в малых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группах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6516720" y="2133720"/>
            <a:ext cx="71280" cy="71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ехнолог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оект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бу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40000" y="3933720"/>
            <a:ext cx="71280" cy="7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32360" y="5445000"/>
            <a:ext cx="71280" cy="7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Игров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технолог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7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Выбор форм и методов зависит от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вида одарённости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возраста ребёнк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уровня одарённости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активности самого ребёнк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рофессиональной подготов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едагог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900" spc="-1" strike="noStrike">
                <a:solidFill>
                  <a:srgbClr val="ffff00"/>
                </a:solidFill>
                <a:latin typeface="Tahoma"/>
              </a:rPr>
              <a:t>В урочной и внеурочной деятельности педагоги МО используют: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7120" y="1699920"/>
            <a:ext cx="4143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Метод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сследовательск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частично-поисковы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проблемны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оективны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анализа и синтез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ворческ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огнозирова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ифференцированного обуч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«мозговые штурмы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415116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Форм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бота в парах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малых группа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  разноуровневые  творческие  зада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 индивидуальное консультирова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 факультативы, игры, конкурсы, виктори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Проблемы и пути их решения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79280" y="765000"/>
          <a:ext cx="8964720" cy="5951880"/>
        </p:xfrm>
        <a:graphic>
          <a:graphicData uri="http://schemas.openxmlformats.org/drawingml/2006/table">
            <a:tbl>
              <a:tblPr/>
              <a:tblGrid>
                <a:gridCol w="2787480"/>
                <a:gridCol w="2189520"/>
                <a:gridCol w="1976760"/>
                <a:gridCol w="20109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робл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Задач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ути реш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тветствен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51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Разработка индивидуальных программ для способных детей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Отсутствие блоков – схем для усвоения сложных тем исторической грамматик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Внедрение наиболее эффективных форм технологий в работе со способным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Повышение педагогической культуры родителей в вопросах воспитания способного ребён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есть при составлении программ современные подходы к подготовке участников олимпиад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ставить блоки- схемы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учить передовой опыт, использовать в работ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рганизовать встрючу с родителями способных детей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суждение и утверждение программ на М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странение бессистемных занятий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ализация в ходе подготовки к олимпиада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углый сто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мен опыто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еседа, рекоменд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зких А.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Чеснокова О.В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Соловьёва И.В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Узких А.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Михайлова Н.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Все словесн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971640" y="907920"/>
            <a:ext cx="748800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66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66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851280" y="4581360"/>
            <a:ext cx="200016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68000" y="549000"/>
            <a:ext cx="828036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6600" spc="-1" strike="noStrike">
                <a:solidFill>
                  <a:srgbClr val="ffffff"/>
                </a:solidFill>
                <a:latin typeface="Tahoma"/>
              </a:rPr>
              <a:t>Всё начинается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Tahoma"/>
              </a:rPr>
              <a:t>с любви…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Роберт Рождествен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732720" y="3933720"/>
            <a:ext cx="187308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«Одарённые дети – наше достояние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роблема одарённости – одна из главных проблем. Особую важность её определяет федеральная целевая программа «Дети России»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516720" y="4873680"/>
            <a:ext cx="2232000" cy="15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ahoma"/>
              </a:rPr>
              <a:t>Причины актуальности развития одарённости: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2788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егодня необходимы люди, мыслящие не шаблонно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меющие искать новые пути решения предложенных задач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находить выход из проблемной ситу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468360" y="4941720"/>
            <a:ext cx="7775640" cy="1582920"/>
          </a:xfrm>
          <a:prstGeom prst="wedgeRectCallout">
            <a:avLst>
              <a:gd name="adj1" fmla="val -35074"/>
              <a:gd name="adj2" fmla="val 37263"/>
            </a:avLst>
          </a:prstGeom>
          <a:solidFill>
            <a:srgbClr val="66ffff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021c"/>
                </a:solidFill>
                <a:latin typeface="Arial"/>
              </a:rPr>
              <a:t>Первое условие развития творческих способностей – раннее начал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8653320" cy="720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0000"/>
                </a:solidFill>
                <a:latin typeface="Tahoma"/>
              </a:rPr>
              <a:t>Виды гуманитарной одаренно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547640" y="333360"/>
            <a:ext cx="6840720" cy="1150920"/>
          </a:xfrm>
          <a:prstGeom prst="flowChartPunchedTape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ff"/>
                </a:solidFill>
                <a:latin typeface="Arial"/>
              </a:rPr>
              <a:t>Одаренност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642960" y="4429080"/>
            <a:ext cx="2206440" cy="1584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317fd"/>
                </a:solidFill>
                <a:latin typeface="Arial"/>
              </a:rPr>
              <a:t>науч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8"/>
          <p:cNvSpPr/>
          <p:nvPr/>
        </p:nvSpPr>
        <p:spPr>
          <a:xfrm>
            <a:off x="6215040" y="4429080"/>
            <a:ext cx="2303640" cy="1655640"/>
          </a:xfrm>
          <a:prstGeom prst="ellipse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17fd"/>
                </a:solidFill>
                <a:latin typeface="Arial"/>
              </a:rPr>
              <a:t>литературн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17fd"/>
                </a:solidFill>
                <a:latin typeface="Arial"/>
              </a:rPr>
              <a:t>творче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10"/>
          <p:cNvSpPr/>
          <p:nvPr/>
        </p:nvSpPr>
        <p:spPr>
          <a:xfrm>
            <a:off x="6643800" y="2714760"/>
            <a:ext cx="2087280" cy="1439640"/>
          </a:xfrm>
          <a:prstGeom prst="ellipse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17fd"/>
                </a:solidFill>
                <a:latin typeface="Arial"/>
              </a:rPr>
              <a:t>Мотиваци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17fd"/>
                </a:solidFill>
                <a:latin typeface="Arial"/>
              </a:rPr>
              <a:t>н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6"/>
          <p:cNvSpPr/>
          <p:nvPr/>
        </p:nvSpPr>
        <p:spPr>
          <a:xfrm>
            <a:off x="428760" y="2786040"/>
            <a:ext cx="2206440" cy="1584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317fd"/>
                </a:solidFill>
                <a:latin typeface="Arial"/>
              </a:rPr>
              <a:t>литературно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17fd"/>
                </a:solidFill>
                <a:latin typeface="Arial"/>
              </a:rPr>
              <a:t>эстетическ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3643200" y="4429080"/>
            <a:ext cx="2206800" cy="1584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317fd"/>
                </a:solidFill>
                <a:latin typeface="Arial"/>
              </a:rPr>
              <a:t>научно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17fd"/>
                </a:solidFill>
                <a:latin typeface="Arial"/>
              </a:rPr>
              <a:t>исследовате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17fd"/>
                </a:solidFill>
                <a:latin typeface="Arial"/>
              </a:rPr>
              <a:t>ск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6"/>
          <p:cNvSpPr/>
          <p:nvPr/>
        </p:nvSpPr>
        <p:spPr>
          <a:xfrm>
            <a:off x="3143160" y="2857680"/>
            <a:ext cx="2206800" cy="15840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317fd"/>
                </a:solidFill>
                <a:latin typeface="Arial"/>
              </a:rPr>
              <a:t>предмет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4"/>
          <p:cNvSpPr/>
          <p:nvPr/>
        </p:nvSpPr>
        <p:spPr>
          <a:xfrm>
            <a:off x="1619280" y="0"/>
            <a:ext cx="7524720" cy="2357280"/>
          </a:xfrm>
          <a:prstGeom prst="rightArrow">
            <a:avLst>
              <a:gd name="adj1" fmla="val 52213"/>
              <a:gd name="adj2" fmla="val 10547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2000" y="404640"/>
            <a:ext cx="7500960" cy="1285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61616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4317fd"/>
                </a:solidFill>
                <a:latin typeface="Tahoma"/>
              </a:rPr>
              <a:t>Цели МО</a:t>
            </a:r>
            <a:br>
              <a:rPr sz="3000"/>
            </a:br>
            <a:r>
              <a:rPr b="1" lang="en-US" sz="2000" spc="-1" strike="noStrike">
                <a:solidFill>
                  <a:srgbClr val="161616"/>
                </a:solidFill>
                <a:latin typeface="Tahoma"/>
              </a:rPr>
              <a:t>Выявление способных и потенциально способных детей, создание банка данных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-541440" y="2276640"/>
            <a:ext cx="9471240" cy="1296720"/>
          </a:xfrm>
          <a:custGeom>
            <a:avLst/>
            <a:gdLst>
              <a:gd name="textAreaLeft" fmla="*/ 0 w 9471240"/>
              <a:gd name="textAreaRight" fmla="*/ 9471240 w 9471240"/>
              <a:gd name="textAreaTop" fmla="*/ 0 h 1296720"/>
              <a:gd name="textAreaBottom" fmla="*/ 129708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38" y="0"/>
                </a:lnTo>
                <a:lnTo>
                  <a:pt x="21600" y="10800"/>
                </a:lnTo>
                <a:lnTo>
                  <a:pt x="14438" y="21600"/>
                </a:lnTo>
                <a:lnTo>
                  <a:pt x="0" y="21600"/>
                </a:lnTo>
                <a:lnTo>
                  <a:pt x="7162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0018"/>
                </a:solidFill>
                <a:latin typeface="Arial"/>
              </a:rPr>
              <a:t>2. Обеспечение развития способност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0018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180018"/>
                </a:solidFill>
                <a:latin typeface="Arial"/>
              </a:rPr>
              <a:t>учащихся в области гуманитарных зна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0" y="4286160"/>
            <a:ext cx="8929800" cy="1500120"/>
          </a:xfrm>
          <a:custGeom>
            <a:avLst/>
            <a:gdLst>
              <a:gd name="textAreaLeft" fmla="*/ 0 w 8929800"/>
              <a:gd name="textAreaRight" fmla="*/ 8930160 w 892980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38" y="0"/>
                </a:lnTo>
                <a:lnTo>
                  <a:pt x="21600" y="10800"/>
                </a:lnTo>
                <a:lnTo>
                  <a:pt x="14438" y="21600"/>
                </a:lnTo>
                <a:lnTo>
                  <a:pt x="0" y="21600"/>
                </a:lnTo>
                <a:lnTo>
                  <a:pt x="7162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0018"/>
                </a:solidFill>
                <a:latin typeface="Arial"/>
              </a:rPr>
              <a:t>3. Воспитание личности активно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0018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180018"/>
                </a:solidFill>
                <a:latin typeface="Arial"/>
              </a:rPr>
              <a:t>творческой, гармонично развит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9280" y="1642680"/>
            <a:ext cx="81471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азработка методических рекомендаций в работе со способными деть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бобщение и систематизация результатов деятельности учителей, организующих работу с одаренными деть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бобщение результатов научной, исследовательской, творческой деятельности одаренных дет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1785960" y="500040"/>
            <a:ext cx="6546960" cy="1143000"/>
          </a:xfrm>
          <a:prstGeom prst="cloudCallout">
            <a:avLst>
              <a:gd name="adj1" fmla="val -43740"/>
              <a:gd name="adj2" fmla="val 30027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45c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201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Банк данных способных детей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79280" y="1052640"/>
          <a:ext cx="8578800" cy="6534000"/>
        </p:xfrm>
        <a:graphic>
          <a:graphicData uri="http://schemas.openxmlformats.org/drawingml/2006/table">
            <a:tbl>
              <a:tblPr/>
              <a:tblGrid>
                <a:gridCol w="1119240"/>
                <a:gridCol w="1785960"/>
                <a:gridCol w="3000240"/>
                <a:gridCol w="2673360"/>
              </a:tblGrid>
              <a:tr h="106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ас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дм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,И. способного учен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ите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 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 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езгузикова В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ловьёва Кс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ожновская Кат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аскакова Ир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енних Валер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уф Влад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рипов Артё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лещенкова Алё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орозова Оле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едовская Ле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итова Саш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ловьёва И.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зких А.Н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зких А.Н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ихайлова Н.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ловьёва И.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енних Т.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ловьёва И.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ихайлова Н.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00"/>
                </a:solidFill>
                <a:latin typeface="Tahoma"/>
              </a:rPr>
              <a:t>Банк  данных способных детей</a:t>
            </a:r>
            <a:endParaRPr b="0" lang="en-US" sz="33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50920" y="907920"/>
          <a:ext cx="8713800" cy="5935680"/>
        </p:xfrm>
        <a:graphic>
          <a:graphicData uri="http://schemas.openxmlformats.org/drawingml/2006/table">
            <a:tbl>
              <a:tblPr/>
              <a:tblGrid>
                <a:gridCol w="1116000"/>
                <a:gridCol w="1933560"/>
                <a:gridCol w="3079800"/>
                <a:gridCol w="2584440"/>
              </a:tblGrid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ас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дм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Русский язы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пособный учен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ите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0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 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 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 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 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 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линина З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арданова Илюз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пова Я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мёнова Вар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рохина Мар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строма Наст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ильванова Све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ловьёва И.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еснокова О.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енних Т.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еснокова О.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0T14:09:21Z</dcterms:created>
  <dc:creator>админ</dc:creator>
  <dc:description/>
  <dc:language>en-US</dc:language>
  <cp:lastModifiedBy>админ</cp:lastModifiedBy>
  <dcterms:modified xsi:type="dcterms:W3CDTF">2018-07-07T06:35:19Z</dcterms:modified>
  <cp:revision>48</cp:revision>
  <dc:subject/>
  <dc:title>Слайд 1</dc:title>
</cp:coreProperties>
</file>