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0.jpeg" ContentType="image/jpeg"/>
  <Override PartName="/ppt/media/image18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E5CD-7D84-46C5-8852-68DB4EBF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60F9-84F5-4879-A4F2-6F77E4FDC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11BE-226C-4D01-929E-C9CD24FD9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4FFE-42E1-4A84-940A-7A1FF7091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79355-E295-418E-B3B8-BC59FD687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D08E7-225F-4FD3-BF5E-3E3E6E99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D270-5668-4726-8FB8-5A427CEE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59B4D-FF3D-41C5-8A97-306E58C24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F932C-26C3-4E59-88AA-F5A8E73C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D1E1-5A28-4919-AC3F-D0985A2A6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263DD-B4B5-4D14-B20F-200F66BE3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4FC9-8D95-48E0-B4A1-7081A1CA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8E9E2-0F58-40B3-95A3-0208B75C2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F759-9835-4215-A71F-DF45974D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8102-4D1B-497B-A2E4-EAE0039A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5D22-72EF-4CB6-9480-AA9FF8C5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D6BA-6673-44E6-ABE9-B4C503E4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E311-4EB8-436D-92DE-3E08FBDD5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EAD4-0BA0-41B0-9F02-30C65C3A7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EBFD-FDF7-4464-AD91-EFA0724C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A3FE-F69C-4F7F-8E9E-1FF68A13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FDD1-D9BE-4052-B0EB-652BA4118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D125-53F4-40DF-839B-E29887F2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8EA4-75BC-42BF-861D-1F4EF452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39920"/>
                <a:gd name="textAreaBottom" fmla="*/ 2240280 h 22399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029200"/>
                <a:gd name="textAreaBottom" fmla="*/ 5029560 h 502920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2203560"/>
                <a:gd name="textAreaBottom" fmla="*/ 2203920 h 220356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>
                <a:gd name="textAreaLeft" fmla="*/ 0 w 7313760"/>
                <a:gd name="textAreaRight" fmla="*/ 7314120 w 7313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833560"/>
                <a:gd name="textAreaBottom" fmla="*/ 2833920 h 283356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>
                <a:gd name="textAreaLeft" fmla="*/ 0 w 4570560"/>
                <a:gd name="textAreaRight" fmla="*/ 4570920 w 45705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2247840"/>
                <a:gd name="textAreaBottom" fmla="*/ 2248200 h 22478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8110-0639-469D-82E7-A2C46D0F9C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>
                <a:gd name="textAreaLeft" fmla="*/ 0 w 8810640"/>
                <a:gd name="textAreaRight" fmla="*/ 8811000 w 8810640"/>
                <a:gd name="textAreaTop" fmla="*/ 0 h 5105520"/>
                <a:gd name="textAreaBottom" fmla="*/ 5105880 h 510552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>
                <a:gd name="textAreaLeft" fmla="*/ 0 w 8305920"/>
                <a:gd name="textAreaRight" fmla="*/ 8306280 w 830592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>
                <a:gd name="textAreaLeft" fmla="*/ 0 w 5484960"/>
                <a:gd name="textAreaRight" fmla="*/ 5485320 w 54849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>
                <a:gd name="textAreaLeft" fmla="*/ 0 w 7769520"/>
                <a:gd name="textAreaRight" fmla="*/ 7769880 w 77695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>
                <a:gd name="textAreaLeft" fmla="*/ 0 w 47880"/>
                <a:gd name="textAreaRight" fmla="*/ 48240 w 47880"/>
                <a:gd name="textAreaTop" fmla="*/ 0 h 3108240"/>
                <a:gd name="textAreaBottom" fmla="*/ 3108600 h 310824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119920"/>
                <a:gd name="textAreaBottom" fmla="*/ 5120280 h 511992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DE3B5-CA4D-4972-8E44-B1E944754CF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4920" y="764640"/>
            <a:ext cx="806148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Исследовательская работа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8000" y="2997000"/>
            <a:ext cx="8351640" cy="36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Arial"/>
                <a:ea typeface="Arial"/>
              </a:rPr>
              <a:t>«Картофель -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Arial"/>
                <a:ea typeface="Arial"/>
              </a:rPr>
              <a:t>второй хлеб»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Выполнила ученица 3класса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МАОУ СОШ №2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Ларева Анна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Народная медицина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9" name="Объект 2" descr=""/>
          <p:cNvPicPr/>
          <p:nvPr/>
        </p:nvPicPr>
        <p:blipFill>
          <a:blip r:embed="rId1"/>
          <a:stretch/>
        </p:blipFill>
        <p:spPr>
          <a:xfrm>
            <a:off x="689040" y="1816200"/>
            <a:ext cx="835164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35280" y="333360"/>
            <a:ext cx="6059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Анкетирова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5920"/>
            <a:ext cx="133200" cy="13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Диаграмма 2" descr=""/>
          <p:cNvPicPr/>
          <p:nvPr/>
        </p:nvPicPr>
        <p:blipFill>
          <a:blip r:embed="rId1"/>
          <a:stretch/>
        </p:blipFill>
        <p:spPr>
          <a:xfrm>
            <a:off x="684360" y="973080"/>
            <a:ext cx="823896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ажают ли картофель родители на огороде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6039000" cy="58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1 человек ответили: «Да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781200" y="2637000"/>
            <a:ext cx="2963880" cy="3671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"/>
          <p:cNvPicPr/>
          <p:nvPr/>
        </p:nvPicPr>
        <p:blipFill>
          <a:blip r:embed="rId2"/>
          <a:stretch/>
        </p:blipFill>
        <p:spPr>
          <a:xfrm>
            <a:off x="3924360" y="2637000"/>
            <a:ext cx="1619280" cy="1618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3"/>
          <a:stretch/>
        </p:blipFill>
        <p:spPr>
          <a:xfrm>
            <a:off x="5580000" y="3573360"/>
            <a:ext cx="1619280" cy="1552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4"/>
          <a:stretch/>
        </p:blipFill>
        <p:spPr>
          <a:xfrm>
            <a:off x="7236000" y="4869000"/>
            <a:ext cx="171432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064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ои опы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89000"/>
            <a:ext cx="8007480" cy="41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ПЫТ 1. Я вынесла картофель на улицу( ниже 10) и оставила на ночь. На утро он стал твёрдым. Я положила замёрзшую картошку на тарелку. В обед я увидела, что моя картошка «заплакала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ВОД: в картофеле много в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3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1500" autoRev="1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3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1500" autoRev="1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9280" y="-5163120"/>
            <a:ext cx="71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549360"/>
            <a:ext cx="798192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ЫТ 2. Я разрезала картофель пополам. На разрезанную часть капнула немного йода. Место, на которое попал йод, сначала стало коричневатым (цвет йода), а потом тут же превратилось в тёмно-фиолетовый цвет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ВОД: Это говорит о наличии крахмала в картофел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6227640" y="4869000"/>
            <a:ext cx="23814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1000" autoRev="1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4" dur="1000" autoRev="1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5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5791320"/>
            <a:ext cx="46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99640" y="189000"/>
            <a:ext cx="80074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ыт 3. Я взяла картофель и белый хлеб. Капнув раствором йода, я заметила, что на хлебе пятно тёмно – фиолетовое. А на картофеле - светл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- фиолетово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вод: в белом хлебе крахмала больше, чем в картофел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Рисунок 9" descr="C:\Documents and Settings\Admin\Мои документы\Колупаева фото\DSC01944.JPG"/>
          <p:cNvPicPr/>
          <p:nvPr/>
        </p:nvPicPr>
        <p:blipFill>
          <a:blip r:embed="rId1"/>
          <a:srcRect l="13798" t="12862" r="17236" b="9183"/>
          <a:stretch/>
        </p:blipFill>
        <p:spPr>
          <a:xfrm>
            <a:off x="2124000" y="3949560"/>
            <a:ext cx="4608720" cy="29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68000" y="260280"/>
            <a:ext cx="418644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ои выво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8920" y="1268280"/>
            <a:ext cx="86662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 поняла, что почти ни одно блюдо не обходится без картофел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Картофель идет в первое блюдо при приготовлении суп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755640" y="3573360"/>
            <a:ext cx="3600360" cy="2694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"/>
          <p:cNvPicPr/>
          <p:nvPr/>
        </p:nvPicPr>
        <p:blipFill>
          <a:blip r:embed="rId2"/>
          <a:stretch/>
        </p:blipFill>
        <p:spPr>
          <a:xfrm>
            <a:off x="5076720" y="3573360"/>
            <a:ext cx="3529080" cy="26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-5208120"/>
            <a:ext cx="36972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547640" y="1904760"/>
            <a:ext cx="28800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435280" y="1904760"/>
            <a:ext cx="259236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476000" y="4076280"/>
            <a:ext cx="287964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580000" y="4076280"/>
            <a:ext cx="2448000" cy="201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3616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Картофель – это и самое вкусное второе блюд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619280" y="1916280"/>
            <a:ext cx="2736720" cy="2033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2"/>
          <a:stretch/>
        </p:blipFill>
        <p:spPr>
          <a:xfrm>
            <a:off x="5508720" y="1916280"/>
            <a:ext cx="2448000" cy="20318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3"/>
          <a:stretch/>
        </p:blipFill>
        <p:spPr>
          <a:xfrm>
            <a:off x="5580000" y="4086360"/>
            <a:ext cx="2376720" cy="2006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"/>
          <p:cNvPicPr/>
          <p:nvPr/>
        </p:nvPicPr>
        <p:blipFill>
          <a:blip r:embed="rId4"/>
          <a:stretch/>
        </p:blipFill>
        <p:spPr>
          <a:xfrm>
            <a:off x="1619280" y="4076640"/>
            <a:ext cx="26654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0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-5243760"/>
            <a:ext cx="22716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404280"/>
            <a:ext cx="800748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Во многие салаты добавляется картофель. Например: «Зимний салат»,«Оливье», «Винегрет», «Селёдка под шубой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2050920" y="2852640"/>
            <a:ext cx="4846680" cy="31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-498420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549000"/>
            <a:ext cx="800748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Картофель подаётся и на десерт. Например: кисель, приготовленный на картофельном крахмале; картофель в сахаре, хворост и д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6" descr="Картофель в сахаре &quot; Домашние рецепты блюд с фото. Простые к…"/>
          <p:cNvPicPr/>
          <p:nvPr/>
        </p:nvPicPr>
        <p:blipFill>
          <a:blip r:embed="rId1"/>
          <a:stretch/>
        </p:blipFill>
        <p:spPr>
          <a:xfrm>
            <a:off x="1979640" y="2637000"/>
            <a:ext cx="5329080" cy="36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  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Гипотез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картофель является столь необходимым продуктом на нашем столе, то можно сказать что картофель – второй хле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-53226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26560" y="549360"/>
            <a:ext cx="8007480" cy="55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картофеле имеется много витаминов и микроэлементов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2195640" y="2924280"/>
            <a:ext cx="4751280" cy="32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7000" y="244080"/>
            <a:ext cx="807228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Вывод: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6560" y="1052640"/>
            <a:ext cx="800748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артофель – это важнейший повседневный проду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артофель – как и хлеб, почти не приедается и ничем не может быть заменё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жно сказать: картофель – это второй хле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ветую всем больше употреблять в пищу картофель – это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кусно, полезно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, а главное -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доступно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4"/>
          <p:cNvSpPr txBox="1"/>
          <p:nvPr/>
        </p:nvSpPr>
        <p:spPr>
          <a:xfrm>
            <a:off x="1962000" y="2908440"/>
            <a:ext cx="5850000" cy="296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22320">
                  <a:solidFill>
                    <a:srgbClr val="008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22320">
                <a:solidFill>
                  <a:srgbClr val="008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931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СПАСИБО ЗА ВНИМАНИЕ!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547380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250" autoRev="1" fill="hold"/>
                                        <p:tgtEl>
                                          <p:spTgt spid="1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итерату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7" name="Объект 2" descr=""/>
          <p:cNvPicPr/>
          <p:nvPr/>
        </p:nvPicPr>
        <p:blipFill>
          <a:blip r:embed="rId1"/>
          <a:stretch/>
        </p:blipFill>
        <p:spPr>
          <a:xfrm>
            <a:off x="689040" y="1816200"/>
            <a:ext cx="839448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19280" y="1197000"/>
            <a:ext cx="61214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b7"/>
                </a:solidFill>
                <a:latin typeface="Arial Black"/>
              </a:rPr>
              <a:t>Цель моей работы: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6560" y="3141720"/>
            <a:ext cx="8007480" cy="16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11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Узнать, на самом ли деле картофель является вторым хлебом на Рус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71640" y="404640"/>
            <a:ext cx="30355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Задачи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39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яснить, откуда картофель родом и как попал в Росс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казать, что картофель – второй хлеб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вести анкетирование среди учеников своего класса о любимых блюдах из картофел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3280" y="260280"/>
            <a:ext cx="66247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ои исследования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484280"/>
            <a:ext cx="791064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ртофель-овощное растение со съедобными клубнями, богатыми крахмалом. Он служит источником энергии для мозга  и тел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826920" y="3700440"/>
            <a:ext cx="3313440" cy="2465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"/>
          <p:cNvPicPr/>
          <p:nvPr/>
        </p:nvPicPr>
        <p:blipFill>
          <a:blip r:embed="rId2"/>
          <a:stretch/>
        </p:blipFill>
        <p:spPr>
          <a:xfrm>
            <a:off x="5003640" y="3716280"/>
            <a:ext cx="324036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8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дина картофел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1" name="Объект 2" descr=""/>
          <p:cNvPicPr/>
          <p:nvPr/>
        </p:nvPicPr>
        <p:blipFill>
          <a:blip r:embed="rId1"/>
          <a:stretch/>
        </p:blipFill>
        <p:spPr>
          <a:xfrm>
            <a:off x="701640" y="1822320"/>
            <a:ext cx="833904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784836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Роль картофеля в жизни челове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1628640"/>
            <a:ext cx="80074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ручал людей в тяжелые време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могал во время войн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пулярен при плохом урожае зерновых культу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 него готовят сотни блю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Любимые блюд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ртофельные оладь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ртофельная запекан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ртофель фарширован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ртофельные понч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ареники из картоф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нты из картоф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рименение картофеля в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медицин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7" name="Объект 2" descr=""/>
          <p:cNvPicPr/>
          <p:nvPr/>
        </p:nvPicPr>
        <p:blipFill>
          <a:blip r:embed="rId1"/>
          <a:stretch/>
        </p:blipFill>
        <p:spPr>
          <a:xfrm>
            <a:off x="682560" y="1822320"/>
            <a:ext cx="8328240" cy="42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8T11:05:07Z</dcterms:created>
  <dc:creator>я</dc:creator>
  <dc:description/>
  <dc:language>en-US</dc:language>
  <cp:lastModifiedBy>учитель</cp:lastModifiedBy>
  <dcterms:modified xsi:type="dcterms:W3CDTF">2015-03-20T07:50:39Z</dcterms:modified>
  <cp:revision>38</cp:revision>
  <dc:subject/>
  <dc:title>Слайд 1</dc:title>
</cp:coreProperties>
</file>