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1470-4A01-4485-868B-171A7A72C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CBBF-DE09-45A9-A0A2-1EF4802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E3A8-CB47-4775-B329-D103AB92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D40-F5FF-4954-89B7-81AED1A0A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9669-CF20-48D3-A938-9E53070E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78C2-607D-418C-ACBE-F936B3491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9043-30E9-4091-8456-3BBAE20AE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8858-3E7E-4897-9C6D-4BDD1DA5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AD51-A794-429E-A447-EE535B6F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0B00-DA1C-4F9A-B75A-8F37A4B1E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6222-FEC4-41D1-8829-17C5D1CC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691-9ABA-4A55-9AD6-37119C66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C61C-CEB8-4E7E-9213-79407894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3C3B-1AE4-4BC6-A3CE-DE5829C1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7AF8-398F-4FCE-95C3-C9882D2BB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EC1CF-FFE7-4E7D-9C82-AB069F82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5693-0314-45DA-B36C-C8879C17E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192F-147E-446D-AEF6-F38DA46D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649F-4AE1-4882-BB38-5BB31E096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91A5-B70F-44E2-B9C2-2685501F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AABE-8C8F-488F-9935-683B2591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910-3794-4067-B134-C01FB52C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A3FD-7107-487F-B227-AD4D60F7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B1D9-5BC7-437A-B72A-E815C7EA4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0DB1-99BA-4921-A7A9-BED3AF9EE0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BC78-74E9-4678-8F6C-C9FC968865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0614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Исследовательская работ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000" y="2997000"/>
            <a:ext cx="8351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  <a:ea typeface="Arial"/>
              </a:rPr>
              <a:t>«Картофель 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  <a:ea typeface="Arial"/>
              </a:rPr>
              <a:t>второй хлеб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полнила ученица 3класс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ОУ СОШ №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арева Анн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родная медицин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Объект 2" descr=""/>
          <p:cNvPicPr/>
          <p:nvPr/>
        </p:nvPicPr>
        <p:blipFill>
          <a:blip r:embed="rId1"/>
          <a:stretch/>
        </p:blipFill>
        <p:spPr>
          <a:xfrm>
            <a:off x="689040" y="1816200"/>
            <a:ext cx="83516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605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кет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5920"/>
            <a:ext cx="133200" cy="1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Диаграмма 2" descr=""/>
          <p:cNvPicPr/>
          <p:nvPr/>
        </p:nvPicPr>
        <p:blipFill>
          <a:blip r:embed="rId1"/>
          <a:stretch/>
        </p:blipFill>
        <p:spPr>
          <a:xfrm>
            <a:off x="684360" y="973080"/>
            <a:ext cx="823896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жают ли картофель родители на огороде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1 человек ответили: «Д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81200" y="2637000"/>
            <a:ext cx="2963880" cy="36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5580000" y="3573360"/>
            <a:ext cx="1619280" cy="155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7236000" y="4869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и опы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89000"/>
            <a:ext cx="8007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ЫТ 1. Я вынесла картофель на улицу( ниже 10) и оставила на ночь. На утро он стал твёрдым. Я положила замёрзшую картошку на тарелку. В обед я увидела, что моя картошка «заплакал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ВОД: в картофеле много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5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15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-516312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549360"/>
            <a:ext cx="7981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2. Я разрезала картофель пополам. На разрезанную часть капнула немного йода. Место, на которое попал йод, сначала стало коричневатым (цвет йода), а потом тут же превратилось в тёмно-фиолетовый цв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: Это говорит о наличии крахмала в картофе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227640" y="486900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10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1000" autoRev="1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579132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99640" y="18900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3. Я взяла картофель и белый хлеб. Капнув раствором йода, я заметила, что на хлебе пятно тёмно – фиолетовое. А на картофеле - свет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фиолетово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: в белом хлебе крахмала больше, чем в картофе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9" descr="C:\Documents and Settings\Admin\Мои документы\Колупаева фото\DSC01944.JPG"/>
          <p:cNvPicPr/>
          <p:nvPr/>
        </p:nvPicPr>
        <p:blipFill>
          <a:blip r:embed="rId1"/>
          <a:srcRect l="13798" t="12862" r="17236" b="9183"/>
          <a:stretch/>
        </p:blipFill>
        <p:spPr>
          <a:xfrm>
            <a:off x="2124000" y="3949560"/>
            <a:ext cx="46087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418644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и вы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66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няла, что почти ни одно блюдо не обходится без картоф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ртофель идет в первое блюдо при приготовлении суп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00360" cy="2694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-5208120"/>
            <a:ext cx="369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47640" y="1904760"/>
            <a:ext cx="28800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35280" y="1904760"/>
            <a:ext cx="259236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76000" y="4076280"/>
            <a:ext cx="28796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580000" y="4076280"/>
            <a:ext cx="24480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3616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артофель – это и самое вкусное второе блю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2736720" cy="2033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2448000" cy="203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5580000" y="4086360"/>
            <a:ext cx="2376720" cy="200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1619280" y="4076640"/>
            <a:ext cx="26654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524376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о многие салаты добавляется картофель. Например: «Зимний салат»,«Оливье», «Винегрет», «Селёдка под шубо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48466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-498420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артофель подаётся и на десерт. Например: кисель, приготовленный на картофельном крахмале; картофель в сахаре, хворост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Картофель в сахаре &quot; Домашние рецепты блюд с фото. Простые к…"/>
          <p:cNvPicPr/>
          <p:nvPr/>
        </p:nvPicPr>
        <p:blipFill>
          <a:blip r:embed="rId1"/>
          <a:stretch/>
        </p:blipFill>
        <p:spPr>
          <a:xfrm>
            <a:off x="1979640" y="2637000"/>
            <a:ext cx="532908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поте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картофель является столь необходимым продуктом на нашем столе, то можно сказать что картофель – второй хле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5322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0748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ртофеле имеется много витаминов и микроэлемен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75128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7000" y="244080"/>
            <a:ext cx="807228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07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ртофель – это важнейший повседневный проду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ртофель – как и хлеб, почти не приедается и ничем не может быть заменё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сказать: картофель – это второй хле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ветую всем больше употреблять в пищу картофель – это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кусно, полезн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 а главное 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оступ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962000" y="2908440"/>
            <a:ext cx="5850000" cy="29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2232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93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4738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Объект 2" descr=""/>
          <p:cNvPicPr/>
          <p:nvPr/>
        </p:nvPicPr>
        <p:blipFill>
          <a:blip r:embed="rId1"/>
          <a:stretch/>
        </p:blipFill>
        <p:spPr>
          <a:xfrm>
            <a:off x="689040" y="1816200"/>
            <a:ext cx="83944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9280" y="1197000"/>
            <a:ext cx="6121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Цель моей работы: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3141720"/>
            <a:ext cx="800748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знать, на самом ли деле картофель является вторым хлебом на Рус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71640" y="404640"/>
            <a:ext cx="3035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, откуда картофель родом и как попал в Росс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ь, что картофель – второй хле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анкетирование среди учеников своего класса о любимых блюдах из картоф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62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и исследов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910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офель-овощное растение со съедобными клубнями, богатыми крахмалом. Он служит источником энергии для мозга  и 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826920" y="3700440"/>
            <a:ext cx="3313440" cy="24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32403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дина картофе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701640" y="1822320"/>
            <a:ext cx="83390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ль картофеля в жизн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007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учал людей в тяжелые вре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гал во время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пулярен при плохом урожае зерновых культ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его готовят сотни блю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юбимые блю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фельные олад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фельная запек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фель фарширова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фельные понч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еники из картоф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ы из картоф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именение картофеля в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дицин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Объект 2" descr=""/>
          <p:cNvPicPr/>
          <p:nvPr/>
        </p:nvPicPr>
        <p:blipFill>
          <a:blip r:embed="rId1"/>
          <a:stretch/>
        </p:blipFill>
        <p:spPr>
          <a:xfrm>
            <a:off x="682560" y="1822320"/>
            <a:ext cx="83282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1:05:07Z</dcterms:created>
  <dc:creator>я</dc:creator>
  <dc:description/>
  <dc:language>en-US</dc:language>
  <cp:lastModifiedBy>учитель</cp:lastModifiedBy>
  <dcterms:modified xsi:type="dcterms:W3CDTF">2015-03-20T07:50:39Z</dcterms:modified>
  <cp:revision>38</cp:revision>
  <dc:subject/>
  <dc:title>Слайд 1</dc:title>
</cp:coreProperties>
</file>