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AEAA-2753-49B7-8F88-E42146FB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B2F-7F24-4085-B976-96B5493F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4DD-9FF2-4FAD-92FA-ACD42612B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6C0F-6477-42F2-B654-B4C98104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C76CE-C4C3-467B-A07B-2727C2DF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3803-CF79-4915-88E8-00A03F6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65EA-987A-4F4F-BF39-457677EE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2CC86-D4AB-4411-8FB4-295CEBC3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FDB4-5B00-48ED-BCDD-F99534A2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CF92-BB70-41A5-9936-7128AB65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B458-A88B-452F-94C6-AA9E7547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E54D-1CF4-4DD4-ACDC-4EC5152C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89BD-B121-4331-90FF-4223C33D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FB1D-2AC3-4574-AE0E-7042F881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2740-F902-48EA-9A61-00C44A8D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1D09-B976-4750-837F-E2A18378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CC571-26CE-463A-812B-0C9012C9B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40C89-EA85-41C2-9B3D-952CAE95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FB89-B769-465B-A121-B236B190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86FF2-EB14-4308-8706-22B3913D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130B-A4CA-49D0-9614-05E5DCDF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CF6FB-0BA9-44C5-BBF5-E664892C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45A-7316-4E7A-AD77-AE6F3619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C0A25-095A-419D-9B26-76C76BAA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34FCD-F5EF-4427-9C0F-8C1E2E98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AC1D-E518-4CF0-B2B8-C017201B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EEC03-0853-4DF8-A57C-B671CC2F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5015B-D38D-4F4F-B525-4C431720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2BFF-33F2-4727-8417-9FE003321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B5A6-C023-47A8-B566-4F296B3C6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525F7-14A1-407D-A0B9-E05412F3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B9052-FCCF-401B-BE21-D2D1DE49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9559C-6801-4926-B5A9-402C5E84E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79F8-6C13-40A8-A24F-F86723986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F0F83-A3EE-42A9-920B-293545042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AC2C-3EB1-4123-AE94-3C511721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EA8E5-39AA-4BF5-A222-BD77EEBA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8E402-C7E8-44BE-87A7-4296AF833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4D96A-3A82-4E2B-ACEE-25EB76D6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566DD-3214-46CF-A51F-2580112D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FECE4-65D3-4B76-837C-CA03CC17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CFA82-8A18-4252-9024-7CCBED8F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3E1C7-E727-43E5-8888-8567C4DE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654D5-74AB-444F-94C1-AF32F650D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36F4-0D9B-42CE-8E45-64804E862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B60BF2-FD46-434C-8A3A-689C6ED8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BCC98-52B5-41F5-AB80-E582D9BE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9F841-0E19-4049-A9DF-E3050F14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19DA47-9C04-4000-9F28-1D000B7A5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2F08F-8BE7-40B3-AEC3-24209A463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61E70-078F-4627-8E97-B409DEAE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FACE6-8550-4470-A38D-4E881CB3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47798-9F1C-4A71-9F48-95145C07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B1147-F7A7-4EC6-8D53-3306D382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7D65A-9747-48D2-BF7D-C9CC3892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F18F-647E-48B4-9C06-E7F8A3F1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4840-0D22-40D3-9FB9-0159A9CC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7C4-3EF9-4700-826F-DD00C220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34BD-01B3-4C8A-8EA3-EF2B9F06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BBCA-2A64-4F88-993A-624F561C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8543B6-D4B6-43F1-81CA-27906D4E1EF2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AE92C-60E8-4F8B-A50E-CB1DB3D65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61790E-3725-4A27-8B94-42DD9BB0229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D53366-BEFF-45F0-BF98-7D5D9361EEA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A01F05-F834-4F39-951F-F9F8FF4F835D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Контрольная работа №1 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Алгебра 7 клас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16080" y="3068640"/>
            <a:ext cx="8001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90c226"/>
                </a:solidFill>
                <a:latin typeface="Trebuchet MS"/>
              </a:rPr>
              <a:t>«Начальные геометрические сведения» 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0" y="-40860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ариант 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Три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лежат на одной прямой.  Известно, что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17 см,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25 см. Какой может быть длина отрезка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Сумма вертикальных углов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О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О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образованных при пересечении прямых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равна 204°. Найдите угол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О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С помощью транспортира начертите угол, равный 78°, и проведите биссектрису смежного с ним уг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ариант I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Три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лежат на одной прямой.  Известно, что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N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15 см,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18 см. Каким может быть расстояние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К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Сумма вертикальных углов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АО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СО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образованных при пересечении прямых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А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равна 108°. Найдите угол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О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С помощью транспортира начертите угол, равный 132°, и проведите биссектрису одного из смежных с ним угл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115920"/>
            <a:ext cx="914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466221"/>
                </a:solidFill>
                <a:latin typeface="Calibri Light"/>
              </a:rPr>
              <a:t>КОНТРОЛЬНАЯ РАБОТА № 1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21T08:22:01Z</dcterms:modified>
  <cp:revision>48</cp:revision>
  <dc:subject/>
  <dc:title>Среднее арифметическое, размах и мода</dc:title>
</cp:coreProperties>
</file>