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40DA-BC30-4507-894A-992D1850B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5235-7211-4C10-99FE-6F873F04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DA88-1A9B-4687-A3FD-96D266D80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648E-B96F-4F95-A735-FD310C431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08143-8E38-4215-A5B5-2603AC3C2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FE24E-3A5E-42FA-82F5-4C81F9FC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F583-E533-45CD-A20B-8B1A40CAD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FCC1-7E7B-4D20-8306-F34642F7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DC30A-DEBB-4536-968C-7F4B0B88B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FB3C-761C-4817-8728-C828CE35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0D0D-B853-44A7-9CEA-59E43320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57B9-B9B3-43B7-B07A-6A532242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42B75-F18C-4839-B4D5-DE34B58A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C22CB-8FEE-4087-8EC6-B518E034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6842F-0DC6-4E7F-BEE9-047244B9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0DBC-3B99-424A-9A6E-DC1489508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85CD6-1753-4FFB-96E4-6125B2289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22AD9-4A9E-4A44-904B-E0D9F09A4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A2394-29FD-426D-A28B-60613324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49844-F186-49E1-80EE-3A0DFDF1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EA4654-2B86-4CCD-893A-DA8DD83A3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C88594-A4EC-4EEE-B5FC-65A66E9BC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58D3-0E7D-4640-97BB-C5C6DD875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BDA79-AE83-4FF1-9B26-AA10FA9C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065F34-23A1-48DD-8C24-0E50F9AD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31559-8716-46F3-8474-FD9726E6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58AD60-EB46-4813-8826-A959DBB8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A1394-2FC5-4FC2-8E8C-C6B130CE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44016A-4E28-4F38-9444-7136BFA02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862F2-9A5B-44EB-AA7E-332C7CBC2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56AA59-5776-4E2F-BB0B-34C661D35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D8D93-99F4-4727-BD46-C4972C163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72809-239D-46DB-9225-24B054F0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3093-5BE2-45C1-862C-D46D7B751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13513-E448-46D9-BE28-DB9359E25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B7AFB-AE4A-4A4F-82AD-57014AD8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8E7F45-F9C8-444A-8A2F-BFC0BAEE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89101-EA85-4FF2-A635-3CACF360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F2B44-B538-4DAA-BB56-9C1114DF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BADF9-4824-4F71-AB03-5B569F71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5D5B9-1508-4F0E-A69B-6B0FD44C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07AEEF-BA3A-4010-AA99-1A741321D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0F9BD-A367-45BA-86F2-A3B72F41C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D4039-9901-4B91-9522-6C30B91EC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5418-4F25-426D-BE32-2AE6845E4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A434A-57BD-4231-A021-9C0742AA4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079A31-4157-4D08-8E33-FB14CC61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2D692-3AFE-4608-B177-A595A1B5A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7129D-E88E-4ABD-B2D1-E16072CC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FC3DF-7318-4AD1-945B-50D10013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63FA1E-8110-42AD-BC1E-DAA4D193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22F57-1313-4518-B6E5-903CBF391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767420-1CAC-445E-8E6E-6E76197F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891EA-9956-4E0B-8842-E29526BB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07FD62-1947-4E5A-AF91-C1BDDD776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8B7D-D554-4EBE-AB7B-F5BD639A1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9DDA7-1341-4A54-ABB6-27AEF6B68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3D98-174B-4655-AC78-1AFB4335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A975-A1C7-4C99-8535-6CF821389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362C-AE7E-45CB-A037-509034CC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3E7255-8347-44D8-96C2-48C14474A69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095BA1-0636-4074-8BCD-18FC339716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94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5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6" name="Freeform 18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7" name="Freeform 19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8" name="Freeform 2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9" name="Freeform 2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1" name="Freeform 23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2" name="Freeform 24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-7920" y="-7920"/>
              <a:ext cx="86364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5AC062-E742-4727-B506-8E161C9AF7A9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4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47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48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4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5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56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8509A3-0758-4EA9-9D3F-B236F0189E57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0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01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02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03" name="Freeform 9"/>
            <p:cNvSpPr/>
            <p:nvPr/>
          </p:nvSpPr>
          <p:spPr>
            <a:xfrm>
              <a:off x="6891480" y="0"/>
              <a:ext cx="22701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04" name="Freeform 10"/>
            <p:cNvSpPr/>
            <p:nvPr/>
          </p:nvSpPr>
          <p:spPr>
            <a:xfrm>
              <a:off x="7205760" y="-7920"/>
              <a:ext cx="194796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05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06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07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08" name="Freeform 14"/>
            <p:cNvSpPr/>
            <p:nvPr/>
          </p:nvSpPr>
          <p:spPr>
            <a:xfrm>
              <a:off x="807732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09" name="Freeform 15"/>
            <p:cNvSpPr/>
            <p:nvPr/>
          </p:nvSpPr>
          <p:spPr>
            <a:xfrm>
              <a:off x="8060040" y="4894200"/>
              <a:ext cx="109512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10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23CC6C-4F88-4D09-8686-CC8373D0B111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280" y="1557360"/>
            <a:ext cx="748836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800" spc="-1" strike="noStrike">
                <a:solidFill>
                  <a:srgbClr val="90c226"/>
                </a:solidFill>
                <a:latin typeface="Trebuchet MS"/>
              </a:rPr>
              <a:t>Контрольная работа №1 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547280" y="4941360"/>
            <a:ext cx="4032360" cy="10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Алгебра 7 класс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316080" y="3068640"/>
            <a:ext cx="800100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100" spc="-1" strike="noStrike">
                <a:solidFill>
                  <a:srgbClr val="90c226"/>
                </a:solidFill>
                <a:latin typeface="Trebuchet MS"/>
              </a:rPr>
              <a:t>«Начальные геометрические сведения» </a:t>
            </a:r>
            <a:endParaRPr b="0" lang="en-US" sz="3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4"/>
          <p:cNvSpPr/>
          <p:nvPr/>
        </p:nvSpPr>
        <p:spPr>
          <a:xfrm>
            <a:off x="0" y="-408600"/>
            <a:ext cx="9144000" cy="81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Вариант I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1. Три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лежат на одной прямой.  Известно, что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ВD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= 17 см,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С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= 25 см. Какой может быть длина отрезка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ВС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2. Сумма вертикальных углов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МОЕ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ОС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, образованных при пересечении прямых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МС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DЕ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, равна 204°. Найдите угол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МОD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3. С помощью транспортира начертите угол, равный 78°, и проведите биссектрису смежного с ним угл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Вариант II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1. Три точки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М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лежат на одной прямой.  Известно, что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N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= 15 см,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NK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= 18 см. Каким может быть расстояние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МК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2. Сумма вертикальных углов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АОВ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СОD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, образованных при пересечении прямых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АD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и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ВС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, равна 108°. Найдите угол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ВОD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3. С помощью транспортира начертите угол, равный 132°, и проведите биссектрису одного из смежных с ним углов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0" y="115920"/>
            <a:ext cx="9144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466221"/>
                </a:solidFill>
                <a:latin typeface="Calibri Light"/>
              </a:rPr>
              <a:t>КОНТРОЛЬНАЯ РАБОТА № 1</a:t>
            </a:r>
            <a:endParaRPr b="0" lang="en-US" sz="27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6T15:13:31Z</dcterms:created>
  <dc:creator>Zver</dc:creator>
  <dc:description/>
  <dc:language>en-US</dc:language>
  <cp:lastModifiedBy>Татьяна</cp:lastModifiedBy>
  <dcterms:modified xsi:type="dcterms:W3CDTF">2017-10-21T08:22:01Z</dcterms:modified>
  <cp:revision>48</cp:revision>
  <dc:subject/>
  <dc:title>Среднее арифметическое, размах и мода</dc:title>
</cp:coreProperties>
</file>