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28D4-643A-4195-B6E8-3269405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85EC-40F1-4C22-A2E6-5BC0BAE1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44E2-0CF0-44A3-832F-29061ABB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5CF2-7FC2-46C9-B33F-68DEE1C1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9FB4-8122-4D9C-BD8B-8005866E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822-609A-467D-AB8F-803AFEAF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ADFD-E12A-4667-8191-18DA3A6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66FB-EA64-4038-903D-28238D8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B889-2EF2-46F8-983E-84163ED0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38BE-366F-4083-BCA9-89A1BA2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0607-BBB8-4893-921C-151A3C6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80A1-02BC-4810-B1C4-730B048D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2187-93A4-4807-BD91-B7FCD5E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C48-6079-44B0-98CF-6965AA7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48DE-A70B-4724-A791-6370EBF6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9794-3BAF-4CDE-AD5B-915554DE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DD26-B6A2-4302-8F0A-FB003AD5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6862-AC2C-4CAD-AB0C-DD1FE34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2953-CB37-4F93-B9F4-D0A04838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E1A4-895E-4F66-B6D5-44CDDBE6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2C94-1436-4D1B-A350-26A8A724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E682-FF6F-40F5-95B4-3E1D688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5671-3C4C-4DE6-B9E7-62BBDA48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3C61-AC6D-4B2C-A3E8-3005BDA6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B6C-35E1-4504-BAC9-D951467854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65D5-1E29-47E0-B634-9189EA0443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нтрольная работа №2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7684200" y="1890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E38-22C0-4813-9426-6383B831669A}" type="datetime"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extBox 67" descr=""/>
          <p:cNvPicPr/>
          <p:nvPr/>
        </p:nvPicPr>
        <p:blipFill>
          <a:blip r:embed="rId1"/>
          <a:stretch/>
        </p:blipFill>
        <p:spPr>
          <a:xfrm>
            <a:off x="189000" y="19080"/>
            <a:ext cx="4230720" cy="689940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81" descr=""/>
          <p:cNvPicPr/>
          <p:nvPr/>
        </p:nvPicPr>
        <p:blipFill>
          <a:blip r:embed="rId2"/>
          <a:stretch/>
        </p:blipFill>
        <p:spPr>
          <a:xfrm>
            <a:off x="4511520" y="19080"/>
            <a:ext cx="452304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2"/>
          <p:cNvSpPr/>
          <p:nvPr/>
        </p:nvSpPr>
        <p:spPr>
          <a:xfrm>
            <a:off x="7847640" y="1890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8CF-0885-40E5-875A-85AC237FA416}" type="datetime"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 Зверева</cp:lastModifiedBy>
  <dcterms:modified xsi:type="dcterms:W3CDTF">2017-10-25T21:10:11Z</dcterms:modified>
  <cp:revision>77</cp:revision>
  <dc:subject/>
  <dc:title>Среднее арифметическое, размах и мода</dc:title>
</cp:coreProperties>
</file>