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238F-C084-4F5D-8D40-CBA9CF86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4CCD-6489-4FDC-8F62-825F5FA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5C7E-C8C8-4A9B-95C0-D0084618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5C38-B7B2-453B-B484-589709BA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C1F0-3363-4327-8174-DFEE37B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6535-90B8-4B7D-815C-8F157E54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4913-4CE0-4139-8119-6F09DD1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B061-58EF-4CB9-804A-839B306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FBF3-C174-4CE4-96E1-A8B992FB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9B60-3C78-4C47-9E0A-AA706010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A949-AA1E-4BD9-A2F6-2AE15FD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7219-104D-4B19-892D-65902A52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DFCD-E60A-4CE0-B748-205C60E8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30C0-AF4A-4620-A88A-FC6956E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7DF7-1A2A-4018-8EF3-FBF0CB53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A064-E9D8-4567-AA61-0B117EDC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7305-3A77-4FC6-8D0F-C50841F3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CDBE-EE7F-40CC-945F-E1D7A05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CAFF-866F-4447-9CA4-8242C84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21BB-D958-45DB-AAA4-D39AE254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C82B-849D-4338-8D22-C9EFAC5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7978-4251-409F-93A4-75DF56F2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2954-96F8-4FB7-A685-DB11E62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E5BF-5A4D-4A12-BCED-84886729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12C-79DC-4D7B-898F-A70A3A0A01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5A2-0A86-4DDA-A654-420A4DBB9D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нтрольная работа №2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7684200" y="1890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3851-CB37-43A7-92E1-A9A94D121764}" type="datetime"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extBox 67" descr=""/>
          <p:cNvPicPr/>
          <p:nvPr/>
        </p:nvPicPr>
        <p:blipFill>
          <a:blip r:embed="rId1"/>
          <a:stretch/>
        </p:blipFill>
        <p:spPr>
          <a:xfrm>
            <a:off x="189000" y="19080"/>
            <a:ext cx="4230720" cy="6899400"/>
          </a:xfrm>
          <a:prstGeom prst="rect">
            <a:avLst/>
          </a:prstGeom>
          <a:ln w="0">
            <a:noFill/>
          </a:ln>
        </p:spPr>
      </p:pic>
      <p:pic>
        <p:nvPicPr>
          <p:cNvPr id="111" name="TextBox 81" descr=""/>
          <p:cNvPicPr/>
          <p:nvPr/>
        </p:nvPicPr>
        <p:blipFill>
          <a:blip r:embed="rId2"/>
          <a:stretch/>
        </p:blipFill>
        <p:spPr>
          <a:xfrm>
            <a:off x="4511520" y="19080"/>
            <a:ext cx="452304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2"/>
          <p:cNvSpPr/>
          <p:nvPr/>
        </p:nvSpPr>
        <p:spPr>
          <a:xfrm>
            <a:off x="7847640" y="1890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79E-C54A-4E89-BE6E-B8E53FC588D0}" type="datetime"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 Зверева</cp:lastModifiedBy>
  <dcterms:modified xsi:type="dcterms:W3CDTF">2017-10-25T21:10:11Z</dcterms:modified>
  <cp:revision>77</cp:revision>
  <dc:subject/>
  <dc:title>Среднее арифметическое, размах и мода</dc:title>
</cp:coreProperties>
</file>