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DAD7-AFC2-4773-9355-C4D75B397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ма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ош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л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п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по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E644-52CC-4357-8317-1EFB2A1C5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F695-79E8-4A47-8006-49FE1FF5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5EE3-4450-43B2-B584-B92B593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0E0E-20BE-4DF1-A78F-4DF858FB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B4FB-7728-4959-8661-B7A71CD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0D1-C762-484B-8258-022AC2A7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D24-4489-42D9-B408-EA3351E5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AC21-72BE-46D9-829D-514E4EEE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0A2A-9B48-46DE-B0F2-73A2091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02D5-8B7F-41AE-BEF8-4DAA3A95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85B1-6FE4-4297-80C6-66D93892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3BA-51AF-4215-B62D-098A0135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23E4-5AD6-4182-A8F1-0088F07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430-FFA5-42CD-B8ED-366AE78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31BA-E0FB-4D30-9F33-C5FE7294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A6BC-5C47-4631-B093-492D7C9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60A4-0643-4C7F-A7B2-2619C807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C487-461F-432F-8221-FC6EB6A7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C879-ABF6-4A2F-AEEB-5D0A8E4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1964-648C-4446-99A3-2A544CEB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E073-A3BF-4A2C-AB64-5BBDB218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7AC3-5617-49D8-89A7-551DF8C2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553A-D248-47B5-A01D-0D95751C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09C0-1D4E-4993-8DFA-4422632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3CD2-04FC-4974-9EEE-AF6F3AD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6278-72A0-4253-B90B-004FC44548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FD9-5A8A-402A-A25B-E9000B13C8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47640" y="182880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едиана, как статистическая характеристик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 п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9640" y="90792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ы ря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636480" y="162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, 1, 8, 5, 1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18" descr=""/>
          <p:cNvPicPr/>
          <p:nvPr/>
        </p:nvPicPr>
        <p:blipFill>
          <a:blip r:embed="rId1"/>
          <a:stretch/>
        </p:blipFill>
        <p:spPr>
          <a:xfrm>
            <a:off x="658800" y="2346480"/>
            <a:ext cx="7704000" cy="79344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19" descr=""/>
          <p:cNvPicPr/>
          <p:nvPr/>
        </p:nvPicPr>
        <p:blipFill>
          <a:blip r:embed="rId2"/>
          <a:stretch/>
        </p:blipFill>
        <p:spPr>
          <a:xfrm>
            <a:off x="682560" y="3213000"/>
            <a:ext cx="7705800" cy="798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636480" y="4422600"/>
            <a:ext cx="8183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ах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 кажд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88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оверочная 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6"/>
          <p:cNvGrpSpPr/>
          <p:nvPr/>
        </p:nvGrpSpPr>
        <p:grpSpPr>
          <a:xfrm>
            <a:off x="66600" y="991440"/>
            <a:ext cx="9001080" cy="6147360"/>
            <a:chOff x="66600" y="991440"/>
            <a:chExt cx="9001080" cy="6147360"/>
          </a:xfrm>
        </p:grpSpPr>
        <p:sp>
          <p:nvSpPr>
            <p:cNvPr id="124" name="Rectangle 2"/>
            <p:cNvSpPr/>
            <p:nvPr/>
          </p:nvSpPr>
          <p:spPr>
            <a:xfrm>
              <a:off x="66600" y="991440"/>
              <a:ext cx="450036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ариан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. В таблице приведен возраст сотрудников одного из отделов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ите среднее арифметическое, размах и моду этого ря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*. Постройте ряд из четырех чисел, у которого размах равен 2, а среднее арифметическое равно мод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"/>
            <p:cNvSpPr/>
            <p:nvPr/>
          </p:nvSpPr>
          <p:spPr>
            <a:xfrm>
              <a:off x="4566960" y="1009800"/>
              <a:ext cx="450072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ариан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аблице приведено количество очков, набранных в чемпионате некоторыми баскетболист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ите среднее арифметическое, размах и моду этого ря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*. Постройте ряд из четырех чисел, у которого размах равен 2, а среднее арифметическое в два раза больше мод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322920" y="2493000"/>
              <a:ext cx="3091320" cy="23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Рисунок 5" descr=""/>
            <p:cNvPicPr/>
            <p:nvPr/>
          </p:nvPicPr>
          <p:blipFill>
            <a:blip r:embed="rId2"/>
            <a:stretch/>
          </p:blipFill>
          <p:spPr>
            <a:xfrm>
              <a:off x="5201640" y="2493000"/>
              <a:ext cx="3231360" cy="234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557600" y="4905360"/>
            <a:ext cx="378000" cy="1176480"/>
          </a:xfrm>
          <a:prstGeom prst="downArrow">
            <a:avLst>
              <a:gd name="adj1" fmla="val 50000"/>
              <a:gd name="adj2" fmla="val 7781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2757600"/>
          <a:ext cx="8039160" cy="1603440"/>
        </p:xfrm>
        <a:graphic>
          <a:graphicData uri="http://schemas.openxmlformats.org/drawingml/2006/table">
            <a:tbl>
              <a:tblPr/>
              <a:tblGrid>
                <a:gridCol w="255276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кварт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электроэнергии, кВт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9"/>
          <p:cNvSpPr/>
          <p:nvPr/>
        </p:nvSpPr>
        <p:spPr>
          <a:xfrm>
            <a:off x="436680" y="206676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ход электроэнергии жильцами 9 кварти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515520" y="458460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орядоченный р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1667520" y="5173560"/>
            <a:ext cx="60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4,  72,  72,  75,  78,  82,  85,  91, 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3856680" y="60292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471200">
            <a:off x="4822920" y="4927680"/>
            <a:ext cx="377640" cy="944640"/>
          </a:xfrm>
          <a:prstGeom prst="downArrow">
            <a:avLst>
              <a:gd name="adj1" fmla="val 50000"/>
              <a:gd name="adj2" fmla="val 6253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9911000">
            <a:off x="4209840" y="4974840"/>
            <a:ext cx="377640" cy="928800"/>
          </a:xfrm>
          <a:prstGeom prst="downArrow">
            <a:avLst>
              <a:gd name="adj1" fmla="val 50000"/>
              <a:gd name="adj2" fmla="val 614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2757600"/>
          <a:ext cx="8067960" cy="1603440"/>
        </p:xfrm>
        <a:graphic>
          <a:graphicData uri="http://schemas.openxmlformats.org/drawingml/2006/table">
            <a:tbl>
              <a:tblPr/>
              <a:tblGrid>
                <a:gridCol w="2381400"/>
                <a:gridCol w="568440"/>
                <a:gridCol w="568080"/>
                <a:gridCol w="569880"/>
                <a:gridCol w="568440"/>
                <a:gridCol w="568440"/>
                <a:gridCol w="568080"/>
                <a:gridCol w="568440"/>
                <a:gridCol w="569880"/>
                <a:gridCol w="568440"/>
                <a:gridCol w="568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кварт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электроэнергии, кВт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3"/>
          <p:cNvSpPr/>
          <p:nvPr/>
        </p:nvSpPr>
        <p:spPr>
          <a:xfrm>
            <a:off x="432720" y="2066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ход электроэнергии жильцами 10 кварти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515520" y="458460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орядоченный ря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1321200" y="514512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4,  72,  72,  75,  78,  82,  85,  88,  91,  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3900960" y="61452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189720" y="5869080"/>
            <a:ext cx="42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чисе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4428360" y="58118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e69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Найдите медиану ряда чисе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, 3, 4, 5,  6, 7, 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на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9, 8, 7, 6, 5, 4, 3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ана ря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(6+5):2 = 5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8 ( 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йдите среднее арифметическое, размах, моду  ряда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15, 23, 15, 8, 25, 16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-2, 35, -10, 42, 35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йдите медиану ряда чисе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5, 43, 44, 51, 55, 67, 72;                           б) 3, 12, 24, 32, 43, 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ерешкова_М_В</cp:lastModifiedBy>
  <dcterms:modified xsi:type="dcterms:W3CDTF">2017-10-18T08:27:59Z</dcterms:modified>
  <cp:revision>40</cp:revision>
  <dc:subject/>
  <dc:title>Среднее арифметическое, размах и мода</dc:title>
</cp:coreProperties>
</file>