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AF53-C860-4672-88D0-D085A73BA9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мил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ра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шмач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ош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блу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п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поч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B893-7047-43A2-8E60-47F2A9E74D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80533-6132-4ED2-B20D-E422906E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E9A84-97C6-4857-A578-EA4347BA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864A3-9538-43B9-882D-D9CE06AA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E82F1-9727-43B4-AE31-E2C1D5FE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F65B-F231-498A-8BA2-BFAE8202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76F4-1FCD-4E62-B6E2-3EE89A01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0388-6443-4E11-9CF1-3D7DD901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809D-A4B1-405D-BA56-55041ECF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B823-D19F-4A59-A515-E5C9885E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B371-F61A-4149-B412-C618F549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EBCB-F0C2-4254-9177-817562B4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32DAF-531E-487D-9614-4A3647B9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73F0-BFD9-485F-B44C-2B62B7AA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2FAD-1B70-4A2E-A011-306C48DC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1C45-CB03-40DE-BFEC-4C9E02BC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DB0C-0BC0-4DBA-AB2C-F01B716B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9846-5617-4257-BC7A-2CEBD383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317C3-8343-4275-BF80-5405E619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E49E5-AA48-48A8-82EA-DAB262D2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453C9-8504-494C-B52D-AEFEEAF9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3D376-84CA-429D-9E25-2622A55A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01008-F307-4BEF-88A7-C6AED3BC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FCCB0-D717-46A9-B6EE-3252FDC5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E861F-B9EF-4D2E-8ED4-16D41926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68B5-1CBF-444B-B243-3FFD0C45FCC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3521-1131-4CEC-86E3-95DE4AB4611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47640" y="1828800"/>
            <a:ext cx="5977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Медиана, как статистическая характеристик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547280" y="4941360"/>
            <a:ext cx="4032360" cy="10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Алгебра 7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0001-001-Sinonimy"/>
          <p:cNvPicPr/>
          <p:nvPr/>
        </p:nvPicPr>
        <p:blipFill>
          <a:blip r:embed="rId1"/>
          <a:stretch/>
        </p:blipFill>
        <p:spPr>
          <a:xfrm>
            <a:off x="6012000" y="4221000"/>
            <a:ext cx="313200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4 п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41"/>
          <p:cNvPicPr/>
          <p:nvPr/>
        </p:nvPicPr>
        <p:blipFill>
          <a:blip r:embed="rId1"/>
          <a:stretch/>
        </p:blipFill>
        <p:spPr>
          <a:xfrm>
            <a:off x="5364000" y="2997360"/>
            <a:ext cx="31258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539640" y="90792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ы ряд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7"/>
          <p:cNvSpPr/>
          <p:nvPr/>
        </p:nvSpPr>
        <p:spPr>
          <a:xfrm>
            <a:off x="636480" y="162864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, 1, 8, 5, 1,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TextBox 18" descr=""/>
          <p:cNvPicPr/>
          <p:nvPr/>
        </p:nvPicPr>
        <p:blipFill>
          <a:blip r:embed="rId1"/>
          <a:stretch/>
        </p:blipFill>
        <p:spPr>
          <a:xfrm>
            <a:off x="658800" y="2346480"/>
            <a:ext cx="7704000" cy="793440"/>
          </a:xfrm>
          <a:prstGeom prst="rect">
            <a:avLst/>
          </a:prstGeom>
          <a:ln w="0">
            <a:noFill/>
          </a:ln>
        </p:spPr>
      </p:pic>
      <p:pic>
        <p:nvPicPr>
          <p:cNvPr id="120" name="TextBox 19" descr=""/>
          <p:cNvPicPr/>
          <p:nvPr/>
        </p:nvPicPr>
        <p:blipFill>
          <a:blip r:embed="rId2"/>
          <a:stretch/>
        </p:blipFill>
        <p:spPr>
          <a:xfrm>
            <a:off x="682560" y="3213000"/>
            <a:ext cx="7705800" cy="7984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0"/>
          <p:cNvSpPr/>
          <p:nvPr/>
        </p:nvSpPr>
        <p:spPr>
          <a:xfrm>
            <a:off x="636480" y="4422600"/>
            <a:ext cx="81835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ьшее и наименьшее значения каждого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ах каждого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у каждого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888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Проверочная работа в тетрад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Группа 6"/>
          <p:cNvGrpSpPr/>
          <p:nvPr/>
        </p:nvGrpSpPr>
        <p:grpSpPr>
          <a:xfrm>
            <a:off x="66600" y="991440"/>
            <a:ext cx="9001080" cy="6147360"/>
            <a:chOff x="66600" y="991440"/>
            <a:chExt cx="9001080" cy="6147360"/>
          </a:xfrm>
        </p:grpSpPr>
        <p:sp>
          <p:nvSpPr>
            <p:cNvPr id="124" name="Rectangle 2"/>
            <p:cNvSpPr/>
            <p:nvPr/>
          </p:nvSpPr>
          <p:spPr>
            <a:xfrm>
              <a:off x="66600" y="991440"/>
              <a:ext cx="4500360" cy="55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ариант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. В таблице приведен возраст сотрудников одного из отделов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йдите среднее арифметическое, размах и моду этого ряд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*. Постройте ряд из четырех чисел, у которого размах равен 2, а среднее арифметическое равно мод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"/>
            <p:cNvSpPr/>
            <p:nvPr/>
          </p:nvSpPr>
          <p:spPr>
            <a:xfrm>
              <a:off x="4566960" y="1009800"/>
              <a:ext cx="4500720" cy="61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ариант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 таблице приведено количество очков, набранных в чемпионате некоторыми баскетболистам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йдите среднее арифметическое, размах и моду этого ряд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*. Постройте ряд из четырех чисел, у которого размах равен 2, а среднее арифметическое в два раза больше мод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Рисунок 3" descr=""/>
            <p:cNvPicPr/>
            <p:nvPr/>
          </p:nvPicPr>
          <p:blipFill>
            <a:blip r:embed="rId1"/>
            <a:stretch/>
          </p:blipFill>
          <p:spPr>
            <a:xfrm>
              <a:off x="322920" y="2493000"/>
              <a:ext cx="3091320" cy="234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Рисунок 5" descr=""/>
            <p:cNvPicPr/>
            <p:nvPr/>
          </p:nvPicPr>
          <p:blipFill>
            <a:blip r:embed="rId2"/>
            <a:stretch/>
          </p:blipFill>
          <p:spPr>
            <a:xfrm>
              <a:off x="5201640" y="2493000"/>
              <a:ext cx="3231360" cy="234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4557600" y="4905360"/>
            <a:ext cx="378000" cy="1176480"/>
          </a:xfrm>
          <a:prstGeom prst="downArrow">
            <a:avLst>
              <a:gd name="adj1" fmla="val 50000"/>
              <a:gd name="adj2" fmla="val 7781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Меди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09480" y="2757600"/>
          <a:ext cx="8039160" cy="1603440"/>
        </p:xfrm>
        <a:graphic>
          <a:graphicData uri="http://schemas.openxmlformats.org/drawingml/2006/table">
            <a:tbl>
              <a:tblPr/>
              <a:tblGrid>
                <a:gridCol w="255276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а кварт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 электроэнергии, кВтч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39"/>
          <p:cNvSpPr/>
          <p:nvPr/>
        </p:nvSpPr>
        <p:spPr>
          <a:xfrm>
            <a:off x="436680" y="2066760"/>
            <a:ext cx="58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сход электроэнергии жильцами 9 кварти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0"/>
          <p:cNvSpPr/>
          <p:nvPr/>
        </p:nvSpPr>
        <p:spPr>
          <a:xfrm>
            <a:off x="515520" y="4584600"/>
            <a:ext cx="28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порядоченный ря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1"/>
          <p:cNvSpPr/>
          <p:nvPr/>
        </p:nvSpPr>
        <p:spPr>
          <a:xfrm>
            <a:off x="1667520" y="5173560"/>
            <a:ext cx="607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64,  72,  72,  75,  78,  82,  85,  91,  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3856680" y="602928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e69"/>
                </a:solidFill>
                <a:latin typeface="Tahoma"/>
              </a:rPr>
              <a:t>Меди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 rot="1471200">
            <a:off x="4822920" y="4927680"/>
            <a:ext cx="377640" cy="944640"/>
          </a:xfrm>
          <a:prstGeom prst="downArrow">
            <a:avLst>
              <a:gd name="adj1" fmla="val 50000"/>
              <a:gd name="adj2" fmla="val 62536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 rot="19911000">
            <a:off x="4209840" y="4974840"/>
            <a:ext cx="377640" cy="928800"/>
          </a:xfrm>
          <a:prstGeom prst="downArrow">
            <a:avLst>
              <a:gd name="adj1" fmla="val 50000"/>
              <a:gd name="adj2" fmla="val 614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Меди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09480" y="2757600"/>
          <a:ext cx="8067960" cy="1603440"/>
        </p:xfrm>
        <a:graphic>
          <a:graphicData uri="http://schemas.openxmlformats.org/drawingml/2006/table">
            <a:tbl>
              <a:tblPr/>
              <a:tblGrid>
                <a:gridCol w="2381400"/>
                <a:gridCol w="568440"/>
                <a:gridCol w="568080"/>
                <a:gridCol w="569880"/>
                <a:gridCol w="568440"/>
                <a:gridCol w="568440"/>
                <a:gridCol w="568080"/>
                <a:gridCol w="568440"/>
                <a:gridCol w="569880"/>
                <a:gridCol w="568440"/>
                <a:gridCol w="568440"/>
              </a:tblGrid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а кварт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 электроэнергии, кВтч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 Box 43"/>
          <p:cNvSpPr/>
          <p:nvPr/>
        </p:nvSpPr>
        <p:spPr>
          <a:xfrm>
            <a:off x="432720" y="2066760"/>
            <a:ext cx="599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сход электроэнергии жильцами 10 кварти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4"/>
          <p:cNvSpPr/>
          <p:nvPr/>
        </p:nvSpPr>
        <p:spPr>
          <a:xfrm>
            <a:off x="515520" y="4584600"/>
            <a:ext cx="28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порядоченный ря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5"/>
          <p:cNvSpPr/>
          <p:nvPr/>
        </p:nvSpPr>
        <p:spPr>
          <a:xfrm>
            <a:off x="1321200" y="5145120"/>
            <a:ext cx="675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64,  72,  72,  75,  78,  82,  85,  88,  91,  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6"/>
          <p:cNvSpPr/>
          <p:nvPr/>
        </p:nvSpPr>
        <p:spPr>
          <a:xfrm>
            <a:off x="3900960" y="614520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e69"/>
                </a:solidFill>
                <a:latin typeface="Tahoma"/>
              </a:rPr>
              <a:t>Меди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7"/>
          <p:cNvSpPr/>
          <p:nvPr/>
        </p:nvSpPr>
        <p:spPr>
          <a:xfrm>
            <a:off x="189720" y="5869080"/>
            <a:ext cx="42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еднее арифметическое чисе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8"/>
          <p:cNvSpPr/>
          <p:nvPr/>
        </p:nvSpPr>
        <p:spPr>
          <a:xfrm>
            <a:off x="4428360" y="58118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e69"/>
                </a:solidFill>
                <a:latin typeface="Tahoma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4000" y="620280"/>
            <a:ext cx="614052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0001-001-Sinonimy"/>
          <p:cNvPicPr/>
          <p:nvPr/>
        </p:nvPicPr>
        <p:blipFill>
          <a:blip r:embed="rId1"/>
          <a:stretch/>
        </p:blipFill>
        <p:spPr>
          <a:xfrm>
            <a:off x="5076720" y="3141720"/>
            <a:ext cx="406728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Найдите медиану ряда чисе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2, 3, 4, 5,  6, 7, 8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иана ря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9, 8, 7, 6, 5, 4, 3,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иана ряд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(6+5):2 = 5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Работа по теме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8 ( уст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Найдите среднее арифметическое, размах, моду  ряда чисе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15, 23, 15, 8, 25, 16;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-2, 35, -10, 42, 35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Найдите медиану ряда чисел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25, 43, 44, 51, 55, 67, 72;                           б) 3, 12, 24, 32, 43, 5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5:13:31Z</dcterms:created>
  <dc:creator>Zver</dc:creator>
  <dc:description/>
  <dc:language>en-US</dc:language>
  <cp:lastModifiedBy>Терешкова_М_В</cp:lastModifiedBy>
  <dcterms:modified xsi:type="dcterms:W3CDTF">2017-10-18T08:27:59Z</dcterms:modified>
  <cp:revision>40</cp:revision>
  <dc:subject/>
  <dc:title>Среднее арифметическое, размах и мода</dc:title>
</cp:coreProperties>
</file>