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58A-C5BB-4A33-BA56-F06DAA71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8FB-F100-439E-BDB0-7568196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62E-249D-435C-AA81-906D2326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3FB-DA74-415A-BBD7-690C648A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62F-F3A5-4BDF-81BD-EF462A72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1FAF-AF6C-4220-B9FC-A93EB3D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16A9-C082-493C-B869-50B703A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0A8C-C87D-4EB1-A470-7EF7ABC1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2D3-6842-48C5-A662-5A55179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5D1-46F5-4732-89A7-1527C1E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4440-4D63-4075-8813-66B6C5D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F81-A42C-4F45-A58C-2CCFE591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E777-CBCC-4DF4-B270-AC98EC3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DF0-8C17-4987-9951-0741E4D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AFF-5772-4494-8E0C-45D99DD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2FB3-01C6-4E60-AA3E-7AAFD924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215-063C-4CC0-8A6F-5F65A61B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468-A27D-4E4C-946D-0176431D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1CE-7CD8-4CBE-86EE-1A6E15E4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05B-F067-431A-B23E-2AE165D5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149-C8B0-484A-992C-8BD45B2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4CB-C23A-4289-BE1B-34103A2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8F4-AE16-4421-976C-12AD06D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BD9-564E-433B-9FB6-9EAFFF7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A7CDE2-FC20-4E2D-B91D-47B4B4CEE8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223DA-A103-4766-B645-81D8C36850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proshkolu.ru/user/kuchina57/file/231311/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2109960" cy="3343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14960" cy="158292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емственность в обучении учащихся русскому языку и литературе между начальным и средним звеном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564000" y="2491920"/>
            <a:ext cx="485928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ыступление перед учителя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 начальной шко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79640" y="378936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9280" y="5516640"/>
            <a:ext cx="8713800" cy="1152360"/>
          </a:xfrm>
          <a:prstGeom prst="rect">
            <a:avLst/>
          </a:prstGeom>
          <a:solidFill>
            <a:srgbClr val="66ffff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тор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зких А.Н,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литерату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СШ № 6», г. Нижневартовск, 201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0080" cy="1353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ереход в пятый класс - испытани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только для школьников, но и для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ход в пятый класс - это своеобразное испытание не только для школьников, но и для педагог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лассному руководителю необходимо за короткое время узнать детей и их семьи, научиться эффективно управлять деятельностью учащихся, быть их проводником и наставник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56360" y="55054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57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ветственность учителя начально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ю начальной школы предстоит доказать, что он хорошо подготовил школьников к обучению в старшем звене и вооружил их всеми необходимыми знаниями, умениями, навыками, как учебными, так и общеучебным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ход учащихся из начальной школы в основную, предусматривает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ри этап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дготовительный, адаптационный,  стабилизационный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443640" y="5445000"/>
            <a:ext cx="1441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6960" y="333000"/>
            <a:ext cx="7115040" cy="93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ОЖНОСТЬ ПЕРЕХОДА ИЗ начальной школы в основну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учителей начального  звена работа заключается прежде всего в подготовке к переходу в основную школу.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роблема заключается в том, что учител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чальных классов имеют определенный стаж и опыт работы по внедрению ФГОС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 педагоги-предметники начинают освоение новой для них программы, внедрение технологий ФГОС среднего зве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работы по преемственности во многом облегчает переход на новые ФГОС, активизирует методическую работу, обнаруживает скрытые резер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лектива школ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32720" y="5578560"/>
            <a:ext cx="12794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ной принцип дидактики – принцип преемств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усский язык и литература – одни из наиболее сложных и трудоёмких предметов в курсе средней школы, поэтому соблюдение принципа преемственности необходимо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56360" y="5229360"/>
            <a:ext cx="18669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128000" cy="82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 программе по рус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для 5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4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программах по русскому языку как в начальном звене, так и в средних классах уделяется особое внимание систематической работе над формированием орфографической грамотности учащихся. В целом программа четвёртого класса ориентирована на то, чтобы обеспечить готовность учащихся к успешному продолжению занятий языком и реч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редней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2374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8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к группируется материал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5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аемый материал группируется вокруг понятий: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екст, предложение, словосочетание, слов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Знакомство с частями речи завершается изучением склонения имён существительных и прилагательных, спряжением глаголов, что сочетается с ознакомлением (на практическом уровне) со способами проверки правописания безударных падежных окончаний всех частей речи (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кроме существительных на –мя, -ий, -ие, -ия и прилагательных с основой на шипящие и ц)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центре внимания находится формирование способа действия, который должен обеспечить правильное письмо. Для общего знакомства учащимся даётся наречие, это вызвано частотностью данной части речи, её практической необходимостью учащим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9928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 группируется материал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 5 класс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ью рассмотрения частей речи в 5 классе  является внимание к синтаксическим связям, к построению словосочетаний и специфике «поведения» в них слов, относящихся к разным частям речи. Учащиеся осваивают постановку двух типов вопросов, задаваемых к имени существительному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«по форме», «по смыслу»)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точняют назначение каждого из них (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знать падеж зависимого слова или понять значение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анной работе придаётся большое значение с точки зрения развития речи детей – повышения её правильности, точности, богатства и выразительности.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нания учащихся о предложении расширяются за счёт знакомства с однородными член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12000" y="5734080"/>
            <a:ext cx="992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161120" cy="97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еемственность в преподавании литер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реподавании литературы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ослеживается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еемственность учебного материа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Курс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 класс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начинается с изучения произведений устного народного творчества. Сохраняется принцип преемственности в изучении творчества таких писателей,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как А.С.Пушкин, И.С. Тургенев, И.А. Крылов , Х.К.Андерсен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 мы сталкиваемся с несоответствием программ начальной и средней школы. По литературе требуется,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о-первых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достаточная для понимания прочитанног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корость чтен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о-вторых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большой запас лексики. Сказки, рассказы, стихи в учебниках начальной школы содержат простую лексику,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 в 5 классе лексика сложная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задания требуют анализа текста, работы с дополнительными источниками, выполнения разного рода творческих рабо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12000" y="5516640"/>
            <a:ext cx="919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7016760" cy="61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82720"/>
            <a:ext cx="87138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анализировав программы и учебники по русскому языку и литературному чтени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литературе) (4 – 5 классы),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редлагаю учителям ряд методических рекомендац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по преемственности преподавания начальная школа - пятый клас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1) давать учащимся задания по работе с толковым словарём; готовить разные виды пересказа, создавать мини – проекты, мини – сочинения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2) углублять, обогащать и увеличивать словарный запас учащих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обое внимание обратить на построение предложений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то то, что …. Снижать оценку за несоблюдение норм речи, повторов одних и тех слов типа: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Герасим он был немой; В этом рассказе рассказываетс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) Отработать навык выразительного чтения и правильного, внятного произношения слов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3) сформировать у детей потребность обращения к словарю как к справочнику того или иного вида, находить ответы на сложные вопросы в Интернете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5950080"/>
            <a:ext cx="1152360" cy="50328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137440" cy="5745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о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учать школьников начинать работать на уроке по звонку, быстро включаться в выполнение заданий, не давать отдельным ученикам дополнительного времени на выполнение контрольных и проверочных работ, заканчивать урок со звонк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Использовать формы и методы организации занятий, требующие от каждого ученика активного и осознанного участия, в том числе парной и групповой работ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Предлагать учащимся задания по работе со справочниками и словарями, приучать готовить сообщения, рассказы по дополнительным материала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лавная задача начальных классо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НАУЧИТЬ РЕБЁНКА УЧИТЬ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75%</a:t>
            </a:r>
            <a:r>
              <a:rPr b="1" lang="ru-RU" sz="2500" spc="-1" strike="noStrike">
                <a:solidFill>
                  <a:srgbClr val="000099"/>
                </a:solidFill>
                <a:latin typeface="Comic Sans MS"/>
              </a:rPr>
              <a:t> второклассников не смогли составить                                                                                                     из     слов</a:t>
            </a: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 предложение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сьбе Минобрнаук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торых класс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и проверочные работ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ольшинство написали хорошо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4-5, но 7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нтов не справились с заданием составить из набранных слов предлож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значит, что мы потеряли не просто любовь к чтению, а функциональное чтение. Отсюда и зубрежка, - подчеркнула министр образования и науки Ольга Васильева на форуме "Возвращение русской классики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примеров того, как современные школьники знают классическую литературу. "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таша Ростова - героиня Тургенева", "Печорин - главный герой "Мертвых душ" (еще варианты - "Отцов и детей", "кого-то из Пушкина"), "Бесов" написал Лермонтов (Некрасов, Пушкин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сьбу продолжить фразу из басни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"Кукушка хвалит петуха за то, что...", школьники и студенты дали такие ответы : "он рано встает", "поет не очень". А когда их попросили назвать самые известные произведения Чехонте, ответы были такими: "Мцыри", "Собачье сердце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контрольную или проверочную работу сложно. Для этого надо трудиться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7345440" cy="850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ых классов и учителям – предметн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912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раньше узнать учителей-предметников и классного руководителя будущих 5 - 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уроко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-ом класс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ями-предметниками, классным руководителем -внеклассных мероприят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учебных программ: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начальных классов должен знать программу 5 класса. Учитель-предметник среднего звена должен начинать работу в 5 классе, только изучив программу начальной школы, чтобы правильно организовать повторение материала, изученного в начальной школе,  и разработать систему мер по дальнейшему формированию новых учебных знаний и ум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резкого снижения успеваемости, учителям среднего звена в I четверти надо оценивать учебную деятельность пятиклассников по критериям оценок начальной школы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1 четверти не ставить «2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5589720"/>
            <a:ext cx="1274760" cy="914400"/>
          </a:xfrm>
          <a:custGeom>
            <a:avLst/>
            <a:gdLst>
              <a:gd name="textAreaLeft" fmla="*/ 290880 w 1274760"/>
              <a:gd name="textAreaRight" fmla="*/ 983880 w 12747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016760" cy="75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ых классов и учителям – предметн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848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резовых рабо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-х класс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исутствии учителей среднего звена и совместный анализ проведенных рабо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ого собр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возрастными особенностями младших 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уровня работоспособ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блюдение, пробные уроки 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истемы работы учителя начальных классов: формы и методы организации учебной деятельности учащихся, стиль общения и т.п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учителем 4 класса уроков учителей-предмет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го письм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нтроль и оценка результатов обучения в начальной школе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1052640"/>
            <a:ext cx="864216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о согласовать требования всех учителей-предме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делять особое внимание организации учебного процесса школьн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готовность к урок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наличие необходимых учебно-письменных принадлежностей, порядок на парте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 3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ьность оформления тетради, различных видов работ; требования к ведению дне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Урок заканчивать со звонком, не задержива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Домашнее задание не оставлять на самый конец урока - его над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окомментир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дать инструкции по оформ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обходимо помнить правил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машняя работа должна приносить чувство удовлетворения ученику, стимулировать успех. Не перегружайте детей заданиями, дифференцир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-72360"/>
            <a:ext cx="8158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33360"/>
            <a:ext cx="8642160" cy="69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И УЧИТЕЛЮ, РАБОТА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 ПЯТИКЛАСС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260280"/>
            <a:ext cx="850752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И УЧИТЕЛЮ, РАБОТА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ЯТИКЛАСС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-предметник должен помнить, что урок в 5-м классе должен быть с частой сменой видов деятельности, включая физмину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Новые виды учебной деятельности должны сопровождаться чёткими  инструк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Учащиеся должны знать свои права и обязанности, правила поведения в кабинетах, правила по технике безопасност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Задача учителя - знать затруднения учащихся в усвоении учебного материала,  своевременно прийти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9. Не забывайт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«Ученик и учитель - союзники. Обучение должно быть бесконфликтн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-648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404640"/>
            <a:ext cx="969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61080" cy="12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и определении школьной стратегии организации адаптационного периода, педагогический коллектив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должен обратить внимание на следующе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13744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рок остается основной, но не единственной формой организации учебного процесса учащихся в 5-6 классе. На уроке ученику предоставляется право работать в собственном темпе.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ажно использовать другие формы организации обуч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кскурсии, цель которых расширение чувственного опыта детей, формирование умений наблюдать, на основе наблюдений самостоятельно делать вывод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гру (дидактическую и ролевую), необходимую для развития умения действовать в соответствии с правилами, сотрудничать, предвидеть последствия своих действий и др.,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спуты (дискуссии) с целью развития умений дискутировать, отстаивать свое мнение, приводить аргумент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343640" cy="115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ажно использовать другие формы организации обуче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0872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аботы как необходимое условие развития умений планировать свою деятельность, ставить цели и реализовывать их, использовать полученные теоретические сведения в практической деятельности;   мини-лекции с целью формирования умений концентрировать внимание, воспринимать на слух  достаточно длительный по времени текст, следить за логикой и последовательностью изложения учебного материала и др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формы обучения. Следует помнить о том, что в подростковом возрасте ведущей деятельностью для школьников становится деятельность общения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ритеты от учителя и родителей перемещаются к сверстникам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перь именно они становятся наиболее значимыми в жизни подростка, в том числе и пятиклассника. Ребята хотят взаимодействовать со сверстниками и в учебной деятельности. Они с удовольствием работают в больших и малых группах, парах, парах сменного состава. Кроме того, позитивные отношения к сверстнику они переносят и на педагога, способного организовать значимое для школьников общ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488360" cy="504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и трудности школьного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7921800" cy="45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гда речь идет о проблемах и трудностях школьного обучения, большинство педагогов и родителей видят лишь внешние стороны: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ребенок устает, он перегружен, программы несовершенны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Все это верно. Увеличение количества предметов и часовой нагрузки резко повышают потребность в адаптационном потенциале ребенка. Даже физически крепкому ученику довольно сложно высиживать по шесть уроков ежеднев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обходимо дать себе отчет: а каков мой ребенок? Чего он хочет и к чему стремится? Где нужно его подтолкнуть, ни в коем случае не ломая? А ломают детей и в школе, и в семье, забывая основной принцип воспитания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родосоответств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77708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и трудности школьного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848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едующий аспект проблемы кроется в самом ребенке. Старательный ученик, привыкший учить и выполнять всё, что задано, не в силах самостоятельно справиться с увеличивающимся объемом зада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Кроме того, в 5 классе от него требуется не только старательность и усидчивость, а умение сортировать и логически обобщать материа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627680" cy="719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всегда создаётся ситуация успе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10920" y="1341000"/>
            <a:ext cx="57610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ятиклассники еще очень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нуждаются в позитивных отзывах педагога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Ситуация успеха и эмоциональные переживания, связанные с ней, продолжают оставаться действенными мотивами для успешного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16574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4072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пятиклассни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28180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асто с переходом в пятый класс учителя отмечают небрежность записей в рабочих тетрадях, отсутствие необходимых учебных принадлежностей на уроках, записей с номерами домашних заданий и, как результат, отсутствие и самих домашних работ. На это влияют многие факторы,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одним из которых является ослабление внешнего контроля за выполнением домашних работ со стороны родителей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дители к пятому классу устают от проверки тетрадей. Кто-то не считает это целесообразным из-за уже приобретенного навыка всегда выполнять задание на дом в полном объеме. Вот и получается, что наши пятиклассники постепенно отучаются продуктивно работать дома. Появляются пробелы в зна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843680" cy="503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привить любовь к чтению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930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рнуть классическую литературу в школу? Как привить детям любовь к чтению? Ректор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иктор Садовничий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, что стихи классиков наизусть надо учить уже в детском саду, а в школе обучать учеников осмысленному чтению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еобходимо решить ещё ОДНУ  ВАЖНУЮ ЗАДАЧУ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хронизаци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 по гуманитарным дисциплин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кольники учат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"Полтавскую битву"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а по истории проходят ее через два года. Надо сделать так,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тобы эти программы совпадали»,-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высказал мнение ректор МГ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05456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редо педагог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95640" y="1197000"/>
            <a:ext cx="61214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ывать человека на его силе, а не на слабости - в этом кредо педагогики. Сильные стороны любого ребенка - его пытливость, любознательность, волевые качества. Казалось бы, «воля» - категория взрослого человека. Но если ребенок способен несколько раз переделать какую-то работу - это говорит о том, что начинает формироваться лич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7985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27236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бле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преемственности  разреши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119640" cy="53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жно с уверенностью сказать, что проблема преемственности разрешима даже с теми объективными трудностями, которые испытывают учителя. Но разрешима лишь в том случае, если в работе над ней будут участвовать и начальная, и средняя школа в самом тесном сотрудничеств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376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2689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2" descr="Колобок букет принес... - Таисия Олеговна Куч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960" y="3538440"/>
            <a:ext cx="2490840" cy="192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76360" y="1341360"/>
            <a:ext cx="66009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4800" y="152280"/>
            <a:ext cx="6861240" cy="689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то предполагает преемствен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39640" y="981000"/>
            <a:ext cx="61196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еемственность предполагает плавный переход на среднюю ступень обучения такой, чтобы под натиском новых впечатлений, непривычных приёмов работы не растерять все хорошие приобретения начальной школы, не утратить интерес к обучению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232000" cy="3343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5367240"/>
            <a:ext cx="8496360" cy="13017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ация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способление к окружающим условия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850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Цели обучения в среднем зве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школе изменяются цели обучения. Цели образования в 5-6 классах определяются, прежде всего, той ответственностью, которая возлаг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ереходный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от начального к основному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ериод обуче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 связана с необходимостью обеспечить адаптацию школьника в 5-6 класс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развития качеств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амостоятельности, инициативности, умения рассчитывать собственные силы)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формируются в начальной школе, приоритетной целью обучения является развитие учебной самостоятельности без посторонней помощи, собственными сил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6872040" cy="1116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теря у пятиклассников интереса к учёб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то мы сталкиваемся с таким явлением: ученик, успешно окончивший начальную школу,  перейдя в пятый класс, постепенно теряет интерес к учебе, и, как следствие, успеваемость его пада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чинаются взаимные упреки. Учителя начальной школы считают, что виноваты учителя-предметники, которые не смогли закрепить ранее достигнутые успехи ученика. Те, в свою очередь, возмущаются: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К нам приходят «липовые» отличники»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Кто прав, кто виноват, разобраться сложно - истина, как обычно, где-то посред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 чем же сложность перехода из начальной школы в среднее звено? Обусловлена она целым рядом причи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25080" cy="1152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ОЖНОСТЬ ПЕРЕХОДА ИЗ начальной школы в основную объясняе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413000"/>
            <a:ext cx="86421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ной социальной обстан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м роли учащего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ением учебн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м режима д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остью систем и фор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стыковкой программ начальной и основной школ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ичием требований со стороны учителей-предме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зменением стиля общения учителей с детьми</a:t>
            </a:r>
            <a:r>
              <a:rPr b="1" lang="ru-RU" sz="2800" spc="-1" strike="noStrike">
                <a:solidFill>
                  <a:srgbClr val="000099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504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тсутствие единых требов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58920" y="1052640"/>
            <a:ext cx="583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ажный фактор - это разнобой между учителями в плане требований, не диалог, а конфронтация, взаимные претензии и упрек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995560" cy="2881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14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739960" cy="3168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0560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ожности организационного и учебного характера</a:t>
            </a:r>
            <a:br>
              <a:rPr sz="6600"/>
            </a:br>
            <a:br>
              <a:rPr sz="7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268280"/>
            <a:ext cx="626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е количество учителей порождает вариативность поведени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тсутствие эмоционального настроя на предстоящ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оздание ситуации успеха для пяти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тсутствие коллективных средст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Наличие большей свободы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Личностный контакт с уч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07-07T16:23:31Z</dcterms:modified>
  <cp:revision>120</cp:revision>
  <dc:subject/>
  <dc:title> Преемственность между начальным и средним звеном</dc:title>
</cp:coreProperties>
</file>