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32C-F248-4903-AC22-6521E0D2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F87-B801-452A-8C28-0BB312A3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B5E-0608-439C-8957-7231FFAE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75E-A9EE-46B0-B219-B4C8AAE0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31BA-D27D-4E97-ADDD-7646AB3A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F965-3B86-410E-AD0B-16432367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A16C-402C-471C-8E56-D183881A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09B5-8A6F-42D7-BAD7-57821AAA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4203-641A-4718-8821-E2F3CA20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2984-C1E9-4F32-8E6D-51DEA518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5714-DFAC-42D5-88ED-A6753F77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C7B-470B-41EF-ABCE-BF7BE284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0F02-368D-4CD3-941E-E62DCFCA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5A08-CFBA-460A-9EFD-5F6EA907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A132-FD0D-4769-8026-E0856214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DC3D-7A90-4DC4-8DDB-DCBBC8C5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C10A-878B-4016-9A0C-74521127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562-3292-4647-A1B1-2C7C20E7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F03-3E6B-4E3C-83E3-373CF8FD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196-A6AF-48CB-83A8-ACAA6B3B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5C0-F33C-43DE-9670-3166D4A8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D90-0C73-40B8-AAF4-75471C7C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839-BF50-4549-A1BD-30E293F7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481-4C58-4CD8-BB80-22ABF6DC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486127-A8D3-4DDF-BFB8-D21AD9BB511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CA1D7B-0D76-4301-ADB3-DDFEB5365B2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proshkolu.ru/user/kuchina57/file/231311/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2109960" cy="33433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14960" cy="158292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емственность в обучении учащихся русскому языку и литературе между начальным и средним звеном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564000" y="2491920"/>
            <a:ext cx="4859280" cy="33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ыступление перед учителям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О начальной школ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979640" y="378936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9280" y="5516640"/>
            <a:ext cx="8713800" cy="1152360"/>
          </a:xfrm>
          <a:prstGeom prst="rect">
            <a:avLst/>
          </a:prstGeom>
          <a:solidFill>
            <a:srgbClr val="66ffff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втор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Узких А.Н, учитель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литерату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БОУ «СШ № 6», г. Нижневартовск, 201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0080" cy="1353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ереход в пятый класс - испытани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не только для школьников, но и для педагог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ереход в пятый класс - это своеобразное испытание не только для школьников, но и для педагогов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лассному руководителю необходимо за короткое время узнать детей и их семьи, научиться эффективно управлять деятельностью учащихся, быть их проводником и наставник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56360" y="550548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7800" cy="576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тветственность учителя начальной школ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ителю начальной школы предстоит доказать, что он хорошо подготовил школьников к обучению в старшем звене и вооружил их всеми необходимыми знаниями, умениями, навыками, как учебными, так и общеучебным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ереход учащихся из начальной школы в основную, предусматривает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три этапа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одготовительный, адаптационный,  стабилизационный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443640" y="5445000"/>
            <a:ext cx="14414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96960" y="333000"/>
            <a:ext cx="7115040" cy="934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ЛОЖНОСТЬ ПЕРЕХОДА ИЗ начальной школы в основну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4072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ля учителей начального  звена работа заключается прежде всего в подготовке к переходу в основную школу.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Проблема заключается в том, что учителя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чальных классов имеют определенный стаж и опыт работы по внедрению ФГОС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А педагоги-предметники начинают освоение новой для них программы, внедрение технологий ФГОС среднего зве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рганизация работы по преемственности во многом облегчает переход на новые ФГОС, активизирует методическую работу, обнаруживает скрытые резер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ллектива школ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732720" y="5578560"/>
            <a:ext cx="127944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05636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сновной принцип дидактики – принцип преемствен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71380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усский язык и литература – одни из наиболее сложных и трудоёмких предметов в курсе средней школы, поэтому соблюдение принципа преемственности необходимо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156360" y="5229360"/>
            <a:ext cx="18669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128000" cy="820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 программе по русскому языку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для 5 клас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34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программах по русскому языку как в начальном звене, так и в средних классах уделяется особое внимание систематической работе над формированием орфографической грамотности учащихся. В целом программа четвёртого класса ориентирована на то, чтобы обеспечить готовность учащихся к успешному продолжению занятий языком и речь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средней школ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23749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89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Как группируется материал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в 5 клас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5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учаемый материал группируется вокруг понятий: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текст, предложение, словосочетание, слово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 Знакомство с частями речи завершается изучением склонения имён существительных и прилагательных, спряжением глаголов, что сочетается с ознакомлением (на практическом уровне) со способами проверки правописания безударных падежных окончаний всех частей речи (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кроме существительных на –мя, -ий, -ие, -ия и прилагательных с основой на шипящие и ц)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центре внимания находится формирование способа действия, который должен обеспечить правильное письмо. Для общего знакомства учащимся даётся наречие, это вызвано частотностью данной части речи, её практической необходимостью учащимс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199280" cy="57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ак группируется материал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 5 класс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стью рассмотрения частей речи в 5 классе  является внимание к синтаксическим связям, к построению словосочетаний и специфике «поведения» в них слов, относящихся к разным частям речи. Учащиеся осваивают постановку двух типов вопросов, задаваемых к имени существительному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(«по форме», «по смыслу»)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точняют назначение каждого из них (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знать падеж зависимого слова или понять значение)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анной работе придаётся большое значение с точки зрения развития речи детей – повышения её правильности, точности, богатства и выразительности.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нания учащихся о предложении расширяются за счёт знакомства с однородными членам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812000" y="5734080"/>
            <a:ext cx="9921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7161120" cy="973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еемственность в преподавании литерату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преподавании литературы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прослеживается</a:t>
            </a: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преемственность учебного материал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Курс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5 класс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начинается с изучения произведений устного народного творчества. Сохраняется принцип преемственности в изучении творчества таких писателей,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как А.С.Пушкин, И.С. Тургенев, И.А. Крылов , Х.К.Андерсен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о мы сталкиваемся с несоответствием программ начальной и средней школы. По литературе требуется,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о-первых,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достаточная для понимания прочитанного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корость чтен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о-вторых,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большой запас лексики. Сказки, рассказы, стихи в учебниках начальной школы содержат простую лексику,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а в 5 классе лексика сложная,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задания требуют анализа текста, работы с дополнительными источниками, выполнения разного рода творческих рабо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812000" y="5516640"/>
            <a:ext cx="919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152280"/>
            <a:ext cx="7016760" cy="61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Рекомендац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882720"/>
            <a:ext cx="8713800" cy="59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анализировав программы и учебники по русскому языку и литературному чтени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(литературе) (4 – 5 классы),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предлагаю учителям ряд методических рекомендаций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по преемственности преподавания начальная школа - пятый клас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1) давать учащимся задания по работе с толковым словарём; готовить разные виды пересказа, создавать мини – проекты, мини – сочинения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2) углублять, обогащать и увеличивать словарный запас учащихс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3)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обое внимание обратить на построение предложений: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Это то, что …. Снижать оценку за несоблюдение норм речи, повторов одних и тех слов типа: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Герасим он был немой; В этом рассказе рассказывается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) Отработать навык выразительного чтения и правильного, внятного произношения слов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3) сформировать у детей потребность обращения к словарю как к справочнику того или иного вида, находить ответы на сложные вопросы в Интернете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5950080"/>
            <a:ext cx="1152360" cy="503280"/>
          </a:xfrm>
          <a:custGeom>
            <a:avLst/>
            <a:gdLst>
              <a:gd name="textAreaLeft" fmla="*/ 262800 w 1152360"/>
              <a:gd name="textAreaRight" fmla="*/ 889560 w 1152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137440" cy="57456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бщие рекомендации учителям начальной школ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424720" cy="518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учать школьников начинать работать на уроке по звонку, быстро включаться в выполнение заданий, не давать отдельным ученикам дополнительного времени на выполнение контрольных и проверочных работ, заканчивать урок со звонко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 Использовать формы и методы организации занятий, требующие от каждого ученика активного и осознанного участия, в том числе парной и групповой работ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 Предлагать учащимся задания по работе со справочниками и словарями, приучать готовить сообщения, рассказы по дополнительным материала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1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Главная задача начальных классов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НАУЧИТЬ РЕБЁНКА УЧИТЬ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8713800" cy="659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624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ru-RU" sz="2500" spc="-1" strike="noStrike">
                <a:solidFill>
                  <a:srgbClr val="ff0000"/>
                </a:solidFill>
                <a:latin typeface="Comic Sans MS"/>
              </a:rPr>
              <a:t>75%</a:t>
            </a:r>
            <a:r>
              <a:rPr b="1" lang="ru-RU" sz="2500" spc="-1" strike="noStrike">
                <a:solidFill>
                  <a:srgbClr val="000099"/>
                </a:solidFill>
                <a:latin typeface="Comic Sans MS"/>
              </a:rPr>
              <a:t> второклассников не смогли составить                                                                                                     из     слов</a:t>
            </a:r>
            <a:r>
              <a:rPr b="1" lang="ru-RU" sz="2500" spc="-1" strike="noStrike">
                <a:solidFill>
                  <a:srgbClr val="000099"/>
                </a:solidFill>
                <a:latin typeface="Arial"/>
              </a:rPr>
              <a:t> предложение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росьбе Минобрнауки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201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оду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торых класса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шли проверочные работы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русскому язык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ольшинство написали хорошо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4-5, но 7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нтов не справились с заданием составить из набранных слов предложе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значит, что мы потеряли не просто любовь к чтению, а функциональное чтение. Отсюда и зубрежка, - подчеркнула министр образования и науки Ольга Васильева на форуме "Возвращение русской классики"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примеров того, как современные школьники знают классическую литературу. "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таша Ростова - героиня Тургенева", "Печорин - главный герой "Мертвых душ" (еще варианты - "Отцов и детей", "кого-то из Пушкина"), "Бесов" написал Лермонтов (Некрасов, Пушкин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сьбу продолжить фразу из басни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"Кукушка хвалит петуха за то, что...", школьники и студенты дали такие ответы : "он рано встает", "поет не очень". А когда их попросили назвать самые известные произведения Чехонте, ответы были такими: "Мцыри", "Собачье сердце"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контрольную или проверочную работу сложно. Для этого надо трудиться.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7345440" cy="850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cc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бщие рекомендации учителям начальных классов и учителям – предметник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799128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раньше узнать учителей-предметников и классного руководителя будущих 5 - 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уроков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4-ом класс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ителями-предметниками, классным руководителем -внеклассных мероприяти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учебных программ: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ь начальных классов должен знать программу 5 класса. Учитель-предметник среднего звена должен начинать работу в 5 классе, только изучив программу начальной школы, чтобы правильно организовать повторение материала, изученного в начальной школе,  и разработать систему мер по дальнейшему формированию новых учебных знаний и умени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1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избежать резкого снижения успеваемости, учителям среднего звена в I четверти надо оценивать учебную деятельность пятиклассников по критериям оценок начальной школы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1 четверти не ставить «2»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7164360" y="5589720"/>
            <a:ext cx="1274760" cy="914400"/>
          </a:xfrm>
          <a:custGeom>
            <a:avLst/>
            <a:gdLst>
              <a:gd name="textAreaLeft" fmla="*/ 290880 w 1274760"/>
              <a:gd name="textAreaRight" fmla="*/ 983880 w 12747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7016760" cy="755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бщие рекомендации учителям начальных классов и учителям – предметник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7848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резовых рабо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4-х класса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рисутствии учителей среднего звена и совместный анализ проведенных рабо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родительского собра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возрастными особенностями младших школьник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уровня работоспособност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наблюдение, пробные уроки 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истемы работы учителя начальных классов: формы и методы организации учебной деятельности учащихся, стиль общения и т.п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учителем 4 класса уроков учителей-предметник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методического письма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Контроль и оценка результатов обучения в начальной школе»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50920" y="1052640"/>
            <a:ext cx="864216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обходимо согласовать требования всех учителей-предмет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делять особое внимание организации учебного процесса школьн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готовность к уроку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(наличие необходимых учебно-письменных принадлежностей, порядок на парте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 3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ильность оформления тетради, различных видов работ; требования к ведению дне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Урок заканчивать со звонком, не задерживат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Домашнее задание не оставлять на самый конец урока - его над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рокомментирова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дать инструкции по оформ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обходимо помнить правил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домашняя работа должна приносить чувство удовлетворения ученику, стимулировать успех. Не перегружайте детей заданиями, дифференцируй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-72360"/>
            <a:ext cx="8158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333360"/>
            <a:ext cx="8642160" cy="693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КОМЕНДАЦИИ УЧИТЕЛЮ, РАБОТАЮЩ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 ПЯТИКЛАСС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9280" y="260280"/>
            <a:ext cx="850752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КОМЕНДАЦИИ УЧИТЕЛЮ, РАБОТАЮЩ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ЯТИКЛАСС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-предметник должен помнить, что урок в 5-м классе должен быть с частой сменой видов деятельности, включая физмину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Новые виды учебной деятельности должны сопровождаться чёткими  инструк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Учащиеся должны знать свои права и обязанности, правила поведения в кабинетах, правила по технике безопасности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Задача учителя - знать затруднения учащихся в усвоении учебного материала,  своевременно прийти на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9. Не забывайте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«Ученик и учитель - союзники. Обучение должно быть бесконфликтны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-648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404640"/>
            <a:ext cx="969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61080" cy="1295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При определении школьной стратегии организации адаптационного периода, педагогический коллектив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должен обратить внимание на следующее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137440" cy="432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рок остается основной, но не единственной формой организации учебного процесса учащихся в 5-6 классе. На уроке ученику предоставляется право работать в собственном темпе. </a:t>
            </a: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Важно использовать другие формы организации обучени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экскурсии, цель которых расширение чувственного опыта детей, формирование умений наблюдать, на основе наблюдений самостоятельно делать выводы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1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гру (дидактическую и ролевую), необходимую для развития умения действовать в соответствии с правилами, сотрудничать, предвидеть последствия своих действий и др.,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1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испуты (дискуссии) с целью развития умений дискутировать, отстаивать свое мнение, приводить аргументы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343640" cy="1152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ажно использовать другие формы организации обучени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0872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 работы как необходимое условие развития умений планировать свою деятельность, ставить цели и реализовывать их, использовать полученные теоретические сведения в практической деятельности;   мини-лекции с целью формирования умений концентрировать внимание, воспринимать на слух  достаточно длительный по времени текст, следить за логикой и последовательностью изложения учебного материала и др.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 формы обучения. Следует помнить о том, что в подростковом возрасте ведущей деятельностью для школьников становится деятельность общения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оритеты от учителя и родителей перемещаются к сверстникам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перь именно они становятся наиболее значимыми в жизни подростка, в том числе и пятиклассника. Ребята хотят взаимодействовать со сверстниками и в учебной деятельности. Они с удовольствием работают в больших и малых группах, парах, парах сменного состава. Кроме того, позитивные отношения к сверстнику они переносят и на педагога, способного организовать значимое для школьников обще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1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488360" cy="5047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облемы и трудности школьного обуч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7921800" cy="452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1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гда речь идет о проблемах и трудностях школьного обучения, большинство педагогов и родителей видят лишь внешние стороны: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ребенок устает, он перегружен, программы несовершенны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Все это верно. Увеличение количества предметов и часовой нагрузки резко повышают потребность в адаптационном потенциале ребенка. Даже физически крепкому ученику довольно сложно высиживать по шесть уроков ежеднев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обходимо дать себе отчет: а каков мой ребенок? Чего он хочет и к чему стремится? Где нужно его подтолкнуть, ни в коем случае не ломая? А ломают детей и в школе, и в семье, забывая основной принцип воспитания -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иродосоответств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777080" cy="647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облемы и трудности школьного обуч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7848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ледующий аспект проблемы кроется в самом ребенке. Старательный ученик, привыкший учить и выполнять всё, что задано, не в силах самостоятельно справиться с увеличивающимся объемом задани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Кроме того, в 5 классе от него требуется не только старательность и усидчивость, а умение сортировать и логически обобщать материа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627680" cy="719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Не всегда создаётся ситуация успех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10920" y="1341000"/>
            <a:ext cx="576108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ятиклассники еще очень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нуждаются в позитивных отзывах педагога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Ситуация успеха и эмоциональные переживания, связанные с ней, продолжают оставаться действенными мотивами для успешного обуч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16574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684072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ffcc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облемы пятиклассник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28180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1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асто с переходом в пятый класс учителя отмечают небрежность записей в рабочих тетрадях, отсутствие необходимых учебных принадлежностей на уроках, записей с номерами домашних заданий и, как результат, отсутствие и самих домашних работ. На это влияют многие факторы,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одним из которых является ослабление внешнего контроля за выполнением домашних работ со стороны родителей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одители к пятому классу устают от проверки тетрадей. Кто-то не считает это целесообразным из-за уже приобретенного навыка всегда выполнять задание на дом в полном объеме. Вот и получается, что наши пятиклассники постепенно отучаются продуктивно работать дома. Появляются пробелы в знан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843680" cy="503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 привить любовь к чтению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799308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ернуть классическую литературу в школу? Как привить детям любовь к чтению? Ректор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У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иктор Садовничий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ет, что стихи классиков наизусть надо учить уже в детском саду, а в школе обучать учеников осмысленному чтению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Необходимо решить ещё ОДНУ  ВАЖНУЮ ЗАДАЧУ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хронизацию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 по гуманитарным дисциплин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кольники учат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"Полтавскую битву",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а по истории проходят ее через два года. Надо сделать так,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чтобы эти программы совпадали»,-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высказал мнение ректор МГ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054560" cy="57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Кредо педагоги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95640" y="1197000"/>
            <a:ext cx="612144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спитывать человека на его силе, а не на слабости - в этом кредо педагогики. Сильные стороны любого ребенка - его пытливость, любознательность, волевые качества. Казалось бы, «воля» - категория взрослого человека. Но если ребенок способен несколько раз переделать какую-то работу - это говорит о том, что начинает формироваться лич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17985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272360" cy="93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облем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    преемственности  разреши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339640" y="1341000"/>
            <a:ext cx="6119640" cy="53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1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жно с уверенностью сказать, что проблема преемственности разрешима даже с теми объективными трудностями, которые испытывают учителя. Но разрешима лишь в том случае, если в работе над ней будут участвовать и начальная, и средняя школа в самом тесном сотрудничеств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3763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-2689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2" descr="Колобок букет принес... - Таисия Олеговна Куч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6960" y="3538440"/>
            <a:ext cx="2490840" cy="1925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476360" y="1341360"/>
            <a:ext cx="660096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94800" y="152280"/>
            <a:ext cx="6861240" cy="6890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Что предполагает преемствен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39640" y="981000"/>
            <a:ext cx="6119640" cy="51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еемственность предполагает плавный переход на среднюю ступень обучения такой, чтобы под натиском новых впечатлений, непривычных приёмов работы не растерять все хорошие приобретения начальной школы, не утратить интерес к обучению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2232000" cy="3343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9640" y="5367240"/>
            <a:ext cx="8496360" cy="130176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даптация 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испособление к окружающим условия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850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Цели обучения в среднем звен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5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й школе изменяются цели обучения. Цели образования в 5-6 классах определяются, прежде всего, той ответственностью, которая возлагае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переходный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от начального к основному)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ериод обучен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ветственность связана с необходимостью обеспечить адаптацию школьника в 5-6 классах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развития качеств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самостоятельности, инициативности, умения рассчитывать собственные силы)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е формируются в начальной школе, приоритетной целью обучения является развитие учебной самостоятельности без посторонней помощи, собственными силам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152280"/>
            <a:ext cx="6872040" cy="1116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отеря у пятиклассников интереса к учёб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асто мы сталкиваемся с таким явлением: ученик, успешно окончивший начальную школу,  перейдя в пятый класс, постепенно теряет интерес к учебе, и, как следствие, успеваемость его падае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1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чинаются взаимные упреки. Учителя начальной школы считают, что виноваты учителя-предметники, которые не смогли закрепить ранее достигнутые успехи ученика. Те, в свою очередь, возмущаются: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«К нам приходят «липовые» отличники»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Кто прав, кто виноват, разобраться сложно - истина, как обычно, где-то посреди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1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В чем же сложность перехода из начальной школы в среднее звено? Обусловлена она целым рядом причин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25080" cy="1152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ЛОЖНОСТЬ ПЕРЕХОДА ИЗ начальной школы в основную объясняетс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413000"/>
            <a:ext cx="864216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ной социальной обстано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м роли учащего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величением учебной нагруз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м режима д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ностью систем и фор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стыковкой программ начальной и основной школ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личием требований со стороны учителей-предмет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изменением стиля общения учителей с детьми</a:t>
            </a:r>
            <a:r>
              <a:rPr b="1" lang="ru-RU" sz="2800" spc="-1" strike="noStrike">
                <a:solidFill>
                  <a:srgbClr val="000099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0960" cy="504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Отсутствие единых требова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58920" y="1052640"/>
            <a:ext cx="583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1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ажный фактор - это разнобой между учителями в плане требований, не диалог, а конфронтация, взаимные претензии и упреки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995560" cy="2881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084720" y="4941720"/>
            <a:ext cx="2144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739960" cy="3168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05600" cy="93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ожности организационного и учебного характера</a:t>
            </a:r>
            <a:br>
              <a:rPr sz="6600"/>
            </a:br>
            <a:br>
              <a:rPr sz="72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268280"/>
            <a:ext cx="6264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ое количество учителей порождает вариативность поведения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Отсутствие эмоционального настроя на предстоящую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Создание ситуации успеха для пяти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Отсутствие коллективных средст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Наличие большей свободы и самосто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Личностный контакт с уч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8-07-07T16:23:31Z</dcterms:modified>
  <cp:revision>120</cp:revision>
  <dc:subject/>
  <dc:title> Преемственность между начальным и средним звеном</dc:title>
</cp:coreProperties>
</file>