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F9DA-4E99-4D2F-ACAA-060875115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FD39-30BE-467B-AC92-FDFD68807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FF81-8FC4-429F-BD0B-7040ECD8C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7A0C-AD75-4562-9EFA-690B31026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C799D-13EB-4B70-8201-F126EC2C7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365BD-C762-4EC4-A940-5C96E0C51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3393F-0E5F-4CCC-88A3-0B91C11C5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2B385-E91F-4A7B-9A6D-14B26DBA1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74684-EB91-4318-A519-5FF058334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8EA78-63E0-4E7F-A7D4-D1D85BC5D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E1224-9F04-41E6-A474-C782B2998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5871-AEF7-46D3-8EB0-26C60D00C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3F0ED-3A86-451D-A7CD-D069AD153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E1913-8017-453F-BF1F-76E1E855A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344EE-F231-4A1B-80D0-D1943BF63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8B13A-C2F8-4DEC-81EA-0302D836F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F4B17-242C-4B73-853E-DCE93C7C5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1D7120-C2A3-4BD8-AB67-AD0D890EA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947E51-69E0-419E-88DB-CA983EAC3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F6A748-6127-4D29-8531-126114346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F14FF1-BE70-4A06-BFF5-30B33A794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AAE34F-627E-4A3D-8056-65528CEBA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67D4-B135-4A7B-BC53-21236A0EC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70B686-7E30-48AF-B9DE-34E53F30F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D05A8B-90BE-41E3-95B0-C3B396DCA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591804-B492-4632-BC6A-8A31A69A1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EC9E09-21A0-48C3-94B7-395317F52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79B76C-E9F4-4AD1-8169-FE3738239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6F140C-8D56-47EC-9F07-62DF901E8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2F2DEA-332D-4069-B6B5-BC2931B36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9DB064-1606-4F68-BC77-830B3B5F4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3E9E29-F11C-40B5-BC82-BE55E5CEB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8C18D1-73DF-4CAE-82AC-3B9722410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93FF-E4C3-417C-80AF-93096CEF2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C1A629-AA20-4F2F-9152-DB61D0738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1F12B4-8824-44B1-B164-B70DB32FA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0AD7C2-8AC6-4DA0-A84D-F1D51EB6E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51DC43-8004-4E0D-B661-4F3B071FA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1BFEE8-FC50-4F77-B41E-EBE80CBD1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B95FB3-FB77-4F94-A790-9C320830F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A2866B-BCDF-4640-A9AB-D3D08274D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D7E0F5-0C3D-45BE-BF5A-61189C2C1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F3C136-DC4C-4274-8481-41FEC4EC4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7D34CB-1CD2-4651-8BF3-ED1B9545E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B1DF-FCCC-4D2A-A3BB-1724C643B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62849D-F813-421C-A5C4-0AC1E1389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CE0BE9-1F4C-4DB9-B37D-CBF947D44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25A117-8446-496B-939A-E03B82A93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1D09FC-1FD4-47CB-88EE-38E4936D4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55C4C6-E515-49E6-A8FC-732D1EB4A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061091-A612-4B07-887A-D87F713BB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A75EDE-3D61-4598-8A01-EF051FEEA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034B32-25BA-42D9-8F92-5B9F37028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C5788D-6207-440D-8F57-35FBEBE2F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CD507A-BF2E-4FA7-827A-5EBC03468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FEDB-3095-48B6-881C-C5846D047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594903-2817-48F8-81C9-B0CB8B585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DCAD-31E7-4CD1-B644-082CB26E6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CAA1-1A63-40C5-B1BC-53E63C346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79D9-27C4-4936-8923-393726522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749E63-D620-4FB1-B0B0-9A435C905358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A1642E-DD92-49CD-A2DE-6AD1A7ACF03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94" name="Straight Connector 16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5" name="Straight Connector 1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6" name="Freeform 1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7" name="Freeform 19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8" name="Freeform 2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9" name="Freeform 2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0" name="Freeform 2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1" name="Freeform 23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2" name="Freeform 24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A8C9C3-54FD-4948-B59F-8521813B7A00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46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47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48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49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50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51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52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53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54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55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56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31C653-E735-4849-B38C-D24A41B9F2FB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9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200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01" name="Straight Connector 7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02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03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04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05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06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07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08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09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210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22E3E3-F4F2-42D7-B9C0-7E3A611E916A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042560" y="1916280"/>
            <a:ext cx="5977080" cy="2209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300" spc="-1" strike="noStrike">
                <a:solidFill>
                  <a:srgbClr val="90c226"/>
                </a:solidFill>
                <a:latin typeface="Trebuchet MS"/>
              </a:rPr>
              <a:t>Решение задач по теме «Простейшие геометрические фигуры» </a:t>
            </a:r>
            <a:endParaRPr b="0" lang="en-US" sz="43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1547280" y="4941360"/>
            <a:ext cx="4032360" cy="10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Trebuchet MS"/>
              </a:rPr>
              <a:t>Алгебра 7 класс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99331"/>
                </a:solidFill>
                <a:latin typeface="Calibri Light"/>
              </a:rPr>
              <a:t>Работа по теме урока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98108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дача №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з вершины развернутого угла (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) в одну полуплоскость проведены луч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 Чему равен угол (а1с), если  угол (а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)=50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alibri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а угол  (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)= 20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alibri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99331"/>
                </a:solidFill>
                <a:latin typeface="Calibri Light"/>
              </a:rPr>
              <a:t>Работа по теме урока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98108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дача №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 помощью транспортира начертите угол, равный 112°, и проведите биссектрису одного из смежных с ним угл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99331"/>
                </a:solidFill>
                <a:latin typeface="Calibri Light"/>
              </a:rPr>
              <a:t>Работа по теме урока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98108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дача №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 помощью транспортира начертите угол, равный 112°, и проведите биссектрису одного из смежных с ним угл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99331"/>
                </a:solidFill>
                <a:latin typeface="Calibri Light"/>
              </a:rPr>
              <a:t>Работа по теме урока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98108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дача №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 пересечении двух прямых образовались такие углы, что сумма двух из них равна 104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alibri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. Найди все угл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99331"/>
                </a:solidFill>
                <a:latin typeface="Calibri Light"/>
              </a:rPr>
              <a:t>Работа по теме урока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98108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дача №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йдите угол, образованный биссектрисами двух смежных угл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76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66221"/>
                </a:solidFill>
                <a:latin typeface="Calibri Light"/>
              </a:rPr>
              <a:t>Самостоятельная работа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628560" y="1267920"/>
            <a:ext cx="788688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ариант 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. Один из смежных углов на 27° меньше другого. Найдите оба смежных угла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. Найдите все неразвернутые углы, образованные при пересечении двух прямых, если сумма двух из них равна 226°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Вариант I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. Один из смежных углов в девять раз больше другого. Найдите оба смежных угла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. Найдите все неразвернутые углы, образованные при пересечении двух прямых, если один из них на 81° больше другого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66221"/>
                </a:solidFill>
                <a:latin typeface="Calibri Light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дготовиться к контрольной работ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Глава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(повторить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дачи билетов 1-1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9" name="Picture 5" descr="41"/>
          <p:cNvPicPr/>
          <p:nvPr/>
        </p:nvPicPr>
        <p:blipFill>
          <a:blip r:embed="rId1"/>
          <a:stretch/>
        </p:blipFill>
        <p:spPr>
          <a:xfrm>
            <a:off x="5364000" y="2997360"/>
            <a:ext cx="3125880" cy="29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6T15:13:31Z</dcterms:created>
  <dc:creator>Zver</dc:creator>
  <dc:description/>
  <dc:language>en-US</dc:language>
  <cp:lastModifiedBy>Татьяна</cp:lastModifiedBy>
  <dcterms:modified xsi:type="dcterms:W3CDTF">2017-10-19T21:33:59Z</dcterms:modified>
  <cp:revision>44</cp:revision>
  <dc:subject/>
  <dc:title>Среднее арифметическое, размах и мода</dc:title>
</cp:coreProperties>
</file>