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01D-D546-4E7E-A2F5-37F26608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273E-A19E-4A59-8177-3AF6A1A8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79F2-D988-4B7F-949D-4023005AA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F2DF-E30F-44C5-9609-8ADCEF4B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A44-AAB3-4432-B6C1-0D0EC933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67CB-7183-4663-994B-061470FDE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1E2B-A813-4B7F-A76B-8F5F5906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26E8-6293-436D-A7CD-4696C8DC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E887E-2991-47F5-ADB6-48FB696F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586D3-1F30-4396-ADDD-A27B4681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12BA0-C6BD-4980-B8E1-6BFF0593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3F2-81BE-4EB8-973E-1906BA7E6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D756-F007-4193-B4AA-6FD5026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175B-81A2-476B-AEE8-1ED0B37B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D197-E1C9-4714-834B-40E45B9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14DF-4454-4BDE-BA0A-9019EFE30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E679E-6047-4B5E-A8DA-920C16D7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79BCE-646F-4EC2-90A6-CAE81764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B375-40EB-4812-9032-565F5EF5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5D0ED-E9B0-499E-A241-8E0FB0FD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0A39-1115-4E4C-9EAC-743C73E4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2257C-F775-4FC3-8709-603164A6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F802-95AF-4B96-848A-8FEE4C4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E343-05C3-4850-9BF1-89B526BC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604CA-5CA6-416C-BA90-562ECB1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07D9F-48F0-4DD1-8F0D-F9EFA4E7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8CD0E-82BF-4ED3-B3D3-B707089B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1C9C0-9686-4A3F-B1E2-FF9FBC97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D8663-1E70-429B-A259-33B12CB1A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7F295-00B7-46D7-9C63-B7086C55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34AC6-25B4-4507-9D54-A3B136A0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6FFC74-F8AA-49A9-94A7-8A60617D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3309-B2EA-4734-A76A-71F2842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BF5D-FE89-45B2-98E3-F19B19D0C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F1000-2E6B-4EF6-837B-31B06309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C83C1-52AA-4663-81D9-69D3D2BB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75EC-9E29-41D2-8159-8A65DAA0C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8E614-9721-4548-9541-4660BF01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3FA9A-DD99-496A-8D48-F7C54B8A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2852-A62B-4601-B924-3533EFFC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3F3025-899E-43B5-A9FE-35B205EB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FC6A-CFBE-48C4-AF19-FF1B8605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FBFB-1C07-49C5-A8F6-49729210B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ABDC2-CAD6-4293-B6FB-61B64887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1592-F135-4A9B-A825-8D7ABCA3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66297-59C8-4016-9E10-29AAEA0D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0D8F3-FA29-4876-A5F9-63F3EA68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A51D8-673C-4BB1-9182-AD8D76B7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915D3-7B81-4EC4-9491-32074C29C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A603A-EAF5-4C2E-BE3B-2045380E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A9ADE-BB1E-47BC-A545-03E5E6A3B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FA267-9FA6-440F-8E15-61E2E8ED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98C918-6CB1-48AE-9774-CA6C1E22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E0471-AFB7-4623-B273-B55180F90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479A15-9F78-4D7E-B08E-69C7AC88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569D-1D10-4F56-A6A6-287BC31A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E5406-A281-4581-87F3-3560E8AF7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44B-B7D4-480D-8738-C75C8DD1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7619-BB55-4AA1-85F6-0FD363811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AB40-6C81-4409-858E-62236B85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05DC73-D659-44D8-AD8F-30327EEE01E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1758EB-0E63-4862-B56B-7D8F10BA16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1B43AA-A2CE-40B3-BD2A-757919153CE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D7D95-1396-4155-A8DE-96F49512016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D88968-A570-488D-80E6-B8CFA5FC00A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91628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90c226"/>
                </a:solidFill>
                <a:latin typeface="Trebuchet MS"/>
              </a:rPr>
              <a:t>Решение задач по теме «Простейшие геометрические фигуры» 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вершины развернутого угла (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 одну полуплоскость проведены луч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Чему равен угол (а1с), если  угол (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5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угол 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)= 2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транспортира начертите угол, равный 112°, и проведите биссектрису одного из смежных с ним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транспортира начертите угол, равный 112°, и проведите биссектрису одного из смежных с ним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ересечении двух прямых образовались такие углы, что сумма двух из них равна 10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йди все уг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угол, образованный биссектрисами двух смежных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6221"/>
                </a:solidFill>
                <a:latin typeface="Calibri Light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267920"/>
            <a:ext cx="78868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Один из смежных углов на 27° меньше другого. Найдите оба смежных уг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все неразвернутые углы, образованные при пересечении двух прямых, если сумма двух из них равна 226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риант I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Один из смежных углов в девять раз больше другого. Найдите оба смежных уг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все неразвернутые углы, образованные при пересечении двух прямых, если один из них на 81° больше друг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6221"/>
                </a:solidFill>
                <a:latin typeface="Calibri Light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ться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втор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и билетов 1-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19T21:33:59Z</dcterms:modified>
  <cp:revision>44</cp:revision>
  <dc:subject/>
  <dc:title>Среднее арифметическое, размах и мода</dc:title>
</cp:coreProperties>
</file>